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DAAB43-643D-4986-B212-E8C006024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018861-B9B9-494C-B5B3-A594CEF37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15789B-73A3-4B8B-A0A1-92DE93D21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8B11F4-86CD-40BF-A59F-648033D18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7A5380-0FDD-4D6B-BC48-59DCF40BF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4A3724-8CDB-417F-8A7D-FD2AA8885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A6E134-38E1-4182-9341-9B475DC2B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72119C-E6B7-4992-8DC7-1F8064E6E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77CE-FFE2-47C5-BB8D-51A0AD1884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454B-F460-4A39-A0C4-2AF6FB3D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AFD5-9FBB-43DE-8348-02486B79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F67D-0B1C-41EE-A2A5-9502F3D60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3120-5362-4309-BAA8-47B10D4E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9AEF-4788-4A56-8E89-C7D5F6B6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A52C-D13D-4C13-87C6-6E8968D0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24E3-2FDC-4BC0-AF54-905592B5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358F-8493-4894-A14D-D701DCF8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878E-441B-40EF-BE62-7E05A051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713C9-9D4D-49F8-810A-E59AAE68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2CF1-0412-4EF5-82C1-2BABA245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83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057C-B1AC-4062-9B42-402211FDA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3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83f99"/>
                </a:solidFill>
                <a:latin typeface="Arial"/>
                <a:ea typeface="Times New Roman"/>
              </a:rPr>
              <a:t>“</a:t>
            </a:r>
            <a:r>
              <a:rPr b="1" lang="en-US" sz="6000" spc="-1" strike="noStrike">
                <a:solidFill>
                  <a:srgbClr val="183f99"/>
                </a:solidFill>
                <a:latin typeface="Arial"/>
                <a:ea typeface="Times New Roman"/>
              </a:rPr>
              <a:t>XENOBIOTICS”</a:t>
            </a:r>
            <a:br>
              <a:rPr sz="6000"/>
            </a:br>
            <a:r>
              <a:rPr b="1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Compounds, Sources, &amp; Characteristics</a:t>
            </a: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AU" sz="3200" spc="-1" strike="noStrike">
                <a:solidFill>
                  <a:srgbClr val="183f99"/>
                </a:solidFill>
                <a:latin typeface="Arial"/>
              </a:rPr>
              <a:t>AMSA – 2004 National Pretreatment Conference</a:t>
            </a:r>
            <a:endParaRPr b="1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99"/>
                </a:solidFill>
                <a:latin typeface="Arial"/>
              </a:rPr>
              <a:t>Jerry Ongerth, PhD, PE,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EBMUD Water Quality Office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ctober 28, 2004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64008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W:\nab\esd\bkh\presentations\amsa2004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WHY PHARMACEUTICALS?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Many compound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Widely distributed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oduced to affect humans &amp; animal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Active at (relatively) low concentratio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oduced to be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olubl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oorly degradabl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latively stable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787B-4212-454B-86B0-7450F02122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UROPEAN FINDING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9720" y="4060800"/>
            <a:ext cx="4724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algesic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aspirin)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i-inflamatory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diclofenac)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ta-blocker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(propanolol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pid regulator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clofibrate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47920" y="4038480"/>
            <a:ext cx="4995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iepileptic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carbamazepine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datives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diazepam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ineoplastic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ifosfamide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-ray contrast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(iopromide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676520"/>
            <a:ext cx="8458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wage </a:t>
            </a:r>
            <a:r>
              <a:rPr b="0" lang="en-US" sz="32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 surface &amp; groundwater &amp; m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Widespread &amp; in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More than 40 Compounds rep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E41F-2794-48C4-84F1-C41FACC3CA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601992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Pharmaceuticals, hormones, and other organic wastewater contaminants measured in 139 streams during 1999 &amp; 200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Map of U.S. showing 139 streams where wastewater contaminants were measured."/>
          <p:cNvPicPr/>
          <p:nvPr/>
        </p:nvPicPr>
        <p:blipFill>
          <a:blip r:embed="rId2"/>
          <a:stretch/>
        </p:blipFill>
        <p:spPr>
          <a:xfrm>
            <a:off x="533520" y="990720"/>
            <a:ext cx="7924680" cy="4930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533520"/>
            <a:ext cx="60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SGS SURVEY--1999 &amp;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F732-0CF0-47E5-9ED3-19FE861D0F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Boxplot showing chemical groups detected in susceptible streams."/>
          <p:cNvPicPr/>
          <p:nvPr/>
        </p:nvPicPr>
        <p:blipFill>
          <a:blip r:embed="rId2"/>
          <a:srcRect l="0" t="957" r="0" b="19636"/>
          <a:stretch/>
        </p:blipFill>
        <p:spPr>
          <a:xfrm>
            <a:off x="152280" y="533520"/>
            <a:ext cx="4710240" cy="6340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5520" y="533520"/>
            <a:ext cx="403848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USGS--1999 &amp;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b00f"/>
                </a:solidFill>
                <a:latin typeface="Times New Roman"/>
              </a:rPr>
              <a:t>Most commonly detected groups</a:t>
            </a:r>
            <a:r>
              <a:rPr b="1" i="1" lang="en-US" sz="3200" spc="-1" strike="noStrike">
                <a:solidFill>
                  <a:srgbClr val="f1b00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onprescription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nsect repellen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b00f"/>
                </a:solidFill>
                <a:latin typeface="Times New Roman"/>
              </a:rPr>
              <a:t>Highest concentration compound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etergent metabo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Plastic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Boxplot showing chemical groups detected in susceptible streams."/>
          <p:cNvPicPr/>
          <p:nvPr/>
        </p:nvPicPr>
        <p:blipFill>
          <a:blip r:embed="rId3"/>
          <a:srcRect l="15685" t="82029" r="11761" b="1427"/>
          <a:stretch/>
        </p:blipFill>
        <p:spPr>
          <a:xfrm>
            <a:off x="1752480" y="990720"/>
            <a:ext cx="28195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46A5-40AD-471F-9264-06B2C06815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0769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WHAT DOES THE DATA SUGGEST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Reported detections are scattered &amp; at low concentrations (typically &lt; 1</a:t>
            </a:r>
            <a:r>
              <a:rPr b="0" lang="en-US" sz="2800" spc="-1" strike="noStrike">
                <a:solidFill>
                  <a:srgbClr val="183f99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g/L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nalytical procedures are designed to find only compounds of selected typ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ampling &amp; analysis schemes limit both what and how much we can fin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ata on production, use, and characteristics are availabl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rediction can help to show what we need to know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4061-B32B-4D42-9636-E47F082348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ACADEMIC ESTIMAT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8640" y="1275480"/>
            <a:ext cx="8762040" cy="5982840"/>
            <a:chOff x="188640" y="1275480"/>
            <a:chExt cx="8762040" cy="5982840"/>
          </a:xfrm>
        </p:grpSpPr>
        <p:grpSp>
          <p:nvGrpSpPr>
            <p:cNvPr id="121" name=""/>
            <p:cNvGrpSpPr/>
            <p:nvPr/>
          </p:nvGrpSpPr>
          <p:grpSpPr>
            <a:xfrm>
              <a:off x="188640" y="1275480"/>
              <a:ext cx="8762040" cy="5423040"/>
              <a:chOff x="188640" y="1275480"/>
              <a:chExt cx="8762040" cy="5423040"/>
            </a:xfrm>
          </p:grpSpPr>
          <p:sp>
            <p:nvSpPr>
              <p:cNvPr id="122" name=""/>
              <p:cNvSpPr/>
              <p:nvPr/>
            </p:nvSpPr>
            <p:spPr>
              <a:xfrm rot="4897200">
                <a:off x="2440080" y="-120240"/>
                <a:ext cx="4271400" cy="8214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4897200">
                <a:off x="3323520" y="-1146600"/>
                <a:ext cx="2111400" cy="8160840"/>
              </a:xfrm>
              <a:custGeom>
                <a:avLst/>
                <a:gdLst/>
                <a:ahLst/>
                <a:rect l="l" t="t" r="r" b="b"/>
                <a:pathLst>
                  <a:path w="224" h="1152">
                    <a:moveTo>
                      <a:pt x="0" y="0"/>
                    </a:moveTo>
                    <a:cubicBezTo>
                      <a:pt x="80" y="212"/>
                      <a:pt x="160" y="424"/>
                      <a:pt x="192" y="528"/>
                    </a:cubicBezTo>
                    <a:cubicBezTo>
                      <a:pt x="224" y="632"/>
                      <a:pt x="224" y="520"/>
                      <a:pt x="192" y="624"/>
                    </a:cubicBezTo>
                    <a:cubicBezTo>
                      <a:pt x="160" y="728"/>
                      <a:pt x="32" y="1064"/>
                      <a:pt x="0" y="1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rot="21114600">
              <a:off x="692640" y="2700720"/>
              <a:ext cx="7933680" cy="40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00,000 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kg/yr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/(19,000,000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p 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365 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days/yr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5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mg/cap-d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5 mg/cap-day / 100 L/cap-day = 0.15 mg/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50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ug/L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@ 100,000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kg/yr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.5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ug/L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@ 1000 </a:t>
              </a:r>
              <a:r>
                <a:rPr b="1" lang="en-US" sz="2400" spc="-1" strike="noStrike">
                  <a:solidFill>
                    <a:srgbClr val="000000"/>
                  </a:solidFill>
                  <a:latin typeface="Monotype Corsiva"/>
                </a:rPr>
                <a:t>kg/y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B957-B64F-49AD-8E5E-3340CFA4A0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APPROACH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omprehensive--All compounds in us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Highest 50 (by total mass prescribed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No 1 = </a:t>
            </a: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Acetaminophen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--300,000 kg/yr (45 mg/cap/day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No 50 = </a:t>
            </a:r>
            <a:r>
              <a:rPr b="1" lang="en-US" sz="2000" spc="-1" strike="noStrike">
                <a:solidFill>
                  <a:srgbClr val="183f99"/>
                </a:solidFill>
                <a:latin typeface="Arial"/>
              </a:rPr>
              <a:t>Doxycycline</a:t>
            </a: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--2000 kg/yr (0.3 mg/cap/day)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opulation @ 1999:  19,000,000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ass balanc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Use</a:t>
            </a:r>
            <a:r>
              <a:rPr b="0" lang="en-US" sz="24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Excretion </a:t>
            </a:r>
            <a:r>
              <a:rPr b="0" lang="en-US" sz="24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ewage</a:t>
            </a:r>
            <a:r>
              <a:rPr b="0" lang="en-US" sz="24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reatment</a:t>
            </a:r>
            <a:r>
              <a:rPr b="0" lang="en-US" sz="24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100 L per capita per day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Biological secondary treatment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easure residuals in samples from 7 STP’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ustralia (2), Germany (3), and USA (2)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20 mgd to 200 mgd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4F5B-5C59-40E0-91A0-F8C9B01F60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838080" y="533520"/>
          <a:ext cx="7772400" cy="6286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533520"/>
                    <a:ext cx="7772400" cy="62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FDD7-4D28-43EB-A10B-0ED9DBE44F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19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atic of a STP with chemical (g.h</a:t>
            </a:r>
            <a:r>
              <a:rPr b="0" lang="en-A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mass balance (Clark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.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9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13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87FA-B518-4A07-805E-FFEAB84612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57200" y="685800"/>
            <a:ext cx="8305560" cy="5867280"/>
            <a:chOff x="457200" y="685800"/>
            <a:chExt cx="8305560" cy="5867280"/>
          </a:xfrm>
        </p:grpSpPr>
        <p:grpSp>
          <p:nvGrpSpPr>
            <p:cNvPr id="132" name=""/>
            <p:cNvGrpSpPr/>
            <p:nvPr/>
          </p:nvGrpSpPr>
          <p:grpSpPr>
            <a:xfrm>
              <a:off x="464760" y="689400"/>
              <a:ext cx="8288640" cy="5858640"/>
              <a:chOff x="464760" y="689400"/>
              <a:chExt cx="8288640" cy="58586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464760" y="689400"/>
                <a:ext cx="878400" cy="478080"/>
                <a:chOff x="464760" y="689400"/>
                <a:chExt cx="878400" cy="4780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84920" y="69984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n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64760" y="68940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343520" y="689400"/>
                <a:ext cx="4400280" cy="478080"/>
                <a:chOff x="1343520" y="689400"/>
                <a:chExt cx="4400280" cy="4780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363680" y="69984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343520" y="68940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744520" y="689400"/>
                <a:ext cx="3008880" cy="478080"/>
                <a:chOff x="5744520" y="689400"/>
                <a:chExt cx="3008880" cy="478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764680" y="69984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nual dispensed mass (kg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744520" y="68940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64760" y="1178640"/>
                <a:ext cx="878400" cy="478080"/>
                <a:chOff x="464760" y="1178640"/>
                <a:chExt cx="878400" cy="4780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84920" y="118908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4760" y="117864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343520" y="1178640"/>
                <a:ext cx="4400280" cy="478080"/>
                <a:chOff x="1343520" y="1178640"/>
                <a:chExt cx="4400280" cy="4780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363680" y="118908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TAMINOPH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43520" y="117864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744520" y="1178640"/>
                <a:ext cx="3008880" cy="478080"/>
                <a:chOff x="5744520" y="1178640"/>
                <a:chExt cx="3008880" cy="478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764680" y="118908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95882 </a:t>
                  </a: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45 mg/cap/day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744520" y="117864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64760" y="1667520"/>
                <a:ext cx="878400" cy="478080"/>
                <a:chOff x="464760" y="1667520"/>
                <a:chExt cx="878400" cy="478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84920" y="167796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4760" y="166752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343520" y="1667520"/>
                <a:ext cx="4400280" cy="478080"/>
                <a:chOff x="1343520" y="1667520"/>
                <a:chExt cx="4400280" cy="478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363680" y="167796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FORMIN (hydrochlori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343520" y="166752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744520" y="1667520"/>
                <a:ext cx="3008880" cy="478080"/>
                <a:chOff x="5744520" y="1667520"/>
                <a:chExt cx="3008880" cy="4780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764680" y="167796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0878 </a:t>
                  </a: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12 mg/cap/day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44520" y="166752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64760" y="2156760"/>
                <a:ext cx="878400" cy="478080"/>
                <a:chOff x="464760" y="2156760"/>
                <a:chExt cx="878400" cy="47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4920" y="216720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64760" y="215676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343520" y="2156760"/>
                <a:ext cx="4400280" cy="478080"/>
                <a:chOff x="1343520" y="2156760"/>
                <a:chExt cx="4400280" cy="4780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363680" y="216720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CTULO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343520" y="215676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744520" y="2156760"/>
                <a:ext cx="3008880" cy="478080"/>
                <a:chOff x="5744520" y="2156760"/>
                <a:chExt cx="3008880" cy="4780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764680" y="216720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80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744520" y="215676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64760" y="2645640"/>
                <a:ext cx="878400" cy="478080"/>
                <a:chOff x="464760" y="2645640"/>
                <a:chExt cx="878400" cy="4780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84920" y="265608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64760" y="264564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343520" y="2645640"/>
                <a:ext cx="4400280" cy="478080"/>
                <a:chOff x="1343520" y="2645640"/>
                <a:chExt cx="4400280" cy="478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63680" y="265608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OXYCILL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43520" y="264564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744520" y="2645640"/>
                <a:ext cx="3008880" cy="478080"/>
                <a:chOff x="5744520" y="2645640"/>
                <a:chExt cx="3008880" cy="478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764680" y="265608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620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44520" y="264564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64760" y="3135240"/>
                <a:ext cx="878400" cy="478080"/>
                <a:chOff x="464760" y="3135240"/>
                <a:chExt cx="878400" cy="478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84920" y="314568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64760" y="313524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343520" y="3135240"/>
                <a:ext cx="4400280" cy="478080"/>
                <a:chOff x="1343520" y="3135240"/>
                <a:chExt cx="4400280" cy="4780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363680" y="314568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NITIDINE (hydrochlori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343520" y="313524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744520" y="3135240"/>
                <a:ext cx="3008880" cy="478080"/>
                <a:chOff x="5744520" y="3135240"/>
                <a:chExt cx="3008880" cy="478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764680" y="314568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3724 </a:t>
                  </a: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5 mg/cap/day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44520" y="313524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64760" y="3624120"/>
                <a:ext cx="878400" cy="478440"/>
                <a:chOff x="464760" y="3624120"/>
                <a:chExt cx="878400" cy="4784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84920" y="363492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64760" y="3624120"/>
                  <a:ext cx="87840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1343520" y="3624120"/>
                <a:ext cx="4400280" cy="478440"/>
                <a:chOff x="1343520" y="3624120"/>
                <a:chExt cx="4400280" cy="4784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363680" y="363492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PHALEX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343520" y="3624120"/>
                  <a:ext cx="44002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744520" y="3624120"/>
                <a:ext cx="3008880" cy="478440"/>
                <a:chOff x="5744520" y="3624120"/>
                <a:chExt cx="3008880" cy="4784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64680" y="363492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5408 </a:t>
                  </a: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4 mg/cap/day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44520" y="3624120"/>
                  <a:ext cx="30088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64760" y="4113360"/>
                <a:ext cx="878400" cy="478080"/>
                <a:chOff x="464760" y="4113360"/>
                <a:chExt cx="878400" cy="478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84920" y="412380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4760" y="411336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343520" y="4113360"/>
                <a:ext cx="4400280" cy="478080"/>
                <a:chOff x="1343520" y="4113360"/>
                <a:chExt cx="4400280" cy="4780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363680" y="412380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PROX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343520" y="411336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744520" y="4113360"/>
                <a:ext cx="3008880" cy="478080"/>
                <a:chOff x="5744520" y="4113360"/>
                <a:chExt cx="3008880" cy="478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764680" y="412380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28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44520" y="411336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64760" y="4602240"/>
                <a:ext cx="878400" cy="478440"/>
                <a:chOff x="464760" y="4602240"/>
                <a:chExt cx="878400" cy="478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84920" y="461304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64760" y="4602240"/>
                  <a:ext cx="87840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343520" y="4602240"/>
                <a:ext cx="4400280" cy="478440"/>
                <a:chOff x="1343520" y="4602240"/>
                <a:chExt cx="4400280" cy="4784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63680" y="461304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PROATE (sodium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343520" y="4602240"/>
                  <a:ext cx="44002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744520" y="4602240"/>
                <a:ext cx="3008880" cy="478440"/>
                <a:chOff x="5744520" y="4602240"/>
                <a:chExt cx="3008880" cy="4784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764680" y="461304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88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744520" y="4602240"/>
                  <a:ext cx="30088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64760" y="5091480"/>
                <a:ext cx="878400" cy="478080"/>
                <a:chOff x="464760" y="5091480"/>
                <a:chExt cx="878400" cy="4780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84920" y="510192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64760" y="509148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1343520" y="5091480"/>
                <a:ext cx="4400280" cy="478080"/>
                <a:chOff x="1343520" y="5091480"/>
                <a:chExt cx="4400280" cy="4780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363680" y="510192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SPIRI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343520" y="509148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5744520" y="5091480"/>
                <a:ext cx="3008880" cy="478080"/>
                <a:chOff x="5744520" y="5091480"/>
                <a:chExt cx="3008880" cy="478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764680" y="510192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38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744520" y="509148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64760" y="5580720"/>
                <a:ext cx="878400" cy="478440"/>
                <a:chOff x="464760" y="5580720"/>
                <a:chExt cx="878400" cy="4784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4920" y="559152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64760" y="5580720"/>
                  <a:ext cx="87840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343520" y="5580720"/>
                <a:ext cx="4400280" cy="478440"/>
                <a:chOff x="1343520" y="5580720"/>
                <a:chExt cx="4400280" cy="4784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363680" y="559152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LICYLIC ACID (ex-aspirin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343520" y="5580720"/>
                  <a:ext cx="44002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744520" y="5580720"/>
                <a:ext cx="3008880" cy="478440"/>
                <a:chOff x="5744520" y="5580720"/>
                <a:chExt cx="3008880" cy="4784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764680" y="559152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38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744520" y="5580720"/>
                  <a:ext cx="3008880" cy="47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64760" y="6069960"/>
                <a:ext cx="878400" cy="478080"/>
                <a:chOff x="464760" y="6069960"/>
                <a:chExt cx="878400" cy="4780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84920" y="6080400"/>
                  <a:ext cx="83772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64760" y="6069960"/>
                  <a:ext cx="87840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343520" y="6069960"/>
                <a:ext cx="4400280" cy="478080"/>
                <a:chOff x="1343520" y="6069960"/>
                <a:chExt cx="4400280" cy="478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363680" y="6080400"/>
                  <a:ext cx="435888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MFIBROZI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43520" y="6069960"/>
                  <a:ext cx="44002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744520" y="6069960"/>
                <a:ext cx="3008880" cy="478080"/>
                <a:chOff x="5744520" y="6069960"/>
                <a:chExt cx="3008880" cy="4780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764680" y="6080400"/>
                  <a:ext cx="2968200" cy="46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042 </a:t>
                  </a:r>
                  <a:r>
                    <a:rPr b="0" lang="en-AU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3 mg/cap/day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44520" y="6069960"/>
                  <a:ext cx="3008880" cy="47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457200" y="685800"/>
              <a:ext cx="8305560" cy="5867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FE48-84D0-4292-AA4D-6DD1D8C4F8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600200"/>
            <a:ext cx="84582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AutoNum type="romanUcPeriod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Contaminants -- What, where, &amp; w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AutoNum type="romanUcPeriod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Pharmaceutical Res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Ori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Fate and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AutoNum type="romanUcPeriod"/>
              <a:tabLst>
                <a:tab algn="l" pos="3660840"/>
                <a:tab algn="l" pos="6762600"/>
                <a:tab algn="l" pos="10144080"/>
              </a:tabLst>
            </a:pPr>
            <a:r>
              <a:rPr b="0" lang="en-AU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Next Steps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What can we exp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03200" indent="-609480">
              <a:lnSpc>
                <a:spcPct val="100000"/>
              </a:lnSpc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3660840"/>
                <a:tab algn="l" pos="6762600"/>
                <a:tab algn="l" pos="1014408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  <a:ea typeface="Times New Roman"/>
              </a:rPr>
              <a:t>What can we do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23E8-E56B-4044-BC88-1C7D86AC8D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-4680" y="479520"/>
          <a:ext cx="9140760" cy="636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0" y="479520"/>
                    <a:ext cx="914076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835280" y="3767040"/>
            <a:ext cx="6792840" cy="7128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D8F0-C53D-4D8B-8A2C-5FB5985DD6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622440"/>
            <a:ext cx="9004320" cy="623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5915-DDD5-410A-A8AC-FD749DD7D4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rcRect l="1945" t="3622" r="2988" b="2845"/>
          <a:stretch/>
        </p:blipFill>
        <p:spPr>
          <a:xfrm>
            <a:off x="0" y="576360"/>
            <a:ext cx="8942400" cy="6281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91120" y="1295280"/>
            <a:ext cx="205740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26773"/>
              <a:gd name="adj5" fmla="val 133333"/>
              <a:gd name="adj6" fmla="val -50615"/>
            </a:avLst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 capita to sewage mg/cap/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21200" y="2320920"/>
            <a:ext cx="2317680" cy="4222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20615"/>
              <a:gd name="adj5" fmla="val 215412"/>
              <a:gd name="adj6" fmla="val -38629"/>
            </a:avLst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pproximate limit of detection--0.01 to 1 ug/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10E0-34E7-4A08-9444-CE83543ADE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rcRect l="503" t="1628" r="1475" b="2585"/>
          <a:stretch/>
        </p:blipFill>
        <p:spPr>
          <a:xfrm>
            <a:off x="380880" y="506520"/>
            <a:ext cx="8305920" cy="635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9571-9A1B-4E44-8E6E-37C3C97E17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ONTROLLING FACTOR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Quantity of use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Excretion quantity and form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Fugacity, Log P (range is 7 logs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Biodegradability (range is 6-8 logs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Acid-base chemistr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3f99"/>
                </a:solidFill>
                <a:latin typeface="Arial"/>
              </a:rPr>
              <a:t>Reactivity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236D-9F26-4ABB-AE8A-3C44C83EAF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VERIFICATION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Sewage treatment plant data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3f99"/>
                </a:solidFill>
                <a:latin typeface="Arial"/>
              </a:rPr>
              <a:t>Good agreement</a:t>
            </a:r>
            <a:endParaRPr b="0" lang="en-US" sz="3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3f99"/>
                </a:solidFill>
                <a:latin typeface="Arial"/>
              </a:rPr>
              <a:t>Consistent:  Australia-Germany-USA</a:t>
            </a:r>
            <a:endParaRPr b="0" lang="en-US" sz="30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Environmental data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3f99"/>
                </a:solidFill>
                <a:latin typeface="Arial"/>
              </a:rPr>
              <a:t>USGS data</a:t>
            </a:r>
            <a:endParaRPr b="0" lang="en-US" sz="3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3f99"/>
                </a:solidFill>
                <a:latin typeface="Arial"/>
              </a:rPr>
              <a:t>European data</a:t>
            </a:r>
            <a:endParaRPr b="0" lang="en-US" sz="30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1119-12F7-4354-A43E-77A9883023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APPLICATION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Planning for sampling &amp; analysis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Guide--what to look for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Estimate quantities of use from raw sewage data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04DD-A197-42E9-9390-9886637C4D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SIGNIFICANCE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7391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Based on quantities--very low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Toxicology--???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5F391-41CE-45AF-BF0B-D7B41E2F53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Source Control Activitie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Pharmaceutical disposal</a:t>
            </a:r>
            <a:br>
              <a:rPr sz="3600"/>
            </a:b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Product bans</a:t>
            </a:r>
            <a:br>
              <a:rPr sz="3600"/>
            </a:b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Any value???</a:t>
            </a:r>
            <a:endParaRPr b="0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112C-D44F-4535-BAF3-FA1A99F3D0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ompounds in significant use are likely to be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detectabl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ompound presence &amp; fate in the environment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depends on physical/chemical properti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ampling &amp; analysis procedures control what  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is detectabl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Knowing what is there permits rational planning</a:t>
            </a:r>
            <a:br>
              <a:rPr sz="2400"/>
            </a:b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ource control activities may serve limited educational function – at this point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78D7-2992-4D89-BA07-1F03C41D3A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</a:rPr>
              <a:t>Xenobiotics--Emerging Contaminants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Hormonally Active Agents (HAA’s) or “Endocrine Disrupters”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harmaceutically Active Compounds (PhAC’s) or Pharmaceutical Residual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ersonal Care Products PCP’s (or w/PhAC’s = PPC’s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D71F-058F-4480-B60C-16181E9BC2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Hormonally Active Agent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Human, animal, &amp; plant hormon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stroge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hytoestrogens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etergent residu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onylpheno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Low volatility solvents/plasticizer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hthalat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6774-54F8-4BFE-BEFD-48234C8782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Pharmaceutical Residual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escription drug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ntidepressants; antibiotics; vasoregulators; lipid regulators; antiepileptics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onprescription drugs (over-the-counter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nalgesics; cold remedies; dietary supplements;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llicit drugs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Opiates; amphetamines; cocaine derivatives; designer drug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EA94-E223-427B-9462-2067DABA43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Personal Care Product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24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isinfectan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eodoran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ragran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lavoring agen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nsect repellan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un scree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2D21-85E6-4499-8FE8-1E7EBC56B3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4442" r="2365" b="7732"/>
          <a:stretch/>
        </p:blipFill>
        <p:spPr>
          <a:xfrm>
            <a:off x="457200" y="609480"/>
            <a:ext cx="4363920" cy="5891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05520" y="609480"/>
            <a:ext cx="3809880" cy="1828800"/>
          </a:xfrm>
          <a:prstGeom prst="wedgeEllipseCallout">
            <a:avLst>
              <a:gd name="adj1" fmla="val -67500"/>
              <a:gd name="adj2" fmla="val 33939"/>
            </a:avLst>
          </a:prstGeom>
          <a:solidFill>
            <a:srgbClr val="ff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have you been drinking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0254-DDF2-4FBC-9589-D183732361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99036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EVENTS &amp; FINDING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Reports of trace organics presence in surface &amp; groundwater--Europe, 1990’s</a:t>
            </a:r>
            <a:r>
              <a:rPr b="0" lang="en-US" sz="3200" spc="-1" strike="noStrike">
                <a:solidFill>
                  <a:srgbClr val="183f99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ur Stolen Future”--Colburn, T., 1996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USGS Surveys--139 streams, 30 states, 1999-2000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165E-50EC-401B-BE3F-7F080FBF76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PHARMACEUTICAL RESIDUAL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escription drug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ntidepressants; antibiotics; vasoregulators; lipid regulators; antiepileptic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onprescription drugs (over-the-counter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Analgesics; cold remedies; dietary supplements;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llicit drugs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Opiates; amphetamines; cocaine derivatives; designer drug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8E4A-B6F2-46AD-BBB6-761042FD2E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2:15:17Z</dcterms:created>
  <dc:creator>jongerth</dc:creator>
  <dc:description/>
  <dc:language>en-US</dc:language>
  <cp:lastModifiedBy>Allison Garrett</cp:lastModifiedBy>
  <dcterms:modified xsi:type="dcterms:W3CDTF">2004-10-26T23:46:42Z</dcterms:modified>
  <cp:revision>44</cp:revision>
  <dc:subject/>
  <dc:title>Pharmaceutical Residuals in Water Compounds, Sources, &amp; Characteristics </dc:title>
</cp:coreProperties>
</file>