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056D03-2277-4961-BFE5-984517A45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06337B-2C65-4892-8C12-AE89DAA1F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01F190-889A-4061-B0D5-34AA632D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75470D-18FB-4314-89B1-18D642ED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2829EA-BF0C-459B-AD94-EDBF3864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BFDDE1-281F-494C-A446-1DD6CF95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0D1383-5604-4A88-AEA1-AF658BFA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9B6C9A-589D-4103-BED1-E787CBFA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8F1B-56B5-47E8-861F-3D5D51F16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8ADF-1270-4B62-9B06-D065C789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E63E-4135-4E01-A5F8-49474ED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8955-F2B3-4E39-A8A3-64D86D5FE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DDEB-C2F9-472F-9DAB-F50EA00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D245-8B29-4BBE-B801-7004F9A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8D77-1B2D-4A99-A6EC-44EB646E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B13-CFEB-4BE4-8D7D-E951BF2C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015E-E7F6-43D2-A6B3-E093FE6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3D98-CBEE-49B3-88ED-732280A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5F82-1B56-4B23-B142-A5F402AB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2CDA-DCFC-4391-ACC6-907F64B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E87-A929-4F29-A925-CA3E21B9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83f99"/>
                </a:solidFill>
                <a:latin typeface="Arial"/>
                <a:ea typeface="Times New Roman"/>
              </a:rPr>
              <a:t>“</a:t>
            </a:r>
            <a:r>
              <a:rPr b="1" lang="en-US" sz="6000" spc="-1" strike="noStrike">
                <a:solidFill>
                  <a:srgbClr val="183f99"/>
                </a:solidFill>
                <a:latin typeface="Arial"/>
                <a:ea typeface="Times New Roman"/>
              </a:rPr>
              <a:t>XENOBIOTICS”</a:t>
            </a:r>
            <a:br>
              <a:rPr sz="60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Compounds, Sources, &amp; Characteristics</a:t>
            </a: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183f99"/>
                </a:solidFill>
                <a:latin typeface="Arial"/>
              </a:rPr>
              <a:t>AMSA – 2004 National Pretreatment Conference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Jerry Ongerth, PhD, PE,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EBMUD Water Quality Offic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28, 2004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64008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W:\nab\esd\bkh\presentations\amsa2004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HY PHARMACEUTICALS?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any compound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idely distributed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duced to affect humans &amp; animal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ctive at (relatively) low concentra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duced to be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olu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oorly degrada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latively stable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F2D7-EAE1-448B-8736-7AE50EBE4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UROPEAN FINDING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9720" y="4060800"/>
            <a:ext cx="4724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ges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aspirin)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-inflamatory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diclofenac)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a-blocker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(propanolol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pid regulator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clofibrat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47920" y="4038480"/>
            <a:ext cx="4995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epilept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carbamazepin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datives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diazepam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neoplast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ifosfamid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-ray contrast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iopromid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765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wage </a:t>
            </a:r>
            <a:r>
              <a:rPr b="0" lang="en-US" sz="32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 surface &amp; groundwater &amp; m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idespread &amp;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ore than 40 Compounds rep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F1C5-51CB-4F3C-84F6-453922B88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60199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Pharmaceuticals, hormones, and other organic wastewater contaminants measured in 139 streams during 1999 &amp; 2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Map of U.S. showing 139 streams where wastewater contaminants were measured."/>
          <p:cNvPicPr/>
          <p:nvPr/>
        </p:nvPicPr>
        <p:blipFill>
          <a:blip r:embed="rId2"/>
          <a:stretch/>
        </p:blipFill>
        <p:spPr>
          <a:xfrm>
            <a:off x="533520" y="990720"/>
            <a:ext cx="7924680" cy="4930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33520"/>
            <a:ext cx="60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SGS SURVEY--1999 &amp;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F0BF-3E95-4D20-8B63-1AE428D68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Boxplot showing chemical groups detected in susceptible streams."/>
          <p:cNvPicPr/>
          <p:nvPr/>
        </p:nvPicPr>
        <p:blipFill>
          <a:blip r:embed="rId2"/>
          <a:srcRect l="0" t="957" r="0" b="19636"/>
          <a:stretch/>
        </p:blipFill>
        <p:spPr>
          <a:xfrm>
            <a:off x="152280" y="533520"/>
            <a:ext cx="4710240" cy="6340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533520"/>
            <a:ext cx="403848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SGS--1999 &amp;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00f"/>
                </a:solidFill>
                <a:latin typeface="Times New Roman"/>
              </a:rPr>
              <a:t>Most commonly detected groups</a:t>
            </a:r>
            <a:r>
              <a:rPr b="1" i="1" lang="en-US" sz="3200" spc="-1" strike="noStrike">
                <a:solidFill>
                  <a:srgbClr val="f1b00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onprescription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sect repelle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00f"/>
                </a:solidFill>
                <a:latin typeface="Times New Roman"/>
              </a:rPr>
              <a:t>Highest concentration compound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etergent metabo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lastic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Boxplot showing chemical groups detected in susceptible streams."/>
          <p:cNvPicPr/>
          <p:nvPr/>
        </p:nvPicPr>
        <p:blipFill>
          <a:blip r:embed="rId3"/>
          <a:srcRect l="15685" t="82029" r="11761" b="1427"/>
          <a:stretch/>
        </p:blipFill>
        <p:spPr>
          <a:xfrm>
            <a:off x="1752480" y="990720"/>
            <a:ext cx="28195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CFE4-DC9D-4DE9-A972-056112101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AT DOES THE DATA SUGGEST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orted detections are scattered &amp; at low concentrations (typically &lt; 1</a:t>
            </a:r>
            <a:r>
              <a:rPr b="0" lang="en-US" sz="2800" spc="-1" strike="noStrike">
                <a:solidFill>
                  <a:srgbClr val="183f99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g/L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ytical procedures are designed to find only compounds of selected typ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ampling &amp; analysis schemes limit both what and how much we can fin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ata on production, use, and characteristics are availa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ediction can help to show what we need to know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E44-E0E3-4F58-88E8-1D94F6167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CADEMIC ESTIMAT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8640" y="1275480"/>
            <a:ext cx="8762040" cy="5982840"/>
            <a:chOff x="188640" y="1275480"/>
            <a:chExt cx="8762040" cy="5982840"/>
          </a:xfrm>
        </p:grpSpPr>
        <p:grpSp>
          <p:nvGrpSpPr>
            <p:cNvPr id="121" name=""/>
            <p:cNvGrpSpPr/>
            <p:nvPr/>
          </p:nvGrpSpPr>
          <p:grpSpPr>
            <a:xfrm>
              <a:off x="188640" y="1275480"/>
              <a:ext cx="8762040" cy="5423040"/>
              <a:chOff x="188640" y="1275480"/>
              <a:chExt cx="8762040" cy="5423040"/>
            </a:xfrm>
          </p:grpSpPr>
          <p:sp>
            <p:nvSpPr>
              <p:cNvPr id="122" name=""/>
              <p:cNvSpPr/>
              <p:nvPr/>
            </p:nvSpPr>
            <p:spPr>
              <a:xfrm rot="4897200">
                <a:off x="2440080" y="-120240"/>
                <a:ext cx="4271400" cy="8214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897200">
                <a:off x="3323520" y="-1146600"/>
                <a:ext cx="2111400" cy="8160840"/>
              </a:xfrm>
              <a:custGeom>
                <a:avLst/>
                <a:gdLst/>
                <a:ahLst/>
                <a:rect l="l" t="t" r="r" b="b"/>
                <a:pathLst>
                  <a:path w="224" h="1152">
                    <a:moveTo>
                      <a:pt x="0" y="0"/>
                    </a:moveTo>
                    <a:cubicBezTo>
                      <a:pt x="80" y="212"/>
                      <a:pt x="160" y="424"/>
                      <a:pt x="192" y="528"/>
                    </a:cubicBezTo>
                    <a:cubicBezTo>
                      <a:pt x="224" y="632"/>
                      <a:pt x="224" y="520"/>
                      <a:pt x="192" y="624"/>
                    </a:cubicBezTo>
                    <a:cubicBezTo>
                      <a:pt x="160" y="728"/>
                      <a:pt x="32" y="1064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21114600">
              <a:off x="692640" y="2700720"/>
              <a:ext cx="7933680" cy="40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00,000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/(19,000,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p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365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days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mg/cap-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 mg/cap-day / 100 L/cap-day = 0.15 mg/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ug/L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@ 100,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.5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ug/L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@ 1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58A3-504A-42FA-A8E3-E377F4EFA8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prehensive--All compounds in us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Highest 50 (by total mass prescribed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No 1 = </a:t>
            </a: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Acetaminophen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--300,000 kg/yr (45 mg/cap/day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No 50 = </a:t>
            </a: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Doxycycline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--2000 kg/yr (0.3 mg/cap/day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pulation @ 1999:  19,000,000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ss balanc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xcretion 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wage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reatment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100 L per capita per day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iological secondary treat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asure residuals in samples from 7 STP’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ustralia (2), Germany (3), and USA (2)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20 mgd to 200 mgd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E1DB-7065-423C-88FF-16D5A28C0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838080" y="533520"/>
          <a:ext cx="7772400" cy="62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33520"/>
                    <a:ext cx="777240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9CED-A188-4AA9-B7EE-5CA32C692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1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of a STP with chemical (g.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ass balance (Clark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13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3C09-B69D-4EBB-8F3A-028D8B5EA6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57200" y="685800"/>
            <a:ext cx="8305560" cy="5867280"/>
            <a:chOff x="457200" y="685800"/>
            <a:chExt cx="8305560" cy="5867280"/>
          </a:xfrm>
        </p:grpSpPr>
        <p:grpSp>
          <p:nvGrpSpPr>
            <p:cNvPr id="132" name=""/>
            <p:cNvGrpSpPr/>
            <p:nvPr/>
          </p:nvGrpSpPr>
          <p:grpSpPr>
            <a:xfrm>
              <a:off x="464760" y="689400"/>
              <a:ext cx="8288640" cy="5858640"/>
              <a:chOff x="464760" y="689400"/>
              <a:chExt cx="8288640" cy="58586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64760" y="689400"/>
                <a:ext cx="878400" cy="478080"/>
                <a:chOff x="464760" y="689400"/>
                <a:chExt cx="878400" cy="4780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84920" y="69984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n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64760" y="68940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343520" y="689400"/>
                <a:ext cx="4400280" cy="478080"/>
                <a:chOff x="1343520" y="689400"/>
                <a:chExt cx="4400280" cy="4780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363680" y="69984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43520" y="68940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744520" y="689400"/>
                <a:ext cx="3008880" cy="478080"/>
                <a:chOff x="5744520" y="689400"/>
                <a:chExt cx="3008880" cy="478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764680" y="69984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nual dispensed mass (kg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44520" y="68940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64760" y="1178640"/>
                <a:ext cx="878400" cy="478080"/>
                <a:chOff x="464760" y="1178640"/>
                <a:chExt cx="878400" cy="4780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84920" y="11890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4760" y="11786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343520" y="1178640"/>
                <a:ext cx="4400280" cy="478080"/>
                <a:chOff x="1343520" y="1178640"/>
                <a:chExt cx="4400280" cy="4780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63680" y="11890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TAMINOPH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3520" y="11786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744520" y="1178640"/>
                <a:ext cx="3008880" cy="478080"/>
                <a:chOff x="5744520" y="1178640"/>
                <a:chExt cx="3008880" cy="478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764680" y="11890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95882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45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44520" y="11786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4760" y="1667520"/>
                <a:ext cx="878400" cy="478080"/>
                <a:chOff x="464760" y="1667520"/>
                <a:chExt cx="878400" cy="478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4920" y="167796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4760" y="166752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343520" y="1667520"/>
                <a:ext cx="4400280" cy="478080"/>
                <a:chOff x="1343520" y="1667520"/>
                <a:chExt cx="4400280" cy="478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363680" y="167796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FORMIN (hydrochlori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43520" y="166752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4520" y="1667520"/>
                <a:ext cx="3008880" cy="478080"/>
                <a:chOff x="5744520" y="1667520"/>
                <a:chExt cx="3008880" cy="47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64680" y="167796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0878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12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4520" y="166752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64760" y="2156760"/>
                <a:ext cx="878400" cy="478080"/>
                <a:chOff x="464760" y="2156760"/>
                <a:chExt cx="878400" cy="47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4920" y="21672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64760" y="21567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43520" y="2156760"/>
                <a:ext cx="4400280" cy="478080"/>
                <a:chOff x="1343520" y="2156760"/>
                <a:chExt cx="4400280" cy="478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363680" y="21672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CTULO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43520" y="21567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44520" y="2156760"/>
                <a:ext cx="3008880" cy="478080"/>
                <a:chOff x="5744520" y="2156760"/>
                <a:chExt cx="3008880" cy="4780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764680" y="21672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80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44520" y="21567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64760" y="2645640"/>
                <a:ext cx="878400" cy="478080"/>
                <a:chOff x="464760" y="2645640"/>
                <a:chExt cx="878400" cy="4780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84920" y="26560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4760" y="26456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43520" y="2645640"/>
                <a:ext cx="4400280" cy="478080"/>
                <a:chOff x="1343520" y="2645640"/>
                <a:chExt cx="4400280" cy="478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3680" y="26560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OXYCILL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43520" y="26456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44520" y="2645640"/>
                <a:ext cx="3008880" cy="478080"/>
                <a:chOff x="5744520" y="2645640"/>
                <a:chExt cx="3008880" cy="478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764680" y="26560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620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44520" y="26456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64760" y="3135240"/>
                <a:ext cx="878400" cy="478080"/>
                <a:chOff x="464760" y="3135240"/>
                <a:chExt cx="878400" cy="478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84920" y="31456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64760" y="31352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343520" y="3135240"/>
                <a:ext cx="4400280" cy="478080"/>
                <a:chOff x="1343520" y="3135240"/>
                <a:chExt cx="4400280" cy="4780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63680" y="31456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NITIDINE (hydrochlori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43520" y="31352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44520" y="3135240"/>
                <a:ext cx="3008880" cy="478080"/>
                <a:chOff x="5744520" y="3135240"/>
                <a:chExt cx="300888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764680" y="31456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3724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5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44520" y="31352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64760" y="3624120"/>
                <a:ext cx="878400" cy="478440"/>
                <a:chOff x="464760" y="3624120"/>
                <a:chExt cx="878400" cy="478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84920" y="36349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4760" y="362412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343520" y="3624120"/>
                <a:ext cx="4400280" cy="478440"/>
                <a:chOff x="1343520" y="3624120"/>
                <a:chExt cx="4400280" cy="478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363680" y="36349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PHALEX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43520" y="362412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44520" y="3624120"/>
                <a:ext cx="3008880" cy="478440"/>
                <a:chOff x="5744520" y="3624120"/>
                <a:chExt cx="3008880" cy="478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64680" y="36349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408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4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44520" y="362412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4760" y="4113360"/>
                <a:ext cx="878400" cy="478080"/>
                <a:chOff x="464760" y="4113360"/>
                <a:chExt cx="878400" cy="478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84920" y="41238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4760" y="41133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343520" y="4113360"/>
                <a:ext cx="4400280" cy="478080"/>
                <a:chOff x="1343520" y="4113360"/>
                <a:chExt cx="4400280" cy="478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363680" y="41238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PROX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43520" y="41133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744520" y="4113360"/>
                <a:ext cx="3008880" cy="478080"/>
                <a:chOff x="5744520" y="4113360"/>
                <a:chExt cx="3008880" cy="47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764680" y="41238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28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44520" y="41133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64760" y="4602240"/>
                <a:ext cx="878400" cy="478440"/>
                <a:chOff x="464760" y="4602240"/>
                <a:chExt cx="878400" cy="478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4920" y="461304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4760" y="460224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43520" y="4602240"/>
                <a:ext cx="4400280" cy="478440"/>
                <a:chOff x="1343520" y="4602240"/>
                <a:chExt cx="4400280" cy="478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3680" y="461304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PROATE (sodium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43520" y="460224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744520" y="4602240"/>
                <a:ext cx="3008880" cy="478440"/>
                <a:chOff x="5744520" y="4602240"/>
                <a:chExt cx="3008880" cy="4784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764680" y="461304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8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744520" y="460224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64760" y="5091480"/>
                <a:ext cx="878400" cy="478080"/>
                <a:chOff x="464760" y="5091480"/>
                <a:chExt cx="878400" cy="478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84920" y="51019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4760" y="509148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343520" y="5091480"/>
                <a:ext cx="4400280" cy="478080"/>
                <a:chOff x="1343520" y="5091480"/>
                <a:chExt cx="4400280" cy="478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363680" y="51019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PIR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43520" y="509148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744520" y="5091480"/>
                <a:ext cx="3008880" cy="478080"/>
                <a:chOff x="5744520" y="5091480"/>
                <a:chExt cx="300888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764680" y="51019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3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44520" y="509148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64760" y="5580720"/>
                <a:ext cx="878400" cy="478440"/>
                <a:chOff x="464760" y="5580720"/>
                <a:chExt cx="878400" cy="4784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4920" y="55915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4760" y="558072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343520" y="5580720"/>
                <a:ext cx="4400280" cy="478440"/>
                <a:chOff x="1343520" y="5580720"/>
                <a:chExt cx="4400280" cy="478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363680" y="55915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LICYLIC ACID (ex-aspirin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43520" y="558072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744520" y="5580720"/>
                <a:ext cx="3008880" cy="478440"/>
                <a:chOff x="5744520" y="5580720"/>
                <a:chExt cx="3008880" cy="478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764680" y="55915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3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44520" y="558072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64760" y="6069960"/>
                <a:ext cx="878400" cy="478080"/>
                <a:chOff x="464760" y="6069960"/>
                <a:chExt cx="878400" cy="478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84920" y="60804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64760" y="60699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343520" y="6069960"/>
                <a:ext cx="4400280" cy="478080"/>
                <a:chOff x="1343520" y="6069960"/>
                <a:chExt cx="4400280" cy="478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363680" y="60804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MFIBROZ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60699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744520" y="6069960"/>
                <a:ext cx="3008880" cy="478080"/>
                <a:chOff x="5744520" y="6069960"/>
                <a:chExt cx="3008880" cy="478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764680" y="60804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42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3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44520" y="60699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457200" y="685800"/>
              <a:ext cx="8305560" cy="5867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4978-EC71-43D2-97A1-05899B7C5C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600200"/>
            <a:ext cx="84582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Contaminants -- What, where, &amp;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Pharmaceutical Res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Fate and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AU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Next Steps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What can we exp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What can we do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245D-D94B-475F-A158-DCB2D9E79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4680" y="479520"/>
          <a:ext cx="9140760" cy="63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479520"/>
                    <a:ext cx="914076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835280" y="3767040"/>
            <a:ext cx="6792840" cy="7128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1DD6-1DCB-4EC5-BA16-67C2EBB9FD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22440"/>
            <a:ext cx="9004320" cy="62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E4FE-6976-43CD-8E93-DE3116E51E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1945" t="3622" r="2988" b="2845"/>
          <a:stretch/>
        </p:blipFill>
        <p:spPr>
          <a:xfrm>
            <a:off x="0" y="576360"/>
            <a:ext cx="8942400" cy="6281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91120" y="1295280"/>
            <a:ext cx="20574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6773"/>
              <a:gd name="adj5" fmla="val 133333"/>
              <a:gd name="adj6" fmla="val -50615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 capita to sewage mg/cap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21200" y="2320920"/>
            <a:ext cx="2317680" cy="4222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20615"/>
              <a:gd name="adj5" fmla="val 215412"/>
              <a:gd name="adj6" fmla="val -38629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proximate limit of detection--0.01 to 1 ug/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A5C9-DC4F-46C1-8AB3-FB0F906F35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rcRect l="503" t="1628" r="1475" b="2585"/>
          <a:stretch/>
        </p:blipFill>
        <p:spPr>
          <a:xfrm>
            <a:off x="380880" y="506520"/>
            <a:ext cx="8305920" cy="635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F733-450E-4382-971C-E850A43303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NTROLLING FACTOR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Quantity of us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xcretion quantity and for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Fugacity, Log P (range is 7 log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Biodegradability (range is 6-8 log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cid-base chemistr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activit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675F-6E35-4234-8A90-4DC0E0846B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VERIFICATION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Sewage treatment plant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Good agreement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Consistent:  Australia-Germany-US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nvironmental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USGS dat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European dat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CC81-322C-4E90-B39C-6F2E97089A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PPLICATION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lanning for sampling &amp; analysis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Guide--what to look for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stimate quantities of use from raw sewage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0921-8924-4276-9807-E147FB9C84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IGNIFICANC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39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Based on quantities--very low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Toxicology--???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1ECF-4D20-4B84-9199-29214EBEA2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ource Control Activiti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harmaceutical disposal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roduct bans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Any value???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5097-84E4-47C1-A6C7-3E51E07632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mpounds in significant use are likely to be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tectabl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mpound presence &amp; fate in the environ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pends on physical/chemical propert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ampling &amp; analysis procedures control what  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s detectabl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Knowing what is there permits rational planning</a:t>
            </a:r>
            <a:br>
              <a:rPr sz="2400"/>
            </a:b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ource control activities may serve limited educational function – at this poi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2267-75F7-4B77-A127-B532BE4D8E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Xenobiotics--Emerging Contaminant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Hormonally Active Agents (HAA’s) or “Endocrine Disrupters”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harmaceutically Active Compounds (PhAC’s) or Pharmaceutical Residual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sonal Care Products PCP’s (or w/PhAC’s = PPC’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2D73-97DA-488E-A8F0-36958B414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Hormonally Active Agen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Human, animal, &amp; plant hormon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stroge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ytoestrogens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tergent residu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nylpheno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Low volatility solvents/plasticizer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thalat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F7E6-38F3-4E0D-A834-3CB3F581F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harmaceutical Residual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scription dru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tidepressants; antibiotics; vasoregulators; lipid regulators; antiepileptics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prescription drugs (over-the-counter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gesics; cold remedies; dietary supplements;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llicit drug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piates; amphetamines; cocaine derivatives; designer drug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8FFE-42B3-42C3-8962-3D2A00D2D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ersonal Care Produc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isinfect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odor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ragran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lavoring age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sect repell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un scree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F993-0EF4-4723-A06C-3864A1049A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4442" r="2365" b="7732"/>
          <a:stretch/>
        </p:blipFill>
        <p:spPr>
          <a:xfrm>
            <a:off x="457200" y="609480"/>
            <a:ext cx="4363920" cy="589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05520" y="609480"/>
            <a:ext cx="3809880" cy="1828800"/>
          </a:xfrm>
          <a:prstGeom prst="wedgeEllipseCallout">
            <a:avLst>
              <a:gd name="adj1" fmla="val -67500"/>
              <a:gd name="adj2" fmla="val 33939"/>
            </a:avLst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have you been drinking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483B-2506-42DB-8749-FE2354A56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9903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VENTS &amp; FINDING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ports of trace organics presence in surface &amp; groundwater--Europe, 1990’s</a:t>
            </a:r>
            <a:r>
              <a:rPr b="0" lang="en-US" sz="32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ur Stolen Future”--Colburn, T., 1996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USGS Surveys--139 streams, 30 states, 1999-2000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586D-D628-4DEC-9B85-2E17647FEA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HARMACEUTICAL RESIDUAL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scription dru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tidepressants; antibiotics; vasoregulators; lipid regulators; antiepileptic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prescription drugs (over-the-counter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gesics; cold remedies; dietary supplements;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llicit drug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piates; amphetamines; cocaine derivatives; designer drug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CC2F-DE85-4ED3-8357-0FC714B75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2:15:17Z</dcterms:created>
  <dc:creator>jongerth</dc:creator>
  <dc:description/>
  <dc:language>en-US</dc:language>
  <cp:lastModifiedBy>Allison Garrett</cp:lastModifiedBy>
  <dcterms:modified xsi:type="dcterms:W3CDTF">2004-10-26T23:46:42Z</dcterms:modified>
  <cp:revision>44</cp:revision>
  <dc:subject/>
  <dc:title>Pharmaceutical Residuals in Water Compounds, Sources, &amp; Characteristics </dc:title>
</cp:coreProperties>
</file>