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12F-BF18-4273-A019-9ECA00CC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125-051F-49D9-801A-62226224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8A4-8A56-4DC0-8871-D5FB3F8B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19B-08B6-4953-9165-D5257EB1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24C-73CE-4523-BBE5-D541CD03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96E-6797-4ECF-B058-3B41EB43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1A2-E9D7-491F-9240-56CF5401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517-2DE1-45B4-B65B-D4FEB9E3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C59-B5EC-42A6-98A3-607780BA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7243-2B6C-4E77-94F1-D0DECAB1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40C-B12F-4536-9D81-E42CD07E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C6E-AD37-4F3E-8F4E-4DBCEA03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F23E-5494-4405-AED4-6B1FCFA9B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2.free-clipart.net/cgi-bin/clipart/directory.cgi?direct=clipart/Public_Issues&amp;img=6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2.free-clipart.net/cgi-bin/clipart/directory.cgi?action=view&amp;link=clipart/Public_Issues&amp;image=Environmental_News__Notes.jpg&amp;img=18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28600" y="5028840"/>
            <a:ext cx="4495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ry J. Satterle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hrop &amp; Gage L.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816) 460-58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satterlee@lathropgage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ow To Respond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If The EPA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Comes Knocking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poena Checklis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central person to receive subpoen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ify attorney immediatel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llow attorney’s guid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not destroy any documents without attorney guid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t this in document destruction polic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sure that all responsive documents are produced through couns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arch Warrant Checklis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 in advance who will hand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ify attorney immediatel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ove employees from area to be search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lain rights to affected employe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not interfere with investigat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notes of where they look and who they talk t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Large View"/>
          <p:cNvPicPr/>
          <p:nvPr/>
        </p:nvPicPr>
        <p:blipFill>
          <a:blip r:embed="rId1"/>
          <a:stretch/>
        </p:blipFill>
        <p:spPr>
          <a:xfrm rot="20659800">
            <a:off x="6324480" y="4648320"/>
            <a:ext cx="2438640" cy="127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arch Warrant Checklis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ablish written proced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e procedure to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eptioni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d of Bil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clinics or outside off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tact wit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overnment Investigato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ibute written policy to employe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 person for employees to notify of contact with government investigat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not tell employee they cannot speak with investigat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ify attorney of any contact with employe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torney should interview employe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o Protect Investig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not gather anymore information once you determine possibly serious nature of investig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over to counsel to run investig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ure all contacts with employees for interviews are through couns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o Protect Investig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ep all communications with counsel separate from lo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w counsel to engage and deal with specialists (accountants, consultant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not discuss the results of the investigation without counsel in the convers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o Protect Investig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773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ay decide after the investigation not to protect the results, but it will be a knowledgeable deci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Scal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14800"/>
            <a:ext cx="2705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to Respon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Possible Probl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ure you keep record of how each reported “problem” is resolv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lo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ult with counsel on any potentially serious probl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corrective action and discipline if appropri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derstand the System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estigators investig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istant U.S. Attorneys and Assistant Attorneys General decide what to do with the results of their investig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Large View">
            <a:hlinkClick r:id="rId1"/>
          </p:cNvPr>
          <p:cNvPicPr/>
          <p:nvPr/>
        </p:nvPicPr>
        <p:blipFill>
          <a:blip r:embed="rId2"/>
          <a:stretch/>
        </p:blipFill>
        <p:spPr>
          <a:xfrm rot="20566800">
            <a:off x="5562360" y="5334120"/>
            <a:ext cx="2857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secutor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U.S. Attorney’s Offi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lude both criminal and civil attorne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ually part of federal/state task for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coordinated decisions about whether a case is civil or crimin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gation Ca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gin In Many Way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arch warra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nd Jury subpoen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vestigator contacting employe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fter Inspec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vil v. Crimin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pection Report by Inspect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ly to Notice of Vio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for Written Inspection Report 30 Days After Inspe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This Facility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utine Inspection / Enforcement Initiati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MR’s – Self-Reporting Noncompli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nymous Cal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responsive to Inspection Follow-Up Docu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ter of Warning / Notice of Viol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quiry Letter (stat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8 Letter Respon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tizen Suit – During 60-day Not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ould I Do Something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Prepar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iance Audi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al audit through outside lawyer (confidential third party audi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 Audit (only in certain situation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s for Audi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T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ection Syste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sues Raised in Insp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tion v. Non-Ac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mediate Compli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aluate Employee A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eting the Goal of Guiding the Agency Deci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not change an agency decision once it is mad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uld we meet with the agenc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have a story that changes the fa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et with the RIGHT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Noth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vil Decision Ma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pection Report (Respon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iance Determin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mit writers are usually not decision mak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 grants are not involv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e / Federal Consult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vil Decision Ma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A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ministrative A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nd for Further Investig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 of Pending A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ter Inspe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vil v. Crimin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EPA / State Review of Inspection Report and Determin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suance of AO or Civil Referr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ond in Wri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ppropriate, ask for mee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ution:  Know why you are asking for meeting and who with – construction grants are not compliance issu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it for EPA / State Response, if an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AL:</a:t>
            </a:r>
            <a:br>
              <a:rPr sz="4400"/>
            </a:br>
            <a:br>
              <a:rPr sz="20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SS THE SILVER BULL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ctors for 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iminal Case (not exclusiv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the act intentional or a mistak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d the entity report the problem or try to hide i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d the entity cooperate with law enforcement or regulatory official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re any innocent persons harmed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t Legal Counsel Involved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391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Rule No.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ortant to Involve Counsel Wit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vironmental Experti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minal/Governmental experti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 rot="523200">
            <a:off x="6477120" y="4876920"/>
            <a:ext cx="20001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to Expect From Your Attorne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ct government attorne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e nature of investig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y to determine status of cli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: Target, Subject or W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 internal investig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which individuals may require separate couns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erson as to whom the prosecutor or the grand jury has substantial evidence linking him/her to the commission of a crime and who, in the judgment of the prosecutor, is a putative defendant.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erson whose conduct is within the scope of the grand jury’s investigation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ly not much less than begin a “target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Key is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 PREPAR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written procedures in place for the different scenari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eptionist, Department Heads and Executive Officers should have written guidelin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ure attorneys’ numbers are hand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Key is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 PREPAR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2505600">
            <a:off x="6781680" y="4800600"/>
            <a:ext cx="2000520" cy="1504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543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ten Procedures Must Cover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eipt of subpoena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act with government investigato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rch warra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5:44:26Z</dcterms:created>
  <dc:creator>Cari Matias</dc:creator>
  <dc:description/>
  <dc:language>en-US</dc:language>
  <cp:lastModifiedBy>Jessica E. Merrigan</cp:lastModifiedBy>
  <dcterms:modified xsi:type="dcterms:W3CDTF">2004-11-09T14:23:06Z</dcterms:modified>
  <cp:revision>13</cp:revision>
  <dc:subject/>
  <dc:title>How to Respond If the EPA Comes Knocking</dc:title>
</cp:coreProperties>
</file>