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C9C-8672-4CF4-9128-881093EE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128-197F-4FFE-81D5-A3662B7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823-010F-4D13-ACEE-0FADFF49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906-5F5A-48B0-BF45-AD1ECA17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13B-36C9-4E87-97E5-0733F20B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139-0518-44D2-B5AA-F3E94CB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661-49A8-4269-9847-3832FD91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F43-0DC9-4719-A47D-6609C33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74D-07C9-494C-8174-012F268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567B-8B5D-4CAD-BDA2-EFC1748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C91-5D23-4D36-8999-7AFC822A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5D7-C8E9-4543-BF80-D38B18F4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654-52A0-4396-A5C4-1B74C8BF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ociation of Metropolitan Sewerage Agencies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evelopments in Clean Water Law Semin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,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WQSs are not met, is a City in violation of its NPDES MS4 storm water permits during the iterative process for developing and applying better “BMPs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  <p:sndAc>
      <p:stSnd>
        <p:snd r:embed="rId1" name="suctio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ards’ Ba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ity is in violation of its NPDES MS4 storm water permit during iterative process for developing better “BMPs,” the City is exposed to sanctions, and each day is a separate vio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view of regional boards’ position that cities would be in violation, cities sought relief, by filing petitions for administrative review with the State Water Resources Control Boa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SWRCB declined to grant relief, as “not raising significant issues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led a number of cities to seek relief in the cou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our pick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lected Cases of Importance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In Re Los Angeles County Municipal Storm Water Permit Lit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lawsuits brought by numerous cities, LA County and Los Angeles County Economic Development Corpor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is whether permittees would be in violation of  NPDES MS4 storm water permits during iterative process for developing better “BMPs” if  WQSs are not me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RCB declined review as “not raising significant issues;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petitioners filed petitions for writ of mand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ard and Intervenors were adamant that failure to meet WQSs meant violation of permit and C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’s oral statement of decision found that the WQS portion of the permit must be read in light of CWA’s “Maximum Extent Practicable” standard and Porter-Cologne Act’s reasonableness standard (§ 1324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is to be used to achieve the goals of WQS portion of the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’s oral statement of deci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urt: “If you’re in compliance with 2.3 or 2.4 . . . then you can’t be in violation of the 2.1 and 2.2 because you’re working toward it.” Transcript, Aug. 6, 2004, p. 3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is to be used to achieve the goals of WQS portion of the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on the written Statement of Decision held October 28,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es stipulated as to Sanitary Sewer Overflow (“SSO”) provision requiring permittees to “respond to” SSOs did not require cities to undertake cleanup activity, that duty remains with POTW op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es also stipulated that permit did not require permittees to control storm water discharges from agencies over which permittees lack regulatory authority, such as state agencies and school distric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eavy Rains Lift All Boats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 Storm Water Status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elected Cases of Impor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fus C. Young, Jr., Es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y E. Morgan, Esq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ke, Williams &amp; Sorensen, L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Re Los Angeles County Municipal Storm Water Permit Litig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ld be affected by California Supreme Court decisio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ties of Burbank and Los Ange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requires CRWQCBs to consid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nditions that coul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sona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chieved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 consideration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Elk Grove, et al., v. CRWQCB-Central Val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was whether City is in violation of its NPDES MS4 storm water permits during iterative process for better “BMPs” if  WQSs are not me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RCB declined review as “not raising significant iss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Elk Grove, et al., v. CRWQCB-Central Valle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cities filed for petition for writ of manda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permittee petitioners agreed to dismiss petition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WQCB-CV issued clarifying letter: “…[T]he permit does not require strict compliance with WQS [during the iterative process]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ies of Burbank and Los Angeles v. SWRC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ding before California Supreme Cou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hange CRWQCBs’ process for issuing NPDES/ WDR permits, by requiring economic and environmental analys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require compliance with Water Code § 13241, requiring CRWQCBs to conside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onditions that coul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asona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chieved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conomic consid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vironmental Defense Center v. EPA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44 F.3d 832 (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ir.,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held EPA’s Phase II (smaller cities) NPDES storm water permit regula-tions, expanding municipal storm water permit program to smaller citi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vironmental Defense Center v. EP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ircui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mand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hase II regulations to EPA as they failed to provide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pportunity to com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o reque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a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Notices of Intent (“NOIs”) to be covered under the Phase II per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NOI system for statewide industrial and construction activity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acre) per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issue: the LA River Trash TMDL (Total Maximum Daily Loa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, the maximum amount of a pollutant a water body can absorb and still be fit for designated us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gated in San Diego Superior Cou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pending before California Court of Appe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ial Court’s Deci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DL may be applied only to navigable waters of the United Stat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DL may be applied only to a federally-listed water bod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WQCB-LA abused discretion by failing to conduct meaningful study of assimilation ability of LA Riv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WQCB-LA violated CEQA by lacking  factual basis to support CEQA checklist conclusion that Trash TMDL would have no environmental imp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ity of Arcadia, et al., v. SWRCB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 CRWQCBs continue to follow TMDL procedures found deficient at trial, other TMDL challenges likely to follow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DLS could be a mess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Water Ac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 U.S. C. §§ 1251-13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ollutant Discharge Elimination System (“NPDES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Commerce Claus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ded to prevent and control the dis-charge of pollutants into “waters of the United States”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, all but the most isolated of bodies of w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unty of Los Angeles, et al. v. State of Califor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bligations imposed by LA NPDES MS4 storm water permit constit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funded state man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dem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have state-wide imp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ean Water Ac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 U.S. C. §§ 1251-13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conscripted cites by requiring them to apply for NPDES permits for Municipal Separate Storm Sewer Systems (“MS4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4s are defined to include streets, gutters, and ditches used for conveying storm water. 40 C.F.R. § 126.26(b)(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WA § 402(p)(3)(B) provides that NPDES MS4 storm water permi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ll require controls to reduce the discharge of pollutants to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ximum extent practic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clud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nagement practices, control techniques and engineer-ing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ypical “management practices, control techniques and engineering methods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adopt ordinances prohibiting “illicit connections” to the MS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prohibit the discharge of “non-storm water” to its MS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arrange for street and parking lot sweep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“management practices, control techniques and engineering methods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install facilities to retain on site the first ¾” of storm water in 24-hour perio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install and maintain trash receptacles at transit sit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ll more “management practices, control techniques and engineering methods: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“concen-trate and cluster” development on the site, while leaving remaining portion in natural condi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es must require developers to install post-construction “best management practices” (“BMPs”) such as grassy swales and retention p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“water quality standards” (“WQSs”) of the waters into which MS4s discharge storm water (“receiving waters” in CWA jargo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QSs are not met, NPDES MS4 storm water permits require iterative processes for  developing and applying better “BMP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10-08T21:47:47Z</dcterms:modified>
  <cp:revision>10</cp:revision>
  <dc:subject/>
  <dc:title>PowerPoint Presentation</dc:title>
</cp:coreProperties>
</file>