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27863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8733-21B7-49B2-AD61-FBF8DDBFE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24ED-BDA6-48FD-9EC8-FF800355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7FD3-7137-4038-BBD0-DDCA2A40F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DFB6-EC7A-4248-A316-10EE9839B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0016-2F6A-4053-961B-85408A16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D3B8-B384-492C-9B24-2F768B40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343E-A190-45E7-A2E7-DB9A0B9C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74B2-BB46-41C6-AFA9-7808B951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F44C-56C8-47F9-BFB8-DEC4AFC4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47B2-BAD5-44CB-A16A-A5B20806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32DF-45D3-45F0-A124-5523CAC0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7C5F-5F86-44E4-938A-7795199B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ff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ff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ff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99ff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99ff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A31F-BBD7-4D2D-93F5-3B41ED9A887D}" type="slidenum">
              <a:rPr b="0" lang="en-US" sz="1400" spc="-1" strike="noStrike">
                <a:solidFill>
                  <a:srgbClr val="99ff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STATE PERSPECTIVE ON MS4 PERMI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Tahoma"/>
              </a:rPr>
              <a:t>Elizabeth Miller Jennings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Tahoma"/>
              </a:rPr>
              <a:t>Staff Counsel IV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Tahoma"/>
              </a:rPr>
              <a:t>State Water Resources Control Bd.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Technology Standard: ME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Tahoma"/>
              </a:rPr>
              <a:t>CWA </a:t>
            </a:r>
            <a:r>
              <a:rPr b="1" lang="en-US" sz="3200" spc="-1" strike="noStrike">
                <a:solidFill>
                  <a:srgbClr val="99ff33"/>
                </a:solidFill>
                <a:latin typeface="Tahoma"/>
                <a:ea typeface="Courier New"/>
              </a:rPr>
              <a:t>§</a:t>
            </a:r>
            <a:r>
              <a:rPr b="1" lang="en-US" sz="3200" spc="-1" strike="noStrike">
                <a:solidFill>
                  <a:srgbClr val="99ff33"/>
                </a:solidFill>
                <a:latin typeface="Tahoma"/>
              </a:rPr>
              <a:t>402(p)(3)(B)(iii): MEP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Tahoma"/>
              </a:rPr>
              <a:t>NRDC v EPA (9</a:t>
            </a:r>
            <a:r>
              <a:rPr b="1" lang="en-US" sz="3200" spc="-1" strike="noStrike" baseline="30000">
                <a:solidFill>
                  <a:srgbClr val="99ff33"/>
                </a:solidFill>
                <a:latin typeface="Tahoma"/>
              </a:rPr>
              <a:t>th</a:t>
            </a:r>
            <a:r>
              <a:rPr b="1" lang="en-US" sz="3200" spc="-1" strike="noStrike">
                <a:solidFill>
                  <a:srgbClr val="99ff33"/>
                </a:solidFill>
                <a:latin typeface="Tahoma"/>
              </a:rPr>
              <a:t> Cir) 966 F2d 1292: State role to define MEP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Tahoma"/>
              </a:rPr>
              <a:t>WQ2000-11: MEP defined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Calif Defines ME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Tahoma"/>
              </a:rPr>
              <a:t>WQ2000-11: P</a:t>
            </a:r>
            <a:r>
              <a:rPr b="1" lang="en-US" sz="3200" spc="-1" strike="noStrike">
                <a:solidFill>
                  <a:srgbClr val="99ff33"/>
                </a:solidFill>
                <a:latin typeface="Tahoma"/>
                <a:ea typeface="Times New Roman"/>
              </a:rPr>
              <a:t>ractical solutions may not be lightly rejected.  MS4 cannot choose only a few of the least expensive BMPs. If MS4 uses all applicable BMPs except those not technically feasible, or whose cost would exceed any benefit, it meets MEP.  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Calif Defines MEP, cont’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Tahoma"/>
                <a:ea typeface="Times New Roman"/>
              </a:rPr>
              <a:t>MS4 must choose effective BMPs, and reject BMPs only if other effective BMPs serve the same purpose, BMPs are not technically feasible, or cost is prohibitive.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Tahoma"/>
                <a:ea typeface="Times New Roman"/>
              </a:rPr>
              <a:t>SUSMPS: New development controls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Water Quality-Based Standar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Tahoma"/>
              </a:rPr>
              <a:t>Defenders v Browner (9</a:t>
            </a:r>
            <a:r>
              <a:rPr b="1" lang="en-US" sz="3200" spc="-1" strike="noStrike" baseline="30000">
                <a:solidFill>
                  <a:srgbClr val="99ff33"/>
                </a:solidFill>
                <a:latin typeface="Tahoma"/>
              </a:rPr>
              <a:t>th</a:t>
            </a:r>
            <a:r>
              <a:rPr b="1" lang="en-US" sz="3200" spc="-1" strike="noStrike">
                <a:solidFill>
                  <a:srgbClr val="99ff33"/>
                </a:solidFill>
                <a:latin typeface="Tahoma"/>
              </a:rPr>
              <a:t> Cir) 191 F3 1159: CWA does not require, but state can require strict compliance with WQS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Tahoma"/>
              </a:rPr>
              <a:t>WQ2001-15: Compliance through iterative approach of improved BMPs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Litigation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Tahoma"/>
              </a:rPr>
              <a:t>Cities and Builders challenge: MEP requirements, WQS, inspections, absence of “safe harbor”, monitoring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Tahoma"/>
              </a:rPr>
              <a:t>Environmentalists challenge lack of numeric effluent limits, monitoring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Court Deci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Tahoma"/>
              </a:rPr>
              <a:t>Environmental suits challenging permits (lack of numeric effluent limits and monitoring) settled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Tahoma"/>
              </a:rPr>
              <a:t>BIA challenge to SD MS4 permit (WQS): state won, is on appeal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Court Decisons (cont’d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Tahoma"/>
              </a:rPr>
              <a:t>Cities’ challenge to LA MS4 permit (WQS, inspections, SUSMPs etc): state won</a:t>
            </a:r>
            <a:endParaRPr b="0" lang="en-US" sz="28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Tahoma"/>
              </a:rPr>
              <a:t>Cities’ challenge to SB MS4 permit (CEQA, WQS, inspections, mandate): state won</a:t>
            </a:r>
            <a:endParaRPr b="0" lang="en-US" sz="28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Tahoma"/>
              </a:rPr>
              <a:t>Cities’ challenge to Sacramento and Stockton permits (WQS) settled</a:t>
            </a:r>
            <a:endParaRPr b="0" lang="en-US" sz="28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The Future: Emerging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Tahoma"/>
              </a:rPr>
              <a:t>Alternatives to detailed, process-driven permits?</a:t>
            </a:r>
            <a:endParaRPr b="0" lang="en-US" sz="28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Tahoma"/>
              </a:rPr>
              <a:t>Measurable performance standards?</a:t>
            </a:r>
            <a:endParaRPr b="0" lang="en-US" sz="28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Tahoma"/>
              </a:rPr>
              <a:t>TMDL:  Watershed permits? EPA Guidance</a:t>
            </a:r>
            <a:endParaRPr b="0" lang="en-US" sz="28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Tahoma"/>
              </a:rPr>
              <a:t>EDC v EPA (9</a:t>
            </a:r>
            <a:r>
              <a:rPr b="1" lang="en-US" sz="2800" spc="-1" strike="noStrike" baseline="30000">
                <a:solidFill>
                  <a:srgbClr val="99ff33"/>
                </a:solidFill>
                <a:latin typeface="Tahoma"/>
              </a:rPr>
              <a:t>th</a:t>
            </a:r>
            <a:r>
              <a:rPr b="1" lang="en-US" sz="2800" spc="-1" strike="noStrike">
                <a:solidFill>
                  <a:srgbClr val="99ff33"/>
                </a:solidFill>
                <a:latin typeface="Tahoma"/>
              </a:rPr>
              <a:t> Cir) 344 F3d 832: Public notice, hearings, and approval of storm water plans</a:t>
            </a:r>
            <a:endParaRPr b="0" lang="en-US" sz="28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23:32:44Z</dcterms:created>
  <dc:creator>jennb</dc:creator>
  <dc:description/>
  <dc:language>en-US</dc:language>
  <cp:lastModifiedBy>chynita</cp:lastModifiedBy>
  <dcterms:modified xsi:type="dcterms:W3CDTF">2004-10-28T19:23:11Z</dcterms:modified>
  <cp:revision>8</cp:revision>
  <dc:subject/>
  <dc:title>STATE PERSPECTIVE ON MS4 PERMITS</dc:title>
</cp:coreProperties>
</file>