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3FA-5A30-45B3-87CC-E6E2776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266-7F23-4068-B32A-66F9280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3C3-FF34-4221-96FC-25DB6122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E22-8551-42D5-8BED-D6ADBCC2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23D-06CE-423B-97FF-6C2F94B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48E-DDA6-47E7-8FA4-0A674414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9B7-1EF8-47A1-8E67-3B9D3F1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197-E1B7-4F66-8F0C-D1779F84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853-7BEE-4241-B78E-471EA338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561-9A86-4A27-8379-391C8CD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B3A-C683-445F-B5AB-0D5DDB5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6BD-77F5-496D-8E9F-A00BA20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05A-CFEF-4D24-AC7F-E702F5E71C0A}" type="slidenum">
              <a:rPr b="0" lang="en-US" sz="1400" spc="-1" strike="noStrike">
                <a:solidFill>
                  <a:srgbClr val="99ff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TATE PERSPECTIVE ON MS4 PERM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Elizabeth Miller Jenning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Staff Counsel IV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State Water Resources Control Bd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echnology Standard: ME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CWA 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Courier New"/>
              </a:rPr>
              <a:t>§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402(p)(3)(B)(iii): MEP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NRDC v EPA (9</a:t>
            </a:r>
            <a:r>
              <a:rPr b="1" lang="en-US" sz="3200" spc="-1" strike="noStrike" baseline="30000">
                <a:solidFill>
                  <a:srgbClr val="99ff33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 Cir) 966 F2d 1292: State role to define MEP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WQ2000-11: MEP defined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alif Defines ME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WQ2000-11: P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Times New Roman"/>
              </a:rPr>
              <a:t>ractical solutions may not be lightly rejected.  MS4 cannot choose only a few of the least expensive BMPs. If MS4 uses all applicable BMPs except those not technically feasible, or whose cost would exceed any benefit, it meets MEP.  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alif Defines MEP, cont’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Times New Roman"/>
              </a:rPr>
              <a:t>MS4 must choose effective BMPs, and reject BMPs only if other effective BMPs serve the same purpose, BMPs are not technically feasible, or cost is prohibitive.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  <a:ea typeface="Times New Roman"/>
              </a:rPr>
              <a:t>SUSMPS: New development control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Quality-Based Stand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Defenders v Browner (9</a:t>
            </a:r>
            <a:r>
              <a:rPr b="1" lang="en-US" sz="3200" spc="-1" strike="noStrike" baseline="30000">
                <a:solidFill>
                  <a:srgbClr val="99ff33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 Cir) 191 F3 1159: CWA does not require, but state can require strict compliance with WQ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WQ2001-15: Compliance through iterative approach of improved BMPs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itigation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Cities and Builders challenge: MEP requirements, WQS, inspections, absence of “safe harbor”, monitoring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Environmentalists challenge lack of numeric effluent limits, monitoring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ourt Deci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Environmental suits challenging permits (lack of numeric effluent limits and monitoring) settled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ahoma"/>
              </a:rPr>
              <a:t>BIA challenge to SD MS4 permit (WQS): state won, is on appeal</a:t>
            </a:r>
            <a:endParaRPr b="0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ourt Decisons (cont’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Cities’ challenge to LA MS4 permit (WQS, inspections, SUSMPs etc): state won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Cities’ challenge to SB MS4 permit (CEQA, WQS, inspections, mandate): state won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Cities’ challenge to Sacramento and Stockton permits (WQS) settled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Future: Emerg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Alternatives to detailed, process-driven permits?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Measurable performance standards?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TMDL:  Watershed permits? EPA Guidance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EDC v EPA (9</a:t>
            </a:r>
            <a:r>
              <a:rPr b="1" lang="en-US" sz="2800" spc="-1" strike="noStrike" baseline="30000">
                <a:solidFill>
                  <a:srgbClr val="99ff33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99ff33"/>
                </a:solidFill>
                <a:latin typeface="Tahoma"/>
              </a:rPr>
              <a:t> Cir) 344 F3d 832: Public notice, hearings, and approval of storm water plans</a:t>
            </a:r>
            <a:endParaRPr b="0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23:32:44Z</dcterms:created>
  <dc:creator>jennb</dc:creator>
  <dc:description/>
  <dc:language>en-US</dc:language>
  <cp:lastModifiedBy>chynita</cp:lastModifiedBy>
  <dcterms:modified xsi:type="dcterms:W3CDTF">2004-10-28T19:23:11Z</dcterms:modified>
  <cp:revision>8</cp:revision>
  <dc:subject/>
  <dc:title>STATE PERSPECTIVE ON MS4 PERMITS</dc:title>
</cp:coreProperties>
</file>