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C4F2-0696-4381-AD9E-28E02040E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4CA30-5C35-456E-9A44-8881960A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81513-154B-4490-B43A-1C99B02D0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0DBE9-29C6-4F21-87A4-15A1ADC18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077D29-5809-4C3E-AB6A-A4F2DFE9FC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F6759-0345-48CF-B124-87016F3265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377F45-2523-401C-9927-66317EBF80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8739A-84C5-484E-B15A-26145C6CA2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69274-778E-4398-BAB3-81A6BBC080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291960"/>
            <a:ext cx="8763120" cy="64191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5EA320-5E51-49AD-86DA-3005F3F48C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9249B-3968-4C70-8F5D-5062D3EE7C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4B9C5-7B10-4BF0-B3CB-1B8A72A5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5815C-0AE5-4B6C-AA88-2221C0950C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3ECDF-FA91-47A6-8C93-C896A855B7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1F4B9-B851-455B-A2C0-1E0A2A8E33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910EB6-36DD-4546-B92A-2726C3449B4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D22EC9-245B-41B3-808D-7807BFBCEC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8087-631A-4271-B573-526AF465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7E6C-79AA-46BA-8085-EEBBDE14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D56F-6B61-43E2-8B07-42B7FE730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91960"/>
            <a:ext cx="8763120" cy="64191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2B9E-1204-4933-9653-1E2D324AE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0910-0B5A-4FAA-8670-70D93EF5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062A-45EE-496B-9949-01BB1CB4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5316B-FEEC-4C0A-BBFE-B4BF99974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Click to edit the outline text format</a:t>
            </a:r>
            <a:endParaRPr b="0" lang="en-US" sz="1700" spc="-1" strike="noStrike">
              <a:solidFill>
                <a:srgbClr val="ffffff"/>
              </a:solidFill>
              <a:latin typeface="Tahoma"/>
            </a:endParaRPr>
          </a:p>
          <a:p>
            <a:pPr lvl="1" marL="743040" indent="-285840">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econd Outline Level</a:t>
            </a:r>
            <a:endParaRPr b="0" lang="en-US" sz="1700" spc="-1" strike="noStrike">
              <a:solidFill>
                <a:srgbClr val="ffffff"/>
              </a:solidFill>
              <a:latin typeface="Tahoma"/>
            </a:endParaRPr>
          </a:p>
          <a:p>
            <a:pPr lvl="2" marL="1143000" indent="-22860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hird Outline Level</a:t>
            </a:r>
            <a:endParaRPr b="0" lang="en-US" sz="1700" spc="-1" strike="noStrike">
              <a:solidFill>
                <a:srgbClr val="ffffff"/>
              </a:solidFill>
              <a:latin typeface="Tahoma"/>
            </a:endParaRPr>
          </a:p>
          <a:p>
            <a:pPr lvl="3" marL="1600200" indent="-228600">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Fourth Outline Level</a:t>
            </a:r>
            <a:endParaRPr b="0" lang="en-US" sz="1700" spc="-1" strike="noStrike">
              <a:solidFill>
                <a:srgbClr val="ffffff"/>
              </a:solidFill>
              <a:latin typeface="Tahoma"/>
            </a:endParaRPr>
          </a:p>
          <a:p>
            <a:pPr lvl="4" marL="2057400" indent="-228600">
              <a:spcBef>
                <a:spcPts val="4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Fifth Outline Level</a:t>
            </a:r>
            <a:endParaRPr b="0" lang="en-US" sz="1700" spc="-1" strike="noStrike">
              <a:solidFill>
                <a:srgbClr val="ffffff"/>
              </a:solidFill>
              <a:latin typeface="Tahoma"/>
            </a:endParaRPr>
          </a:p>
          <a:p>
            <a:pPr lvl="5" marL="2057400" indent="-228600">
              <a:spcBef>
                <a:spcPts val="4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ixth Outline Level</a:t>
            </a:r>
            <a:endParaRPr b="0" lang="en-US" sz="1700" spc="-1" strike="noStrike">
              <a:solidFill>
                <a:srgbClr val="ffffff"/>
              </a:solidFill>
              <a:latin typeface="Tahoma"/>
            </a:endParaRPr>
          </a:p>
          <a:p>
            <a:pPr lvl="6" marL="2057400" indent="-228600">
              <a:spcBef>
                <a:spcPts val="4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eventh Outline Level</a:t>
            </a:r>
            <a:endParaRPr b="0" lang="en-US" sz="17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BCAB-F4E8-4F98-A5E2-3FA3A1AEC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Click to edit the title text format</a:t>
            </a:r>
            <a:endParaRPr b="1" lang="en-US" sz="3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4D64-B5A5-416B-8544-DF56F05BA9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Click to edit the outline text format</a:t>
            </a:r>
            <a:endParaRPr b="0" lang="en-US" sz="1700" spc="-1" strike="noStrike">
              <a:solidFill>
                <a:srgbClr val="ffffff"/>
              </a:solidFill>
              <a:latin typeface="Tahom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ond Outline Level</a:t>
            </a:r>
            <a:endParaRPr b="0" lang="en-US" sz="1600" spc="-1" strike="noStrike">
              <a:solidFill>
                <a:srgbClr val="ffffff"/>
              </a:solidFill>
              <a:latin typeface="Tahoma"/>
            </a:endParaRPr>
          </a:p>
          <a:p>
            <a:pPr lvl="2" marL="914400" algn="ctr">
              <a:spcBef>
                <a:spcPts val="300"/>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rd Outline Level</a:t>
            </a:r>
            <a:endParaRPr b="0" lang="en-US" sz="1200" spc="-1" strike="noStrike">
              <a:solidFill>
                <a:srgbClr val="ffffff"/>
              </a:solidFill>
              <a:latin typeface="Tahoma"/>
            </a:endParaRPr>
          </a:p>
          <a:p>
            <a:pPr lvl="3" marL="1371600" algn="ctr">
              <a:spcBef>
                <a:spcPts val="2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ourth Outline Level</a:t>
            </a:r>
            <a:endParaRPr b="0" lang="en-US" sz="1000" spc="-1" strike="noStrike">
              <a:solidFill>
                <a:srgbClr val="ffffff"/>
              </a:solidFill>
              <a:latin typeface="Tahoma"/>
            </a:endParaRPr>
          </a:p>
          <a:p>
            <a:pPr lvl="4" marL="1828800" algn="ctr">
              <a:spcBef>
                <a:spcPts val="24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ifth Outline Level</a:t>
            </a:r>
            <a:endParaRPr b="0" lang="en-US" sz="1000" spc="-1" strike="noStrike">
              <a:solidFill>
                <a:srgbClr val="ffffff"/>
              </a:solidFill>
              <a:latin typeface="Tahoma"/>
            </a:endParaRPr>
          </a:p>
          <a:p>
            <a:pPr lvl="5" marL="1828800">
              <a:spcBef>
                <a:spcPts val="2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ixth Outline Level</a:t>
            </a:r>
            <a:endParaRPr b="0" lang="en-US" sz="1000" spc="-1" strike="noStrike">
              <a:solidFill>
                <a:srgbClr val="ffffff"/>
              </a:solidFill>
              <a:latin typeface="Tahoma"/>
            </a:endParaRPr>
          </a:p>
          <a:p>
            <a:pPr lvl="6" marL="1828800">
              <a:spcBef>
                <a:spcPts val="2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eventh Outline Level</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AMSA Developments in Clean Water Law Seminar</a:t>
            </a:r>
            <a:endParaRPr b="1" lang="en-US" sz="3400" spc="-1" strike="noStrike">
              <a:solidFill>
                <a:srgbClr val="ffffff"/>
              </a:solidFill>
              <a:latin typeface="Tahoma"/>
            </a:endParaRPr>
          </a:p>
        </p:txBody>
      </p:sp>
      <p:sp>
        <p:nvSpPr>
          <p:cNvPr id="84"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t>
            </a:r>
            <a:r>
              <a:rPr b="0" lang="en-US" sz="2500" spc="-1" strike="noStrike">
                <a:solidFill>
                  <a:srgbClr val="ffffff"/>
                </a:solidFill>
                <a:latin typeface="Tahoma"/>
              </a:rPr>
              <a:t>Key Clean Water &amp; Administrative Law Developments”</a:t>
            </a:r>
            <a:endParaRPr b="0" lang="en-US" sz="2500" spc="-1" strike="noStrike">
              <a:solidFill>
                <a:srgbClr val="ffffff"/>
              </a:solidFill>
              <a:latin typeface="Tahom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Presented by D. Randall Benn</a:t>
            </a:r>
            <a:endParaRPr b="0" lang="en-US" sz="2500" spc="-1" strike="noStrike">
              <a:solidFill>
                <a:srgbClr val="ffffff"/>
              </a:solidFill>
              <a:latin typeface="Tahom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LeBoeuf, Lamb, Greene &amp; MacRae, L.L.P.</a:t>
            </a:r>
            <a:endParaRPr b="0" lang="en-US" sz="2500" spc="-1" strike="noStrike">
              <a:solidFill>
                <a:srgbClr val="ffffff"/>
              </a:solidFill>
              <a:latin typeface="Tahoma"/>
            </a:endParaRPr>
          </a:p>
        </p:txBody>
      </p:sp>
      <p:sp>
        <p:nvSpPr>
          <p:cNvPr id="4" name="PlaceHolder 3"/>
          <p:cNvSpPr>
            <a:spLocks noGrp="1"/>
          </p:cNvSpPr>
          <p:nvPr>
            <p:ph type="sldNum" idx="5"/>
          </p:nvPr>
        </p:nvSpPr>
        <p:spPr/>
        <p:txBody>
          <a:bodyPr/>
          <a:p>
            <a:fld id="{6B62142B-CF73-44F3-AA87-00436E3EBFE6}"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American Canoe Association v. </a:t>
            </a:r>
            <a:br>
              <a:rPr sz="3400"/>
            </a:br>
            <a:r>
              <a:rPr b="0" i="1" lang="en-US" sz="3400" spc="-1" strike="noStrike">
                <a:solidFill>
                  <a:srgbClr val="ffffff"/>
                </a:solidFill>
                <a:latin typeface="Tahoma"/>
              </a:rPr>
              <a:t>District of Columbia Water </a:t>
            </a:r>
            <a:br>
              <a:rPr sz="3400"/>
            </a:br>
            <a:r>
              <a:rPr b="0" i="1" lang="en-US" sz="3400" spc="-1" strike="noStrike">
                <a:solidFill>
                  <a:srgbClr val="ffffff"/>
                </a:solidFill>
                <a:latin typeface="Tahoma"/>
              </a:rPr>
              <a:t>and Sewer Authority</a:t>
            </a:r>
            <a:endParaRPr b="0" lang="en-US" sz="3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iffs argued that WASA was in violation of its NPDES permit based on intermittent odors from one of its sewer lin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of Columbia District Court found that citizen suits under the CWA cannot be used to enforce complaints about odor, noise or other non-water quality issu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held that to allow extrinsic conditions to be “implied” into a NPDES permit would “open the floodgates” to nuisance claims that should be decided under State law.</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0FE2DD0-8859-4BBE-B9E5-481AD940A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Friends of Milwaukee’s Rivers v. </a:t>
            </a:r>
            <a:br>
              <a:rPr sz="3400"/>
            </a:br>
            <a:r>
              <a:rPr b="0" i="1" lang="en-US" sz="3400" spc="-1" strike="noStrike">
                <a:solidFill>
                  <a:srgbClr val="ffffff"/>
                </a:solidFill>
                <a:latin typeface="Tahoma"/>
              </a:rPr>
              <a:t>Milwaukee Metropolitan Sewerage </a:t>
            </a:r>
            <a:br>
              <a:rPr sz="3400"/>
            </a:br>
            <a:r>
              <a:rPr b="0" i="1" lang="en-US" sz="3400" spc="-1" strike="noStrike">
                <a:solidFill>
                  <a:srgbClr val="ffffff"/>
                </a:solidFill>
                <a:latin typeface="Tahoma"/>
              </a:rPr>
              <a:t>District</a:t>
            </a:r>
            <a:endParaRPr b="0" lang="en-US" sz="3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environmental groups filed a citizen suit against the Milwaukee Metropolitan Sewerage District alleging violations of the CWA.  On the same day, the State of Wisconsin filed a suit in state court which ultimately settled.</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found that the non-judicial settlement action taken by the State of Wisconsin did not amount to an “administrative action” barring the citizen suit under the CWA because the State did not provide proper opportunity for public notice and participation.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also found that the State’s action was not a “diligent prosecution” within meaning of the CW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720E967-3D5C-4EFE-A00A-5B441FD4E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Natural Resources Defense Council v. Washington Suburban Sanitary Commission</a:t>
            </a:r>
            <a:r>
              <a:rPr b="0" lang="en-US" sz="1700" spc="-1" strike="noStrike">
                <a:solidFill>
                  <a:srgbClr val="ffffff"/>
                </a:solidFill>
                <a:latin typeface="Tahoma"/>
              </a:rPr>
              <a:t> – Several environmental groups have filed a citizen suit against the Washington Suburban Sanitary Commission charging WSSC with CSO violations.  No action yet by the trial court.</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Sierra Club v. EPA</a:t>
            </a:r>
            <a:r>
              <a:rPr b="0" lang="en-US" sz="1700" spc="-1" strike="noStrike">
                <a:solidFill>
                  <a:srgbClr val="ffffff"/>
                </a:solidFill>
                <a:latin typeface="Tahoma"/>
              </a:rPr>
              <a:t> – Several environmental groups have filed a citizen suit against the EPA seeking to compel the EPA to withdraw its delegation to the Florida Department of Environmental Protection based on the alleged failure of the state agency to administer the CWA program.</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Waterkeepers Northern California v. AG Industrial Manufacturing</a:t>
            </a:r>
            <a:r>
              <a:rPr b="0" lang="en-US" sz="1700" spc="-1" strike="noStrike">
                <a:solidFill>
                  <a:srgbClr val="ffffff"/>
                </a:solidFill>
                <a:latin typeface="Tahoma"/>
              </a:rPr>
              <a:t> – The Ninth Circuit allowed a citizen suit to proceed after the lower court dismissed for insufficient notice in the plaintiffs’ original intent-to-sue letter.</a:t>
            </a:r>
            <a:endParaRPr b="0" lang="en-US" sz="1700" spc="-1" strike="noStrike">
              <a:solidFill>
                <a:srgbClr val="ffffff"/>
              </a:solidFill>
              <a:latin typeface="Tahom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sldNum" idx="3"/>
          </p:nvPr>
        </p:nvSpPr>
        <p:spPr/>
        <p:txBody>
          <a:bodyPr/>
          <a:p>
            <a:fld id="{08F7C477-A258-4018-8127-A8E33EDC2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380880"/>
            <a:ext cx="7802640" cy="5145120"/>
          </a:xfrm>
          <a:prstGeom prst="rect">
            <a:avLst/>
          </a:prstGeom>
          <a:ln w="0">
            <a:noFill/>
          </a:ln>
        </p:spPr>
      </p:pic>
      <p:sp>
        <p:nvSpPr>
          <p:cNvPr id="106" name="PlaceHolder 1"/>
          <p:cNvSpPr>
            <a:spLocks noGrp="1"/>
          </p:cNvSpPr>
          <p:nvPr>
            <p:ph type="subTitle"/>
          </p:nvPr>
        </p:nvSpPr>
        <p:spPr>
          <a:xfrm>
            <a:off x="1219320" y="5790960"/>
            <a:ext cx="6400800" cy="53316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EPA Regulation</a:t>
            </a:r>
            <a:endParaRPr b="0" lang="en-US" sz="3400" spc="-1" strike="noStrike">
              <a:solidFill>
                <a:srgbClr val="ffffff"/>
              </a:solidFill>
              <a:latin typeface="Tahoma"/>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3B026DA2-B0F6-42F0-8ECF-C46BFBE0A4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Texas Cities Coalition on </a:t>
            </a:r>
            <a:br>
              <a:rPr sz="3400"/>
            </a:br>
            <a:r>
              <a:rPr b="0" i="1" lang="en-US" sz="3400" spc="-1" strike="noStrike">
                <a:solidFill>
                  <a:srgbClr val="ffffff"/>
                </a:solidFill>
                <a:latin typeface="Tahoma"/>
              </a:rPr>
              <a:t>Stormwater v. EPA</a:t>
            </a:r>
            <a:endParaRPr b="0" lang="en-US" sz="3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a:t>
            </a:r>
            <a:r>
              <a:rPr b="0" i="1" lang="en-US" sz="2000" spc="-1" strike="noStrike">
                <a:solidFill>
                  <a:srgbClr val="ffffff"/>
                </a:solidFill>
                <a:latin typeface="Tahoma"/>
              </a:rPr>
              <a:t>Environmental Defense Center Inc. v. EPA</a:t>
            </a:r>
            <a:r>
              <a:rPr b="0" lang="en-US" sz="2000" spc="-1" strike="noStrike">
                <a:solidFill>
                  <a:srgbClr val="ffffff"/>
                </a:solidFill>
                <a:latin typeface="Tahoma"/>
              </a:rPr>
              <a:t>, the Ninth Circuit had found, among other things, that removing pollutants to the maximum extent practicable using best management practices is the only federal standard with which MS4 NPDES permits must comply under the CWA – not numeric effluent limitations to meet water quality standard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 has denied certiorari in this case, meaning that the Ninth Circuit opinion has been left in plac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058E4FE-89A9-45E8-B1C9-A30EED45D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In re: USGen New England, Inc.</a:t>
            </a:r>
            <a:br>
              <a:rPr sz="3400"/>
            </a:br>
            <a:endParaRPr b="0" lang="en-US" sz="3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Gen challenged the thermal conditions set forth in its NPDES permit, and the Environmental Appeals Board denied the request for an evidentiary hearing.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ard found that the request for a hearing was in fact a challenge of EPA’s 2000 amendments streamlining the permit procedure (and essentially eliminating the evidentiary hearing requirement).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the Board did not find “extremely compelling” circumstances to warrant a challenge to the validity of the regulations in the context of a permit appeal, the request was denied.</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0D6D69A-E61C-4A4F-8B47-F9BBF08C8F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 of Interest</a:t>
            </a:r>
            <a:endParaRPr b="0" lang="en-US" sz="3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Riverkeeper, Inc. v. EPA</a:t>
            </a:r>
            <a:r>
              <a:rPr b="0" lang="en-US" sz="1700" spc="-1" strike="noStrike">
                <a:solidFill>
                  <a:srgbClr val="ffffff"/>
                </a:solidFill>
                <a:latin typeface="Tahoma"/>
              </a:rPr>
              <a:t> – The Second Circuit upheld most parts of the EPA’s Final Rule designed to limit adverse environmental impact by cooling water intake structures, finding that the EPA did not exceed its authority in promulgating the Final Rule.  </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laintiffs argued that the rule was too vague and unsupported by the record.</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he Court showed deference and found that the regulations were based on a reasonable interpretation of the CWA.</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he Court did remand one aspect of the Final Rule – the regulation allowed facilities to entrain any number of organisms provided that it takes other steps that compensate for those losses in the ecosystem – and the Court found this inconsistent with the CWA and remanded that aspect of the regulation. </a:t>
            </a:r>
            <a:endParaRPr b="0" lang="en-US" sz="1700" spc="-1" strike="noStrike">
              <a:solidFill>
                <a:srgbClr val="ffffff"/>
              </a:solidFill>
              <a:latin typeface="Tahom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sldNum" idx="3"/>
          </p:nvPr>
        </p:nvSpPr>
        <p:spPr/>
        <p:txBody>
          <a:bodyPr/>
          <a:p>
            <a:fld id="{8658A601-121D-4A9F-8506-089E5E155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676520" y="304920"/>
            <a:ext cx="5929200" cy="4500360"/>
          </a:xfrm>
          <a:prstGeom prst="rect">
            <a:avLst/>
          </a:prstGeom>
          <a:ln w="0">
            <a:noFill/>
          </a:ln>
        </p:spPr>
      </p:pic>
      <p:sp>
        <p:nvSpPr>
          <p:cNvPr id="114"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tanding/Mootness/</a:t>
            </a:r>
            <a:br>
              <a:rPr sz="3400"/>
            </a:br>
            <a:r>
              <a:rPr b="0" lang="en-US" sz="3400" spc="-1" strike="noStrike">
                <a:solidFill>
                  <a:srgbClr val="000000"/>
                </a:solidFill>
                <a:latin typeface="Tahoma"/>
              </a:rPr>
              <a:t>Reviewability/Notice</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B44FBC6F-4DEA-48C0-B250-9ED27737EA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Florida Public Interest Research</a:t>
            </a:r>
            <a:br>
              <a:rPr sz="3400"/>
            </a:br>
            <a:r>
              <a:rPr b="0" i="1" lang="en-US" sz="3400" spc="-1" strike="noStrike">
                <a:solidFill>
                  <a:srgbClr val="ffffff"/>
                </a:solidFill>
                <a:latin typeface="Tahoma"/>
              </a:rPr>
              <a:t>Group Citizen Lobby v. EPA</a:t>
            </a:r>
            <a:endParaRPr b="0" lang="en-US" sz="3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iffs argued that the Florida Department of Environmental Protection’s “Impaired Waters” Rule effectively changed the state’s water quality standards.  Plaintiffs brought suit against the EPA for failure to properly review the Rul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court granted summary judgment to EPA, finding that the Impaired Water Rules had not established new or modified standards, and therefore the EPA did not have a nondiscretionary duty to review the Rul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reversed and remanded the issu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BC77EDD-2FBE-4EEF-96A3-035CAF25BB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Florida Public Interest Research </a:t>
            </a:r>
            <a:br>
              <a:rPr sz="3400"/>
            </a:br>
            <a:r>
              <a:rPr b="0" i="1" lang="en-US" sz="3400" spc="-1" strike="noStrike">
                <a:solidFill>
                  <a:srgbClr val="ffffff"/>
                </a:solidFill>
                <a:latin typeface="Tahoma"/>
              </a:rPr>
              <a:t>Group Citizen Lobby v. EPA</a:t>
            </a:r>
            <a:br>
              <a:rPr sz="3400"/>
            </a:br>
            <a:r>
              <a:rPr b="0" lang="en-US" sz="3400" spc="-1" strike="noStrike">
                <a:solidFill>
                  <a:srgbClr val="ffffff"/>
                </a:solidFill>
                <a:latin typeface="Tahoma"/>
              </a:rPr>
              <a:t>(continued)</a:t>
            </a:r>
            <a:endParaRPr b="0" lang="en-US" sz="3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found that the plaintiffs did have standing and dismissed the EPA’s procedural argument that the case had become moot, finding that a subsequent review by the EPA was done at a different (and not as comprehensive) standard.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found that the lower court had simply accepted at face value the language in the Impaired Waters Rule that the regulation did not change water quality standards.  The Court remanded so the lower court could independently determine whether the Impaired Waters Rule had the effect of loosening state water quality standard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5459989-2F34-4065-B4F5-436D80BF7E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47920" y="1676520"/>
            <a:ext cx="6095880" cy="4190760"/>
          </a:xfrm>
          <a:prstGeom prst="rect">
            <a:avLst/>
          </a:prstGeom>
          <a:ln w="0">
            <a:noFill/>
          </a:ln>
        </p:spPr>
      </p:pic>
      <p:sp>
        <p:nvSpPr>
          <p:cNvPr id="2" name="PlaceHolder 1"/>
          <p:cNvSpPr>
            <a:spLocks noGrp="1"/>
          </p:cNvSpPr>
          <p:nvPr>
            <p:ph type="sldNum" idx="3"/>
          </p:nvPr>
        </p:nvSpPr>
        <p:spPr/>
        <p:txBody>
          <a:bodyPr/>
          <a:p>
            <a:fld id="{713C6643-66D0-4A6B-ACD6-0678527115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Pennsylvania Municipal Authorities Association v. Horinko</a:t>
            </a:r>
            <a:endParaRPr b="0" lang="en-US" sz="3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of Columbia District Court dismissed a suit brought by several municipal authorities (including AMSA as a plaintiff-intervenor) against EPA which challenged inconsistent position on blending and permitting of SSO points and the lack of an appropriate standard for SSO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found that EPA regional guidance documents on NPDES permits are not “final agency actions” and therefore not judicially reviewable.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ly once a POTW has been denied a permit by a state or EPA region or issued a permit banning blending would it be deemed to have suffered enough tangible legal injury to bring a claim.</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31D7E41-228D-4953-B039-3D78FDB12D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Norton v. Southern Utah </a:t>
            </a:r>
            <a:br>
              <a:rPr sz="3400"/>
            </a:br>
            <a:r>
              <a:rPr b="0" i="1" lang="en-US" sz="3400" spc="-1" strike="noStrike">
                <a:solidFill>
                  <a:srgbClr val="ffffff"/>
                </a:solidFill>
                <a:latin typeface="Tahoma"/>
              </a:rPr>
              <a:t>Wilderness Alliance</a:t>
            </a:r>
            <a:endParaRPr b="0" lang="en-US" sz="3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706(1) of the APA allows courts to “compel agency action unlawfully withheld or unreasonably delayed.”</a:t>
            </a:r>
            <a:endParaRPr b="0" lang="en-US" sz="2000" spc="-1" strike="noStrike">
              <a:solidFill>
                <a:srgbClr val="ffffff"/>
              </a:solidFill>
              <a:latin typeface="Tahoma"/>
            </a:endParaRPr>
          </a:p>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environmental groups sought an order under 706(1) to compel the Department of Interior to protect wilderness areas from damage caused by Off-Road Vehicles.  The Tenth Circuit had allowed the claim.</a:t>
            </a:r>
            <a:endParaRPr b="0" lang="en-US" sz="2000" spc="-1" strike="noStrike">
              <a:solidFill>
                <a:srgbClr val="ffffff"/>
              </a:solidFill>
              <a:latin typeface="Tahoma"/>
            </a:endParaRPr>
          </a:p>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 reversed, holding that the plaintiffs claims are not actionable under the APA.  Section 706(1) claims may only proceed where the plaintiff claims that the agency failed to take a discrete agency action that it is required to take.  The Court found that Section 706(1) could not be used to challenge agency methodology when the agency has considerable discretion in deciding how to achieve a statutory go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1674029-30A3-4035-A6FA-66DA20DEF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ilor v. City of Maynardville</a:t>
            </a:r>
            <a:r>
              <a:rPr b="0" lang="en-US" sz="2000" spc="-1" strike="noStrike">
                <a:solidFill>
                  <a:srgbClr val="ffffff"/>
                </a:solidFill>
                <a:latin typeface="Tahoma"/>
              </a:rPr>
              <a:t> – The Sixth Circuit found that when the relief available to plaintiffs under the CWA has already been granted as part of another proceeding, a citizen suit for such relief would be moot.</a:t>
            </a:r>
            <a:endParaRPr b="0" lang="en-US" sz="2000" spc="-1" strike="noStrike">
              <a:solidFill>
                <a:srgbClr val="ffffff"/>
              </a:solidFill>
              <a:latin typeface="Tahoma"/>
            </a:endParaRPr>
          </a:p>
          <a:p>
            <a:pPr marL="312120" indent="-31212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National Association of Home Builders v. U.S. Army Corps of Engineers</a:t>
            </a:r>
            <a:r>
              <a:rPr b="0" lang="en-US" sz="2000" spc="-1" strike="noStrike">
                <a:solidFill>
                  <a:srgbClr val="ffffff"/>
                </a:solidFill>
                <a:latin typeface="Tahoma"/>
              </a:rPr>
              <a:t> – The District of Columbia District Court found a challenge to the EPA/COE Rule redefining “discharge of dredged materials” was unripe, arguing that until the Final Rule was applied to a set of facts, the issue was nonjusticiable.</a:t>
            </a:r>
            <a:endParaRPr b="0" lang="en-US" sz="2000" spc="-1" strike="noStrike">
              <a:solidFill>
                <a:srgbClr val="ffffff"/>
              </a:solidFill>
              <a:latin typeface="Tahoma"/>
            </a:endParaRPr>
          </a:p>
          <a:p>
            <a:pPr marL="312120" indent="-31212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merican Canoe Association, Inc. v. City of Attalla</a:t>
            </a:r>
            <a:r>
              <a:rPr b="0" lang="en-US" sz="2000" spc="-1" strike="noStrike">
                <a:solidFill>
                  <a:srgbClr val="ffffff"/>
                </a:solidFill>
                <a:latin typeface="Tahoma"/>
              </a:rPr>
              <a:t> – The Eleventh Circuit upheld a lower court decision applying Federal Rule of Civil Procedure 6(a) to compute the 60-day notice period under Section 505(b) of the CWA.  Based on this computational rule, the plaintiffs’ citizen suit was prematurely filed, and therefore, dismissed.</a:t>
            </a:r>
            <a:endParaRPr b="0" lang="en-US" sz="2000" spc="-1" strike="noStrike">
              <a:solidFill>
                <a:srgbClr val="ffffff"/>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5C411E6-3FF5-4FD6-BB01-64F77EE10D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209680" y="228600"/>
            <a:ext cx="4900680" cy="5143680"/>
          </a:xfrm>
          <a:prstGeom prst="rect">
            <a:avLst/>
          </a:prstGeom>
          <a:ln w="0">
            <a:noFill/>
          </a:ln>
        </p:spPr>
      </p:pic>
      <p:sp>
        <p:nvSpPr>
          <p:cNvPr id="126" name="PlaceHolder 1"/>
          <p:cNvSpPr>
            <a:spLocks noGrp="1"/>
          </p:cNvSpPr>
          <p:nvPr>
            <p:ph type="subTitle"/>
          </p:nvPr>
        </p:nvSpPr>
        <p:spPr>
          <a:xfrm>
            <a:off x="1371600" y="5638320"/>
            <a:ext cx="6400800" cy="68580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enaltie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9CDD36EA-36AD-48BD-9E00-D440BEE99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United States v. Allegheny Ludlum Corporation</a:t>
            </a:r>
            <a:endParaRPr b="0" lang="en-US" sz="3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vernment brought an action against the defendant alleging violations of the CWA.  The lower court found for the government.</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appeal, defendants argued that it should have been allowed to show that laboratory error caused the manufacturer to over-report certain of its discharges (the “laboratory error defense”).  The Third Circuit agreed and found the laboratory error defense appropriate.</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Circuit determined that the proper method for determining the economic benefit from unlawful charges is to base the calculation on the least costly method of compliance.  </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held that lower courts have the discretion to determine how many violation days should be assessed for penalty purposes for the violation of a monthly average limit.</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7655932-83B7-4F86-A417-32D796174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590920" y="1828800"/>
            <a:ext cx="3352680" cy="3200400"/>
          </a:xfrm>
          <a:prstGeom prst="rect">
            <a:avLst/>
          </a:prstGeom>
          <a:ln w="0">
            <a:noFill/>
          </a:ln>
        </p:spPr>
      </p:pic>
      <p:sp>
        <p:nvSpPr>
          <p:cNvPr id="2" name="PlaceHolder 1"/>
          <p:cNvSpPr>
            <a:spLocks noGrp="1"/>
          </p:cNvSpPr>
          <p:nvPr>
            <p:ph type="sldNum" idx="3"/>
          </p:nvPr>
        </p:nvSpPr>
        <p:spPr/>
        <p:txBody>
          <a:bodyPr/>
          <a:p>
            <a:fld id="{ECBD487F-7809-4883-B8FD-460C317CC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8280" y="1523880"/>
            <a:ext cx="3962520" cy="2971800"/>
          </a:xfrm>
          <a:prstGeom prst="rect">
            <a:avLst/>
          </a:prstGeom>
          <a:ln w="0">
            <a:noFill/>
          </a:ln>
        </p:spPr>
      </p:pic>
      <p:sp>
        <p:nvSpPr>
          <p:cNvPr id="2" name="PlaceHolder 1"/>
          <p:cNvSpPr>
            <a:spLocks noGrp="1"/>
          </p:cNvSpPr>
          <p:nvPr>
            <p:ph type="sldNum" idx="3"/>
          </p:nvPr>
        </p:nvSpPr>
        <p:spPr/>
        <p:txBody>
          <a:bodyPr/>
          <a:p>
            <a:fld id="{4464906D-3F72-468C-AB30-9E774D4FFC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743200" y="1676520"/>
            <a:ext cx="3962520" cy="2971800"/>
          </a:xfrm>
          <a:prstGeom prst="rect">
            <a:avLst/>
          </a:prstGeom>
          <a:ln w="0">
            <a:noFill/>
          </a:ln>
        </p:spPr>
      </p:pic>
      <p:sp>
        <p:nvSpPr>
          <p:cNvPr id="2" name="PlaceHolder 1"/>
          <p:cNvSpPr>
            <a:spLocks noGrp="1"/>
          </p:cNvSpPr>
          <p:nvPr>
            <p:ph type="sldNum" idx="3"/>
          </p:nvPr>
        </p:nvSpPr>
        <p:spPr/>
        <p:txBody>
          <a:bodyPr/>
          <a:p>
            <a:fld id="{178AD27C-C33D-4D78-925C-3814329FF6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143000"/>
            <a:ext cx="5105160" cy="3809880"/>
          </a:xfrm>
          <a:prstGeom prst="rect">
            <a:avLst/>
          </a:prstGeom>
          <a:ln w="0">
            <a:noFill/>
          </a:ln>
        </p:spPr>
      </p:pic>
      <p:sp>
        <p:nvSpPr>
          <p:cNvPr id="2" name="PlaceHolder 1"/>
          <p:cNvSpPr>
            <a:spLocks noGrp="1"/>
          </p:cNvSpPr>
          <p:nvPr>
            <p:ph type="sldNum" idx="3"/>
          </p:nvPr>
        </p:nvSpPr>
        <p:spPr/>
        <p:txBody>
          <a:bodyPr/>
          <a:p>
            <a:fld id="{03F8E92D-DDB8-4B1C-9D98-899C8C4D62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76520" y="1066680"/>
            <a:ext cx="5886360" cy="4488120"/>
          </a:xfrm>
          <a:prstGeom prst="rect">
            <a:avLst/>
          </a:prstGeom>
          <a:ln w="0">
            <a:noFill/>
          </a:ln>
        </p:spPr>
      </p:pic>
      <p:sp>
        <p:nvSpPr>
          <p:cNvPr id="2" name="PlaceHolder 1"/>
          <p:cNvSpPr>
            <a:spLocks noGrp="1"/>
          </p:cNvSpPr>
          <p:nvPr>
            <p:ph type="sldNum" idx="3"/>
          </p:nvPr>
        </p:nvSpPr>
        <p:spPr/>
        <p:txBody>
          <a:bodyPr/>
          <a:p>
            <a:fld id="{B39F690E-96BA-40CD-8CD4-D83188F07B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3960"/>
            <a:ext cx="10058400" cy="6931080"/>
          </a:xfrm>
          <a:prstGeom prst="rect">
            <a:avLst/>
          </a:prstGeom>
          <a:ln w="0">
            <a:noFill/>
          </a:ln>
        </p:spPr>
      </p:pic>
      <p:sp>
        <p:nvSpPr>
          <p:cNvPr id="2" name="PlaceHolder 1"/>
          <p:cNvSpPr>
            <a:spLocks noGrp="1"/>
          </p:cNvSpPr>
          <p:nvPr>
            <p:ph type="sldNum" idx="3"/>
          </p:nvPr>
        </p:nvSpPr>
        <p:spPr/>
        <p:txBody>
          <a:bodyPr/>
          <a:p>
            <a:fld id="{67BAF243-1182-41C0-ACAF-4A7980D83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United States v. Snook</a:t>
            </a:r>
            <a:r>
              <a:rPr b="0" lang="en-US" sz="2000" spc="-1" strike="noStrike">
                <a:solidFill>
                  <a:srgbClr val="ffffff"/>
                </a:solidFill>
                <a:latin typeface="Tahoma"/>
              </a:rPr>
              <a:t> – The Seventh Circuit allowed a two-level increase in offense level under the USSGs based on a defendant’s abuse of a position of trus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United States v. Perez</a:t>
            </a:r>
            <a:r>
              <a:rPr b="0" lang="en-US" sz="2000" spc="-1" strike="noStrike">
                <a:solidFill>
                  <a:srgbClr val="ffffff"/>
                </a:solidFill>
                <a:latin typeface="Tahoma"/>
              </a:rPr>
              <a:t> – The Eleventh Circuit allowed a four-level increase in offense under the USSGs finding that the enhancement rules applied to all pollutants.  The Court also found that a defendant’s failure to procure a permit was a distinct offense from the “mishandling” of environmental pollutants, and therefore, each warranted its own enhancement.</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0266B2D-0C59-406F-843C-17FDC7EB33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85800" y="380880"/>
            <a:ext cx="7620120" cy="4927680"/>
          </a:xfrm>
          <a:prstGeom prst="rect">
            <a:avLst/>
          </a:prstGeom>
          <a:ln w="0">
            <a:noFill/>
          </a:ln>
        </p:spPr>
      </p:pic>
      <p:sp>
        <p:nvSpPr>
          <p:cNvPr id="137" name="PlaceHolder 1"/>
          <p:cNvSpPr>
            <a:spLocks noGrp="1"/>
          </p:cNvSpPr>
          <p:nvPr>
            <p:ph type="subTitle"/>
          </p:nvPr>
        </p:nvSpPr>
        <p:spPr>
          <a:xfrm>
            <a:off x="1371600" y="5410080"/>
            <a:ext cx="6400800" cy="99072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ttorney Fee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41513A81-7582-49AC-923C-E31ED0D93A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Sierra Club v. City of Little Rock</a:t>
            </a:r>
            <a:endParaRPr b="0" lang="en-US" sz="3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erra Club sued City in District Court for alleged SSO violations.  In partial, District Court found City violated its SSO permit and awarded SC 50% of its attorney fees.  The Court found for the City on the issue of whether the City followed its comprehensive master planning process, but denied the City’s request for expert witness fees.</a:t>
            </a:r>
            <a:endParaRPr b="0" lang="en-US" sz="20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ighth Circuit reversed a grant of attorney’s fees to the Sierra Club.  The Court found that the Sierra Club itself did not receive “actual relief” from the defendants (the Sierra Club “only” received a declaration that the defendant violated its permit) and therefore it was not a “prevailing party.”</a:t>
            </a:r>
            <a:endParaRPr b="0" lang="en-US" sz="20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also denied the City’s request for expert fees, finding that Sierra Club’s action was not “frivolous, unreasonable or without foundation.”</a:t>
            </a:r>
            <a:endParaRPr b="0" lang="en-US" sz="2000" spc="-1" strike="noStrike">
              <a:solidFill>
                <a:srgbClr val="ffffff"/>
              </a:solidFill>
              <a:latin typeface="Tahoma"/>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EE6AD3C-DC7B-4576-B9D4-5FCA6E3E669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 of Interest</a:t>
            </a:r>
            <a:endParaRPr b="0" lang="en-US" sz="3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erra Club v. Hankinson</a:t>
            </a:r>
            <a:r>
              <a:rPr b="0" lang="en-US" sz="2000" spc="-1" strike="noStrike">
                <a:solidFill>
                  <a:srgbClr val="ffffff"/>
                </a:solidFill>
                <a:latin typeface="Tahoma"/>
              </a:rPr>
              <a:t> – The Eleventh Circuit upheld a grant of attorney’s fees to the Sierra Club for monitoring EPA compliance with a consent decre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West Virginia Rivers Coalition v. EPA</a:t>
            </a:r>
            <a:r>
              <a:rPr b="0" lang="en-US" sz="2000" spc="-1" strike="noStrike">
                <a:solidFill>
                  <a:srgbClr val="ffffff"/>
                </a:solidFill>
                <a:latin typeface="Tahoma"/>
              </a:rPr>
              <a:t> – The WVRC brought a claim against the EPA under the APA arguing that the EPA’s approval of certain WQS adopted by WV was arbitrary, capricious and an abuse of discretion.  The Court upheld EPA’s action re: a majority of the WQSs but nonetheless found that WVRC was entitled to attorney fee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9988FC0-1A5D-4B72-B1D2-39608488AE6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152280"/>
            <a:ext cx="8127720" cy="5257800"/>
          </a:xfrm>
          <a:prstGeom prst="rect">
            <a:avLst/>
          </a:prstGeom>
          <a:ln w="0">
            <a:noFill/>
          </a:ln>
        </p:spPr>
      </p:pic>
      <p:sp>
        <p:nvSpPr>
          <p:cNvPr id="143" name="PlaceHolder 1"/>
          <p:cNvSpPr>
            <a:spLocks noGrp="1"/>
          </p:cNvSpPr>
          <p:nvPr>
            <p:ph type="subTitle"/>
          </p:nvPr>
        </p:nvSpPr>
        <p:spPr>
          <a:xfrm>
            <a:off x="1371600" y="5333760"/>
            <a:ext cx="6400800" cy="10666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Local Laws and Regulation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7730CF5E-CE64-47EB-BFDD-1E835D5B18B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United States v. Wayne County</a:t>
            </a:r>
            <a:endParaRPr b="0" lang="en-US" sz="3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rtain signatories to a consent decree sought to amend the decree based on changed circumstance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xth Circuit denied the request, finding that the problem in question, basement flooding from extreme rainfall, had not only been anticipated, but that the new system under the original decree had not yet been given a chance to correct the problem.</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xth Circuit also rejected the argument that changes in state laws (which potentially increased liability of certain parties) could serve as a basis for modifying the consent decre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8F532D0-937C-4C5A-8331-66186BB8B7B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 of Interest</a:t>
            </a:r>
            <a:endParaRPr b="0" lang="en-US" sz="3400" spc="-1" strike="noStrike">
              <a:solidFill>
                <a:srgbClr val="ffffff"/>
              </a:solidFill>
              <a:latin typeface="Tahoma"/>
            </a:endParaRPr>
          </a:p>
        </p:txBody>
      </p:sp>
      <p:sp>
        <p:nvSpPr>
          <p:cNvPr id="147"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fontScale="89000"/>
          </a:bodyPr>
          <a:p>
            <a:pPr marL="305280" indent="-3052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United States v. Government of the Virgin Islands</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vernment of the Virgin Islands (“GVI”) had been found in violation of several CWA consent decrees with the US.  The district court entered an order enjoining GVI from proceeding with its contracts for cleanup and required GVI to deposit certain funds into a trust account to assure future repairs etc.</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Circuit upheld the lower court’s jurisdictional reach, finding that the court had authority to act based on the existence of the consent decree. The Court also found the requirements established by the district court were within its broad authority and not an abuse of discretion.  </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Circuit did set aside the lower court’s requirement that GVI deposit additional money into its trust fund.  The Court vacated that portion of the order because the amount was not among the relief requested by the US and was $4 million more than had previously been estimated for cleanup costs.</a:t>
            </a:r>
            <a:endParaRPr b="0" lang="en-US" sz="2000" spc="-1" strike="noStrike">
              <a:solidFill>
                <a:srgbClr val="ffff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6E6DDA0-BF28-48B8-A916-4590B8F7254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47920" y="457200"/>
            <a:ext cx="6095880" cy="4572000"/>
          </a:xfrm>
          <a:prstGeom prst="rect">
            <a:avLst/>
          </a:prstGeom>
          <a:ln w="0">
            <a:noFill/>
          </a:ln>
        </p:spPr>
      </p:pic>
      <p:sp>
        <p:nvSpPr>
          <p:cNvPr id="149" name="PlaceHolder 1"/>
          <p:cNvSpPr>
            <a:spLocks noGrp="1"/>
          </p:cNvSpPr>
          <p:nvPr>
            <p:ph type="subTitle"/>
          </p:nvPr>
        </p:nvSpPr>
        <p:spPr>
          <a:xfrm>
            <a:off x="1371600" y="5257800"/>
            <a:ext cx="6400800" cy="137160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merging Issue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D0EDDF22-A291-491D-81A3-B6B008A9CE0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User Charges &amp; Private CWA Cause of Action</a:t>
            </a:r>
            <a:endParaRPr b="0" lang="en-US" sz="3400" spc="-1" strike="noStrike">
              <a:solidFill>
                <a:srgbClr val="ffffff"/>
              </a:solidFill>
              <a:latin typeface="Tahoma"/>
            </a:endParaRPr>
          </a:p>
        </p:txBody>
      </p:sp>
      <p:sp>
        <p:nvSpPr>
          <p:cNvPr id="151" name="PlaceHolder 2"/>
          <p:cNvSpPr>
            <a:spLocks noGrp="1"/>
          </p:cNvSpPr>
          <p:nvPr>
            <p:ph/>
          </p:nvPr>
        </p:nvSpPr>
        <p:spPr>
          <a:xfrm>
            <a:off x="457200" y="990720"/>
            <a:ext cx="8229600" cy="4495680"/>
          </a:xfrm>
          <a:prstGeom prst="rect">
            <a:avLst/>
          </a:prstGeom>
          <a:noFill/>
          <a:ln w="0">
            <a:noFill/>
          </a:ln>
        </p:spPr>
        <p:txBody>
          <a:bodyPr lIns="90000" rIns="90000" tIns="46800" bIns="46800" anchor="t">
            <a:normAutofit fontScale="84000"/>
          </a:bodyPr>
          <a:p>
            <a:pPr marL="288000" indent="-2880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empleton Board of Sewer Commissioners v. American Tissue Mills of Massachusetts, Inc</a:t>
            </a:r>
            <a:r>
              <a:rPr b="0" lang="en-US" sz="2000" spc="-1" strike="noStrike">
                <a:solidFill>
                  <a:srgbClr val="ffffff"/>
                </a:solidFill>
                <a:latin typeface="Tahoma"/>
              </a:rPr>
              <a:t>.</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own of Templeton had entered into a Waste Management Contract with certain defendants to treat their wastewater.  The EPA subsequently informed the Town that, as a recipient of CWA  grants, the Town had to implement a user charge system whereby each user of the plant must pay a proportionate share of the cost of operating and maintaining the entire system based on that user’s total waste flow.</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own filed a complaint with the district court seeking, among other things, a declaration their existing contract user charge system (which was not proportional) was valid.</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court dismissed the complaint arguing it did not have subject-matter jurisdiction and that the CWA did not create a substantive private cause of action.</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Circuit upheld the lower court’s decision, finding that the action was primarily a breach of contract claim.</a:t>
            </a: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F440FAA-82FD-47E2-BD1B-4DC913FC165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ater Quality Certification</a:t>
            </a:r>
            <a:endParaRPr b="0" lang="en-US" sz="3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ort of Seattle v. The Pollution Control Hearings Board</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part of the permitting process for construction of a new airport runway, a water quality certification was issued.  On appeal to the State Pollution Control Hearings Board, the certification was affirmed but new conditions were imposed.  Upon direct review by the Washington State Supreme Court, the Court found that there is reasonable assurance that the runway project would not violate state water quality standard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3D08BF1-2E08-462B-9969-0A534ACCF29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29000" y="838080"/>
            <a:ext cx="2571840" cy="3586320"/>
          </a:xfrm>
          <a:prstGeom prst="rect">
            <a:avLst/>
          </a:prstGeom>
          <a:ln w="0">
            <a:noFill/>
          </a:ln>
        </p:spPr>
      </p:pic>
      <p:sp>
        <p:nvSpPr>
          <p:cNvPr id="88" name="PlaceHolder 1"/>
          <p:cNvSpPr>
            <a:spLocks noGrp="1"/>
          </p:cNvSpPr>
          <p:nvPr>
            <p:ph type="subTitle"/>
          </p:nvPr>
        </p:nvSpPr>
        <p:spPr>
          <a:xfrm>
            <a:off x="1371600" y="4495320"/>
            <a:ext cx="7391520" cy="175284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LEAN WATER ACT JURISDICTION</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20D6C7E5-7A30-4380-BCAB-C3C999E8BE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ater Quality Standards for Nutrients</a:t>
            </a:r>
            <a:endParaRPr b="0" lang="en-US" sz="3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erra Club v. EPA</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d on press reports, environmental groups may sue the EPA for its failure to promulgate water quality standards for nutrients and other pollutants in the Mississippi and Missouri River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PA has argued that it lacks sufficient scientific information to establish nutrient WQS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862BB7A-ABEF-4FAD-A260-CB5E1930E5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07960" y="380880"/>
            <a:ext cx="8128080" cy="6096240"/>
          </a:xfrm>
          <a:prstGeom prst="rect">
            <a:avLst/>
          </a:prstGeom>
          <a:ln w="0">
            <a:noFill/>
          </a:ln>
        </p:spPr>
      </p:pic>
      <p:sp>
        <p:nvSpPr>
          <p:cNvPr id="2" name="PlaceHolder 1"/>
          <p:cNvSpPr>
            <a:spLocks noGrp="1"/>
          </p:cNvSpPr>
          <p:nvPr>
            <p:ph type="sldNum" idx="3"/>
          </p:nvPr>
        </p:nvSpPr>
        <p:spPr/>
        <p:txBody>
          <a:bodyPr/>
          <a:p>
            <a:fld id="{E48B0E70-5E2B-4F93-8D4C-7781CDD7EAEF}"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uth Florida Water Management </a:t>
            </a:r>
            <a:br>
              <a:rPr sz="4400"/>
            </a:br>
            <a:r>
              <a:rPr b="0" lang="en-US" sz="4400" spc="-1" strike="noStrike">
                <a:solidFill>
                  <a:srgbClr val="ffffff"/>
                </a:solidFill>
                <a:latin typeface="Tahoma"/>
              </a:rPr>
              <a:t>District v. Miccosukee Tribe</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s key finding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Point source” covers structures conveying or transferring water and the “discharge of a pollutant” covers incidental movement of pollutants already in water.</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mping or moving water within a single body of water does not require a permit, but pumping or moving water between separate water bodies may require a permit.</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 found that whether water bodies are one or two is a factual and site-specific determination.</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A38ECE3-0A9D-4A59-A78C-B4820D8EA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91600"/>
            <a:ext cx="8763120" cy="161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Carabell v. U.S. Army Corps of </a:t>
            </a:r>
            <a:br>
              <a:rPr sz="3400"/>
            </a:br>
            <a:r>
              <a:rPr b="0" i="1" lang="en-US" sz="3400" spc="-1" strike="noStrike">
                <a:solidFill>
                  <a:srgbClr val="ffffff"/>
                </a:solidFill>
                <a:latin typeface="Tahoma"/>
              </a:rPr>
              <a:t>Engineers</a:t>
            </a:r>
            <a:r>
              <a:rPr b="0" lang="en-US" sz="3400" spc="-1" strike="noStrike">
                <a:solidFill>
                  <a:srgbClr val="ffffff"/>
                </a:solidFill>
                <a:latin typeface="Tahoma"/>
              </a:rPr>
              <a:t> </a:t>
            </a:r>
            <a:r>
              <a:rPr b="1" lang="en-US" sz="1100" spc="-1" strike="noStrike">
                <a:solidFill>
                  <a:srgbClr val="ffffff"/>
                </a:solidFill>
                <a:latin typeface="Tahoma"/>
              </a:rPr>
              <a:t>[Note: not included as part of the Digest of Cases for Discussion</a:t>
            </a:r>
            <a:br>
              <a:rPr sz="1100"/>
            </a:br>
            <a:r>
              <a:rPr b="1" lang="en-US" sz="1100" spc="-1" strike="noStrike">
                <a:solidFill>
                  <a:srgbClr val="ffffff"/>
                </a:solidFill>
                <a:latin typeface="Tahoma"/>
              </a:rPr>
              <a:t>	</a:t>
            </a:r>
            <a:r>
              <a:rPr b="1" lang="en-US" sz="1100" spc="-1" strike="noStrike">
                <a:solidFill>
                  <a:srgbClr val="ffffff"/>
                </a:solidFill>
                <a:latin typeface="Tahoma"/>
              </a:rPr>
              <a:t>	</a:t>
            </a:r>
            <a:r>
              <a:rPr b="1" lang="en-US" sz="1100" spc="-1" strike="noStrike">
                <a:solidFill>
                  <a:srgbClr val="ffffff"/>
                </a:solidFill>
                <a:latin typeface="Tahoma"/>
              </a:rPr>
              <a:t>	</a:t>
            </a:r>
            <a:r>
              <a:rPr b="1" lang="en-US" sz="1100" spc="-1" strike="noStrike">
                <a:solidFill>
                  <a:srgbClr val="ffffff"/>
                </a:solidFill>
                <a:latin typeface="Tahoma"/>
              </a:rPr>
              <a:t>COE has filed a motion requesting the opinion be published.]</a:t>
            </a:r>
            <a:br>
              <a:rPr sz="1100"/>
            </a:br>
            <a:endParaRPr b="0" lang="en-US" sz="11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issue in this proceeding was whether the COE had jurisdiction over plaintiffs’ property.  The wetlands in issue were ”adjacent to a drain which empties into” a navigable water.  </a:t>
            </a: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astern District of Michigan examined the split among the courts created by the </a:t>
            </a:r>
            <a:r>
              <a:rPr b="0" lang="en-US" sz="2000" spc="-1" strike="noStrike" u="sng">
                <a:solidFill>
                  <a:srgbClr val="ffffff"/>
                </a:solidFill>
                <a:uFillTx/>
                <a:latin typeface="Tahoma"/>
              </a:rPr>
              <a:t>SWANCC</a:t>
            </a:r>
            <a:r>
              <a:rPr b="0" lang="en-US" sz="2000" spc="-1" strike="noStrike">
                <a:solidFill>
                  <a:srgbClr val="ffffff"/>
                </a:solidFill>
                <a:latin typeface="Tahoma"/>
              </a:rPr>
              <a:t> decision and agreed with the courts “which have concluded that the Court’s ruling in </a:t>
            </a:r>
            <a:r>
              <a:rPr b="0" lang="en-US" sz="2000" spc="-1" strike="noStrike" u="sng">
                <a:solidFill>
                  <a:srgbClr val="ffffff"/>
                </a:solidFill>
                <a:uFillTx/>
                <a:latin typeface="Tahoma"/>
              </a:rPr>
              <a:t>SWANCC</a:t>
            </a:r>
            <a:r>
              <a:rPr b="0" lang="en-US" sz="2000" spc="-1" strike="noStrike">
                <a:solidFill>
                  <a:srgbClr val="ffffff"/>
                </a:solidFill>
                <a:latin typeface="Tahoma"/>
              </a:rPr>
              <a:t> was narrow, and did not substantially narrow the jurisdiction of the COE under the CWA.”</a:t>
            </a: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adopted the “significant nexus” test and found that, under the present facts, a nexus exists where wetlands are “adjacent to neighboring tributaries of navigable waters.”</a:t>
            </a:r>
            <a:endParaRPr b="0" lang="en-US" sz="2000" spc="-1" strike="noStrike">
              <a:solidFill>
                <a:srgbClr val="ffffff"/>
              </a:solidFill>
              <a:latin typeface="Tahoma"/>
            </a:endParaRPr>
          </a:p>
          <a:p>
            <a:pPr marL="332640" indent="-33264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September 27, 2004, the Sixth Circuit affirmed the district court’s decision granting summary judgment to the defendants.</a:t>
            </a:r>
            <a:r>
              <a:rPr b="0" lang="en-US" sz="1700" spc="-1" strike="noStrike">
                <a:solidFill>
                  <a:srgbClr val="ffffff"/>
                </a:solidFill>
                <a:latin typeface="Tahoma"/>
              </a:rPr>
              <a:t>  </a:t>
            </a:r>
            <a:endParaRPr b="0" lang="en-US" sz="1700" spc="-1" strike="noStrike">
              <a:solidFill>
                <a:srgbClr val="ffffff"/>
              </a:solidFill>
              <a:latin typeface="Tahoma"/>
            </a:endParaRPr>
          </a:p>
          <a:p>
            <a:pPr marL="3326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sldNum" idx="3"/>
          </p:nvPr>
        </p:nvSpPr>
        <p:spPr/>
        <p:txBody>
          <a:bodyPr/>
          <a:p>
            <a:fld id="{4DD77C63-7C42-486F-9CA4-808DBF3384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rthern California River Watch </a:t>
            </a:r>
            <a:br>
              <a:rPr sz="3000"/>
            </a:br>
            <a:r>
              <a:rPr b="0" lang="en-US" sz="3000" spc="-1" strike="noStrike">
                <a:solidFill>
                  <a:srgbClr val="ffffff"/>
                </a:solidFill>
                <a:latin typeface="Tahoma"/>
              </a:rPr>
              <a:t>v. </a:t>
            </a:r>
            <a:br>
              <a:rPr sz="3000"/>
            </a:br>
            <a:r>
              <a:rPr b="0" lang="en-US" sz="3000" spc="-1" strike="noStrike">
                <a:solidFill>
                  <a:srgbClr val="ffffff"/>
                </a:solidFill>
                <a:latin typeface="Tahoma"/>
              </a:rPr>
              <a:t>City of Healdsburg</a:t>
            </a:r>
            <a:endParaRPr b="0" lang="en-US" sz="3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issue in this proceeding was whether the discharges of pollutants made by the City from its waste-treatment facility into an adjacent pond through groundwater required a permi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iff argued that the pond and its wetlands are “navigable water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orthern District of California found that a pond and its wetlands that are “adjacent to” undisputed navigable waters, separated only by a man-made levee, are “waters of the United States” within meaning of the CW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ase is on appeal before the Ninth Circui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CD09C8A-47B1-4191-9B52-E8502C164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96"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fontScale="88000"/>
          </a:bodyPr>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re Needham – In interpreting the scope of the OPA as comparable to that of the CWA, the Sixth Circuit rejected the “any hydrologic connection” interpretation, finding that the OPA permits recovery of cleanup costs in the case of oil spills into actually navigable waters or non-navigable waters that are “truly adjacent” to an open body of navigable water.</a:t>
            </a:r>
            <a:r>
              <a:rPr b="0" lang="en-US" sz="2000" spc="-1" strike="noStrike">
                <a:solidFill>
                  <a:srgbClr val="ffffff"/>
                </a:solidFill>
                <a:latin typeface="Tahoma"/>
              </a:rPr>
              <a:t>	</a:t>
            </a:r>
            <a:endParaRPr b="0" lang="en-US" sz="2000" spc="-1" strike="noStrike">
              <a:solidFill>
                <a:srgbClr val="ffffff"/>
              </a:solidFill>
              <a:latin typeface="Tahoma"/>
            </a:endParaRPr>
          </a:p>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cy v. Newdunn Associates, LLP – The Fourth Circuit found that if a water flows intermittently from wetlands, there exists a sufficient nexus to support federal jurisdiction.</a:t>
            </a:r>
            <a:endParaRPr b="0" lang="en-US" sz="2000" spc="-1" strike="noStrike">
              <a:solidFill>
                <a:srgbClr val="ffffff"/>
              </a:solidFill>
              <a:latin typeface="Tahoma"/>
            </a:endParaRPr>
          </a:p>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ed States v. Rapanos – The Sixth Circuit found that the term “adjacent waters” requires a “significant nexus between the wetlands and ‘navigable waters’” which can be satisfied by the presence of a hydrological connection.</a:t>
            </a:r>
            <a:endParaRPr b="0" lang="en-US" sz="2000" spc="-1" strike="noStrike">
              <a:solidFill>
                <a:srgbClr val="ffffff"/>
              </a:solidFill>
              <a:latin typeface="Tahoma"/>
            </a:endParaRPr>
          </a:p>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ed States v. Thorson – The Western District of Wisconsin found that the “hydrological connection” standard for determining adjacency has not been foreclosed in the Seventh Circuit.</a:t>
            </a:r>
            <a:endParaRPr b="0" lang="en-US" sz="2000" spc="-1" strike="noStrike">
              <a:solidFill>
                <a:srgbClr val="ffffff"/>
              </a:solidFill>
              <a:latin typeface="Tahoma"/>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E107F9B-B750-4220-B520-45E44CBF7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00200" y="914400"/>
            <a:ext cx="6095880" cy="3714840"/>
          </a:xfrm>
          <a:prstGeom prst="rect">
            <a:avLst/>
          </a:prstGeom>
          <a:ln w="0">
            <a:noFill/>
          </a:ln>
        </p:spPr>
      </p:pic>
      <p:sp>
        <p:nvSpPr>
          <p:cNvPr id="98"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itizen Suit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C2EA6621-A513-45A8-923F-A37DDF55F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15:20Z</dcterms:created>
  <dc:creator> </dc:creator>
  <dc:description> </dc:description>
  <cp:keywords/>
  <dc:language>en-US</dc:language>
  <cp:lastModifiedBy>chynita</cp:lastModifiedBy>
  <dcterms:modified xsi:type="dcterms:W3CDTF">2004-11-02T20:18:48Z</dcterms:modified>
  <cp:revision>57</cp:revision>
  <dc:subject> </dc:subject>
  <dc:title> </dc:title>
</cp:coreProperties>
</file>