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0000" y="677520"/>
            <a:ext cx="451944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29408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BB7F-115B-4D8B-8402-A8192230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7680" y="298440"/>
            <a:ext cx="4519800" cy="3389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301680" y="3877920"/>
            <a:ext cx="616896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or someone who’s agency has been involved with water reclamation for over 40 years and reuses over 70 mg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rticularly indirect potable reu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you should know there are lots of jokes in the reuse field, and I’d like to share one with you that’s my favori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l Jo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1522800"/>
            <a:ext cx="9144000" cy="30492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flipV="1">
            <a:off x="0" y="3276360"/>
            <a:ext cx="9144000" cy="30456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AMSA </a:t>
            </a:r>
            <a:r>
              <a:rPr b="1" lang="en-US" sz="3600" spc="-1" strike="noStrike">
                <a:solidFill>
                  <a:srgbClr val="00febb"/>
                </a:solidFill>
                <a:latin typeface="Arial"/>
                <a:ea typeface="Times New Roman"/>
              </a:rPr>
              <a:t>2004 Developments in Clean Water Law</a:t>
            </a:r>
            <a:br>
              <a:rPr sz="3600"/>
            </a:br>
            <a:r>
              <a:rPr b="1" i="1" lang="en-US" sz="3600" spc="-1" strike="noStrike">
                <a:solidFill>
                  <a:srgbClr val="00febb"/>
                </a:solidFill>
                <a:latin typeface="Arial"/>
                <a:ea typeface="Times New Roman"/>
              </a:rPr>
              <a:t>A Seminar for Public Agency Managers and Attorneys</a:t>
            </a: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325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re You Your Own Worst Enemy? Managing Da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llection, Research, &amp; Investig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vember 11, 200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erbil%20Acclertor" descr=""/>
          <p:cNvPicPr/>
          <p:nvPr/>
        </p:nvPicPr>
        <p:blipFill>
          <a:blip r:embed="rId1"/>
          <a:stretch/>
        </p:blipFill>
        <p:spPr>
          <a:xfrm>
            <a:off x="514440" y="57240"/>
            <a:ext cx="8115120" cy="6086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04960" y="612612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sks and Unintended Consequen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klessexperiment" descr=""/>
          <p:cNvPicPr/>
          <p:nvPr/>
        </p:nvPicPr>
        <p:blipFill>
          <a:blip r:embed="rId1"/>
          <a:stretch/>
        </p:blipFill>
        <p:spPr>
          <a:xfrm>
            <a:off x="1104840" y="371520"/>
            <a:ext cx="6934320" cy="5267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0880" y="5807160"/>
            <a:ext cx="85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to Think About Before, During &amp; 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ebb"/>
                </a:solidFill>
                <a:latin typeface="Arial"/>
                <a:ea typeface="Times New Roman"/>
              </a:rPr>
              <a:t>A Brief “Guide” to Research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400" y="205740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has been long 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101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n’t bothered to check the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20" y="3290760"/>
            <a:ext cx="23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It is 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367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I belie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4281480"/>
            <a:ext cx="23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281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5272200"/>
            <a:ext cx="42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It is generally bel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53020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My colleagues and I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ebb"/>
                </a:solidFill>
                <a:latin typeface="Arial"/>
                <a:ea typeface="Times New Roman"/>
              </a:rPr>
              <a:t>A Brief “Guide” to Research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0574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has been some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101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body agrees with 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9076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Additional work i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3670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Someone else can work out the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640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great historic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5403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ought to make me fam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  <a:ea typeface="Times New Roman"/>
              </a:rPr>
              <a:t>Panelists</a:t>
            </a: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e5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e5f"/>
                </a:solidFill>
                <a:latin typeface="Tahoma"/>
              </a:rPr>
              <a:t>Ron Hil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incipal Assistant Attorne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tropolitan Water Reclamation District of Greater Chicag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e5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e5f"/>
                </a:solidFill>
                <a:latin typeface="Tahoma"/>
              </a:rPr>
              <a:t>Amy Woodi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nior Regulatory Analys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tro Denver Wastewater Reclamation Distric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bosse" descr=""/>
          <p:cNvPicPr/>
          <p:nvPr/>
        </p:nvPicPr>
        <p:blipFill>
          <a:blip r:embed="rId1"/>
          <a:stretch/>
        </p:blipFill>
        <p:spPr>
          <a:xfrm>
            <a:off x="4952880" y="0"/>
            <a:ext cx="23940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0T19:51:22Z</dcterms:created>
  <dc:creator>computer services</dc:creator>
  <dc:description/>
  <dc:language>en-US</dc:language>
  <cp:lastModifiedBy>mnellor</cp:lastModifiedBy>
  <cp:lastPrinted>2002-05-30T20:43:13Z</cp:lastPrinted>
  <dcterms:modified xsi:type="dcterms:W3CDTF">2004-11-06T00:02:03Z</dcterms:modified>
  <cp:revision>462</cp:revision>
  <dc:subject/>
  <dc:title>Calabasas Landfill NPS Permit </dc:title>
</cp:coreProperties>
</file>