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514-EAEE-44A2-81B4-777315DA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4FB-4664-4B27-98D0-B8B664F5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EC4-3CD4-4F1B-B472-1501F8C1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38B-1F86-4C35-9DD6-84E409F7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B4C-6EA0-4164-8776-01211E91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246E-CAA4-4859-9358-A1A0E1B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9F14-CF5F-4ED9-A039-82EF48CF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0118-9C0C-407D-9941-78526F38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A728-B192-42F0-9B03-FA0BFF88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B172-BD18-4AC7-A833-00391F87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532-FDC0-4774-BD2E-FC4B7B6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A59-691D-494A-BB4F-71A7C52D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08D-0469-4E03-B522-6656B0D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5AD7-208B-4AE2-9C6E-774990D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9618-E60D-443B-82ED-8F5C827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61B9-EBCC-4D50-90E8-5C07BE1B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C79-73B6-4897-9313-F03D424A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E24-CE36-4C4F-B628-480CAD6A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25E-BEEC-4E95-9A9A-E264152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84C-293F-4116-B70D-7AA8EEB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4CC-D5EF-4EB3-869C-5D6812D5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E0D-DE0A-498B-93E7-F55DE70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981-77E6-439A-B564-518DCF8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1E1-AC2D-48E5-91FA-AEC4716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1D8-0475-44F0-910C-F9AA623D5C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14D-F308-4E4E-8BDC-5C3DD52A4C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75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THE BASIC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 Clean Water Act &amp; Safe Drinking Water Act Overview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343400"/>
            <a:ext cx="603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vember 10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6440" y="5904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7150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s in Clean Water La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vember 10-12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5238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90920" y="15238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37160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9412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048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7680" y="434340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7242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9760" y="533412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treatment standards, local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ive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t weather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Os/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4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teria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ttainability Analyses (UAAs) to revise inappropriate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appl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ion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for pre-public notice dra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et with agency to discuss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 period, possible public he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t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review and approv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per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l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ermit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ility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luent limitations and monitor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ndar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treatment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 if reasonable potential to exceed (RPE) 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d on waste load allocation (W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thly average and daily maximum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 can include CBO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SS, Ammonia-nitrogen, pH, DO, TRC, Fecal coliform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met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includes influent and ef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specify test methods, limits of detection and quantification (LODs and LOQ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/ SSO limitations and con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 and Monito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ative limi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ly reporting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opening clau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W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sed 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ing 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W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ondi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y with the per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tigate damage from noncompl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information to ag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pply for renewal permit before ex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lties for vio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p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agement require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facility operation, maintenance, and quality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pass prohibitions,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et cond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 fail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tandard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orting requir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ility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-hour report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nticipated byp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ificant danger to human health or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set that exceeds technolog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y weather C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xics vio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significant indirect dischargers subject to pretreatmen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fy agency of changes in or new indirect dischar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cial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ll reporting and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discharge preven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lutant minimiz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monitoring for 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sol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s / SS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 Conten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etreatment Pro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wer use ordi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lim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/control indirect discha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ug control pl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ustrial user compliance monito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Permitt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iance sched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wide or multiple-dischar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vai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que receiving water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A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 as a shiel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pollutants specifically limited in the per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identified as present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ituents of wastestreams, operations and processes identified in 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alties for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ificant noncompli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state or federal enforcement initi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overfi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nt decrees / enforcement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afe Drinking Water Act Bas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o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 of contamin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f mech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 of SDW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, monitor, and control contaminants in finished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 and distribution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er right-to-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ding for up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pose: Maintain chemical, physical, and biological integrity of the Nation’s wa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discharge of pollutants to surface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able / Swimmable” where attain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ection and propagation of fish, shellfish, and wildlif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reation in and on the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deral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delegated to admini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tes “public water system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service connections; 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25 individu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east 60 days per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: heal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contaminant levels (MCLs) to prevent adverse health 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atment techniques if infeasible to establish MC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contaminant level goals (MCLG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known adverse health effects including margin of 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ost / benefit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ary regu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CLs must be set as close as is feasible to MCL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ed risks can be conside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PA must identify additional contaminants for possible development of MC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DWA Contaminant Control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imary Regul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L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C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itor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methods, detection, and quantification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mmended B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ing and record keeping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nces and exe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notice of violations, variances, and exe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rol of Contamin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regulations: aesthe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ary maximum contaminant levels (SMCLs) to prevent adverse aesthetic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enforceable under federal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tates have adop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notice of viol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enforcement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PA enforcement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tizen su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lief Mechani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ing rel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nformation Requir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collection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ble to large ut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database for future reg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stomer right-to-kn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ual consumer confidence rep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on quality of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on potential ri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assistance through State Revolving Funds (SRFs) for systems that cannot afford necessary improv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chase of debt oblig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antee or purchase insu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for state issued bo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egulatory Struc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to implement fishable/swimmable goa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Prohibit discharge of toxic pollutants in toxic amou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Provide federal financial assistance for POTW constr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Implement areawide waste treatment management pla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Support research to develop technology to eliminate discharge of pollut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evelop and implement nonpoint source pollution control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W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ther Requir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lead in public water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city up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n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water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rvation guide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13557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209680"/>
            <a:ext cx="70866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 (312) 338-590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ajor Elem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harges prohibited except in accordance with CWA requir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authorize certain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its control authorized dis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deral and/or state imple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ll response, reporting, and pre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its for dredged and fil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Regulatory Structur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OTW Issu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s 201-219 contain details of POTW construction grants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tion 212 defines “treatment work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Water Act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III of the CW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harges Prohibited, except in compliance with permits contain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Quality Based Lim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chnology Based Lim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fluent Limitation Guidelines (ELGs): BPT/BCT/BAT/PSES/NSPS requirements for industry categories and cla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ary treatment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6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45 mg/l and 30 mg/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% removal of B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st Professional Judgment (BPJ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sliding prohibi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WA Limit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ater Quality Based Limi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ble when technology based limits not sufficient to maint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Quality Stand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ated u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quality criteria (numeric and narr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degradation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Prog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ng and listing impaired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ing and implementing TMDLs in perm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1:14:23Z</dcterms:created>
  <dc:creator>Barnes &amp; Thornburg</dc:creator>
  <dc:description/>
  <dc:language>en-US</dc:language>
  <cp:lastModifiedBy>Barnes &amp; Thornburg</cp:lastModifiedBy>
  <dcterms:modified xsi:type="dcterms:W3CDTF">2004-10-22T22:38:24Z</dcterms:modified>
  <cp:revision>14</cp:revision>
  <dc:subject/>
  <dc:title>--THE BASICS--   A Clean Water Act &amp; Safe Drinking Water Act Overview</dc:title>
</cp:coreProperties>
</file>