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8C0-1C0D-4607-80BB-33C32590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E74-7C13-48ED-85EF-EB460D4C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C74-A232-4575-863D-E0495C97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71F-8DBF-4606-ACBE-4EF4D43B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1AA7-237C-48A8-8A8F-6D783A1E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9127-CDF1-428A-9FC6-D3A730E9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2C0C-D285-4CED-B52D-684725EA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D41A-087B-447A-88FB-5975C40D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1957-B047-4BD9-BEF2-D8808344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5314-4F1A-4D44-AE36-FB03FB5B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A8DA-FA11-4071-A220-1079721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5C8-9F0C-44A4-B660-6105E432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8588-8B27-4B79-8C04-E89ACD7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6316-0F91-48C5-9740-FCAF7051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D87C-1C13-4D79-A32F-273428A6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C5A8-941A-4ED7-B9CC-E0331B1B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8502-1EB7-40BB-A5EA-E0AD8A79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9AF-DA75-4BFF-8F55-154DE27C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9FD-2C05-4BA2-9E52-F15F33D0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E9B-38F5-4681-8AFD-EE4A0EA2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9DA-4533-4EE8-B41E-1CE6466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3CE-A605-4DF0-936B-00F67788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C65-6A8B-4045-BCDE-C1E08E70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E5F-3911-4C38-B8E4-0167AEDC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272-CDD1-4EF9-AC9D-6AEF60DB54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4E5E-E0DF-4DD2-92BB-44467A26DC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epowers@btlaw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75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THE BASIC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 Clean Water Act &amp; Safe Drinking Water Act Overview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343400"/>
            <a:ext cx="603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vember 10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36440" y="5904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15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S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ments in Clean Water La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vember 10-12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2559" r="0" b="42032"/>
          <a:stretch/>
        </p:blipFill>
        <p:spPr>
          <a:xfrm>
            <a:off x="2743200" y="152388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90920" y="15238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371600"/>
            <a:ext cx="16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er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y 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9412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WQ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048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ing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276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8862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7680" y="434340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w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724280"/>
            <a:ext cx="2757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e Categor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W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9760" y="5334120"/>
            <a:ext cx="47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elcome to Impaired Wa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9855" r="0" b="0"/>
          <a:stretch/>
        </p:blipFill>
        <p:spPr>
          <a:xfrm>
            <a:off x="2362320" y="1828800"/>
            <a:ext cx="380664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10680" y="183528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 Your T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26320" y="24447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9520" y="2521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0481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Allowabl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Initial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9560" y="3816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DL Submi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60360" y="4197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30880" y="5111640"/>
            <a:ext cx="323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cation Revi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31800">
            <a:off x="2590560" y="55627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410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OTW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treatment standards, local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rrative crite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t weather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Os/S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S4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teria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ttainability Analyses (UAAs) to revise inappropriate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f Mech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t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mit appl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otiation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for pre-public notice dra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et with agency to discuss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notice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nt period, possible public hea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t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A review and approv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perm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eal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y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luent limitations and monitoring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rd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treatment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s if reasonable potential to exceed (RPE) water quality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waste load allocation (WL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thly average and daily maximum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s can include CB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SS, Ammonia-nitrogen, pH, DO, TRC, Fecal coliform 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et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ing includes influent and effl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specify test methods, limits of detection and quantification (LODs and LOQ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 / SSO limitations and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rrative limi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hly reporting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opening clau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ed W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ed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ing 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lean Water Act Bas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tory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W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ondi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y with the per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tigate damage from noncompli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information to ag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pply for renewal permit before expi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alties for vio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 cer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requirem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facility operation, maintenance, and quality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pass prohibitions,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set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er fail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orting requir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ility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-hour reporting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nticipated byp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ificant danger to human health or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set that exceeds technology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y weather C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xics vio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significant indirect dischargers subject to pretreatment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fy agency of changes in or new indirect dischar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pecial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ll reporting and prev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ug discharge prev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lutant minimization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monitoring for whole effluent tox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sol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s / SS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retreatment Pro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wer use ordi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l 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/control indirect discharg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ug control pl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ustrial user compliance monito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ting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lief Mechani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iance sche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wide or multiple-dischar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e-specific crite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vail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que receiving water character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A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 as a shiel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ollutants specifically limited in the perm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lutants identified as present in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ituents of wastestreams, operations and processes identified in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nalties for noncompl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ificant noncompl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state or federal enforcement initi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A overfi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nt decrees / enforcement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tizen su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afe Drinking Water Act Bas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tory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 of contamina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f mech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pose of SDW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, monitor, and control contaminants in finished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ction and distribution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mer right-to-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ding for upgr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pose: Maintain chemical, physical, and biological integrity of the Nation’s wa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 discharge of pollutants to surface wa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able / Swimmable” where attain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ection and propagation of fish, shellfish, and wildlif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reation in and on the 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deral regul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delegated to adminis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tes “public water system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service connections; 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s 25 individu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least 60 days per y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rol of Contamin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mary regulations: heal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um contaminant levels (MCLs) to prevent adverse health eff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eatment techniques if infeasible to establish MC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rceable under federal l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rol of Contamin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mary regul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um contaminant level goals (MCLG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known adverse health effects including margin of safe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enforceable under federal l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ost / benefit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rol of Contamin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mary regul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Ls must be set as close as is feasible to MCL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ted risks can be conside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A must identify additional contaminants for possible development of MC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DWA Contaminant Control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imary Regul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CL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C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itoring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methods, detection, and quantification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mmended B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orting and record keeping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nces and exe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notice of violations, variances, and exe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rol of Contamin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ary regulations: aesthe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ary maximum contaminant levels (SMCLs) to prevent adverse aesthetic eff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enforceable under federal l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tates have adop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notice of viol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enforcement 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A enforcement 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tizen su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lief Mechani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ing relie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Information Requir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collection r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ble to large ut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database for future reg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stomer right-to-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ual consumer confidence repor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on quality of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on potential ri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ncial assistance through State Revolving Funds (SRFs) for systems that cannot afford necessary improv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rchase of debt oblig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arantee or purchase insu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for state issued bo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to implement fishable/swimmable go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Prohibit discharge of toxic pollutants in toxic amou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Provide federal financial assistance for POTW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Implement areawide waste treatment management pla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Support research to develop technology to eliminate discharge of pollut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evelop and implement nonpoint source pollution control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Other Requir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lead in public water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or cer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acity upgr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rce pro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n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water assess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rvation guide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13557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209680"/>
            <a:ext cx="708660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rnes &amp; Thornburg LL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North Wacker Dr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e 44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cago, IL 606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ne (312) 338-590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x (312) 759-564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epowers@btlaw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Regulatory Structur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jor El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harges prohibited except in accordance with CWA requir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its authorize certain dis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control authorized dis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deral and/or state imple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ill response, reporting, and prev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its for dredged and fill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Regulatory Structur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OTW Issu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tions 201-219 contain details of POTW construction grants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tion 212 defines “treatment work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 III of the CW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harges Prohibited, except in compliance with permits contain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Based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chnology Based 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fluent Limitation Guidelines (ELGs): BPT/BCT/BAT/PSES/NSPS requirements for industry categories and cla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ary treatment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6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SS 45 mg/l and 30 mg/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% removal of B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t Professional Judgment (BPJ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sliding prohib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ater Quality Based Limi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ble when technology based limits not sufficient to maint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Quality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ated u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quality criteria (numeric and narr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degradation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MDL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ng and listing impaired wa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ing and implementing TMDLs in perm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21:14:23Z</dcterms:created>
  <dc:creator>Barnes &amp; Thornburg</dc:creator>
  <dc:description/>
  <dc:language>en-US</dc:language>
  <cp:lastModifiedBy>Barnes &amp; Thornburg</cp:lastModifiedBy>
  <dcterms:modified xsi:type="dcterms:W3CDTF">2004-10-22T22:38:24Z</dcterms:modified>
  <cp:revision>14</cp:revision>
  <dc:subject/>
  <dc:title>--THE BASICS--   A Clean Water Act &amp; Safe Drinking Water Act Overview</dc:title>
</cp:coreProperties>
</file>