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2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6CC5-95BF-4E9E-A87C-FDD62EF0B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3083-4B1A-4090-B62F-86218F480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D30-1B98-4ECB-834F-9EE8AFD7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5EC-64DE-42BF-B691-0AB52F23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FE25-3DD5-4889-B8C3-7117AF63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4B85-9CD4-4A30-95B7-CB95E751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3D9E-F5A5-4785-9F85-ED77FDD7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511-9FC5-42AB-AF86-93F7A610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513-C80F-49F5-BEBD-D5F36C31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F712-6A4D-45DB-9868-587DD095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4C8-1663-4CCA-A31F-8A41E4D0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C47-0ACB-43DC-A7B0-55517926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7F8-5F8E-42CF-98BF-80488E5B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F7A-3D8A-44A0-997C-983F5DDD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400000">
            <a:off x="7505280" y="1333080"/>
            <a:ext cx="381240" cy="121932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304920"/>
            <a:ext cx="381240" cy="1218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86D4-6A14-4894-9EB0-C0CF272A65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038480" y="1905120"/>
            <a:ext cx="4419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457200"/>
            <a:ext cx="4419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rot="5400000">
            <a:off x="7505280" y="1333080"/>
            <a:ext cx="381240" cy="121932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38080" y="304920"/>
            <a:ext cx="381240" cy="1218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038480" y="1905120"/>
            <a:ext cx="4419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85800" y="457200"/>
            <a:ext cx="4419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rot="5400000">
            <a:off x="7505280" y="1333080"/>
            <a:ext cx="381240" cy="121932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38080" y="304920"/>
            <a:ext cx="381240" cy="1218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038480" y="1905120"/>
            <a:ext cx="4419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685800" y="457200"/>
            <a:ext cx="4419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 Rational Approach to Drinking Water Source Protec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4724280"/>
            <a:ext cx="342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58128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AMS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Developments in Clean Water Law Seminar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November 10, 2004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5486400"/>
            <a:ext cx="426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aine Archibal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ultant to California Urban Water Agenci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resses on Source Water Quality are Increas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1862280" cy="1467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1819440" cy="1033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0040" y="1752120"/>
            <a:ext cx="525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re stringent and at times conflicting regulations; treatment is increasingly based on source water quali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asing number of contaminants regulat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blic expectations are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as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391520" y="4724280"/>
            <a:ext cx="69048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entral Valley Drinking Water Policy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velopment of a policy, basin plan objectives, or narrative standards that provide protection for drinking water supplies in the Central Valle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ntral Valley Drinking Water Policy Workgro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ludes various stakeholders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rge and small wastewater discharger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orm water dischargers,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ricultural representative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blic interest group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ate and federal agenc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gional Board Resolu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road support for policy develop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chnical Studi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ey Task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 Assess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ater quality monitoring &amp; database develop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eptual models for drinking water constituen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rinking Water Constitu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number of constituents are being considere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BP precursors (e.g. organic carbon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hogens and surrogates (e.g. coliform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trien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solved minerals (e.g. TD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sticid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st will be narrowed based on da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chnical Studies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ey task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llutant load evalu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dentification of controllable sourc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nge of water quality goal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tential cost effective control alternativ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asin Plan Amendment Proces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57480" y="2362320"/>
          <a:ext cx="30859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2362320"/>
                    <a:ext cx="30859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ater quality objectives (narrative or numeric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mplementation pla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5334120" y="2362320"/>
            <a:ext cx="2190600" cy="1902960"/>
            <a:chOff x="5334120" y="2362320"/>
            <a:chExt cx="2190600" cy="1902960"/>
          </a:xfrm>
        </p:grpSpPr>
        <p:sp>
          <p:nvSpPr>
            <p:cNvPr id="112" name=""/>
            <p:cNvSpPr/>
            <p:nvPr/>
          </p:nvSpPr>
          <p:spPr>
            <a:xfrm>
              <a:off x="5334120" y="2362320"/>
              <a:ext cx="2190600" cy="1018800"/>
            </a:xfrm>
            <a:prstGeom prst="octagon">
              <a:avLst>
                <a:gd name="adj" fmla="val 1297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b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Basin Pla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Amendme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Public Proces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29240" y="3372480"/>
              <a:ext cx="0" cy="892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0" y="2057400"/>
            <a:ext cx="2209320" cy="2057040"/>
            <a:chOff x="0" y="2057400"/>
            <a:chExt cx="2209320" cy="2057040"/>
          </a:xfrm>
        </p:grpSpPr>
        <p:sp>
          <p:nvSpPr>
            <p:cNvPr id="115" name=""/>
            <p:cNvSpPr/>
            <p:nvPr/>
          </p:nvSpPr>
          <p:spPr>
            <a:xfrm>
              <a:off x="1104480" y="3149640"/>
              <a:ext cx="0" cy="964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2057400"/>
              <a:ext cx="2209320" cy="1101240"/>
            </a:xfrm>
            <a:prstGeom prst="octagon">
              <a:avLst>
                <a:gd name="adj" fmla="val 1297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b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Initiat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Technical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Work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286000" y="2057400"/>
            <a:ext cx="2647800" cy="2133720"/>
            <a:chOff x="2286000" y="2057400"/>
            <a:chExt cx="2647800" cy="2133720"/>
          </a:xfrm>
        </p:grpSpPr>
        <p:sp>
          <p:nvSpPr>
            <p:cNvPr id="118" name=""/>
            <p:cNvSpPr/>
            <p:nvPr/>
          </p:nvSpPr>
          <p:spPr>
            <a:xfrm>
              <a:off x="3686040" y="3191040"/>
              <a:ext cx="0" cy="1000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6000" y="2057400"/>
              <a:ext cx="2647800" cy="1143000"/>
            </a:xfrm>
            <a:prstGeom prst="octagon">
              <a:avLst>
                <a:gd name="adj" fmla="val 1297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b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Wate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Quality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Monitoring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04920" y="3733920"/>
            <a:ext cx="8583480" cy="730080"/>
          </a:xfrm>
          <a:custGeom>
            <a:avLst/>
            <a:gdLst/>
            <a:ahLst/>
            <a:rect l="l" t="t" r="r" b="b"/>
            <a:pathLst>
              <a:path w="5407" h="615">
                <a:moveTo>
                  <a:pt x="12" y="365"/>
                </a:moveTo>
                <a:lnTo>
                  <a:pt x="0" y="0"/>
                </a:lnTo>
                <a:lnTo>
                  <a:pt x="5150" y="0"/>
                </a:lnTo>
                <a:lnTo>
                  <a:pt x="5407" y="306"/>
                </a:lnTo>
                <a:lnTo>
                  <a:pt x="5150" y="615"/>
                </a:lnTo>
                <a:lnTo>
                  <a:pt x="0" y="615"/>
                </a:lnTo>
                <a:lnTo>
                  <a:pt x="12" y="36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8160">
            <a:solidFill>
              <a:srgbClr val="000066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80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hedu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12960" y="3809880"/>
            <a:ext cx="944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005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3809880"/>
            <a:ext cx="1266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007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3809880"/>
            <a:ext cx="1085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009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809880"/>
            <a:ext cx="108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003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90720" y="4572000"/>
            <a:ext cx="2087280" cy="1635840"/>
            <a:chOff x="990720" y="4572000"/>
            <a:chExt cx="2087280" cy="1635840"/>
          </a:xfrm>
        </p:grpSpPr>
        <p:sp>
          <p:nvSpPr>
            <p:cNvPr id="127" name=""/>
            <p:cNvSpPr/>
            <p:nvPr/>
          </p:nvSpPr>
          <p:spPr>
            <a:xfrm>
              <a:off x="2046240" y="4572000"/>
              <a:ext cx="0" cy="619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0720" y="5181840"/>
              <a:ext cx="2087280" cy="10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Regional Board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Resoluti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267080" y="4572000"/>
            <a:ext cx="2087640" cy="1635840"/>
            <a:chOff x="4267080" y="4572000"/>
            <a:chExt cx="2087640" cy="1635840"/>
          </a:xfrm>
        </p:grpSpPr>
        <p:sp>
          <p:nvSpPr>
            <p:cNvPr id="130" name=""/>
            <p:cNvSpPr/>
            <p:nvPr/>
          </p:nvSpPr>
          <p:spPr>
            <a:xfrm>
              <a:off x="5322960" y="4572000"/>
              <a:ext cx="0" cy="619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67080" y="5181840"/>
              <a:ext cx="2087640" cy="10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Complet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Technical Studie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629400" y="4572000"/>
            <a:ext cx="2087640" cy="1946160"/>
            <a:chOff x="6629400" y="4572000"/>
            <a:chExt cx="2087640" cy="1946160"/>
          </a:xfrm>
        </p:grpSpPr>
        <p:sp>
          <p:nvSpPr>
            <p:cNvPr id="133" name=""/>
            <p:cNvSpPr/>
            <p:nvPr/>
          </p:nvSpPr>
          <p:spPr>
            <a:xfrm>
              <a:off x="7685280" y="4572000"/>
              <a:ext cx="0" cy="618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29400" y="5181480"/>
              <a:ext cx="2087640" cy="13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RWQCB Adopts Basin Plan Amendme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hort-term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oint effort between drinking water purveyors and waste dischargers to identify projects to improve water qual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ept of pollutant trad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ho pays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tential Proje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routing of agricultural drainage away from drinking water intakes (organic carbon, nutrient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scharge of highly saline industrial wastes to evaporation ponds rather than the river (TD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y is source water protection important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ng-term solution – drinking water policy for the Central Valle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hort-term measures – collaboration between waste dischargers and drinking water provid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hort-term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rinking water providers can “weigh-in” when Regional Board proposes onerous effluent limita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ork with dischargers to convince regulators that THMs in discharges are not an issu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exchange, dischargers agree to monitor for constituents of concern to water providers (organic carbon, TDS, possibly pathogen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need collaboration rather than legal challenge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development of the Central Valley Drinking Water Policy will be a key step forward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086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t’s Work Together on Source Water Protection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5791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Barrier Princi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80880" y="1898640"/>
            <a:ext cx="3581640" cy="2755800"/>
            <a:chOff x="380880" y="1898640"/>
            <a:chExt cx="3581640" cy="2755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380880" y="2438280"/>
              <a:ext cx="3581640" cy="22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759240" y="1898640"/>
              <a:ext cx="28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Rounded MT Bold"/>
                </a:rPr>
                <a:t>Source Protecti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962160" y="2286000"/>
            <a:ext cx="4802040" cy="3162240"/>
            <a:chOff x="3962160" y="2286000"/>
            <a:chExt cx="4802040" cy="3162240"/>
          </a:xfrm>
        </p:grpSpPr>
        <p:sp>
          <p:nvSpPr>
            <p:cNvPr id="71" name=""/>
            <p:cNvSpPr/>
            <p:nvPr/>
          </p:nvSpPr>
          <p:spPr>
            <a:xfrm>
              <a:off x="4877280" y="2286000"/>
              <a:ext cx="38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Rounded MT Bold"/>
                </a:rPr>
                <a:t>Treatment Effectivenes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rcRect l="0" t="12874" r="158" b="6809"/>
            <a:stretch/>
          </p:blipFill>
          <p:spPr>
            <a:xfrm>
              <a:off x="5105520" y="2895480"/>
              <a:ext cx="3429000" cy="25527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3" name=""/>
            <p:cNvCxnSpPr>
              <a:stCxn id="68" idx="3"/>
              <a:endCxn id="72" idx="1"/>
            </p:cNvCxnSpPr>
            <p:nvPr/>
          </p:nvCxnSpPr>
          <p:spPr>
            <a:xfrm>
              <a:off x="3962160" y="3546360"/>
              <a:ext cx="1143720" cy="62604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</p:cxnSp>
      </p:grpSp>
      <p:grpSp>
        <p:nvGrpSpPr>
          <p:cNvPr id="74" name=""/>
          <p:cNvGrpSpPr/>
          <p:nvPr/>
        </p:nvGrpSpPr>
        <p:grpSpPr>
          <a:xfrm>
            <a:off x="621000" y="4829040"/>
            <a:ext cx="6198840" cy="1724040"/>
            <a:chOff x="621000" y="4829040"/>
            <a:chExt cx="6198840" cy="1724040"/>
          </a:xfrm>
        </p:grpSpPr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2800440" y="4829040"/>
              <a:ext cx="184788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21000" y="5280120"/>
              <a:ext cx="202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Rounded MT Bold"/>
                </a:rPr>
                <a:t>Distributi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Rounded MT Bold"/>
                </a:rPr>
                <a:t>Integrity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7" name=""/>
            <p:cNvCxnSpPr>
              <a:stCxn id="72" idx="2"/>
              <a:endCxn id="75" idx="3"/>
            </p:cNvCxnSpPr>
            <p:nvPr/>
          </p:nvCxnSpPr>
          <p:spPr>
            <a:xfrm rot="5400000">
              <a:off x="5612400" y="4483800"/>
              <a:ext cx="243720" cy="217188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905120" y="0"/>
            <a:ext cx="5790960" cy="6858000"/>
            <a:chOff x="1905120" y="0"/>
            <a:chExt cx="5790960" cy="685800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1905120" y="0"/>
              <a:ext cx="5790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1905120" y="0"/>
              <a:ext cx="57909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81360" y="0"/>
            <a:ext cx="503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gulatory Contex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ean Water Act and Porter-Colog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afe Drinking Water A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ter Quality Control Plan for the Sacramento and San Joaquin River Basins (Basin Pla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y-Delta Basin Pla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n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dentifies beneficial uses (MU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ludes water quality objectives to protect beneficial u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umeric objectives (MCL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arrative objective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.g. All waters shall be maintained free of toxic substances in concentrations that produce detrimental physiological responses in humans…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rinking Water is not Adequately Protect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re are no Basin Plan objectives for key drinking water constituents (organic carbon, bromide, nutrients, pathogen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 effluent limita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 monitor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 ability to designate water body as impaire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esses on Source Water Quality are Increas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ess freshwater inflow to Delt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re urban runoff and wastewater flowing to Delt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re competition for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ater in drought yea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94120" y="1676520"/>
            <a:ext cx="5249880" cy="2857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19320" y="1828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will have 60 million residents by 2040 – large portion in Central Valle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5T16:50:07Z</dcterms:created>
  <dc:creator>Michelle Matthes</dc:creator>
  <dc:description/>
  <dc:language>en-US</dc:language>
  <cp:lastModifiedBy>Elaine Archibald</cp:lastModifiedBy>
  <dcterms:modified xsi:type="dcterms:W3CDTF">2004-10-25T19:16:14Z</dcterms:modified>
  <cp:revision>171</cp:revision>
  <dc:subject/>
  <dc:title>Central Valley Drinking Water Policy</dc:title>
</cp:coreProperties>
</file>