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5826-AE5D-4108-AF60-DFD4D73E4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’s put some context on this thing called a watershed-based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tionally they have been dealt with independently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are related to the overall watershed healt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approach and regulatory framework has tended to keep these aspects isola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they might bump up against each other from time to time, but traditional treat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Treatment Plants into 1 permit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away from Technology-based permit structure to a Watershed-based regulatory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915-5F19-42D4-A726-A52B3843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BE4-592C-4908-A49C-D63C0D6F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25D-463F-4C37-8630-38BB153E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C4F-EC36-4323-B626-CFABE5C4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19F7-2BFB-4B5A-86FB-1D73D284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2BD0-D088-44F5-A387-01FF2680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7FB-3305-408B-BB1B-FB696A75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3B32-62FC-4A6E-88C1-7C8EF7DB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300-F5A3-47A0-B005-9C6F5323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D967-9C2D-42A3-8D81-5FA5205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BFA9-C3C1-4C95-9AE4-9D82407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E27-9931-4A42-84E1-06EF9BD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CE6C-F0E2-4A2C-A428-9E5C33E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393C-C7C1-453D-B78A-5434EF9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16C-5A19-4781-9EB2-D6312AAB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480-A383-4ED3-B788-07C69F12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2853-95BA-45B1-B8E8-B9CDBAFB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90B-ACA0-4C32-BFCA-33076C07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2AF-1A62-46DE-84FF-0DA6FF87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54D-7F0B-42D7-BAF0-69C00096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324-B0D2-4819-86DE-9F6FFE35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C2A-1161-455F-ABCD-BD7F1888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7DB-EE1C-45AE-A4AC-0AED1533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D04-A7DD-4645-B5E8-896B9754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8136-D71D-4A42-A8CD-CBB3B4DD6F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78A7-2A24-4E14-AA26-0D28B82421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sing the NPDES Model to Accomplish More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rry Lin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ean Water Serv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Couns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660680" y="567072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25780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pared for AMSA Law Semin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vember 10 – 12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5909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I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atershed-Based Permi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and Process – A new way of thin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st a first step – what’s the next ste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MD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meric Limits v. M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ptive Management and Benchma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al A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d U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Q Reconsi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I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rehensive, integrated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s” perspective of watersh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ality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antity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itat (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shed System Contex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962520"/>
            <a:ext cx="2209680" cy="2133360"/>
          </a:xfrm>
          <a:prstGeom prst="ellipse">
            <a:avLst/>
          </a:prstGeom>
          <a:solidFill>
            <a:srgbClr val="66cc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886200"/>
            <a:ext cx="2057400" cy="2057400"/>
          </a:xfrm>
          <a:prstGeom prst="ellipse">
            <a:avLst/>
          </a:prstGeom>
          <a:solidFill>
            <a:srgbClr val="ff6699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 Qua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3809880"/>
            <a:ext cx="2209680" cy="2057400"/>
          </a:xfrm>
          <a:prstGeom prst="ellipse">
            <a:avLst/>
          </a:prstGeom>
          <a:solidFill>
            <a:srgbClr val="99cc00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752480"/>
            <a:ext cx="129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89480" y="23223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1600200"/>
            <a:ext cx="259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parian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ne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1600200"/>
            <a:ext cx="2286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xygen Demanding Sub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2578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ed Water Resources Management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06481 C -0.03663 -0.05139 -0.03142 -0.03727 -0.02274 -0.02847 C -0.01284 -0.01921 -0.00104 -0.01227 0.01094 -0.00509 C 0.02275 0.00209 0.03403 0.00324 0.04601 0.0051 C 0.05712 0.00625 0.06927 0.00648 0.08073 0.00093 C 0.09219 -0.00301 0.10261 -0.01319 0.11111 -0.02523 C 0.11945 -0.03611 0.12674 -0.05 0.13195 -0.06481 C 0.13681 -0.07939 0.13993 -0.0949 0.14063 -0.10972 C 0.14184 -0.12592 0.13993 -0.14166 0.1349 -0.15625 C 0.13056 -0.17037 0.12396 -0.18379 0.11424 -0.19282 C 0.10608 -0.20277 0.09323 -0.20995 0.08212 -0.21412 C 0.07205 -0.21921 0.0592 -0.22245 0.04723 -0.2199 C 0.03611 -0.21713 0.02657 -0.20833 0.01945 -0.19421 C 0.0132 -0.17963 0.01424 -0.16273 0.01875 -0.15 C 0.02344 -0.13865 0.03316 -0.12824 0.04514 -0.12245 C 0.05764 -0.11782 0.0691 -0.11504 0.08056 -0.11805 C 0.0915 -0.12083 0.09271 -0.11898 0.11059 -0.14004 C 0.129 -0.15833 0.13004 -0.18287 0.13386 -0.19676 C 0.13646 -0.21088 0.13525 -0.22384 0.1342 -0.23935 C 0.13282 -0.25671 0.12674 -0.27245 0.12084 -0.28449 C 0.11493 -0.29629 0.10608 -0.30347 0.09132 -0.31412 C 0.07691 -0.32361 0.06893 -0.32662 0.05764 -0.33078 C 0.04584 -0.33472 0.03455 -0.33912 0.02292 -0.34328 E">
                                      <p:cBhvr>
                                        <p:cTn id="10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17223 C -0.01441 -0.15811 -0.02344 -0.14375 -0.02743 -0.1257 C -0.03142 -0.10602 -0.03351 -0.08287 -0.03542 -0.05949 C -0.0375 -0.03611 -0.03542 -0.01644 -0.03351 0.00486 C -0.03142 0.02477 -0.02847 0.04629 -0.02135 0.06412 C -0.01545 0.08217 -0.00538 0.09606 0.00556 0.10694 C 0.01563 0.11759 0.0276 0.12477 0.03958 0.12847 C 0.05156 0.13194 0.06354 0.13194 0.07465 0.12847 C 0.08663 0.12477 0.09757 0.11574 0.1066 0.10139 C 0.11563 0.08889 0.12361 0.07314 0.1276 0.05347 C 0.13264 0.03541 0.13455 0.01064 0.13455 -0.00926 C 0.13559 -0.02894 0.13455 -0.05232 0.12951 -0.07199 C 0.12465 -0.08982 0.11563 -0.10417 0.10365 -0.11135 C 0.09149 -0.11667 0.07951 -0.10949 0.07153 -0.09699 C 0.06458 -0.08473 0.05955 -0.06482 0.05851 -0.04167 C 0.05851 -0.01829 0.05955 0.00301 0.06458 0.02106 C 0.06962 0.03912 0.06858 0.04259 0.08854 0.06597 C 0.1066 0.09074 0.12465 0.08356 0.13559 0.08541 C 0.14653 0.08541 0.15556 0.07824 0.16649 0.07129 C 0.17865 0.0625 0.18854 0.04629 0.19566 0.03194 C 0.2026 0.01759 0.20556 -0.000470000000000002 0.20955 -0.02894 C 0.2125 -0.05764 0.2125 -0.07199 0.2125 -0.09375 C 0.2125 -0.11505 0.2125 -0.13658 0.2125 -0.15811 E">
                                      <p:cBhvr>
                                        <p:cTn id="10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-0.02801 C 0.01181 -0.01227 0.01736 0.00717 0.01789 0.02569 C 0.01702 0.04537 0.01337 0.06805 0.0099 0.0912 C 0.00712 0.11273 -0.00069 0.13125 -0.00781 0.14953 C -0.0151 0.1655 -0.02378 0.1868 -0.03559 0.2 C -0.04687 0.21365 -0.06111 0.22106 -0.07552 0.22569 C -0.08854 0.23101 -0.1033 0.22916 -0.1177 0.22893 C -0.13073 0.22523 -0.14375 0.21782 -0.1552 0.21018 C -0.16753 0.20138 -0.17691 0.18657 -0.18281 0.16898 C -0.18923 0.15254 -0.19427 0.13333 -0.19323 0.11388 C -0.19427 0.09328 -0.19045 0.07013 -0.18541 0.05185 C -0.18229 0.03263 -0.17534 0.01111 -0.16423 -0.00371 C -0.15451 -0.01875 -0.14166 -0.02801 -0.12691 -0.02848 C -0.11302 -0.02732 -0.10156 -0.01412 -0.09635 0.00277 C -0.09184 0.01689 -0.09149 0.03912 -0.09566 0.06088 C -0.10139 0.08101 -0.10781 0.10069 -0.11788 0.1155 C -0.1276 0.12893 -0.12725 0.1331 -0.15434 0.14444 C -0.18003 0.15856 -0.19809 0.14213 -0.21024 0.13888 C -0.22152 0.13356 -0.22934 0.12129 -0.23941 0.10856 C -0.25104 0.09583 -0.25781 0.07523 -0.26093 0.05949 C -0.26545 0.04213 -0.26371 0.02291 -0.26093 -0.00533 C -0.25781 -0.03311 -0.25312 -0.04584 -0.24861 -0.06713 C -0.2434 -0.08658 -0.23802 -0.10695 -0.23298 -0.12639 E">
                                      <p:cBhvr>
                                        <p:cTn id="11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nership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are the K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shed Partnership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governmental Agreement with DEQ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itional Flow Aug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ter Supply Study –&gt;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table Wa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uppli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laimed Water Master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us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 lieu of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n-stream water for irrig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alatin Valley Irrigation Distri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hanced CREP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ntive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agricultura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andow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verage of existing federal and state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WS share of program costs: 38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grated Compliance with Clean Water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1440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lementation of Watershed-Based Perm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91440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’s Nex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rated Compliance with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ean Water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22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fe Drinking Water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225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dangered Species 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volution of Clean Water Act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mplementation Framework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-based ( 1970’s and 80’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ater quality-base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90’s-00’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11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Verdana"/>
              </a:rPr>
              <a:t>Watershed-bas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rot="19830600">
            <a:off x="2362320" y="2514240"/>
            <a:ext cx="487080" cy="609480"/>
          </a:xfrm>
          <a:prstGeom prst="downArrow">
            <a:avLst>
              <a:gd name="adj1" fmla="val 50000"/>
              <a:gd name="adj2" fmla="val 312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791000">
            <a:off x="4191120" y="4038120"/>
            <a:ext cx="487080" cy="1204920"/>
          </a:xfrm>
          <a:prstGeom prst="downArrow">
            <a:avLst>
              <a:gd name="adj1" fmla="val 50000"/>
              <a:gd name="adj2" fmla="val 6184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ualatin River Watersh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176480"/>
          <a:ext cx="8915400" cy="56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76480"/>
                    <a:ext cx="891540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rcRect l="12230" t="0" r="23147" b="0"/>
          <a:stretch/>
        </p:blipFill>
        <p:spPr>
          <a:xfrm>
            <a:off x="304920" y="3276720"/>
            <a:ext cx="1523880" cy="14302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0" t="0" r="0" b="22212"/>
          <a:stretch/>
        </p:blipFill>
        <p:spPr>
          <a:xfrm>
            <a:off x="1295280" y="5334120"/>
            <a:ext cx="1416240" cy="137304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rcRect l="0" t="9997" r="0" b="15997"/>
          <a:stretch/>
        </p:blipFill>
        <p:spPr>
          <a:xfrm>
            <a:off x="3657600" y="5029200"/>
            <a:ext cx="1467000" cy="16002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7800" y="223920"/>
            <a:ext cx="3765600" cy="870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 Narrow"/>
              </a:rPr>
              <a:t>Integrated Municipal NPDES Perm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43000"/>
            <a:ext cx="28954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…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bundles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Arial Narrow"/>
              </a:rPr>
              <a:t>all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 NPDES permit requirements for a municipality into a single per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…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..recognizes jurisdictional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4800" y="2328840"/>
            <a:ext cx="1165320" cy="87624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1766880"/>
            <a:ext cx="1522440" cy="923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4080" y="3378240"/>
            <a:ext cx="2573280" cy="111600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724280"/>
            <a:ext cx="27669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044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May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O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Storm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C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Biosol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01680" indent="-100440">
              <a:lnSpc>
                <a:spcPct val="65000"/>
              </a:lnSpc>
              <a:spcBef>
                <a:spcPts val="499"/>
              </a:spcBef>
              <a:buClr>
                <a:srgbClr val="003b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b76"/>
                </a:solidFill>
                <a:latin typeface="Verdana"/>
              </a:rPr>
              <a:t>Pre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87840" y="3917880"/>
            <a:ext cx="509760" cy="374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76960" y="3587760"/>
            <a:ext cx="509400" cy="374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1840" y="2641680"/>
            <a:ext cx="509760" cy="37440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03760" y="3170160"/>
            <a:ext cx="509760" cy="3747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645800">
            <a:off x="4457520" y="1909800"/>
            <a:ext cx="1261800" cy="574560"/>
          </a:xfrm>
          <a:prstGeom prst="ellipse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ccessful NPDES permits issued on a watershed basis w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Streamline multiple permits and capture administrative &amp; programmatic effici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ovide a mechanism for implementing more cost-effective technologies and management practices, including water quality tra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Integrate watershed management across Federal statutes:  CWA, SDWA, E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Encourage early and meaningful collaboration and cooperation among key stakehol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1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ditional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90512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190512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429000"/>
            <a:ext cx="9903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sb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342900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213372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1148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27672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5257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ste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5257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torm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905120"/>
            <a:ext cx="0" cy="40384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77556E-017 4.19056E-006 L 0.20833 4.19056E-006 L 0.20833 0.33302 L 2.77556E-017 0.33302 L 2.77556E-017 4.19056E-006 Z">
                                      <p:cBhvr>
                                        <p:cTn id="5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0.00024 L 0.11423 -0.00024 L 0.11736 0.28862 L 3.33333E-006 0.28769 L 3.33333E-006 -0.00024 Z">
                                      <p:cBhvr>
                                        <p:cTn id="5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77556E-017 -2.46068E-006 L 0.19583 -2.46068E-006 L 0.19583 0.18872 L 2.77556E-017 0.18872 L 2.77556E-017 -2.46068E-006 Z">
                                      <p:cBhvr>
                                        <p:cTn id="5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0.00416 L 0.10451 -0.00948 L 0.11493 0.18872 L 5.55112E-017 0.18779 L 5.55112E-017 -0.00416 Z">
                                      <p:cBhvr>
                                        <p:cTn id="5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remove" presetClass="path" presetID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4045 -0.03515 L -0.03733 0.0222 L -0.11893 -0.01734 L -0.07778 0.08395 L -0.10903 0.1938 L -0.03212 0.13668 L 0.04878 0.17715 L 0.0085 0.0747 L 0.04045 -0.03515 Z">
                                      <p:cBhvr>
                                        <p:cTn id="6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remove" presetClass="pat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469 -0.09552 C -0.03767 -0.07563 -0.02049 -0.05435 -0.00608 -0.03007 C 0.06233 0.08372 0.08021 0.21161 0.03698 0.25809 C -0.00573 0.30365 -0.09479 0.25139 -0.16319 0.1376 C -0.17778 0.11332 -0.19062 0.08742 -0.20104 0.06105 C -0.14392 0.12488 -0.08351 0.14847 -0.05017 0.11286 C -0.01632 0.07678 -0.02014 -0.00694 -0.05469 -0.09552 Z">
                                      <p:cBhvr>
                                        <p:cTn id="6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remove" presetClass="path" presetID="1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2.85846E-006 C -0.00503 0.0629 -0.03107 0.11609 -0.07066 0.14292 C -0.11076 0.16905 -0.15764 0.16373 -0.1993 0.13436 C -0.19236 0.0703 -0.16771 0.01711 -0.12743 -0.00902 C -0.08767 -0.03631 -0.04045 -0.03122 -1.38889E-006 2.85846E-006 Z">
                                      <p:cBhvr>
                                        <p:cTn id="6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129528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h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129528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1295280"/>
            <a:ext cx="99072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sb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1295280"/>
            <a:ext cx="91440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13716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13716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-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59092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809880"/>
            <a:ext cx="3581280" cy="144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shed-bas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Muni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DES Per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7" idx="2"/>
            <a:endCxn id="208" idx="2"/>
          </p:cNvCxnSpPr>
          <p:nvPr/>
        </p:nvCxnSpPr>
        <p:spPr>
          <a:xfrm flipH="1" rot="16200000">
            <a:off x="1674360" y="1600560"/>
            <a:ext cx="2520" cy="12200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6" name=""/>
          <p:cNvCxnSpPr>
            <a:stCxn id="208" idx="2"/>
            <a:endCxn id="209" idx="2"/>
          </p:cNvCxnSpPr>
          <p:nvPr/>
        </p:nvCxnSpPr>
        <p:spPr>
          <a:xfrm flipH="1" rot="16200000">
            <a:off x="2874600" y="1619640"/>
            <a:ext cx="2520" cy="118188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7" name=""/>
          <p:cNvCxnSpPr>
            <a:stCxn id="209" idx="2"/>
            <a:endCxn id="210" idx="2"/>
          </p:cNvCxnSpPr>
          <p:nvPr/>
        </p:nvCxnSpPr>
        <p:spPr>
          <a:xfrm flipH="1" rot="16200000">
            <a:off x="4017600" y="1657800"/>
            <a:ext cx="2520" cy="110556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8" name=""/>
          <p:cNvCxnSpPr>
            <a:stCxn id="211" idx="2"/>
            <a:endCxn id="213" idx="1"/>
          </p:cNvCxnSpPr>
          <p:nvPr/>
        </p:nvCxnSpPr>
        <p:spPr>
          <a:xfrm flipH="1" rot="16200000">
            <a:off x="6629040" y="2437920"/>
            <a:ext cx="762840" cy="457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9" name=""/>
          <p:cNvCxnSpPr>
            <a:stCxn id="212" idx="2"/>
            <a:endCxn id="213" idx="3"/>
          </p:cNvCxnSpPr>
          <p:nvPr/>
        </p:nvCxnSpPr>
        <p:spPr>
          <a:xfrm rot="5400000">
            <a:off x="7810200" y="2628720"/>
            <a:ext cx="762840" cy="766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endCxn id="214" idx="2"/>
          </p:cNvCxnSpPr>
          <p:nvPr/>
        </p:nvCxnSpPr>
        <p:spPr>
          <a:xfrm flipH="1" rot="16200000">
            <a:off x="1657080" y="3218760"/>
            <a:ext cx="2096280" cy="534240"/>
          </a:xfrm>
          <a:prstGeom prst="bentConnector2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3" idx="2"/>
            <a:endCxn id="214" idx="6"/>
          </p:cNvCxnSpPr>
          <p:nvPr/>
        </p:nvCxnSpPr>
        <p:spPr>
          <a:xfrm rot="5400000">
            <a:off x="6609600" y="3447360"/>
            <a:ext cx="1028880" cy="1143720"/>
          </a:xfrm>
          <a:prstGeom prst="bentConnector2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687600" y="5635800"/>
            <a:ext cx="3084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in the Natio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d February 26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3200400"/>
            <a:ext cx="11430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Arial"/>
              </a:rPr>
              <a:t>IGA w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b76"/>
                </a:solidFill>
                <a:latin typeface="Arial"/>
              </a:rPr>
              <a:t>DE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480" y="3808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Comprehensive and Integrat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8555400">
            <a:off x="2513880" y="5105160"/>
            <a:ext cx="762120" cy="485640"/>
          </a:xfrm>
          <a:custGeom>
            <a:avLst/>
            <a:gdLst>
              <a:gd name="textAreaLeft" fmla="*/ 118800 w 762120"/>
              <a:gd name="textAreaRight" fmla="*/ 667080 w 7621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5:58:13Z</dcterms:created>
  <dc:creator>loguec</dc:creator>
  <dc:description/>
  <dc:language>en-US</dc:language>
  <cp:lastModifiedBy>AMSA</cp:lastModifiedBy>
  <dcterms:modified xsi:type="dcterms:W3CDTF">2004-11-10T18:41:07Z</dcterms:modified>
  <cp:revision>35</cp:revision>
  <dc:subject/>
  <dc:title>Experiences in the Tualatin River Watershed</dc:title>
</cp:coreProperties>
</file>