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media/image3.jpeg" ContentType="image/jpeg"/>
  <Override PartName="/ppt/media/image4.jpeg" ContentType="image/jpe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9894A-7B34-4B4D-B7B1-B3547F0DD4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t’s put some context on this thing called a watershed-based approach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 El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Q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ter quant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quatic habit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ditionally they have been dealt with independently, B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y are related to the overall watershed health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ditional approach and regulatory framework has tended to keep these aspects isolated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s they might bump up against each other from time to time, but traditional treated separate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 Treatment Plants into 1 permit struc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ving away from Technology-based permit structure to a Watershed-based regulatory frame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DF24A-13EB-40C0-B144-68BCB16EE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99C1C-B0DC-4922-B208-606A82431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F8FBA-5333-4250-BEE9-9D26E22CE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8C274-DE05-41CF-9367-D86586B04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DB146-A356-4223-9C80-302864514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F33C1-F6E4-4FD2-A49F-255B83515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D59B5-7BDD-4379-B790-4D81701C1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3E570-462C-4CBB-9BE6-A1C0E6D53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DF574-88AB-4E11-83C6-1BD5183F9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CFD08-2870-46CF-9250-B7ED3601A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6A9E1-CBAE-4D23-B51C-433F6BF32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AC46E-D7AB-4D88-9FF4-3FEE5A6AF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F1952-016F-4E8E-9FD1-B9437CAF3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12F0F-6668-43EB-A9F0-7B5948EF4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B7257-11D1-4F2A-A08B-A5EBE937E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214FC-51C8-4804-9273-4D662A048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5A42D-1F97-4574-9663-BF6081767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00F99-A994-4E77-8821-C465DF6D4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640B5-E6A8-4DDA-9992-5DF20AA1D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015B0-856C-48BD-BE4A-87F061AAD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CCC1D-8FC6-446F-9230-5A33761EE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E3B65-214F-460E-AC13-B571CE934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AB8A2-2CC3-4B61-86BB-97F1EE100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61FEB-13E8-452F-9AB4-10C658C79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7FAC2-FDF5-4C86-BCAB-337BF549122B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121B3-A507-494C-A2AF-2D977DAE0E48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Using the NPDES Model to Accomplish More</a:t>
            </a:r>
            <a:br>
              <a:rPr sz="4800"/>
            </a:b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1371600" y="3124080"/>
            <a:ext cx="64008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Jerry Linde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ean Water Servic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General Couns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1660680" y="5670720"/>
            <a:ext cx="5959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5257800"/>
            <a:ext cx="62485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Prepared for AMSA Law Seminar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November 10 – 12, 200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143000" y="2590920"/>
            <a:ext cx="71629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II.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Implementation of 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Watershed-Based Permit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halleng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eople and Process – A new way of thinking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Just a first step – what’s the next step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MDL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Numeric Limits v. MEP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daptive Management and Benchmark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Legal Action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Land Use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DEQ Reconsiderat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III.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hat’s Next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305920" cy="132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omprehensive, integrated approach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ystems” perspective of watershe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Verdana"/>
              </a:rPr>
              <a:t>Q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uality,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Verdana"/>
              </a:rPr>
              <a:t>Q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uantity,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Verdana"/>
              </a:rPr>
              <a:t>H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bitat (Q</a:t>
            </a:r>
            <a:r>
              <a:rPr b="0" lang="en-US" sz="32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atershed System Contex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200400" y="3962520"/>
            <a:ext cx="2209680" cy="2133360"/>
          </a:xfrm>
          <a:prstGeom prst="ellipse">
            <a:avLst/>
          </a:prstGeom>
          <a:solidFill>
            <a:srgbClr val="66ccff">
              <a:alpha val="52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ater Qual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" y="3886200"/>
            <a:ext cx="2057400" cy="2057400"/>
          </a:xfrm>
          <a:prstGeom prst="ellipse">
            <a:avLst/>
          </a:prstGeom>
          <a:solidFill>
            <a:srgbClr val="ff6699">
              <a:alpha val="52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ater Quant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400800" y="3809880"/>
            <a:ext cx="2209680" cy="2057400"/>
          </a:xfrm>
          <a:prstGeom prst="ellipse">
            <a:avLst/>
          </a:prstGeom>
          <a:solidFill>
            <a:srgbClr val="99cc00">
              <a:alpha val="52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quatic Habit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990720" y="1752480"/>
            <a:ext cx="129528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lo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u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489480" y="2322360"/>
            <a:ext cx="1539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943600" y="1600200"/>
            <a:ext cx="25909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ha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iparian Improve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anne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971800" y="1600200"/>
            <a:ext cx="2286000" cy="23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osphoru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xygen Demanding Substanc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mperatu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ter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219320" y="5257800"/>
            <a:ext cx="64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tegrated Water Resources Management 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2000"/>
                            </p:stCondLst>
                            <p:childTnLst>
                              <p:par>
                                <p:cTn id="76" nodeType="afterEffect" fill="hold" presetClass="exit" presetID="9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7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2500"/>
                            </p:stCondLst>
                            <p:childTnLst>
                              <p:par>
                                <p:cTn id="8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4500"/>
                            </p:stCondLst>
                            <p:childTnLst>
                              <p:par>
                                <p:cTn id="87" nodeType="afterEffect" fill="hold" presetClass="exit" presetID="9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8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0"/>
                            </p:stCondLst>
                            <p:childTnLst>
                              <p:par>
                                <p:cTn id="9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7000"/>
                            </p:stCondLst>
                            <p:childTnLst>
                              <p:par>
                                <p:cTn id="98" nodeType="afterEffect" fill="hold" presetClass="exit" presetID="9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9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path" presetID="6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253 -0.06481 C -0.03663 -0.05139 -0.03142 -0.03727 -0.02274 -0.02847 C -0.01284 -0.01921 -0.00104 -0.01227 0.01094 -0.00509 C 0.02275 0.00209 0.03403 0.00324 0.04601 0.0051 C 0.05712 0.00625 0.06927 0.00648 0.08073 0.00093 C 0.09219 -0.00301 0.10261 -0.01319 0.11111 -0.02523 C 0.11945 -0.03611 0.12674 -0.05 0.13195 -0.06481 C 0.13681 -0.07939 0.13993 -0.0949 0.14063 -0.10972 C 0.14184 -0.12592 0.13993 -0.14166 0.1349 -0.15625 C 0.13056 -0.17037 0.12396 -0.18379 0.11424 -0.19282 C 0.10608 -0.20277 0.09323 -0.20995 0.08212 -0.21412 C 0.07205 -0.21921 0.0592 -0.22245 0.04723 -0.2199 C 0.03611 -0.21713 0.02657 -0.20833 0.01945 -0.19421 C 0.0132 -0.17963 0.01424 -0.16273 0.01875 -0.15 C 0.02344 -0.13865 0.03316 -0.12824 0.04514 -0.12245 C 0.05764 -0.11782 0.0691 -0.11504 0.08056 -0.11805 C 0.0915 -0.12083 0.09271 -0.11898 0.11059 -0.14004 C 0.129 -0.15833 0.13004 -0.18287 0.13386 -0.19676 C 0.13646 -0.21088 0.13525 -0.22384 0.1342 -0.23935 C 0.13282 -0.25671 0.12674 -0.27245 0.12084 -0.28449 C 0.11493 -0.29629 0.10608 -0.30347 0.09132 -0.31412 C 0.07691 -0.32361 0.06893 -0.32662 0.05764 -0.33078 C 0.04584 -0.33472 0.03455 -0.33912 0.02292 -0.34328 E">
                                      <p:cBhvr>
                                        <p:cTn id="104" dur="2000" fill="hold"/>
                                        <p:tgtEl>
                                          <p:spTgt spid="2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2000"/>
                            </p:stCondLst>
                            <p:childTnLst>
                              <p:par>
                                <p:cTn id="106" nodeType="afterEffect" fill="hold" presetClass="path" presetID="6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642 -0.17223 C -0.01441 -0.15811 -0.02344 -0.14375 -0.02743 -0.1257 C -0.03142 -0.10602 -0.03351 -0.08287 -0.03542 -0.05949 C -0.0375 -0.03611 -0.03542 -0.01644 -0.03351 0.00486 C -0.03142 0.02477 -0.02847 0.04629 -0.02135 0.06412 C -0.01545 0.08217 -0.00538 0.09606 0.00556 0.10694 C 0.01563 0.11759 0.0276 0.12477 0.03958 0.12847 C 0.05156 0.13194 0.06354 0.13194 0.07465 0.12847 C 0.08663 0.12477 0.09757 0.11574 0.1066 0.10139 C 0.11563 0.08889 0.12361 0.07314 0.1276 0.05347 C 0.13264 0.03541 0.13455 0.01064 0.13455 -0.00926 C 0.13559 -0.02894 0.13455 -0.05232 0.12951 -0.07199 C 0.12465 -0.08982 0.11563 -0.10417 0.10365 -0.11135 C 0.09149 -0.11667 0.07951 -0.10949 0.07153 -0.09699 C 0.06458 -0.08473 0.05955 -0.06482 0.05851 -0.04167 C 0.05851 -0.01829 0.05955 0.00301 0.06458 0.02106 C 0.06962 0.03912 0.06858 0.04259 0.08854 0.06597 C 0.1066 0.09074 0.12465 0.08356 0.13559 0.08541 C 0.14653 0.08541 0.15556 0.07824 0.16649 0.07129 C 0.17865 0.0625 0.18854 0.04629 0.19566 0.03194 C 0.2026 0.01759 0.20556 -0.000470000000000002 0.20955 -0.02894 C 0.2125 -0.05764 0.2125 -0.07199 0.2125 -0.09375 C 0.2125 -0.11505 0.2125 -0.13658 0.2125 -0.15811 E">
                                      <p:cBhvr>
                                        <p:cTn id="107" dur="2000" fill="hold"/>
                                        <p:tgtEl>
                                          <p:spTgt spid="2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4000"/>
                            </p:stCondLst>
                            <p:childTnLst>
                              <p:par>
                                <p:cTn id="109" nodeType="afterEffect" fill="hold" presetClass="path" presetID="48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625 -0.02801 C 0.01181 -0.01227 0.01736 0.00717 0.01789 0.02569 C 0.01702 0.04537 0.01337 0.06805 0.0099 0.0912 C 0.00712 0.11273 -0.00069 0.13125 -0.00781 0.14953 C -0.0151 0.1655 -0.02378 0.1868 -0.03559 0.2 C -0.04687 0.21365 -0.06111 0.22106 -0.07552 0.22569 C -0.08854 0.23101 -0.1033 0.22916 -0.1177 0.22893 C -0.13073 0.22523 -0.14375 0.21782 -0.1552 0.21018 C -0.16753 0.20138 -0.17691 0.18657 -0.18281 0.16898 C -0.18923 0.15254 -0.19427 0.13333 -0.19323 0.11388 C -0.19427 0.09328 -0.19045 0.07013 -0.18541 0.05185 C -0.18229 0.03263 -0.17534 0.01111 -0.16423 -0.00371 C -0.15451 -0.01875 -0.14166 -0.02801 -0.12691 -0.02848 C -0.11302 -0.02732 -0.10156 -0.01412 -0.09635 0.00277 C -0.09184 0.01689 -0.09149 0.03912 -0.09566 0.06088 C -0.10139 0.08101 -0.10781 0.10069 -0.11788 0.1155 C -0.1276 0.12893 -0.12725 0.1331 -0.15434 0.14444 C -0.18003 0.15856 -0.19809 0.14213 -0.21024 0.13888 C -0.22152 0.13356 -0.22934 0.12129 -0.23941 0.10856 C -0.25104 0.09583 -0.25781 0.07523 -0.26093 0.05949 C -0.26545 0.04213 -0.26371 0.02291 -0.26093 -0.00533 C -0.25781 -0.03311 -0.25312 -0.04584 -0.24861 -0.06713 C -0.2434 -0.08658 -0.23802 -0.10695 -0.23298 -0.12639 E">
                                      <p:cBhvr>
                                        <p:cTn id="110" dur="2000" fill="hold"/>
                                        <p:tgtEl>
                                          <p:spTgt spid="2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41">
                                  <p:stCondLst>
                                    <p:cond delay="1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26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artnerships</a:t>
            </a:r>
            <a:br>
              <a:rPr sz="4400"/>
            </a:b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are the Ke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atershed Partnerships</a:t>
            </a:r>
            <a:br>
              <a:rPr sz="4400"/>
            </a:b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ntergovernmental Agreement with DEQ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dditional Flow Augmentati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Water Supply Study –&gt;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Potable Water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Supplier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eclaimed Water Master Pla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Reuse </a:t>
            </a:r>
            <a:r>
              <a:rPr b="1" i="1" lang="en-US" sz="2400" spc="-1" strike="noStrike">
                <a:solidFill>
                  <a:srgbClr val="ffffff"/>
                </a:solidFill>
                <a:latin typeface="Verdana"/>
              </a:rPr>
              <a:t>in lieu of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in-stream water for irrigat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ualatin Valley Irrigation Distric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nhanced CREP progra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ncentives t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Verdana"/>
              </a:rPr>
              <a:t>agricultural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landowner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Leverage of existing federal and state program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WS share of program costs: 38%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opic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91440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.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ntegrated Compliance with Clean Water Ac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914400" indent="0">
              <a:lnSpc>
                <a:spcPct val="150000"/>
              </a:lnSpc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I.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mplementation of Watershed-Based Permi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914400" indent="0">
              <a:lnSpc>
                <a:spcPct val="150000"/>
              </a:lnSpc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II.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hat’s Next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I.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Integrated Compliance with Clean Water Act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225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ean Water Ac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225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afe Drinking Water Ac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225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ndangered Species Ac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53452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Evolution of Clean Water Act</a:t>
            </a:r>
            <a:br>
              <a:rPr sz="3600"/>
            </a:b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Implementation Framework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echnology-based ( 1970’s and 80’s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Water quality-based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(90’s-00’s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1100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0000"/>
                </a:solidFill>
                <a:uFillTx/>
                <a:latin typeface="Verdana"/>
              </a:rPr>
              <a:t>Watershed-based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 rot="19830600">
            <a:off x="2362320" y="2514240"/>
            <a:ext cx="487080" cy="609480"/>
          </a:xfrm>
          <a:prstGeom prst="downArrow">
            <a:avLst>
              <a:gd name="adj1" fmla="val 50000"/>
              <a:gd name="adj2" fmla="val 31282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rot="19791000">
            <a:off x="4191120" y="4038120"/>
            <a:ext cx="487080" cy="1204920"/>
          </a:xfrm>
          <a:prstGeom prst="downArrow">
            <a:avLst>
              <a:gd name="adj1" fmla="val 50000"/>
              <a:gd name="adj2" fmla="val 61844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ualatin River Watershed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0" y="1176480"/>
          <a:ext cx="8915400" cy="5681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176480"/>
                    <a:ext cx="8915400" cy="568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79" name="" descr=""/>
          <p:cNvPicPr/>
          <p:nvPr/>
        </p:nvPicPr>
        <p:blipFill>
          <a:blip r:embed="rId3"/>
          <a:srcRect l="12230" t="0" r="23147" b="0"/>
          <a:stretch/>
        </p:blipFill>
        <p:spPr>
          <a:xfrm>
            <a:off x="304920" y="3276720"/>
            <a:ext cx="1523880" cy="1430280"/>
          </a:xfrm>
          <a:prstGeom prst="rect">
            <a:avLst/>
          </a:prstGeom>
          <a:ln w="28440">
            <a:solidFill>
              <a:srgbClr val="0066cc"/>
            </a:solidFill>
            <a:miter/>
          </a:ln>
        </p:spPr>
      </p:pic>
      <p:pic>
        <p:nvPicPr>
          <p:cNvPr id="180" name="" descr=""/>
          <p:cNvPicPr/>
          <p:nvPr/>
        </p:nvPicPr>
        <p:blipFill>
          <a:blip r:embed="rId4"/>
          <a:srcRect l="0" t="0" r="0" b="22212"/>
          <a:stretch/>
        </p:blipFill>
        <p:spPr>
          <a:xfrm>
            <a:off x="1295280" y="5334120"/>
            <a:ext cx="1416240" cy="1373040"/>
          </a:xfrm>
          <a:prstGeom prst="rect">
            <a:avLst/>
          </a:prstGeom>
          <a:ln w="28440">
            <a:solidFill>
              <a:srgbClr val="0066cc"/>
            </a:solidFill>
            <a:miter/>
          </a:ln>
        </p:spPr>
      </p:pic>
      <p:pic>
        <p:nvPicPr>
          <p:cNvPr id="181" name="" descr=""/>
          <p:cNvPicPr/>
          <p:nvPr/>
        </p:nvPicPr>
        <p:blipFill>
          <a:blip r:embed="rId5"/>
          <a:srcRect l="0" t="9997" r="0" b="15997"/>
          <a:stretch/>
        </p:blipFill>
        <p:spPr>
          <a:xfrm>
            <a:off x="3657600" y="5029200"/>
            <a:ext cx="1467000" cy="1600200"/>
          </a:xfrm>
          <a:prstGeom prst="rect">
            <a:avLst/>
          </a:prstGeom>
          <a:ln w="28440">
            <a:solidFill>
              <a:srgbClr val="0066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500"/>
                            </p:stCondLst>
                            <p:childTnLst>
                              <p:par>
                                <p:cTn id="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307800" y="223920"/>
            <a:ext cx="3765600" cy="870120"/>
          </a:xfrm>
          <a:prstGeom prst="rect">
            <a:avLst/>
          </a:prstGeom>
          <a:solidFill>
            <a:srgbClr val="ffff66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 Narrow"/>
              </a:rPr>
              <a:t>Integrated Municipal NPDES Permi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1143000"/>
            <a:ext cx="2895480" cy="22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00"/>
                </a:solidFill>
                <a:latin typeface="Arial Narrow"/>
              </a:rPr>
              <a:t>…</a:t>
            </a:r>
            <a:r>
              <a:rPr b="1" i="1" lang="en-US" sz="2400" spc="-1" strike="noStrike">
                <a:solidFill>
                  <a:srgbClr val="cc0000"/>
                </a:solidFill>
                <a:latin typeface="Arial Narrow"/>
              </a:rPr>
              <a:t>bundles </a:t>
            </a:r>
            <a:r>
              <a:rPr b="1" i="1" lang="en-US" sz="2400" spc="-1" strike="noStrike" u="sng">
                <a:solidFill>
                  <a:srgbClr val="cc0000"/>
                </a:solidFill>
                <a:uFillTx/>
                <a:latin typeface="Arial Narrow"/>
              </a:rPr>
              <a:t>all</a:t>
            </a:r>
            <a:r>
              <a:rPr b="1" i="1" lang="en-US" sz="2400" spc="-1" strike="noStrike">
                <a:solidFill>
                  <a:srgbClr val="cc0000"/>
                </a:solidFill>
                <a:latin typeface="Arial Narrow"/>
              </a:rPr>
              <a:t> NPDES permit requirements for a municipality into a single permi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00"/>
                </a:solidFill>
                <a:latin typeface="Arial Narrow"/>
              </a:rPr>
              <a:t>…</a:t>
            </a:r>
            <a:r>
              <a:rPr b="1" i="1" lang="en-US" sz="2400" spc="-1" strike="noStrike">
                <a:solidFill>
                  <a:srgbClr val="cc0000"/>
                </a:solidFill>
                <a:latin typeface="Arial Narrow"/>
              </a:rPr>
              <a:t>..recognizes jurisdictional boundar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284800" y="2328840"/>
            <a:ext cx="1165320" cy="876240"/>
          </a:xfrm>
          <a:prstGeom prst="ellipse">
            <a:avLst/>
          </a:prstGeom>
          <a:solidFill>
            <a:srgbClr val="ffff66">
              <a:alpha val="50000"/>
            </a:srgbClr>
          </a:solidFill>
          <a:ln w="76320">
            <a:solidFill>
              <a:srgbClr val="c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659640" y="1766880"/>
            <a:ext cx="1522440" cy="923760"/>
          </a:xfrm>
          <a:prstGeom prst="ellipse">
            <a:avLst/>
          </a:prstGeom>
          <a:solidFill>
            <a:srgbClr val="ffff66">
              <a:alpha val="50000"/>
            </a:srgbClr>
          </a:solidFill>
          <a:ln w="76320">
            <a:solidFill>
              <a:srgbClr val="c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004080" y="3378240"/>
            <a:ext cx="2573280" cy="1116000"/>
          </a:xfrm>
          <a:prstGeom prst="ellipse">
            <a:avLst/>
          </a:prstGeom>
          <a:solidFill>
            <a:srgbClr val="ffff66">
              <a:alpha val="50000"/>
            </a:srgbClr>
          </a:solidFill>
          <a:ln w="76320">
            <a:solidFill>
              <a:srgbClr val="c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91320" y="4724280"/>
            <a:ext cx="2766960" cy="14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100440" indent="-100440">
              <a:lnSpc>
                <a:spcPct val="65000"/>
              </a:lnSpc>
              <a:spcBef>
                <a:spcPts val="499"/>
              </a:spcBef>
              <a:buClr>
                <a:srgbClr val="003b76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b76"/>
                </a:solidFill>
                <a:latin typeface="Verdana"/>
              </a:rPr>
              <a:t>May includ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01680" indent="-100440">
              <a:lnSpc>
                <a:spcPct val="65000"/>
              </a:lnSpc>
              <a:spcBef>
                <a:spcPts val="499"/>
              </a:spcBef>
              <a:buClr>
                <a:srgbClr val="003b7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b76"/>
                </a:solidFill>
                <a:latin typeface="Verdana"/>
              </a:rPr>
              <a:t>POT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01680" indent="-100440">
              <a:lnSpc>
                <a:spcPct val="65000"/>
              </a:lnSpc>
              <a:spcBef>
                <a:spcPts val="499"/>
              </a:spcBef>
              <a:buClr>
                <a:srgbClr val="003b7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b76"/>
                </a:solidFill>
                <a:latin typeface="Verdana"/>
              </a:rPr>
              <a:t>Stormwa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01680" indent="-100440">
              <a:lnSpc>
                <a:spcPct val="65000"/>
              </a:lnSpc>
              <a:spcBef>
                <a:spcPts val="499"/>
              </a:spcBef>
              <a:buClr>
                <a:srgbClr val="003b7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b76"/>
                </a:solidFill>
                <a:latin typeface="Verdana"/>
              </a:rPr>
              <a:t>CS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01680" indent="-100440">
              <a:lnSpc>
                <a:spcPct val="65000"/>
              </a:lnSpc>
              <a:spcBef>
                <a:spcPts val="499"/>
              </a:spcBef>
              <a:buClr>
                <a:srgbClr val="003b7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b76"/>
                </a:solidFill>
                <a:latin typeface="Verdana"/>
              </a:rPr>
              <a:t>Biosoli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01680" indent="-100440">
              <a:lnSpc>
                <a:spcPct val="65000"/>
              </a:lnSpc>
              <a:spcBef>
                <a:spcPts val="499"/>
              </a:spcBef>
              <a:buClr>
                <a:srgbClr val="003b7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b76"/>
                </a:solidFill>
                <a:latin typeface="Verdana"/>
              </a:rPr>
              <a:t>Pretreat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587840" y="3917880"/>
            <a:ext cx="509760" cy="374760"/>
          </a:xfrm>
          <a:prstGeom prst="ellipse">
            <a:avLst/>
          </a:prstGeom>
          <a:solidFill>
            <a:srgbClr val="ffff66">
              <a:alpha val="50000"/>
            </a:srgbClr>
          </a:solidFill>
          <a:ln w="76320">
            <a:solidFill>
              <a:srgbClr val="c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376960" y="3587760"/>
            <a:ext cx="509400" cy="374760"/>
          </a:xfrm>
          <a:prstGeom prst="ellipse">
            <a:avLst/>
          </a:prstGeom>
          <a:solidFill>
            <a:srgbClr val="ffff66">
              <a:alpha val="50000"/>
            </a:srgbClr>
          </a:solidFill>
          <a:ln w="76320">
            <a:solidFill>
              <a:srgbClr val="c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641840" y="2641680"/>
            <a:ext cx="509760" cy="374400"/>
          </a:xfrm>
          <a:prstGeom prst="ellipse">
            <a:avLst/>
          </a:prstGeom>
          <a:solidFill>
            <a:srgbClr val="ffff66">
              <a:alpha val="50000"/>
            </a:srgbClr>
          </a:solidFill>
          <a:ln w="76320">
            <a:solidFill>
              <a:srgbClr val="c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603760" y="3170160"/>
            <a:ext cx="509760" cy="374760"/>
          </a:xfrm>
          <a:prstGeom prst="ellipse">
            <a:avLst/>
          </a:prstGeom>
          <a:solidFill>
            <a:srgbClr val="ffff66">
              <a:alpha val="50000"/>
            </a:srgbClr>
          </a:solidFill>
          <a:ln w="76320">
            <a:solidFill>
              <a:srgbClr val="c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rot="19645800">
            <a:off x="4457520" y="1909800"/>
            <a:ext cx="1261800" cy="574560"/>
          </a:xfrm>
          <a:prstGeom prst="ellipse">
            <a:avLst/>
          </a:prstGeom>
          <a:solidFill>
            <a:srgbClr val="ffff66">
              <a:alpha val="50000"/>
            </a:srgbClr>
          </a:solidFill>
          <a:ln w="76320">
            <a:solidFill>
              <a:srgbClr val="c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uccessful NPDES permits issued on a watershed basis will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52280" y="1904760"/>
            <a:ext cx="87631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Verdana"/>
              </a:rPr>
              <a:t>Streamline multiple permits and capture administrative &amp; programmatic efficienci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228600" indent="-22860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Verdana"/>
              </a:rPr>
              <a:t>Provide a mechanism for implementing more cost-effective technologies and management practices, including water quality trading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228600" indent="-22860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Verdana"/>
              </a:rPr>
              <a:t>Integrate watershed management across Federal statutes:  CWA, SDWA, ES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228600" indent="-22860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Verdana"/>
              </a:rPr>
              <a:t>Encourage early and meaningful collaboration and cooperation among key stakeholder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33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33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33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6" dur="1" fill="hold"/>
                                  <p:tgtEl>
                                    <p:spTgt spid="19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33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raditional Approach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914400" y="1905120"/>
            <a:ext cx="914400" cy="914400"/>
          </a:xfrm>
          <a:prstGeom prst="rect">
            <a:avLst/>
          </a:prstGeom>
          <a:solidFill>
            <a:srgbClr val="ff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urha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PD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438280" y="1905120"/>
            <a:ext cx="914400" cy="914400"/>
          </a:xfrm>
          <a:prstGeom prst="rect">
            <a:avLst/>
          </a:prstGeom>
          <a:solidFill>
            <a:srgbClr val="ff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PD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990720" y="3429000"/>
            <a:ext cx="990360" cy="914400"/>
          </a:xfrm>
          <a:prstGeom prst="rect">
            <a:avLst/>
          </a:prstGeom>
          <a:solidFill>
            <a:srgbClr val="ff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illsbor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PD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514600" y="3429000"/>
            <a:ext cx="914400" cy="914400"/>
          </a:xfrm>
          <a:prstGeom prst="rect">
            <a:avLst/>
          </a:prstGeom>
          <a:solidFill>
            <a:srgbClr val="ff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PD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400800" y="2133720"/>
            <a:ext cx="914400" cy="914400"/>
          </a:xfrm>
          <a:prstGeom prst="rect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200-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467480" y="4114800"/>
            <a:ext cx="914400" cy="914400"/>
          </a:xfrm>
          <a:prstGeom prst="rect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200-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638680" y="3276720"/>
            <a:ext cx="914400" cy="914400"/>
          </a:xfrm>
          <a:prstGeom prst="rect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S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447920" y="525780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Wastewa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029200" y="5257800"/>
            <a:ext cx="289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Storm Wa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572000" y="1905120"/>
            <a:ext cx="0" cy="4038480"/>
          </a:xfrm>
          <a:prstGeom prst="line">
            <a:avLst/>
          </a:prstGeom>
          <a:ln w="7632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path" presetID="7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2.77556E-017 4.19056E-006 L 0.20833 4.19056E-006 L 0.20833 0.33302 L 2.77556E-017 0.33302 L 2.77556E-017 4.19056E-006 Z">
                                      <p:cBhvr>
                                        <p:cTn id="52" dur="2000" fill="hold"/>
                                        <p:tgtEl>
                                          <p:spTgt spid="1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3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3.33333E-006 -0.00024 L 0.11423 -0.00024 L 0.11736 0.28862 L 3.33333E-006 0.28769 L 3.33333E-006 -0.00024 Z">
                                      <p:cBhvr>
                                        <p:cTn id="54" dur="2000" fill="hold"/>
                                        <p:tgtEl>
                                          <p:spTgt spid="1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5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2.77556E-017 -2.46068E-006 L 0.19583 -2.46068E-006 L 0.19583 0.18872 L 2.77556E-017 0.18872 L 2.77556E-017 -2.46068E-006 Z">
                                      <p:cBhvr>
                                        <p:cTn id="56" dur="2000" fill="hold"/>
                                        <p:tgtEl>
                                          <p:spTgt spid="1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5.55112E-017 -0.00416 L 0.10451 -0.00948 L 0.11493 0.18872 L 5.55112E-017 0.18779 L 5.55112E-017 -0.00416 Z">
                                      <p:cBhvr>
                                        <p:cTn id="58" dur="2000" fill="hold"/>
                                        <p:tgtEl>
                                          <p:spTgt spid="2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" nodeType="withEffect" fill="remove" presetClass="path" presetID="1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0.04045 -0.03515 L -0.03733 0.0222 L -0.11893 -0.01734 L -0.07778 0.08395 L -0.10903 0.1938 L -0.03212 0.13668 L 0.04878 0.17715 L 0.0085 0.0747 L 0.04045 -0.03515 Z">
                                      <p:cBhvr>
                                        <p:cTn id="60" dur="2000" fill="hold"/>
                                        <p:tgtEl>
                                          <p:spTgt spid="2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" nodeType="withEffect" fill="remove" presetClass="path" presetID="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0.05469 -0.09552 C -0.03767 -0.07563 -0.02049 -0.05435 -0.00608 -0.03007 C 0.06233 0.08372 0.08021 0.21161 0.03698 0.25809 C -0.00573 0.30365 -0.09479 0.25139 -0.16319 0.1376 C -0.17778 0.11332 -0.19062 0.08742 -0.20104 0.06105 C -0.14392 0.12488 -0.08351 0.14847 -0.05017 0.11286 C -0.01632 0.07678 -0.02014 -0.00694 -0.05469 -0.09552 Z">
                                      <p:cBhvr>
                                        <p:cTn id="62" dur="2000" fill="hold"/>
                                        <p:tgtEl>
                                          <p:spTgt spid="2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" nodeType="withEffect" fill="remove" presetClass="path" presetID="12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1.38889E-006 2.85846E-006 C -0.00503 0.0629 -0.03107 0.11609 -0.07066 0.14292 C -0.11076 0.16905 -0.15764 0.16373 -0.1993 0.13436 C -0.19236 0.0703 -0.16771 0.01711 -0.12743 -0.00902 C -0.08767 -0.03631 -0.04045 -0.03122 -1.38889E-006 2.85846E-006 Z">
                                      <p:cBhvr>
                                        <p:cTn id="64" dur="2000" fill="hold"/>
                                        <p:tgtEl>
                                          <p:spTgt spid="2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609480" y="1295280"/>
            <a:ext cx="914400" cy="914400"/>
          </a:xfrm>
          <a:prstGeom prst="rect">
            <a:avLst/>
          </a:prstGeom>
          <a:solidFill>
            <a:srgbClr val="ff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urha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PD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828800" y="1295280"/>
            <a:ext cx="914400" cy="914400"/>
          </a:xfrm>
          <a:prstGeom prst="rect">
            <a:avLst/>
          </a:prstGeom>
          <a:solidFill>
            <a:srgbClr val="ff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PD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971800" y="1295280"/>
            <a:ext cx="990720" cy="914400"/>
          </a:xfrm>
          <a:prstGeom prst="rect">
            <a:avLst/>
          </a:prstGeom>
          <a:solidFill>
            <a:srgbClr val="ff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illsbor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PD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114800" y="1295280"/>
            <a:ext cx="914400" cy="914400"/>
          </a:xfrm>
          <a:prstGeom prst="rect">
            <a:avLst/>
          </a:prstGeom>
          <a:solidFill>
            <a:srgbClr val="ff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PD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324480" y="1371600"/>
            <a:ext cx="914400" cy="914400"/>
          </a:xfrm>
          <a:prstGeom prst="rect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200-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2400" y="1371600"/>
            <a:ext cx="914400" cy="914400"/>
          </a:xfrm>
          <a:prstGeom prst="rect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200-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238880" y="2590920"/>
            <a:ext cx="914400" cy="914400"/>
          </a:xfrm>
          <a:prstGeom prst="rect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S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971800" y="3809880"/>
            <a:ext cx="3581280" cy="1447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atershed-bas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tegrated Municip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PDES Perm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15" name=""/>
          <p:cNvCxnSpPr>
            <a:stCxn id="207" idx="2"/>
            <a:endCxn id="208" idx="2"/>
          </p:cNvCxnSpPr>
          <p:nvPr/>
        </p:nvCxnSpPr>
        <p:spPr>
          <a:xfrm flipH="1" rot="16200000">
            <a:off x="1674360" y="1600560"/>
            <a:ext cx="2520" cy="1220040"/>
          </a:xfrm>
          <a:prstGeom prst="bentConnector3">
            <a:avLst>
              <a:gd name="adj1" fmla="val 14400000"/>
            </a:avLst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216" name=""/>
          <p:cNvCxnSpPr>
            <a:stCxn id="208" idx="2"/>
            <a:endCxn id="209" idx="2"/>
          </p:cNvCxnSpPr>
          <p:nvPr/>
        </p:nvCxnSpPr>
        <p:spPr>
          <a:xfrm flipH="1" rot="16200000">
            <a:off x="2874600" y="1619640"/>
            <a:ext cx="2520" cy="1181880"/>
          </a:xfrm>
          <a:prstGeom prst="bentConnector3">
            <a:avLst>
              <a:gd name="adj1" fmla="val 14400000"/>
            </a:avLst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217" name=""/>
          <p:cNvCxnSpPr>
            <a:stCxn id="209" idx="2"/>
            <a:endCxn id="210" idx="2"/>
          </p:cNvCxnSpPr>
          <p:nvPr/>
        </p:nvCxnSpPr>
        <p:spPr>
          <a:xfrm flipH="1" rot="16200000">
            <a:off x="4017600" y="1657800"/>
            <a:ext cx="2520" cy="1105560"/>
          </a:xfrm>
          <a:prstGeom prst="bentConnector3">
            <a:avLst>
              <a:gd name="adj1" fmla="val 14400000"/>
            </a:avLst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218" name=""/>
          <p:cNvCxnSpPr>
            <a:stCxn id="211" idx="2"/>
            <a:endCxn id="213" idx="1"/>
          </p:cNvCxnSpPr>
          <p:nvPr/>
        </p:nvCxnSpPr>
        <p:spPr>
          <a:xfrm flipH="1" rot="16200000">
            <a:off x="6629040" y="2437920"/>
            <a:ext cx="762840" cy="457920"/>
          </a:xfrm>
          <a:prstGeom prst="bentConnector2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219" name=""/>
          <p:cNvCxnSpPr>
            <a:stCxn id="212" idx="2"/>
            <a:endCxn id="213" idx="3"/>
          </p:cNvCxnSpPr>
          <p:nvPr/>
        </p:nvCxnSpPr>
        <p:spPr>
          <a:xfrm rot="5400000">
            <a:off x="7810200" y="2628720"/>
            <a:ext cx="762840" cy="76680"/>
          </a:xfrm>
          <a:prstGeom prst="bentConnector2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220" name=""/>
          <p:cNvCxnSpPr>
            <a:endCxn id="214" idx="2"/>
          </p:cNvCxnSpPr>
          <p:nvPr/>
        </p:nvCxnSpPr>
        <p:spPr>
          <a:xfrm flipH="1" rot="16200000">
            <a:off x="1657080" y="3218760"/>
            <a:ext cx="2096280" cy="534240"/>
          </a:xfrm>
          <a:prstGeom prst="bentConnector2">
            <a:avLst/>
          </a:prstGeom>
          <a:ln w="4752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3" idx="2"/>
            <a:endCxn id="214" idx="6"/>
          </p:cNvCxnSpPr>
          <p:nvPr/>
        </p:nvCxnSpPr>
        <p:spPr>
          <a:xfrm rot="5400000">
            <a:off x="6609600" y="3447360"/>
            <a:ext cx="1028880" cy="1143720"/>
          </a:xfrm>
          <a:prstGeom prst="bentConnector2">
            <a:avLst/>
          </a:prstGeom>
          <a:ln w="4752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2" name=""/>
          <p:cNvSpPr/>
          <p:nvPr/>
        </p:nvSpPr>
        <p:spPr>
          <a:xfrm>
            <a:off x="687600" y="5635800"/>
            <a:ext cx="30841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The 1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in the Nation 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ssued February 26, 20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876920" y="3200400"/>
            <a:ext cx="1143000" cy="6858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b76"/>
                </a:solidFill>
                <a:latin typeface="Arial"/>
              </a:rPr>
              <a:t>IGA w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b76"/>
                </a:solidFill>
                <a:latin typeface="Arial"/>
              </a:rPr>
              <a:t>DEQ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26480" y="380880"/>
            <a:ext cx="799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A Comprehensive and Integrated Approa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rot="8555400">
            <a:off x="2513880" y="5105160"/>
            <a:ext cx="762120" cy="485640"/>
          </a:xfrm>
          <a:custGeom>
            <a:avLst/>
            <a:gdLst>
              <a:gd name="textAreaLeft" fmla="*/ 118800 w 762120"/>
              <a:gd name="textAreaRight" fmla="*/ 667080 w 76212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8T15:58:13Z</dcterms:created>
  <dc:creator>loguec</dc:creator>
  <dc:description/>
  <dc:language>en-US</dc:language>
  <cp:lastModifiedBy>AMSA</cp:lastModifiedBy>
  <dcterms:modified xsi:type="dcterms:W3CDTF">2004-11-10T18:41:07Z</dcterms:modified>
  <cp:revision>35</cp:revision>
  <dc:subject/>
  <dc:title>Experiences in the Tualatin River Watershed</dc:title>
</cp:coreProperties>
</file>