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90588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52120" y="3936240"/>
            <a:ext cx="690588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52120" y="393624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90920" y="393624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87080" y="160020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2040" y="160020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52120" y="393624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87080" y="393624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2040" y="393624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52120" y="1600200"/>
            <a:ext cx="69058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9058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528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52120" y="393624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52120" y="1600200"/>
            <a:ext cx="69058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90920" y="393624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52120" y="3936240"/>
            <a:ext cx="690588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90588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52120" y="3936240"/>
            <a:ext cx="690588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52120" y="393624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90920" y="393624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87080" y="160020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2040" y="160020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52120" y="393624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87080" y="393624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2040" y="3936240"/>
            <a:ext cx="22233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69058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52120" y="393624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90920" y="393624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1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90920" y="1600200"/>
            <a:ext cx="336996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52120" y="3936240"/>
            <a:ext cx="6905880" cy="21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34000"/>
            <a:ext cx="1522440" cy="3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11200" y="6440400"/>
            <a:ext cx="220680" cy="1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Optim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752120" y="1600200"/>
            <a:ext cx="69058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SzPct val="3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" name=""/>
          <p:cNvSpPr/>
          <p:nvPr/>
        </p:nvSpPr>
        <p:spPr>
          <a:xfrm>
            <a:off x="1539720" y="1676520"/>
            <a:ext cx="0" cy="472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70080" y="1833120"/>
            <a:ext cx="591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Optim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34000"/>
            <a:ext cx="1522440" cy="3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11200" y="6440400"/>
            <a:ext cx="220680" cy="1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39720" y="596880"/>
            <a:ext cx="0" cy="580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"/>
              </a:rPr>
              <a:t>AMSA Law Semina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Optima"/>
              </a:rPr>
              <a:t>November 12, 2004</a:t>
            </a:r>
            <a:endParaRPr b="0" lang="en-US" sz="36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34000"/>
            <a:ext cx="1522440" cy="3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11200" y="6440400"/>
            <a:ext cx="220680" cy="1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38280" y="1779480"/>
            <a:ext cx="1440" cy="464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56880" y="5084640"/>
            <a:ext cx="3825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Christopher D. Pomer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Optima"/>
              </a:rPr>
              <a:t>AquaLaw </a:t>
            </a:r>
            <a:r>
              <a:rPr b="1" lang="en-US" sz="1200" spc="-1" strike="noStrike">
                <a:solidFill>
                  <a:srgbClr val="3333cc"/>
                </a:solidFill>
                <a:latin typeface="Optima"/>
              </a:rPr>
              <a:t>PL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471760"/>
            <a:ext cx="754380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Best Practices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Managing Regulatory Inspe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The Inspection: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Inspector’s Questions</a:t>
            </a:r>
            <a:endParaRPr b="0" lang="en-US" sz="48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1765440"/>
            <a:ext cx="7142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en the client doesn’t know the answer immediate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uestioning staf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e ta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The Inspection: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Paper Review</a:t>
            </a:r>
            <a:endParaRPr b="0" lang="en-US" sz="48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10" name=""/>
          <p:cNvSpPr/>
          <p:nvPr/>
        </p:nvSpPr>
        <p:spPr>
          <a:xfrm>
            <a:off x="1649520" y="1765440"/>
            <a:ext cx="714204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po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emporarily misplaced rec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p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treat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The Inspection: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Facility Inspection</a:t>
            </a: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	</a:t>
            </a:r>
            <a:endParaRPr b="0" lang="en-US" sz="48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12" name=""/>
          <p:cNvSpPr/>
          <p:nvPr/>
        </p:nvSpPr>
        <p:spPr>
          <a:xfrm>
            <a:off x="1649520" y="1765440"/>
            <a:ext cx="7142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 ready for divide and conqu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ho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The Inspection: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Closing Meeting</a:t>
            </a: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	</a:t>
            </a:r>
            <a:endParaRPr b="0" lang="en-US" sz="48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14" name=""/>
          <p:cNvSpPr/>
          <p:nvPr/>
        </p:nvSpPr>
        <p:spPr>
          <a:xfrm>
            <a:off x="1649520" y="1765440"/>
            <a:ext cx="71420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firm follow-up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sk about preliminary find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tablish point of contact for inspector’s follow-up ques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quest copy of draft and final 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Post-Inspection Follow-Up</a:t>
            </a:r>
            <a:endParaRPr b="0" lang="en-US" sz="48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16" name=""/>
          <p:cNvSpPr/>
          <p:nvPr/>
        </p:nvSpPr>
        <p:spPr>
          <a:xfrm>
            <a:off x="1649520" y="1765440"/>
            <a:ext cx="7142040" cy="36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 client’s follow-up l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ternal inspection 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ollow-up ques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view and correct agency re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Optima"/>
              </a:rPr>
              <a:t>Overview</a:t>
            </a: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92" name=""/>
          <p:cNvSpPr/>
          <p:nvPr/>
        </p:nvSpPr>
        <p:spPr>
          <a:xfrm>
            <a:off x="1649520" y="1779480"/>
            <a:ext cx="714204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ermit Langu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e Inspe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ollow-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Optima"/>
              </a:rPr>
              <a:t>NPDES Permit Inspection Provision</a:t>
            </a: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94" name=""/>
          <p:cNvSpPr/>
          <p:nvPr/>
        </p:nvSpPr>
        <p:spPr>
          <a:xfrm>
            <a:off x="1649520" y="1779480"/>
            <a:ext cx="71420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Who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Agency or authorized representa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Where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Permittee’s premises where a regulated facility or activity is located or conducted or where records must be kept under the conditions of the perm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Optima"/>
              </a:rPr>
              <a:t>NPDES Permit Inspection Provision (cont.)</a:t>
            </a: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96" name=""/>
          <p:cNvSpPr/>
          <p:nvPr/>
        </p:nvSpPr>
        <p:spPr>
          <a:xfrm>
            <a:off x="1649520" y="1779480"/>
            <a:ext cx="714204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When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At reasonable time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r business h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Wh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never discharg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3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uring emergenci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Optima"/>
              </a:rPr>
              <a:t>NPDES Permit Inspection Provision (cont.)</a:t>
            </a:r>
            <a:endParaRPr b="0" lang="en-US" sz="40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98" name=""/>
          <p:cNvSpPr/>
          <p:nvPr/>
        </p:nvSpPr>
        <p:spPr>
          <a:xfrm>
            <a:off x="1649520" y="1650960"/>
            <a:ext cx="714204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1040" indent="-217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spect facilities, equipment (monitoring and control), practices and operations regulated or required under the per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1040" indent="-217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ample or monitor any substances or parameters at any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1040" indent="-217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ave access to and copy any records that must be kept under the conditions of the per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33 USC § 1318(a)(2)(B); 40 CFR § 122.41(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Preparation</a:t>
            </a:r>
            <a:endParaRPr b="0" lang="en-US" sz="48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00" name=""/>
          <p:cNvSpPr/>
          <p:nvPr/>
        </p:nvSpPr>
        <p:spPr>
          <a:xfrm>
            <a:off x="1649520" y="1765440"/>
            <a:ext cx="714204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termine why the system was targ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termine the scope of the inspe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pecial considerations for EPA inspections in delegate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Preparation (cont.)</a:t>
            </a:r>
            <a:endParaRPr b="0" lang="en-US" sz="48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02" name=""/>
          <p:cNvSpPr/>
          <p:nvPr/>
        </p:nvSpPr>
        <p:spPr>
          <a:xfrm>
            <a:off x="1649520" y="1765440"/>
            <a:ext cx="714204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ake sure the house is in or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ll SSOs were not created equal, so don’t treat them as equal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ave a collection system management plan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Preparation (cont.)</a:t>
            </a:r>
            <a:endParaRPr b="0" lang="en-US" sz="48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04" name=""/>
          <p:cNvSpPr/>
          <p:nvPr/>
        </p:nvSpPr>
        <p:spPr>
          <a:xfrm>
            <a:off x="1649520" y="1765440"/>
            <a:ext cx="7142040" cy="34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reat the inspection as an opport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ide whether to have legal counsel pres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The Inspection: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Optima"/>
              </a:rPr>
              <a:t>Opening Meeting</a:t>
            </a:r>
            <a:endParaRPr b="0" lang="en-US" sz="4800" spc="-1" strike="noStrike">
              <a:solidFill>
                <a:srgbClr val="3333cc"/>
              </a:solidFill>
              <a:latin typeface="Optima"/>
            </a:endParaRPr>
          </a:p>
        </p:txBody>
      </p:sp>
      <p:sp>
        <p:nvSpPr>
          <p:cNvPr id="106" name=""/>
          <p:cNvSpPr/>
          <p:nvPr/>
        </p:nvSpPr>
        <p:spPr>
          <a:xfrm>
            <a:off x="1649520" y="1765440"/>
            <a:ext cx="714204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redent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spection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23:40:57Z</dcterms:created>
  <dc:creator>MWBB</dc:creator>
  <dc:description/>
  <dc:language>en-US</dc:language>
  <cp:lastModifiedBy>unknown</cp:lastModifiedBy>
  <cp:lastPrinted>2002-02-13T22:01:45Z</cp:lastPrinted>
  <dcterms:modified xsi:type="dcterms:W3CDTF">2004-11-12T01:18:09Z</dcterms:modified>
  <cp:revision>698</cp:revision>
  <dc:subject/>
  <dc:title>COMMERCIAL LEASING 2000</dc:title>
</cp:coreProperties>
</file>