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390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06720"/>
            <a:ext cx="83390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0400" y="162864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672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0400" y="390672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8488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6720" y="1628640"/>
            <a:ext cx="268488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6240" y="1628640"/>
            <a:ext cx="268488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06720"/>
            <a:ext cx="268488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6720" y="3906720"/>
            <a:ext cx="268488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6240" y="3906720"/>
            <a:ext cx="268488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33904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3904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6944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0400" y="1628640"/>
            <a:ext cx="406944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95200"/>
            <a:ext cx="8375760" cy="31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400" y="1628640"/>
            <a:ext cx="406944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0672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6944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400" y="162864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0400" y="390672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400" y="1628640"/>
            <a:ext cx="40694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06720"/>
            <a:ext cx="8339040" cy="20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33904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76000"/>
          </a:bodyPr>
          <a:p>
            <a:pPr marL="352080" indent="-3520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32320" indent="-3531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99240" indent="-3423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89120" indent="-3027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38680" indent="-25416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38680" indent="-254160">
              <a:spcBef>
                <a:spcPts val="2251"/>
              </a:spcBef>
              <a:buClr>
                <a:srgbClr val="ffffff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38680" indent="-254160">
              <a:spcBef>
                <a:spcPts val="2251"/>
              </a:spcBef>
              <a:buClr>
                <a:srgbClr val="ffffff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10680"/>
            <a:ext cx="9144000" cy="130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SA Legal Affairs Conferen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ember 10, 2004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n Diego, C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2519280" y="4924080"/>
            <a:ext cx="6469200" cy="132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James Colston, Legal &amp; Reg. Affair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ange County Sanitation District (OCSD) Fountain Valley, 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43080" y="1973160"/>
            <a:ext cx="8439120" cy="22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afd00"/>
                </a:solidFill>
                <a:latin typeface="Arial"/>
              </a:rPr>
              <a:t>OCSD Sanitary Sewer Overflow State Permit Program</a:t>
            </a:r>
            <a:br>
              <a:rPr sz="4200"/>
            </a:br>
            <a:r>
              <a:rPr b="1" lang="en-US" sz="4200" spc="-1" strike="noStrike">
                <a:solidFill>
                  <a:srgbClr val="fafd00"/>
                </a:solidFill>
                <a:latin typeface="Arial"/>
              </a:rPr>
              <a:t>Waste Discharge Requir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9280" y="4637160"/>
            <a:ext cx="1876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37576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liverables and Schedule</a:t>
            </a: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  (cont’d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6280" y="1223640"/>
            <a:ext cx="8339040" cy="436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spcBef>
                <a:spcPts val="2251"/>
              </a:spcBef>
              <a:spcAft>
                <a:spcPts val="1125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ec. 30, 2004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se Control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spcAft>
                <a:spcPts val="1125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July 30, 2005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acity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438"/>
              </a:spcBef>
              <a:spcAft>
                <a:spcPts val="1213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ep. 30, 2005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 SSMP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lnSpc>
                <a:spcPct val="95000"/>
              </a:lnSpc>
              <a:spcBef>
                <a:spcPts val="2438"/>
              </a:spcBef>
              <a:spcAft>
                <a:spcPts val="1701"/>
              </a:spcAft>
              <a:buNone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7576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egal Authority Requirement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1600" y="1143000"/>
            <a:ext cx="8339040" cy="4361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454320" indent="-45432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infiltration and connections from inflow, including satellit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ly design and construct sewers an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 FOG and other debris (roots) that may cause block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y with 40 CFR 403.5 “Pretreatment Program”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113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lated Activities OCSD is Helping with Toda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9680" y="1614240"/>
            <a:ext cx="7889760" cy="436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lnSpc>
                <a:spcPct val="95000"/>
              </a:lnSpc>
              <a:spcBef>
                <a:spcPts val="2001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O Training Fac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5000"/>
              </a:lnSpc>
              <a:spcBef>
                <a:spcPts val="2001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 Projects Program for inflow / infiltration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5000"/>
              </a:lnSpc>
              <a:spcBef>
                <a:spcPts val="2001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 / agency O&amp;M Outreach Progra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5000"/>
              </a:lnSpc>
              <a:spcBef>
                <a:spcPts val="2001"/>
              </a:spcBef>
              <a:spcAft>
                <a:spcPts val="6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y-wide “help desk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11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tus of Fats, Oils, and Grease Control Stud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280" y="1631880"/>
            <a:ext cx="788976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hase 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Complete-with building block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hase I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Studies under 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rea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th stakeholder groups under 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raft Ordinan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velo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113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ture Possibilities for Leadership and Collabor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2520" y="1614240"/>
            <a:ext cx="8339040" cy="43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 Regional Services Group to offer a “cafeteria” type servic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ing medium and large diameter pipe inspection and cleaning for improv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coordination on CIP plann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1240" y="357120"/>
            <a:ext cx="296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38360" y="4941720"/>
            <a:ext cx="6443640" cy="12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Orange County Sanitation District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www.ocsd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arch: WDR – for more info and lin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1224000"/>
            <a:ext cx="841032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Jim Colst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714) 593-7458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colston@ocsd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9280" y="4637160"/>
            <a:ext cx="18763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he Problems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46680" y="1219320"/>
            <a:ext cx="2886120" cy="210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30840" y="4309920"/>
            <a:ext cx="2854440" cy="210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240" y="1719360"/>
            <a:ext cx="5477040" cy="410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Federal and State Prohib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3904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n Water Ac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1: Discharge of any pollutant unlawful except as in compliance wi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§301-4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ifornia Water Code §§13260, 13264, &amp; 13265: Report and issuance of WDRs prior to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PDES POTW Permits – Unauthorized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37576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egulatory Op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3904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horize the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hibition and Affirmative Defen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icy and Resolution Documents (e.g. CSO Policy, CA Enforcement Policy, CA Draft SSO Resolu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tizen Enfor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266760"/>
            <a:ext cx="837576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CSD Background Inform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9840" y="1153800"/>
            <a:ext cx="8061480" cy="43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7000"/>
          </a:bodyPr>
          <a:p>
            <a:pPr marL="449640" indent="-449640">
              <a:spcBef>
                <a:spcPts val="1874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1 square mile service ar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640" indent="-449640">
              <a:spcBef>
                <a:spcPts val="1874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.3 million peo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640" indent="-449640">
              <a:spcBef>
                <a:spcPts val="1874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40 MGD w/550+ MGD hourly wet weather pea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640" indent="-449640">
              <a:spcBef>
                <a:spcPts val="1874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5 miles of regional sewers up to 96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640" indent="-449640">
              <a:spcBef>
                <a:spcPts val="1874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50 miles of local sew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640" indent="-449640">
              <a:spcBef>
                <a:spcPts val="1874"/>
              </a:spcBef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7 regional pumping fac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37576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aste Discharge Requirement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280" y="1157040"/>
            <a:ext cx="8339400" cy="43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0">
              <a:lnSpc>
                <a:spcPct val="90000"/>
              </a:lnSpc>
              <a:spcBef>
                <a:spcPts val="2188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SARWQCB Order R8-2002-0014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Issued April 26, 2002 covering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7 Cities, Special Districts and Cou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-Permitte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hibition and Affirmative Defen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37576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oday’s Present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57040"/>
            <a:ext cx="8339040" cy="43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SD’s current regional role in the WDR compliance ef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DR deliverables and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gal Authority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ed activities and Future Collab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2680" y="246240"/>
            <a:ext cx="793908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CSD’s Current Regional Rol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8120" y="1143000"/>
            <a:ext cx="8339400" cy="43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lnSpc>
                <a:spcPct val="90000"/>
              </a:lnSpc>
              <a:spcBef>
                <a:spcPts val="2001"/>
              </a:spcBef>
              <a:spcAft>
                <a:spcPts val="10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Steering Committee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spcAft>
                <a:spcPts val="10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development of numerous SSMP components with staff and consul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spcAft>
                <a:spcPts val="10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lead on FOG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spcAft>
                <a:spcPts val="1001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and develop a web-bas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O re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2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1240" y="281160"/>
            <a:ext cx="837540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liverables and Schedul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2440" y="1207800"/>
            <a:ext cx="8339400" cy="43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1125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28576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pr. 26, 2002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orting of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SOs and  water quality monit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1125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28576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June 15, 2003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ventative Maintenance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2251"/>
              </a:spcBef>
              <a:spcAft>
                <a:spcPts val="1125"/>
              </a:spcAft>
              <a:buClr>
                <a:srgbClr val="fafd00"/>
              </a:buClr>
              <a:buSzPct val="82000"/>
              <a:buFont typeface="Wingdings" charset="2"/>
              <a:buChar char=""/>
              <a:tabLst>
                <a:tab algn="l" pos="28576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July 30, 2004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gal autho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spcBef>
                <a:spcPts val="2251"/>
              </a:spcBef>
              <a:spcAft>
                <a:spcPts val="2925"/>
              </a:spcAft>
              <a:buNone/>
              <a:tabLst>
                <a:tab algn="l" pos="28576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22:34:19Z</dcterms:created>
  <dc:creator>N. Arhontes</dc:creator>
  <dc:description/>
  <dc:language>en-US</dc:language>
  <cp:lastModifiedBy>JAMES COLSTON</cp:lastModifiedBy>
  <dcterms:modified xsi:type="dcterms:W3CDTF">2004-11-10T06:15:24Z</dcterms:modified>
  <cp:revision>49</cp:revision>
  <dc:subject>CWEA Specialty Conference-Elsinore 03/09/04</dc:subject>
  <dc:title>Spill Prevention and Response Planning</dc:title>
</cp:coreProperties>
</file>