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3640" y="685800"/>
            <a:ext cx="4681440" cy="351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5480" y="4427640"/>
            <a:ext cx="51152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044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24CD2-15F9-409D-9B29-10A2410D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044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A4209B-57F0-4F3F-837C-C8E096F43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7044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044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298A15-1889-4CF2-99AB-EFF88502B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7044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531-0C87-47EB-9E61-41C545CA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B19-4676-43DF-A720-7730B50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75F-127E-40A7-90B1-ACF63A3A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F3B-2DE0-416F-9108-FB4F5145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DF92-1015-4C64-8F29-BF76D3F5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815D-A50D-459A-A652-31C2EE5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87BE-845E-4EFD-B939-DF5CBADF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A4CF-8871-4551-9102-33DB1E3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0140-433F-43D6-A45D-34BE2A3A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E296-E6EF-4192-927E-C3CB4093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B4B0-0FCD-421D-B8FD-5F2D75D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AB5-B0F7-46F9-A3D6-A42F4685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9221-4B61-476B-8763-781DFE69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F706-DBEA-4356-808D-806A5EB1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B89A-333D-41EC-8FE8-C5A10994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76F4-4A2D-4619-B49C-C739CD53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06C7-6D25-4C38-821D-8ACFEE43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580-0C54-4AEB-AA16-8C65A6A0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6CC-BC11-49CE-B225-7A5BEE93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D9F-DE05-4E1D-B081-CA17B00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5EC-A5D8-4479-B366-353E58DE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692-7147-408D-8B41-B91F9DDA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E25-4287-4BFE-8724-0718B19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1F4-06F9-4D29-9E06-EA136E46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A391-46D9-4BC8-9CD1-311C1DE20E9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7CE7-04BC-44D5-A359-EBFCE7E2FC8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SC06337" descr=""/>
          <p:cNvPicPr/>
          <p:nvPr/>
        </p:nvPicPr>
        <p:blipFill>
          <a:blip r:embed="rId2"/>
          <a:srcRect l="0" t="15460" r="0" b="-482"/>
          <a:stretch/>
        </p:blipFill>
        <p:spPr>
          <a:xfrm>
            <a:off x="0" y="0"/>
            <a:ext cx="9448920" cy="699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762120"/>
            <a:ext cx="838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28600"/>
            <a:ext cx="784836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fficient Resolution of Disp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ffective Me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02920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erie Ann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 International L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EI%20logo%20big" descr=""/>
          <p:cNvPicPr/>
          <p:nvPr/>
        </p:nvPicPr>
        <p:blipFill>
          <a:blip r:embed="rId3"/>
          <a:stretch/>
        </p:blipFill>
        <p:spPr>
          <a:xfrm>
            <a:off x="533520" y="5261040"/>
            <a:ext cx="76176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ropriateness of Medi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4419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parties ready to medi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mpromise something you have thought about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interested third-parties; will they be at the t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SC06329" descr=""/>
          <p:cNvPicPr/>
          <p:nvPr/>
        </p:nvPicPr>
        <p:blipFill>
          <a:blip r:embed="rId2"/>
          <a:srcRect l="0" t="0" r="0" b="17461"/>
          <a:stretch/>
        </p:blipFill>
        <p:spPr>
          <a:xfrm>
            <a:off x="6019920" y="3733920"/>
            <a:ext cx="289548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water%20hand" descr=""/>
          <p:cNvPicPr/>
          <p:nvPr/>
        </p:nvPicPr>
        <p:blipFill>
          <a:blip r:embed="rId3"/>
          <a:srcRect l="13954" t="0" r="0" b="0"/>
          <a:stretch/>
        </p:blipFill>
        <p:spPr>
          <a:xfrm>
            <a:off x="5486400" y="1600200"/>
            <a:ext cx="2514600" cy="21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diator Sele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86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bility  and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s and cap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ty and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are impor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DSC06343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oces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556092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482400"/>
              </a:buClr>
              <a:buFont typeface="Wingdings" charset="2"/>
              <a:buChar char=""/>
              <a:tabLst>
                <a:tab algn="l" pos="91296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Conv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482400"/>
              </a:buClr>
              <a:buFont typeface="Wingdings" charset="2"/>
              <a:buChar char=""/>
              <a:tabLst>
                <a:tab algn="l" pos="91296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Sco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482400"/>
              </a:buClr>
              <a:buFont typeface="Wingdings" charset="2"/>
              <a:buChar char=""/>
              <a:tabLst>
                <a:tab algn="l" pos="91296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Proces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uscomputer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962520" cy="26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Mediation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understanding of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opics for which additional information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frame disputes in ways that lead to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eeting2" descr=""/>
          <p:cNvPicPr/>
          <p:nvPr/>
        </p:nvPicPr>
        <p:blipFill>
          <a:blip r:embed="rId2"/>
          <a:stretch/>
        </p:blipFill>
        <p:spPr>
          <a:xfrm>
            <a:off x="5715000" y="19810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ettlement or Consens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ies with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apable of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ossible, has the support of potential spoi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ies are committed to it; its fair or good en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plan to support the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handshake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367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ats to the Settlement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4419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rts” of the parties to the 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DSC06329" descr=""/>
          <p:cNvPicPr/>
          <p:nvPr/>
        </p:nvPicPr>
        <p:blipFill>
          <a:blip r:embed="rId2"/>
          <a:srcRect l="0" t="0" r="0" b="17461"/>
          <a:stretch/>
        </p:blipFill>
        <p:spPr>
          <a:xfrm>
            <a:off x="1981080" y="3657600"/>
            <a:ext cx="48006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6095880" y="1447920"/>
            <a:ext cx="2057400" cy="3530520"/>
            <a:chOff x="6095880" y="1447920"/>
            <a:chExt cx="2057400" cy="353052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095880" y="1447920"/>
              <a:ext cx="2057400" cy="35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155280" y="1483200"/>
              <a:ext cx="1904400" cy="34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SC06348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848720" cy="484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66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1:27:32Z</dcterms:created>
  <dc:creator>Valerie Lee</dc:creator>
  <dc:description/>
  <dc:language>en-US</dc:language>
  <cp:lastModifiedBy>Tiny Tot2</cp:lastModifiedBy>
  <dcterms:modified xsi:type="dcterms:W3CDTF">2004-11-12T17:33:36Z</dcterms:modified>
  <cp:revision>128</cp:revision>
  <dc:subject/>
  <dc:title>Risk Assessment and Risk Communication</dc:title>
</cp:coreProperties>
</file>