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3640" y="685800"/>
            <a:ext cx="4681440" cy="351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5480" y="4427640"/>
            <a:ext cx="51152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85204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70440" y="885204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31530A-059A-48E1-BA5D-55C0E8719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70440" y="885204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E8D9C6-6FFD-4F9E-BC77-04E1F38A3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885204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70440" y="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70440" y="885204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6E9957-23EB-4FBD-8A61-B671F3AEE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885204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70440" y="0"/>
            <a:ext cx="3052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3480" y="4406400"/>
            <a:ext cx="513072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7E0-5B8F-4902-9A08-970299CD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AB8-3F8E-4B2B-8A6B-6B354F4B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E3C-20B2-40CE-B06E-F20FD59B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735-D869-496C-93B2-CBA04C0B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78FB-B53D-410D-8AB4-7968B65D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DD25-82C3-4419-B259-14B453A6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58E2-5582-44A4-A828-CDD398A6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3561-11B2-446F-AD56-17C1E14F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419E-A651-418B-B9A7-DFD32BB4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7868-9895-484B-9100-9506D5BB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68D3-F88F-4983-8C77-5CA89900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A6C-AD0D-414B-B3AE-65D07977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6AEF-044D-46E6-AECE-B42D040F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F847-2F63-40A4-A49C-79397EBD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093F-E3F3-44FA-B6FC-DD59300E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781A-8251-4E8F-95C7-7FB41102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4A7E-0CEF-45C8-A58A-BE6B0FAD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B0D-65C0-4506-B393-ECFC813D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A41-7809-4C2E-8C9D-FC2B7D8C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460-CAD1-4EA3-8F28-5165A862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DE5-3EAC-40FE-84AB-943FE59F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28E0-EA91-4D00-9097-E9D25ECD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C91-D6E4-402A-8A30-02997240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09E9-5797-4F2B-8386-187B7B22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52AC-6612-4BA5-B896-13A2F672127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0809-4545-4315-AC1D-E85A492B16A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SC06337" descr=""/>
          <p:cNvPicPr/>
          <p:nvPr/>
        </p:nvPicPr>
        <p:blipFill>
          <a:blip r:embed="rId2"/>
          <a:srcRect l="0" t="15460" r="0" b="-482"/>
          <a:stretch/>
        </p:blipFill>
        <p:spPr>
          <a:xfrm>
            <a:off x="0" y="0"/>
            <a:ext cx="9448920" cy="6997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762120"/>
            <a:ext cx="8380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228600"/>
            <a:ext cx="7848360" cy="17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fficient Resolution of Disp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ffective Med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5029200"/>
            <a:ext cx="533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erie Ann L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vironment International L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EI%20logo%20big" descr=""/>
          <p:cNvPicPr/>
          <p:nvPr/>
        </p:nvPicPr>
        <p:blipFill>
          <a:blip r:embed="rId3"/>
          <a:stretch/>
        </p:blipFill>
        <p:spPr>
          <a:xfrm>
            <a:off x="533520" y="5261040"/>
            <a:ext cx="761760" cy="7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ropriateness of Medi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4419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 parties ready to medi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ompromise something you have thought about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re interested third-parties; will they be at the t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DSC06329" descr=""/>
          <p:cNvPicPr/>
          <p:nvPr/>
        </p:nvPicPr>
        <p:blipFill>
          <a:blip r:embed="rId2"/>
          <a:srcRect l="0" t="0" r="0" b="17461"/>
          <a:stretch/>
        </p:blipFill>
        <p:spPr>
          <a:xfrm>
            <a:off x="6019920" y="3733920"/>
            <a:ext cx="2895480" cy="1792080"/>
          </a:xfrm>
          <a:prstGeom prst="rect">
            <a:avLst/>
          </a:prstGeom>
          <a:ln w="0">
            <a:noFill/>
          </a:ln>
        </p:spPr>
      </p:pic>
      <p:pic>
        <p:nvPicPr>
          <p:cNvPr id="98" name="water%20hand" descr=""/>
          <p:cNvPicPr/>
          <p:nvPr/>
        </p:nvPicPr>
        <p:blipFill>
          <a:blip r:embed="rId3"/>
          <a:srcRect l="13954" t="0" r="0" b="0"/>
          <a:stretch/>
        </p:blipFill>
        <p:spPr>
          <a:xfrm>
            <a:off x="5486400" y="1600200"/>
            <a:ext cx="2514600" cy="21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ediator Sele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8862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bility  and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lls and capa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ity and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views are import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DSC06343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Proces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556092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482400"/>
              </a:buClr>
              <a:buFont typeface="Wingdings" charset="2"/>
              <a:buChar char=""/>
              <a:tabLst>
                <a:tab algn="l" pos="91296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Conv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482400"/>
              </a:buClr>
              <a:buFont typeface="Wingdings" charset="2"/>
              <a:buChar char=""/>
              <a:tabLst>
                <a:tab algn="l" pos="91296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Sco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482400"/>
              </a:buClr>
              <a:buFont typeface="Wingdings" charset="2"/>
              <a:buChar char=""/>
              <a:tabLst>
                <a:tab algn="l" pos="91296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Proces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uscomputer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3962520" cy="26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Mediation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understanding of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opics for which additional information 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frame disputes in ways that lead to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meeting2" descr=""/>
          <p:cNvPicPr/>
          <p:nvPr/>
        </p:nvPicPr>
        <p:blipFill>
          <a:blip r:embed="rId2"/>
          <a:stretch/>
        </p:blipFill>
        <p:spPr>
          <a:xfrm>
            <a:off x="5715000" y="19810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ettlement or Consensu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ies with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apable of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ossible, has the support of potential spoi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ties are committed to it; its fair or good enou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plan to support the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handshake" descr=""/>
          <p:cNvPicPr/>
          <p:nvPr/>
        </p:nvPicPr>
        <p:blipFill>
          <a:blip r:embed="rId2"/>
          <a:stretch/>
        </p:blipFill>
        <p:spPr>
          <a:xfrm>
            <a:off x="6400800" y="2057400"/>
            <a:ext cx="2367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ats to the Settlement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4419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parts” of the parties to the me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DSC06329" descr=""/>
          <p:cNvPicPr/>
          <p:nvPr/>
        </p:nvPicPr>
        <p:blipFill>
          <a:blip r:embed="rId2"/>
          <a:srcRect l="0" t="0" r="0" b="17461"/>
          <a:stretch/>
        </p:blipFill>
        <p:spPr>
          <a:xfrm>
            <a:off x="1981080" y="3657600"/>
            <a:ext cx="480060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6095880" y="1447920"/>
            <a:ext cx="2057400" cy="3530520"/>
            <a:chOff x="6095880" y="1447920"/>
            <a:chExt cx="2057400" cy="3530520"/>
          </a:xfrm>
        </p:grpSpPr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6095880" y="1447920"/>
              <a:ext cx="2057400" cy="35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155280" y="1483200"/>
              <a:ext cx="1904400" cy="342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SC06348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7848720" cy="4842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666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1:27:32Z</dcterms:created>
  <dc:creator>Valerie Lee</dc:creator>
  <dc:description/>
  <dc:language>en-US</dc:language>
  <cp:lastModifiedBy>Tiny Tot2</cp:lastModifiedBy>
  <dcterms:modified xsi:type="dcterms:W3CDTF">2004-11-12T17:33:36Z</dcterms:modified>
  <cp:revision>128</cp:revision>
  <dc:subject/>
  <dc:title>Risk Assessment and Risk Communication</dc:title>
</cp:coreProperties>
</file>