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11.jpeg" ContentType="image/jpeg"/>
  <Override PartName="/ppt/media/image9.jpeg" ContentType="image/jpeg"/>
  <Override PartName="/ppt/media/image23.wmf" ContentType="image/x-wmf"/>
  <Override PartName="/ppt/media/image6.jpeg" ContentType="image/jpeg"/>
  <Override PartName="/ppt/media/image5.wmf" ContentType="image/x-wmf"/>
  <Override PartName="/ppt/media/image12.jpeg" ContentType="image/jpeg"/>
  <Override PartName="/ppt/media/image7.jpeg" ContentType="image/jpeg"/>
  <Override PartName="/ppt/media/image18.png" ContentType="image/png"/>
  <Override PartName="/ppt/media/image13.jpeg" ContentType="image/jpeg"/>
  <Override PartName="/ppt/media/image4.png" ContentType="image/png"/>
  <Override PartName="/ppt/media/image22.png" ContentType="image/png"/>
  <Override PartName="/ppt/media/image19.jpeg" ContentType="image/jpeg"/>
  <Override PartName="/ppt/media/image21.png" ContentType="image/png"/>
  <Override PartName="/ppt/media/image20.wmf" ContentType="image/x-wmf"/>
  <Override PartName="/ppt/media/image17.jpeg" ContentType="image/jpeg"/>
  <Override PartName="/ppt/media/image16.png" ContentType="image/png"/>
  <Override PartName="/ppt/media/image26.wmf" ContentType="image/x-wmf"/>
  <Override PartName="/ppt/media/image15.jpeg" ContentType="image/jpeg"/>
  <Override PartName="/ppt/media/image14.jpeg" ContentType="image/jpeg"/>
  <Override PartName="/ppt/media/image24.png" ContentType="image/png"/>
  <Override PartName="/ppt/media/image1.png" ContentType="image/png"/>
  <Override PartName="/ppt/media/image3.jpeg" ContentType="image/jpeg"/>
  <Override PartName="/ppt/media/image2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D59CF-504A-4A7D-A499-FAC5A3612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66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4381560"/>
            <a:ext cx="6400800" cy="59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85000"/>
              </a:lnSpc>
              <a:spcBef>
                <a:spcPts val="499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371600" y="5038200"/>
            <a:ext cx="6400800" cy="59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85000"/>
              </a:lnSpc>
              <a:spcBef>
                <a:spcPts val="499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4976E-9C0D-4B98-9FF8-AA5744FD4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66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71600" y="4381560"/>
            <a:ext cx="3123360" cy="59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85000"/>
              </a:lnSpc>
              <a:spcBef>
                <a:spcPts val="499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51560" y="4381560"/>
            <a:ext cx="3123360" cy="59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85000"/>
              </a:lnSpc>
              <a:spcBef>
                <a:spcPts val="499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371600" y="5038200"/>
            <a:ext cx="3123360" cy="59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85000"/>
              </a:lnSpc>
              <a:spcBef>
                <a:spcPts val="499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51560" y="5038200"/>
            <a:ext cx="3123360" cy="59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85000"/>
              </a:lnSpc>
              <a:spcBef>
                <a:spcPts val="499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784FA-B704-4AE4-93BA-87DEA99AB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66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371600" y="4381560"/>
            <a:ext cx="2060640" cy="59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85000"/>
              </a:lnSpc>
              <a:spcBef>
                <a:spcPts val="499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35560" y="4381560"/>
            <a:ext cx="2060640" cy="59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85000"/>
              </a:lnSpc>
              <a:spcBef>
                <a:spcPts val="499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699880" y="4381560"/>
            <a:ext cx="2060640" cy="59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85000"/>
              </a:lnSpc>
              <a:spcBef>
                <a:spcPts val="499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371600" y="5038200"/>
            <a:ext cx="2060640" cy="59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85000"/>
              </a:lnSpc>
              <a:spcBef>
                <a:spcPts val="499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35560" y="5038200"/>
            <a:ext cx="2060640" cy="59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85000"/>
              </a:lnSpc>
              <a:spcBef>
                <a:spcPts val="499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699880" y="5038200"/>
            <a:ext cx="2060640" cy="59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85000"/>
              </a:lnSpc>
              <a:spcBef>
                <a:spcPts val="499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FC3FB-AF79-4F4B-9F8C-254C91D9C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4DDE8-417B-4778-8E03-A33F1BD43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66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4381560"/>
            <a:ext cx="640080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5000"/>
              </a:lnSpc>
              <a:spcBef>
                <a:spcPts val="499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E473D-6982-42E5-B8E0-5E678C35D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66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71600" y="4381560"/>
            <a:ext cx="640080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85000"/>
              </a:lnSpc>
              <a:spcBef>
                <a:spcPts val="499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13BD5-9107-447E-A9CD-344699983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66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71600" y="4381560"/>
            <a:ext cx="312336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85000"/>
              </a:lnSpc>
              <a:spcBef>
                <a:spcPts val="499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51560" y="4381560"/>
            <a:ext cx="312336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85000"/>
              </a:lnSpc>
              <a:spcBef>
                <a:spcPts val="499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CC867-2D32-4586-8F6A-650F7BC24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D8427-64C6-4D74-937C-798F53A2A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85000"/>
              </a:lnSpc>
              <a:spcBef>
                <a:spcPts val="499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8D514-A15B-4303-80AF-2B81807CD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66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4381560"/>
            <a:ext cx="3123360" cy="59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85000"/>
              </a:lnSpc>
              <a:spcBef>
                <a:spcPts val="499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4381560"/>
            <a:ext cx="312336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85000"/>
              </a:lnSpc>
              <a:spcBef>
                <a:spcPts val="499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371600" y="5038200"/>
            <a:ext cx="3123360" cy="59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85000"/>
              </a:lnSpc>
              <a:spcBef>
                <a:spcPts val="499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63751-59DD-4C98-88B8-DD48278FE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66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371600" y="4381560"/>
            <a:ext cx="640080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5000"/>
              </a:lnSpc>
              <a:spcBef>
                <a:spcPts val="499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C6501-DA5C-4DC8-9FEE-16D63CA3B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66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4381560"/>
            <a:ext cx="312336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85000"/>
              </a:lnSpc>
              <a:spcBef>
                <a:spcPts val="499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4381560"/>
            <a:ext cx="3123360" cy="59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85000"/>
              </a:lnSpc>
              <a:spcBef>
                <a:spcPts val="499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51560" y="5038200"/>
            <a:ext cx="3123360" cy="59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85000"/>
              </a:lnSpc>
              <a:spcBef>
                <a:spcPts val="499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225A4-003B-4F6E-A713-E97158AFA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66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4381560"/>
            <a:ext cx="3123360" cy="59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85000"/>
              </a:lnSpc>
              <a:spcBef>
                <a:spcPts val="499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51560" y="4381560"/>
            <a:ext cx="3123360" cy="59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85000"/>
              </a:lnSpc>
              <a:spcBef>
                <a:spcPts val="499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371600" y="5038200"/>
            <a:ext cx="6400800" cy="59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85000"/>
              </a:lnSpc>
              <a:spcBef>
                <a:spcPts val="499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6D896-C29F-4487-82B5-A2857373D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66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4381560"/>
            <a:ext cx="6400800" cy="59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85000"/>
              </a:lnSpc>
              <a:spcBef>
                <a:spcPts val="499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371600" y="5038200"/>
            <a:ext cx="6400800" cy="59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85000"/>
              </a:lnSpc>
              <a:spcBef>
                <a:spcPts val="499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0A519-ED2A-47D8-BECD-0978140B1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66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4381560"/>
            <a:ext cx="3123360" cy="59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85000"/>
              </a:lnSpc>
              <a:spcBef>
                <a:spcPts val="499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1560" y="4381560"/>
            <a:ext cx="3123360" cy="59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85000"/>
              </a:lnSpc>
              <a:spcBef>
                <a:spcPts val="499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371600" y="5038200"/>
            <a:ext cx="3123360" cy="59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85000"/>
              </a:lnSpc>
              <a:spcBef>
                <a:spcPts val="499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51560" y="5038200"/>
            <a:ext cx="3123360" cy="59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85000"/>
              </a:lnSpc>
              <a:spcBef>
                <a:spcPts val="499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35891-1002-4838-8176-D0376098B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66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4381560"/>
            <a:ext cx="2060640" cy="59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85000"/>
              </a:lnSpc>
              <a:spcBef>
                <a:spcPts val="499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535560" y="4381560"/>
            <a:ext cx="2060640" cy="59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85000"/>
              </a:lnSpc>
              <a:spcBef>
                <a:spcPts val="499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699880" y="4381560"/>
            <a:ext cx="2060640" cy="59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85000"/>
              </a:lnSpc>
              <a:spcBef>
                <a:spcPts val="499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371600" y="5038200"/>
            <a:ext cx="2060640" cy="59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85000"/>
              </a:lnSpc>
              <a:spcBef>
                <a:spcPts val="499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535560" y="5038200"/>
            <a:ext cx="2060640" cy="59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85000"/>
              </a:lnSpc>
              <a:spcBef>
                <a:spcPts val="499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699880" y="5038200"/>
            <a:ext cx="2060640" cy="59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85000"/>
              </a:lnSpc>
              <a:spcBef>
                <a:spcPts val="499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54606-305C-4EB5-B861-0BCF8A872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4381560"/>
            <a:ext cx="640080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85000"/>
              </a:lnSpc>
              <a:spcBef>
                <a:spcPts val="499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10E94-C0EE-491E-BFDA-A286D7C0F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71600" y="4381560"/>
            <a:ext cx="312336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85000"/>
              </a:lnSpc>
              <a:spcBef>
                <a:spcPts val="499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51560" y="4381560"/>
            <a:ext cx="312336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85000"/>
              </a:lnSpc>
              <a:spcBef>
                <a:spcPts val="499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606B4-87F5-49B1-8BB8-BEEF7C088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AD307-1949-42E8-BAFC-0479CF1EA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85000"/>
              </a:lnSpc>
              <a:spcBef>
                <a:spcPts val="499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35F8D-CA7C-415C-A3C0-DD5D7F085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66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371600" y="4381560"/>
            <a:ext cx="3123360" cy="59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85000"/>
              </a:lnSpc>
              <a:spcBef>
                <a:spcPts val="499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1560" y="4381560"/>
            <a:ext cx="312336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85000"/>
              </a:lnSpc>
              <a:spcBef>
                <a:spcPts val="499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371600" y="5038200"/>
            <a:ext cx="3123360" cy="59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85000"/>
              </a:lnSpc>
              <a:spcBef>
                <a:spcPts val="499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038DA-E7E9-4F7D-A5CC-8125D7047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66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371600" y="4381560"/>
            <a:ext cx="312336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85000"/>
              </a:lnSpc>
              <a:spcBef>
                <a:spcPts val="499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1560" y="4381560"/>
            <a:ext cx="3123360" cy="59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85000"/>
              </a:lnSpc>
              <a:spcBef>
                <a:spcPts val="499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51560" y="5038200"/>
            <a:ext cx="3123360" cy="59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85000"/>
              </a:lnSpc>
              <a:spcBef>
                <a:spcPts val="499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EF725-7EB0-4861-9B33-17DA7B82D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66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71600" y="4381560"/>
            <a:ext cx="3123360" cy="59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85000"/>
              </a:lnSpc>
              <a:spcBef>
                <a:spcPts val="499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51560" y="4381560"/>
            <a:ext cx="3123360" cy="59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85000"/>
              </a:lnSpc>
              <a:spcBef>
                <a:spcPts val="499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371600" y="5038200"/>
            <a:ext cx="6400800" cy="59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85000"/>
              </a:lnSpc>
              <a:spcBef>
                <a:spcPts val="499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84BB0-2DDB-4993-9A35-130D84E11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25400" y="164880"/>
            <a:ext cx="773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3300"/>
                </a:solidFill>
                <a:latin typeface="Arial Narrow"/>
              </a:rPr>
              <a:t>Click to edit the title text format</a:t>
            </a:r>
            <a:endParaRPr b="1" lang="en-US" sz="46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25400" y="1887480"/>
            <a:ext cx="7483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spcAft>
                <a:spcPts val="601"/>
              </a:spcAft>
              <a:buClr>
                <a:srgbClr val="0066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99"/>
              </a:spcBef>
              <a:spcAft>
                <a:spcPts val="601"/>
              </a:spcAft>
              <a:buClr>
                <a:srgbClr val="006600"/>
              </a:buClr>
              <a:buSzPct val="7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99"/>
              </a:spcBef>
              <a:spcAft>
                <a:spcPts val="601"/>
              </a:spcAft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799"/>
              </a:spcBef>
              <a:spcAft>
                <a:spcPts val="601"/>
              </a:spcAft>
              <a:buClr>
                <a:srgbClr val="00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799"/>
              </a:spcBef>
              <a:spcAft>
                <a:spcPts val="601"/>
              </a:spcAft>
              <a:buClr>
                <a:srgbClr val="0066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7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7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3DD98-9D3B-462F-A105-955130DF89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17480" y="1545840"/>
            <a:ext cx="8426520" cy="12600"/>
          </a:xfrm>
          <a:prstGeom prst="line">
            <a:avLst/>
          </a:prstGeom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97880" y="1494000"/>
            <a:ext cx="1446120" cy="104760"/>
          </a:xfrm>
          <a:prstGeom prst="rect">
            <a:avLst/>
          </a:prstGeom>
          <a:solidFill>
            <a:srgbClr val="006600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c66"/>
                </a:solidFill>
                <a:latin typeface="Arial Black"/>
              </a:rPr>
              <a:t>Click to edit the title text format</a:t>
            </a:r>
            <a:endParaRPr b="0" lang="en-US" sz="2600" spc="-1" strike="noStrike">
              <a:solidFill>
                <a:srgbClr val="ffcc66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FCE6D-0F2E-4779-96F3-4194B39101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85000"/>
              </a:lnSpc>
              <a:spcBef>
                <a:spcPts val="499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700"/>
              </a:spcBef>
              <a:spcAft>
                <a:spcPts val="5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spcAft>
                <a:spcPts val="451"/>
              </a:spcAft>
              <a:buClr>
                <a:srgbClr val="0066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499"/>
              </a:spcBef>
              <a:spcAft>
                <a:spcPts val="374"/>
              </a:spcAft>
              <a:buClr>
                <a:srgbClr val="0066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499"/>
              </a:spcBef>
              <a:spcAft>
                <a:spcPts val="374"/>
              </a:spcAft>
              <a:buClr>
                <a:srgbClr val="0066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pn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6480" y="6480"/>
            <a:ext cx="9118440" cy="68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120" y="2285640"/>
            <a:ext cx="80218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cc66"/>
                </a:solidFill>
                <a:latin typeface="Arial Black"/>
              </a:rPr>
              <a:t>Rate Options and </a:t>
            </a:r>
            <a:br>
              <a:rPr sz="4200"/>
            </a:br>
            <a:r>
              <a:rPr b="0" lang="en-US" sz="4200" spc="-1" strike="noStrike">
                <a:solidFill>
                  <a:srgbClr val="ffcc66"/>
                </a:solidFill>
                <a:latin typeface="Arial Black"/>
              </a:rPr>
              <a:t>Rate Increase Acceptance</a:t>
            </a:r>
            <a:endParaRPr b="0" lang="en-US" sz="4200" spc="-1" strike="noStrike">
              <a:solidFill>
                <a:srgbClr val="ffcc66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141640" y="5164200"/>
            <a:ext cx="640080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5000"/>
              </a:lnSpc>
              <a:spcBef>
                <a:spcPts val="499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ric Rothste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85000"/>
              </a:lnSpc>
              <a:spcBef>
                <a:spcPts val="499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tility Management Solu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85000"/>
              </a:lnSpc>
              <a:spcBef>
                <a:spcPts val="499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2M HIL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85000"/>
              </a:lnSpc>
              <a:spcBef>
                <a:spcPts val="499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eb 2, 2005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456840" y="2325600"/>
            <a:ext cx="8458200" cy="16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spcAft>
                <a:spcPts val="451"/>
              </a:spcAft>
              <a:buClr>
                <a:srgbClr val="ccccff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istorically utility rates artificially suppressed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spcAft>
                <a:spcPts val="451"/>
              </a:spcAft>
              <a:buClr>
                <a:srgbClr val="ccccff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perty tax stability held primacy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spcAft>
                <a:spcPts val="451"/>
              </a:spcAft>
              <a:buClr>
                <a:srgbClr val="ccccff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Insufficient manpower in utilities and lack of preventative maintenance caused disastrous problems in 1998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title"/>
          </p:nvPr>
        </p:nvSpPr>
        <p:spPr>
          <a:xfrm>
            <a:off x="380520" y="380880"/>
            <a:ext cx="8085240" cy="14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ffcc66"/>
                </a:solidFill>
                <a:uFillTx/>
                <a:latin typeface="Arial Black"/>
              </a:rPr>
              <a:t>Augusta, Georgia </a:t>
            </a:r>
            <a:br>
              <a:rPr sz="3000"/>
            </a:br>
            <a:r>
              <a:rPr b="1" lang="en-US" sz="4600" spc="-1" strike="noStrike">
                <a:solidFill>
                  <a:srgbClr val="ffffff"/>
                </a:solidFill>
                <a:latin typeface="Arial Narrow"/>
              </a:rPr>
              <a:t>7-year rate increase enables AUD to round ‘Amen Corner’</a:t>
            </a:r>
            <a:endParaRPr b="1" lang="en-US" sz="4600" spc="-1" strike="noStrike">
              <a:solidFill>
                <a:srgbClr val="003300"/>
              </a:solidFill>
              <a:latin typeface="Arial Narrow"/>
            </a:endParaRPr>
          </a:p>
        </p:txBody>
      </p:sp>
      <p:pic>
        <p:nvPicPr>
          <p:cNvPr id="190" name="Object 5" descr=""/>
          <p:cNvPicPr/>
          <p:nvPr/>
        </p:nvPicPr>
        <p:blipFill>
          <a:blip r:embed="rId2"/>
          <a:stretch/>
        </p:blipFill>
        <p:spPr>
          <a:xfrm>
            <a:off x="6257880" y="4363920"/>
            <a:ext cx="2662200" cy="18367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191" name=""/>
          <p:cNvSpPr/>
          <p:nvPr/>
        </p:nvSpPr>
        <p:spPr>
          <a:xfrm>
            <a:off x="452520" y="4179960"/>
            <a:ext cx="594180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85000"/>
              </a:lnSpc>
              <a:spcBef>
                <a:spcPts val="601"/>
              </a:spcBef>
              <a:spcAft>
                <a:spcPts val="451"/>
              </a:spcAft>
              <a:buClr>
                <a:srgbClr val="ccccff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-year rate increase program and program commit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85000"/>
              </a:lnSpc>
              <a:spcBef>
                <a:spcPts val="601"/>
              </a:spcBef>
              <a:spcAft>
                <a:spcPts val="451"/>
              </a:spcAft>
              <a:buClr>
                <a:srgbClr val="ccccff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ve accelerated $300M implementation and AUD renew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85000"/>
              </a:lnSpc>
              <a:spcBef>
                <a:spcPts val="601"/>
              </a:spcBef>
              <a:spcAft>
                <a:spcPts val="451"/>
              </a:spcAft>
              <a:buClr>
                <a:srgbClr val="ccccff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tablished goal of benchmark performance by 201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91680" y="236160"/>
            <a:ext cx="8558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 Narrow"/>
              </a:rPr>
              <a:t>Augusta’s 7-year rate increase program demonstrates local commitment</a:t>
            </a:r>
            <a:endParaRPr b="1" lang="en-US" sz="4200" spc="-1" strike="noStrike">
              <a:solidFill>
                <a:srgbClr val="003300"/>
              </a:solidFill>
              <a:latin typeface="Arial Narrow"/>
            </a:endParaRPr>
          </a:p>
        </p:txBody>
      </p:sp>
      <p:pic>
        <p:nvPicPr>
          <p:cNvPr id="194" name="Object 3" descr=""/>
          <p:cNvPicPr/>
          <p:nvPr/>
        </p:nvPicPr>
        <p:blipFill>
          <a:blip r:embed="rId2"/>
          <a:stretch/>
        </p:blipFill>
        <p:spPr>
          <a:xfrm>
            <a:off x="457200" y="1452600"/>
            <a:ext cx="8474040" cy="514044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2209680" y="6491160"/>
            <a:ext cx="609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*Based on water usage of 9,000 gallons per month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2" descr="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0" y="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5872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cc66"/>
                </a:solidFill>
                <a:uFillTx/>
                <a:latin typeface="Arial Black"/>
              </a:rPr>
              <a:t>City of Atlanta, GA</a:t>
            </a:r>
            <a:br>
              <a:rPr sz="2000"/>
            </a:br>
            <a:r>
              <a:rPr b="1" lang="en-US" sz="4200" spc="-1" strike="noStrike">
                <a:solidFill>
                  <a:srgbClr val="ffffcc"/>
                </a:solidFill>
                <a:latin typeface="Arial Narrow"/>
              </a:rPr>
              <a:t>Atlanta’s triple challenge being met with unprecedented political resolve</a:t>
            </a:r>
            <a:endParaRPr b="1" lang="en-US" sz="42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22440" y="2004480"/>
            <a:ext cx="6325920" cy="42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700"/>
              </a:spcBef>
              <a:spcAft>
                <a:spcPts val="524"/>
              </a:spcAft>
              <a:buClr>
                <a:srgbClr val="ffcc66"/>
              </a:buClr>
              <a:buSzPct val="90000"/>
              <a:buFont typeface="Monotype Sort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iled water utility privatization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601"/>
              </a:spcBef>
              <a:spcAft>
                <a:spcPts val="451"/>
              </a:spcAft>
              <a:buClr>
                <a:srgbClr val="ffcc66"/>
              </a:buClr>
              <a:buSzPct val="7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adequate business system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601"/>
              </a:spcBef>
              <a:spcAft>
                <a:spcPts val="451"/>
              </a:spcAft>
              <a:buClr>
                <a:srgbClr val="ffcc66"/>
              </a:buClr>
              <a:buSzPct val="7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ent Order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700"/>
              </a:spcBef>
              <a:spcAft>
                <a:spcPts val="524"/>
              </a:spcAft>
              <a:buClr>
                <a:srgbClr val="ffcc66"/>
              </a:buClr>
              <a:buSzPct val="90000"/>
              <a:buFont typeface="Monotype Sort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lawed stormwater utility fee development yet pending requirements 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700"/>
              </a:spcBef>
              <a:spcAft>
                <a:spcPts val="524"/>
              </a:spcAft>
              <a:buClr>
                <a:srgbClr val="ffcc66"/>
              </a:buClr>
              <a:buSzPct val="90000"/>
              <a:buFont typeface="Monotype Sort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stewater Consent Decree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601"/>
              </a:spcBef>
              <a:spcAft>
                <a:spcPts val="451"/>
              </a:spcAft>
              <a:buClr>
                <a:srgbClr val="ffcc66"/>
              </a:buClr>
              <a:buSzPct val="7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+ billion investm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601"/>
              </a:spcBef>
              <a:spcAft>
                <a:spcPts val="451"/>
              </a:spcAft>
              <a:buClr>
                <a:srgbClr val="ffcc66"/>
              </a:buClr>
              <a:buSzPct val="7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mited schedule &amp; stipulated penaltie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700"/>
              </a:spcBef>
              <a:spcAft>
                <a:spcPts val="524"/>
              </a:spcAft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ng-term under-investment in utility system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199" name="Group 4"/>
          <p:cNvGrpSpPr/>
          <p:nvPr/>
        </p:nvGrpSpPr>
        <p:grpSpPr>
          <a:xfrm>
            <a:off x="6721560" y="2779560"/>
            <a:ext cx="2174760" cy="2537640"/>
            <a:chOff x="6721560" y="2779560"/>
            <a:chExt cx="2174760" cy="2537640"/>
          </a:xfrm>
        </p:grpSpPr>
        <p:pic>
          <p:nvPicPr>
            <p:cNvPr id="200" name="" descr=""/>
            <p:cNvPicPr/>
            <p:nvPr/>
          </p:nvPicPr>
          <p:blipFill>
            <a:blip r:embed="rId2"/>
            <a:stretch/>
          </p:blipFill>
          <p:spPr>
            <a:xfrm>
              <a:off x="6721560" y="2779560"/>
              <a:ext cx="1339920" cy="185292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</p:pic>
        <p:sp>
          <p:nvSpPr>
            <p:cNvPr id="201" name=""/>
            <p:cNvSpPr/>
            <p:nvPr/>
          </p:nvSpPr>
          <p:spPr>
            <a:xfrm>
              <a:off x="6721560" y="4613400"/>
              <a:ext cx="21747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ccff"/>
                  </a:solidFill>
                  <a:latin typeface="Arial Narrow"/>
                </a:rPr>
                <a:t>Mayor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ccff"/>
                  </a:solidFill>
                  <a:latin typeface="Arial Narrow"/>
                </a:rPr>
                <a:t>Shirley Frankli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4" descr="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0" y="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83920" y="21564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cc66"/>
                </a:solidFill>
                <a:latin typeface="Arial Narrow"/>
              </a:rPr>
              <a:t>The City ‘bit the bullet’ with an unprecedented 5-year rate increase</a:t>
            </a:r>
            <a:endParaRPr b="1" lang="en-US" sz="4600" spc="-1" strike="noStrike">
              <a:solidFill>
                <a:srgbClr val="003300"/>
              </a:solidFill>
              <a:latin typeface="Arial Narrow"/>
            </a:endParaRPr>
          </a:p>
        </p:txBody>
      </p:sp>
      <p:pic>
        <p:nvPicPr>
          <p:cNvPr id="204" name="Object 3" descr=""/>
          <p:cNvPicPr/>
          <p:nvPr/>
        </p:nvPicPr>
        <p:blipFill>
          <a:blip r:embed="rId2"/>
          <a:stretch/>
        </p:blipFill>
        <p:spPr>
          <a:xfrm>
            <a:off x="590400" y="1612800"/>
            <a:ext cx="7613640" cy="50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5" descr="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0" y="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739800" y="309240"/>
            <a:ext cx="773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cc66"/>
                </a:solidFill>
                <a:latin typeface="Arial Narrow"/>
              </a:rPr>
              <a:t>Atlanta will use local MOST to reduce adopted 2005 rate increase</a:t>
            </a:r>
            <a:endParaRPr b="1" lang="en-US" sz="42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69880" y="2055960"/>
            <a:ext cx="5479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spcAft>
                <a:spcPts val="524"/>
              </a:spcAft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% Municipal Option Sales Tax (MOST) approved in July 20, 2004 referendum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spcAft>
                <a:spcPts val="524"/>
              </a:spcAft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jected to provide $70M per annum in proceeds for payment of water and sewer capital and operation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spcAft>
                <a:spcPts val="524"/>
              </a:spcAft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ST in place for 4-years with 2 renewals possible with voter approva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08" name="Picture 4" descr=""/>
          <p:cNvPicPr/>
          <p:nvPr/>
        </p:nvPicPr>
        <p:blipFill>
          <a:blip r:embed="rId2"/>
          <a:stretch/>
        </p:blipFill>
        <p:spPr>
          <a:xfrm>
            <a:off x="6140520" y="2629080"/>
            <a:ext cx="2768400" cy="2900160"/>
          </a:xfrm>
          <a:prstGeom prst="rect">
            <a:avLst/>
          </a:prstGeom>
          <a:ln w="38160">
            <a:solidFill>
              <a:srgbClr val="ffcc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salem" descr=""/>
          <p:cNvPicPr/>
          <p:nvPr/>
        </p:nvPicPr>
        <p:blipFill>
          <a:blip r:embed="rId1">
            <a:lum bright="12000"/>
          </a:blip>
          <a:srcRect l="19096" t="0" r="22876" b="0"/>
          <a:stretch/>
        </p:blipFill>
        <p:spPr>
          <a:xfrm>
            <a:off x="11160" y="0"/>
            <a:ext cx="1192320" cy="685800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460520" y="304560"/>
            <a:ext cx="730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865900"/>
                </a:solidFill>
                <a:uFillTx/>
                <a:latin typeface="Arial Narrow"/>
              </a:rPr>
              <a:t>Salem, Oregon</a:t>
            </a:r>
            <a:r>
              <a:rPr b="1" lang="en-US" sz="3400" spc="-1" strike="noStrike">
                <a:solidFill>
                  <a:srgbClr val="003300"/>
                </a:solidFill>
                <a:latin typeface="Arial Narrow"/>
              </a:rPr>
              <a:t> </a:t>
            </a:r>
            <a:br>
              <a:rPr sz="3400"/>
            </a:br>
            <a:r>
              <a:rPr b="1" lang="en-US" sz="3400" spc="-1" strike="noStrike">
                <a:solidFill>
                  <a:srgbClr val="003300"/>
                </a:solidFill>
                <a:latin typeface="Arial Narrow"/>
              </a:rPr>
              <a:t>Multi-year rate strategy adopted to avoid rate spikes &amp; finance near $0.5B in capital</a:t>
            </a:r>
            <a:endParaRPr b="1" lang="en-US" sz="3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644120" y="1893600"/>
            <a:ext cx="7005960" cy="500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spcAft>
                <a:spcPts val="524"/>
              </a:spcAft>
              <a:buClr>
                <a:srgbClr val="0066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Arial"/>
              </a:rPr>
              <a:t>1993 Study calls for annual rate increases through 2001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601"/>
              </a:spcBef>
              <a:spcAft>
                <a:spcPts val="451"/>
              </a:spcAft>
              <a:buClr>
                <a:srgbClr val="006600"/>
              </a:buClr>
              <a:buSzPct val="7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14% / year Water 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601"/>
              </a:spcBef>
              <a:spcAft>
                <a:spcPts val="451"/>
              </a:spcAft>
              <a:buClr>
                <a:srgbClr val="006600"/>
              </a:buClr>
              <a:buSzPct val="7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6.5% / year Sewer 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spcAft>
                <a:spcPts val="524"/>
              </a:spcAft>
              <a:buClr>
                <a:srgbClr val="0066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Arial"/>
              </a:rPr>
              <a:t>Approved initially by Council in 1995 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spcAft>
                <a:spcPts val="524"/>
              </a:spcAft>
              <a:buClr>
                <a:srgbClr val="0066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Arial"/>
              </a:rPr>
              <a:t>2000 Study calls for annual rate increases through 2009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601"/>
              </a:spcBef>
              <a:spcAft>
                <a:spcPts val="451"/>
              </a:spcAft>
              <a:buClr>
                <a:srgbClr val="006600"/>
              </a:buClr>
              <a:buSzPct val="7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8.1% / year Wat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601"/>
              </a:spcBef>
              <a:spcAft>
                <a:spcPts val="451"/>
              </a:spcAft>
              <a:buClr>
                <a:srgbClr val="006600"/>
              </a:buClr>
              <a:buSzPct val="7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8.6% / year S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601"/>
              </a:spcBef>
              <a:spcAft>
                <a:spcPts val="451"/>
              </a:spcAft>
              <a:buClr>
                <a:srgbClr val="006600"/>
              </a:buClr>
              <a:buSzPct val="7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Meet debt service coverage requirement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601"/>
              </a:spcBef>
              <a:spcAft>
                <a:spcPts val="451"/>
              </a:spcAft>
              <a:buClr>
                <a:srgbClr val="006600"/>
              </a:buClr>
              <a:buSzPct val="7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rovide for 45-day minimum balance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salem" descr=""/>
          <p:cNvPicPr/>
          <p:nvPr/>
        </p:nvPicPr>
        <p:blipFill>
          <a:blip r:embed="rId1">
            <a:lum bright="12000"/>
          </a:blip>
          <a:srcRect l="19096" t="0" r="22876" b="0"/>
          <a:stretch/>
        </p:blipFill>
        <p:spPr>
          <a:xfrm>
            <a:off x="11160" y="0"/>
            <a:ext cx="1192320" cy="6858000"/>
          </a:xfrm>
          <a:prstGeom prst="rect">
            <a:avLst/>
          </a:prstGeom>
          <a:ln w="0">
            <a:noFill/>
          </a:ln>
        </p:spPr>
      </p:pic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60520" y="304560"/>
            <a:ext cx="730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865900"/>
                </a:solidFill>
                <a:uFillTx/>
                <a:latin typeface="Arial Narrow"/>
              </a:rPr>
              <a:t>Salem, Oregon</a:t>
            </a:r>
            <a:r>
              <a:rPr b="1" lang="en-US" sz="3400" spc="-1" strike="noStrike">
                <a:solidFill>
                  <a:srgbClr val="003300"/>
                </a:solidFill>
                <a:latin typeface="Arial Narrow"/>
              </a:rPr>
              <a:t> </a:t>
            </a:r>
            <a:br>
              <a:rPr sz="3400"/>
            </a:br>
            <a:r>
              <a:rPr b="1" lang="en-US" sz="3400" spc="-1" strike="noStrike">
                <a:solidFill>
                  <a:srgbClr val="003300"/>
                </a:solidFill>
                <a:latin typeface="Arial Narrow"/>
              </a:rPr>
              <a:t>Salem’s comprehensive approach to rate management fostered public acceptance</a:t>
            </a:r>
            <a:endParaRPr b="1" lang="en-US" sz="3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444320" y="2084400"/>
            <a:ext cx="4389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75000"/>
              </a:lnSpc>
              <a:spcBef>
                <a:spcPts val="700"/>
              </a:spcBef>
              <a:spcAft>
                <a:spcPts val="524"/>
              </a:spcAft>
              <a:buClr>
                <a:srgbClr val="0066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trategic financial planning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32640" indent="-332640">
              <a:lnSpc>
                <a:spcPct val="75000"/>
              </a:lnSpc>
              <a:spcBef>
                <a:spcPts val="700"/>
              </a:spcBef>
              <a:spcAft>
                <a:spcPts val="524"/>
              </a:spcAft>
              <a:buClr>
                <a:srgbClr val="0066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ost-of-service rate studie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20720" indent="-277200">
              <a:lnSpc>
                <a:spcPct val="75000"/>
              </a:lnSpc>
              <a:spcBef>
                <a:spcPts val="601"/>
              </a:spcBef>
              <a:spcAft>
                <a:spcPts val="451"/>
              </a:spcAft>
              <a:buClr>
                <a:srgbClr val="006600"/>
              </a:buClr>
              <a:buSzPct val="7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Multi-year transi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32640" indent="-332640">
              <a:lnSpc>
                <a:spcPct val="75000"/>
              </a:lnSpc>
              <a:spcBef>
                <a:spcPts val="700"/>
              </a:spcBef>
              <a:spcAft>
                <a:spcPts val="524"/>
              </a:spcAft>
              <a:buClr>
                <a:srgbClr val="0066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act fee analyse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20720" indent="-277200">
              <a:lnSpc>
                <a:spcPct val="75000"/>
              </a:lnSpc>
              <a:spcBef>
                <a:spcPts val="601"/>
              </a:spcBef>
              <a:spcAft>
                <a:spcPts val="451"/>
              </a:spcAft>
              <a:buClr>
                <a:srgbClr val="006600"/>
              </a:buClr>
              <a:buSzPct val="7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Water / Wastewater / Stormwat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32640" indent="-332640">
              <a:lnSpc>
                <a:spcPct val="75000"/>
              </a:lnSpc>
              <a:spcBef>
                <a:spcPts val="700"/>
              </a:spcBef>
              <a:spcAft>
                <a:spcPts val="524"/>
              </a:spcAft>
              <a:buClr>
                <a:srgbClr val="0066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xtensive public involvement in all phase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5985000" y="2219400"/>
            <a:ext cx="2914560" cy="3828960"/>
          </a:xfrm>
          <a:prstGeom prst="rect">
            <a:avLst/>
          </a:prstGeom>
          <a:ln w="28440">
            <a:solidFill>
              <a:srgbClr val="00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752400" y="498240"/>
            <a:ext cx="773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3300"/>
                </a:solidFill>
                <a:latin typeface="Arial Narrow"/>
              </a:rPr>
              <a:t>Conclusions</a:t>
            </a:r>
            <a:endParaRPr b="1" lang="en-US" sz="46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762120" y="1822320"/>
            <a:ext cx="8030880" cy="51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99"/>
              </a:spcBef>
              <a:spcAft>
                <a:spcPts val="601"/>
              </a:spcAft>
              <a:buClr>
                <a:srgbClr val="0066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Rate options may be customized to address community needs / policy objectives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00"/>
              </a:spcBef>
              <a:spcAft>
                <a:spcPts val="524"/>
              </a:spcAft>
              <a:buClr>
                <a:srgbClr val="006600"/>
              </a:buClr>
              <a:buSzPct val="7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ost of service serves as benchmark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799"/>
              </a:spcBef>
              <a:spcAft>
                <a:spcPts val="601"/>
              </a:spcAft>
              <a:buClr>
                <a:srgbClr val="0066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Public acceptance of (inevitable) rate increases may be achieved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799"/>
              </a:spcBef>
              <a:spcAft>
                <a:spcPts val="601"/>
              </a:spcAft>
              <a:buClr>
                <a:srgbClr val="0066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ase studies affirm: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00"/>
              </a:spcBef>
              <a:spcAft>
                <a:spcPts val="524"/>
              </a:spcAft>
              <a:buClr>
                <a:srgbClr val="006600"/>
              </a:buClr>
              <a:buSzPct val="7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ortance of careful planning, innovation, equity, and effective public communication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00"/>
              </a:spcBef>
              <a:spcAft>
                <a:spcPts val="524"/>
              </a:spcAft>
              <a:buClr>
                <a:srgbClr val="006600"/>
              </a:buClr>
              <a:buSzPct val="7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apability to address acute financial challenges at the local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6480" y="6480"/>
            <a:ext cx="9118440" cy="68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5640"/>
            <a:ext cx="80218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cc66"/>
                </a:solidFill>
                <a:latin typeface="Arial Black"/>
              </a:rPr>
              <a:t>Rate Options and </a:t>
            </a:r>
            <a:br>
              <a:rPr sz="4200"/>
            </a:br>
            <a:r>
              <a:rPr b="0" lang="en-US" sz="4200" spc="-1" strike="noStrike">
                <a:solidFill>
                  <a:srgbClr val="ffcc66"/>
                </a:solidFill>
                <a:latin typeface="Arial Black"/>
              </a:rPr>
              <a:t>Rate Increase Acceptance</a:t>
            </a:r>
            <a:endParaRPr b="0" lang="en-US" sz="4200" spc="-1" strike="noStrike">
              <a:solidFill>
                <a:srgbClr val="ffcc66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2141640" y="5164200"/>
            <a:ext cx="640080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5000"/>
              </a:lnSpc>
              <a:spcBef>
                <a:spcPts val="499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ric Rothste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85000"/>
              </a:lnSpc>
              <a:spcBef>
                <a:spcPts val="499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tility Management Solu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85000"/>
              </a:lnSpc>
              <a:spcBef>
                <a:spcPts val="499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2M HIL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85000"/>
              </a:lnSpc>
              <a:spcBef>
                <a:spcPts val="499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eb 2, 2005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25400" y="418680"/>
            <a:ext cx="773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3300"/>
                </a:solidFill>
                <a:latin typeface="Arial Narrow"/>
              </a:rPr>
              <a:t>Presentation Outline</a:t>
            </a:r>
            <a:endParaRPr b="1" lang="en-US" sz="46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60240" y="1994040"/>
            <a:ext cx="7709040" cy="47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499"/>
              </a:spcBef>
              <a:spcAft>
                <a:spcPts val="499"/>
              </a:spcAft>
              <a:buClr>
                <a:srgbClr val="0066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Arial"/>
              </a:rPr>
              <a:t>Rate Structure Options &amp; Selection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99"/>
              </a:spcBef>
              <a:spcAft>
                <a:spcPts val="499"/>
              </a:spcAft>
              <a:buClr>
                <a:srgbClr val="006600"/>
              </a:buClr>
              <a:buSzPct val="7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Arial"/>
              </a:rPr>
              <a:t>Cost of Service Based Option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99"/>
              </a:spcBef>
              <a:spcAft>
                <a:spcPts val="499"/>
              </a:spcAft>
              <a:buClr>
                <a:srgbClr val="006600"/>
              </a:buClr>
              <a:buSzPct val="7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Arial"/>
              </a:rPr>
              <a:t>Public Policy Based Option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spcAft>
                <a:spcPts val="499"/>
              </a:spcAft>
              <a:buClr>
                <a:srgbClr val="0066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Arial"/>
              </a:rPr>
              <a:t>'Avoiding Rate Shock' 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99"/>
              </a:spcBef>
              <a:spcAft>
                <a:spcPts val="499"/>
              </a:spcAft>
              <a:buClr>
                <a:srgbClr val="006600"/>
              </a:buClr>
              <a:buSzPct val="7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Arial"/>
              </a:rPr>
              <a:t>Lessons of the AWWA WUC report 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spcAft>
                <a:spcPts val="499"/>
              </a:spcAft>
              <a:buClr>
                <a:srgbClr val="0066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Arial"/>
              </a:rPr>
              <a:t>Case Studies: 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99"/>
              </a:spcBef>
              <a:spcAft>
                <a:spcPts val="499"/>
              </a:spcAft>
              <a:buClr>
                <a:srgbClr val="006600"/>
              </a:buClr>
              <a:buSzPct val="7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Arial"/>
              </a:rPr>
              <a:t>Augusta, Georgia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99"/>
              </a:spcBef>
              <a:spcAft>
                <a:spcPts val="499"/>
              </a:spcAft>
              <a:buClr>
                <a:srgbClr val="006600"/>
              </a:buClr>
              <a:buSzPct val="7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Arial"/>
              </a:rPr>
              <a:t>Salem, Oregon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99"/>
              </a:spcBef>
              <a:spcAft>
                <a:spcPts val="499"/>
              </a:spcAft>
              <a:buClr>
                <a:srgbClr val="006600"/>
              </a:buClr>
              <a:buSzPct val="7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Arial"/>
              </a:rPr>
              <a:t>Atlanta, Georgia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25400" y="444240"/>
            <a:ext cx="773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3300"/>
                </a:solidFill>
                <a:latin typeface="Arial Narrow"/>
              </a:rPr>
              <a:t>Rate Setting Context</a:t>
            </a:r>
            <a:endParaRPr b="1" lang="en-US" sz="46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8040" y="1887480"/>
            <a:ext cx="5865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5000"/>
              </a:lnSpc>
              <a:spcBef>
                <a:spcPts val="700"/>
              </a:spcBef>
              <a:spcAft>
                <a:spcPts val="524"/>
              </a:spcAft>
              <a:buClr>
                <a:srgbClr val="0066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Arial"/>
              </a:rPr>
              <a:t>Wastewater rates have been and will continue to increase at pace well above rate of inflation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32640" indent="-332640">
              <a:lnSpc>
                <a:spcPct val="85000"/>
              </a:lnSpc>
              <a:spcBef>
                <a:spcPts val="700"/>
              </a:spcBef>
              <a:spcAft>
                <a:spcPts val="524"/>
              </a:spcAft>
              <a:buClr>
                <a:srgbClr val="0066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Arial"/>
              </a:rPr>
              <a:t>Wastewater services generally remain under-price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32640" indent="-332640">
              <a:lnSpc>
                <a:spcPct val="85000"/>
              </a:lnSpc>
              <a:spcBef>
                <a:spcPts val="700"/>
              </a:spcBef>
              <a:spcAft>
                <a:spcPts val="524"/>
              </a:spcAft>
              <a:buClr>
                <a:srgbClr val="0066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Arial"/>
              </a:rPr>
              <a:t>Industry recognition of rate and financial imperative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32640" indent="-332640">
              <a:lnSpc>
                <a:spcPct val="85000"/>
              </a:lnSpc>
              <a:spcBef>
                <a:spcPts val="700"/>
              </a:spcBef>
              <a:spcAft>
                <a:spcPts val="524"/>
              </a:spcAft>
              <a:buClr>
                <a:srgbClr val="0066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Arial"/>
              </a:rPr>
              <a:t>Examples of successful local rate programs to address critical system nee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32640" indent="0">
              <a:lnSpc>
                <a:spcPct val="85000"/>
              </a:lnSpc>
              <a:spcBef>
                <a:spcPts val="700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94" name="Picture 2" descr=""/>
          <p:cNvPicPr/>
          <p:nvPr/>
        </p:nvPicPr>
        <p:blipFill>
          <a:blip r:embed="rId1"/>
          <a:stretch/>
        </p:blipFill>
        <p:spPr>
          <a:xfrm>
            <a:off x="6531120" y="4622760"/>
            <a:ext cx="2350800" cy="1847880"/>
          </a:xfrm>
          <a:prstGeom prst="rect">
            <a:avLst/>
          </a:prstGeom>
          <a:ln w="28440">
            <a:solidFill>
              <a:srgbClr val="006600"/>
            </a:solidFill>
            <a:miter/>
          </a:ln>
          <a:effectLst>
            <a:outerShdw dist="64600" dir="674838" blurRad="0" rotWithShape="0">
              <a:srgbClr val="808080"/>
            </a:outerShdw>
          </a:effectLst>
        </p:spPr>
      </p:pic>
      <p:pic>
        <p:nvPicPr>
          <p:cNvPr id="95" name="Picture 7" descr=""/>
          <p:cNvPicPr/>
          <p:nvPr/>
        </p:nvPicPr>
        <p:blipFill>
          <a:blip r:embed="rId2"/>
          <a:stretch/>
        </p:blipFill>
        <p:spPr>
          <a:xfrm>
            <a:off x="6835680" y="2122560"/>
            <a:ext cx="1779840" cy="22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3300"/>
                </a:solidFill>
                <a:latin typeface="Arial Narrow"/>
              </a:rPr>
              <a:t>Cost-of-Service Based Options</a:t>
            </a:r>
            <a:endParaRPr b="1" lang="en-US" sz="46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68080" y="2055960"/>
            <a:ext cx="3159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spcAft>
                <a:spcPts val="524"/>
              </a:spcAft>
              <a:buClr>
                <a:srgbClr val="0066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ost-of-service allocation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spcAft>
                <a:spcPts val="451"/>
              </a:spcAft>
              <a:buClr>
                <a:srgbClr val="006600"/>
              </a:buClr>
              <a:buSzPct val="7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ustomer classific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499"/>
              </a:spcBef>
              <a:spcAft>
                <a:spcPts val="374"/>
              </a:spcAft>
              <a:buClr>
                <a:srgbClr val="0066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By strength loading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499"/>
              </a:spcBef>
              <a:spcAft>
                <a:spcPts val="374"/>
              </a:spcAft>
              <a:buClr>
                <a:srgbClr val="0066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By jurisdictional boundary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spcAft>
                <a:spcPts val="451"/>
              </a:spcAft>
              <a:buClr>
                <a:srgbClr val="006600"/>
              </a:buClr>
              <a:buSzPct val="7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pecific assignments / exclusion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700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4065480" y="1905120"/>
            <a:ext cx="4857840" cy="2825640"/>
          </a:xfrm>
          <a:prstGeom prst="rect">
            <a:avLst/>
          </a:prstGeom>
          <a:ln w="28440">
            <a:solidFill>
              <a:srgbClr val="003300"/>
            </a:solidFill>
            <a:miter/>
          </a:ln>
        </p:spPr>
      </p:pic>
      <p:sp>
        <p:nvSpPr>
          <p:cNvPr id="99" name=""/>
          <p:cNvSpPr/>
          <p:nvPr/>
        </p:nvSpPr>
        <p:spPr>
          <a:xfrm>
            <a:off x="4044960" y="4867200"/>
            <a:ext cx="48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 Narrow"/>
              </a:rPr>
              <a:t>Standard practices afford considerable  opportunity to customize rate analysis to reflect local circumst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3300"/>
                </a:solidFill>
                <a:latin typeface="Arial Narrow"/>
              </a:rPr>
              <a:t>Policy-Based Options</a:t>
            </a:r>
            <a:endParaRPr b="1" lang="en-US" sz="46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2560" y="2107800"/>
            <a:ext cx="7896240" cy="14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spcAft>
                <a:spcPts val="524"/>
              </a:spcAft>
              <a:buClr>
                <a:srgbClr val="0066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Deviations from cost-of-service benchmark may be employed to effect public policy objective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700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82560" y="3483000"/>
            <a:ext cx="6070680" cy="13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85000"/>
              </a:lnSpc>
              <a:spcBef>
                <a:spcPts val="601"/>
              </a:spcBef>
              <a:spcAft>
                <a:spcPts val="451"/>
              </a:spcAft>
              <a:buClr>
                <a:srgbClr val="006600"/>
              </a:buClr>
              <a:buSzPct val="7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Economic development incent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spcAft>
                <a:spcPts val="451"/>
              </a:spcAft>
              <a:buClr>
                <a:srgbClr val="006600"/>
              </a:buClr>
              <a:buSzPct val="7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Low-income afford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spcAft>
                <a:spcPts val="451"/>
              </a:spcAft>
              <a:buClr>
                <a:srgbClr val="006600"/>
              </a:buClr>
              <a:buSzPct val="7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Water conservation sup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82560" y="5145120"/>
            <a:ext cx="7896240" cy="14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spcAft>
                <a:spcPts val="524"/>
              </a:spcAft>
              <a:buClr>
                <a:srgbClr val="0066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nter-class subsidies and variances from cost-based rates may subject jurisdictions to challen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spcAft>
                <a:spcPts val="524"/>
              </a:spcAft>
              <a:buClr>
                <a:srgbClr val="006600"/>
              </a:buClr>
              <a:buSzPct val="7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Picture 17" descr=""/>
          <p:cNvPicPr/>
          <p:nvPr/>
        </p:nvPicPr>
        <p:blipFill>
          <a:blip r:embed="rId1"/>
          <a:stretch/>
        </p:blipFill>
        <p:spPr>
          <a:xfrm>
            <a:off x="6997680" y="3043080"/>
            <a:ext cx="1773360" cy="1252800"/>
          </a:xfrm>
          <a:prstGeom prst="rect">
            <a:avLst/>
          </a:prstGeom>
          <a:ln w="28440">
            <a:solidFill>
              <a:srgbClr val="003300"/>
            </a:solidFill>
            <a:miter/>
          </a:ln>
        </p:spPr>
      </p:pic>
      <p:pic>
        <p:nvPicPr>
          <p:cNvPr id="105" name="Picture 18" descr=""/>
          <p:cNvPicPr/>
          <p:nvPr/>
        </p:nvPicPr>
        <p:blipFill>
          <a:blip r:embed="rId2"/>
          <a:stretch/>
        </p:blipFill>
        <p:spPr>
          <a:xfrm>
            <a:off x="5681520" y="4086360"/>
            <a:ext cx="1838520" cy="957240"/>
          </a:xfrm>
          <a:prstGeom prst="rect">
            <a:avLst/>
          </a:prstGeom>
          <a:ln w="28440">
            <a:solidFill>
              <a:srgbClr val="00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58800" y="414000"/>
            <a:ext cx="773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3300"/>
                </a:solidFill>
                <a:latin typeface="Arial Narrow"/>
              </a:rPr>
              <a:t>Selecting Rate Design Options</a:t>
            </a:r>
            <a:endParaRPr b="1" lang="en-US" sz="46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107" name=""/>
          <p:cNvSpPr/>
          <p:nvPr/>
        </p:nvSpPr>
        <p:spPr>
          <a:xfrm>
            <a:off x="649440" y="3273480"/>
            <a:ext cx="4533840" cy="546120"/>
          </a:xfrm>
          <a:custGeom>
            <a:avLst/>
            <a:gdLst>
              <a:gd name="textAreaLeft" fmla="*/ 0 w 4533840"/>
              <a:gd name="textAreaRight" fmla="*/ 4534200 w 4533840"/>
              <a:gd name="textAreaTop" fmla="*/ 0 h 546120"/>
              <a:gd name="textAreaBottom" fmla="*/ 546120 h 546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88" y="0"/>
                </a:lnTo>
                <a:lnTo>
                  <a:pt x="21600" y="10800"/>
                </a:lnTo>
                <a:lnTo>
                  <a:pt x="2078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 anchorCtr="1">
            <a:noAutofit/>
          </a:bodyPr>
          <a:p>
            <a:pPr>
              <a:lnSpc>
                <a:spcPct val="85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Arial Narrow"/>
              </a:rPr>
              <a:t>Administrative feasibilit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608800" y="2879640"/>
            <a:ext cx="2958840" cy="2730600"/>
          </a:xfrm>
          <a:prstGeom prst="ellipse">
            <a:avLst/>
          </a:prstGeom>
          <a:gradFill rotWithShape="0">
            <a:gsLst>
              <a:gs pos="0">
                <a:srgbClr val="003300"/>
              </a:gs>
              <a:gs pos="100000">
                <a:srgbClr val="0017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Inter &amp; Intra Class Bill Impa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49440" y="2019240"/>
            <a:ext cx="4533840" cy="546120"/>
          </a:xfrm>
          <a:custGeom>
            <a:avLst/>
            <a:gdLst>
              <a:gd name="textAreaLeft" fmla="*/ 0 w 4533840"/>
              <a:gd name="textAreaRight" fmla="*/ 4534200 w 4533840"/>
              <a:gd name="textAreaTop" fmla="*/ 0 h 546120"/>
              <a:gd name="textAreaBottom" fmla="*/ 546120 h 546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88" y="0"/>
                </a:lnTo>
                <a:lnTo>
                  <a:pt x="21600" y="10800"/>
                </a:lnTo>
                <a:lnTo>
                  <a:pt x="2078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 anchorCtr="1">
            <a:noAutofit/>
          </a:bodyPr>
          <a:p>
            <a:pPr>
              <a:lnSpc>
                <a:spcPct val="85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Arial Narrow"/>
              </a:rPr>
              <a:t>Revenue Adequac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49440" y="3900600"/>
            <a:ext cx="4533840" cy="546120"/>
          </a:xfrm>
          <a:custGeom>
            <a:avLst/>
            <a:gdLst>
              <a:gd name="textAreaLeft" fmla="*/ 0 w 4533840"/>
              <a:gd name="textAreaRight" fmla="*/ 4534200 w 4533840"/>
              <a:gd name="textAreaTop" fmla="*/ 0 h 546120"/>
              <a:gd name="textAreaBottom" fmla="*/ 546120 h 546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88" y="0"/>
                </a:lnTo>
                <a:lnTo>
                  <a:pt x="21600" y="10800"/>
                </a:lnTo>
                <a:lnTo>
                  <a:pt x="2078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 anchorCtr="1">
            <a:noAutofit/>
          </a:bodyPr>
          <a:p>
            <a:pPr>
              <a:lnSpc>
                <a:spcPct val="85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Arial Narrow"/>
              </a:rPr>
              <a:t>Public accept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49440" y="2646360"/>
            <a:ext cx="4533840" cy="546120"/>
          </a:xfrm>
          <a:custGeom>
            <a:avLst/>
            <a:gdLst>
              <a:gd name="textAreaLeft" fmla="*/ 0 w 4533840"/>
              <a:gd name="textAreaRight" fmla="*/ 4534200 w 4533840"/>
              <a:gd name="textAreaTop" fmla="*/ 0 h 546120"/>
              <a:gd name="textAreaBottom" fmla="*/ 546120 h 546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88" y="0"/>
                </a:lnTo>
                <a:lnTo>
                  <a:pt x="21600" y="10800"/>
                </a:lnTo>
                <a:lnTo>
                  <a:pt x="2078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 anchorCtr="1">
            <a:noAutofit/>
          </a:bodyPr>
          <a:p>
            <a:pPr>
              <a:lnSpc>
                <a:spcPct val="85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Arial Narrow"/>
              </a:rPr>
              <a:t>Equit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49440" y="5783400"/>
            <a:ext cx="4533840" cy="546120"/>
          </a:xfrm>
          <a:custGeom>
            <a:avLst/>
            <a:gdLst>
              <a:gd name="textAreaLeft" fmla="*/ 0 w 4533840"/>
              <a:gd name="textAreaRight" fmla="*/ 4534200 w 4533840"/>
              <a:gd name="textAreaTop" fmla="*/ 0 h 546120"/>
              <a:gd name="textAreaBottom" fmla="*/ 546120 h 546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88" y="0"/>
                </a:lnTo>
                <a:lnTo>
                  <a:pt x="21600" y="10800"/>
                </a:lnTo>
                <a:lnTo>
                  <a:pt x="2078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 anchorCtr="1">
            <a:noAutofit/>
          </a:bodyPr>
          <a:p>
            <a:pPr>
              <a:lnSpc>
                <a:spcPct val="85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Arial Narrow"/>
              </a:rPr>
              <a:t>Water conserv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49440" y="4527720"/>
            <a:ext cx="4533840" cy="545760"/>
          </a:xfrm>
          <a:custGeom>
            <a:avLst/>
            <a:gdLst>
              <a:gd name="textAreaLeft" fmla="*/ 0 w 4533840"/>
              <a:gd name="textAreaRight" fmla="*/ 4534200 w 4533840"/>
              <a:gd name="textAreaTop" fmla="*/ 0 h 545760"/>
              <a:gd name="textAreaBottom" fmla="*/ 546120 h 545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88" y="0"/>
                </a:lnTo>
                <a:lnTo>
                  <a:pt x="21600" y="10800"/>
                </a:lnTo>
                <a:lnTo>
                  <a:pt x="2078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 anchorCtr="1">
            <a:noAutofit/>
          </a:bodyPr>
          <a:p>
            <a:pPr>
              <a:lnSpc>
                <a:spcPct val="85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Arial Narrow"/>
              </a:rPr>
              <a:t>Low-Income Afford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49440" y="5154480"/>
            <a:ext cx="4533840" cy="546120"/>
          </a:xfrm>
          <a:custGeom>
            <a:avLst/>
            <a:gdLst>
              <a:gd name="textAreaLeft" fmla="*/ 0 w 4533840"/>
              <a:gd name="textAreaRight" fmla="*/ 4534200 w 4533840"/>
              <a:gd name="textAreaTop" fmla="*/ 0 h 546120"/>
              <a:gd name="textAreaBottom" fmla="*/ 546120 h 546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88" y="0"/>
                </a:lnTo>
                <a:lnTo>
                  <a:pt x="21600" y="10800"/>
                </a:lnTo>
                <a:lnTo>
                  <a:pt x="2078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 anchorCtr="1">
            <a:noAutofit/>
          </a:bodyPr>
          <a:p>
            <a:pPr>
              <a:lnSpc>
                <a:spcPct val="85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Arial Narrow"/>
              </a:rPr>
              <a:t>Economic Develop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187720" y="164880"/>
            <a:ext cx="627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3300"/>
                </a:solidFill>
                <a:latin typeface="Arial Narrow"/>
              </a:rPr>
              <a:t>‘</a:t>
            </a:r>
            <a:r>
              <a:rPr b="1" lang="en-US" sz="3800" spc="-1" strike="noStrike">
                <a:solidFill>
                  <a:srgbClr val="003300"/>
                </a:solidFill>
                <a:latin typeface="Arial Narrow"/>
              </a:rPr>
              <a:t>Avoiding Rate Shock’ findings generally apply to wastewater</a:t>
            </a:r>
            <a:endParaRPr b="1" lang="en-US" sz="38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929960" y="1917720"/>
            <a:ext cx="6869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85000"/>
              </a:lnSpc>
              <a:spcBef>
                <a:spcPts val="601"/>
              </a:spcBef>
              <a:spcAft>
                <a:spcPts val="901"/>
              </a:spcAft>
              <a:buClr>
                <a:srgbClr val="336699"/>
              </a:buClr>
              <a:buSzPct val="90000"/>
              <a:buFont typeface="Monotype Sorts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Water is undervalued, which increases the challenge in getting rate increases accepted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08520" indent="0">
              <a:lnSpc>
                <a:spcPct val="85000"/>
              </a:lnSpc>
              <a:spcBef>
                <a:spcPts val="451"/>
              </a:spcBef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marL="308520" indent="-308520">
              <a:lnSpc>
                <a:spcPct val="85000"/>
              </a:lnSpc>
              <a:spcBef>
                <a:spcPts val="601"/>
              </a:spcBef>
              <a:spcAft>
                <a:spcPts val="901"/>
              </a:spcAft>
              <a:buClr>
                <a:srgbClr val="cc9900"/>
              </a:buClr>
              <a:buSzPct val="90000"/>
              <a:buFont typeface="Monotype Sorts" charset="2"/>
              <a:buChar char="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sistent communication promotes credibility and acceptance of rate increase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08520" indent="0">
              <a:lnSpc>
                <a:spcPct val="85000"/>
              </a:lnSpc>
              <a:spcBef>
                <a:spcPts val="249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00"/>
              </a:solidFill>
              <a:latin typeface="Arial"/>
            </a:endParaRPr>
          </a:p>
          <a:p>
            <a:pPr marL="308520" indent="-308520">
              <a:lnSpc>
                <a:spcPct val="85000"/>
              </a:lnSpc>
              <a:spcBef>
                <a:spcPts val="601"/>
              </a:spcBef>
              <a:spcAft>
                <a:spcPts val="901"/>
              </a:spcAft>
              <a:buClr>
                <a:srgbClr val="990099"/>
              </a:buClr>
              <a:buSzPct val="90000"/>
              <a:buFont typeface="Monotype Sorts" charset="2"/>
              <a:buChar char="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It’s never too late to start doing the right thing - thinking long-term and planning beyond the current crisi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08520" indent="0">
              <a:lnSpc>
                <a:spcPct val="85000"/>
              </a:lnSpc>
              <a:spcBef>
                <a:spcPts val="224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300"/>
              </a:solidFill>
              <a:latin typeface="Arial"/>
            </a:endParaRPr>
          </a:p>
          <a:p>
            <a:pPr marL="308520" indent="-308520">
              <a:lnSpc>
                <a:spcPct val="85000"/>
              </a:lnSpc>
              <a:spcBef>
                <a:spcPts val="601"/>
              </a:spcBef>
              <a:spcAft>
                <a:spcPts val="901"/>
              </a:spcAft>
              <a:buClr>
                <a:srgbClr val="339966"/>
              </a:buClr>
              <a:buSzPct val="90000"/>
              <a:buFont typeface="Monotype Sorts" charset="2"/>
              <a:buChar char="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Billing practices and rate structure options can affect customer reactions and acceptance of rate increases.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17" name="npo00000b" descr=""/>
          <p:cNvPicPr/>
          <p:nvPr/>
        </p:nvPicPr>
        <p:blipFill>
          <a:blip r:embed="rId1"/>
          <a:stretch/>
        </p:blipFill>
        <p:spPr>
          <a:xfrm>
            <a:off x="1022400" y="1986120"/>
            <a:ext cx="966600" cy="976320"/>
          </a:xfrm>
          <a:prstGeom prst="rect">
            <a:avLst/>
          </a:prstGeom>
          <a:ln w="9360">
            <a:solidFill>
              <a:srgbClr val="003300"/>
            </a:solidFill>
            <a:miter/>
          </a:ln>
        </p:spPr>
      </p:pic>
      <p:pic>
        <p:nvPicPr>
          <p:cNvPr id="118" name="npo00000d" descr=""/>
          <p:cNvPicPr/>
          <p:nvPr/>
        </p:nvPicPr>
        <p:blipFill>
          <a:blip r:embed="rId2"/>
          <a:stretch/>
        </p:blipFill>
        <p:spPr>
          <a:xfrm>
            <a:off x="1027080" y="5335560"/>
            <a:ext cx="957240" cy="966960"/>
          </a:xfrm>
          <a:prstGeom prst="rect">
            <a:avLst/>
          </a:prstGeom>
          <a:ln w="9360">
            <a:solidFill>
              <a:srgbClr val="003300"/>
            </a:solidFill>
            <a:miter/>
          </a:ln>
        </p:spPr>
      </p:pic>
      <p:pic>
        <p:nvPicPr>
          <p:cNvPr id="119" name="npo00000f" descr=""/>
          <p:cNvPicPr/>
          <p:nvPr/>
        </p:nvPicPr>
        <p:blipFill>
          <a:blip r:embed="rId3"/>
          <a:stretch/>
        </p:blipFill>
        <p:spPr>
          <a:xfrm>
            <a:off x="1027080" y="4179960"/>
            <a:ext cx="957240" cy="977760"/>
          </a:xfrm>
          <a:prstGeom prst="rect">
            <a:avLst/>
          </a:prstGeom>
          <a:ln w="9360">
            <a:solidFill>
              <a:srgbClr val="003300"/>
            </a:solidFill>
            <a:miter/>
          </a:ln>
        </p:spPr>
      </p:pic>
      <p:pic>
        <p:nvPicPr>
          <p:cNvPr id="120" name="npo000011" descr=""/>
          <p:cNvPicPr/>
          <p:nvPr/>
        </p:nvPicPr>
        <p:blipFill>
          <a:blip r:embed="rId4"/>
          <a:stretch/>
        </p:blipFill>
        <p:spPr>
          <a:xfrm>
            <a:off x="1027080" y="3100320"/>
            <a:ext cx="960480" cy="979560"/>
          </a:xfrm>
          <a:prstGeom prst="rect">
            <a:avLst/>
          </a:prstGeom>
          <a:ln w="9360">
            <a:solidFill>
              <a:srgbClr val="003300"/>
            </a:solidFill>
            <a:miter/>
          </a:ln>
        </p:spPr>
      </p:pic>
      <p:pic>
        <p:nvPicPr>
          <p:cNvPr id="121" name="Picture 2" descr=""/>
          <p:cNvPicPr/>
          <p:nvPr/>
        </p:nvPicPr>
        <p:blipFill>
          <a:blip r:embed="rId5"/>
          <a:stretch/>
        </p:blipFill>
        <p:spPr>
          <a:xfrm>
            <a:off x="0" y="0"/>
            <a:ext cx="1920960" cy="1509840"/>
          </a:xfrm>
          <a:prstGeom prst="rect">
            <a:avLst/>
          </a:prstGeom>
          <a:ln w="28440">
            <a:solidFill>
              <a:srgbClr val="006600"/>
            </a:solidFill>
            <a:miter/>
          </a:ln>
          <a:effectLst>
            <a:outerShdw dist="64600" dir="674838" blurRad="0" rotWithShape="0">
              <a:srgbClr val="808080"/>
            </a:outerShdw>
          </a:effectLst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38360" y="279000"/>
            <a:ext cx="787392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3300"/>
                </a:solidFill>
                <a:latin typeface="Arial Narrow"/>
              </a:rPr>
              <a:t>‘</a:t>
            </a:r>
            <a:r>
              <a:rPr b="1" lang="en-US" sz="3400" spc="-1" strike="noStrike">
                <a:solidFill>
                  <a:srgbClr val="003300"/>
                </a:solidFill>
                <a:latin typeface="Arial Narrow"/>
              </a:rPr>
              <a:t>Avoiding Rate Shock’ report articulates a well defined process for securing rate increases and public acceptance</a:t>
            </a:r>
            <a:endParaRPr b="1" lang="en-US" sz="3400" spc="-1" strike="noStrike">
              <a:solidFill>
                <a:srgbClr val="003300"/>
              </a:solidFill>
              <a:latin typeface="Arial Narrow"/>
            </a:endParaRPr>
          </a:p>
        </p:txBody>
      </p:sp>
      <p:grpSp>
        <p:nvGrpSpPr>
          <p:cNvPr id="123" name="Group 66"/>
          <p:cNvGrpSpPr/>
          <p:nvPr/>
        </p:nvGrpSpPr>
        <p:grpSpPr>
          <a:xfrm>
            <a:off x="250920" y="1460520"/>
            <a:ext cx="9059760" cy="5309280"/>
            <a:chOff x="250920" y="1460520"/>
            <a:chExt cx="9059760" cy="5309280"/>
          </a:xfrm>
        </p:grpSpPr>
        <p:sp>
          <p:nvSpPr>
            <p:cNvPr id="124" name=""/>
            <p:cNvSpPr/>
            <p:nvPr/>
          </p:nvSpPr>
          <p:spPr>
            <a:xfrm>
              <a:off x="316080" y="5378400"/>
              <a:ext cx="474480" cy="260280"/>
            </a:xfrm>
            <a:prstGeom prst="roundRect">
              <a:avLst>
                <a:gd name="adj" fmla="val 16667"/>
              </a:avLst>
            </a:prstGeom>
            <a:solidFill>
              <a:srgbClr val="e7f3f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Input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16080" y="5716440"/>
              <a:ext cx="474480" cy="271440"/>
            </a:xfrm>
            <a:prstGeom prst="rect">
              <a:avLst/>
            </a:prstGeom>
            <a:solidFill>
              <a:srgbClr val="93cfa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Action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39480" y="5106960"/>
              <a:ext cx="432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 u="sng">
                  <a:solidFill>
                    <a:srgbClr val="000000"/>
                  </a:solidFill>
                  <a:uFillTx/>
                  <a:latin typeface="Arial Narrow"/>
                </a:rPr>
                <a:t>Key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252440" y="6445080"/>
              <a:ext cx="7594560" cy="304920"/>
            </a:xfrm>
            <a:prstGeom prst="rightArrow">
              <a:avLst>
                <a:gd name="adj1" fmla="val 83333"/>
                <a:gd name="adj2" fmla="val 76450"/>
              </a:avLst>
            </a:prstGeom>
            <a:gradFill rotWithShape="0">
              <a:gsLst>
                <a:gs pos="0">
                  <a:srgbClr val="93cfa1"/>
                </a:gs>
                <a:gs pos="100000">
                  <a:srgbClr val="e0f0e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558440" y="6432480"/>
              <a:ext cx="273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444400" y="6432480"/>
              <a:ext cx="273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349080" y="6432480"/>
              <a:ext cx="273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263480" y="6432480"/>
              <a:ext cx="273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177880" y="6432480"/>
              <a:ext cx="273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204600" y="643248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Narrow"/>
                </a:rPr>
                <a:t>6 to 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407720" y="6432480"/>
              <a:ext cx="689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Narrow"/>
                </a:rPr>
                <a:t>9 to 1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176480" y="6237360"/>
              <a:ext cx="161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 Narrow"/>
                </a:rPr>
                <a:t>Typical Timeline (months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872320" y="3567240"/>
              <a:ext cx="1062000" cy="482400"/>
            </a:xfrm>
            <a:prstGeom prst="rect">
              <a:avLst/>
            </a:prstGeom>
            <a:solidFill>
              <a:srgbClr val="93cfa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 Narrow"/>
                </a:rPr>
                <a:t>5. Implement campaig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989680" y="4048200"/>
              <a:ext cx="992160" cy="741240"/>
            </a:xfrm>
            <a:prstGeom prst="upArrow">
              <a:avLst>
                <a:gd name="adj1" fmla="val 68454"/>
                <a:gd name="adj2" fmla="val 40472"/>
              </a:avLst>
            </a:prstGeom>
            <a:gradFill rotWithShape="0">
              <a:gsLst>
                <a:gs pos="0">
                  <a:srgbClr val="b5d3e3"/>
                </a:gs>
                <a:gs pos="100000">
                  <a:srgbClr val="f9fbf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50920" y="2805120"/>
              <a:ext cx="637920" cy="347760"/>
            </a:xfrm>
            <a:prstGeom prst="roundRect">
              <a:avLst>
                <a:gd name="adj" fmla="val 16667"/>
              </a:avLst>
            </a:prstGeom>
            <a:solidFill>
              <a:srgbClr val="e7f3f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 Narrow"/>
                </a:rPr>
                <a:t>Custome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 Narrow"/>
                </a:rPr>
                <a:t>survey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50920" y="3214800"/>
              <a:ext cx="637920" cy="349200"/>
            </a:xfrm>
            <a:prstGeom prst="roundRect">
              <a:avLst>
                <a:gd name="adj" fmla="val 16667"/>
              </a:avLst>
            </a:prstGeom>
            <a:solidFill>
              <a:srgbClr val="e7f3f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 Narrow"/>
                </a:rPr>
                <a:t>CIP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50920" y="3630600"/>
              <a:ext cx="637920" cy="349200"/>
            </a:xfrm>
            <a:prstGeom prst="roundRect">
              <a:avLst>
                <a:gd name="adj" fmla="val 16667"/>
              </a:avLst>
            </a:prstGeom>
            <a:solidFill>
              <a:srgbClr val="e7f3f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 Narrow"/>
                </a:rPr>
                <a:t>Operat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 Narrow"/>
                </a:rPr>
                <a:t>budge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50920" y="4048200"/>
              <a:ext cx="637920" cy="347760"/>
            </a:xfrm>
            <a:prstGeom prst="roundRect">
              <a:avLst>
                <a:gd name="adj" fmla="val 16667"/>
              </a:avLst>
            </a:prstGeom>
            <a:solidFill>
              <a:srgbClr val="e7f3f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 Narrow"/>
                </a:rPr>
                <a:t>Complianc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 Narrow"/>
                </a:rPr>
                <a:t>plan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50920" y="4464000"/>
              <a:ext cx="637920" cy="347760"/>
            </a:xfrm>
            <a:prstGeom prst="roundRect">
              <a:avLst>
                <a:gd name="adj" fmla="val 16667"/>
              </a:avLst>
            </a:prstGeom>
            <a:solidFill>
              <a:srgbClr val="e7f3f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 Narrow"/>
                </a:rPr>
                <a:t>Facilitie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 Narrow"/>
                </a:rPr>
                <a:t>plan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171440" y="3564000"/>
              <a:ext cx="992160" cy="484200"/>
            </a:xfrm>
            <a:prstGeom prst="rect">
              <a:avLst/>
            </a:prstGeom>
            <a:solidFill>
              <a:srgbClr val="93cfa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 Narrow"/>
                </a:rPr>
                <a:t>1. Determine annual revenue requirement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730600" y="3564000"/>
              <a:ext cx="1063440" cy="484200"/>
            </a:xfrm>
            <a:prstGeom prst="rect">
              <a:avLst/>
            </a:prstGeom>
            <a:solidFill>
              <a:srgbClr val="93cfa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 Narrow"/>
                </a:rPr>
                <a:t>3. Determine rate impact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670280" y="3567240"/>
              <a:ext cx="1062360" cy="482400"/>
            </a:xfrm>
            <a:prstGeom prst="rect">
              <a:avLst/>
            </a:prstGeom>
            <a:solidFill>
              <a:srgbClr val="93cfa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 Narrow"/>
                </a:rPr>
                <a:t>4. Develop rate increase campaig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064280" y="3406680"/>
              <a:ext cx="889200" cy="803520"/>
            </a:xfrm>
            <a:prstGeom prst="ellipse">
              <a:avLst/>
            </a:prstGeom>
            <a:solidFill>
              <a:srgbClr val="93cfa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 Narrow"/>
                </a:rPr>
                <a:t>6. Governing bodies adopt rate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908520" y="3530520"/>
              <a:ext cx="637920" cy="566640"/>
            </a:xfrm>
            <a:prstGeom prst="diamond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 Narrow"/>
                </a:rPr>
                <a:t>Accept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 Narrow"/>
                </a:rPr>
                <a:t>able?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8" name=""/>
            <p:cNvCxnSpPr>
              <a:stCxn id="138" idx="3"/>
              <a:endCxn id="143" idx="1"/>
            </p:cNvCxnSpPr>
            <p:nvPr/>
          </p:nvCxnSpPr>
          <p:spPr>
            <a:xfrm>
              <a:off x="888480" y="2979360"/>
              <a:ext cx="283320" cy="826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9" name=""/>
            <p:cNvCxnSpPr>
              <a:stCxn id="139" idx="3"/>
              <a:endCxn id="143" idx="1"/>
            </p:cNvCxnSpPr>
            <p:nvPr/>
          </p:nvCxnSpPr>
          <p:spPr>
            <a:xfrm>
              <a:off x="888480" y="3389040"/>
              <a:ext cx="283320" cy="416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0" name=""/>
            <p:cNvCxnSpPr>
              <a:stCxn id="140" idx="3"/>
              <a:endCxn id="143" idx="1"/>
            </p:cNvCxnSpPr>
            <p:nvPr/>
          </p:nvCxnSpPr>
          <p:spPr>
            <a:xfrm>
              <a:off x="888480" y="3804840"/>
              <a:ext cx="2833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</p:cxnSp>
        <p:cxnSp>
          <p:nvCxnSpPr>
            <p:cNvPr id="151" name=""/>
            <p:cNvCxnSpPr>
              <a:stCxn id="141" idx="3"/>
              <a:endCxn id="143" idx="1"/>
            </p:cNvCxnSpPr>
            <p:nvPr/>
          </p:nvCxnSpPr>
          <p:spPr>
            <a:xfrm flipV="1">
              <a:off x="888480" y="3804480"/>
              <a:ext cx="283320" cy="416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2" name=""/>
            <p:cNvCxnSpPr>
              <a:stCxn id="142" idx="3"/>
              <a:endCxn id="143" idx="1"/>
            </p:cNvCxnSpPr>
            <p:nvPr/>
          </p:nvCxnSpPr>
          <p:spPr>
            <a:xfrm flipV="1">
              <a:off x="888480" y="3804480"/>
              <a:ext cx="283320" cy="832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</p:cxnSp>
        <p:cxnSp>
          <p:nvCxnSpPr>
            <p:cNvPr id="153" name=""/>
            <p:cNvCxnSpPr>
              <a:stCxn id="143" idx="3"/>
              <a:endCxn id="144" idx="1"/>
            </p:cNvCxnSpPr>
            <p:nvPr/>
          </p:nvCxnSpPr>
          <p:spPr>
            <a:xfrm>
              <a:off x="2163240" y="3804840"/>
              <a:ext cx="5677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</p:cxnSp>
        <p:cxnSp>
          <p:nvCxnSpPr>
            <p:cNvPr id="154" name=""/>
            <p:cNvCxnSpPr>
              <a:stCxn id="144" idx="3"/>
              <a:endCxn id="147" idx="1"/>
            </p:cNvCxnSpPr>
            <p:nvPr/>
          </p:nvCxnSpPr>
          <p:spPr>
            <a:xfrm>
              <a:off x="3794040" y="3807000"/>
              <a:ext cx="115200" cy="8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</p:cxnSp>
        <p:cxnSp>
          <p:nvCxnSpPr>
            <p:cNvPr id="155" name=""/>
            <p:cNvCxnSpPr>
              <a:stCxn id="147" idx="3"/>
              <a:endCxn id="145" idx="1"/>
            </p:cNvCxnSpPr>
            <p:nvPr/>
          </p:nvCxnSpPr>
          <p:spPr>
            <a:xfrm flipV="1">
              <a:off x="4546440" y="3808080"/>
              <a:ext cx="124560" cy="7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</p:cxnSp>
        <p:cxnSp>
          <p:nvCxnSpPr>
            <p:cNvPr id="156" name=""/>
            <p:cNvCxnSpPr>
              <a:stCxn id="145" idx="3"/>
              <a:endCxn id="136" idx="1"/>
            </p:cNvCxnSpPr>
            <p:nvPr/>
          </p:nvCxnSpPr>
          <p:spPr>
            <a:xfrm>
              <a:off x="5732640" y="3808080"/>
              <a:ext cx="1404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</p:cxnSp>
        <p:cxnSp>
          <p:nvCxnSpPr>
            <p:cNvPr id="157" name=""/>
            <p:cNvCxnSpPr>
              <a:stCxn id="136" idx="3"/>
              <a:endCxn id="146" idx="2"/>
            </p:cNvCxnSpPr>
            <p:nvPr/>
          </p:nvCxnSpPr>
          <p:spPr>
            <a:xfrm>
              <a:off x="6933960" y="3808080"/>
              <a:ext cx="1306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</p:cxnSp>
        <p:sp>
          <p:nvSpPr>
            <p:cNvPr id="158" name=""/>
            <p:cNvSpPr/>
            <p:nvPr/>
          </p:nvSpPr>
          <p:spPr>
            <a:xfrm>
              <a:off x="2306520" y="3457440"/>
              <a:ext cx="0" cy="35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>
              <a:off x="2306520" y="3811320"/>
              <a:ext cx="0" cy="35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809720" y="2997360"/>
              <a:ext cx="992160" cy="484200"/>
            </a:xfrm>
            <a:prstGeom prst="rect">
              <a:avLst/>
            </a:prstGeom>
            <a:solidFill>
              <a:srgbClr val="93cfa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 Narrow"/>
                </a:rPr>
                <a:t>2a. ID rate/ fee options to conside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809720" y="4141800"/>
              <a:ext cx="992160" cy="484200"/>
            </a:xfrm>
            <a:prstGeom prst="rect">
              <a:avLst/>
            </a:prstGeom>
            <a:solidFill>
              <a:srgbClr val="93cfa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 Narrow"/>
                </a:rPr>
                <a:t>2b. ID affected stakeholder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068720" y="2935440"/>
              <a:ext cx="920880" cy="347400"/>
            </a:xfrm>
            <a:prstGeom prst="roundRect">
              <a:avLst>
                <a:gd name="adj" fmla="val 16667"/>
              </a:avLst>
            </a:prstGeom>
            <a:solidFill>
              <a:srgbClr val="e7f3f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 Narrow"/>
                </a:rPr>
                <a:t>Public hearing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Arial Narrow"/>
                </a:rPr>
                <a:t>(if required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673520" y="2395440"/>
              <a:ext cx="1054080" cy="498600"/>
            </a:xfrm>
            <a:prstGeom prst="roundRect">
              <a:avLst>
                <a:gd name="adj" fmla="val 16667"/>
              </a:avLst>
            </a:prstGeom>
            <a:solidFill>
              <a:srgbClr val="e7f3f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 Narrow"/>
                </a:rPr>
                <a:t>Customer Advisory Board </a:t>
              </a:r>
              <a:r>
                <a:rPr b="0" i="1" lang="en-US" sz="1100" spc="-1" strike="noStrike">
                  <a:solidFill>
                    <a:srgbClr val="000000"/>
                  </a:solidFill>
                  <a:latin typeface="Arial Narrow"/>
                </a:rPr>
                <a:t>(if required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423040" y="2935440"/>
              <a:ext cx="920520" cy="347400"/>
            </a:xfrm>
            <a:prstGeom prst="roundRect">
              <a:avLst>
                <a:gd name="adj" fmla="val 16667"/>
              </a:avLst>
            </a:prstGeom>
            <a:solidFill>
              <a:srgbClr val="e7f3f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 Narrow"/>
                </a:rPr>
                <a:t>PUC fil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 Narrow"/>
                </a:rPr>
                <a:t>(if required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5" name=""/>
            <p:cNvCxnSpPr>
              <a:stCxn id="162" idx="2"/>
              <a:endCxn id="145" idx="0"/>
            </p:cNvCxnSpPr>
            <p:nvPr/>
          </p:nvCxnSpPr>
          <p:spPr>
            <a:xfrm>
              <a:off x="4529160" y="3282840"/>
              <a:ext cx="673920" cy="2851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</p:cxnSp>
        <p:cxnSp>
          <p:nvCxnSpPr>
            <p:cNvPr id="166" name=""/>
            <p:cNvCxnSpPr>
              <a:stCxn id="163" idx="2"/>
              <a:endCxn id="145" idx="0"/>
            </p:cNvCxnSpPr>
            <p:nvPr/>
          </p:nvCxnSpPr>
          <p:spPr>
            <a:xfrm>
              <a:off x="5200200" y="2894040"/>
              <a:ext cx="2520" cy="673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7" name=""/>
            <p:cNvCxnSpPr>
              <a:stCxn id="164" idx="2"/>
              <a:endCxn id="145" idx="0"/>
            </p:cNvCxnSpPr>
            <p:nvPr/>
          </p:nvCxnSpPr>
          <p:spPr>
            <a:xfrm flipH="1">
              <a:off x="5201640" y="3282840"/>
              <a:ext cx="681480" cy="2851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</p:cxnSp>
        <p:cxnSp>
          <p:nvCxnSpPr>
            <p:cNvPr id="168" name=""/>
            <p:cNvCxnSpPr>
              <a:stCxn id="147" idx="2"/>
              <a:endCxn id="143" idx="2"/>
            </p:cNvCxnSpPr>
            <p:nvPr/>
          </p:nvCxnSpPr>
          <p:spPr>
            <a:xfrm flipV="1" rot="16200000">
              <a:off x="2923200" y="2792520"/>
              <a:ext cx="49680" cy="2559600"/>
            </a:xfrm>
            <a:prstGeom prst="bentConnector3">
              <a:avLst>
                <a:gd name="adj1" fmla="val -1316058"/>
              </a:avLst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</p:cxnSp>
        <p:sp>
          <p:nvSpPr>
            <p:cNvPr id="169" name=""/>
            <p:cNvSpPr/>
            <p:nvPr/>
          </p:nvSpPr>
          <p:spPr>
            <a:xfrm>
              <a:off x="3973320" y="4043520"/>
              <a:ext cx="32688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 Narrow"/>
                </a:rPr>
                <a:t>No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370040" y="3541680"/>
              <a:ext cx="37872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 Narrow"/>
                </a:rPr>
                <a:t>Ye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112760" y="1460520"/>
              <a:ext cx="8197920" cy="97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 Narrow"/>
                </a:rPr>
                <a:t>Recommended typical rate increase seque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50920" y="2241720"/>
              <a:ext cx="637920" cy="488880"/>
            </a:xfrm>
            <a:prstGeom prst="roundRect">
              <a:avLst>
                <a:gd name="adj" fmla="val 16667"/>
              </a:avLst>
            </a:prstGeom>
            <a:solidFill>
              <a:srgbClr val="e7f3f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 Narrow"/>
                </a:rPr>
                <a:t>Custome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 Narrow"/>
                </a:rPr>
                <a:t>Advisory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 Narrow"/>
                </a:rPr>
                <a:t>Board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73" name=""/>
            <p:cNvCxnSpPr>
              <a:stCxn id="172" idx="3"/>
              <a:endCxn id="143" idx="1"/>
            </p:cNvCxnSpPr>
            <p:nvPr/>
          </p:nvCxnSpPr>
          <p:spPr>
            <a:xfrm>
              <a:off x="888480" y="2486160"/>
              <a:ext cx="283320" cy="1319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74" name=""/>
            <p:cNvSpPr/>
            <p:nvPr/>
          </p:nvSpPr>
          <p:spPr>
            <a:xfrm>
              <a:off x="8082000" y="3567240"/>
              <a:ext cx="1062000" cy="482400"/>
            </a:xfrm>
            <a:prstGeom prst="rect">
              <a:avLst/>
            </a:prstGeom>
            <a:solidFill>
              <a:srgbClr val="93cfa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 Narrow"/>
                </a:rPr>
                <a:t>7. Communicate adopted rates to customer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75" name=""/>
            <p:cNvCxnSpPr>
              <a:stCxn id="146" idx="6"/>
              <a:endCxn id="174" idx="1"/>
            </p:cNvCxnSpPr>
            <p:nvPr/>
          </p:nvCxnSpPr>
          <p:spPr>
            <a:xfrm>
              <a:off x="7953120" y="3808080"/>
              <a:ext cx="1292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</p:cxnSp>
        <p:sp>
          <p:nvSpPr>
            <p:cNvPr id="176" name=""/>
            <p:cNvSpPr/>
            <p:nvPr/>
          </p:nvSpPr>
          <p:spPr>
            <a:xfrm>
              <a:off x="1442880" y="4052880"/>
              <a:ext cx="7175520" cy="927000"/>
            </a:xfrm>
            <a:custGeom>
              <a:avLst/>
              <a:gdLst/>
              <a:ahLst/>
              <a:rect l="l" t="t" r="r" b="b"/>
              <a:pathLst>
                <a:path w="4520" h="584">
                  <a:moveTo>
                    <a:pt x="4520" y="0"/>
                  </a:moveTo>
                  <a:lnTo>
                    <a:pt x="4520" y="584"/>
                  </a:lnTo>
                  <a:lnTo>
                    <a:pt x="0" y="584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7" name="Group 55"/>
            <p:cNvGrpSpPr/>
            <p:nvPr/>
          </p:nvGrpSpPr>
          <p:grpSpPr>
            <a:xfrm>
              <a:off x="5608800" y="4497480"/>
              <a:ext cx="2004840" cy="1919160"/>
              <a:chOff x="5608800" y="4497480"/>
              <a:chExt cx="2004840" cy="1919160"/>
            </a:xfrm>
          </p:grpSpPr>
          <p:pic>
            <p:nvPicPr>
              <p:cNvPr id="178" name="Picture 56" descr=""/>
              <p:cNvPicPr/>
              <p:nvPr/>
            </p:nvPicPr>
            <p:blipFill>
              <a:blip r:embed="rId1"/>
              <a:stretch/>
            </p:blipFill>
            <p:spPr>
              <a:xfrm>
                <a:off x="6808680" y="4694400"/>
                <a:ext cx="804960" cy="98100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pic>
            <p:nvPicPr>
              <p:cNvPr id="179" name="Picture 57" descr=""/>
              <p:cNvPicPr/>
              <p:nvPr/>
            </p:nvPicPr>
            <p:blipFill>
              <a:blip r:embed="rId2"/>
              <a:stretch/>
            </p:blipFill>
            <p:spPr>
              <a:xfrm>
                <a:off x="6087960" y="4497480"/>
                <a:ext cx="758880" cy="104616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pic>
            <p:nvPicPr>
              <p:cNvPr id="180" name="Picture 58" descr=""/>
              <p:cNvPicPr/>
              <p:nvPr/>
            </p:nvPicPr>
            <p:blipFill>
              <a:blip r:embed="rId3"/>
              <a:stretch/>
            </p:blipFill>
            <p:spPr>
              <a:xfrm>
                <a:off x="5608800" y="5238720"/>
                <a:ext cx="809640" cy="98100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pic>
            <p:nvPicPr>
              <p:cNvPr id="181" name="Picture 59" descr=""/>
              <p:cNvPicPr/>
              <p:nvPr/>
            </p:nvPicPr>
            <p:blipFill>
              <a:blip r:embed="rId4"/>
              <a:stretch/>
            </p:blipFill>
            <p:spPr>
              <a:xfrm>
                <a:off x="6383160" y="5402160"/>
                <a:ext cx="984600" cy="75240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pic>
            <p:nvPicPr>
              <p:cNvPr id="182" name="Picture 60" descr=""/>
              <p:cNvPicPr/>
              <p:nvPr/>
            </p:nvPicPr>
            <p:blipFill>
              <a:blip r:embed="rId5"/>
              <a:stretch/>
            </p:blipFill>
            <p:spPr>
              <a:xfrm>
                <a:off x="6056280" y="5665680"/>
                <a:ext cx="981000" cy="75096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</p:grpSp>
      </p:grpSp>
      <p:sp>
        <p:nvSpPr>
          <p:cNvPr id="183" name=""/>
          <p:cNvSpPr/>
          <p:nvPr/>
        </p:nvSpPr>
        <p:spPr>
          <a:xfrm>
            <a:off x="3995640" y="3227400"/>
            <a:ext cx="2584440" cy="1174680"/>
          </a:xfrm>
          <a:prstGeom prst="rect">
            <a:avLst/>
          </a:prstGeom>
          <a:solidFill>
            <a:srgbClr val="93cfa1"/>
          </a:solidFill>
          <a:ln w="2844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 Narrow"/>
              </a:rPr>
              <a:t>4. Develop rate increase campaign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6480" y="6480"/>
            <a:ext cx="9118440" cy="68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5640"/>
            <a:ext cx="80218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cc66"/>
                </a:solidFill>
                <a:latin typeface="Arial Black"/>
              </a:rPr>
              <a:t>Case Studies</a:t>
            </a:r>
            <a:endParaRPr b="0" lang="en-US" sz="4200" spc="-1" strike="noStrike">
              <a:solidFill>
                <a:srgbClr val="ffcc66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9T22:28:47Z</dcterms:created>
  <dc:creator>gwammock</dc:creator>
  <dc:description/>
  <dc:language>en-US</dc:language>
  <cp:lastModifiedBy>Eric Rothstein</cp:lastModifiedBy>
  <dcterms:modified xsi:type="dcterms:W3CDTF">2005-01-18T14:59:16Z</dcterms:modified>
  <cp:revision>34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927659726</vt:r8>
  </property>
  <property fmtid="{D5CDD505-2E9C-101B-9397-08002B2CF9AE}" pid="3" name="_AuthorEmail">
    <vt:lpwstr>Eric.Rothstein@CH2M.com</vt:lpwstr>
  </property>
  <property fmtid="{D5CDD505-2E9C-101B-9397-08002B2CF9AE}" pid="4" name="_AuthorEmailDisplayName">
    <vt:lpwstr>Rothstein, Eric/AUS</vt:lpwstr>
  </property>
  <property fmtid="{D5CDD505-2E9C-101B-9397-08002B2CF9AE}" pid="5" name="_EmailSubject">
    <vt:lpwstr>AMSA rate-setting panel</vt:lpwstr>
  </property>
</Properties>
</file>