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13.jpeg" ContentType="image/jpeg"/>
  <Override PartName="/ppt/media/image4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wmf" ContentType="image/x-wmf"/>
  <Override PartName="/ppt/media/image17.jpeg" ContentType="image/jpeg"/>
  <Override PartName="/ppt/media/image16.png" ContentType="image/png"/>
  <Override PartName="/ppt/media/image26.wmf" ContentType="image/x-wmf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7E2F-87B6-497A-96BE-DE78D00F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381560"/>
            <a:ext cx="640080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5038200"/>
            <a:ext cx="640080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0B5D-2081-419F-A271-7272284B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38156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38156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503820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503820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AB25-2FAC-4518-ABDA-8EA04FE4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4381560"/>
            <a:ext cx="206064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4381560"/>
            <a:ext cx="206064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4381560"/>
            <a:ext cx="206064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5038200"/>
            <a:ext cx="206064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5038200"/>
            <a:ext cx="206064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5038200"/>
            <a:ext cx="206064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C832-55CF-4886-A7DB-46B3B261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C221-B473-4A08-B6F5-57240851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381560"/>
            <a:ext cx="64008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65D1-A640-4491-8055-E115F1A5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381560"/>
            <a:ext cx="640080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6F73-9CF6-4BE8-A665-0862A7D6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381560"/>
            <a:ext cx="3123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381560"/>
            <a:ext cx="3123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D2A9-1172-494A-8C92-7FC8FEA1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7FFA-F8F3-42D5-B5B9-E1F06C2A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8C62-6BBD-4F24-ABE9-89CBE2E7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38156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381560"/>
            <a:ext cx="3123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820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A188-61A2-40FC-BD69-2EF3093D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4381560"/>
            <a:ext cx="64008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A6A3-32B4-4178-AD17-6C2414A4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381560"/>
            <a:ext cx="3123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38156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820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1683-7E2B-42DF-9057-922713F3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38156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38156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8200"/>
            <a:ext cx="640080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3FCA-78C5-428E-BD13-EC6D2FCC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381560"/>
            <a:ext cx="640080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8200"/>
            <a:ext cx="640080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1CCF-F882-47EF-B367-D00B49E2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38156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38156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820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820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2E11-BB72-47AE-A368-E3F73CB9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381560"/>
            <a:ext cx="206064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381560"/>
            <a:ext cx="206064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381560"/>
            <a:ext cx="206064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8200"/>
            <a:ext cx="206064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8200"/>
            <a:ext cx="206064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8200"/>
            <a:ext cx="206064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A35E-8701-402B-AFD0-65105E5D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381560"/>
            <a:ext cx="640080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576D-3F48-4B5A-B7EC-255B01A1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4381560"/>
            <a:ext cx="3123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4381560"/>
            <a:ext cx="3123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4896-F98B-40EC-8DF5-D1016A62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BAB4-37B8-426E-AE41-4ECA65D0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44C2-07C1-43BE-A2CE-663087AE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438156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4381560"/>
            <a:ext cx="3123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503820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0837-3BB0-4114-81CE-F8FD16D9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381560"/>
            <a:ext cx="3123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38156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503820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8FF5-D4C5-4777-8E06-CBC469D0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38156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381560"/>
            <a:ext cx="312336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5038200"/>
            <a:ext cx="6400800" cy="5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5926-3514-4835-8E5A-99FC6CD2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5400" y="164880"/>
            <a:ext cx="773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00"/>
                </a:solidFill>
                <a:latin typeface="Arial Narrow"/>
              </a:rPr>
              <a:t>Click to edit the title text format</a:t>
            </a:r>
            <a:endParaRPr b="1" lang="en-US" sz="46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25400" y="1887480"/>
            <a:ext cx="748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49B4-E04B-4382-8B41-222E988BF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17480" y="1545840"/>
            <a:ext cx="8426520" cy="1260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97880" y="1494000"/>
            <a:ext cx="1446120" cy="10476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E29D-68F2-4735-B7BC-C19325744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0066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Clr>
                <a:srgbClr val="0066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Clr>
                <a:srgbClr val="0066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5640"/>
            <a:ext cx="8021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c66"/>
                </a:solidFill>
                <a:latin typeface="Arial Black"/>
              </a:rPr>
              <a:t>Rate Options and </a:t>
            </a:r>
            <a:br>
              <a:rPr sz="4200"/>
            </a:br>
            <a:r>
              <a:rPr b="0" lang="en-US" sz="4200" spc="-1" strike="noStrike">
                <a:solidFill>
                  <a:srgbClr val="ffcc66"/>
                </a:solidFill>
                <a:latin typeface="Arial Black"/>
              </a:rPr>
              <a:t>Rate Increase Acceptance</a:t>
            </a:r>
            <a:endParaRPr b="0" lang="en-US" sz="4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141640" y="5164200"/>
            <a:ext cx="64008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ic Rothste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tility Management Solu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2M H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, 200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6840" y="2325600"/>
            <a:ext cx="845820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cccc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orically utility rates artificially suppresse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cccc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rty tax stability held primacy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cccc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sufficient manpower in utilities and lack of preventative maintenance caused disastrous problems in 1998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8524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cc66"/>
                </a:solidFill>
                <a:uFillTx/>
                <a:latin typeface="Arial Black"/>
              </a:rPr>
              <a:t>Augusta, Georgia </a:t>
            </a:r>
            <a:br>
              <a:rPr sz="3000"/>
            </a:br>
            <a:r>
              <a:rPr b="1" lang="en-US" sz="4600" spc="-1" strike="noStrike">
                <a:solidFill>
                  <a:srgbClr val="ffffff"/>
                </a:solidFill>
                <a:latin typeface="Arial Narrow"/>
              </a:rPr>
              <a:t>7-year rate increase enables AUD to round ‘Amen Corner’</a:t>
            </a:r>
            <a:endParaRPr b="1" lang="en-US" sz="4600" spc="-1" strike="noStrike">
              <a:solidFill>
                <a:srgbClr val="003300"/>
              </a:solidFill>
              <a:latin typeface="Arial Narrow"/>
            </a:endParaRPr>
          </a:p>
        </p:txBody>
      </p:sp>
      <p:pic>
        <p:nvPicPr>
          <p:cNvPr id="190" name="Object 5" descr=""/>
          <p:cNvPicPr/>
          <p:nvPr/>
        </p:nvPicPr>
        <p:blipFill>
          <a:blip r:embed="rId2"/>
          <a:stretch/>
        </p:blipFill>
        <p:spPr>
          <a:xfrm>
            <a:off x="6257880" y="4363920"/>
            <a:ext cx="2662200" cy="183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91" name=""/>
          <p:cNvSpPr/>
          <p:nvPr/>
        </p:nvSpPr>
        <p:spPr>
          <a:xfrm>
            <a:off x="452520" y="4179960"/>
            <a:ext cx="5941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cccc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-year rate increase program and program commi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cccc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accelerated $300M implementation and AUD renew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cccc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d goal of benchmark performance by 20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1680" y="236160"/>
            <a:ext cx="8558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 Narrow"/>
              </a:rPr>
              <a:t>Augusta’s 7-year rate increase program demonstrates local commitment</a:t>
            </a:r>
            <a:endParaRPr b="1" lang="en-US" sz="4200" spc="-1" strike="noStrike">
              <a:solidFill>
                <a:srgbClr val="003300"/>
              </a:solidFill>
              <a:latin typeface="Arial Narrow"/>
            </a:endParaRPr>
          </a:p>
        </p:txBody>
      </p:sp>
      <p:pic>
        <p:nvPicPr>
          <p:cNvPr id="194" name="Object 3" descr=""/>
          <p:cNvPicPr/>
          <p:nvPr/>
        </p:nvPicPr>
        <p:blipFill>
          <a:blip r:embed="rId2"/>
          <a:stretch/>
        </p:blipFill>
        <p:spPr>
          <a:xfrm>
            <a:off x="457200" y="1452600"/>
            <a:ext cx="8474040" cy="51404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209680" y="64911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*Based on water usage of 9,000 gallons per mon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5872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66"/>
                </a:solidFill>
                <a:uFillTx/>
                <a:latin typeface="Arial Black"/>
              </a:rPr>
              <a:t>City of Atlanta, GA</a:t>
            </a:r>
            <a:br>
              <a:rPr sz="2000"/>
            </a:br>
            <a:r>
              <a:rPr b="1" lang="en-US" sz="4200" spc="-1" strike="noStrike">
                <a:solidFill>
                  <a:srgbClr val="ffffcc"/>
                </a:solidFill>
                <a:latin typeface="Arial Narrow"/>
              </a:rPr>
              <a:t>Atlanta’s triple challenge being met with unprecedented political resolve</a:t>
            </a:r>
            <a:endParaRPr b="1" lang="en-US" sz="42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2440" y="2004480"/>
            <a:ext cx="632592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00"/>
              </a:spcBef>
              <a:spcAft>
                <a:spcPts val="524"/>
              </a:spcAft>
              <a:buClr>
                <a:srgbClr val="ffcc66"/>
              </a:buClr>
              <a:buSzPct val="90000"/>
              <a:buFont typeface="Monotype Sort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led water utility privatization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01"/>
              </a:spcBef>
              <a:spcAft>
                <a:spcPts val="451"/>
              </a:spcAft>
              <a:buClr>
                <a:srgbClr val="ffcc66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dequate business system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01"/>
              </a:spcBef>
              <a:spcAft>
                <a:spcPts val="451"/>
              </a:spcAft>
              <a:buClr>
                <a:srgbClr val="ffcc66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ent Order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700"/>
              </a:spcBef>
              <a:spcAft>
                <a:spcPts val="524"/>
              </a:spcAft>
              <a:buClr>
                <a:srgbClr val="ffcc66"/>
              </a:buClr>
              <a:buSzPct val="90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wed stormwater utility fee development yet pending requirements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700"/>
              </a:spcBef>
              <a:spcAft>
                <a:spcPts val="524"/>
              </a:spcAft>
              <a:buClr>
                <a:srgbClr val="ffcc66"/>
              </a:buClr>
              <a:buSzPct val="90000"/>
              <a:buFont typeface="Monotype Sort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tewater Consent Decre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01"/>
              </a:spcBef>
              <a:spcAft>
                <a:spcPts val="451"/>
              </a:spcAft>
              <a:buClr>
                <a:srgbClr val="ffcc66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+ billion investm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01"/>
              </a:spcBef>
              <a:spcAft>
                <a:spcPts val="451"/>
              </a:spcAft>
              <a:buClr>
                <a:srgbClr val="ffcc66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schedule &amp; stipulated penaltie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700"/>
              </a:spcBef>
              <a:spcAft>
                <a:spcPts val="524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-term under-investment in utility system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99" name="Group 4"/>
          <p:cNvGrpSpPr/>
          <p:nvPr/>
        </p:nvGrpSpPr>
        <p:grpSpPr>
          <a:xfrm>
            <a:off x="6721560" y="2779560"/>
            <a:ext cx="2174760" cy="2537640"/>
            <a:chOff x="6721560" y="2779560"/>
            <a:chExt cx="2174760" cy="2537640"/>
          </a:xfrm>
        </p:grpSpPr>
        <p:pic>
          <p:nvPicPr>
            <p:cNvPr id="200" name="" descr=""/>
            <p:cNvPicPr/>
            <p:nvPr/>
          </p:nvPicPr>
          <p:blipFill>
            <a:blip r:embed="rId2"/>
            <a:stretch/>
          </p:blipFill>
          <p:spPr>
            <a:xfrm>
              <a:off x="6721560" y="2779560"/>
              <a:ext cx="1339920" cy="18529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201" name=""/>
            <p:cNvSpPr/>
            <p:nvPr/>
          </p:nvSpPr>
          <p:spPr>
            <a:xfrm>
              <a:off x="6721560" y="4613400"/>
              <a:ext cx="217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Arial Narrow"/>
                </a:rPr>
                <a:t>Mayo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Arial Narrow"/>
                </a:rPr>
                <a:t>Shirley Frankl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83920" y="2156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c66"/>
                </a:solidFill>
                <a:latin typeface="Arial Narrow"/>
              </a:rPr>
              <a:t>The City ‘bit the bullet’ with an unprecedented 5-year rate increase</a:t>
            </a:r>
            <a:endParaRPr b="1" lang="en-US" sz="4600" spc="-1" strike="noStrike">
              <a:solidFill>
                <a:srgbClr val="003300"/>
              </a:solidFill>
              <a:latin typeface="Arial Narrow"/>
            </a:endParaRPr>
          </a:p>
        </p:txBody>
      </p:sp>
      <p:pic>
        <p:nvPicPr>
          <p:cNvPr id="204" name="Object 3" descr=""/>
          <p:cNvPicPr/>
          <p:nvPr/>
        </p:nvPicPr>
        <p:blipFill>
          <a:blip r:embed="rId2"/>
          <a:stretch/>
        </p:blipFill>
        <p:spPr>
          <a:xfrm>
            <a:off x="590400" y="1612800"/>
            <a:ext cx="761364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39800" y="309240"/>
            <a:ext cx="773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66"/>
                </a:solidFill>
                <a:latin typeface="Arial Narrow"/>
              </a:rPr>
              <a:t>Atlanta will use local MOST to reduce adopted 2005 rate increase</a:t>
            </a:r>
            <a:endParaRPr b="1" lang="en-US" sz="42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9880" y="205596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% Municipal Option Sales Tax (MOST) approved in July 20, 2004 referendum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ed to provide $70M per annum in proceeds for payment of water and sewer capital and operation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in place for 4-years with 2 renewals possible with voter approva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6140520" y="2629080"/>
            <a:ext cx="2768400" cy="2900160"/>
          </a:xfrm>
          <a:prstGeom prst="rect">
            <a:avLst/>
          </a:prstGeom>
          <a:ln w="3816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alem" descr=""/>
          <p:cNvPicPr/>
          <p:nvPr/>
        </p:nvPicPr>
        <p:blipFill>
          <a:blip r:embed="rId1">
            <a:lum bright="12000"/>
          </a:blip>
          <a:srcRect l="19096" t="0" r="22876" b="0"/>
          <a:stretch/>
        </p:blipFill>
        <p:spPr>
          <a:xfrm>
            <a:off x="11160" y="0"/>
            <a:ext cx="119232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60520" y="30456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865900"/>
                </a:solidFill>
                <a:uFillTx/>
                <a:latin typeface="Arial Narrow"/>
              </a:rPr>
              <a:t>Salem, Oregon</a:t>
            </a:r>
            <a:r>
              <a:rPr b="1" lang="en-US" sz="3400" spc="-1" strike="noStrike">
                <a:solidFill>
                  <a:srgbClr val="003300"/>
                </a:solidFill>
                <a:latin typeface="Arial Narrow"/>
              </a:rPr>
              <a:t> </a:t>
            </a:r>
            <a:br>
              <a:rPr sz="3400"/>
            </a:br>
            <a:r>
              <a:rPr b="1" lang="en-US" sz="3400" spc="-1" strike="noStrike">
                <a:solidFill>
                  <a:srgbClr val="003300"/>
                </a:solidFill>
                <a:latin typeface="Arial Narrow"/>
              </a:rPr>
              <a:t>Multi-year rate strategy adopted to avoid rate spikes &amp; finance near $0.5B in capital</a:t>
            </a:r>
            <a:endParaRPr b="1" lang="en-US" sz="3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644120" y="1893600"/>
            <a:ext cx="700596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1993 Study calls for annual rate increases through 2001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spcAft>
                <a:spcPts val="451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4% / year Water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spcAft>
                <a:spcPts val="451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6.5% / year Sewer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Approved initially by Council in 1995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2000 Study calls for annual rate increases through 2009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spcAft>
                <a:spcPts val="451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8.1% / year Wat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spcAft>
                <a:spcPts val="451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8.6% / year S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spcAft>
                <a:spcPts val="451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et debt service coverage requirement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spcAft>
                <a:spcPts val="451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vide for 45-day minimum balance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salem" descr=""/>
          <p:cNvPicPr/>
          <p:nvPr/>
        </p:nvPicPr>
        <p:blipFill>
          <a:blip r:embed="rId1">
            <a:lum bright="12000"/>
          </a:blip>
          <a:srcRect l="19096" t="0" r="22876" b="0"/>
          <a:stretch/>
        </p:blipFill>
        <p:spPr>
          <a:xfrm>
            <a:off x="11160" y="0"/>
            <a:ext cx="119232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60520" y="30456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865900"/>
                </a:solidFill>
                <a:uFillTx/>
                <a:latin typeface="Arial Narrow"/>
              </a:rPr>
              <a:t>Salem, Oregon</a:t>
            </a:r>
            <a:r>
              <a:rPr b="1" lang="en-US" sz="3400" spc="-1" strike="noStrike">
                <a:solidFill>
                  <a:srgbClr val="003300"/>
                </a:solidFill>
                <a:latin typeface="Arial Narrow"/>
              </a:rPr>
              <a:t> </a:t>
            </a:r>
            <a:br>
              <a:rPr sz="3400"/>
            </a:br>
            <a:r>
              <a:rPr b="1" lang="en-US" sz="3400" spc="-1" strike="noStrike">
                <a:solidFill>
                  <a:srgbClr val="003300"/>
                </a:solidFill>
                <a:latin typeface="Arial Narrow"/>
              </a:rPr>
              <a:t>Salem’s comprehensive approach to rate management fostered public acceptance</a:t>
            </a:r>
            <a:endParaRPr b="1" lang="en-US" sz="3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44320" y="2084400"/>
            <a:ext cx="438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trategic financial planning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ost-of-service rate studi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601"/>
              </a:spcBef>
              <a:spcAft>
                <a:spcPts val="451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ulti-year transi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act fee analys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601"/>
              </a:spcBef>
              <a:spcAft>
                <a:spcPts val="451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Water / Wastewater / Stormwat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xtensive public involvement in all phas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985000" y="2219400"/>
            <a:ext cx="2914560" cy="382896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2400" y="498240"/>
            <a:ext cx="773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00"/>
                </a:solidFill>
                <a:latin typeface="Arial Narrow"/>
              </a:rPr>
              <a:t>Conclusions</a:t>
            </a:r>
            <a:endParaRPr b="1" lang="en-US" sz="46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62120" y="1822320"/>
            <a:ext cx="8030880" cy="51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99"/>
              </a:spcBef>
              <a:spcAft>
                <a:spcPts val="601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Rate options may be customized to address community needs / policy objective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ost of service serves as benchmark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99"/>
              </a:spcBef>
              <a:spcAft>
                <a:spcPts val="601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Public acceptance of (inevitable) rate increases may be achieved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99"/>
              </a:spcBef>
              <a:spcAft>
                <a:spcPts val="601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ase studies affirm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ortance of careful planning, innovation, equity, and effective public communication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apability to address acute financial challenges at the local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5640"/>
            <a:ext cx="8021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c66"/>
                </a:solidFill>
                <a:latin typeface="Arial Black"/>
              </a:rPr>
              <a:t>Rate Options and </a:t>
            </a:r>
            <a:br>
              <a:rPr sz="4200"/>
            </a:br>
            <a:r>
              <a:rPr b="0" lang="en-US" sz="4200" spc="-1" strike="noStrike">
                <a:solidFill>
                  <a:srgbClr val="ffcc66"/>
                </a:solidFill>
                <a:latin typeface="Arial Black"/>
              </a:rPr>
              <a:t>Rate Increase Acceptance</a:t>
            </a:r>
            <a:endParaRPr b="0" lang="en-US" sz="4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2141640" y="5164200"/>
            <a:ext cx="64008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ic Rothste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tility Management Solu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2M H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, 200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5400" y="418680"/>
            <a:ext cx="773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00"/>
                </a:solidFill>
                <a:latin typeface="Arial Narrow"/>
              </a:rPr>
              <a:t>Presentation Outline</a:t>
            </a:r>
            <a:endParaRPr b="1" lang="en-US" sz="46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0240" y="1994040"/>
            <a:ext cx="770904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Rate Structure Options &amp; Selec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Cost of Service Based Option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Public Policy Based Option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'Avoiding Rate Shock'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Lessons of the AWWA WUC report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Case Studies: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Augusta, Georgi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Salem, Oregon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Atlanta, Georgi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5400" y="444240"/>
            <a:ext cx="773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00"/>
                </a:solidFill>
                <a:latin typeface="Arial Narrow"/>
              </a:rPr>
              <a:t>Rate Setting Context</a:t>
            </a:r>
            <a:endParaRPr b="1" lang="en-US" sz="46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8040" y="1887480"/>
            <a:ext cx="5865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Wastewater rates have been and will continue to increase at pace well above rate of inflation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Wastewater services generally remain under-price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Industry recognition of rate and financial imperativ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Examples of successful local rate programs to address critical system nee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32640" indent="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6531120" y="4622760"/>
            <a:ext cx="2350800" cy="1847880"/>
          </a:xfrm>
          <a:prstGeom prst="rect">
            <a:avLst/>
          </a:prstGeom>
          <a:ln w="28440">
            <a:solidFill>
              <a:srgbClr val="006600"/>
            </a:solidFill>
            <a:miter/>
          </a:ln>
          <a:effectLst>
            <a:outerShdw dist="64600" dir="674838" blurRad="0" rotWithShape="0">
              <a:srgbClr val="808080"/>
            </a:outerShdw>
          </a:effectLst>
        </p:spPr>
      </p:pic>
      <p:pic>
        <p:nvPicPr>
          <p:cNvPr id="95" name="Picture 7" descr=""/>
          <p:cNvPicPr/>
          <p:nvPr/>
        </p:nvPicPr>
        <p:blipFill>
          <a:blip r:embed="rId2"/>
          <a:stretch/>
        </p:blipFill>
        <p:spPr>
          <a:xfrm>
            <a:off x="6835680" y="2122560"/>
            <a:ext cx="17798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00"/>
                </a:solidFill>
                <a:latin typeface="Arial Narrow"/>
              </a:rPr>
              <a:t>Cost-of-Service Based Options</a:t>
            </a:r>
            <a:endParaRPr b="1" lang="en-US" sz="46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8080" y="2055960"/>
            <a:ext cx="315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ost-of-service allocation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ustomer classific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By strength loading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spcAft>
                <a:spcPts val="374"/>
              </a:spcAft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By jurisdictional boundar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pecific assignments / exclusion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065480" y="1905120"/>
            <a:ext cx="4857840" cy="282564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4044960" y="4867200"/>
            <a:ext cx="48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 Narrow"/>
              </a:rPr>
              <a:t>Standard practices afford considerable  opportunity to customize rate analysis to reflect local circum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00"/>
                </a:solidFill>
                <a:latin typeface="Arial Narrow"/>
              </a:rPr>
              <a:t>Policy-Based Options</a:t>
            </a:r>
            <a:endParaRPr b="1" lang="en-US" sz="46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2107800"/>
            <a:ext cx="789624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eviations from cost-of-service benchmark may be employed to effect public policy objectiv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3483000"/>
            <a:ext cx="60706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Economic development incen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Low-income afford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Water conservation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2560" y="5145120"/>
            <a:ext cx="7896240" cy="14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nter-class subsidies and variances from cost-based rates may subject jurisdictions to challe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spcAft>
                <a:spcPts val="524"/>
              </a:spcAft>
              <a:buClr>
                <a:srgbClr val="0066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7" descr=""/>
          <p:cNvPicPr/>
          <p:nvPr/>
        </p:nvPicPr>
        <p:blipFill>
          <a:blip r:embed="rId1"/>
          <a:stretch/>
        </p:blipFill>
        <p:spPr>
          <a:xfrm>
            <a:off x="6997680" y="3043080"/>
            <a:ext cx="1773360" cy="125280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pic>
        <p:nvPicPr>
          <p:cNvPr id="105" name="Picture 18" descr=""/>
          <p:cNvPicPr/>
          <p:nvPr/>
        </p:nvPicPr>
        <p:blipFill>
          <a:blip r:embed="rId2"/>
          <a:stretch/>
        </p:blipFill>
        <p:spPr>
          <a:xfrm>
            <a:off x="5681520" y="4086360"/>
            <a:ext cx="1838520" cy="95724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14000"/>
            <a:ext cx="773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00"/>
                </a:solidFill>
                <a:latin typeface="Arial Narrow"/>
              </a:rPr>
              <a:t>Selecting Rate Design Options</a:t>
            </a:r>
            <a:endParaRPr b="1" lang="en-US" sz="46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649440" y="3273480"/>
            <a:ext cx="4533840" cy="546120"/>
          </a:xfrm>
          <a:custGeom>
            <a:avLst/>
            <a:gdLst>
              <a:gd name="textAreaLeft" fmla="*/ 0 w 4533840"/>
              <a:gd name="textAreaRight" fmla="*/ 4534200 w 453384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88" y="0"/>
                </a:lnTo>
                <a:lnTo>
                  <a:pt x="21600" y="10800"/>
                </a:lnTo>
                <a:lnTo>
                  <a:pt x="207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 anchorCtr="1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Administrative feasibil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08800" y="2879640"/>
            <a:ext cx="2958840" cy="2730600"/>
          </a:xfrm>
          <a:prstGeom prst="ellipse">
            <a:avLst/>
          </a:prstGeom>
          <a:gradFill rotWithShape="0">
            <a:gsLst>
              <a:gs pos="0">
                <a:srgbClr val="003300"/>
              </a:gs>
              <a:gs pos="100000">
                <a:srgbClr val="00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ter &amp; Intra Class Bill Imp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9440" y="2019240"/>
            <a:ext cx="4533840" cy="546120"/>
          </a:xfrm>
          <a:custGeom>
            <a:avLst/>
            <a:gdLst>
              <a:gd name="textAreaLeft" fmla="*/ 0 w 4533840"/>
              <a:gd name="textAreaRight" fmla="*/ 4534200 w 453384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88" y="0"/>
                </a:lnTo>
                <a:lnTo>
                  <a:pt x="21600" y="10800"/>
                </a:lnTo>
                <a:lnTo>
                  <a:pt x="207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 anchorCtr="1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Revenue Adequa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9440" y="3900600"/>
            <a:ext cx="4533840" cy="546120"/>
          </a:xfrm>
          <a:custGeom>
            <a:avLst/>
            <a:gdLst>
              <a:gd name="textAreaLeft" fmla="*/ 0 w 4533840"/>
              <a:gd name="textAreaRight" fmla="*/ 4534200 w 453384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88" y="0"/>
                </a:lnTo>
                <a:lnTo>
                  <a:pt x="21600" y="10800"/>
                </a:lnTo>
                <a:lnTo>
                  <a:pt x="207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 anchorCtr="1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Public accep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9440" y="2646360"/>
            <a:ext cx="4533840" cy="546120"/>
          </a:xfrm>
          <a:custGeom>
            <a:avLst/>
            <a:gdLst>
              <a:gd name="textAreaLeft" fmla="*/ 0 w 4533840"/>
              <a:gd name="textAreaRight" fmla="*/ 4534200 w 453384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88" y="0"/>
                </a:lnTo>
                <a:lnTo>
                  <a:pt x="21600" y="10800"/>
                </a:lnTo>
                <a:lnTo>
                  <a:pt x="207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 anchorCtr="1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Equ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9440" y="5783400"/>
            <a:ext cx="4533840" cy="546120"/>
          </a:xfrm>
          <a:custGeom>
            <a:avLst/>
            <a:gdLst>
              <a:gd name="textAreaLeft" fmla="*/ 0 w 4533840"/>
              <a:gd name="textAreaRight" fmla="*/ 4534200 w 453384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88" y="0"/>
                </a:lnTo>
                <a:lnTo>
                  <a:pt x="21600" y="10800"/>
                </a:lnTo>
                <a:lnTo>
                  <a:pt x="207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 anchorCtr="1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Water con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9440" y="4527720"/>
            <a:ext cx="4533840" cy="545760"/>
          </a:xfrm>
          <a:custGeom>
            <a:avLst/>
            <a:gdLst>
              <a:gd name="textAreaLeft" fmla="*/ 0 w 4533840"/>
              <a:gd name="textAreaRight" fmla="*/ 4534200 w 4533840"/>
              <a:gd name="textAreaTop" fmla="*/ 0 h 545760"/>
              <a:gd name="textAreaBottom" fmla="*/ 546120 h 54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88" y="0"/>
                </a:lnTo>
                <a:lnTo>
                  <a:pt x="21600" y="10800"/>
                </a:lnTo>
                <a:lnTo>
                  <a:pt x="207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 anchorCtr="1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Low-Income Afford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9440" y="5154480"/>
            <a:ext cx="4533840" cy="546120"/>
          </a:xfrm>
          <a:custGeom>
            <a:avLst/>
            <a:gdLst>
              <a:gd name="textAreaLeft" fmla="*/ 0 w 4533840"/>
              <a:gd name="textAreaRight" fmla="*/ 4534200 w 453384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88" y="0"/>
                </a:lnTo>
                <a:lnTo>
                  <a:pt x="21600" y="10800"/>
                </a:lnTo>
                <a:lnTo>
                  <a:pt x="207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 anchorCtr="1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Economic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87720" y="164880"/>
            <a:ext cx="627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00"/>
                </a:solidFill>
                <a:latin typeface="Arial Narrow"/>
              </a:rPr>
              <a:t>‘</a:t>
            </a:r>
            <a:r>
              <a:rPr b="1" lang="en-US" sz="3800" spc="-1" strike="noStrike">
                <a:solidFill>
                  <a:srgbClr val="003300"/>
                </a:solidFill>
                <a:latin typeface="Arial Narrow"/>
              </a:rPr>
              <a:t>Avoiding Rate Shock’ findings generally apply to wastewater</a:t>
            </a:r>
            <a:endParaRPr b="1" lang="en-US" sz="3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29960" y="1917720"/>
            <a:ext cx="68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5000"/>
              </a:lnSpc>
              <a:spcBef>
                <a:spcPts val="601"/>
              </a:spcBef>
              <a:spcAft>
                <a:spcPts val="901"/>
              </a:spcAft>
              <a:buClr>
                <a:srgbClr val="336699"/>
              </a:buClr>
              <a:buSzPct val="90000"/>
              <a:buFont typeface="Monotype Sorts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Water is undervalued, which increases the challenge in getting rate increases accepte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8520" indent="0">
              <a:lnSpc>
                <a:spcPct val="85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08520" indent="-308520">
              <a:lnSpc>
                <a:spcPct val="85000"/>
              </a:lnSpc>
              <a:spcBef>
                <a:spcPts val="601"/>
              </a:spcBef>
              <a:spcAft>
                <a:spcPts val="901"/>
              </a:spcAft>
              <a:buClr>
                <a:srgbClr val="cc9900"/>
              </a:buClr>
              <a:buSzPct val="90000"/>
              <a:buFont typeface="Monotype Sort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sistent communication promotes credibility and acceptance of rate increase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8520" indent="0">
              <a:lnSpc>
                <a:spcPct val="85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308520" indent="-308520">
              <a:lnSpc>
                <a:spcPct val="85000"/>
              </a:lnSpc>
              <a:spcBef>
                <a:spcPts val="601"/>
              </a:spcBef>
              <a:spcAft>
                <a:spcPts val="901"/>
              </a:spcAft>
              <a:buClr>
                <a:srgbClr val="990099"/>
              </a:buClr>
              <a:buSzPct val="90000"/>
              <a:buFont typeface="Monotype Sort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t’s never too late to start doing the right thing - thinking long-term and planning beyond the current crisi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8520" indent="0">
              <a:lnSpc>
                <a:spcPct val="85000"/>
              </a:lnSpc>
              <a:spcBef>
                <a:spcPts val="224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marL="308520" indent="-308520">
              <a:lnSpc>
                <a:spcPct val="85000"/>
              </a:lnSpc>
              <a:spcBef>
                <a:spcPts val="601"/>
              </a:spcBef>
              <a:spcAft>
                <a:spcPts val="901"/>
              </a:spcAft>
              <a:buClr>
                <a:srgbClr val="339966"/>
              </a:buClr>
              <a:buSzPct val="90000"/>
              <a:buFont typeface="Monotype Sort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Billing practices and rate structure options can affect customer reactions and acceptance of rate increases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7" name="npo00000b" descr=""/>
          <p:cNvPicPr/>
          <p:nvPr/>
        </p:nvPicPr>
        <p:blipFill>
          <a:blip r:embed="rId1"/>
          <a:stretch/>
        </p:blipFill>
        <p:spPr>
          <a:xfrm>
            <a:off x="1022400" y="1986120"/>
            <a:ext cx="966600" cy="97632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118" name="npo00000d" descr=""/>
          <p:cNvPicPr/>
          <p:nvPr/>
        </p:nvPicPr>
        <p:blipFill>
          <a:blip r:embed="rId2"/>
          <a:stretch/>
        </p:blipFill>
        <p:spPr>
          <a:xfrm>
            <a:off x="1027080" y="5335560"/>
            <a:ext cx="957240" cy="9669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119" name="npo00000f" descr=""/>
          <p:cNvPicPr/>
          <p:nvPr/>
        </p:nvPicPr>
        <p:blipFill>
          <a:blip r:embed="rId3"/>
          <a:stretch/>
        </p:blipFill>
        <p:spPr>
          <a:xfrm>
            <a:off x="1027080" y="4179960"/>
            <a:ext cx="957240" cy="9777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120" name="npo000011" descr=""/>
          <p:cNvPicPr/>
          <p:nvPr/>
        </p:nvPicPr>
        <p:blipFill>
          <a:blip r:embed="rId4"/>
          <a:stretch/>
        </p:blipFill>
        <p:spPr>
          <a:xfrm>
            <a:off x="1027080" y="3100320"/>
            <a:ext cx="960480" cy="9795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121" name="Picture 2" descr=""/>
          <p:cNvPicPr/>
          <p:nvPr/>
        </p:nvPicPr>
        <p:blipFill>
          <a:blip r:embed="rId5"/>
          <a:stretch/>
        </p:blipFill>
        <p:spPr>
          <a:xfrm>
            <a:off x="0" y="0"/>
            <a:ext cx="1920960" cy="1509840"/>
          </a:xfrm>
          <a:prstGeom prst="rect">
            <a:avLst/>
          </a:prstGeom>
          <a:ln w="28440">
            <a:solidFill>
              <a:srgbClr val="006600"/>
            </a:solidFill>
            <a:miter/>
          </a:ln>
          <a:effectLst>
            <a:outerShdw dist="64600" dir="674838" blurRad="0" rotWithShape="0">
              <a:srgbClr val="808080"/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38360" y="279000"/>
            <a:ext cx="787392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00"/>
                </a:solidFill>
                <a:latin typeface="Arial Narrow"/>
              </a:rPr>
              <a:t>‘</a:t>
            </a:r>
            <a:r>
              <a:rPr b="1" lang="en-US" sz="3400" spc="-1" strike="noStrike">
                <a:solidFill>
                  <a:srgbClr val="003300"/>
                </a:solidFill>
                <a:latin typeface="Arial Narrow"/>
              </a:rPr>
              <a:t>Avoiding Rate Shock’ report articulates a well defined process for securing rate increases and public acceptance</a:t>
            </a:r>
            <a:endParaRPr b="1" lang="en-US" sz="3400" spc="-1" strike="noStrike">
              <a:solidFill>
                <a:srgbClr val="003300"/>
              </a:solidFill>
              <a:latin typeface="Arial Narrow"/>
            </a:endParaRPr>
          </a:p>
        </p:txBody>
      </p:sp>
      <p:grpSp>
        <p:nvGrpSpPr>
          <p:cNvPr id="123" name="Group 66"/>
          <p:cNvGrpSpPr/>
          <p:nvPr/>
        </p:nvGrpSpPr>
        <p:grpSpPr>
          <a:xfrm>
            <a:off x="250920" y="1460520"/>
            <a:ext cx="9059760" cy="5309280"/>
            <a:chOff x="250920" y="1460520"/>
            <a:chExt cx="9059760" cy="5309280"/>
          </a:xfrm>
        </p:grpSpPr>
        <p:sp>
          <p:nvSpPr>
            <p:cNvPr id="124" name=""/>
            <p:cNvSpPr/>
            <p:nvPr/>
          </p:nvSpPr>
          <p:spPr>
            <a:xfrm>
              <a:off x="316080" y="5378400"/>
              <a:ext cx="474480" cy="260280"/>
            </a:xfrm>
            <a:prstGeom prst="roundRect">
              <a:avLst>
                <a:gd name="adj" fmla="val 16667"/>
              </a:avLst>
            </a:prstGeom>
            <a:solidFill>
              <a:srgbClr val="e7f3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6080" y="5716440"/>
              <a:ext cx="474480" cy="271440"/>
            </a:xfrm>
            <a:prstGeom prst="rect">
              <a:avLst/>
            </a:prstGeom>
            <a:solidFill>
              <a:srgbClr val="93cf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c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9480" y="5106960"/>
              <a:ext cx="43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Key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52440" y="6445080"/>
              <a:ext cx="7594560" cy="304920"/>
            </a:xfrm>
            <a:prstGeom prst="rightArrow">
              <a:avLst>
                <a:gd name="adj1" fmla="val 83333"/>
                <a:gd name="adj2" fmla="val 76450"/>
              </a:avLst>
            </a:prstGeom>
            <a:gradFill rotWithShape="0">
              <a:gsLst>
                <a:gs pos="0">
                  <a:srgbClr val="93cfa1"/>
                </a:gs>
                <a:gs pos="100000">
                  <a:srgbClr val="e0f0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58440" y="6432480"/>
              <a:ext cx="27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44400" y="6432480"/>
              <a:ext cx="27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49080" y="6432480"/>
              <a:ext cx="27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63480" y="6432480"/>
              <a:ext cx="27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77880" y="6432480"/>
              <a:ext cx="27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04600" y="64324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6 to 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07720" y="6432480"/>
              <a:ext cx="68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9 to 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76480" y="6237360"/>
              <a:ext cx="161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Typical Timeline (month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72320" y="3567240"/>
              <a:ext cx="1062000" cy="482400"/>
            </a:xfrm>
            <a:prstGeom prst="rect">
              <a:avLst/>
            </a:prstGeom>
            <a:solidFill>
              <a:srgbClr val="93cf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5. Implement campaig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89680" y="4048200"/>
              <a:ext cx="992160" cy="741240"/>
            </a:xfrm>
            <a:prstGeom prst="upArrow">
              <a:avLst>
                <a:gd name="adj1" fmla="val 68454"/>
                <a:gd name="adj2" fmla="val 40472"/>
              </a:avLst>
            </a:prstGeom>
            <a:gradFill rotWithShape="0">
              <a:gsLst>
                <a:gs pos="0">
                  <a:srgbClr val="b5d3e3"/>
                </a:gs>
                <a:gs pos="100000">
                  <a:srgbClr val="f9fb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920" y="2805120"/>
              <a:ext cx="637920" cy="347760"/>
            </a:xfrm>
            <a:prstGeom prst="roundRect">
              <a:avLst>
                <a:gd name="adj" fmla="val 16667"/>
              </a:avLst>
            </a:prstGeom>
            <a:solidFill>
              <a:srgbClr val="e7f3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Custom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survey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0920" y="3214800"/>
              <a:ext cx="637920" cy="349200"/>
            </a:xfrm>
            <a:prstGeom prst="roundRect">
              <a:avLst>
                <a:gd name="adj" fmla="val 16667"/>
              </a:avLst>
            </a:prstGeom>
            <a:solidFill>
              <a:srgbClr val="e7f3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C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0920" y="3630600"/>
              <a:ext cx="637920" cy="349200"/>
            </a:xfrm>
            <a:prstGeom prst="roundRect">
              <a:avLst>
                <a:gd name="adj" fmla="val 16667"/>
              </a:avLst>
            </a:prstGeom>
            <a:solidFill>
              <a:srgbClr val="e7f3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Operat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budg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0920" y="4048200"/>
              <a:ext cx="637920" cy="347760"/>
            </a:xfrm>
            <a:prstGeom prst="roundRect">
              <a:avLst>
                <a:gd name="adj" fmla="val 16667"/>
              </a:avLst>
            </a:prstGeom>
            <a:solidFill>
              <a:srgbClr val="e7f3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Complia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plan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0920" y="4464000"/>
              <a:ext cx="637920" cy="347760"/>
            </a:xfrm>
            <a:prstGeom prst="roundRect">
              <a:avLst>
                <a:gd name="adj" fmla="val 16667"/>
              </a:avLst>
            </a:prstGeom>
            <a:solidFill>
              <a:srgbClr val="e7f3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Facilit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plan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71440" y="3564000"/>
              <a:ext cx="992160" cy="484200"/>
            </a:xfrm>
            <a:prstGeom prst="rect">
              <a:avLst/>
            </a:prstGeom>
            <a:solidFill>
              <a:srgbClr val="93cf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1. Determine annual revenue requiremen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30600" y="3564000"/>
              <a:ext cx="1063440" cy="484200"/>
            </a:xfrm>
            <a:prstGeom prst="rect">
              <a:avLst/>
            </a:prstGeom>
            <a:solidFill>
              <a:srgbClr val="93cf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3. Determine rate impac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70280" y="3567240"/>
              <a:ext cx="1062360" cy="482400"/>
            </a:xfrm>
            <a:prstGeom prst="rect">
              <a:avLst/>
            </a:prstGeom>
            <a:solidFill>
              <a:srgbClr val="93cf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4. Develop rate increase campaig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64280" y="3406680"/>
              <a:ext cx="889200" cy="803520"/>
            </a:xfrm>
            <a:prstGeom prst="ellipse">
              <a:avLst/>
            </a:prstGeom>
            <a:solidFill>
              <a:srgbClr val="93cf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6. Governing bodies adopt ra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08520" y="3530520"/>
              <a:ext cx="637920" cy="566640"/>
            </a:xfrm>
            <a:prstGeom prst="diamond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Accep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able?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" name=""/>
            <p:cNvCxnSpPr>
              <a:stCxn id="138" idx="3"/>
              <a:endCxn id="143" idx="1"/>
            </p:cNvCxnSpPr>
            <p:nvPr/>
          </p:nvCxnSpPr>
          <p:spPr>
            <a:xfrm>
              <a:off x="888480" y="2979360"/>
              <a:ext cx="283320" cy="82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" name=""/>
            <p:cNvCxnSpPr>
              <a:stCxn id="139" idx="3"/>
              <a:endCxn id="143" idx="1"/>
            </p:cNvCxnSpPr>
            <p:nvPr/>
          </p:nvCxnSpPr>
          <p:spPr>
            <a:xfrm>
              <a:off x="888480" y="3389040"/>
              <a:ext cx="283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" name=""/>
            <p:cNvCxnSpPr>
              <a:stCxn id="140" idx="3"/>
              <a:endCxn id="143" idx="1"/>
            </p:cNvCxnSpPr>
            <p:nvPr/>
          </p:nvCxnSpPr>
          <p:spPr>
            <a:xfrm>
              <a:off x="888480" y="3804840"/>
              <a:ext cx="283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51" name=""/>
            <p:cNvCxnSpPr>
              <a:stCxn id="141" idx="3"/>
              <a:endCxn id="143" idx="1"/>
            </p:cNvCxnSpPr>
            <p:nvPr/>
          </p:nvCxnSpPr>
          <p:spPr>
            <a:xfrm flipV="1">
              <a:off x="888480" y="3804480"/>
              <a:ext cx="283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" name=""/>
            <p:cNvCxnSpPr>
              <a:stCxn id="142" idx="3"/>
              <a:endCxn id="143" idx="1"/>
            </p:cNvCxnSpPr>
            <p:nvPr/>
          </p:nvCxnSpPr>
          <p:spPr>
            <a:xfrm flipV="1">
              <a:off x="888480" y="3804480"/>
              <a:ext cx="283320" cy="832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53" name=""/>
            <p:cNvCxnSpPr>
              <a:stCxn id="143" idx="3"/>
              <a:endCxn id="144" idx="1"/>
            </p:cNvCxnSpPr>
            <p:nvPr/>
          </p:nvCxnSpPr>
          <p:spPr>
            <a:xfrm>
              <a:off x="2163240" y="3804840"/>
              <a:ext cx="567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54" name=""/>
            <p:cNvCxnSpPr>
              <a:stCxn id="144" idx="3"/>
              <a:endCxn id="147" idx="1"/>
            </p:cNvCxnSpPr>
            <p:nvPr/>
          </p:nvCxnSpPr>
          <p:spPr>
            <a:xfrm>
              <a:off x="3794040" y="3807000"/>
              <a:ext cx="115200" cy="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55" name=""/>
            <p:cNvCxnSpPr>
              <a:stCxn id="147" idx="3"/>
              <a:endCxn id="145" idx="1"/>
            </p:cNvCxnSpPr>
            <p:nvPr/>
          </p:nvCxnSpPr>
          <p:spPr>
            <a:xfrm flipV="1">
              <a:off x="4546440" y="3808080"/>
              <a:ext cx="124560" cy="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56" name=""/>
            <p:cNvCxnSpPr>
              <a:stCxn id="145" idx="3"/>
              <a:endCxn id="136" idx="1"/>
            </p:cNvCxnSpPr>
            <p:nvPr/>
          </p:nvCxnSpPr>
          <p:spPr>
            <a:xfrm>
              <a:off x="5732640" y="3808080"/>
              <a:ext cx="140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57" name=""/>
            <p:cNvCxnSpPr>
              <a:stCxn id="136" idx="3"/>
              <a:endCxn id="146" idx="2"/>
            </p:cNvCxnSpPr>
            <p:nvPr/>
          </p:nvCxnSpPr>
          <p:spPr>
            <a:xfrm>
              <a:off x="6933960" y="3808080"/>
              <a:ext cx="130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58" name=""/>
            <p:cNvSpPr/>
            <p:nvPr/>
          </p:nvSpPr>
          <p:spPr>
            <a:xfrm>
              <a:off x="2306520" y="345744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306520" y="38113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09720" y="2997360"/>
              <a:ext cx="992160" cy="484200"/>
            </a:xfrm>
            <a:prstGeom prst="rect">
              <a:avLst/>
            </a:prstGeom>
            <a:solidFill>
              <a:srgbClr val="93cf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2a. ID rate/ fee options to consid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09720" y="4141800"/>
              <a:ext cx="992160" cy="484200"/>
            </a:xfrm>
            <a:prstGeom prst="rect">
              <a:avLst/>
            </a:prstGeom>
            <a:solidFill>
              <a:srgbClr val="93cf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2b. ID affected stakeholde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68720" y="2935440"/>
              <a:ext cx="920880" cy="347400"/>
            </a:xfrm>
            <a:prstGeom prst="roundRect">
              <a:avLst>
                <a:gd name="adj" fmla="val 16667"/>
              </a:avLst>
            </a:prstGeom>
            <a:solidFill>
              <a:srgbClr val="e7f3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Public hearing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 Narrow"/>
                </a:rPr>
                <a:t>(if required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73520" y="2395440"/>
              <a:ext cx="1054080" cy="498600"/>
            </a:xfrm>
            <a:prstGeom prst="roundRect">
              <a:avLst>
                <a:gd name="adj" fmla="val 16667"/>
              </a:avLst>
            </a:prstGeom>
            <a:solidFill>
              <a:srgbClr val="e7f3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Customer Advisory Board 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Arial Narrow"/>
                </a:rPr>
                <a:t>(if required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23040" y="2935440"/>
              <a:ext cx="920520" cy="347400"/>
            </a:xfrm>
            <a:prstGeom prst="roundRect">
              <a:avLst>
                <a:gd name="adj" fmla="val 16667"/>
              </a:avLst>
            </a:prstGeom>
            <a:solidFill>
              <a:srgbClr val="e7f3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PUC fi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(if required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62" idx="2"/>
              <a:endCxn id="145" idx="0"/>
            </p:cNvCxnSpPr>
            <p:nvPr/>
          </p:nvCxnSpPr>
          <p:spPr>
            <a:xfrm>
              <a:off x="4529160" y="3282840"/>
              <a:ext cx="673920" cy="28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66" name=""/>
            <p:cNvCxnSpPr>
              <a:stCxn id="163" idx="2"/>
              <a:endCxn id="145" idx="0"/>
            </p:cNvCxnSpPr>
            <p:nvPr/>
          </p:nvCxnSpPr>
          <p:spPr>
            <a:xfrm>
              <a:off x="5200200" y="2894040"/>
              <a:ext cx="2520" cy="673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" name=""/>
            <p:cNvCxnSpPr>
              <a:stCxn id="164" idx="2"/>
              <a:endCxn id="145" idx="0"/>
            </p:cNvCxnSpPr>
            <p:nvPr/>
          </p:nvCxnSpPr>
          <p:spPr>
            <a:xfrm flipH="1">
              <a:off x="5201640" y="3282840"/>
              <a:ext cx="681480" cy="28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68" name=""/>
            <p:cNvCxnSpPr>
              <a:stCxn id="147" idx="2"/>
              <a:endCxn id="143" idx="2"/>
            </p:cNvCxnSpPr>
            <p:nvPr/>
          </p:nvCxnSpPr>
          <p:spPr>
            <a:xfrm flipV="1" rot="16200000">
              <a:off x="2923200" y="2792520"/>
              <a:ext cx="49680" cy="2559600"/>
            </a:xfrm>
            <a:prstGeom prst="bentConnector3">
              <a:avLst>
                <a:gd name="adj1" fmla="val -1316058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69" name=""/>
            <p:cNvSpPr/>
            <p:nvPr/>
          </p:nvSpPr>
          <p:spPr>
            <a:xfrm>
              <a:off x="3973320" y="4043520"/>
              <a:ext cx="326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N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70040" y="3541680"/>
              <a:ext cx="378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Y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12760" y="1460520"/>
              <a:ext cx="819792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 Narrow"/>
                </a:rPr>
                <a:t>Recommended typical rate increase sequ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0920" y="2241720"/>
              <a:ext cx="637920" cy="488880"/>
            </a:xfrm>
            <a:prstGeom prst="roundRect">
              <a:avLst>
                <a:gd name="adj" fmla="val 16667"/>
              </a:avLst>
            </a:prstGeom>
            <a:solidFill>
              <a:srgbClr val="e7f3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Custom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Advisor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Boar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3" name=""/>
            <p:cNvCxnSpPr>
              <a:stCxn id="172" idx="3"/>
              <a:endCxn id="143" idx="1"/>
            </p:cNvCxnSpPr>
            <p:nvPr/>
          </p:nvCxnSpPr>
          <p:spPr>
            <a:xfrm>
              <a:off x="888480" y="2486160"/>
              <a:ext cx="283320" cy="13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4" name=""/>
            <p:cNvSpPr/>
            <p:nvPr/>
          </p:nvSpPr>
          <p:spPr>
            <a:xfrm>
              <a:off x="8082000" y="3567240"/>
              <a:ext cx="1062000" cy="482400"/>
            </a:xfrm>
            <a:prstGeom prst="rect">
              <a:avLst/>
            </a:prstGeom>
            <a:solidFill>
              <a:srgbClr val="93cf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7. Communicate adopted rates to custome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5" name=""/>
            <p:cNvCxnSpPr>
              <a:stCxn id="146" idx="6"/>
              <a:endCxn id="174" idx="1"/>
            </p:cNvCxnSpPr>
            <p:nvPr/>
          </p:nvCxnSpPr>
          <p:spPr>
            <a:xfrm>
              <a:off x="7953120" y="3808080"/>
              <a:ext cx="129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76" name=""/>
            <p:cNvSpPr/>
            <p:nvPr/>
          </p:nvSpPr>
          <p:spPr>
            <a:xfrm>
              <a:off x="1442880" y="4052880"/>
              <a:ext cx="7175520" cy="927000"/>
            </a:xfrm>
            <a:custGeom>
              <a:avLst/>
              <a:gdLst/>
              <a:ahLst/>
              <a:rect l="l" t="t" r="r" b="b"/>
              <a:pathLst>
                <a:path w="4520" h="584">
                  <a:moveTo>
                    <a:pt x="4520" y="0"/>
                  </a:moveTo>
                  <a:lnTo>
                    <a:pt x="4520" y="584"/>
                  </a:lnTo>
                  <a:lnTo>
                    <a:pt x="0" y="58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Group 55"/>
            <p:cNvGrpSpPr/>
            <p:nvPr/>
          </p:nvGrpSpPr>
          <p:grpSpPr>
            <a:xfrm>
              <a:off x="5608800" y="4497480"/>
              <a:ext cx="2004840" cy="1919160"/>
              <a:chOff x="5608800" y="4497480"/>
              <a:chExt cx="2004840" cy="1919160"/>
            </a:xfrm>
          </p:grpSpPr>
          <p:pic>
            <p:nvPicPr>
              <p:cNvPr id="178" name="Picture 56" descr=""/>
              <p:cNvPicPr/>
              <p:nvPr/>
            </p:nvPicPr>
            <p:blipFill>
              <a:blip r:embed="rId1"/>
              <a:stretch/>
            </p:blipFill>
            <p:spPr>
              <a:xfrm>
                <a:off x="6808680" y="4694400"/>
                <a:ext cx="804960" cy="981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79" name="Picture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6087960" y="4497480"/>
                <a:ext cx="758880" cy="10461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80" name="Picture 58" descr=""/>
              <p:cNvPicPr/>
              <p:nvPr/>
            </p:nvPicPr>
            <p:blipFill>
              <a:blip r:embed="rId3"/>
              <a:stretch/>
            </p:blipFill>
            <p:spPr>
              <a:xfrm>
                <a:off x="5608800" y="5238720"/>
                <a:ext cx="809640" cy="9810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81" name="Picture 59" descr=""/>
              <p:cNvPicPr/>
              <p:nvPr/>
            </p:nvPicPr>
            <p:blipFill>
              <a:blip r:embed="rId4"/>
              <a:stretch/>
            </p:blipFill>
            <p:spPr>
              <a:xfrm>
                <a:off x="6383160" y="5402160"/>
                <a:ext cx="984600" cy="7524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82" name="Picture 60" descr=""/>
              <p:cNvPicPr/>
              <p:nvPr/>
            </p:nvPicPr>
            <p:blipFill>
              <a:blip r:embed="rId5"/>
              <a:stretch/>
            </p:blipFill>
            <p:spPr>
              <a:xfrm>
                <a:off x="6056280" y="5665680"/>
                <a:ext cx="981000" cy="750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</p:grpSp>
      <p:sp>
        <p:nvSpPr>
          <p:cNvPr id="183" name=""/>
          <p:cNvSpPr/>
          <p:nvPr/>
        </p:nvSpPr>
        <p:spPr>
          <a:xfrm>
            <a:off x="3995640" y="3227400"/>
            <a:ext cx="2584440" cy="1174680"/>
          </a:xfrm>
          <a:prstGeom prst="rect">
            <a:avLst/>
          </a:prstGeom>
          <a:solidFill>
            <a:srgbClr val="93cfa1"/>
          </a:solidFill>
          <a:ln w="2844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4. Develop rate increase campaig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5640"/>
            <a:ext cx="8021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c66"/>
                </a:solidFill>
                <a:latin typeface="Arial Black"/>
              </a:rPr>
              <a:t>Case Studies</a:t>
            </a:r>
            <a:endParaRPr b="0" lang="en-US" sz="4200" spc="-1" strike="noStrike">
              <a:solidFill>
                <a:srgbClr val="ffcc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22:28:47Z</dcterms:created>
  <dc:creator>gwammock</dc:creator>
  <dc:description/>
  <dc:language>en-US</dc:language>
  <cp:lastModifiedBy>Eric Rothstein</cp:lastModifiedBy>
  <dcterms:modified xsi:type="dcterms:W3CDTF">2005-01-18T14:59:16Z</dcterms:modified>
  <cp:revision>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27659726</vt:r8>
  </property>
  <property fmtid="{D5CDD505-2E9C-101B-9397-08002B2CF9AE}" pid="3" name="_AuthorEmail">
    <vt:lpwstr>Eric.Rothstein@CH2M.com</vt:lpwstr>
  </property>
  <property fmtid="{D5CDD505-2E9C-101B-9397-08002B2CF9AE}" pid="4" name="_AuthorEmailDisplayName">
    <vt:lpwstr>Rothstein, Eric/AUS</vt:lpwstr>
  </property>
  <property fmtid="{D5CDD505-2E9C-101B-9397-08002B2CF9AE}" pid="5" name="_EmailSubject">
    <vt:lpwstr>AMSA rate-setting panel</vt:lpwstr>
  </property>
</Properties>
</file>