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08E-B3F2-4A12-8FA0-AA76E1D0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B96-F63C-44D5-B009-BDBEB13A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94F-9CEF-48E9-A861-B8515F60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1D1-DDDF-4743-85B1-561BE9B4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4FB6-E753-4439-BB06-8BBD7308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97E0-0C28-4DAC-A450-20E58D76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299-C330-4D1A-A208-FF1ADAE0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4191-5D15-486E-A934-5082A09B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1620-677C-430E-B4C3-F2BC5114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0F7-572C-4062-9566-C2AFCC48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F16B-572A-471C-B6DB-1100E7A2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66A-42AC-4428-934E-15219F05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76EC-EE5B-4C3D-A983-D0E4C38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9FCA-4418-4E16-A0F1-503EE0E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6CC7-0DAC-40AE-8F6A-3DAC3ABC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2F63-E1AB-425F-B51D-3055BD0B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EB67-E4E6-421A-B979-E822CA88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D69-15DC-40DB-8098-845F2AAB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B1E-635F-48B5-A7A2-7D685EB9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A0A-644D-416C-8E6E-93810D5E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F73-5023-4818-B229-40331272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43A-74FD-44AD-A432-583AA3AA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034-094F-4E6F-8820-A2479EE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A1F-EAAA-4D4E-9D9B-EBBE551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16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F0B1-BDAE-43E8-9CA8-55171959DBF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16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E422-F30E-46CF-8B36-4F9D0395ED9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cmeinhard@orgeffectivenessgroup.com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81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naging As If </a:t>
            </a:r>
            <a:br>
              <a:rPr sz="5400"/>
            </a:b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Tomorrow Mattere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Charlyne Meinhard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rganizational Effectiveness Gro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John Maniscalco &amp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Norm LeBlanc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HRS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etency Based Job 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st practices docu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ive baseline for hiring, promotion, compens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reer development roadm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future job trai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3200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kforce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nal best practices/competenci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cro/micro skill gap assess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high potential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haviors of under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tion plan for develop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71800" y="4495680"/>
            <a:ext cx="30481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rning Strate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 status with other business strateg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yond classroom events to o-t-j acti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ear progression path/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vidual &amp; organizational milest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2767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kill Based P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bjective measures redu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ok forward, not backw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ertifiable 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hanced levels of account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tes develop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81480" y="4343400"/>
            <a:ext cx="3276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nowledge Management/Transf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formation &amp; knowledge mov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cros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up &amp; dow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chnology plays a par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uman systems=mentoring, debriefings, daily learnings from customer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3268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dea Cre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 need in knowledge-based econ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ew creative minds are not enoug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courages the “Innovation Facto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mal program to create fresh ide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siness metr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early check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lent grow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rovement in people’s skill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zation’s ability to do m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2076480" cy="2895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easuring Organizational Capac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ritical Strategies to Manage As If Tomorrow Matter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know your skill/talent landscape? Workforce mapp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rength of supervisory practice? Coaching? Development talen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 what employees absolutely need to know? Using Best Practices, not minimum requirement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itical Strategi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(cont’d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) Learning required for every employee? Not just those wanting promotio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) Systems and tools promote continuous learning o-t-j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) Compensation focused on future? Pay for growth &amp; developmen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7) Measure growth of organizational capacit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822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Managing As If 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Tomorrow Mattered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41911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uilding an Organizatio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sed on Talent, Learning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nd Knowledg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816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www.orgeffectivenessgroup.com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harlyne Meinhard </a:t>
            </a:r>
            <a:r>
              <a:rPr b="1" lang="en-US" sz="3200" spc="-1" strike="noStrike">
                <a:solidFill>
                  <a:srgbClr val="eaeaea"/>
                </a:solidFill>
                <a:latin typeface="Arial Black"/>
              </a:rPr>
              <a:t>■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804-559-156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cmeinhard@orgeffectivenessgroup.co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58672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71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Business Problem of Tal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workers aren’t lear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supervisors ill-equipped to coach/men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ganization maintaining, not building, capa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ductivity gains from technology and redu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knowledge strate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ronic talent and labor short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ed for training exceeds time to tra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nowledge-Creating Organiz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uture orien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R as Business Partner, Org Analy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pervisor manages workloa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al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ployees taught to self man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ent and Organizational Capacity is measur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etency mode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curricular Learning Strateg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rowth mandated=employee develops a “skill portfolio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R assists management in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*mapping the workforce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*coaching the coach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kplac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comes static work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der-performance identif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f-renewing human system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rt contr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king smarter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ccessio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zation’s talent needs and ris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ive identification of future lead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paration of ready replac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docu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mal ment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itor progr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9718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dershi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aching/feedback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ing competency models for employee develop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lent discernment/observation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driven each ye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2214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2:48:02Z</dcterms:created>
  <dc:creator>Roger E. Bruner</dc:creator>
  <dc:description/>
  <dc:language>en-US</dc:language>
  <cp:lastModifiedBy>Charlyne Meinhard</cp:lastModifiedBy>
  <dcterms:modified xsi:type="dcterms:W3CDTF">2005-01-19T04:44:52Z</dcterms:modified>
  <cp:revision>36</cp:revision>
  <dc:subject/>
  <dc:title>Managing As If  Tomorrow Mattered</dc:title>
</cp:coreProperties>
</file>