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F0D-9481-4FBF-9BE0-480A130E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8D2-5B59-47AE-A2E3-682FA094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75B-9E66-425A-A703-C194D15F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DD2-571A-44C7-9EAC-24347014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BFD5-C15B-4E23-B19A-4B755526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FD75-3646-460C-9587-50ADFB60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0822-B487-49E9-A405-FA530B33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0F20-17F1-4F8D-9B0C-002EB85B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0F87-F9D0-432E-8898-A52622BA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09E6-FBD4-457F-ACAB-6373065B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A66E-A056-4F9D-92EC-1BFE8C51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40D-ACCA-4DFD-8439-BB380EE7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2B48-9447-4038-89E1-433D4D3E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99DD-A603-4C5E-9FEC-88DBB5F1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AC86-C22F-4FA2-887F-407006CD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1E12-444B-4595-9CCC-D19CA36B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9ED0-F507-4E04-9F65-2ED3322F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EC7-3B9E-48D2-8E38-59A9173B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2745-56E5-412D-ADDD-96B4D43E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122-601F-4F6D-AE76-A95418A3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C2DF-D692-40FA-9FF0-2427DCE1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E36-3832-4212-A0F4-6AC80155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642-C34C-44F3-9D5F-E0FFB3B4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F1E-75DE-4D12-BD13-A3429634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168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C4D0-A23B-4CD7-9BA8-A2FE8F33388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168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ADBA-3515-4EDC-AB56-51096007095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cmeinhard@orgeffectivenessgroup.com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81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Managing As If </a:t>
            </a:r>
            <a:br>
              <a:rPr sz="5400"/>
            </a:b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Tomorrow Mattere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Charlyne Meinhard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Organizational Effectiveness Gro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John Maniscalco &amp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Norm LeBlanc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HRS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petency Based Job Desig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st practices documen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ive baseline for hiring, promotion, compens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reer development roadma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future job trai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32004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orkforce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nal best practices/competencie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cro/micro skill gap assess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y high potential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haviors of under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ction plan for develop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971800" y="4495680"/>
            <a:ext cx="30481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arning Strate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qual status with other business strateg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yond classroom events to o-t-j activ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ear progression path/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ividual &amp; organizational milest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327672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kill Based P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bjective measures reduc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ok forward, not backwar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ertifiable 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hanced levels of accounta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motes develop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81480" y="4343400"/>
            <a:ext cx="32767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Knowledge Management/Transf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formation &amp; knowledge mov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acros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up &amp; dow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chnology plays a par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uman systems=mentoring, debriefings, daily learnings from customers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819520" y="4343400"/>
            <a:ext cx="32684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dea Cre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igh need in knowledge-based econo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few creative minds are not enoug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courages the “Innovation Factor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mal program to create fresh ide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905120" y="41148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siness metr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early check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lent grow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rovement in people’s skill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zation’s ability to do mo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0" y="1371600"/>
            <a:ext cx="2076480" cy="28954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Measuring Organizational Capac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ritical Strategies to Manage As If Tomorrow Matter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you know your skill/talent landscape? Workforce mapped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rength of supervisory practice? Coaching? Development talen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 what employees absolutely need to know? Using Best Practices, not minimum requirement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itical Strategi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(cont’d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4) Learning required for every employee? Not just those wanting promotio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5) Systems and tools promote continuous learning o-t-j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) Compensation focused on future? Pay for growth &amp; developmen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7) Measure growth of organizational capacit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8227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Managing As If 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Tomorrow Mattered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41911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uilding an Organizatio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sed on Talent, Learning,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nd Knowledg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816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www.orgeffectivenessgroup.com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harlyne Meinhard </a:t>
            </a:r>
            <a:r>
              <a:rPr b="1" lang="en-US" sz="3200" spc="-1" strike="noStrike">
                <a:solidFill>
                  <a:srgbClr val="eaeaea"/>
                </a:solidFill>
                <a:latin typeface="Arial Black"/>
              </a:rPr>
              <a:t>■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804-559-156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cmeinhard@orgeffectivenessgroup.com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600200" y="533520"/>
            <a:ext cx="586728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71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Business Problem of Tal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workers aren’t learn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supervisors ill-equipped to coach/men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ganization maintaining, not building, capa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ductivity gains from technology and redu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knowledge strate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ronic talent and labor shortag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ed for training exceeds time to tra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Knowledge-Creating Organiz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uture orien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R as Business Partner, Org Analy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pervisor manages workload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tal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mployees taught to self man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lent and Organizational Capacity is measur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etency model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-curricular Learning Strateg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rowth mandated=employee develops a “skill portfolio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R assists management in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*mapping the workforce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*coaching the coach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orkplac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vercomes static work syst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der-performance identifi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f-renewing human system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rt contr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rking smarter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ccession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lan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zation’s talent needs and ris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ive identification of future lead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eparation of ready replac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 documen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mal ment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itor progr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9718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adership Develop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aching/feedback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ing competency models for employee develop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alent discernment/observation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driven each ye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867280" y="4114800"/>
            <a:ext cx="2214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2:48:02Z</dcterms:created>
  <dc:creator>Roger E. Bruner</dc:creator>
  <dc:description/>
  <dc:language>en-US</dc:language>
  <cp:lastModifiedBy>Charlyne Meinhard</cp:lastModifiedBy>
  <dcterms:modified xsi:type="dcterms:W3CDTF">2005-01-19T04:44:52Z</dcterms:modified>
  <cp:revision>36</cp:revision>
  <dc:subject/>
  <dc:title>Managing As If  Tomorrow Mattered</dc:title>
</cp:coreProperties>
</file>