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44C212-EBAE-4EC7-8FCB-55BFECF1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CB3B49-6B40-47B1-9061-84A6C358E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D35E73-6790-46AB-A250-0B5CD0D2D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0DB-8007-4976-9EBC-D8176566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05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514-7D41-48C6-9798-D5ABE8E5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800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F89-591B-4999-8416-C4A19448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25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57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25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57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EE9-EB9A-4C08-9455-A2123405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40B4-FEA5-47AC-BA2D-D9303730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09AD-F836-4C10-AECF-93C90C22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D78A-18E8-4C56-90CE-53DCCAD9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803F-BF72-4542-91B7-134B9819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FD78-8530-4621-B1D7-61069ADE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2E5F-4D8D-42AA-B572-BED0ACF5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ABAE-6E26-48F5-B7B7-82331F8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17C-5B87-49BC-8DBA-61487424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800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0912-428C-4227-9B4E-F1A6A88D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D553-A75D-495E-9B97-3C1EDAB9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405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1DA8-DB0B-4A10-8E66-E498FD8B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800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2C20-6ACB-4359-A410-0ECC8D18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25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5720" y="198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25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5720" y="40507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2ECC-5ADF-42BD-A032-03298688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DE8-7C99-4890-9A1D-DA2BEB20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320-07B1-4B64-8782-77D60D96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8B6-29C3-440D-A95F-A204EAD1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B46-3B55-47FF-82D8-6A4C41A4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256-CD0D-45F6-AC87-9E87BAB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8000" y="405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079-71EA-48E6-A5FA-6927DCC2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8000" y="19807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0507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90B-F100-4F16-86FC-93466E69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914400" cy="6856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295280" y="685800"/>
            <a:ext cx="7847280" cy="106668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6851-569C-4041-8152-76644134AD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914400" cy="6856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685800"/>
            <a:ext cx="7848720" cy="106668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21333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62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282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1746-CBC2-4EE2-BE44-8F3F147B1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71800" y="228600"/>
            <a:ext cx="4267080" cy="201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914400" cy="6856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81080" y="685800"/>
            <a:ext cx="6324480" cy="1066680"/>
            <a:chOff x="1981080" y="685800"/>
            <a:chExt cx="6324480" cy="1066680"/>
          </a:xfrm>
        </p:grpSpPr>
        <p:sp>
          <p:nvSpPr>
            <p:cNvPr id="95" name=""/>
            <p:cNvSpPr/>
            <p:nvPr/>
          </p:nvSpPr>
          <p:spPr>
            <a:xfrm>
              <a:off x="1981080" y="1150920"/>
              <a:ext cx="63244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S A N I T A T I O N   D I S T R I C T S   O F   L O S   A N G E L E S   C O U N T Y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348080" y="685800"/>
              <a:ext cx="15303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380880" y="3581280"/>
            <a:ext cx="8763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ter Recycling in California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rtha Rinc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SA 2005 Winter Conferen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bruary 4, 2005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orts to Effectively Maintain Progra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 quality wastewater to WR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ndustrial flow diverted for treatment to ocean discharge 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ggressive WRP pretreatmen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peratively work with water retailers and us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contracting process/pricing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al research on emerging concerns related to groundwater recharge, pathogens, health effects, disinfection byproducts, EDCs, PHA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29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ebello Forebay Project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use: 50,000 acre-ft (3 year average)/ 60,000 acre-ft (yearly ma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eatment prior to recharge: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mary and secondary treatment, multi-media filtration and chlorin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il Aquifer Treatment (SAT) provides additional organics removal during infil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ntral Basin supplies 40% of the demand for population of 3 mill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ter 40 years of operation, there have been no water quality issues of health conce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Effects Studies 1978-99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84 Health Effects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easurable adverse effects on either the area’s groundwater or the health of the people ingesting the wa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s, if any, were small and probably not dissimilar from commonly used surface wa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gested that a closely monitored expansion could be implemen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6 &amp; 1999 Rand Epidemiology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n exposed population of 1 million, after almost 30 years of groundwater recharge, no association exists between recycled water and higher rates of mortality, cancer incidence, infectious disease, or adverse birth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hogen Resear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rus monitoring (1,169 samples over 30 yea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yptosporidi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ICR Method used for 6 years with no oocyts det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Method 1623, Oocysts are present in final effluent in low numbers, typically &lt;5 oocysts/20 liters but are d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iar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.8% removal thru treatment 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% of the isolated cysts were non-viable, based on morphological and vital-stain analy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 tests suggests that very few, if any, cysts leaving the treatment plant are capable of causing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ability of S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or need for above-ground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removal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monitoring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ory framework for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blic knowledge &amp;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T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blic Outre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blic needs to be brought along step-by-step through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ublic friendly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 Optimists/ Pessim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ress regional differe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 positive images to describe the projec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ve, accessible and respo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used before negative message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ed (i.e. Toilet to T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referred to as WaterSMAR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plie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ntain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d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orr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 on Quantity/Types of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SD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urrent Reuse Pi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2 Survey: Approx. 545,000 AF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gislative goal: 1.0 MAFY by 20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 goal: 1.5 MAFY by 203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rrent uses includ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al/landscape irr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ial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water re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water barr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al impound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dlife habitat or mi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ysers/ energy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ilet flu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90520" y="0"/>
          <a:ext cx="8862840" cy="69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0"/>
                    <a:ext cx="886284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ulatory Framewor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ycling criteria established by CA Department of Health Services (DHS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ttp://www.dhs.ca.gov/ps/ddwem/publications/waterrecycling/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able uses for primary, secondary and tertiary treated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tied to uses so that they become more restrictive given the potential for public exp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onal Water Boards issue permits to producer or reuse site in consultation with D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CSD Recycled Water 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ndscape Irri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gricultural Irrig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ustrial U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et dye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ing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 manufact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tion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vironmental enhancement of wildlife habit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oundwater Rechar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laimed Water Usage – 200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2520" y="1030320"/>
          <a:ext cx="847548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030320"/>
                    <a:ext cx="84754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5:25:29Z</dcterms:created>
  <dc:creator>davila</dc:creator>
  <dc:description/>
  <dc:language>en-US</dc:language>
  <cp:lastModifiedBy>AMSA</cp:lastModifiedBy>
  <dcterms:modified xsi:type="dcterms:W3CDTF">2005-02-04T14:16:26Z</dcterms:modified>
  <cp:revision>199</cp:revision>
  <dc:subject/>
  <dc:title>Company Meeting Title</dc:title>
</cp:coreProperties>
</file>