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A54436-E046-4F81-84AE-AAF504E41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B4E9D1-9213-40F6-B1A3-DBEFCD24D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AFF81B-32A6-4DC0-9A5F-A57109A97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212-341A-41FF-A77C-BE810EA2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405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BD0-5F8D-4C29-9B73-6CCB5E60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800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D10-E745-43C5-9901-A4E6940F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25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57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25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57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BB1-DD28-46CD-8D49-706EECFC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4AAC-C34F-4B8B-9D20-A64961C7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4F40-CBA4-4AA6-A294-9E58FB69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1856-FC04-4C6D-94C5-7C8956F5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3B5F-8F8F-4207-9B28-95B2B57F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316F-E84F-41A1-B780-C9861BD1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F4A5-87DC-43AA-BAA6-4FA5E97E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BE9C-717C-430E-858C-147BC43E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B2E-0202-4F92-90FC-C1A0CF71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6800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14E8-60B1-46C6-AE06-C0D8960F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D2B5-E724-4E22-AE34-5245BAAC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405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038D-1E31-4BFC-893A-5D277308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6800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43E3-E1F4-4AE9-A8B3-B943469D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25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57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25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57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1A6D-D2C6-415F-9636-0B8C55A1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6AA-00F9-4C54-94AB-65469448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5CB-BF7D-4427-BC79-56FE9FC7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DB1-FB05-4EBE-BF15-F9CCC32B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85B-785C-420D-956D-28B4EC3F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E8A-BC46-4D2C-B84F-F93042FC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800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6C1-2101-4AC9-A23B-80519747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803-C875-4E55-87C9-522F938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914400" cy="6856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295280" y="685800"/>
            <a:ext cx="7847280" cy="106668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265D-E859-4318-9AC2-02584F4A07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914400" cy="6856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685800"/>
            <a:ext cx="7848720" cy="106668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21333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282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FC9A-5BEC-4A73-9286-B610C0320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4267080" cy="201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914400" cy="6856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981080" y="685800"/>
            <a:ext cx="6324480" cy="1066680"/>
            <a:chOff x="1981080" y="685800"/>
            <a:chExt cx="6324480" cy="1066680"/>
          </a:xfrm>
        </p:grpSpPr>
        <p:sp>
          <p:nvSpPr>
            <p:cNvPr id="95" name=""/>
            <p:cNvSpPr/>
            <p:nvPr/>
          </p:nvSpPr>
          <p:spPr>
            <a:xfrm>
              <a:off x="1981080" y="1150920"/>
              <a:ext cx="63244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S A N I T A T I O N   D I S T R I C T S   O F   L O S   A N G E L E S   C O U N T Y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348080" y="685800"/>
              <a:ext cx="153036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380880" y="3581280"/>
            <a:ext cx="8763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ter Recycling in California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rtha Rinc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SA 2005 Winter Conferen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bruary 4, 2005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orts to Effectively Maintain Progra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 quality wastewater to WR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ndustrial flow diverted for treatment to ocean discharge 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ggressive WRP pretreatment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operatively work with water retailers and us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contracting process/pricing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al research on emerging concerns related to groundwater recharge, pathogens, health effects, disinfection byproducts, EDCs, PHA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29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tebello Forebay Project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use: 50,000 acre-ft (3 year average)/ 60,000 acre-ft (yearly ma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eatment prior to recharge: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mary and secondary treatment, multi-media filtration and chlorin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Aquifer Treatment (SAT) provides additional organics removal during infil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ntral Basin supplies 40% of the demand for population of 3 mill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40 years of operation, there have been no water quality issues of health conce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Effects Studies 1978-99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84 Health Effects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easurable adverse effects on either the area’s groundwater or the health of the people ingesting the wa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s, if any, were small and probably not dissimilar from commonly used surface wa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gested that a closely monitored expansion could be implemen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6 &amp; 1999 Rand Epidemiology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n exposed population of 1 million, after almost 30 years of groundwater recharge, no association exists between recycled water and higher rates of mortality, cancer incidence, infectious disease, or adverse birth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hogen Resear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rus monitoring (1,169 samples over 30 yea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yptosporidi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ICR Method used for 6 years with no oocyts det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Method 1623, Oocysts are present in final effluent in low numbers, typically &lt;5 oocysts/20 liters but are d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iar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.8% removal thru treatment 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% of the isolated cysts were non-viable, based on morphological and vital-stain analy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l tests suggests that very few, if any, cysts leaving the treatment plant are capable of causing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ability of S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 or need for above-ground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remova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monitoring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ory framework for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ublic knowledge &amp;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T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blic Outre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ublic needs to be brought along step-by-step through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ublic friendly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 Optimists/ Pessim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ress regional differ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 positive images to describe the projec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ve, accessible and respo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used before negative message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ed (i.e. Toilet to Ta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referred to as WaterSMAR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plie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ntain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d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orr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 on Quantity/Types of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SD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ing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urrent Reuse Pi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2 Survey: Approx. 545,000 AF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gislative goal: 1.0 MAFY by 201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 goal: 1.5 MAFY by 203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rrent uses includ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al/landscape irr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ial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water re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water barr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eational impound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dlife habitat or mis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ysers/ energy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ilet flu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90520" y="0"/>
          <a:ext cx="8862840" cy="693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0"/>
                    <a:ext cx="886284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ulatory Framewor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ycling criteria established by CA Department of Health Services (DHS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ttp://www.dhs.ca.gov/ps/ddwem/publications/waterrecycling/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able uses for primary, secondary and tertiary treated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tied to uses so that they become more restrictive given the potential for public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onal Water Boards issue permits to producer or reuse site in consultation with D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CSD Recycled Water 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ndscape Irrig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gricultural Irrig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ustrial U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et dye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ing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 manufact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vironmental enhancement of wildlife habit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oundwater Rechar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claimed Water Usage – 200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2520" y="1030320"/>
          <a:ext cx="8475480" cy="58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030320"/>
                    <a:ext cx="84754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5:25:29Z</dcterms:created>
  <dc:creator>davila</dc:creator>
  <dc:description/>
  <dc:language>en-US</dc:language>
  <cp:lastModifiedBy>AMSA</cp:lastModifiedBy>
  <dcterms:modified xsi:type="dcterms:W3CDTF">2005-02-04T14:16:26Z</dcterms:modified>
  <cp:revision>199</cp:revision>
  <dc:subject/>
  <dc:title>Company Meeting Title</dc:title>
</cp:coreProperties>
</file>