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596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72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596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72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2559E-3895-4023-8C13-A576D5A4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B13E2-2248-4772-BBAA-E1CBC1DE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C0A5D-AE1C-4263-80AC-C4C7928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49D32-86E1-4948-B44C-40D4234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514F3-AF79-4664-9C9C-5C8F0F10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23840" y="-76680"/>
            <a:ext cx="8120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0B5A-7A64-4A25-A31E-CEBF9F5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26B08-9A22-4AAE-AB93-247054B3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9DD5D-9FE3-436A-9771-F8457B9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A453C-ADAA-45B7-B782-51450E7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2F822-FAFE-4C85-B0A5-EDAB722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39ED0-1F7F-487A-ADF7-5CB98109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596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72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596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72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2E502-FEA6-401D-828D-542FD6D0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23840" y="-76680"/>
            <a:ext cx="8120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04640"/>
            <a:ext cx="438120" cy="47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04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830160"/>
            <a:ext cx="422280" cy="474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732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54200"/>
            <a:ext cx="560520" cy="42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297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647960" y="6476760"/>
            <a:ext cx="42670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15400" y="4191120"/>
            <a:ext cx="7632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6960" y="646596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MicrogrammaDBolExt"/>
              </a:rPr>
              <a:t>Greeley and Hansen </a:t>
            </a:r>
            <a:r>
              <a:rPr b="0" lang="en-US" sz="700" spc="-1" strike="noStrike">
                <a:solidFill>
                  <a:srgbClr val="008000"/>
                </a:solidFill>
                <a:latin typeface="MicrogrammaDBolExt"/>
              </a:rPr>
              <a:t>LL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header" descr=""/>
          <p:cNvPicPr/>
          <p:nvPr/>
        </p:nvPicPr>
        <p:blipFill>
          <a:blip r:embed="rId2"/>
          <a:srcRect l="1661" t="23155" r="81873" b="30204"/>
          <a:stretch/>
        </p:blipFill>
        <p:spPr>
          <a:xfrm>
            <a:off x="8427960" y="6419880"/>
            <a:ext cx="55872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5000" y="2438280"/>
            <a:ext cx="9009000" cy="1052640"/>
            <a:chOff x="135000" y="2438280"/>
            <a:chExt cx="9009000" cy="1052640"/>
          </a:xfrm>
        </p:grpSpPr>
        <p:sp>
          <p:nvSpPr>
            <p:cNvPr id="50" name=""/>
            <p:cNvSpPr/>
            <p:nvPr/>
          </p:nvSpPr>
          <p:spPr>
            <a:xfrm>
              <a:off x="425520" y="2546280"/>
              <a:ext cx="438120" cy="47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8200" y="25462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9360" y="2968560"/>
              <a:ext cx="422280" cy="47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7120" y="29718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00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0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51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1F1-82BD-4699-A7EA-08A837673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9840" y="636120"/>
            <a:ext cx="67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Comic Sans MS"/>
              </a:rPr>
              <a:t>Association of Metropolitan Sewerage Agenci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4133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esented By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yde Wilb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1 817 372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wilber@greeley-hansen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icrogrammaDBolExt"/>
              </a:rPr>
              <a:t>Greeley and Hansen </a:t>
            </a:r>
            <a:r>
              <a:rPr b="1" lang="en-US" sz="1200" spc="-1" strike="noStrike">
                <a:solidFill>
                  <a:srgbClr val="000099"/>
                </a:solidFill>
                <a:latin typeface="MicrogrammaDBolExt"/>
              </a:rPr>
              <a:t>LL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January 2005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header" descr=""/>
          <p:cNvPicPr/>
          <p:nvPr/>
        </p:nvPicPr>
        <p:blipFill>
          <a:blip r:embed="rId1"/>
          <a:srcRect l="1661" t="23155" r="81873" b="30204"/>
          <a:stretch/>
        </p:blipFill>
        <p:spPr>
          <a:xfrm>
            <a:off x="0" y="396720"/>
            <a:ext cx="2257560" cy="1060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44332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forcement Driv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es and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NR Flush Tax in Maryland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4560" y="137160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$2.50/Month on Homes and Sept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oids the individual Community Affordability Issu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% Funding of ENR Capital, May include O&amp;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ing the Cost Effective Projects Fir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iminates Trad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r of Goldpla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g Utilities will end up Paying More in the Long Ru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ep Opposition In Virgin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me Enforcement Anecdot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pensity to Ignore the rul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unity Defin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 on % MH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 is a Cons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 Discovery - no documents to support the 2% over the 1.5% of MH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hedule More important than co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conomic Capability = Decision Too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ecision Tools for the Proper Rat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45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vil/Environmental Engine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od Rate of Return, Cost/Benef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 sees a Benefit They Wa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forcement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et Water Quality Standards as written, or if meeting standards is not feasibl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 pollution to the point your source will not cause or contribute to violatio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f all other sources were controll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nd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mit of Economic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conomic Capability as The Decision Too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nd to the Limit of Economic Capability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A – restores 90 percent of Uses at 50% of Economic Cap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B – restores 90.1 percent of uses at 150% of Economic Cap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 to Plan “B-minus” at 100% of Economic Capability restoring 90.001% of Uses 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the Schedule indefinitely spending at the Lim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Using Economic Capability or Control to the Point where you do not Contribute Public Malfeasanc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erve Public Money for expenditures that actually produce a measurable benefit?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m Yourself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45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 Your Commun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t Wa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the impact of Rates 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 for other Revenue 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 the Benefit of Your Invest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nforcement Rate Issu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9040" y="22064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Much is Enough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About Other Sources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n Should You Go to the Limit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n is the Cost Too High?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40 CFR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904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s … would result in substantial and widespread economic and social 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Substantial Economic and Social Impac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Widespre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istory of Substantial Impact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sed On Rates as  % of MHI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60s - Farmers Home Administr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5% Median Household Incom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e on Rate Refusal (no additional Mone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70s – No EPA Grants for projects costing  above 1.5%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all systems still no treat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ent Guidance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5% to 2.0% Function of Financial Healt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ubstantial Impac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Custom Approach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2320" y="2031840"/>
            <a:ext cx="845496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jor industry will mov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ntifiable social group heavily impact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?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at is Widespread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PA Guidance = “Community”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gion I directive MWRA (Boston) Poorest Jurisdiction = Chelse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esapeake Bay Contractors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all 7 State Econom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lling to let some social sectors take a hit (dairy, farming, small communiti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 VAMWA/MAMWA Pressure - EPA did not publish - Punted to the St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forcement – Your entire Rate Base?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ternative Rate Bas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ater Consumption –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gative Impact on Wet Indu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s not always relate to the Probl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 Valorem – Real Estat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umes it is a Societal Probl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se that can Pay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ervious Area – Rain Ta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y relate to the Problem Direct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y Create a Service Dem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31840" y="957240"/>
            <a:ext cx="10420560" cy="615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o Will Complain?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$/Month – CSO City Exampl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7440" y="1163520"/>
          <a:ext cx="8742240" cy="4600800"/>
        </p:xfrm>
        <a:graphic>
          <a:graphicData uri="http://schemas.openxmlformats.org/drawingml/2006/table">
            <a:tbl>
              <a:tblPr/>
              <a:tblGrid>
                <a:gridCol w="2670120"/>
                <a:gridCol w="1592280"/>
                <a:gridCol w="2241720"/>
                <a:gridCol w="223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Who P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a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Water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mpervious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Homeow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partment Ow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1,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Laund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ac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arking L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2,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n Rates get too Hig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hift the Burden?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45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n Taxes – Cigarettes / Liquor / Bee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a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resses the Common Good Issu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oids the Impact on Low Income Grou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 much out the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vironmental Fe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Unit Char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yland Flush Ta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4:25:33Z</dcterms:created>
  <dc:creator>Valued Gateway Client</dc:creator>
  <dc:description/>
  <dc:language>en-US</dc:language>
  <cp:lastModifiedBy>Clyde Wilber</cp:lastModifiedBy>
  <dcterms:modified xsi:type="dcterms:W3CDTF">2005-01-31T16:57:11Z</dcterms:modified>
  <cp:revision>33</cp:revision>
  <dc:subject/>
  <dc:title>PowerPoint Presentation</dc:title>
</cp:coreProperties>
</file>