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9AD8-29F1-43D0-8FDA-D179F57D4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7112-C70D-4D47-91DE-96C6DEA4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9776-2C1D-4928-A379-4CA364325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587D-1B98-4AE1-B0D7-910C31FEC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619D2-E392-45AC-8272-E4C717501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DA3B5C-E4C4-4978-9B5B-75AC7233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8A414-EE3E-4C4F-970D-F64071EE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BFA9BC-1302-453C-A05D-C29DB042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504DD7-2309-492B-8E23-79619552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827014-D18E-4687-B5E1-46AF7053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B8FCA-CE9E-44D1-88CC-B4343DB5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A100-DC28-4B3A-B7D6-DA1B0A10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E0467-BFE2-4FBE-835A-0DAF5CF0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869975-3CE9-4E7C-8780-A5DA6344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B6A923-4B5C-4520-ABEE-8FBF2054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8BF664-E245-4EE0-9999-91E6C73B8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3E819-F6B3-45F7-8124-BA16529C6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4374-E084-4099-95AB-C8F0D735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2D54-517A-46F7-B3A6-7A526EF7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BF43-E449-4C8B-881B-36813355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708F-FCDA-48AD-B3F1-E4D030BB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FF54-CBE3-457A-8FD8-202F2FAC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3FCC-278F-49E4-94D6-8B684C66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C0E4-0E76-4A65-BB45-E396C5BF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F154-D9C5-447B-9A75-0470DC139B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6CAF-F144-4960-B829-7DFFC4954F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nvironmental Management Systems (EMS) Handbook for Wastewater Utiliti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SA 2005 Winter Confer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n Antonio, Tex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bruary, 200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MS Handbook Highlight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estion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ac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ris To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ty of San Die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tropolitan Wastewater Depart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stewater Collection Divi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ail: CToth@sandiego.go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y Develop an EM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ganizational Benefit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roves Perform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MPs Shared By Work Teams, Instills Self Directed Work Team Concep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Be Implemented Simultaneously with Other Management-Led Initiati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ortant Positive External Public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MS Handbook Section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ro and Early Ste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lem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cking / Corrective 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agement Re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arty Registration / Mainten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lusion and Append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MS Handbook Highlight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ning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licies, Aspects &amp; Impacts Can Be Developed Quickl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anning Should Take Less Than Six Month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cus on Objectives &amp; Targets, and EMP Develop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Get To Learn Your Organization Much Better through this Planning Process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Handbook Examp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MS Handbook Highlight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lementati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roves Document Control Activ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roves Internal Communic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roves Emergency Response Prepared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ings Focus to Your Training Activ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Handbook Examp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MS Handbook Highlight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cking / Corrective Acti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Should Be Doing This Work Anyw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lps Focus on Important Activ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nal Audits Build Self-Directed Work Teams, Promote BM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Handbook Examp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MS Handbook Highlight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agement Review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s Manager a Focus on Aligning Resources with Organizational N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ows Management Participation with Workers in a Team Set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imulates Participatory Management—Workers Better Understand Decisions and Outcomes In Workpl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Handbook Examp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MS Handbook Highlight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arty Registration / Maintenanc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Work is O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uditor is Your Frie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-Going EMS Maintenance From Now On Becomes Natural, Automat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Become a Handbook Exampl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MS Handbook Highlight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lusion / Appendic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gin Planning Your EMS N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wnload This Handbook or Order through AM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rn on Your EMS’ Ignition within Six Month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Append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ellent Examples from Real Public Util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Need to Re-Invent Whe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ve Time and Money--Impress Others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7:09:25Z</dcterms:created>
  <dc:creator>Chris Toth</dc:creator>
  <dc:description/>
  <dc:language>en-US</dc:language>
  <cp:lastModifiedBy>Chris Toth</cp:lastModifiedBy>
  <dcterms:modified xsi:type="dcterms:W3CDTF">2005-01-18T18:18:42Z</dcterms:modified>
  <cp:revision>11</cp:revision>
  <dc:subject/>
  <dc:title>EMS Handbook for Wastewater Utilities</dc:title>
</cp:coreProperties>
</file>