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7A6-56E2-4418-901B-52761B84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0F2-CE09-4B9B-B5D6-3508A7F3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1B5-94AA-469E-97CA-628DBFCD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B1F-0592-4D89-9F71-29CEA013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67F36-9105-4877-832C-1C77DB7E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2E63B-4D41-47C1-8464-242DE30A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EAAF7-3ECB-4722-9AF5-6263164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734EF-4F33-47C4-9ECC-975A7A7D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D6232-4C88-4980-B12B-3F90862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8C1BC-B65D-4776-89E8-58DF09B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578A-4EC4-4B2E-A634-AD21FF0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7A7-45CD-4FD4-AD66-FC392DE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AEDB2-813F-447A-91E4-52EE3A1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A1CE-421B-4267-BB77-FA7DBA6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305D-A966-41A8-BB5A-6597D7A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9E029-BF26-428A-893F-3F89FDC4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D94C6-8444-4B69-BC5F-A10C1590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215-B233-4B5A-BE3E-A433F556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4AC-5231-4444-A4EA-E1D508F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91D-CFC0-4148-B86C-97D9E0F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0A0-BC5A-4244-9843-CED2DC55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7F5-CD82-4AC7-B0BB-4D04B32C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3AB-90E7-4234-9001-5819320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691-8DDE-4B2E-89B1-C64057A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A2FE-1DFD-44D1-BB50-013220118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722F-FF11-4520-8620-7A54F749D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vironmental Management Systems (EMS) Handbook for Wastewater Uti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SA 2005 Winter Con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 Antonio,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, 20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 T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y of San Di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ropolitan Wastewater De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water Collection Di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: CToth@sandiego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Develop an E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al Benefi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MPs Shared By Work Teams, Instills Self Directed Work Team Con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Implemented Simultaneously with Other Management-Led Initi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t Positive External Publ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Section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 and Early St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ing / Corrective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y Registration /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 and Append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ies, Aspects &amp; Impacts Can Be Developed Quick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ning Should Take Less Than Six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Objectives &amp; Targets, and EMP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Get To Learn Your Organization Much Better through this Planning Proces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Document Control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Internal Commun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s Emergency Response Prepared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ngs Focus to Your Train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ing / Corrective A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hould Be Doing This Work Any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s Focus on Important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nal Audits Build Self-Directed Work Teams, Promote B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Revie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Manager a Focus on Aligning Resources with Organization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Management Participation with Workers in a Team Se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s Participatory Management—Workers Better Understand Decisions and Outcomes In 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Handbook 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y Registration / Maintena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k is 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uditor is Your Fri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Going EMS Maintenance From Now On Becomes Natural, Auto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Become a Handbook Examp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S Handbook Highlight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 / Appendi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 Planning Your EMS 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This Handbook or Order through AM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n on Your EMS’ Ignition within Six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ppend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llent Examples from Real Public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Need to Re-Invent Wh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 Time and Money--Impress Oth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7:09:25Z</dcterms:created>
  <dc:creator>Chris Toth</dc:creator>
  <dc:description/>
  <dc:language>en-US</dc:language>
  <cp:lastModifiedBy>Chris Toth</cp:lastModifiedBy>
  <dcterms:modified xsi:type="dcterms:W3CDTF">2005-01-18T18:18:42Z</dcterms:modified>
  <cp:revision>11</cp:revision>
  <dc:subject/>
  <dc:title>EMS Handbook for Wastewater Utilities</dc:title>
</cp:coreProperties>
</file>