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7164388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0"/>
            <a:ext cx="71640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05000" cy="473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dt" idx="7"/>
          </p:nvPr>
        </p:nvSpPr>
        <p:spPr>
          <a:xfrm>
            <a:off x="4055760" y="0"/>
            <a:ext cx="3105000" cy="473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Img"/>
          </p:nvPr>
        </p:nvSpPr>
        <p:spPr>
          <a:xfrm>
            <a:off x="121896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81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body"/>
          </p:nvPr>
        </p:nvSpPr>
        <p:spPr>
          <a:xfrm>
            <a:off x="717120" y="4489200"/>
            <a:ext cx="5729400" cy="4251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ftr" idx="8"/>
          </p:nvPr>
        </p:nvSpPr>
        <p:spPr>
          <a:xfrm>
            <a:off x="-360" y="8974080"/>
            <a:ext cx="3105000" cy="473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 type="sldNum" idx="9"/>
          </p:nvPr>
        </p:nvSpPr>
        <p:spPr>
          <a:xfrm>
            <a:off x="4055760" y="8974080"/>
            <a:ext cx="3105000" cy="473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BCEDCEA-6BCF-4CA2-BF2D-60FDD70EC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220760" y="708120"/>
            <a:ext cx="4722840" cy="35416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14240" y="4487760"/>
            <a:ext cx="5734080" cy="4253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A good asset management program manages the life-cycle costs, use and reliability of a utility’s assets to optimize their value in support of utility 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20760" y="708120"/>
            <a:ext cx="4722840" cy="35416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14240" y="4487760"/>
            <a:ext cx="5734080" cy="4253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Asset Management - a thoughtful process of self-evaluation, development of strategy and objectives, and a phased implementation pl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20760" y="708120"/>
            <a:ext cx="4722840" cy="35416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14240" y="4487760"/>
            <a:ext cx="5734080" cy="4253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Asset Management - a thoughtful process of self-evaluation, development of strategy and objectives, and a phased implementation pl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220760" y="708120"/>
            <a:ext cx="4722840" cy="35416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14240" y="4487760"/>
            <a:ext cx="5734080" cy="4253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Asset Management - a thoughtful process of self-evaluation, development of strategy and objectives, and a phased implementation pl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20760" y="708120"/>
            <a:ext cx="4722840" cy="35416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14240" y="4487760"/>
            <a:ext cx="5734080" cy="4253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Asset Management - a thoughtful process of self-evaluation, development of strategy and objectives, and a phased implementation pl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20760" y="708120"/>
            <a:ext cx="4722840" cy="35416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14240" y="4487760"/>
            <a:ext cx="5734080" cy="4253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A good asset management program manages the life-cycle costs, use and reliability of a utility’s assets to optimize their value in support of utility 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039560"/>
            <a:ext cx="7772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03956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03956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03956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03956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03956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84CE5-37C8-474F-8F05-FFEBFAF7C5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FF439-172E-435C-8530-0D98103753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FAC3B-68AD-4985-8FA8-DB9F47B8A1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EE268-F38B-4B62-9394-3A2BF065EF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29BB5-F791-4B9F-8200-50C95C8615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DDD24-9A35-4254-8165-6C9571174A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3956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7EF41-EFCC-4623-B6F1-2DB81BB186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03956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38657-F058-409F-8FDC-6C83431408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39560"/>
            <a:ext cx="7772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F2702-03D8-49D3-B894-0E24D4D469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039560"/>
            <a:ext cx="7772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49614-037C-4242-B073-D34BA44D52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03956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03956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D6B55-3897-4D6F-8AC7-ACFCF9B337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03956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03956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03956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21F79-C5BC-4C91-86BD-E51284C4FF4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3D43F-8715-4B4A-9FC6-DEBDBD1B50C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6CB2B-6229-4D87-961E-034D57AAF39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DD4BA-1041-4D53-9CB0-50B86354A5E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EC610-ECCE-41A2-9C6F-54CDC26359C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69528-705C-4602-BDC6-35E68C28A2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895CA-433F-44A7-A758-B51EDD4FD8F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03956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79EC3-6B85-48A5-A847-70DA7CD5A4B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03956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42B33-F37B-421F-93B6-809EA05A8D7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039560"/>
            <a:ext cx="7772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BE2F8-00C5-42A9-ACBB-16893DE13A8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039560"/>
            <a:ext cx="7772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C1E10-1726-4A77-B349-BBBF75B22CA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03956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03956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CA978-4C13-4189-8D10-6BC7B9CB5B7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03956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03956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03956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5195A-42E2-4D5A-8887-D3E01876B28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460E-01A9-463E-BAB0-B3B8B92E07A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10D5-F33F-43DB-872C-A0733D5BD63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8C5D-11FD-4331-BB34-0FE8474CBA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4891-666D-4405-B5CB-AC3D78DE4CC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4C51-1191-4ED9-BF82-B844090A07D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EDA3-9714-4202-8EFD-8EEFBA1B411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03956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2301-8F5E-4A29-87CF-EF823B7F659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03956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9E61-8B4D-479A-B4BD-02D9710D437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039560"/>
            <a:ext cx="7772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4929-396D-4F16-B23D-18053DDA558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039560"/>
            <a:ext cx="7772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00E4-95FC-4D2C-8BC1-F62291A7EBA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03956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03956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C4A9-5408-4117-9A88-57EC2F43EA3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03956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03956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03956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5750-B1B2-450D-81BC-4F51BCDCAF9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A878-BBEB-45CB-9006-65D0BC2B5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B115-8987-4E8D-A519-0CE9061C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B0FE-336E-4EDE-B9DD-508E0030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C133-6975-49CD-895A-49CFE88F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3D3F-00C2-48EA-9334-7F7AFB5D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45EA-7919-4AC1-8694-C938FE7C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03956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977A-F89B-4974-80DE-9F9D53E3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68480" y="403956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5076-2EC7-473A-A325-15D27704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039560"/>
            <a:ext cx="7772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724C-9A58-4BED-BCA9-E99D1931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85800" y="4039560"/>
            <a:ext cx="7772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E697-5E8D-4B5D-B70F-17322ED1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03956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68480" y="403956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CFBA-F5C4-48E7-B036-39D40C73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85800" y="403956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13800" y="403956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41440" y="4039560"/>
            <a:ext cx="250236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3C79-2AD9-4D3D-A5CE-42C971974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03956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03956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39560"/>
            <a:ext cx="7772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457200"/>
            <a:ext cx="8678880" cy="6095880"/>
          </a:xfrm>
          <a:prstGeom prst="rect">
            <a:avLst/>
          </a:prstGeom>
          <a:solidFill>
            <a:srgbClr val="293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237960" y="304920"/>
            <a:ext cx="8677440" cy="624816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8483760" y="6531120"/>
            <a:ext cx="434880" cy="280800"/>
            <a:chOff x="8483760" y="6531120"/>
            <a:chExt cx="434880" cy="280800"/>
          </a:xfrm>
        </p:grpSpPr>
        <p:sp>
          <p:nvSpPr>
            <p:cNvPr id="4" name=""/>
            <p:cNvSpPr/>
            <p:nvPr/>
          </p:nvSpPr>
          <p:spPr>
            <a:xfrm>
              <a:off x="8483760" y="6531120"/>
              <a:ext cx="434880" cy="28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8511120" y="6604200"/>
              <a:ext cx="379800" cy="13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220680" y="6532560"/>
            <a:ext cx="803160" cy="239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30040" y="304920"/>
            <a:ext cx="8677440" cy="6248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1"/>
          </p:nvPr>
        </p:nvSpPr>
        <p:spPr>
          <a:xfrm>
            <a:off x="6705720" y="76320"/>
            <a:ext cx="2133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8E12-365E-4AB1-BCA5-C11C709AEF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58332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Your Environment Is Our Busine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05720" y="6013440"/>
            <a:ext cx="1301760" cy="84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688160" y="6234120"/>
            <a:ext cx="1136880" cy="403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25360" y="6013440"/>
            <a:ext cx="2879640" cy="858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788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57200"/>
            <a:ext cx="8678880" cy="6095880"/>
          </a:xfrm>
          <a:prstGeom prst="rect">
            <a:avLst/>
          </a:prstGeom>
          <a:solidFill>
            <a:srgbClr val="293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6600960"/>
            <a:ext cx="693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Arial"/>
              </a:rPr>
              <a:t>Your Environment Is Our Busines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7850160" y="6167520"/>
            <a:ext cx="1065240" cy="690480"/>
            <a:chOff x="7850160" y="6167520"/>
            <a:chExt cx="1065240" cy="690480"/>
          </a:xfrm>
        </p:grpSpPr>
        <p:sp>
          <p:nvSpPr>
            <p:cNvPr id="94" name=""/>
            <p:cNvSpPr/>
            <p:nvPr/>
          </p:nvSpPr>
          <p:spPr>
            <a:xfrm>
              <a:off x="7850160" y="6167520"/>
              <a:ext cx="1065240" cy="69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7917480" y="6347880"/>
              <a:ext cx="930240" cy="32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ldNum" idx="2"/>
          </p:nvPr>
        </p:nvSpPr>
        <p:spPr>
          <a:xfrm>
            <a:off x="2282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24E1-A5EE-42F7-97A3-CE927718D9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457200"/>
            <a:ext cx="8678880" cy="6095880"/>
          </a:xfrm>
          <a:prstGeom prst="rect">
            <a:avLst/>
          </a:prstGeom>
          <a:solidFill>
            <a:srgbClr val="293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rcRect l="7898" t="2067" r="0" b="0"/>
          <a:stretch/>
        </p:blipFill>
        <p:spPr>
          <a:xfrm>
            <a:off x="228600" y="457200"/>
            <a:ext cx="8686800" cy="60958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ldNum" idx="3"/>
          </p:nvPr>
        </p:nvSpPr>
        <p:spPr>
          <a:xfrm>
            <a:off x="6705720" y="76320"/>
            <a:ext cx="2133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E1FC-D0D3-4609-914D-D93112E089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655308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Your Environment Is Our Busine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605720" y="6013440"/>
            <a:ext cx="1301760" cy="844560"/>
            <a:chOff x="7605720" y="6013440"/>
            <a:chExt cx="1301760" cy="844560"/>
          </a:xfrm>
        </p:grpSpPr>
        <p:sp>
          <p:nvSpPr>
            <p:cNvPr id="142" name=""/>
            <p:cNvSpPr/>
            <p:nvPr/>
          </p:nvSpPr>
          <p:spPr>
            <a:xfrm>
              <a:off x="7605720" y="6013440"/>
              <a:ext cx="1301760" cy="844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3"/>
            <a:stretch/>
          </p:blipFill>
          <p:spPr>
            <a:xfrm>
              <a:off x="7688160" y="6234120"/>
              <a:ext cx="1136880" cy="4032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3AB6-38A7-4A67-89DC-32583E1F6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880" y="2261880"/>
            <a:ext cx="8871120" cy="16002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athway to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mproved Asset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43400" y="4495680"/>
            <a:ext cx="449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Garamond"/>
              </a:rPr>
              <a:t>John J. Bat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Garamond"/>
              </a:rPr>
              <a:t>AMSA Winter Con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47680" y="447480"/>
            <a:ext cx="8686800" cy="99036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igns Stakeholders Needs and Expectation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Asset Catego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rot="16200600">
            <a:off x="4974480" y="1960920"/>
            <a:ext cx="3884760" cy="340380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formation Technology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ledge 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041720" y="2624040"/>
            <a:ext cx="1000080" cy="1865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6699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rot="16200600">
            <a:off x="263880" y="1990440"/>
            <a:ext cx="3884400" cy="335772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ff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ing &amp; Fin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&amp;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gineer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vern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ed and appointe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ici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3200400" y="3886200"/>
            <a:ext cx="4876920" cy="1511280"/>
            <a:chOff x="3200400" y="3886200"/>
            <a:chExt cx="4876920" cy="1511280"/>
          </a:xfrm>
        </p:grpSpPr>
        <p:sp>
          <p:nvSpPr>
            <p:cNvPr id="284" name=""/>
            <p:cNvSpPr/>
            <p:nvPr/>
          </p:nvSpPr>
          <p:spPr>
            <a:xfrm>
              <a:off x="3200400" y="3886200"/>
              <a:ext cx="4876920" cy="1447920"/>
            </a:xfrm>
            <a:custGeom>
              <a:avLst/>
              <a:gdLst/>
              <a:ahLst/>
              <a:rect l="l" t="t" r="r" b="b"/>
              <a:pathLst>
                <a:path w="3072" h="912">
                  <a:moveTo>
                    <a:pt x="3072" y="0"/>
                  </a:moveTo>
                  <a:lnTo>
                    <a:pt x="3072" y="912"/>
                  </a:lnTo>
                  <a:lnTo>
                    <a:pt x="0" y="912"/>
                  </a:lnTo>
                </a:path>
              </a:pathLst>
            </a:custGeom>
            <a:noFill/>
            <a:ln w="507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475080" y="5029200"/>
              <a:ext cx="450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erformance Monitoring and Feedbac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6832440" y="3327480"/>
            <a:ext cx="2017800" cy="761760"/>
            <a:chOff x="6832440" y="3327480"/>
            <a:chExt cx="2017800" cy="761760"/>
          </a:xfrm>
        </p:grpSpPr>
        <p:sp>
          <p:nvSpPr>
            <p:cNvPr id="287" name=""/>
            <p:cNvSpPr/>
            <p:nvPr/>
          </p:nvSpPr>
          <p:spPr>
            <a:xfrm>
              <a:off x="6832440" y="3666960"/>
              <a:ext cx="60984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7361280" y="3327480"/>
              <a:ext cx="1488960" cy="761760"/>
              <a:chOff x="7361280" y="3327480"/>
              <a:chExt cx="1488960" cy="761760"/>
            </a:xfrm>
          </p:grpSpPr>
          <p:sp>
            <p:nvSpPr>
              <p:cNvPr id="289" name=""/>
              <p:cNvSpPr/>
              <p:nvPr/>
            </p:nvSpPr>
            <p:spPr>
              <a:xfrm>
                <a:off x="7454880" y="3327480"/>
                <a:ext cx="1298520" cy="7617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71785" dir="2700000" blurRad="0" rotWithShape="0">
                  <a:srgbClr val="010199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361280" y="3517920"/>
                <a:ext cx="1488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mplementatio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91" name=""/>
          <p:cNvGrpSpPr/>
          <p:nvPr/>
        </p:nvGrpSpPr>
        <p:grpSpPr>
          <a:xfrm>
            <a:off x="5105520" y="3322800"/>
            <a:ext cx="2001600" cy="766440"/>
            <a:chOff x="5105520" y="3322800"/>
            <a:chExt cx="2001600" cy="766440"/>
          </a:xfrm>
        </p:grpSpPr>
        <p:sp>
          <p:nvSpPr>
            <p:cNvPr id="292" name=""/>
            <p:cNvSpPr/>
            <p:nvPr/>
          </p:nvSpPr>
          <p:spPr>
            <a:xfrm>
              <a:off x="5105520" y="3657600"/>
              <a:ext cx="6094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730840" y="3327480"/>
              <a:ext cx="1298520" cy="7617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101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675400" y="3322800"/>
              <a:ext cx="1431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ation Strategies and Act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490760" y="1981080"/>
            <a:ext cx="1981080" cy="3429000"/>
            <a:chOff x="1490760" y="1981080"/>
            <a:chExt cx="1981080" cy="3429000"/>
          </a:xfrm>
        </p:grpSpPr>
        <p:sp>
          <p:nvSpPr>
            <p:cNvPr id="296" name=""/>
            <p:cNvSpPr/>
            <p:nvPr/>
          </p:nvSpPr>
          <p:spPr>
            <a:xfrm>
              <a:off x="2514600" y="1981080"/>
              <a:ext cx="0" cy="34290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490760" y="3657600"/>
              <a:ext cx="19810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2409840" y="3428640"/>
              <a:ext cx="228600" cy="457560"/>
              <a:chOff x="2409840" y="3428640"/>
              <a:chExt cx="228600" cy="457560"/>
            </a:xfrm>
          </p:grpSpPr>
          <p:sp>
            <p:nvSpPr>
              <p:cNvPr id="299" name=""/>
              <p:cNvSpPr/>
              <p:nvPr/>
            </p:nvSpPr>
            <p:spPr>
              <a:xfrm>
                <a:off x="2409840" y="3657600"/>
                <a:ext cx="2286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2409840" y="3428280"/>
                <a:ext cx="2286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01" name=""/>
          <p:cNvGrpSpPr/>
          <p:nvPr/>
        </p:nvGrpSpPr>
        <p:grpSpPr>
          <a:xfrm>
            <a:off x="2057400" y="1460520"/>
            <a:ext cx="1104840" cy="762120"/>
            <a:chOff x="2057400" y="1460520"/>
            <a:chExt cx="1104840" cy="762120"/>
          </a:xfrm>
        </p:grpSpPr>
        <p:sp>
          <p:nvSpPr>
            <p:cNvPr id="302" name=""/>
            <p:cNvSpPr/>
            <p:nvPr/>
          </p:nvSpPr>
          <p:spPr>
            <a:xfrm>
              <a:off x="2057400" y="1460520"/>
              <a:ext cx="1104840" cy="762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101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152800" y="1581120"/>
              <a:ext cx="933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efined Asse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013120" y="4908600"/>
            <a:ext cx="1177920" cy="762120"/>
            <a:chOff x="2013120" y="4908600"/>
            <a:chExt cx="1177920" cy="762120"/>
          </a:xfrm>
        </p:grpSpPr>
        <p:sp>
          <p:nvSpPr>
            <p:cNvPr id="305" name=""/>
            <p:cNvSpPr/>
            <p:nvPr/>
          </p:nvSpPr>
          <p:spPr>
            <a:xfrm>
              <a:off x="2057400" y="4908600"/>
              <a:ext cx="1104840" cy="762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101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13120" y="5035680"/>
              <a:ext cx="117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xisting Condit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476280" y="2865600"/>
            <a:ext cx="1295280" cy="1476360"/>
            <a:chOff x="476280" y="2865600"/>
            <a:chExt cx="1295280" cy="1476360"/>
          </a:xfrm>
        </p:grpSpPr>
        <p:sp>
          <p:nvSpPr>
            <p:cNvPr id="308" name=""/>
            <p:cNvSpPr/>
            <p:nvPr/>
          </p:nvSpPr>
          <p:spPr>
            <a:xfrm>
              <a:off x="571680" y="2865600"/>
              <a:ext cx="1066680" cy="14763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101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6280" y="3225960"/>
              <a:ext cx="12952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sset Management Vision and Goal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413160" y="2111400"/>
            <a:ext cx="2030400" cy="2806560"/>
            <a:chOff x="3413160" y="2111400"/>
            <a:chExt cx="2030400" cy="2806560"/>
          </a:xfrm>
        </p:grpSpPr>
        <p:sp>
          <p:nvSpPr>
            <p:cNvPr id="311" name=""/>
            <p:cNvSpPr/>
            <p:nvPr/>
          </p:nvSpPr>
          <p:spPr>
            <a:xfrm>
              <a:off x="3505320" y="2111400"/>
              <a:ext cx="1849320" cy="28065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101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13160" y="2155680"/>
              <a:ext cx="2030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ation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Pathways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cross Five Asset Categories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736800" y="2913120"/>
              <a:ext cx="1471680" cy="176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122400">
                <a:spcBef>
                  <a:spcPts val="3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ustomer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indent="122400">
                <a:spcBef>
                  <a:spcPts val="3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eopl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indent="122400">
                <a:spcBef>
                  <a:spcPts val="3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frastructu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indent="122400">
                <a:spcBef>
                  <a:spcPts val="3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formation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Technolog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indent="122400">
                <a:spcBef>
                  <a:spcPts val="3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Knowledge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Bas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476280" y="343080"/>
            <a:ext cx="8381880" cy="114300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Framework to the Pathway Approa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2044800" y="1365120"/>
            <a:ext cx="2082600" cy="4515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002040" y="1413000"/>
            <a:ext cx="167760" cy="4456080"/>
            <a:chOff x="3002040" y="1413000"/>
            <a:chExt cx="167760" cy="4456080"/>
          </a:xfrm>
        </p:grpSpPr>
        <p:sp>
          <p:nvSpPr>
            <p:cNvPr id="317" name=""/>
            <p:cNvSpPr/>
            <p:nvPr/>
          </p:nvSpPr>
          <p:spPr>
            <a:xfrm>
              <a:off x="3002040" y="1413000"/>
              <a:ext cx="0" cy="445608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169800" y="1413000"/>
              <a:ext cx="0" cy="445608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436680" y="3556080"/>
            <a:ext cx="1449360" cy="85716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nancial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nd Rate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velopment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‘Interchanges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044800" y="2468520"/>
            <a:ext cx="2065320" cy="48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nowledge B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044800" y="3279600"/>
            <a:ext cx="2065320" cy="4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044800" y="1631880"/>
            <a:ext cx="2065320" cy="4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044800" y="4140360"/>
            <a:ext cx="2065320" cy="48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olog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044800" y="4975200"/>
            <a:ext cx="2065320" cy="48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30840" y="1646280"/>
            <a:ext cx="3273480" cy="552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231840"/>
                <a:tab algn="l" pos="463680"/>
                <a:tab algn="l" pos="695160"/>
                <a:tab algn="l" pos="927000"/>
                <a:tab algn="l" pos="1158840"/>
                <a:tab algn="l" pos="1390680"/>
                <a:tab algn="l" pos="1622520"/>
                <a:tab algn="l" pos="1854360"/>
                <a:tab algn="l" pos="2085840"/>
                <a:tab algn="l" pos="2317680"/>
                <a:tab algn="l" pos="2549520"/>
                <a:tab algn="l" pos="2781360"/>
                <a:tab algn="l" pos="3013200"/>
                <a:tab algn="l" pos="3244680"/>
                <a:tab algn="l" pos="3476520"/>
                <a:tab algn="l" pos="3708360"/>
                <a:tab algn="l" pos="3940200"/>
                <a:tab algn="l" pos="4172040"/>
                <a:tab algn="l" pos="4403880"/>
                <a:tab algn="l" pos="4635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ventory and assess condition of existing infrastructure.  Determine best diagnostic strategi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830840" y="2427120"/>
            <a:ext cx="3273480" cy="514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pPr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231840"/>
                <a:tab algn="l" pos="463680"/>
                <a:tab algn="l" pos="695160"/>
                <a:tab algn="l" pos="927000"/>
                <a:tab algn="l" pos="1158840"/>
                <a:tab algn="l" pos="1390680"/>
                <a:tab algn="l" pos="1622520"/>
                <a:tab algn="l" pos="1854360"/>
                <a:tab algn="l" pos="2085840"/>
                <a:tab algn="l" pos="2317680"/>
                <a:tab algn="l" pos="2549520"/>
                <a:tab algn="l" pos="2781360"/>
                <a:tab algn="l" pos="3013200"/>
                <a:tab algn="l" pos="3244680"/>
                <a:tab algn="l" pos="3476520"/>
                <a:tab algn="l" pos="3708360"/>
                <a:tab algn="l" pos="3940200"/>
                <a:tab algn="l" pos="4172040"/>
                <a:tab algn="l" pos="4403880"/>
                <a:tab algn="l" pos="4635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nowledge within the organization transforms hypotheses – using real world, historical experience – enabling realistic priority settin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830840" y="4270320"/>
            <a:ext cx="3273480" cy="66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xamine Information systems to ensure appropriate collection and sharing of data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830840" y="5132520"/>
            <a:ext cx="3273480" cy="476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ssess the viability of organizational structure and the People resources available to implemen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849920" y="3336840"/>
            <a:ext cx="3254400" cy="809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ssess the impact of different solutions on Customers, with respect to rates, inconvenience, and perceived necessit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416400" y="4687920"/>
            <a:ext cx="357120" cy="2300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427120" y="3000240"/>
            <a:ext cx="346320" cy="250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78240" y="2152800"/>
            <a:ext cx="345960" cy="250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478240" y="1333440"/>
            <a:ext cx="345960" cy="250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230480" y="2298600"/>
            <a:ext cx="1220400" cy="3342600"/>
            <a:chOff x="1230480" y="2298600"/>
            <a:chExt cx="1220400" cy="3342600"/>
          </a:xfrm>
        </p:grpSpPr>
        <p:sp>
          <p:nvSpPr>
            <p:cNvPr id="335" name=""/>
            <p:cNvSpPr/>
            <p:nvPr/>
          </p:nvSpPr>
          <p:spPr>
            <a:xfrm>
              <a:off x="1238040" y="2298600"/>
              <a:ext cx="1212840" cy="1333440"/>
            </a:xfrm>
            <a:custGeom>
              <a:avLst/>
              <a:gdLst/>
              <a:ahLst/>
              <a:rect l="l" t="t" r="r" b="b"/>
              <a:pathLst>
                <a:path w="1296" h="960">
                  <a:moveTo>
                    <a:pt x="0" y="960"/>
                  </a:moveTo>
                  <a:lnTo>
                    <a:pt x="0" y="0"/>
                  </a:lnTo>
                  <a:lnTo>
                    <a:pt x="1296" y="0"/>
                  </a:lnTo>
                </a:path>
              </a:pathLst>
            </a:custGeom>
            <a:noFill/>
            <a:ln w="7632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30480" y="3108240"/>
              <a:ext cx="120528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1238040" y="4393440"/>
              <a:ext cx="1212840" cy="1247400"/>
            </a:xfrm>
            <a:custGeom>
              <a:avLst/>
              <a:gdLst/>
              <a:ahLst/>
              <a:rect l="l" t="t" r="r" b="b"/>
              <a:pathLst>
                <a:path w="1296" h="960">
                  <a:moveTo>
                    <a:pt x="0" y="960"/>
                  </a:moveTo>
                  <a:lnTo>
                    <a:pt x="0" y="0"/>
                  </a:lnTo>
                  <a:lnTo>
                    <a:pt x="1296" y="0"/>
                  </a:lnTo>
                </a:path>
              </a:pathLst>
            </a:custGeom>
            <a:noFill/>
            <a:ln w="7632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2427120" y="3848040"/>
            <a:ext cx="346320" cy="250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27120" y="4667400"/>
            <a:ext cx="346320" cy="250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377600" y="1627200"/>
            <a:ext cx="372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377600" y="2408400"/>
            <a:ext cx="372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377600" y="3317760"/>
            <a:ext cx="372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377600" y="4251240"/>
            <a:ext cx="372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377600" y="5113440"/>
            <a:ext cx="372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768760" y="5986440"/>
            <a:ext cx="2865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960560" y="793800"/>
            <a:ext cx="2230560" cy="495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isting Condi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979640" y="5918040"/>
            <a:ext cx="2230560" cy="495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Go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ordable CIP and O&amp;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352760" y="343080"/>
            <a:ext cx="4505400" cy="114300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tting on th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Pathw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06320" y="1044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nefits of the Pathway Approa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88880" y="126828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5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ctical and implementa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5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able, publishable outcom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5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ation of a bottom-line, business strateg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5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inimal up-front effort scaleable to the larger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5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fordable for every ut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5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ensible analysis of infrastructure renewal sol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06320" y="1044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set Management In Conclu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88880" y="126828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intended to be a proactive, predictive management t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application will initially uncover hidden infrastructure repair and replacement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yped to be an antidote to all a utility’s challe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lots of interpre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alone will not close the funding g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9600" cy="91440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“Asset Management”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79520" y="1631880"/>
            <a:ext cx="86104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thoughtful process of self-eval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ategy, objectives, actions and a phased implementation plan that coordinates knowledge and functio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way to think about an organization’s management and the stewardship of ass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standing assets and prioritizing their maintenance and manage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ing the life-cycle cost, use and reliability of utility’s ass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iloring each organization’s needs using a systematic, proactive, scalable appro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9600" cy="91440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sset Management Isn’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14240" y="1265040"/>
            <a:ext cx="7893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ct val="8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ction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8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ure 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8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nd mon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8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ding gap reme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8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racle c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fact, if applied correctly, Asset Management will identify new needs that require more expenditu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may be a crystal ball to help predic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ture potential problems, but it isn’t a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as pulling a rabbit (or dollars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 of a h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703920" y="2470320"/>
            <a:ext cx="1798560" cy="31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649080" y="4410000"/>
            <a:ext cx="5029560" cy="1752480"/>
            <a:chOff x="649080" y="4410000"/>
            <a:chExt cx="5029560" cy="1752480"/>
          </a:xfrm>
        </p:grpSpPr>
        <p:sp>
          <p:nvSpPr>
            <p:cNvPr id="236" name=""/>
            <p:cNvSpPr/>
            <p:nvPr/>
          </p:nvSpPr>
          <p:spPr>
            <a:xfrm>
              <a:off x="1182600" y="5019480"/>
              <a:ext cx="4496040" cy="1143000"/>
            </a:xfrm>
            <a:prstGeom prst="ellipse">
              <a:avLst/>
            </a:prstGeom>
            <a:solidFill>
              <a:srgbClr val="b2b2b2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649440" y="4485600"/>
              <a:ext cx="0" cy="114300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670040" y="5171760"/>
              <a:ext cx="3657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Additional Refinement Tools and Process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97000" y="4410000"/>
              <a:ext cx="0" cy="6094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82800" y="4410000"/>
              <a:ext cx="0" cy="53316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392640" y="4410000"/>
              <a:ext cx="0" cy="53316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78440" y="4410000"/>
              <a:ext cx="0" cy="53316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687920" y="4410000"/>
              <a:ext cx="0" cy="6094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649080" y="5628960"/>
              <a:ext cx="53316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19040" y="3000240"/>
            <a:ext cx="6705360" cy="1828800"/>
            <a:chOff x="419040" y="3000240"/>
            <a:chExt cx="6705360" cy="1828800"/>
          </a:xfrm>
        </p:grpSpPr>
        <p:sp>
          <p:nvSpPr>
            <p:cNvPr id="246" name=""/>
            <p:cNvSpPr/>
            <p:nvPr/>
          </p:nvSpPr>
          <p:spPr>
            <a:xfrm>
              <a:off x="419040" y="3482640"/>
              <a:ext cx="990360" cy="1316160"/>
            </a:xfrm>
            <a:prstGeom prst="rect">
              <a:avLst/>
            </a:prstGeom>
            <a:solidFill>
              <a:srgbClr val="666699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Long Term System Liabilit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562040" y="3000240"/>
              <a:ext cx="5562360" cy="1828800"/>
            </a:xfrm>
            <a:prstGeom prst="rightArrow">
              <a:avLst>
                <a:gd name="adj1" fmla="val 50000"/>
                <a:gd name="adj2" fmla="val 76038"/>
              </a:avLst>
            </a:prstGeom>
            <a:solidFill>
              <a:srgbClr val="666699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27000" y="3706560"/>
              <a:ext cx="4343400" cy="4597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Asset Management Practic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727600" y="1752480"/>
            <a:ext cx="2946600" cy="4559400"/>
            <a:chOff x="5727600" y="1752480"/>
            <a:chExt cx="2946600" cy="4559400"/>
          </a:xfrm>
        </p:grpSpPr>
        <p:sp>
          <p:nvSpPr>
            <p:cNvPr id="250" name=""/>
            <p:cNvSpPr/>
            <p:nvPr/>
          </p:nvSpPr>
          <p:spPr>
            <a:xfrm>
              <a:off x="5854680" y="1752480"/>
              <a:ext cx="1447920" cy="83808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86520" y="1839600"/>
              <a:ext cx="1143000" cy="520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ustainable Asse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46760" y="2550960"/>
              <a:ext cx="1447920" cy="83808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967440" y="2633400"/>
              <a:ext cx="1181160" cy="503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Precis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C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201080" y="4063680"/>
              <a:ext cx="1447560" cy="76212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27880" y="4851360"/>
              <a:ext cx="1447560" cy="76176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427880" y="4128840"/>
              <a:ext cx="1130400" cy="520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Minimized Cos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726240" y="4894200"/>
              <a:ext cx="1231920" cy="503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Organizati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Align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727600" y="5549760"/>
              <a:ext cx="1447920" cy="76212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900760" y="5592600"/>
              <a:ext cx="1231920" cy="509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High Quality Customer Servic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26280" y="3251160"/>
              <a:ext cx="1447920" cy="76176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440480" y="3328920"/>
              <a:ext cx="1130400" cy="520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Maximized Performan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316160" y="1531440"/>
            <a:ext cx="4290840" cy="1868760"/>
            <a:chOff x="1316160" y="1531440"/>
            <a:chExt cx="4290840" cy="1868760"/>
          </a:xfrm>
        </p:grpSpPr>
        <p:sp>
          <p:nvSpPr>
            <p:cNvPr id="263" name=""/>
            <p:cNvSpPr/>
            <p:nvPr/>
          </p:nvSpPr>
          <p:spPr>
            <a:xfrm flipV="1">
              <a:off x="1316160" y="1833120"/>
              <a:ext cx="4290840" cy="156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9591600">
              <a:off x="1763640" y="2023200"/>
              <a:ext cx="2975040" cy="642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Knowledge, Confidence,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Precision, Profitabili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 flipV="1">
            <a:off x="1335240" y="1852200"/>
            <a:ext cx="4290840" cy="1567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6320" y="390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es It Do?: AM Maximizes Existing Practices to Produce Optimal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9600" cy="91440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is It Importa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1353960"/>
            <a:ext cx="8039160" cy="47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ording to an August 2002 GAO Report, about 31% of wastewater utilities lacked plans for managing their existing asse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ose with asset management plans, more than half did not cover all assets or omitted key plan elements —21% of wastewater utilities did not include information on the condition level at which the utility expects to maintain the assets in their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A is promoting asset management as a recommended best management practice as part of its Four Pillars of Sustainable Infrastruc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95360"/>
            <a:ext cx="8229600" cy="91440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 Can Mean Different Thing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Different Stakehol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3520" y="1353960"/>
            <a:ext cx="8039160" cy="47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71516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Accounting and Financ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roperly accounting and budgeting for ass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O&amp;M staff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roviding maintenance support and minimizing fail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Engineering Department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ning and designing replacement and rehabil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IT Engineers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king and monitoring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Customers and Constituents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iable service, competitive cost, environmental stewardship, safe and healthy systems, and excellent customer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47680" y="447480"/>
            <a:ext cx="8686800" cy="99036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bjectives of  an Asset Management Progra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80520" y="1531440"/>
            <a:ext cx="8325000" cy="53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mmunicate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mmitment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to optimizing asset manag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vide a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ramework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for optimal, long-term practices and polic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velop well-defined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olices and procedure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that address the three main stages of the asset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ife cycl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ning, funding, engineering, and constr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rations and mainten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newal and replac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nage security, risks, and liabili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monstrate how revenues are spent and the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ecision-making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proc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llow a sound, logical planning proc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1760" y="426600"/>
            <a:ext cx="8381880" cy="114300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hway Approach to an AM Program: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ing the Five Asset Catego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9960" y="1630440"/>
            <a:ext cx="822960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stome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Investors in a ut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op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Staff responsible for implementation and day-to-day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rastructu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All of the physical assets of a ut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ormation Technolog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A utility’s hardware and software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nowledge Ba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Institutio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5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06320" y="1044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the Pathway Approach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8880" y="126828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an initial overall framework that quantifies long-term liabilit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s the utility to most critical nee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ilds on and improves current practices and polic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ies ga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s for a scalable implement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zes financial consequences of expendi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oritizes necessary expenditures providing defensible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s consensus among utility stak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5T14:02:05Z</dcterms:created>
  <dc:creator>camporea</dc:creator>
  <dc:description/>
  <dc:language>en-US</dc:language>
  <cp:lastModifiedBy>BOWMAN</cp:lastModifiedBy>
  <dcterms:modified xsi:type="dcterms:W3CDTF">2005-01-28T16:39:26Z</dcterms:modified>
  <cp:revision>84</cp:revision>
  <dc:subject/>
  <dc:title>Slide 1</dc:title>
</cp:coreProperties>
</file>