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4909-1E9D-4FA0-848B-93894FAB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E7AA-1A28-43EA-99BC-D3E2E5BC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8CF-C69F-421E-8F15-932145BA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ACB-7904-4066-9D67-2F27E6B0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DC4E-742B-4803-8AD7-E6D8D220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3E4D-1F6B-4940-9FCD-43D08C58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4A43-66F4-4595-8137-7B2047D8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9620-11DD-4DD1-AA83-2AF1E9F4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583A-1E6B-4333-BB36-B6A795BC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AD83-17B3-4611-8900-5EEFA1FF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C4A9-8B76-4E8C-999E-0C31DD2F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DAD0-6B60-4306-91EE-87C53356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D08F-6EE5-49B1-9A67-DE0110F0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C27A-C309-4178-8ED0-2DA246C9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D93F-8C3C-43C3-BD5E-5D8455CA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C603-3937-4A75-9532-64A8D290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A811-478E-4F72-9E12-A720BC9F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0AE-D730-4774-9672-5B38BA26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658-1925-42C5-82D4-5649CD4D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4E97-4857-4A2F-A95C-D3739BB8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D4A-2615-430B-A24B-46F657FE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9EB-0285-48CA-A2AC-D398E8DE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99A-7B1E-4F8D-8D68-8C61E8C4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43AC-C031-450E-A470-6244D7AF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D557-1608-4099-8802-67E0293E0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E0DD-3211-44B1-BBA5-E45B7C3F7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Sustaining Our Nation’s Infrastructure . . . The Case for a Clean and Safe Water Trust Fun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SA 2005 Winter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ustainabl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bruary 1-4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WATER ASSISTANCE TRUST AND ENVIRONMENTAL RESTORATION  (WATER) ACT OF 2005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s the Water Assistance Trust and Environmental Restoration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10 billion a year, or $50 billion for 2006-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st Fund revenue comes from appropriations (assumed to provide a total of $10 billion over five years) and a fee of 6.6% on beverages ($25 bill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are continuing to explore additional and alternative funding sources, including a clean and safe water restoration fee that applies to a broad range of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gram Fun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nditures are made from the Trust Fund for the following purpos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 Water Act F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5 billion including $3.75 billion in grants and $1.25 for loans (Clean Water SRF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 Drinking Water Act F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4 billion including $3 billion in grants and $1 billion for loans (Drinking Water SR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Water Infrastructure Technology Development Program - $145 million per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gram Funding (cont’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Center for Utility Management - $5 million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Assistance for Small Rural Communities - $50 million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- $50 million per year for clean water and $50 million per year for drinking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gram Funding (cont’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eries Enhancement - $250 million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point Source Management Grants (Section 319) - $200 million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ical Regional Waters - $250 million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endments to the Clean Water Ac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zes the fund to be made off-bud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s incentive to accumulate balances in the Trust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s must use 75% of the funds it receives for grants for high priority projects (Section 60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 recipients must provide a 35% match (section 6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endments to the Clean Water Ac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rifies and expands eligibilities under the CW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nstruction and rehabilitation of POT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point and estuary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mwater controls (including nonstructural contro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conservation measures undertaken by public ent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on of sewer service to areas with failed septic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quality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endments to the Clean Water Ac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funding for state administration of the f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reater of either ½% of the current valuation of the fund or $4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 states can use 4% of the amount of grants awarded to the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zes states to provide additional forms of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ed repayment peri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 subsid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n guarante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endments to the Clean Water Ac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zes funding of programs to restore and protect four critical wa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sapeake Ba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 Lak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Island 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lf of Mexico (through the Hypoxia Action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* The EPA Administrator can also allocate funding under this sectio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o other programs that will restore and protect critical regional wat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endments to the Safe Drinking Wat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rrors the Clean Water Act Amendments in term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ch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5% of funds for gra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s several additional activities eligible for assist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acement of aging transmission and distribution system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 improvemen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hab and construction of storage faciliti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of alternative drinking water suppli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conservation projec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acement of lead service 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Draft Clean And Safe Water Trust Fund – Next Step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final proposed bill based on comments f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SA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al/conservation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porate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 “endorsement” for legislation from these group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467480" y="5943600"/>
            <a:ext cx="16765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Water Infrastructure Networ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, highly successful coal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s educated the federal government, media and 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alition enabled broad outreach eff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ed Water Infrastructure Caucus in Hou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mental in obtaining Authorizing Legis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t Broad Consensus on Funding Ga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with Capitol Hill to obtain sponsors, hear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ain hearings on long-term, sustainable clean water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and pursue likely spon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ce the coalition around the trust fund is developed, key groups will target Members of Congress they are most strongly aligned  with for suppor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SA will play the key coordinating role in this eff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Draft Clean And Safe Water Trust Fund – Next Step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Draft Clean And Safe Water Trust Fund – Next Step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Luntz/Penn Schoen “Bipartisan” 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 states chosen to over-sample for the survey because of importance of clean water issues to their Representatives/Senator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addition to national survey memo, state memos will be drafted and distributed targeting the Members of Congress for these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SA member participation will be vital in disseminating the survey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untz Research, Inc will also develop an ad based on the survey results and provide AMSA with a placement strategy for future advertis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Draft Clean And Safe Water Trust Fund – Next Step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d facilitated session with industry in mid-Febru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pose: obtain input from key industry leaders on the trust fund/revenue 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whether there may be industry support or “volunte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ize trust fund revenue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UTREACH, OUTREACH, OUTREAC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 Water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bsite devoted to grassroots support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solely for dedicated clean and safe water funding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ll capture all e-mail addresses of site visitors for follow-up commun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urn interested individuals into advocates through easy-to-use website fun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8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-A-P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8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 Con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8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l-A-Fri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UTREACH, OUTREACH, OUTREAC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 Water America (cont’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SA members will receive a member update next week and will be asked to support the web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nd your organization’s name to the list of sponsors (there is no financial commitmen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broad array of stakeholder groups will be asked to endorse the site (WIN members,  environmental/conservation group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previewed by going to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ww.cleanwateramerica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LEAN WATER AMERIC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7696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dia Attention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already seen significant media attention on this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e press artic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veland Plain Dealer article (January 25, 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otes AMSA &amp; NRDC in support of trust fund = PROG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 Today article due out this week = shows interest of national 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 Water America, National/State Luntz Survey and Congressional Hearings will all provide key “news hooks” to garner further media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  <a:ea typeface="Times New Roman"/>
              </a:rPr>
              <a:t>Challenges Remain</a:t>
            </a:r>
            <a:r>
              <a:rPr b="1" i="1" lang="en-US" sz="40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merica at war – terrorism and Ira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pending focused on defense, military, security and, recently, disaster rel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udget deficits for the foreseeable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ublic policy officials skeptical of the federal role in funding public wastewater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238880" y="5943600"/>
            <a:ext cx="16765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hallenges Must Be Overcom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lean and safe water trust fund is the appropriate solution becau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n water is a national iss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gress has established other trust funds to assure continuous funding to meet changing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 infrastructure systems broadly underpin the U.S. ec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rust fund would provide additional funding– no more unfunded federal mand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infrastructure means healthy families, a healthy natural environment and a healthy econom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238880" y="5943600"/>
            <a:ext cx="16765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 MAKE THE CLEAN WATER TRUST FUND A PRIORITY ISSUE IN 2005 AND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886200" y="5410080"/>
            <a:ext cx="1676520" cy="7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cc00"/>
                </a:solidFill>
                <a:latin typeface="Arial"/>
              </a:rPr>
              <a:t>Clean &amp; Safe Water</a:t>
            </a:r>
            <a:br>
              <a:rPr sz="4400"/>
            </a:br>
            <a:r>
              <a:rPr b="1" i="1" lang="en-US" sz="4400" spc="-1" strike="noStrike">
                <a:solidFill>
                  <a:srgbClr val="00cc00"/>
                </a:solidFill>
                <a:latin typeface="Arial"/>
              </a:rPr>
              <a:t>for the 21st Century Repo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781680" y="2057400"/>
          <a:ext cx="21211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057400"/>
                    <a:ext cx="21211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22860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$1 trillion needed over 20 years to build new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d replace/repair existing systems &amp; pip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$23 billion annual gap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ocal governments currently pay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 90% capital co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  O&amp;M co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ederal investment has declined 75% since 198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ffordability becoming proble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ocumented economic, public health, and environmental benefi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ot enough money in the General Fund to finance the nee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 dedicated Trust Fund makes good economic sen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7238880" y="5943600"/>
            <a:ext cx="16765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2fd5d"/>
                </a:solidFill>
                <a:latin typeface="Arial"/>
              </a:rPr>
              <a:t>Corroborating Repor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PA Drinking Water Infrastructure Needs Surve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CE’s Infrastructure Report C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WWA’s Dawn of the Replacement 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Government Accountability Offic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ional Budget Office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’s Infrastructure Gap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’s Clean Watersheds Needs 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238880" y="5943600"/>
            <a:ext cx="16765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66"/>
                </a:solidFill>
                <a:latin typeface="Arial"/>
              </a:rPr>
              <a:t>Why We Need Long-Term Fun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5410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$400 billion - $1 trillion  gap over next 20 yea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p grows as mandates incr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2244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t wea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8636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SOs - $60 Billion c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8636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SOs - $90 Billion c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8636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ending - $130-200 Billion c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2244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 Quali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8636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8636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tri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8636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erging Polluta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cern about losing grou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8636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3 = 1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year water qualit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tionwide has regres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8636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5% of nation’s waters stil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impaired (EP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86364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turn to pre-CWA wat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qua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9"/>
          <a:stretch/>
        </p:blipFill>
        <p:spPr>
          <a:xfrm>
            <a:off x="5867280" y="1447920"/>
            <a:ext cx="29196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UPHILL BATT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ly clear that there will be no increase in general revenue funding for clean water progra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IN began there were surpluses – now there are defic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scal Year 2005 - funding for the Clean Water State Revolving Fund (CWSRF) cut by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$250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cuts expected in FY 2006 and bey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338960" y="0"/>
            <a:ext cx="1805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UPHILL BATT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re faced with a very conservative Congress and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taxes/fees are looked at  skept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is on defense and non-environ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es . . . . BUT . .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HIS IS ALSO A PERIOD OF OPPORTUNITY FOR 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564320" y="0"/>
            <a:ext cx="1579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UPHILL BATT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ve learned th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u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st match the ne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not be dictated by shifting political s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with the effort on the highway trust fund ($30 B/year) and the aviation trust fund ($8 B/year) a real solution takes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NOT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ugh WIN and current coalition-building efforts we have made great progress ALRE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338960" y="0"/>
            <a:ext cx="1805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SA’s Clean Water Funding Task For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posed trust fund legislation is based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facilitated sessions with environmental/conservation group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series of comments from AMSA members, other key organization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c reports on revenue source options;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ling data done to dat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14:32:23Z</dcterms:created>
  <dc:creator>adam</dc:creator>
  <dc:description/>
  <dc:language>en-US</dc:language>
  <cp:lastModifiedBy>Administrator</cp:lastModifiedBy>
  <dcterms:modified xsi:type="dcterms:W3CDTF">2005-02-02T12:59:46Z</dcterms:modified>
  <cp:revision>16</cp:revision>
  <dc:subject/>
  <dc:title>Sustaining Our Nation’s Infrastructure . . . The Case for a Clean and Safe Water Trust Fund</dc:title>
</cp:coreProperties>
</file>