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AC5-08BA-4619-B133-2D736AAA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AC3-7AAD-4C47-9F3E-3BC5AC3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C88-4D3E-428D-A065-FF86D01F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968-E08F-4F8C-99DB-2C2007B5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BA23-37D4-4C8E-9E7A-99A37FCB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72C7-7211-4F93-94D9-E3770278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70FB-01B9-417A-BE62-DBDE93E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0B31-0768-422B-88BF-F192EA3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018E-3EFB-4D26-A1F3-EC9ABC1F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C896-5DE9-4DD3-A9F2-2344165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A453-23C7-4693-97F2-ECC7B63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BF7-20BC-4E09-9F5E-3098D13D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B624-1AD2-4009-A074-8D08BD6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3C47-41A1-480D-B246-C8586D7C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3162-EABE-40B3-8018-74FBC2A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24A9-2B3C-4E08-9632-D84D499F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D83-C22E-4B73-99C5-38F67BC9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417-D28D-4472-BAB7-C3FD498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B62-D8D0-43F0-8E35-7FE3FDC6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879-AD62-432E-A4B0-3FF0EED0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540-54AE-415B-AAF6-F87D56F4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04E-E7A0-4FA6-8727-90CB571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510-5894-4400-8369-B5E6A7F8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4F6-8DC5-443A-9005-CC23BDA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FED-4300-4B2F-B084-9482DB675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859-A048-4BDA-9C40-2C3E6CCC5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Sustaining Our Nation’s Infrastructure . . . The Case for a Clean and Safe Water Trust Fun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2005 Winter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stainab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uary 1-4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WATER ASSISTANCE TRUST AND ENVIRONMENTAL RESTORATION  (WATER) ACT OF 200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the Water Assistance Trust and Environmental Restoration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0 billion a year, or $50 billion for 2006-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Fund revenue comes from appropriations (assumed to provide a total of $10 billion over five years) and a fee of 6.6% on beverages ($25 bill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continuing to explore additional and alternative funding sources, including a clean and safe water restoration fee that applies to a broad range of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 Fu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ditures are made from the Trust Fund for the following purpos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Water Act F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 billion including $3.75 billion in grants and $1.25 for loans (Clean Water SRF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Drinking Water Act F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 billion including $3 billion in grants and $1 billion for loans (Drinking Water S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Water Infrastructure Technology Development Program - $145 million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 Funding (cont’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Center for Utility Management - $5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ssistance for Small Rural Communities - $5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- $50 million per year for clean water and $50 million per year for drinking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 Funding (cont’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ies Enhancement - $25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point Source Management Grants (Section 319) - $20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Regional Waters - $25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the fund to be made off-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incentive to accumulate balances in the Trus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must use 75% of the funds it receives for grants for high priority projects (Section 6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recipients must provide a 35% match (section 6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fies and expands eligibilities under the CW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struction and rehabilitation of POT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point and estuary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mwater controls (including nonstructural contro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conservation measures undertaken by public ent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 of sewer service to areas with failed septic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funding for state administration of the 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eater of either ½% of the current valuation of the fund or $4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states can use 4% of the amount of grants awarded to the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states to provide additional forms of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ed repayment peri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subsid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n guarante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funding of programs to restore and protect four critic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apeake B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Lak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Island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Mexico (through the Hypoxia Action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* The EPA Administrator can also allocate funding under this sec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 other programs that will restore and protect critical regional wa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Safe Drinking Wa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rors the Clean Water Act Amendments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% of funds for gr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several additional activities eligible for assist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ment of aging transmission and distribution syste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improv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hab and construction of storage facilit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alternative drinking water suppl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conservation projec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ment of lead service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final proposed bill based on comments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/conservation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porat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“endorsement” for legislation from these 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4674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Water Infrastructu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, highly successful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educated the federal government, media and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lition enabled broad outreach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ed Water Infrastructure Caucus in Ho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al in obtaining Authorizing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Broad Consensus on Funding G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Capitol Hill to obtain sponsors, hea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 hearings on long-term, sustainable clean water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nd pursue likely spo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the coalition around the trust fund is developed, key groups will target Members of Congress they are most strongly aligned  with for suppor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will play the key coordinating role in this ef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untz/Penn Schoen “Bipartisan”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 states chosen to over-sample for the survey because of importance of clean water issues to their Representatives/Sena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ddition to national survey memo, state memos will be drafted and distributed targeting the Members of Congress for these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member participation will be vital in disseminating the surv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ntz Research, Inc will also develop an ad based on the survey results and provide AMSA with a placement strategy for future advertis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facilitated session with industry in mid-Febru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: obtain input from key industry leaders on the trust fund/revenue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whether there may be industry support or “volunte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trust fund revenu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UTREACH, OUTREACH, OUTREA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Water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site devoted to grassroots support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lely for dedicated clean and safe water funding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capture all e-mail addresses of site visitors for follow-up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rn interested individuals into advocates through easy-to-use website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-A-P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-A-Fri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UTREACH, OUTREACH, OUTREA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Water America 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members will receive a member update next week and will be asked to support the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d your organization’s name to the list of sponsors (there is no financial commitme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road array of stakeholder groups will be asked to endorse the site (WIN members,  environmental/conservation group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reviewed by going to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ww.cleanwaterameric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EAN WATER AMERI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Atten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ready seen significant media attention on this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 press artic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veland Plain Dealer article (January 25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otes AMSA &amp; NRDC in support of trust fund = PRO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 Today article due out this week = shows interest of national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Water America, National/State Luntz Survey and Congressional Hearings will all provide key “news hooks” to garner further media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Times New Roman"/>
              </a:rPr>
              <a:t>Challenges Remain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erica at war – terrorism and Ir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pending focused on defense, military, security and, recently, disaster 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dget deficits for the foreseeabl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policy officials skeptical of the federal role in funding public wastewater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llenges Must Be Overco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ean and safe water trust fund is the appropriate solution becau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water is a national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ress has established other trust funds to assure continuous funding to meet changing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infrastructure systems broadly underpin the U.S. ec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rust fund would provide additional funding– no more unfunded federal man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infrastructure means healthy families, a healthy natural environment and a healthy econom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MAKE THE CLEAN WATER TRUST FUND A PRIORITY ISSUE IN 2005 AND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86200" y="5410080"/>
            <a:ext cx="1676520" cy="7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Clean &amp; Safe Water</a:t>
            </a:r>
            <a:br>
              <a:rPr sz="4400"/>
            </a:b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for the 21st Century Re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781680" y="2057400"/>
          <a:ext cx="21211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057400"/>
                    <a:ext cx="2121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2860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$1 trillion needed over 20 years to build new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replace/repair existing systems &amp; pi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$23 billion annual ga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cal governments currently pa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90% capital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  O&amp;M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deral investment has declined 75% since 198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ffordability becoming probl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umented economic, public health, and environmental benefi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t enough money in the General Fund to finance the nee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dedicated Trust Fund makes good economic sen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fd5d"/>
                </a:solidFill>
                <a:latin typeface="Arial"/>
              </a:rPr>
              <a:t>Corroborating Repo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PA Drinking Water Infrastructure Needs Surv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CE’s Infrastructure Report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WA’s Dawn of the Replacement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Government Accountability Offic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Budget Offic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’s Infrastructure Gap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’s Clean Watersheds Needs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Why We Need Long-Term Fu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400 billion - $1 trillion  gap over next 20 ye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grows as mandates incr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22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t 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SOs - $60 Billion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SOs - $90 Billion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ending - $130-200 Billion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22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Qua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erging Pollut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rn about losing grou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3 = 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ear water qual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tionwide has regres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5% of nation’s waters stil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impaired (EP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urn to pre-CWA wat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5867280" y="1447920"/>
            <a:ext cx="2919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PHILL BAT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ly clear that there will be no increase in general revenue funding for clean water progra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 began there were surpluses – now there are defic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 Year 2005 - funding for the Clean Water State Revolving Fund (CWSRF) cut b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$25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cuts expected in FY 2006 and bey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38960" y="0"/>
            <a:ext cx="18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PHILL BAT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faced with a very conservative Congress an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axes/fees are looked at  skep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is on defense and non-environ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es . . . . BUT . .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IS IS ALSO A PERIOD OF OPPORTUNITY FOR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64320" y="0"/>
            <a:ext cx="1579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PHILL BAT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learned th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match the ne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ot be dictated by shifting political s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ith the effort on the highway trust fund ($30 B/year) and the aviation trust fund ($8 B/year) a real solution take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NOT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WIN and current coalition-building efforts we have made great progress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38960" y="0"/>
            <a:ext cx="18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SA’s Clean Water Funding Task For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osed trust fund legislation is base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facilitated sessions with environmental/conservation group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series of comments from AMSA members, other key organiz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reports on revenue source options;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ing data done to da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4:32:23Z</dcterms:created>
  <dc:creator>adam</dc:creator>
  <dc:description/>
  <dc:language>en-US</dc:language>
  <cp:lastModifiedBy>Administrator</cp:lastModifiedBy>
  <dcterms:modified xsi:type="dcterms:W3CDTF">2005-02-02T12:59:46Z</dcterms:modified>
  <cp:revision>16</cp:revision>
  <dc:subject/>
  <dc:title>Sustaining Our Nation’s Infrastructure . . . The Case for a Clean and Safe Water Trust Fund</dc:title>
</cp:coreProperties>
</file>