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0CD-9180-4BD6-801E-97706177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CD1-789E-48D4-BE61-C2B371FC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53B-2AAB-4931-9A5E-5B901049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EFB-134C-46BF-8110-09A47450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40F-C2D7-4E6F-B25F-505B99C0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8EC-6876-4230-963E-71FAF2C6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FAB-B9F7-4E3A-B135-7BAA5FF8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7B6-D4D1-40F5-835A-F3608C48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E1A-DDC9-4A33-83BC-3C2D1B6C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A77-B498-4FDE-B2A4-E386BBD9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E7B-8864-4C48-BA33-F51182EA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640-AB7B-4339-9A5A-AEE5C92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DB0E-3702-4CBF-B5B6-D16A1B410A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wwwseal" descr=""/>
          <p:cNvPicPr/>
          <p:nvPr/>
        </p:nvPicPr>
        <p:blipFill>
          <a:blip r:embed="rId2"/>
          <a:stretch/>
        </p:blipFill>
        <p:spPr>
          <a:xfrm>
            <a:off x="7696080" y="6207120"/>
            <a:ext cx="144000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cseonline.org/Updates/page.cfm?FID=4202" TargetMode="External"/><Relationship Id="rId2" Type="http://schemas.openxmlformats.org/officeDocument/2006/relationships/hyperlink" Target="http://members.aol.com/rwsmittjr/scripts/chinatown.txt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nas.org/cgi/content/full/100/3/105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ho.int/multimedia/indiaweb/gallerypeople/washing/WHO-21095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WATER RESOURCE SUSTAINABILITY </a:t>
            </a:r>
            <a:br>
              <a:rPr sz="60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sues from Global to Lo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jendra P. Bhattarai, P.E., DE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stin Water Uti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stin, Tex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04000" y="3429000"/>
            <a:ext cx="62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at AMSA’s 2005 Winter Conferen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ebruary 4, 200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ntended Consequ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ral Bangladesh and a small part of Ind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rces of water: shallow wells, streams, po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-borne microbial diseases endem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ep tube wells drilled for clean groundwa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rastic reduction in microbial disea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gnificant public health success s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ntended Consequence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ssibly the largest mass poisoning in histo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armingly high arsenic levels in groundwat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pecially in deep wel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llions are affec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rsenic filters – expensive, difficult to maintai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pulation back to shallow wells, ponds and streams as their water sour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-borne microbial diseases endemic agai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1566720"/>
            <a:ext cx="9144000" cy="3724200"/>
            <a:chOff x="0" y="1566720"/>
            <a:chExt cx="9144000" cy="3724200"/>
          </a:xfrm>
        </p:grpSpPr>
        <p:sp>
          <p:nvSpPr>
            <p:cNvPr id="89" name=""/>
            <p:cNvSpPr/>
            <p:nvPr/>
          </p:nvSpPr>
          <p:spPr>
            <a:xfrm>
              <a:off x="0" y="1566720"/>
              <a:ext cx="9144000" cy="37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566720"/>
              <a:ext cx="914400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en-US" sz="9000" spc="-1" strike="noStrike">
                  <a:solidFill>
                    <a:srgbClr val="ffff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                 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pic>
        <p:nvPicPr>
          <p:cNvPr id="91" name="rita_colwell2000" descr="Dr. Rita R. Colwell's Photo"/>
          <p:cNvPicPr/>
          <p:nvPr/>
        </p:nvPicPr>
        <p:blipFill>
          <a:blip r:embed="rId1"/>
          <a:stretch/>
        </p:blipFill>
        <p:spPr>
          <a:xfrm>
            <a:off x="517680" y="762120"/>
            <a:ext cx="2377800" cy="2438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95480" y="758880"/>
            <a:ext cx="5943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. Rita Colwe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inguished University Professor University of Maryland and Johns Hopkins University Bloomberg School of Public Healt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429000"/>
            <a:ext cx="832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tional Council for Science and the Environ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rector, National Science Foundation (1998-2004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sident, Biotechnology Institute, University of Maryland (1991-199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d Sari Cloth Filters Chole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ree-year Study in Bangladesh, led by Dr. Colwe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5 villages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33,000 individua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udy by a highly interdisciplinary team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icrobiologists, sociologists, physicians, field extension agents, epidemiologists, ecologists, statisticians, and environmental scientist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layers of sari cloth removed 99% of Vibrio cholera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duced Cholera incidence by 50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ropriate 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ri cloth more effective than nylon mes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ld sari cloth better than n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fect example of appropriate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mple Technology supported by sound and sophisticated sci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rd-of- mouth information dissemination extremely cruci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ity of Aust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0 miles to the nort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pital of Tex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lorado River runs through i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ies of lakes – reliable sources of water, good wate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rights for 325,000 acre-ft/ye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rrent use 156,000 acre-ft/ye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ed to last until 2040 without additional conserv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822240"/>
          <a:ext cx="9144000" cy="603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6035760"/>
                  </a:xfrm>
                  <a:prstGeom prst="rect">
                    <a:avLst/>
                  </a:prstGeom>
                  <a:ln w="0">
                    <a:solidFill>
                      <a:srgbClr val="ffffff"/>
                    </a:solidFill>
                  </a:ln>
                </p:spPr>
              </p:pic>
            </p:oleObj>
          </a:graphicData>
        </a:graphic>
      </p:graphicFrame>
      <p:pic>
        <p:nvPicPr>
          <p:cNvPr id="102" name="wwwseal" descr=""/>
          <p:cNvPicPr/>
          <p:nvPr/>
        </p:nvPicPr>
        <p:blipFill>
          <a:blip r:embed="rId3"/>
          <a:stretch/>
        </p:blipFill>
        <p:spPr>
          <a:xfrm>
            <a:off x="7704000" y="6207120"/>
            <a:ext cx="1440000" cy="65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9360" y="258840"/>
            <a:ext cx="71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stin’s Water Use and Population Tre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ity of Austi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rrigation, landscaping, plumbing fixtures, washers, water metering, education/outrea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inwater Harves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ir Conditioner Condens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ywa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r Cities: Lima, Peru; Saltillo, Mexico; Adelaide, Austral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For Peop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use in Aust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74 – Golf Course Irri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large WWTPs, 3 pump stations, 2 storage tanks and transmission mai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small WWTPs dedicated to golf course irri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rrigation, cooling, industrial/commercial uses, ornamental po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ns for extending transmission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ducation and Outre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ltural shift in thinking about wa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propriate Technology backed by Sound Sci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mple, economical, sustain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listic and Interdisciplinary approach – social scientists are just as important as scientists and engine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obal Issu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r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cess to safe water and adequate sanit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ppropriate Technologi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rb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adequate Infrastructu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adequate or non-existent O&amp;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cal Issues: Austin as an 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ommendations for Sustainabilit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mostly from NCSE’s Fourth National Conference on Science Policy and the Environment: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Water for a Sustainable and Secure Futur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ommendatio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stainable Fina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for people and eco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ate surface and groundwater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conservation meas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reclam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rol of non-point source poll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ommendatio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stablish a National Commission on Water Sustainabi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mote International Capacity Building on Sustainable Water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velop Broad Spectrum of Technologies to Advance Sustainable Water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ose the Gap between Water Science and Water Polic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wwwseal" descr=""/>
          <p:cNvPicPr/>
          <p:nvPr/>
        </p:nvPicPr>
        <p:blipFill>
          <a:blip r:embed="rId3"/>
          <a:stretch/>
        </p:blipFill>
        <p:spPr>
          <a:xfrm>
            <a:off x="0" y="6200640"/>
            <a:ext cx="14400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llenge to make water resource sustainability much more desirable than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aywatch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baywatch" descr=""/>
          <p:cNvPicPr/>
          <p:nvPr/>
        </p:nvPicPr>
        <p:blipFill>
          <a:blip r:embed="rId1"/>
          <a:stretch/>
        </p:blipFill>
        <p:spPr>
          <a:xfrm>
            <a:off x="1295280" y="235080"/>
            <a:ext cx="594360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ents or Concer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lightbulb" descr=""/>
          <p:cNvPicPr/>
          <p:nvPr/>
        </p:nvPicPr>
        <p:blipFill>
          <a:blip r:embed="rId1"/>
          <a:stretch/>
        </p:blipFill>
        <p:spPr>
          <a:xfrm>
            <a:off x="2362320" y="690480"/>
            <a:ext cx="47624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/Viewing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tional Council for Science and the Environment,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Water for a Sustainable and Secure Futur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Fourth National Conference on Science Policy and the Environment (200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red Diamond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essons from Environmental Collapses of Past Societi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, Chafee Memorial Lecture (200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publications can be downloaded from: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ncseonline.org/Updates/page.cfm?FID=42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man Polanski (director)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hinatown (Film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Paramount Pictures (197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bert Towne (Screenwriter)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hinatown (Screenplay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Faber and Faber Ltd (2000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reenplay of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hinatow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an be downloaded from: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2"/>
              </a:rPr>
              <a:t>http://members.aol.com/rwsmittjr/scripts/chinatown.tx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/Viewing List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ita Colwell, et al, “Reduction of cholera in Bangladeshi villages by simple filtration.”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roceedings of the</a:t>
            </a:r>
            <a:r>
              <a:rPr b="0" i="1" lang="en-US" sz="2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ational Academy of Sciences, Vol. 100, No. 3, pp. 1051-1055, February 4, 2003.  Published online January 14, 2003: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pnas.org/cgi/content/full/100/3/105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red Diamond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uns, Germs and Steel: The Fates of Human Societi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Norton (199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red Diamond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ollapse: How Societies Choose to Fail or Succee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Viking (200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rc Reisner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adillac Desert: The American West and Its Disappearing Wat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Viking (1986), Revised Edition, Penguin Books (199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ll Bryson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 Short History of Nearly Everythin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Broadway Books (200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43000" y="2629080"/>
            <a:ext cx="6858000" cy="1600200"/>
            <a:chOff x="1143000" y="2629080"/>
            <a:chExt cx="6858000" cy="1600200"/>
          </a:xfrm>
        </p:grpSpPr>
        <p:sp>
          <p:nvSpPr>
            <p:cNvPr id="126" name=""/>
            <p:cNvSpPr/>
            <p:nvPr/>
          </p:nvSpPr>
          <p:spPr>
            <a:xfrm>
              <a:off x="1143000" y="262908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143000" y="2629080"/>
              <a:ext cx="1446120" cy="1600200"/>
              <a:chOff x="1143000" y="2629080"/>
              <a:chExt cx="1446120" cy="1600200"/>
            </a:xfrm>
          </p:grpSpPr>
          <p:sp>
            <p:nvSpPr>
              <p:cNvPr id="128" name=""/>
              <p:cNvSpPr/>
              <p:nvPr/>
            </p:nvSpPr>
            <p:spPr>
              <a:xfrm>
                <a:off x="1143000" y="2629080"/>
                <a:ext cx="14461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43000" y="2629080"/>
                <a:ext cx="142884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33560" y="236232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ral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urce: ponds, streams, springs, shallow wel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 scarce and difficult to ac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 quality highly variable, subject to contamin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ck of even basic latrines, outhou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ducation, outreach and appropriate technolog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11520" y="2239920"/>
            <a:ext cx="5616360" cy="360"/>
            <a:chOff x="2711520" y="2239920"/>
            <a:chExt cx="5616360" cy="360"/>
          </a:xfrm>
        </p:grpSpPr>
        <p:sp>
          <p:nvSpPr>
            <p:cNvPr id="50" name=""/>
            <p:cNvSpPr/>
            <p:nvPr/>
          </p:nvSpPr>
          <p:spPr>
            <a:xfrm>
              <a:off x="2711520" y="2239920"/>
              <a:ext cx="561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11520" y="2239920"/>
              <a:ext cx="561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714840" y="2343240"/>
            <a:ext cx="360" cy="360"/>
            <a:chOff x="3714840" y="2343240"/>
            <a:chExt cx="360" cy="360"/>
          </a:xfrm>
        </p:grpSpPr>
        <p:sp>
          <p:nvSpPr>
            <p:cNvPr id="53" name=""/>
            <p:cNvSpPr/>
            <p:nvPr/>
          </p:nvSpPr>
          <p:spPr>
            <a:xfrm>
              <a:off x="3714840" y="234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4840" y="234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714840" y="2343240"/>
            <a:ext cx="133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714840" y="2343240"/>
            <a:ext cx="360" cy="360"/>
            <a:chOff x="3714840" y="2343240"/>
            <a:chExt cx="360" cy="360"/>
          </a:xfrm>
        </p:grpSpPr>
        <p:sp>
          <p:nvSpPr>
            <p:cNvPr id="57" name=""/>
            <p:cNvSpPr/>
            <p:nvPr/>
          </p:nvSpPr>
          <p:spPr>
            <a:xfrm>
              <a:off x="3714840" y="234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14840" y="234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714840" y="2343240"/>
            <a:ext cx="133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india_quake4" descr="water well"/>
          <p:cNvPicPr/>
          <p:nvPr/>
        </p:nvPicPr>
        <p:blipFill>
          <a:blip r:embed="rId1"/>
          <a:stretch/>
        </p:blipFill>
        <p:spPr>
          <a:xfrm>
            <a:off x="0" y="0"/>
            <a:ext cx="3809880" cy="27558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857680" y="2189160"/>
            <a:ext cx="4054320" cy="360"/>
            <a:chOff x="2857680" y="2189160"/>
            <a:chExt cx="4054320" cy="360"/>
          </a:xfrm>
        </p:grpSpPr>
        <p:sp>
          <p:nvSpPr>
            <p:cNvPr id="62" name=""/>
            <p:cNvSpPr/>
            <p:nvPr/>
          </p:nvSpPr>
          <p:spPr>
            <a:xfrm>
              <a:off x="2857680" y="2189160"/>
              <a:ext cx="405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7680" y="2189160"/>
              <a:ext cx="405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72088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pic02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ban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blic Water Supply – Intermittent, barely adequate to inadequate quant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rely adequate operation and inadequate to non-existent maintena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lo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wate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ban Are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pper Classes – indoor plumb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very house has water storage tan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int-of-use treatment devi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tled water for drin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ban Are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er Classes – inadequate 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-existent indoor plumb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y on municipal taps on street corners or any other available sour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ducation, outreach, water resource development, infrastructure, O&amp;M, conservation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36960" y="1982880"/>
            <a:ext cx="5616360" cy="360"/>
            <a:chOff x="3036960" y="1982880"/>
            <a:chExt cx="5616360" cy="360"/>
          </a:xfrm>
        </p:grpSpPr>
        <p:sp>
          <p:nvSpPr>
            <p:cNvPr id="73" name=""/>
            <p:cNvSpPr/>
            <p:nvPr/>
          </p:nvSpPr>
          <p:spPr>
            <a:xfrm>
              <a:off x="3036960" y="1982880"/>
              <a:ext cx="561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36960" y="1982880"/>
              <a:ext cx="561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pic>
        <p:nvPicPr>
          <p:cNvPr id="75" name="_39125516_childrenafp" descr="Indian street children fill buckets with water from a puddle on the side of the road in Bhopal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aywatch_big" descr=""/>
          <p:cNvPicPr/>
          <p:nvPr/>
        </p:nvPicPr>
        <p:blipFill>
          <a:blip r:embed="rId1"/>
          <a:stretch/>
        </p:blipFill>
        <p:spPr>
          <a:xfrm>
            <a:off x="0" y="0"/>
            <a:ext cx="6157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380880"/>
            <a:ext cx="2666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number of people in the world who watch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ywatc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larger than those with indoor plumbing!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2520" y="1523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ban Area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stewater infrastructure even worse than water’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or collection, treatment and dispos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ually discharged with little or no treat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blic health and environmental impa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80% of illnesses due to poor water quality and poor sanit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ducation, outreach, infrastructure, treatment and dispos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WHO-210952s" descr="ckick on picture for high reso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95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000022TSH.01.LZZZZZZZ" descr=""/>
          <p:cNvPicPr/>
          <p:nvPr/>
        </p:nvPicPr>
        <p:blipFill>
          <a:blip r:embed="rId1"/>
          <a:stretch/>
        </p:blipFill>
        <p:spPr>
          <a:xfrm>
            <a:off x="4343400" y="0"/>
            <a:ext cx="47926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93640" y="533520"/>
            <a:ext cx="374976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man Polanski’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HINATOWN (1974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 thought I was  keeping someone from being hurt, and actually I ended up making sure they were hurt.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J.J. “Jake” Git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play by Robert Tow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wwwseal" descr=""/>
          <p:cNvPicPr/>
          <p:nvPr/>
        </p:nvPicPr>
        <p:blipFill>
          <a:blip r:embed="rId2"/>
          <a:stretch/>
        </p:blipFill>
        <p:spPr>
          <a:xfrm>
            <a:off x="0" y="6200640"/>
            <a:ext cx="14400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23:19Z</dcterms:created>
  <dc:creator>bhattarair</dc:creator>
  <dc:description/>
  <dc:language>en-US</dc:language>
  <cp:lastModifiedBy>bhattarair</cp:lastModifiedBy>
  <dcterms:modified xsi:type="dcterms:W3CDTF">2005-02-03T21:05:58Z</dcterms:modified>
  <cp:revision>27</cp:revision>
  <dc:subject/>
  <dc:title>WATER RESOURCES SUSTAINABILITY ISSUES From Global to Local</dc:title>
</cp:coreProperties>
</file>