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10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C8F9-2020-421A-BAB1-E137F5AE6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7A5B-30F1-497D-96BB-3D0EB44AC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495D-9873-4F52-827C-F1BB0DDE4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6EC4-63DF-4CE4-9102-A10E8A491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BCD5-518F-4FD5-9B40-256183BE4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1FEC-A82C-4C52-B448-7D645BAB5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DFE3-D42D-4394-A44C-5B3421312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D314-7CF0-427B-A280-D7A269536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B169-F47B-4FFA-8E19-E8D475C9C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1AA0-19E6-4D69-B56C-F35CFBF4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4AD5-7236-4D72-8DF5-1AEC3523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3A5E-1B9E-4590-9573-4293D7E3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C7305-E7A7-45B6-89AC-43122BFEBC5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wwwseal" descr=""/>
          <p:cNvPicPr/>
          <p:nvPr/>
        </p:nvPicPr>
        <p:blipFill>
          <a:blip r:embed="rId2"/>
          <a:stretch/>
        </p:blipFill>
        <p:spPr>
          <a:xfrm>
            <a:off x="7696080" y="6207120"/>
            <a:ext cx="1440000" cy="65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ncseonline.org/Updates/page.cfm?FID=4202" TargetMode="External"/><Relationship Id="rId2" Type="http://schemas.openxmlformats.org/officeDocument/2006/relationships/hyperlink" Target="http://members.aol.com/rwsmittjr/scripts/chinatown.txt" TargetMode="External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pnas.org/cgi/content/full/100/3/1051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who.int/multimedia/indiaweb/gallerypeople/washing/WHO-210952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WATER RESOURCE SUSTAINABILITY </a:t>
            </a:r>
            <a:br>
              <a:rPr sz="6000"/>
            </a:b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Issues from Global to Loc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ajendra P. Bhattarai, P.E., DE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ustin Water Utilit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ustin, Texa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04000" y="3429000"/>
            <a:ext cx="625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esentation at AMSA’s 2005 Winter Conferenc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ebruary 4, 2005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nintended Consequen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ural Bangladesh and a small part of Indi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urces of water: shallow wells, streams, pond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ater-borne microbial diseases endemic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eep tube wells drilled for clean groundwate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rastic reduction in microbial diseas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gnificant public health success stor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nintended Consequences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continued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ossibly the largest mass poisoning in history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larmingly high arsenic levels in groundwater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specially in deep well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illions are affected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rsenic filters – expensive, difficult to maintai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opulation back to shallow wells, ponds and streams as their water sourc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ater-borne microbial diseases endemic agai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1566720"/>
            <a:ext cx="9144000" cy="3724200"/>
            <a:chOff x="0" y="1566720"/>
            <a:chExt cx="9144000" cy="3724200"/>
          </a:xfrm>
        </p:grpSpPr>
        <p:sp>
          <p:nvSpPr>
            <p:cNvPr id="89" name=""/>
            <p:cNvSpPr/>
            <p:nvPr/>
          </p:nvSpPr>
          <p:spPr>
            <a:xfrm>
              <a:off x="0" y="1566720"/>
              <a:ext cx="9144000" cy="372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1566720"/>
              <a:ext cx="9144000" cy="14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  </a:t>
              </a:r>
              <a:r>
                <a:rPr b="0" lang="en-US" sz="9000" spc="-1" strike="noStrike">
                  <a:solidFill>
                    <a:srgbClr val="ffff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                 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pic>
        <p:nvPicPr>
          <p:cNvPr id="91" name="rita_colwell2000" descr="Dr. Rita R. Colwell's Photo"/>
          <p:cNvPicPr/>
          <p:nvPr/>
        </p:nvPicPr>
        <p:blipFill>
          <a:blip r:embed="rId1"/>
          <a:stretch/>
        </p:blipFill>
        <p:spPr>
          <a:xfrm>
            <a:off x="517680" y="762120"/>
            <a:ext cx="2377800" cy="2438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895480" y="758880"/>
            <a:ext cx="59436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r. Rita Colwel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istinguished University Professor University of Maryland and Johns Hopkins University Bloomberg School of Public Health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3429000"/>
            <a:ext cx="8321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ational Council for Science and the Environmen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irector, National Science Foundation (1998-2004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esident, Biotechnology Institute, University of Maryland (1991-1998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ld Sari Cloth Filters Choler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ree-year Study in Bangladesh, led by Dr. Colwel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65 villages,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~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33,000 individual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tudy by a highly interdisciplinary team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icrobiologists, sociologists, physicians, field extension agents, epidemiologists, ecologists, statisticians, and environmental scientists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4 layers of sari cloth removed 99% of Vibrio cholera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duced Cholera incidence by 50%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ppropriate Technolo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ari cloth more effective than nylon mesh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ld sari cloth better than new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erfect example of appropriate technolog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mple Technology supported by sound and sophisticated scienc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ord-of- mouth information dissemination extremely crucia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ity of Austi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90 miles to the north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apital of Texa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lorado River runs through i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ries of lakes – reliable sources of water, good water qualit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ater rights for 325,000 acre-ft/yea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urrent use 156,000 acre-ft/yea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ed to last until 2040 without additional conserva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0" y="822240"/>
          <a:ext cx="9144000" cy="603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22240"/>
                    <a:ext cx="9144000" cy="6035760"/>
                  </a:xfrm>
                  <a:prstGeom prst="rect">
                    <a:avLst/>
                  </a:prstGeom>
                  <a:ln w="0">
                    <a:solidFill>
                      <a:srgbClr val="ffffff"/>
                    </a:solidFill>
                  </a:ln>
                </p:spPr>
              </p:pic>
            </p:oleObj>
          </a:graphicData>
        </a:graphic>
      </p:graphicFrame>
      <p:pic>
        <p:nvPicPr>
          <p:cNvPr id="102" name="wwwseal" descr=""/>
          <p:cNvPicPr/>
          <p:nvPr/>
        </p:nvPicPr>
        <p:blipFill>
          <a:blip r:embed="rId3"/>
          <a:stretch/>
        </p:blipFill>
        <p:spPr>
          <a:xfrm>
            <a:off x="7704000" y="6207120"/>
            <a:ext cx="1440000" cy="6508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819360" y="258840"/>
            <a:ext cx="718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ustin’s Water Use and Population Trend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ity of Austin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continued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serva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rrigation, landscaping, plumbing fixtures, washers, water metering, education/outreach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ainwater Harvestin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ir Conditioner Condensat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Graywate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ster Cities: Lima, Peru; Saltillo, Mexico; Adelaide, Australi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ater For Peopl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ter Reuse in Austi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974 – Golf Course Irriga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 large WWTPs, 3 pump stations, 2 storage tanks and transmission main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4 small WWTPs dedicated to golf course irriga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rrigation, cooling, industrial/commercial uses, ornamental pond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lans for extending transmission syste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commend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ducation and Outreach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ultural shift in thinking about wate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ppropriate Technology backed by Sound Scienc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imple, economical, sustainabl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olistic and Interdisciplinary approach – social scientists are just as important as scientists and engineer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esentation Outli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lobal Issu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ural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Access to safe water and adequate sanitatio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Appropriate Technologie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Urban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Inadequate Infrastructur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Inadequate or non-existent O&amp;M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ocal Issues: Austin as an exampl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commendations for Sustainability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(mostly from NCSE’s Fourth National Conference on Science Policy and the Environment: 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Water for a Sustainable and Secure Future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commendations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continued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ustainable Financ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ater for people and ecosystem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tegrate surface and groundwater managemen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ater conservation measur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ater reclama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trol of non-point source pollu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commendations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continued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stablish a National Commission on Water Sustainabilit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mote International Capacity Building on Sustainable Water Managemen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evelop Broad Spectrum of Technologies to Advance Sustainable Water Managemen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ose the Gap between Water Science and Water Polic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wwwseal" descr=""/>
          <p:cNvPicPr/>
          <p:nvPr/>
        </p:nvPicPr>
        <p:blipFill>
          <a:blip r:embed="rId3"/>
          <a:stretch/>
        </p:blipFill>
        <p:spPr>
          <a:xfrm>
            <a:off x="0" y="6200640"/>
            <a:ext cx="1440000" cy="6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7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hallenge to make water resource sustainability much more desirable than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Baywatch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8" name="baywatch" descr=""/>
          <p:cNvPicPr/>
          <p:nvPr/>
        </p:nvPicPr>
        <p:blipFill>
          <a:blip r:embed="rId1"/>
          <a:stretch/>
        </p:blipFill>
        <p:spPr>
          <a:xfrm>
            <a:off x="1295280" y="235080"/>
            <a:ext cx="5943600" cy="38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105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ments or Concern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0" name="lightbulb" descr=""/>
          <p:cNvPicPr/>
          <p:nvPr/>
        </p:nvPicPr>
        <p:blipFill>
          <a:blip r:embed="rId1"/>
          <a:stretch/>
        </p:blipFill>
        <p:spPr>
          <a:xfrm>
            <a:off x="2362320" y="690480"/>
            <a:ext cx="47624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ading/Viewing Lis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ational Council for Science and the Environment,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Water for a Sustainable and Secure Future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, Fourth National Conference on Science Policy and the Environment (2004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red Diamond,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Lessons from Environmental Collapses of Past Societie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, Chafee Memorial Lecture (2004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oth publications can be downloaded from: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1"/>
              </a:rPr>
              <a:t>http://www.ncseonline.org/Updates/page.cfm?FID=4202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man Polanski (director),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Chinatown (Film)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, Paramount Pictures (1974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bert Towne (Screenwriter),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Chinatown (Screenplay)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, Faber and Faber Ltd (2000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screenplay of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Chinatown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can be downloaded from: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2"/>
              </a:rPr>
              <a:t>http://members.aol.com/rwsmittjr/scripts/chinatown.txt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ading/Viewing List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continued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ita Colwell, et al, “Reduction of cholera in Bangladeshi villages by simple filtration.”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Proceedings of the</a:t>
            </a:r>
            <a:r>
              <a:rPr b="0" i="1" lang="en-US" sz="24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National Academy of Sciences, Vol. 100, No. 3, pp. 1051-1055, February 4, 2003.  Published online January 14, 2003: </a:t>
            </a:r>
            <a:r>
              <a:rPr b="0" i="1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1"/>
              </a:rPr>
              <a:t>http://www.pnas.org/cgi/content/full/100/3/1051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red Diamond,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Guns, Germs and Steel: The Fates of Human Societie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, Norton (1997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red Diamond,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Collapse: How Societies Choose to Fail or Succeed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, Viking (2004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rc Reisner,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Cadillac Desert: The American West and Its Disappearing Water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, Viking (1986), Revised Edition, Penguin Books (1993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ill Bryson,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A Short History of Nearly Everything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, Broadway Books (2003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143000" y="2629080"/>
            <a:ext cx="6858000" cy="1600200"/>
            <a:chOff x="1143000" y="2629080"/>
            <a:chExt cx="6858000" cy="1600200"/>
          </a:xfrm>
        </p:grpSpPr>
        <p:sp>
          <p:nvSpPr>
            <p:cNvPr id="126" name=""/>
            <p:cNvSpPr/>
            <p:nvPr/>
          </p:nvSpPr>
          <p:spPr>
            <a:xfrm>
              <a:off x="1143000" y="2629080"/>
              <a:ext cx="6858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1143000" y="2629080"/>
              <a:ext cx="1446120" cy="1600200"/>
              <a:chOff x="1143000" y="2629080"/>
              <a:chExt cx="1446120" cy="1600200"/>
            </a:xfrm>
          </p:grpSpPr>
          <p:sp>
            <p:nvSpPr>
              <p:cNvPr id="128" name=""/>
              <p:cNvSpPr/>
              <p:nvPr/>
            </p:nvSpPr>
            <p:spPr>
              <a:xfrm>
                <a:off x="1143000" y="2629080"/>
                <a:ext cx="1446120" cy="11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143000" y="2629080"/>
                <a:ext cx="1428840" cy="160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n-US" sz="9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                                                         </a:t>
                </a:r>
                <a:endParaRPr b="0" lang="en-US" sz="9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733560" y="2362320"/>
            <a:ext cx="2895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ural Are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ource: ponds, streams, springs, shallow well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ater scarce and difficult to acces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ater quality highly variable, subject to contamina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ack of even basic latrines, outhous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ducation, outreach and appropriate technology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711520" y="2239920"/>
            <a:ext cx="5616360" cy="360"/>
            <a:chOff x="2711520" y="2239920"/>
            <a:chExt cx="5616360" cy="360"/>
          </a:xfrm>
        </p:grpSpPr>
        <p:sp>
          <p:nvSpPr>
            <p:cNvPr id="50" name=""/>
            <p:cNvSpPr/>
            <p:nvPr/>
          </p:nvSpPr>
          <p:spPr>
            <a:xfrm>
              <a:off x="2711520" y="2239920"/>
              <a:ext cx="5616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711520" y="2239920"/>
              <a:ext cx="5616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714840" y="2343240"/>
            <a:ext cx="360" cy="360"/>
            <a:chOff x="3714840" y="2343240"/>
            <a:chExt cx="360" cy="360"/>
          </a:xfrm>
        </p:grpSpPr>
        <p:sp>
          <p:nvSpPr>
            <p:cNvPr id="53" name=""/>
            <p:cNvSpPr/>
            <p:nvPr/>
          </p:nvSpPr>
          <p:spPr>
            <a:xfrm>
              <a:off x="3714840" y="23432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714840" y="23432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3714840" y="2343240"/>
            <a:ext cx="1339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3714840" y="2343240"/>
            <a:ext cx="360" cy="360"/>
            <a:chOff x="3714840" y="2343240"/>
            <a:chExt cx="360" cy="360"/>
          </a:xfrm>
        </p:grpSpPr>
        <p:sp>
          <p:nvSpPr>
            <p:cNvPr id="57" name=""/>
            <p:cNvSpPr/>
            <p:nvPr/>
          </p:nvSpPr>
          <p:spPr>
            <a:xfrm>
              <a:off x="3714840" y="23432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714840" y="23432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3714840" y="2343240"/>
            <a:ext cx="1339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0" name="india_quake4" descr="water well"/>
          <p:cNvPicPr/>
          <p:nvPr/>
        </p:nvPicPr>
        <p:blipFill>
          <a:blip r:embed="rId1"/>
          <a:stretch/>
        </p:blipFill>
        <p:spPr>
          <a:xfrm>
            <a:off x="0" y="0"/>
            <a:ext cx="3809880" cy="2755800"/>
          </a:xfrm>
          <a:prstGeom prst="rect">
            <a:avLst/>
          </a:prstGeom>
          <a:ln w="0">
            <a:noFill/>
          </a:ln>
        </p:spPr>
      </p:pic>
      <p:grpSp>
        <p:nvGrpSpPr>
          <p:cNvPr id="61" name=""/>
          <p:cNvGrpSpPr/>
          <p:nvPr/>
        </p:nvGrpSpPr>
        <p:grpSpPr>
          <a:xfrm>
            <a:off x="2857680" y="2189160"/>
            <a:ext cx="4054320" cy="360"/>
            <a:chOff x="2857680" y="2189160"/>
            <a:chExt cx="4054320" cy="360"/>
          </a:xfrm>
        </p:grpSpPr>
        <p:sp>
          <p:nvSpPr>
            <p:cNvPr id="62" name=""/>
            <p:cNvSpPr/>
            <p:nvPr/>
          </p:nvSpPr>
          <p:spPr>
            <a:xfrm>
              <a:off x="2857680" y="2189160"/>
              <a:ext cx="4054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57680" y="2189160"/>
              <a:ext cx="4054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2720880" y="235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5" name="pic02" descr=""/>
          <p:cNvPicPr/>
          <p:nvPr/>
        </p:nvPicPr>
        <p:blipFill>
          <a:blip r:embed="rId2"/>
          <a:stretch/>
        </p:blipFill>
        <p:spPr>
          <a:xfrm>
            <a:off x="4876920" y="0"/>
            <a:ext cx="426708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rban Are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ublic Water Supply – Intermittent, barely adequate to inadequate quantit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arely adequate operation and inadequate to non-existent maintenanc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ater los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or water qualit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rban Areas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continued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Upper Classes – indoor plumbin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very house has water storage tank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int-of-use treatment devic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tled water for drinkin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rban Areas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continued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er Classes – inadequate o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on-existent indoor plumbin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ly on municipal taps on street corners or any other available sourc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ducation, outreach, water resource development, infrastructure, O&amp;M, conservation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036960" y="1982880"/>
            <a:ext cx="5616360" cy="360"/>
            <a:chOff x="3036960" y="1982880"/>
            <a:chExt cx="5616360" cy="360"/>
          </a:xfrm>
        </p:grpSpPr>
        <p:sp>
          <p:nvSpPr>
            <p:cNvPr id="73" name=""/>
            <p:cNvSpPr/>
            <p:nvPr/>
          </p:nvSpPr>
          <p:spPr>
            <a:xfrm>
              <a:off x="3036960" y="1982880"/>
              <a:ext cx="5616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036960" y="1982880"/>
              <a:ext cx="5616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pic>
        <p:nvPicPr>
          <p:cNvPr id="75" name="_39125516_childrenafp" descr="Indian street children fill buckets with water from a puddle on the side of the road in Bhopal"/>
          <p:cNvPicPr/>
          <p:nvPr/>
        </p:nvPicPr>
        <p:blipFill>
          <a:blip r:embed="rId1"/>
          <a:stretch/>
        </p:blipFill>
        <p:spPr>
          <a:xfrm>
            <a:off x="6095880" y="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baywatch_big" descr=""/>
          <p:cNvPicPr/>
          <p:nvPr/>
        </p:nvPicPr>
        <p:blipFill>
          <a:blip r:embed="rId1"/>
          <a:stretch/>
        </p:blipFill>
        <p:spPr>
          <a:xfrm>
            <a:off x="0" y="0"/>
            <a:ext cx="61578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248520" y="380880"/>
            <a:ext cx="26668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e number of people in the world who watch </a:t>
            </a:r>
            <a:r>
              <a:rPr b="0" i="1" lang="en-US" sz="4000" spc="-1" strike="noStrike">
                <a:solidFill>
                  <a:srgbClr val="ffff00"/>
                </a:solidFill>
                <a:latin typeface="Times New Roman"/>
              </a:rPr>
              <a:t>Baywatch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is larger than those with indoor plumbing!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62520" y="15235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rban Areas</a:t>
            </a:r>
            <a:br>
              <a:rPr sz="44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continued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astewater infrastructure even worse than water’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oor collection, treatment and disposa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Usually discharged with little or no treatmen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ublic health and environmental impac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80% of illnesses due to poor water quality and poor sanita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ducation, outreach, infrastructure, treatment and disposa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0" name="WHO-210952s" descr="ckick on picture for high resoluti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49568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B000022TSH.01.LZZZZZZZ" descr=""/>
          <p:cNvPicPr/>
          <p:nvPr/>
        </p:nvPicPr>
        <p:blipFill>
          <a:blip r:embed="rId1"/>
          <a:stretch/>
        </p:blipFill>
        <p:spPr>
          <a:xfrm>
            <a:off x="4343400" y="0"/>
            <a:ext cx="479268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93640" y="533520"/>
            <a:ext cx="3749760" cy="54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man Polanski’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CHINATOWN (1974)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 thought I was  keeping someone from being hurt, and actually I ended up making sure they were hurt.”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-J.J. “Jake” Gitt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creenplay by Robert Town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3" name="wwwseal" descr=""/>
          <p:cNvPicPr/>
          <p:nvPr/>
        </p:nvPicPr>
        <p:blipFill>
          <a:blip r:embed="rId2"/>
          <a:stretch/>
        </p:blipFill>
        <p:spPr>
          <a:xfrm>
            <a:off x="0" y="6200640"/>
            <a:ext cx="1440000" cy="6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9:23:19Z</dcterms:created>
  <dc:creator>bhattarair</dc:creator>
  <dc:description/>
  <dc:language>en-US</dc:language>
  <cp:lastModifiedBy>bhattarair</cp:lastModifiedBy>
  <dcterms:modified xsi:type="dcterms:W3CDTF">2005-02-03T21:05:58Z</dcterms:modified>
  <cp:revision>27</cp:revision>
  <dc:subject/>
  <dc:title>WATER RESOURCES SUSTAINABILITY ISSUES From Global to Local</dc:title>
</cp:coreProperties>
</file>