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6a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64AD1C-3478-4894-BFF9-996C8DA6A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sset condition and remaining life - proactive forecasting of renewal/re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probability of physical failure and therefore, ability to prioritize spending based o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asset value and comply with accounting standards such as GASB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a condition database to allow development of degradation decay curves for different materials based on different operational and installation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earch Priorities for Successful Asset Management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rch 2002 - WERF workshop identified 11 projects in order of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priority project identified was to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elop protocols for the assessing the condition and performance of water and wastewater infrastructure assets and develop predictive models for correlating asset condition and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op concluded that there were no standardized guidelines for conducting condition assessments and a lack of protocols that could help utilities understand asset condition and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and document broad range of available tools and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ractical guidance on how to incorporate these strategies into a utility's management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pe of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&amp; wastewater treatment, collection and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year time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available tools in water and wastewater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practices from other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best applicabl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programmatic approach for condition and performance assessment (schedule, resource n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ase studies that provide positive cost just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areas for futur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16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588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16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588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6280" y="202680"/>
            <a:ext cx="8337600" cy="29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916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588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244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916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588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6280" y="202680"/>
            <a:ext cx="8337600" cy="29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ight%20cit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4595760"/>
            <a:ext cx="9144000" cy="2279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3" name="TAG_logo" descr=""/>
          <p:cNvPicPr/>
          <p:nvPr/>
        </p:nvPicPr>
        <p:blipFill>
          <a:blip r:embed="rId3"/>
          <a:stretch/>
        </p:blipFill>
        <p:spPr>
          <a:xfrm>
            <a:off x="7704000" y="6191280"/>
            <a:ext cx="1177920" cy="477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423720" y="858960"/>
            <a:ext cx="8490240" cy="14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3760" y="744480"/>
            <a:ext cx="231840" cy="230400"/>
          </a:xfrm>
          <a:prstGeom prst="diamond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ityPostcard-forppt-dark" descr=""/>
          <p:cNvPicPr/>
          <p:nvPr/>
        </p:nvPicPr>
        <p:blipFill>
          <a:blip r:embed="rId2"/>
          <a:stretch/>
        </p:blipFill>
        <p:spPr>
          <a:xfrm>
            <a:off x="0" y="2139840"/>
            <a:ext cx="9144000" cy="4718160"/>
          </a:xfrm>
          <a:prstGeom prst="rect">
            <a:avLst/>
          </a:prstGeom>
          <a:ln w="0">
            <a:noFill/>
          </a:ln>
        </p:spPr>
      </p:pic>
      <p:pic>
        <p:nvPicPr>
          <p:cNvPr id="43" name="TAG_logo" descr=""/>
          <p:cNvPicPr/>
          <p:nvPr/>
        </p:nvPicPr>
        <p:blipFill>
          <a:blip r:embed="rId3"/>
          <a:stretch/>
        </p:blipFill>
        <p:spPr>
          <a:xfrm>
            <a:off x="392040" y="3808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6a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6a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b89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5b5b89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spcAft>
                <a:spcPts val="337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spcAft>
                <a:spcPts val="300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 Narrow"/>
              </a:rPr>
              <a:t>Fourth Outline Level</a:t>
            </a:r>
            <a:endParaRPr b="1" lang="en-US" sz="1600" spc="-1" strike="noStrike">
              <a:solidFill>
                <a:srgbClr val="5f5f5f"/>
              </a:solidFill>
              <a:latin typeface="Arial Narrow"/>
            </a:endParaRPr>
          </a:p>
          <a:p>
            <a:pPr lvl="4" marL="1828800" algn="ctr">
              <a:spcBef>
                <a:spcPts val="349"/>
              </a:spcBef>
              <a:spcAft>
                <a:spcPts val="264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4360" y="2106720"/>
            <a:ext cx="814716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6a"/>
                </a:solidFill>
                <a:latin typeface="Arial Black"/>
              </a:rPr>
              <a:t>Condition Assessments - </a:t>
            </a:r>
            <a:br>
              <a:rPr sz="2800"/>
            </a:br>
            <a:r>
              <a:rPr b="1" lang="en-US" sz="2800" spc="-1" strike="noStrike">
                <a:solidFill>
                  <a:srgbClr val="00266a"/>
                </a:solidFill>
                <a:latin typeface="Arial Black"/>
              </a:rPr>
              <a:t>a Key Component of Asset Management</a:t>
            </a:r>
            <a:br>
              <a:rPr sz="2800"/>
            </a:br>
            <a:r>
              <a:rPr b="1" i="1" lang="en-US" sz="2000" spc="-1" strike="noStrike">
                <a:solidFill>
                  <a:srgbClr val="00266a"/>
                </a:solidFill>
                <a:latin typeface="Arial Narrow"/>
              </a:rPr>
              <a:t>Better Management - Maintaining the Momentum</a:t>
            </a:r>
            <a:endParaRPr b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60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Tony Urquhar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February 2, 2005</a:t>
            </a:r>
            <a:endParaRPr b="1" i="1" lang="en-US" sz="18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213840"/>
            <a:ext cx="861048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Benefits of Condition Assessmen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2080" y="1236240"/>
            <a:ext cx="429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Understand remaining lif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orecast renewal/replacement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Assess probability of failur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ioritize spending based on risk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Determine asset valu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Comply with accounting standards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duce degradation decay curv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846440"/>
            <a:ext cx="1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00600" y="2133720"/>
            <a:ext cx="4191120" cy="2592360"/>
            <a:chOff x="4800600" y="2133720"/>
            <a:chExt cx="4191120" cy="2592360"/>
          </a:xfrm>
        </p:grpSpPr>
        <p:sp>
          <p:nvSpPr>
            <p:cNvPr id="95" name=""/>
            <p:cNvSpPr/>
            <p:nvPr/>
          </p:nvSpPr>
          <p:spPr>
            <a:xfrm>
              <a:off x="4800600" y="2133720"/>
              <a:ext cx="419112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854600" y="2362320"/>
              <a:ext cx="4038120" cy="2306520"/>
              <a:chOff x="4854600" y="2362320"/>
              <a:chExt cx="4038120" cy="2306520"/>
            </a:xfrm>
          </p:grpSpPr>
          <p:sp>
            <p:nvSpPr>
              <p:cNvPr id="97" name=""/>
              <p:cNvSpPr/>
              <p:nvPr/>
            </p:nvSpPr>
            <p:spPr>
              <a:xfrm>
                <a:off x="5353560" y="2407320"/>
                <a:ext cx="3537720" cy="1862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53560" y="2407320"/>
                <a:ext cx="3539160" cy="186408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53560" y="4242600"/>
                <a:ext cx="3537720" cy="27360"/>
              </a:xfrm>
              <a:custGeom>
                <a:avLst/>
                <a:gdLst/>
                <a:ahLst/>
                <a:rect l="l" t="t" r="r" b="b"/>
                <a:pathLst>
                  <a:path w="4918" h="41">
                    <a:moveTo>
                      <a:pt x="0" y="41"/>
                    </a:moveTo>
                    <a:lnTo>
                      <a:pt x="0" y="41"/>
                    </a:lnTo>
                    <a:lnTo>
                      <a:pt x="51" y="41"/>
                    </a:lnTo>
                    <a:lnTo>
                      <a:pt x="93" y="41"/>
                    </a:lnTo>
                    <a:lnTo>
                      <a:pt x="146" y="41"/>
                    </a:lnTo>
                    <a:lnTo>
                      <a:pt x="199" y="41"/>
                    </a:lnTo>
                    <a:lnTo>
                      <a:pt x="250" y="41"/>
                    </a:lnTo>
                    <a:lnTo>
                      <a:pt x="293" y="41"/>
                    </a:lnTo>
                    <a:lnTo>
                      <a:pt x="346" y="41"/>
                    </a:lnTo>
                    <a:lnTo>
                      <a:pt x="397" y="41"/>
                    </a:lnTo>
                    <a:lnTo>
                      <a:pt x="448" y="41"/>
                    </a:lnTo>
                    <a:lnTo>
                      <a:pt x="491" y="41"/>
                    </a:lnTo>
                    <a:lnTo>
                      <a:pt x="544" y="41"/>
                    </a:lnTo>
                    <a:lnTo>
                      <a:pt x="596" y="41"/>
                    </a:lnTo>
                    <a:lnTo>
                      <a:pt x="648" y="41"/>
                    </a:lnTo>
                    <a:lnTo>
                      <a:pt x="690" y="41"/>
                    </a:lnTo>
                    <a:lnTo>
                      <a:pt x="743" y="41"/>
                    </a:lnTo>
                    <a:lnTo>
                      <a:pt x="794" y="41"/>
                    </a:lnTo>
                    <a:lnTo>
                      <a:pt x="845" y="41"/>
                    </a:lnTo>
                    <a:lnTo>
                      <a:pt x="890" y="41"/>
                    </a:lnTo>
                    <a:lnTo>
                      <a:pt x="943" y="41"/>
                    </a:lnTo>
                    <a:lnTo>
                      <a:pt x="994" y="41"/>
                    </a:lnTo>
                    <a:lnTo>
                      <a:pt x="1045" y="41"/>
                    </a:lnTo>
                    <a:lnTo>
                      <a:pt x="1089" y="41"/>
                    </a:lnTo>
                    <a:lnTo>
                      <a:pt x="1141" y="41"/>
                    </a:lnTo>
                    <a:lnTo>
                      <a:pt x="1192" y="41"/>
                    </a:lnTo>
                    <a:lnTo>
                      <a:pt x="1245" y="41"/>
                    </a:lnTo>
                    <a:lnTo>
                      <a:pt x="1287" y="34"/>
                    </a:lnTo>
                    <a:lnTo>
                      <a:pt x="1340" y="34"/>
                    </a:lnTo>
                    <a:lnTo>
                      <a:pt x="1391" y="34"/>
                    </a:lnTo>
                    <a:lnTo>
                      <a:pt x="1444" y="34"/>
                    </a:lnTo>
                    <a:lnTo>
                      <a:pt x="1487" y="34"/>
                    </a:lnTo>
                    <a:lnTo>
                      <a:pt x="1538" y="34"/>
                    </a:lnTo>
                    <a:lnTo>
                      <a:pt x="1589" y="34"/>
                    </a:lnTo>
                    <a:lnTo>
                      <a:pt x="1642" y="34"/>
                    </a:lnTo>
                    <a:lnTo>
                      <a:pt x="1685" y="34"/>
                    </a:lnTo>
                    <a:lnTo>
                      <a:pt x="1737" y="34"/>
                    </a:lnTo>
                    <a:lnTo>
                      <a:pt x="1789" y="34"/>
                    </a:lnTo>
                    <a:lnTo>
                      <a:pt x="1841" y="34"/>
                    </a:lnTo>
                    <a:lnTo>
                      <a:pt x="1884" y="24"/>
                    </a:lnTo>
                    <a:lnTo>
                      <a:pt x="1935" y="24"/>
                    </a:lnTo>
                    <a:lnTo>
                      <a:pt x="1986" y="24"/>
                    </a:lnTo>
                    <a:lnTo>
                      <a:pt x="2039" y="24"/>
                    </a:lnTo>
                    <a:lnTo>
                      <a:pt x="2084" y="24"/>
                    </a:lnTo>
                    <a:lnTo>
                      <a:pt x="2135" y="24"/>
                    </a:lnTo>
                    <a:lnTo>
                      <a:pt x="2188" y="24"/>
                    </a:lnTo>
                    <a:lnTo>
                      <a:pt x="2239" y="24"/>
                    </a:lnTo>
                    <a:lnTo>
                      <a:pt x="2281" y="24"/>
                    </a:lnTo>
                    <a:lnTo>
                      <a:pt x="2333" y="24"/>
                    </a:lnTo>
                    <a:lnTo>
                      <a:pt x="2385" y="24"/>
                    </a:lnTo>
                    <a:lnTo>
                      <a:pt x="2437" y="24"/>
                    </a:lnTo>
                    <a:lnTo>
                      <a:pt x="2481" y="24"/>
                    </a:lnTo>
                    <a:lnTo>
                      <a:pt x="2532" y="24"/>
                    </a:lnTo>
                    <a:lnTo>
                      <a:pt x="2585" y="24"/>
                    </a:lnTo>
                    <a:lnTo>
                      <a:pt x="2636" y="24"/>
                    </a:lnTo>
                    <a:lnTo>
                      <a:pt x="2679" y="24"/>
                    </a:lnTo>
                    <a:lnTo>
                      <a:pt x="2730" y="24"/>
                    </a:lnTo>
                    <a:lnTo>
                      <a:pt x="2783" y="24"/>
                    </a:lnTo>
                    <a:lnTo>
                      <a:pt x="2834" y="24"/>
                    </a:lnTo>
                    <a:lnTo>
                      <a:pt x="2878" y="24"/>
                    </a:lnTo>
                    <a:lnTo>
                      <a:pt x="2930" y="24"/>
                    </a:lnTo>
                    <a:lnTo>
                      <a:pt x="2982" y="24"/>
                    </a:lnTo>
                    <a:lnTo>
                      <a:pt x="3034" y="24"/>
                    </a:lnTo>
                    <a:lnTo>
                      <a:pt x="3076" y="24"/>
                    </a:lnTo>
                    <a:lnTo>
                      <a:pt x="3129" y="24"/>
                    </a:lnTo>
                    <a:lnTo>
                      <a:pt x="3180" y="24"/>
                    </a:lnTo>
                    <a:lnTo>
                      <a:pt x="3233" y="24"/>
                    </a:lnTo>
                    <a:lnTo>
                      <a:pt x="3276" y="24"/>
                    </a:lnTo>
                    <a:lnTo>
                      <a:pt x="3329" y="24"/>
                    </a:lnTo>
                    <a:lnTo>
                      <a:pt x="3380" y="24"/>
                    </a:lnTo>
                    <a:lnTo>
                      <a:pt x="3431" y="24"/>
                    </a:lnTo>
                    <a:lnTo>
                      <a:pt x="3474" y="34"/>
                    </a:lnTo>
                    <a:lnTo>
                      <a:pt x="3526" y="34"/>
                    </a:lnTo>
                    <a:lnTo>
                      <a:pt x="3578" y="34"/>
                    </a:lnTo>
                    <a:lnTo>
                      <a:pt x="3630" y="34"/>
                    </a:lnTo>
                    <a:lnTo>
                      <a:pt x="3673" y="34"/>
                    </a:lnTo>
                    <a:lnTo>
                      <a:pt x="3726" y="34"/>
                    </a:lnTo>
                    <a:lnTo>
                      <a:pt x="3777" y="34"/>
                    </a:lnTo>
                    <a:lnTo>
                      <a:pt x="3828" y="34"/>
                    </a:lnTo>
                    <a:lnTo>
                      <a:pt x="3871" y="34"/>
                    </a:lnTo>
                    <a:lnTo>
                      <a:pt x="3924" y="34"/>
                    </a:lnTo>
                    <a:lnTo>
                      <a:pt x="3975" y="34"/>
                    </a:lnTo>
                    <a:lnTo>
                      <a:pt x="4028" y="34"/>
                    </a:lnTo>
                    <a:lnTo>
                      <a:pt x="4072" y="34"/>
                    </a:lnTo>
                    <a:lnTo>
                      <a:pt x="4123" y="34"/>
                    </a:lnTo>
                    <a:lnTo>
                      <a:pt x="4174" y="34"/>
                    </a:lnTo>
                    <a:lnTo>
                      <a:pt x="4226" y="24"/>
                    </a:lnTo>
                    <a:lnTo>
                      <a:pt x="4270" y="24"/>
                    </a:lnTo>
                    <a:lnTo>
                      <a:pt x="4321" y="24"/>
                    </a:lnTo>
                    <a:lnTo>
                      <a:pt x="4374" y="24"/>
                    </a:lnTo>
                    <a:lnTo>
                      <a:pt x="4427" y="24"/>
                    </a:lnTo>
                    <a:lnTo>
                      <a:pt x="4469" y="24"/>
                    </a:lnTo>
                    <a:lnTo>
                      <a:pt x="4521" y="17"/>
                    </a:lnTo>
                    <a:lnTo>
                      <a:pt x="4572" y="17"/>
                    </a:lnTo>
                    <a:lnTo>
                      <a:pt x="4625" y="17"/>
                    </a:lnTo>
                    <a:lnTo>
                      <a:pt x="4667" y="9"/>
                    </a:lnTo>
                    <a:lnTo>
                      <a:pt x="4718" y="9"/>
                    </a:lnTo>
                    <a:lnTo>
                      <a:pt x="4771" y="9"/>
                    </a:lnTo>
                    <a:lnTo>
                      <a:pt x="4824" y="0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41"/>
                    </a:lnTo>
                    <a:lnTo>
                      <a:pt x="4867" y="41"/>
                    </a:lnTo>
                    <a:lnTo>
                      <a:pt x="4824" y="41"/>
                    </a:lnTo>
                    <a:lnTo>
                      <a:pt x="4771" y="41"/>
                    </a:lnTo>
                    <a:lnTo>
                      <a:pt x="4718" y="41"/>
                    </a:lnTo>
                    <a:lnTo>
                      <a:pt x="4667" y="41"/>
                    </a:lnTo>
                    <a:lnTo>
                      <a:pt x="4625" y="41"/>
                    </a:lnTo>
                    <a:lnTo>
                      <a:pt x="4572" y="41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41"/>
                    </a:lnTo>
                    <a:lnTo>
                      <a:pt x="4374" y="41"/>
                    </a:lnTo>
                    <a:lnTo>
                      <a:pt x="4321" y="41"/>
                    </a:lnTo>
                    <a:lnTo>
                      <a:pt x="4270" y="41"/>
                    </a:lnTo>
                    <a:lnTo>
                      <a:pt x="4226" y="41"/>
                    </a:lnTo>
                    <a:lnTo>
                      <a:pt x="4174" y="41"/>
                    </a:lnTo>
                    <a:lnTo>
                      <a:pt x="4123" y="41"/>
                    </a:lnTo>
                    <a:lnTo>
                      <a:pt x="4072" y="41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41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41"/>
                    </a:lnTo>
                    <a:lnTo>
                      <a:pt x="3578" y="41"/>
                    </a:lnTo>
                    <a:lnTo>
                      <a:pt x="3526" y="41"/>
                    </a:lnTo>
                    <a:lnTo>
                      <a:pt x="3474" y="41"/>
                    </a:lnTo>
                    <a:lnTo>
                      <a:pt x="3431" y="41"/>
                    </a:lnTo>
                    <a:lnTo>
                      <a:pt x="3380" y="41"/>
                    </a:lnTo>
                    <a:lnTo>
                      <a:pt x="3329" y="41"/>
                    </a:lnTo>
                    <a:lnTo>
                      <a:pt x="3276" y="41"/>
                    </a:lnTo>
                    <a:lnTo>
                      <a:pt x="3233" y="41"/>
                    </a:lnTo>
                    <a:lnTo>
                      <a:pt x="3180" y="41"/>
                    </a:lnTo>
                    <a:lnTo>
                      <a:pt x="3129" y="41"/>
                    </a:lnTo>
                    <a:lnTo>
                      <a:pt x="3076" y="41"/>
                    </a:lnTo>
                    <a:lnTo>
                      <a:pt x="3034" y="41"/>
                    </a:lnTo>
                    <a:lnTo>
                      <a:pt x="2982" y="41"/>
                    </a:lnTo>
                    <a:lnTo>
                      <a:pt x="2930" y="41"/>
                    </a:lnTo>
                    <a:lnTo>
                      <a:pt x="2878" y="41"/>
                    </a:lnTo>
                    <a:lnTo>
                      <a:pt x="2834" y="41"/>
                    </a:lnTo>
                    <a:lnTo>
                      <a:pt x="2783" y="41"/>
                    </a:lnTo>
                    <a:lnTo>
                      <a:pt x="2730" y="41"/>
                    </a:lnTo>
                    <a:lnTo>
                      <a:pt x="2679" y="41"/>
                    </a:lnTo>
                    <a:lnTo>
                      <a:pt x="2636" y="41"/>
                    </a:lnTo>
                    <a:lnTo>
                      <a:pt x="2585" y="41"/>
                    </a:lnTo>
                    <a:lnTo>
                      <a:pt x="2532" y="41"/>
                    </a:lnTo>
                    <a:lnTo>
                      <a:pt x="2481" y="41"/>
                    </a:lnTo>
                    <a:lnTo>
                      <a:pt x="2437" y="41"/>
                    </a:lnTo>
                    <a:lnTo>
                      <a:pt x="2385" y="41"/>
                    </a:lnTo>
                    <a:lnTo>
                      <a:pt x="2333" y="41"/>
                    </a:lnTo>
                    <a:lnTo>
                      <a:pt x="2281" y="41"/>
                    </a:lnTo>
                    <a:lnTo>
                      <a:pt x="2239" y="41"/>
                    </a:lnTo>
                    <a:lnTo>
                      <a:pt x="2188" y="41"/>
                    </a:lnTo>
                    <a:lnTo>
                      <a:pt x="2135" y="41"/>
                    </a:lnTo>
                    <a:lnTo>
                      <a:pt x="2084" y="41"/>
                    </a:lnTo>
                    <a:lnTo>
                      <a:pt x="2039" y="41"/>
                    </a:lnTo>
                    <a:lnTo>
                      <a:pt x="1986" y="41"/>
                    </a:lnTo>
                    <a:lnTo>
                      <a:pt x="1935" y="41"/>
                    </a:lnTo>
                    <a:lnTo>
                      <a:pt x="1884" y="41"/>
                    </a:lnTo>
                    <a:lnTo>
                      <a:pt x="1841" y="41"/>
                    </a:lnTo>
                    <a:lnTo>
                      <a:pt x="1789" y="41"/>
                    </a:lnTo>
                    <a:lnTo>
                      <a:pt x="1737" y="41"/>
                    </a:lnTo>
                    <a:lnTo>
                      <a:pt x="1685" y="41"/>
                    </a:lnTo>
                    <a:lnTo>
                      <a:pt x="1642" y="41"/>
                    </a:lnTo>
                    <a:lnTo>
                      <a:pt x="1589" y="41"/>
                    </a:lnTo>
                    <a:lnTo>
                      <a:pt x="1538" y="41"/>
                    </a:lnTo>
                    <a:lnTo>
                      <a:pt x="1487" y="41"/>
                    </a:lnTo>
                    <a:lnTo>
                      <a:pt x="1444" y="41"/>
                    </a:lnTo>
                    <a:lnTo>
                      <a:pt x="1391" y="41"/>
                    </a:lnTo>
                    <a:lnTo>
                      <a:pt x="1340" y="41"/>
                    </a:lnTo>
                    <a:lnTo>
                      <a:pt x="1287" y="41"/>
                    </a:lnTo>
                    <a:lnTo>
                      <a:pt x="1245" y="41"/>
                    </a:lnTo>
                    <a:lnTo>
                      <a:pt x="1192" y="41"/>
                    </a:lnTo>
                    <a:lnTo>
                      <a:pt x="1141" y="41"/>
                    </a:lnTo>
                    <a:lnTo>
                      <a:pt x="1089" y="41"/>
                    </a:lnTo>
                    <a:lnTo>
                      <a:pt x="1045" y="41"/>
                    </a:lnTo>
                    <a:lnTo>
                      <a:pt x="994" y="41"/>
                    </a:lnTo>
                    <a:lnTo>
                      <a:pt x="943" y="41"/>
                    </a:lnTo>
                    <a:lnTo>
                      <a:pt x="890" y="41"/>
                    </a:lnTo>
                    <a:lnTo>
                      <a:pt x="845" y="41"/>
                    </a:lnTo>
                    <a:lnTo>
                      <a:pt x="794" y="41"/>
                    </a:lnTo>
                    <a:lnTo>
                      <a:pt x="743" y="41"/>
                    </a:lnTo>
                    <a:lnTo>
                      <a:pt x="690" y="41"/>
                    </a:lnTo>
                    <a:lnTo>
                      <a:pt x="648" y="41"/>
                    </a:lnTo>
                    <a:lnTo>
                      <a:pt x="596" y="41"/>
                    </a:lnTo>
                    <a:lnTo>
                      <a:pt x="544" y="41"/>
                    </a:lnTo>
                    <a:lnTo>
                      <a:pt x="491" y="41"/>
                    </a:lnTo>
                    <a:lnTo>
                      <a:pt x="448" y="41"/>
                    </a:lnTo>
                    <a:lnTo>
                      <a:pt x="397" y="41"/>
                    </a:lnTo>
                    <a:lnTo>
                      <a:pt x="346" y="41"/>
                    </a:lnTo>
                    <a:lnTo>
                      <a:pt x="293" y="41"/>
                    </a:lnTo>
                    <a:lnTo>
                      <a:pt x="250" y="41"/>
                    </a:lnTo>
                    <a:lnTo>
                      <a:pt x="199" y="41"/>
                    </a:lnTo>
                    <a:lnTo>
                      <a:pt x="146" y="41"/>
                    </a:lnTo>
                    <a:lnTo>
                      <a:pt x="93" y="41"/>
                    </a:lnTo>
                    <a:lnTo>
                      <a:pt x="5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53560" y="4186080"/>
                <a:ext cx="3537720" cy="83520"/>
              </a:xfrm>
              <a:custGeom>
                <a:avLst/>
                <a:gdLst/>
                <a:ahLst/>
                <a:rect l="l" t="t" r="r" b="b"/>
                <a:pathLst>
                  <a:path w="4918" h="123">
                    <a:moveTo>
                      <a:pt x="0" y="123"/>
                    </a:moveTo>
                    <a:lnTo>
                      <a:pt x="0" y="116"/>
                    </a:lnTo>
                    <a:lnTo>
                      <a:pt x="51" y="116"/>
                    </a:lnTo>
                    <a:lnTo>
                      <a:pt x="93" y="116"/>
                    </a:lnTo>
                    <a:lnTo>
                      <a:pt x="146" y="116"/>
                    </a:lnTo>
                    <a:lnTo>
                      <a:pt x="199" y="106"/>
                    </a:lnTo>
                    <a:lnTo>
                      <a:pt x="250" y="106"/>
                    </a:lnTo>
                    <a:lnTo>
                      <a:pt x="293" y="106"/>
                    </a:lnTo>
                    <a:lnTo>
                      <a:pt x="346" y="99"/>
                    </a:lnTo>
                    <a:lnTo>
                      <a:pt x="397" y="91"/>
                    </a:lnTo>
                    <a:lnTo>
                      <a:pt x="448" y="82"/>
                    </a:lnTo>
                    <a:lnTo>
                      <a:pt x="491" y="67"/>
                    </a:lnTo>
                    <a:lnTo>
                      <a:pt x="544" y="49"/>
                    </a:lnTo>
                    <a:lnTo>
                      <a:pt x="596" y="34"/>
                    </a:lnTo>
                    <a:lnTo>
                      <a:pt x="648" y="17"/>
                    </a:lnTo>
                    <a:lnTo>
                      <a:pt x="690" y="9"/>
                    </a:lnTo>
                    <a:lnTo>
                      <a:pt x="743" y="0"/>
                    </a:lnTo>
                    <a:lnTo>
                      <a:pt x="794" y="9"/>
                    </a:lnTo>
                    <a:lnTo>
                      <a:pt x="845" y="24"/>
                    </a:lnTo>
                    <a:lnTo>
                      <a:pt x="890" y="49"/>
                    </a:lnTo>
                    <a:lnTo>
                      <a:pt x="943" y="67"/>
                    </a:lnTo>
                    <a:lnTo>
                      <a:pt x="994" y="82"/>
                    </a:lnTo>
                    <a:lnTo>
                      <a:pt x="1045" y="99"/>
                    </a:lnTo>
                    <a:lnTo>
                      <a:pt x="1089" y="106"/>
                    </a:lnTo>
                    <a:lnTo>
                      <a:pt x="1141" y="106"/>
                    </a:lnTo>
                    <a:lnTo>
                      <a:pt x="1192" y="106"/>
                    </a:lnTo>
                    <a:lnTo>
                      <a:pt x="1245" y="106"/>
                    </a:lnTo>
                    <a:lnTo>
                      <a:pt x="1287" y="106"/>
                    </a:lnTo>
                    <a:lnTo>
                      <a:pt x="1340" y="106"/>
                    </a:lnTo>
                    <a:lnTo>
                      <a:pt x="1391" y="106"/>
                    </a:lnTo>
                    <a:lnTo>
                      <a:pt x="1444" y="106"/>
                    </a:lnTo>
                    <a:lnTo>
                      <a:pt x="1487" y="99"/>
                    </a:lnTo>
                    <a:lnTo>
                      <a:pt x="1538" y="99"/>
                    </a:lnTo>
                    <a:lnTo>
                      <a:pt x="1589" y="99"/>
                    </a:lnTo>
                    <a:lnTo>
                      <a:pt x="1642" y="99"/>
                    </a:lnTo>
                    <a:lnTo>
                      <a:pt x="1685" y="99"/>
                    </a:lnTo>
                    <a:lnTo>
                      <a:pt x="1737" y="99"/>
                    </a:lnTo>
                    <a:lnTo>
                      <a:pt x="1789" y="99"/>
                    </a:lnTo>
                    <a:lnTo>
                      <a:pt x="1841" y="91"/>
                    </a:lnTo>
                    <a:lnTo>
                      <a:pt x="1884" y="91"/>
                    </a:lnTo>
                    <a:lnTo>
                      <a:pt x="1935" y="82"/>
                    </a:lnTo>
                    <a:lnTo>
                      <a:pt x="1986" y="75"/>
                    </a:lnTo>
                    <a:lnTo>
                      <a:pt x="2039" y="58"/>
                    </a:lnTo>
                    <a:lnTo>
                      <a:pt x="2084" y="49"/>
                    </a:lnTo>
                    <a:lnTo>
                      <a:pt x="2135" y="41"/>
                    </a:lnTo>
                    <a:lnTo>
                      <a:pt x="2188" y="41"/>
                    </a:lnTo>
                    <a:lnTo>
                      <a:pt x="2239" y="34"/>
                    </a:lnTo>
                    <a:lnTo>
                      <a:pt x="2281" y="34"/>
                    </a:lnTo>
                    <a:lnTo>
                      <a:pt x="2333" y="41"/>
                    </a:lnTo>
                    <a:lnTo>
                      <a:pt x="2385" y="49"/>
                    </a:lnTo>
                    <a:lnTo>
                      <a:pt x="2437" y="58"/>
                    </a:lnTo>
                    <a:lnTo>
                      <a:pt x="2481" y="67"/>
                    </a:lnTo>
                    <a:lnTo>
                      <a:pt x="2532" y="67"/>
                    </a:lnTo>
                    <a:lnTo>
                      <a:pt x="2585" y="75"/>
                    </a:lnTo>
                    <a:lnTo>
                      <a:pt x="2636" y="82"/>
                    </a:lnTo>
                    <a:lnTo>
                      <a:pt x="2679" y="82"/>
                    </a:lnTo>
                    <a:lnTo>
                      <a:pt x="2730" y="82"/>
                    </a:lnTo>
                    <a:lnTo>
                      <a:pt x="2783" y="82"/>
                    </a:lnTo>
                    <a:lnTo>
                      <a:pt x="2834" y="82"/>
                    </a:lnTo>
                    <a:lnTo>
                      <a:pt x="2878" y="82"/>
                    </a:lnTo>
                    <a:lnTo>
                      <a:pt x="2930" y="82"/>
                    </a:lnTo>
                    <a:lnTo>
                      <a:pt x="2982" y="82"/>
                    </a:lnTo>
                    <a:lnTo>
                      <a:pt x="3034" y="75"/>
                    </a:lnTo>
                    <a:lnTo>
                      <a:pt x="3076" y="75"/>
                    </a:lnTo>
                    <a:lnTo>
                      <a:pt x="3129" y="75"/>
                    </a:lnTo>
                    <a:lnTo>
                      <a:pt x="3180" y="75"/>
                    </a:lnTo>
                    <a:lnTo>
                      <a:pt x="3233" y="75"/>
                    </a:lnTo>
                    <a:lnTo>
                      <a:pt x="3276" y="75"/>
                    </a:lnTo>
                    <a:lnTo>
                      <a:pt x="3329" y="75"/>
                    </a:lnTo>
                    <a:lnTo>
                      <a:pt x="3380" y="67"/>
                    </a:lnTo>
                    <a:lnTo>
                      <a:pt x="3431" y="67"/>
                    </a:lnTo>
                    <a:lnTo>
                      <a:pt x="3474" y="58"/>
                    </a:lnTo>
                    <a:lnTo>
                      <a:pt x="3526" y="58"/>
                    </a:lnTo>
                    <a:lnTo>
                      <a:pt x="3578" y="49"/>
                    </a:lnTo>
                    <a:lnTo>
                      <a:pt x="3630" y="49"/>
                    </a:lnTo>
                    <a:lnTo>
                      <a:pt x="3673" y="49"/>
                    </a:lnTo>
                    <a:lnTo>
                      <a:pt x="3726" y="49"/>
                    </a:lnTo>
                    <a:lnTo>
                      <a:pt x="3777" y="49"/>
                    </a:lnTo>
                    <a:lnTo>
                      <a:pt x="3828" y="58"/>
                    </a:lnTo>
                    <a:lnTo>
                      <a:pt x="3871" y="58"/>
                    </a:lnTo>
                    <a:lnTo>
                      <a:pt x="3924" y="67"/>
                    </a:lnTo>
                    <a:lnTo>
                      <a:pt x="3975" y="67"/>
                    </a:lnTo>
                    <a:lnTo>
                      <a:pt x="4028" y="75"/>
                    </a:lnTo>
                    <a:lnTo>
                      <a:pt x="4072" y="82"/>
                    </a:lnTo>
                    <a:lnTo>
                      <a:pt x="4123" y="82"/>
                    </a:lnTo>
                    <a:lnTo>
                      <a:pt x="4174" y="91"/>
                    </a:lnTo>
                    <a:lnTo>
                      <a:pt x="4226" y="91"/>
                    </a:lnTo>
                    <a:lnTo>
                      <a:pt x="4270" y="91"/>
                    </a:lnTo>
                    <a:lnTo>
                      <a:pt x="4321" y="99"/>
                    </a:lnTo>
                    <a:lnTo>
                      <a:pt x="4374" y="99"/>
                    </a:lnTo>
                    <a:lnTo>
                      <a:pt x="4427" y="91"/>
                    </a:lnTo>
                    <a:lnTo>
                      <a:pt x="4469" y="91"/>
                    </a:lnTo>
                    <a:lnTo>
                      <a:pt x="4521" y="91"/>
                    </a:lnTo>
                    <a:lnTo>
                      <a:pt x="4572" y="82"/>
                    </a:lnTo>
                    <a:lnTo>
                      <a:pt x="4625" y="82"/>
                    </a:lnTo>
                    <a:lnTo>
                      <a:pt x="4667" y="75"/>
                    </a:lnTo>
                    <a:lnTo>
                      <a:pt x="4718" y="75"/>
                    </a:lnTo>
                    <a:lnTo>
                      <a:pt x="4771" y="67"/>
                    </a:lnTo>
                    <a:lnTo>
                      <a:pt x="4824" y="58"/>
                    </a:lnTo>
                    <a:lnTo>
                      <a:pt x="4867" y="49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91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106"/>
                    </a:lnTo>
                    <a:lnTo>
                      <a:pt x="4427" y="106"/>
                    </a:lnTo>
                    <a:lnTo>
                      <a:pt x="4374" y="106"/>
                    </a:lnTo>
                    <a:lnTo>
                      <a:pt x="4321" y="106"/>
                    </a:lnTo>
                    <a:lnTo>
                      <a:pt x="4270" y="106"/>
                    </a:lnTo>
                    <a:lnTo>
                      <a:pt x="4226" y="106"/>
                    </a:lnTo>
                    <a:lnTo>
                      <a:pt x="4174" y="116"/>
                    </a:lnTo>
                    <a:lnTo>
                      <a:pt x="4123" y="116"/>
                    </a:lnTo>
                    <a:lnTo>
                      <a:pt x="4072" y="116"/>
                    </a:lnTo>
                    <a:lnTo>
                      <a:pt x="4028" y="116"/>
                    </a:lnTo>
                    <a:lnTo>
                      <a:pt x="3975" y="116"/>
                    </a:lnTo>
                    <a:lnTo>
                      <a:pt x="3924" y="116"/>
                    </a:lnTo>
                    <a:lnTo>
                      <a:pt x="3871" y="116"/>
                    </a:lnTo>
                    <a:lnTo>
                      <a:pt x="3828" y="116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16"/>
                    </a:lnTo>
                    <a:lnTo>
                      <a:pt x="3474" y="116"/>
                    </a:lnTo>
                    <a:lnTo>
                      <a:pt x="3431" y="106"/>
                    </a:lnTo>
                    <a:lnTo>
                      <a:pt x="3380" y="106"/>
                    </a:lnTo>
                    <a:lnTo>
                      <a:pt x="3329" y="106"/>
                    </a:lnTo>
                    <a:lnTo>
                      <a:pt x="3276" y="106"/>
                    </a:lnTo>
                    <a:lnTo>
                      <a:pt x="3233" y="106"/>
                    </a:lnTo>
                    <a:lnTo>
                      <a:pt x="3180" y="106"/>
                    </a:lnTo>
                    <a:lnTo>
                      <a:pt x="3129" y="106"/>
                    </a:lnTo>
                    <a:lnTo>
                      <a:pt x="3076" y="106"/>
                    </a:lnTo>
                    <a:lnTo>
                      <a:pt x="3034" y="106"/>
                    </a:lnTo>
                    <a:lnTo>
                      <a:pt x="2982" y="106"/>
                    </a:lnTo>
                    <a:lnTo>
                      <a:pt x="2930" y="106"/>
                    </a:lnTo>
                    <a:lnTo>
                      <a:pt x="2878" y="106"/>
                    </a:lnTo>
                    <a:lnTo>
                      <a:pt x="2834" y="106"/>
                    </a:lnTo>
                    <a:lnTo>
                      <a:pt x="2783" y="106"/>
                    </a:lnTo>
                    <a:lnTo>
                      <a:pt x="2730" y="106"/>
                    </a:lnTo>
                    <a:lnTo>
                      <a:pt x="2679" y="106"/>
                    </a:lnTo>
                    <a:lnTo>
                      <a:pt x="2636" y="106"/>
                    </a:lnTo>
                    <a:lnTo>
                      <a:pt x="2585" y="106"/>
                    </a:lnTo>
                    <a:lnTo>
                      <a:pt x="2532" y="106"/>
                    </a:lnTo>
                    <a:lnTo>
                      <a:pt x="2481" y="106"/>
                    </a:lnTo>
                    <a:lnTo>
                      <a:pt x="2437" y="106"/>
                    </a:lnTo>
                    <a:lnTo>
                      <a:pt x="2385" y="106"/>
                    </a:lnTo>
                    <a:lnTo>
                      <a:pt x="2333" y="106"/>
                    </a:lnTo>
                    <a:lnTo>
                      <a:pt x="2281" y="106"/>
                    </a:lnTo>
                    <a:lnTo>
                      <a:pt x="2239" y="106"/>
                    </a:lnTo>
                    <a:lnTo>
                      <a:pt x="2188" y="106"/>
                    </a:lnTo>
                    <a:lnTo>
                      <a:pt x="2135" y="106"/>
                    </a:lnTo>
                    <a:lnTo>
                      <a:pt x="2084" y="106"/>
                    </a:lnTo>
                    <a:lnTo>
                      <a:pt x="2039" y="106"/>
                    </a:lnTo>
                    <a:lnTo>
                      <a:pt x="1986" y="106"/>
                    </a:lnTo>
                    <a:lnTo>
                      <a:pt x="1935" y="106"/>
                    </a:lnTo>
                    <a:lnTo>
                      <a:pt x="1884" y="106"/>
                    </a:lnTo>
                    <a:lnTo>
                      <a:pt x="1841" y="116"/>
                    </a:lnTo>
                    <a:lnTo>
                      <a:pt x="1789" y="116"/>
                    </a:lnTo>
                    <a:lnTo>
                      <a:pt x="1737" y="116"/>
                    </a:lnTo>
                    <a:lnTo>
                      <a:pt x="1685" y="116"/>
                    </a:lnTo>
                    <a:lnTo>
                      <a:pt x="1642" y="116"/>
                    </a:lnTo>
                    <a:lnTo>
                      <a:pt x="1589" y="116"/>
                    </a:lnTo>
                    <a:lnTo>
                      <a:pt x="1538" y="116"/>
                    </a:lnTo>
                    <a:lnTo>
                      <a:pt x="1487" y="116"/>
                    </a:lnTo>
                    <a:lnTo>
                      <a:pt x="1444" y="116"/>
                    </a:lnTo>
                    <a:lnTo>
                      <a:pt x="1391" y="116"/>
                    </a:lnTo>
                    <a:lnTo>
                      <a:pt x="1340" y="116"/>
                    </a:lnTo>
                    <a:lnTo>
                      <a:pt x="1287" y="116"/>
                    </a:lnTo>
                    <a:lnTo>
                      <a:pt x="1245" y="123"/>
                    </a:lnTo>
                    <a:lnTo>
                      <a:pt x="1192" y="123"/>
                    </a:lnTo>
                    <a:lnTo>
                      <a:pt x="1141" y="123"/>
                    </a:lnTo>
                    <a:lnTo>
                      <a:pt x="1089" y="123"/>
                    </a:lnTo>
                    <a:lnTo>
                      <a:pt x="1045" y="123"/>
                    </a:lnTo>
                    <a:lnTo>
                      <a:pt x="994" y="123"/>
                    </a:lnTo>
                    <a:lnTo>
                      <a:pt x="943" y="123"/>
                    </a:lnTo>
                    <a:lnTo>
                      <a:pt x="890" y="123"/>
                    </a:lnTo>
                    <a:lnTo>
                      <a:pt x="845" y="123"/>
                    </a:lnTo>
                    <a:lnTo>
                      <a:pt x="794" y="123"/>
                    </a:lnTo>
                    <a:lnTo>
                      <a:pt x="743" y="123"/>
                    </a:lnTo>
                    <a:lnTo>
                      <a:pt x="690" y="123"/>
                    </a:lnTo>
                    <a:lnTo>
                      <a:pt x="648" y="123"/>
                    </a:lnTo>
                    <a:lnTo>
                      <a:pt x="596" y="123"/>
                    </a:lnTo>
                    <a:lnTo>
                      <a:pt x="544" y="123"/>
                    </a:lnTo>
                    <a:lnTo>
                      <a:pt x="491" y="123"/>
                    </a:lnTo>
                    <a:lnTo>
                      <a:pt x="448" y="123"/>
                    </a:lnTo>
                    <a:lnTo>
                      <a:pt x="397" y="123"/>
                    </a:lnTo>
                    <a:lnTo>
                      <a:pt x="346" y="123"/>
                    </a:lnTo>
                    <a:lnTo>
                      <a:pt x="293" y="123"/>
                    </a:lnTo>
                    <a:lnTo>
                      <a:pt x="250" y="123"/>
                    </a:lnTo>
                    <a:lnTo>
                      <a:pt x="199" y="123"/>
                    </a:lnTo>
                    <a:lnTo>
                      <a:pt x="146" y="123"/>
                    </a:lnTo>
                    <a:lnTo>
                      <a:pt x="93" y="123"/>
                    </a:lnTo>
                    <a:lnTo>
                      <a:pt x="51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108"/>
                    </a:lnTo>
                    <a:lnTo>
                      <a:pt x="4867" y="116"/>
                    </a:lnTo>
                    <a:lnTo>
                      <a:pt x="4824" y="125"/>
                    </a:lnTo>
                    <a:lnTo>
                      <a:pt x="4771" y="132"/>
                    </a:lnTo>
                    <a:lnTo>
                      <a:pt x="4718" y="140"/>
                    </a:lnTo>
                    <a:lnTo>
                      <a:pt x="4667" y="140"/>
                    </a:lnTo>
                    <a:lnTo>
                      <a:pt x="4625" y="149"/>
                    </a:lnTo>
                    <a:lnTo>
                      <a:pt x="4572" y="149"/>
                    </a:lnTo>
                    <a:lnTo>
                      <a:pt x="4521" y="158"/>
                    </a:lnTo>
                    <a:lnTo>
                      <a:pt x="4469" y="158"/>
                    </a:lnTo>
                    <a:lnTo>
                      <a:pt x="4427" y="158"/>
                    </a:lnTo>
                    <a:lnTo>
                      <a:pt x="4374" y="166"/>
                    </a:lnTo>
                    <a:lnTo>
                      <a:pt x="4321" y="166"/>
                    </a:lnTo>
                    <a:lnTo>
                      <a:pt x="4270" y="158"/>
                    </a:lnTo>
                    <a:lnTo>
                      <a:pt x="4226" y="158"/>
                    </a:lnTo>
                    <a:lnTo>
                      <a:pt x="4174" y="158"/>
                    </a:lnTo>
                    <a:lnTo>
                      <a:pt x="4123" y="149"/>
                    </a:lnTo>
                    <a:lnTo>
                      <a:pt x="4072" y="149"/>
                    </a:lnTo>
                    <a:lnTo>
                      <a:pt x="4028" y="140"/>
                    </a:lnTo>
                    <a:lnTo>
                      <a:pt x="3975" y="132"/>
                    </a:lnTo>
                    <a:lnTo>
                      <a:pt x="3924" y="132"/>
                    </a:lnTo>
                    <a:lnTo>
                      <a:pt x="3871" y="125"/>
                    </a:lnTo>
                    <a:lnTo>
                      <a:pt x="3828" y="125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25"/>
                    </a:lnTo>
                    <a:lnTo>
                      <a:pt x="3474" y="125"/>
                    </a:lnTo>
                    <a:lnTo>
                      <a:pt x="3431" y="132"/>
                    </a:lnTo>
                    <a:lnTo>
                      <a:pt x="3380" y="132"/>
                    </a:lnTo>
                    <a:lnTo>
                      <a:pt x="3329" y="140"/>
                    </a:lnTo>
                    <a:lnTo>
                      <a:pt x="3276" y="140"/>
                    </a:lnTo>
                    <a:lnTo>
                      <a:pt x="3233" y="140"/>
                    </a:lnTo>
                    <a:lnTo>
                      <a:pt x="3180" y="140"/>
                    </a:lnTo>
                    <a:lnTo>
                      <a:pt x="3129" y="140"/>
                    </a:lnTo>
                    <a:lnTo>
                      <a:pt x="3076" y="140"/>
                    </a:lnTo>
                    <a:lnTo>
                      <a:pt x="3034" y="140"/>
                    </a:lnTo>
                    <a:lnTo>
                      <a:pt x="2982" y="149"/>
                    </a:lnTo>
                    <a:lnTo>
                      <a:pt x="2930" y="149"/>
                    </a:lnTo>
                    <a:lnTo>
                      <a:pt x="2878" y="149"/>
                    </a:lnTo>
                    <a:lnTo>
                      <a:pt x="2834" y="149"/>
                    </a:lnTo>
                    <a:lnTo>
                      <a:pt x="2783" y="149"/>
                    </a:lnTo>
                    <a:lnTo>
                      <a:pt x="2730" y="149"/>
                    </a:lnTo>
                    <a:lnTo>
                      <a:pt x="2679" y="149"/>
                    </a:lnTo>
                    <a:lnTo>
                      <a:pt x="2636" y="149"/>
                    </a:lnTo>
                    <a:lnTo>
                      <a:pt x="2585" y="140"/>
                    </a:lnTo>
                    <a:lnTo>
                      <a:pt x="2532" y="132"/>
                    </a:lnTo>
                    <a:lnTo>
                      <a:pt x="2481" y="132"/>
                    </a:lnTo>
                    <a:lnTo>
                      <a:pt x="2437" y="125"/>
                    </a:lnTo>
                    <a:lnTo>
                      <a:pt x="2385" y="116"/>
                    </a:lnTo>
                    <a:lnTo>
                      <a:pt x="2333" y="108"/>
                    </a:lnTo>
                    <a:lnTo>
                      <a:pt x="2281" y="99"/>
                    </a:lnTo>
                    <a:lnTo>
                      <a:pt x="2239" y="99"/>
                    </a:lnTo>
                    <a:lnTo>
                      <a:pt x="2188" y="108"/>
                    </a:lnTo>
                    <a:lnTo>
                      <a:pt x="2135" y="108"/>
                    </a:lnTo>
                    <a:lnTo>
                      <a:pt x="2084" y="116"/>
                    </a:lnTo>
                    <a:lnTo>
                      <a:pt x="2039" y="125"/>
                    </a:lnTo>
                    <a:lnTo>
                      <a:pt x="1986" y="140"/>
                    </a:lnTo>
                    <a:lnTo>
                      <a:pt x="1935" y="149"/>
                    </a:lnTo>
                    <a:lnTo>
                      <a:pt x="1884" y="158"/>
                    </a:lnTo>
                    <a:lnTo>
                      <a:pt x="1841" y="158"/>
                    </a:lnTo>
                    <a:lnTo>
                      <a:pt x="1789" y="166"/>
                    </a:lnTo>
                    <a:lnTo>
                      <a:pt x="1737" y="166"/>
                    </a:lnTo>
                    <a:lnTo>
                      <a:pt x="1685" y="166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73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867" y="0"/>
                    </a:lnTo>
                    <a:lnTo>
                      <a:pt x="4824" y="9"/>
                    </a:lnTo>
                    <a:lnTo>
                      <a:pt x="4771" y="17"/>
                    </a:lnTo>
                    <a:lnTo>
                      <a:pt x="4718" y="25"/>
                    </a:lnTo>
                    <a:lnTo>
                      <a:pt x="4667" y="25"/>
                    </a:lnTo>
                    <a:lnTo>
                      <a:pt x="4625" y="34"/>
                    </a:lnTo>
                    <a:lnTo>
                      <a:pt x="4572" y="34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50"/>
                    </a:lnTo>
                    <a:lnTo>
                      <a:pt x="4374" y="50"/>
                    </a:lnTo>
                    <a:lnTo>
                      <a:pt x="4321" y="50"/>
                    </a:lnTo>
                    <a:lnTo>
                      <a:pt x="4270" y="50"/>
                    </a:lnTo>
                    <a:lnTo>
                      <a:pt x="4226" y="50"/>
                    </a:lnTo>
                    <a:lnTo>
                      <a:pt x="4174" y="50"/>
                    </a:lnTo>
                    <a:lnTo>
                      <a:pt x="4123" y="50"/>
                    </a:lnTo>
                    <a:lnTo>
                      <a:pt x="4072" y="50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34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50"/>
                    </a:lnTo>
                    <a:lnTo>
                      <a:pt x="3578" y="58"/>
                    </a:lnTo>
                    <a:lnTo>
                      <a:pt x="3526" y="58"/>
                    </a:lnTo>
                    <a:lnTo>
                      <a:pt x="3474" y="66"/>
                    </a:lnTo>
                    <a:lnTo>
                      <a:pt x="3431" y="75"/>
                    </a:lnTo>
                    <a:lnTo>
                      <a:pt x="3380" y="84"/>
                    </a:lnTo>
                    <a:lnTo>
                      <a:pt x="3329" y="91"/>
                    </a:lnTo>
                    <a:lnTo>
                      <a:pt x="3276" y="91"/>
                    </a:lnTo>
                    <a:lnTo>
                      <a:pt x="3233" y="99"/>
                    </a:lnTo>
                    <a:lnTo>
                      <a:pt x="3180" y="99"/>
                    </a:lnTo>
                    <a:lnTo>
                      <a:pt x="3129" y="99"/>
                    </a:lnTo>
                    <a:lnTo>
                      <a:pt x="3076" y="108"/>
                    </a:lnTo>
                    <a:lnTo>
                      <a:pt x="3034" y="108"/>
                    </a:lnTo>
                    <a:lnTo>
                      <a:pt x="2982" y="108"/>
                    </a:lnTo>
                    <a:lnTo>
                      <a:pt x="2930" y="116"/>
                    </a:lnTo>
                    <a:lnTo>
                      <a:pt x="2878" y="116"/>
                    </a:lnTo>
                    <a:lnTo>
                      <a:pt x="2834" y="116"/>
                    </a:lnTo>
                    <a:lnTo>
                      <a:pt x="2783" y="125"/>
                    </a:lnTo>
                    <a:lnTo>
                      <a:pt x="2730" y="125"/>
                    </a:lnTo>
                    <a:lnTo>
                      <a:pt x="2679" y="125"/>
                    </a:lnTo>
                    <a:lnTo>
                      <a:pt x="2636" y="125"/>
                    </a:lnTo>
                    <a:lnTo>
                      <a:pt x="2585" y="116"/>
                    </a:lnTo>
                    <a:lnTo>
                      <a:pt x="2532" y="116"/>
                    </a:lnTo>
                    <a:lnTo>
                      <a:pt x="2481" y="108"/>
                    </a:lnTo>
                    <a:lnTo>
                      <a:pt x="2437" y="99"/>
                    </a:lnTo>
                    <a:lnTo>
                      <a:pt x="2385" y="91"/>
                    </a:lnTo>
                    <a:lnTo>
                      <a:pt x="2333" y="91"/>
                    </a:lnTo>
                    <a:lnTo>
                      <a:pt x="2281" y="84"/>
                    </a:lnTo>
                    <a:lnTo>
                      <a:pt x="2239" y="84"/>
                    </a:lnTo>
                    <a:lnTo>
                      <a:pt x="2188" y="91"/>
                    </a:lnTo>
                    <a:lnTo>
                      <a:pt x="2135" y="99"/>
                    </a:lnTo>
                    <a:lnTo>
                      <a:pt x="2084" y="108"/>
                    </a:lnTo>
                    <a:lnTo>
                      <a:pt x="2039" y="116"/>
                    </a:lnTo>
                    <a:lnTo>
                      <a:pt x="1986" y="125"/>
                    </a:lnTo>
                    <a:lnTo>
                      <a:pt x="1935" y="132"/>
                    </a:lnTo>
                    <a:lnTo>
                      <a:pt x="1884" y="140"/>
                    </a:lnTo>
                    <a:lnTo>
                      <a:pt x="1841" y="149"/>
                    </a:lnTo>
                    <a:lnTo>
                      <a:pt x="1789" y="158"/>
                    </a:lnTo>
                    <a:lnTo>
                      <a:pt x="1737" y="158"/>
                    </a:lnTo>
                    <a:lnTo>
                      <a:pt x="1685" y="158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66"/>
                    </a:lnTo>
                    <a:lnTo>
                      <a:pt x="1391" y="166"/>
                    </a:lnTo>
                    <a:lnTo>
                      <a:pt x="1340" y="166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66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a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560" y="4134240"/>
                <a:ext cx="3537720" cy="130320"/>
              </a:xfrm>
              <a:custGeom>
                <a:avLst/>
                <a:gdLst/>
                <a:ahLst/>
                <a:rect l="l" t="t" r="r" b="b"/>
                <a:pathLst>
                  <a:path w="4918" h="190">
                    <a:moveTo>
                      <a:pt x="0" y="190"/>
                    </a:moveTo>
                    <a:lnTo>
                      <a:pt x="0" y="190"/>
                    </a:lnTo>
                    <a:lnTo>
                      <a:pt x="51" y="190"/>
                    </a:lnTo>
                    <a:lnTo>
                      <a:pt x="93" y="190"/>
                    </a:lnTo>
                    <a:lnTo>
                      <a:pt x="146" y="180"/>
                    </a:lnTo>
                    <a:lnTo>
                      <a:pt x="199" y="173"/>
                    </a:lnTo>
                    <a:lnTo>
                      <a:pt x="250" y="156"/>
                    </a:lnTo>
                    <a:lnTo>
                      <a:pt x="293" y="165"/>
                    </a:lnTo>
                    <a:lnTo>
                      <a:pt x="346" y="165"/>
                    </a:lnTo>
                    <a:lnTo>
                      <a:pt x="397" y="165"/>
                    </a:lnTo>
                    <a:lnTo>
                      <a:pt x="448" y="147"/>
                    </a:lnTo>
                    <a:lnTo>
                      <a:pt x="491" y="141"/>
                    </a:lnTo>
                    <a:lnTo>
                      <a:pt x="544" y="123"/>
                    </a:lnTo>
                    <a:lnTo>
                      <a:pt x="596" y="98"/>
                    </a:lnTo>
                    <a:lnTo>
                      <a:pt x="648" y="74"/>
                    </a:lnTo>
                    <a:lnTo>
                      <a:pt x="690" y="57"/>
                    </a:lnTo>
                    <a:lnTo>
                      <a:pt x="743" y="48"/>
                    </a:lnTo>
                    <a:lnTo>
                      <a:pt x="794" y="67"/>
                    </a:lnTo>
                    <a:lnTo>
                      <a:pt x="845" y="91"/>
                    </a:lnTo>
                    <a:lnTo>
                      <a:pt x="890" y="115"/>
                    </a:lnTo>
                    <a:lnTo>
                      <a:pt x="943" y="141"/>
                    </a:lnTo>
                    <a:lnTo>
                      <a:pt x="994" y="156"/>
                    </a:lnTo>
                    <a:lnTo>
                      <a:pt x="1045" y="165"/>
                    </a:lnTo>
                    <a:lnTo>
                      <a:pt x="1089" y="173"/>
                    </a:lnTo>
                    <a:lnTo>
                      <a:pt x="1141" y="173"/>
                    </a:lnTo>
                    <a:lnTo>
                      <a:pt x="1192" y="165"/>
                    </a:lnTo>
                    <a:lnTo>
                      <a:pt x="1245" y="165"/>
                    </a:lnTo>
                    <a:lnTo>
                      <a:pt x="1287" y="165"/>
                    </a:lnTo>
                    <a:lnTo>
                      <a:pt x="1340" y="165"/>
                    </a:lnTo>
                    <a:lnTo>
                      <a:pt x="1391" y="173"/>
                    </a:lnTo>
                    <a:lnTo>
                      <a:pt x="1444" y="173"/>
                    </a:lnTo>
                    <a:lnTo>
                      <a:pt x="1487" y="165"/>
                    </a:lnTo>
                    <a:lnTo>
                      <a:pt x="1538" y="165"/>
                    </a:lnTo>
                    <a:lnTo>
                      <a:pt x="1589" y="165"/>
                    </a:lnTo>
                    <a:lnTo>
                      <a:pt x="1642" y="156"/>
                    </a:lnTo>
                    <a:lnTo>
                      <a:pt x="1685" y="147"/>
                    </a:lnTo>
                    <a:lnTo>
                      <a:pt x="1737" y="147"/>
                    </a:lnTo>
                    <a:lnTo>
                      <a:pt x="1789" y="147"/>
                    </a:lnTo>
                    <a:lnTo>
                      <a:pt x="1841" y="147"/>
                    </a:lnTo>
                    <a:lnTo>
                      <a:pt x="1884" y="141"/>
                    </a:lnTo>
                    <a:lnTo>
                      <a:pt x="1935" y="141"/>
                    </a:lnTo>
                    <a:lnTo>
                      <a:pt x="1986" y="132"/>
                    </a:lnTo>
                    <a:lnTo>
                      <a:pt x="2039" y="115"/>
                    </a:lnTo>
                    <a:lnTo>
                      <a:pt x="2084" y="108"/>
                    </a:lnTo>
                    <a:lnTo>
                      <a:pt x="2135" y="98"/>
                    </a:lnTo>
                    <a:lnTo>
                      <a:pt x="2188" y="82"/>
                    </a:lnTo>
                    <a:lnTo>
                      <a:pt x="2239" y="82"/>
                    </a:lnTo>
                    <a:lnTo>
                      <a:pt x="2281" y="82"/>
                    </a:lnTo>
                    <a:lnTo>
                      <a:pt x="2333" y="91"/>
                    </a:lnTo>
                    <a:lnTo>
                      <a:pt x="2385" y="98"/>
                    </a:lnTo>
                    <a:lnTo>
                      <a:pt x="2437" y="98"/>
                    </a:lnTo>
                    <a:lnTo>
                      <a:pt x="2481" y="108"/>
                    </a:lnTo>
                    <a:lnTo>
                      <a:pt x="2532" y="115"/>
                    </a:lnTo>
                    <a:lnTo>
                      <a:pt x="2585" y="115"/>
                    </a:lnTo>
                    <a:lnTo>
                      <a:pt x="2636" y="115"/>
                    </a:lnTo>
                    <a:lnTo>
                      <a:pt x="2679" y="115"/>
                    </a:lnTo>
                    <a:lnTo>
                      <a:pt x="2730" y="115"/>
                    </a:lnTo>
                    <a:lnTo>
                      <a:pt x="2783" y="115"/>
                    </a:lnTo>
                    <a:lnTo>
                      <a:pt x="2834" y="115"/>
                    </a:lnTo>
                    <a:lnTo>
                      <a:pt x="2878" y="115"/>
                    </a:lnTo>
                    <a:lnTo>
                      <a:pt x="2930" y="115"/>
                    </a:lnTo>
                    <a:lnTo>
                      <a:pt x="2982" y="115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8"/>
                    </a:lnTo>
                    <a:lnTo>
                      <a:pt x="3180" y="98"/>
                    </a:lnTo>
                    <a:lnTo>
                      <a:pt x="3233" y="91"/>
                    </a:lnTo>
                    <a:lnTo>
                      <a:pt x="3276" y="91"/>
                    </a:lnTo>
                    <a:lnTo>
                      <a:pt x="3329" y="82"/>
                    </a:lnTo>
                    <a:lnTo>
                      <a:pt x="3380" y="82"/>
                    </a:lnTo>
                    <a:lnTo>
                      <a:pt x="3431" y="74"/>
                    </a:lnTo>
                    <a:lnTo>
                      <a:pt x="3474" y="67"/>
                    </a:lnTo>
                    <a:lnTo>
                      <a:pt x="3526" y="57"/>
                    </a:lnTo>
                    <a:lnTo>
                      <a:pt x="3578" y="48"/>
                    </a:lnTo>
                    <a:lnTo>
                      <a:pt x="3630" y="42"/>
                    </a:lnTo>
                    <a:lnTo>
                      <a:pt x="3673" y="42"/>
                    </a:lnTo>
                    <a:lnTo>
                      <a:pt x="3726" y="33"/>
                    </a:lnTo>
                    <a:lnTo>
                      <a:pt x="3777" y="33"/>
                    </a:lnTo>
                    <a:lnTo>
                      <a:pt x="3828" y="33"/>
                    </a:lnTo>
                    <a:lnTo>
                      <a:pt x="3871" y="42"/>
                    </a:lnTo>
                    <a:lnTo>
                      <a:pt x="3924" y="42"/>
                    </a:lnTo>
                    <a:lnTo>
                      <a:pt x="3975" y="42"/>
                    </a:lnTo>
                    <a:lnTo>
                      <a:pt x="4028" y="48"/>
                    </a:lnTo>
                    <a:lnTo>
                      <a:pt x="4072" y="48"/>
                    </a:lnTo>
                    <a:lnTo>
                      <a:pt x="4123" y="48"/>
                    </a:lnTo>
                    <a:lnTo>
                      <a:pt x="4174" y="48"/>
                    </a:lnTo>
                    <a:lnTo>
                      <a:pt x="4226" y="48"/>
                    </a:lnTo>
                    <a:lnTo>
                      <a:pt x="4270" y="48"/>
                    </a:lnTo>
                    <a:lnTo>
                      <a:pt x="4321" y="48"/>
                    </a:lnTo>
                    <a:lnTo>
                      <a:pt x="4374" y="48"/>
                    </a:lnTo>
                    <a:lnTo>
                      <a:pt x="4427" y="48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9"/>
                    </a:lnTo>
                    <a:lnTo>
                      <a:pt x="4867" y="9"/>
                    </a:lnTo>
                    <a:lnTo>
                      <a:pt x="4824" y="16"/>
                    </a:lnTo>
                    <a:lnTo>
                      <a:pt x="4771" y="24"/>
                    </a:lnTo>
                    <a:lnTo>
                      <a:pt x="4718" y="33"/>
                    </a:lnTo>
                    <a:lnTo>
                      <a:pt x="4667" y="33"/>
                    </a:lnTo>
                    <a:lnTo>
                      <a:pt x="4625" y="42"/>
                    </a:lnTo>
                    <a:lnTo>
                      <a:pt x="4572" y="42"/>
                    </a:lnTo>
                    <a:lnTo>
                      <a:pt x="4521" y="48"/>
                    </a:lnTo>
                    <a:lnTo>
                      <a:pt x="4469" y="48"/>
                    </a:lnTo>
                    <a:lnTo>
                      <a:pt x="4427" y="57"/>
                    </a:lnTo>
                    <a:lnTo>
                      <a:pt x="4374" y="57"/>
                    </a:lnTo>
                    <a:lnTo>
                      <a:pt x="4321" y="57"/>
                    </a:lnTo>
                    <a:lnTo>
                      <a:pt x="4270" y="57"/>
                    </a:lnTo>
                    <a:lnTo>
                      <a:pt x="4226" y="57"/>
                    </a:lnTo>
                    <a:lnTo>
                      <a:pt x="4174" y="57"/>
                    </a:lnTo>
                    <a:lnTo>
                      <a:pt x="4123" y="57"/>
                    </a:lnTo>
                    <a:lnTo>
                      <a:pt x="4072" y="57"/>
                    </a:lnTo>
                    <a:lnTo>
                      <a:pt x="4028" y="48"/>
                    </a:lnTo>
                    <a:lnTo>
                      <a:pt x="3975" y="48"/>
                    </a:lnTo>
                    <a:lnTo>
                      <a:pt x="3924" y="48"/>
                    </a:lnTo>
                    <a:lnTo>
                      <a:pt x="3871" y="48"/>
                    </a:lnTo>
                    <a:lnTo>
                      <a:pt x="3828" y="42"/>
                    </a:lnTo>
                    <a:lnTo>
                      <a:pt x="3777" y="48"/>
                    </a:lnTo>
                    <a:lnTo>
                      <a:pt x="3726" y="48"/>
                    </a:lnTo>
                    <a:lnTo>
                      <a:pt x="3673" y="48"/>
                    </a:lnTo>
                    <a:lnTo>
                      <a:pt x="3630" y="57"/>
                    </a:lnTo>
                    <a:lnTo>
                      <a:pt x="3578" y="67"/>
                    </a:lnTo>
                    <a:lnTo>
                      <a:pt x="3526" y="67"/>
                    </a:lnTo>
                    <a:lnTo>
                      <a:pt x="3474" y="74"/>
                    </a:lnTo>
                    <a:lnTo>
                      <a:pt x="3431" y="82"/>
                    </a:lnTo>
                    <a:lnTo>
                      <a:pt x="3380" y="91"/>
                    </a:lnTo>
                    <a:lnTo>
                      <a:pt x="3329" y="98"/>
                    </a:lnTo>
                    <a:lnTo>
                      <a:pt x="3276" y="98"/>
                    </a:lnTo>
                    <a:lnTo>
                      <a:pt x="3233" y="108"/>
                    </a:lnTo>
                    <a:lnTo>
                      <a:pt x="3180" y="108"/>
                    </a:lnTo>
                    <a:lnTo>
                      <a:pt x="3129" y="108"/>
                    </a:lnTo>
                    <a:lnTo>
                      <a:pt x="3076" y="115"/>
                    </a:lnTo>
                    <a:lnTo>
                      <a:pt x="3034" y="115"/>
                    </a:lnTo>
                    <a:lnTo>
                      <a:pt x="2982" y="115"/>
                    </a:lnTo>
                    <a:lnTo>
                      <a:pt x="2930" y="123"/>
                    </a:lnTo>
                    <a:lnTo>
                      <a:pt x="2878" y="123"/>
                    </a:lnTo>
                    <a:lnTo>
                      <a:pt x="2834" y="123"/>
                    </a:lnTo>
                    <a:lnTo>
                      <a:pt x="2783" y="132"/>
                    </a:lnTo>
                    <a:lnTo>
                      <a:pt x="2730" y="132"/>
                    </a:lnTo>
                    <a:lnTo>
                      <a:pt x="2679" y="132"/>
                    </a:lnTo>
                    <a:lnTo>
                      <a:pt x="2636" y="132"/>
                    </a:lnTo>
                    <a:lnTo>
                      <a:pt x="2585" y="123"/>
                    </a:lnTo>
                    <a:lnTo>
                      <a:pt x="2532" y="123"/>
                    </a:lnTo>
                    <a:lnTo>
                      <a:pt x="2481" y="115"/>
                    </a:lnTo>
                    <a:lnTo>
                      <a:pt x="2437" y="108"/>
                    </a:lnTo>
                    <a:lnTo>
                      <a:pt x="2385" y="98"/>
                    </a:lnTo>
                    <a:lnTo>
                      <a:pt x="2333" y="98"/>
                    </a:lnTo>
                    <a:lnTo>
                      <a:pt x="2281" y="91"/>
                    </a:lnTo>
                    <a:lnTo>
                      <a:pt x="2239" y="91"/>
                    </a:lnTo>
                    <a:lnTo>
                      <a:pt x="2188" y="98"/>
                    </a:lnTo>
                    <a:lnTo>
                      <a:pt x="2135" y="108"/>
                    </a:lnTo>
                    <a:lnTo>
                      <a:pt x="2084" y="115"/>
                    </a:lnTo>
                    <a:lnTo>
                      <a:pt x="2039" y="123"/>
                    </a:lnTo>
                    <a:lnTo>
                      <a:pt x="1986" y="132"/>
                    </a:lnTo>
                    <a:lnTo>
                      <a:pt x="1935" y="141"/>
                    </a:lnTo>
                    <a:lnTo>
                      <a:pt x="1884" y="147"/>
                    </a:lnTo>
                    <a:lnTo>
                      <a:pt x="1841" y="156"/>
                    </a:lnTo>
                    <a:lnTo>
                      <a:pt x="1789" y="165"/>
                    </a:lnTo>
                    <a:lnTo>
                      <a:pt x="1737" y="165"/>
                    </a:lnTo>
                    <a:lnTo>
                      <a:pt x="1685" y="165"/>
                    </a:lnTo>
                    <a:lnTo>
                      <a:pt x="1642" y="173"/>
                    </a:lnTo>
                    <a:lnTo>
                      <a:pt x="1589" y="173"/>
                    </a:lnTo>
                    <a:lnTo>
                      <a:pt x="1538" y="173"/>
                    </a:lnTo>
                    <a:lnTo>
                      <a:pt x="1487" y="173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80"/>
                    </a:lnTo>
                    <a:lnTo>
                      <a:pt x="1245" y="180"/>
                    </a:lnTo>
                    <a:lnTo>
                      <a:pt x="1192" y="180"/>
                    </a:lnTo>
                    <a:lnTo>
                      <a:pt x="1141" y="180"/>
                    </a:lnTo>
                    <a:lnTo>
                      <a:pt x="1089" y="173"/>
                    </a:lnTo>
                    <a:lnTo>
                      <a:pt x="1045" y="173"/>
                    </a:lnTo>
                    <a:lnTo>
                      <a:pt x="994" y="156"/>
                    </a:lnTo>
                    <a:lnTo>
                      <a:pt x="943" y="141"/>
                    </a:lnTo>
                    <a:lnTo>
                      <a:pt x="890" y="123"/>
                    </a:lnTo>
                    <a:lnTo>
                      <a:pt x="845" y="98"/>
                    </a:lnTo>
                    <a:lnTo>
                      <a:pt x="794" y="82"/>
                    </a:lnTo>
                    <a:lnTo>
                      <a:pt x="743" y="74"/>
                    </a:lnTo>
                    <a:lnTo>
                      <a:pt x="690" y="82"/>
                    </a:lnTo>
                    <a:lnTo>
                      <a:pt x="648" y="91"/>
                    </a:lnTo>
                    <a:lnTo>
                      <a:pt x="596" y="108"/>
                    </a:lnTo>
                    <a:lnTo>
                      <a:pt x="544" y="123"/>
                    </a:lnTo>
                    <a:lnTo>
                      <a:pt x="491" y="141"/>
                    </a:lnTo>
                    <a:lnTo>
                      <a:pt x="448" y="156"/>
                    </a:lnTo>
                    <a:lnTo>
                      <a:pt x="397" y="165"/>
                    </a:lnTo>
                    <a:lnTo>
                      <a:pt x="346" y="173"/>
                    </a:lnTo>
                    <a:lnTo>
                      <a:pt x="293" y="180"/>
                    </a:lnTo>
                    <a:lnTo>
                      <a:pt x="250" y="180"/>
                    </a:lnTo>
                    <a:lnTo>
                      <a:pt x="199" y="180"/>
                    </a:lnTo>
                    <a:lnTo>
                      <a:pt x="146" y="190"/>
                    </a:lnTo>
                    <a:lnTo>
                      <a:pt x="93" y="190"/>
                    </a:lnTo>
                    <a:lnTo>
                      <a:pt x="51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6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3560" y="4099680"/>
                <a:ext cx="3537720" cy="164880"/>
              </a:xfrm>
              <a:custGeom>
                <a:avLst/>
                <a:gdLst/>
                <a:ahLst/>
                <a:rect l="l" t="t" r="r" b="b"/>
                <a:pathLst>
                  <a:path w="4918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51" y="240"/>
                    </a:lnTo>
                    <a:lnTo>
                      <a:pt x="93" y="240"/>
                    </a:lnTo>
                    <a:lnTo>
                      <a:pt x="146" y="230"/>
                    </a:lnTo>
                    <a:lnTo>
                      <a:pt x="199" y="215"/>
                    </a:lnTo>
                    <a:lnTo>
                      <a:pt x="250" y="206"/>
                    </a:lnTo>
                    <a:lnTo>
                      <a:pt x="293" y="206"/>
                    </a:lnTo>
                    <a:lnTo>
                      <a:pt x="346" y="215"/>
                    </a:lnTo>
                    <a:lnTo>
                      <a:pt x="397" y="206"/>
                    </a:lnTo>
                    <a:lnTo>
                      <a:pt x="448" y="197"/>
                    </a:lnTo>
                    <a:lnTo>
                      <a:pt x="491" y="182"/>
                    </a:lnTo>
                    <a:lnTo>
                      <a:pt x="544" y="165"/>
                    </a:lnTo>
                    <a:lnTo>
                      <a:pt x="596" y="141"/>
                    </a:lnTo>
                    <a:lnTo>
                      <a:pt x="648" y="123"/>
                    </a:lnTo>
                    <a:lnTo>
                      <a:pt x="690" y="98"/>
                    </a:lnTo>
                    <a:lnTo>
                      <a:pt x="743" y="91"/>
                    </a:lnTo>
                    <a:lnTo>
                      <a:pt x="794" y="107"/>
                    </a:lnTo>
                    <a:lnTo>
                      <a:pt x="845" y="132"/>
                    </a:lnTo>
                    <a:lnTo>
                      <a:pt x="890" y="156"/>
                    </a:lnTo>
                    <a:lnTo>
                      <a:pt x="943" y="182"/>
                    </a:lnTo>
                    <a:lnTo>
                      <a:pt x="994" y="197"/>
                    </a:lnTo>
                    <a:lnTo>
                      <a:pt x="1045" y="206"/>
                    </a:lnTo>
                    <a:lnTo>
                      <a:pt x="1089" y="215"/>
                    </a:lnTo>
                    <a:lnTo>
                      <a:pt x="1141" y="206"/>
                    </a:lnTo>
                    <a:lnTo>
                      <a:pt x="1192" y="206"/>
                    </a:lnTo>
                    <a:lnTo>
                      <a:pt x="1245" y="197"/>
                    </a:lnTo>
                    <a:lnTo>
                      <a:pt x="1287" y="197"/>
                    </a:lnTo>
                    <a:lnTo>
                      <a:pt x="1340" y="206"/>
                    </a:lnTo>
                    <a:lnTo>
                      <a:pt x="1391" y="206"/>
                    </a:lnTo>
                    <a:lnTo>
                      <a:pt x="1444" y="206"/>
                    </a:lnTo>
                    <a:lnTo>
                      <a:pt x="1487" y="197"/>
                    </a:lnTo>
                    <a:lnTo>
                      <a:pt x="1538" y="197"/>
                    </a:lnTo>
                    <a:lnTo>
                      <a:pt x="1589" y="189"/>
                    </a:lnTo>
                    <a:lnTo>
                      <a:pt x="1642" y="189"/>
                    </a:lnTo>
                    <a:lnTo>
                      <a:pt x="1685" y="182"/>
                    </a:lnTo>
                    <a:lnTo>
                      <a:pt x="1737" y="182"/>
                    </a:lnTo>
                    <a:lnTo>
                      <a:pt x="1789" y="173"/>
                    </a:lnTo>
                    <a:lnTo>
                      <a:pt x="1841" y="173"/>
                    </a:lnTo>
                    <a:lnTo>
                      <a:pt x="1884" y="173"/>
                    </a:lnTo>
                    <a:lnTo>
                      <a:pt x="1935" y="173"/>
                    </a:lnTo>
                    <a:lnTo>
                      <a:pt x="1986" y="165"/>
                    </a:lnTo>
                    <a:lnTo>
                      <a:pt x="2039" y="148"/>
                    </a:lnTo>
                    <a:lnTo>
                      <a:pt x="2084" y="141"/>
                    </a:lnTo>
                    <a:lnTo>
                      <a:pt x="2135" y="123"/>
                    </a:lnTo>
                    <a:lnTo>
                      <a:pt x="2188" y="117"/>
                    </a:lnTo>
                    <a:lnTo>
                      <a:pt x="2239" y="117"/>
                    </a:lnTo>
                    <a:lnTo>
                      <a:pt x="2281" y="117"/>
                    </a:lnTo>
                    <a:lnTo>
                      <a:pt x="2333" y="117"/>
                    </a:lnTo>
                    <a:lnTo>
                      <a:pt x="2385" y="123"/>
                    </a:lnTo>
                    <a:lnTo>
                      <a:pt x="2437" y="132"/>
                    </a:lnTo>
                    <a:lnTo>
                      <a:pt x="2481" y="141"/>
                    </a:lnTo>
                    <a:lnTo>
                      <a:pt x="2532" y="148"/>
                    </a:lnTo>
                    <a:lnTo>
                      <a:pt x="2585" y="148"/>
                    </a:lnTo>
                    <a:lnTo>
                      <a:pt x="2636" y="148"/>
                    </a:lnTo>
                    <a:lnTo>
                      <a:pt x="2679" y="141"/>
                    </a:lnTo>
                    <a:lnTo>
                      <a:pt x="2730" y="141"/>
                    </a:lnTo>
                    <a:lnTo>
                      <a:pt x="2783" y="141"/>
                    </a:lnTo>
                    <a:lnTo>
                      <a:pt x="2834" y="141"/>
                    </a:lnTo>
                    <a:lnTo>
                      <a:pt x="2878" y="141"/>
                    </a:lnTo>
                    <a:lnTo>
                      <a:pt x="2930" y="132"/>
                    </a:lnTo>
                    <a:lnTo>
                      <a:pt x="2982" y="132"/>
                    </a:lnTo>
                    <a:lnTo>
                      <a:pt x="3034" y="132"/>
                    </a:lnTo>
                    <a:lnTo>
                      <a:pt x="3076" y="123"/>
                    </a:lnTo>
                    <a:lnTo>
                      <a:pt x="3129" y="117"/>
                    </a:lnTo>
                    <a:lnTo>
                      <a:pt x="3180" y="107"/>
                    </a:lnTo>
                    <a:lnTo>
                      <a:pt x="3233" y="107"/>
                    </a:lnTo>
                    <a:lnTo>
                      <a:pt x="3276" y="98"/>
                    </a:lnTo>
                    <a:lnTo>
                      <a:pt x="3329" y="91"/>
                    </a:lnTo>
                    <a:lnTo>
                      <a:pt x="3380" y="83"/>
                    </a:lnTo>
                    <a:lnTo>
                      <a:pt x="3431" y="83"/>
                    </a:lnTo>
                    <a:lnTo>
                      <a:pt x="3474" y="74"/>
                    </a:lnTo>
                    <a:lnTo>
                      <a:pt x="3526" y="57"/>
                    </a:lnTo>
                    <a:lnTo>
                      <a:pt x="3578" y="50"/>
                    </a:lnTo>
                    <a:lnTo>
                      <a:pt x="3630" y="42"/>
                    </a:lnTo>
                    <a:lnTo>
                      <a:pt x="3673" y="33"/>
                    </a:lnTo>
                    <a:lnTo>
                      <a:pt x="3726" y="33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33"/>
                    </a:lnTo>
                    <a:lnTo>
                      <a:pt x="3924" y="33"/>
                    </a:lnTo>
                    <a:lnTo>
                      <a:pt x="3975" y="42"/>
                    </a:lnTo>
                    <a:lnTo>
                      <a:pt x="4028" y="42"/>
                    </a:lnTo>
                    <a:lnTo>
                      <a:pt x="4072" y="42"/>
                    </a:lnTo>
                    <a:lnTo>
                      <a:pt x="4123" y="42"/>
                    </a:lnTo>
                    <a:lnTo>
                      <a:pt x="4174" y="42"/>
                    </a:lnTo>
                    <a:lnTo>
                      <a:pt x="4226" y="42"/>
                    </a:lnTo>
                    <a:lnTo>
                      <a:pt x="4270" y="42"/>
                    </a:lnTo>
                    <a:lnTo>
                      <a:pt x="4321" y="42"/>
                    </a:lnTo>
                    <a:lnTo>
                      <a:pt x="4374" y="42"/>
                    </a:lnTo>
                    <a:lnTo>
                      <a:pt x="4427" y="42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9"/>
                    </a:lnTo>
                    <a:lnTo>
                      <a:pt x="4918" y="0"/>
                    </a:lnTo>
                    <a:lnTo>
                      <a:pt x="4918" y="50"/>
                    </a:lnTo>
                    <a:lnTo>
                      <a:pt x="4867" y="50"/>
                    </a:lnTo>
                    <a:lnTo>
                      <a:pt x="4824" y="57"/>
                    </a:lnTo>
                    <a:lnTo>
                      <a:pt x="4771" y="66"/>
                    </a:lnTo>
                    <a:lnTo>
                      <a:pt x="4718" y="66"/>
                    </a:lnTo>
                    <a:lnTo>
                      <a:pt x="4667" y="74"/>
                    </a:lnTo>
                    <a:lnTo>
                      <a:pt x="4625" y="83"/>
                    </a:lnTo>
                    <a:lnTo>
                      <a:pt x="4572" y="83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98"/>
                    </a:lnTo>
                    <a:lnTo>
                      <a:pt x="4374" y="98"/>
                    </a:lnTo>
                    <a:lnTo>
                      <a:pt x="4321" y="98"/>
                    </a:lnTo>
                    <a:lnTo>
                      <a:pt x="4270" y="98"/>
                    </a:lnTo>
                    <a:lnTo>
                      <a:pt x="4226" y="98"/>
                    </a:lnTo>
                    <a:lnTo>
                      <a:pt x="4174" y="98"/>
                    </a:lnTo>
                    <a:lnTo>
                      <a:pt x="4123" y="98"/>
                    </a:lnTo>
                    <a:lnTo>
                      <a:pt x="4072" y="98"/>
                    </a:lnTo>
                    <a:lnTo>
                      <a:pt x="4028" y="98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91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83"/>
                    </a:lnTo>
                    <a:lnTo>
                      <a:pt x="3673" y="91"/>
                    </a:lnTo>
                    <a:lnTo>
                      <a:pt x="3630" y="91"/>
                    </a:lnTo>
                    <a:lnTo>
                      <a:pt x="3578" y="98"/>
                    </a:lnTo>
                    <a:lnTo>
                      <a:pt x="3526" y="107"/>
                    </a:lnTo>
                    <a:lnTo>
                      <a:pt x="3474" y="117"/>
                    </a:lnTo>
                    <a:lnTo>
                      <a:pt x="3431" y="123"/>
                    </a:lnTo>
                    <a:lnTo>
                      <a:pt x="3380" y="132"/>
                    </a:lnTo>
                    <a:lnTo>
                      <a:pt x="3329" y="132"/>
                    </a:lnTo>
                    <a:lnTo>
                      <a:pt x="3276" y="141"/>
                    </a:lnTo>
                    <a:lnTo>
                      <a:pt x="3233" y="141"/>
                    </a:lnTo>
                    <a:lnTo>
                      <a:pt x="3180" y="148"/>
                    </a:lnTo>
                    <a:lnTo>
                      <a:pt x="3129" y="148"/>
                    </a:lnTo>
                    <a:lnTo>
                      <a:pt x="3076" y="156"/>
                    </a:lnTo>
                    <a:lnTo>
                      <a:pt x="3034" y="156"/>
                    </a:lnTo>
                    <a:lnTo>
                      <a:pt x="2982" y="165"/>
                    </a:lnTo>
                    <a:lnTo>
                      <a:pt x="2930" y="165"/>
                    </a:lnTo>
                    <a:lnTo>
                      <a:pt x="2878" y="165"/>
                    </a:lnTo>
                    <a:lnTo>
                      <a:pt x="2834" y="165"/>
                    </a:lnTo>
                    <a:lnTo>
                      <a:pt x="2783" y="165"/>
                    </a:lnTo>
                    <a:lnTo>
                      <a:pt x="2730" y="165"/>
                    </a:lnTo>
                    <a:lnTo>
                      <a:pt x="2679" y="165"/>
                    </a:lnTo>
                    <a:lnTo>
                      <a:pt x="2636" y="165"/>
                    </a:lnTo>
                    <a:lnTo>
                      <a:pt x="2585" y="165"/>
                    </a:lnTo>
                    <a:lnTo>
                      <a:pt x="2532" y="165"/>
                    </a:lnTo>
                    <a:lnTo>
                      <a:pt x="2481" y="156"/>
                    </a:lnTo>
                    <a:lnTo>
                      <a:pt x="2437" y="148"/>
                    </a:lnTo>
                    <a:lnTo>
                      <a:pt x="2385" y="148"/>
                    </a:lnTo>
                    <a:lnTo>
                      <a:pt x="2333" y="141"/>
                    </a:lnTo>
                    <a:lnTo>
                      <a:pt x="2281" y="132"/>
                    </a:lnTo>
                    <a:lnTo>
                      <a:pt x="2239" y="132"/>
                    </a:lnTo>
                    <a:lnTo>
                      <a:pt x="2188" y="132"/>
                    </a:lnTo>
                    <a:lnTo>
                      <a:pt x="2135" y="148"/>
                    </a:lnTo>
                    <a:lnTo>
                      <a:pt x="2084" y="156"/>
                    </a:lnTo>
                    <a:lnTo>
                      <a:pt x="2039" y="165"/>
                    </a:lnTo>
                    <a:lnTo>
                      <a:pt x="1986" y="182"/>
                    </a:lnTo>
                    <a:lnTo>
                      <a:pt x="1935" y="189"/>
                    </a:lnTo>
                    <a:lnTo>
                      <a:pt x="1884" y="189"/>
                    </a:lnTo>
                    <a:lnTo>
                      <a:pt x="1841" y="197"/>
                    </a:lnTo>
                    <a:lnTo>
                      <a:pt x="1789" y="197"/>
                    </a:lnTo>
                    <a:lnTo>
                      <a:pt x="1737" y="197"/>
                    </a:lnTo>
                    <a:lnTo>
                      <a:pt x="1685" y="197"/>
                    </a:lnTo>
                    <a:lnTo>
                      <a:pt x="1642" y="206"/>
                    </a:lnTo>
                    <a:lnTo>
                      <a:pt x="1589" y="215"/>
                    </a:lnTo>
                    <a:lnTo>
                      <a:pt x="1538" y="215"/>
                    </a:lnTo>
                    <a:lnTo>
                      <a:pt x="1487" y="215"/>
                    </a:lnTo>
                    <a:lnTo>
                      <a:pt x="1444" y="223"/>
                    </a:lnTo>
                    <a:lnTo>
                      <a:pt x="1391" y="223"/>
                    </a:lnTo>
                    <a:lnTo>
                      <a:pt x="1340" y="215"/>
                    </a:lnTo>
                    <a:lnTo>
                      <a:pt x="1287" y="215"/>
                    </a:lnTo>
                    <a:lnTo>
                      <a:pt x="1245" y="215"/>
                    </a:lnTo>
                    <a:lnTo>
                      <a:pt x="1192" y="215"/>
                    </a:lnTo>
                    <a:lnTo>
                      <a:pt x="1141" y="223"/>
                    </a:lnTo>
                    <a:lnTo>
                      <a:pt x="1089" y="223"/>
                    </a:lnTo>
                    <a:lnTo>
                      <a:pt x="1045" y="215"/>
                    </a:lnTo>
                    <a:lnTo>
                      <a:pt x="994" y="206"/>
                    </a:lnTo>
                    <a:lnTo>
                      <a:pt x="943" y="189"/>
                    </a:lnTo>
                    <a:lnTo>
                      <a:pt x="890" y="165"/>
                    </a:lnTo>
                    <a:lnTo>
                      <a:pt x="845" y="141"/>
                    </a:lnTo>
                    <a:lnTo>
                      <a:pt x="794" y="117"/>
                    </a:lnTo>
                    <a:lnTo>
                      <a:pt x="743" y="98"/>
                    </a:lnTo>
                    <a:lnTo>
                      <a:pt x="690" y="107"/>
                    </a:lnTo>
                    <a:lnTo>
                      <a:pt x="648" y="123"/>
                    </a:lnTo>
                    <a:lnTo>
                      <a:pt x="596" y="148"/>
                    </a:lnTo>
                    <a:lnTo>
                      <a:pt x="544" y="173"/>
                    </a:lnTo>
                    <a:lnTo>
                      <a:pt x="491" y="189"/>
                    </a:lnTo>
                    <a:lnTo>
                      <a:pt x="448" y="197"/>
                    </a:lnTo>
                    <a:lnTo>
                      <a:pt x="397" y="215"/>
                    </a:lnTo>
                    <a:lnTo>
                      <a:pt x="346" y="215"/>
                    </a:lnTo>
                    <a:lnTo>
                      <a:pt x="293" y="215"/>
                    </a:lnTo>
                    <a:lnTo>
                      <a:pt x="250" y="206"/>
                    </a:lnTo>
                    <a:lnTo>
                      <a:pt x="199" y="223"/>
                    </a:lnTo>
                    <a:lnTo>
                      <a:pt x="146" y="230"/>
                    </a:lnTo>
                    <a:lnTo>
                      <a:pt x="93" y="240"/>
                    </a:lnTo>
                    <a:lnTo>
                      <a:pt x="51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53560" y="4061160"/>
                <a:ext cx="3537720" cy="203400"/>
              </a:xfrm>
              <a:custGeom>
                <a:avLst/>
                <a:gdLst/>
                <a:ahLst/>
                <a:rect l="l" t="t" r="r" b="b"/>
                <a:pathLst>
                  <a:path w="4918" h="297">
                    <a:moveTo>
                      <a:pt x="0" y="297"/>
                    </a:moveTo>
                    <a:lnTo>
                      <a:pt x="0" y="263"/>
                    </a:lnTo>
                    <a:lnTo>
                      <a:pt x="51" y="254"/>
                    </a:lnTo>
                    <a:lnTo>
                      <a:pt x="93" y="254"/>
                    </a:lnTo>
                    <a:lnTo>
                      <a:pt x="146" y="246"/>
                    </a:lnTo>
                    <a:lnTo>
                      <a:pt x="199" y="222"/>
                    </a:lnTo>
                    <a:lnTo>
                      <a:pt x="250" y="205"/>
                    </a:lnTo>
                    <a:lnTo>
                      <a:pt x="293" y="215"/>
                    </a:lnTo>
                    <a:lnTo>
                      <a:pt x="346" y="222"/>
                    </a:lnTo>
                    <a:lnTo>
                      <a:pt x="397" y="215"/>
                    </a:lnTo>
                    <a:lnTo>
                      <a:pt x="448" y="198"/>
                    </a:lnTo>
                    <a:lnTo>
                      <a:pt x="491" y="181"/>
                    </a:lnTo>
                    <a:lnTo>
                      <a:pt x="544" y="155"/>
                    </a:lnTo>
                    <a:lnTo>
                      <a:pt x="596" y="131"/>
                    </a:lnTo>
                    <a:lnTo>
                      <a:pt x="648" y="107"/>
                    </a:lnTo>
                    <a:lnTo>
                      <a:pt x="690" y="82"/>
                    </a:lnTo>
                    <a:lnTo>
                      <a:pt x="743" y="75"/>
                    </a:lnTo>
                    <a:lnTo>
                      <a:pt x="794" y="90"/>
                    </a:lnTo>
                    <a:lnTo>
                      <a:pt x="845" y="123"/>
                    </a:lnTo>
                    <a:lnTo>
                      <a:pt x="890" y="148"/>
                    </a:lnTo>
                    <a:lnTo>
                      <a:pt x="943" y="174"/>
                    </a:lnTo>
                    <a:lnTo>
                      <a:pt x="994" y="189"/>
                    </a:lnTo>
                    <a:lnTo>
                      <a:pt x="1045" y="198"/>
                    </a:lnTo>
                    <a:lnTo>
                      <a:pt x="1089" y="198"/>
                    </a:lnTo>
                    <a:lnTo>
                      <a:pt x="1141" y="189"/>
                    </a:lnTo>
                    <a:lnTo>
                      <a:pt x="1192" y="181"/>
                    </a:lnTo>
                    <a:lnTo>
                      <a:pt x="1245" y="181"/>
                    </a:lnTo>
                    <a:lnTo>
                      <a:pt x="1287" y="189"/>
                    </a:lnTo>
                    <a:lnTo>
                      <a:pt x="1340" y="198"/>
                    </a:lnTo>
                    <a:lnTo>
                      <a:pt x="1391" y="215"/>
                    </a:lnTo>
                    <a:lnTo>
                      <a:pt x="1444" y="215"/>
                    </a:lnTo>
                    <a:lnTo>
                      <a:pt x="1487" y="215"/>
                    </a:lnTo>
                    <a:lnTo>
                      <a:pt x="1538" y="215"/>
                    </a:lnTo>
                    <a:lnTo>
                      <a:pt x="1589" y="205"/>
                    </a:lnTo>
                    <a:lnTo>
                      <a:pt x="1642" y="198"/>
                    </a:lnTo>
                    <a:lnTo>
                      <a:pt x="1685" y="189"/>
                    </a:lnTo>
                    <a:lnTo>
                      <a:pt x="1737" y="181"/>
                    </a:lnTo>
                    <a:lnTo>
                      <a:pt x="1789" y="181"/>
                    </a:lnTo>
                    <a:lnTo>
                      <a:pt x="1841" y="181"/>
                    </a:lnTo>
                    <a:lnTo>
                      <a:pt x="1884" y="181"/>
                    </a:lnTo>
                    <a:lnTo>
                      <a:pt x="1935" y="174"/>
                    </a:lnTo>
                    <a:lnTo>
                      <a:pt x="1986" y="155"/>
                    </a:lnTo>
                    <a:lnTo>
                      <a:pt x="2039" y="148"/>
                    </a:lnTo>
                    <a:lnTo>
                      <a:pt x="2084" y="131"/>
                    </a:lnTo>
                    <a:lnTo>
                      <a:pt x="2135" y="116"/>
                    </a:lnTo>
                    <a:lnTo>
                      <a:pt x="2188" y="107"/>
                    </a:lnTo>
                    <a:lnTo>
                      <a:pt x="2239" y="99"/>
                    </a:lnTo>
                    <a:lnTo>
                      <a:pt x="2281" y="99"/>
                    </a:lnTo>
                    <a:lnTo>
                      <a:pt x="2333" y="107"/>
                    </a:lnTo>
                    <a:lnTo>
                      <a:pt x="2385" y="116"/>
                    </a:lnTo>
                    <a:lnTo>
                      <a:pt x="2437" y="123"/>
                    </a:lnTo>
                    <a:lnTo>
                      <a:pt x="2481" y="123"/>
                    </a:lnTo>
                    <a:lnTo>
                      <a:pt x="2532" y="131"/>
                    </a:lnTo>
                    <a:lnTo>
                      <a:pt x="2585" y="131"/>
                    </a:lnTo>
                    <a:lnTo>
                      <a:pt x="2636" y="131"/>
                    </a:lnTo>
                    <a:lnTo>
                      <a:pt x="2679" y="131"/>
                    </a:lnTo>
                    <a:lnTo>
                      <a:pt x="2730" y="131"/>
                    </a:lnTo>
                    <a:lnTo>
                      <a:pt x="2783" y="131"/>
                    </a:lnTo>
                    <a:lnTo>
                      <a:pt x="2834" y="140"/>
                    </a:lnTo>
                    <a:lnTo>
                      <a:pt x="2878" y="140"/>
                    </a:lnTo>
                    <a:lnTo>
                      <a:pt x="2930" y="140"/>
                    </a:lnTo>
                    <a:lnTo>
                      <a:pt x="2982" y="140"/>
                    </a:lnTo>
                    <a:lnTo>
                      <a:pt x="3034" y="140"/>
                    </a:lnTo>
                    <a:lnTo>
                      <a:pt x="3076" y="131"/>
                    </a:lnTo>
                    <a:lnTo>
                      <a:pt x="3129" y="123"/>
                    </a:lnTo>
                    <a:lnTo>
                      <a:pt x="3180" y="116"/>
                    </a:lnTo>
                    <a:lnTo>
                      <a:pt x="3233" y="107"/>
                    </a:lnTo>
                    <a:lnTo>
                      <a:pt x="3276" y="99"/>
                    </a:lnTo>
                    <a:lnTo>
                      <a:pt x="3329" y="99"/>
                    </a:lnTo>
                    <a:lnTo>
                      <a:pt x="3380" y="90"/>
                    </a:lnTo>
                    <a:lnTo>
                      <a:pt x="3431" y="82"/>
                    </a:lnTo>
                    <a:lnTo>
                      <a:pt x="3474" y="66"/>
                    </a:lnTo>
                    <a:lnTo>
                      <a:pt x="3526" y="57"/>
                    </a:lnTo>
                    <a:lnTo>
                      <a:pt x="3578" y="41"/>
                    </a:lnTo>
                    <a:lnTo>
                      <a:pt x="3630" y="32"/>
                    </a:lnTo>
                    <a:lnTo>
                      <a:pt x="3673" y="25"/>
                    </a:lnTo>
                    <a:lnTo>
                      <a:pt x="3726" y="17"/>
                    </a:lnTo>
                    <a:lnTo>
                      <a:pt x="3777" y="17"/>
                    </a:lnTo>
                    <a:lnTo>
                      <a:pt x="3828" y="17"/>
                    </a:lnTo>
                    <a:lnTo>
                      <a:pt x="3871" y="17"/>
                    </a:lnTo>
                    <a:lnTo>
                      <a:pt x="3924" y="25"/>
                    </a:lnTo>
                    <a:lnTo>
                      <a:pt x="3975" y="25"/>
                    </a:lnTo>
                    <a:lnTo>
                      <a:pt x="4028" y="32"/>
                    </a:lnTo>
                    <a:lnTo>
                      <a:pt x="4072" y="32"/>
                    </a:lnTo>
                    <a:lnTo>
                      <a:pt x="4123" y="32"/>
                    </a:lnTo>
                    <a:lnTo>
                      <a:pt x="4174" y="32"/>
                    </a:lnTo>
                    <a:lnTo>
                      <a:pt x="4226" y="32"/>
                    </a:lnTo>
                    <a:lnTo>
                      <a:pt x="4270" y="41"/>
                    </a:lnTo>
                    <a:lnTo>
                      <a:pt x="4321" y="41"/>
                    </a:lnTo>
                    <a:lnTo>
                      <a:pt x="4374" y="41"/>
                    </a:lnTo>
                    <a:lnTo>
                      <a:pt x="4427" y="49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32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8"/>
                    </a:lnTo>
                    <a:lnTo>
                      <a:pt x="4867" y="8"/>
                    </a:lnTo>
                    <a:lnTo>
                      <a:pt x="4918" y="0"/>
                    </a:lnTo>
                    <a:lnTo>
                      <a:pt x="4918" y="57"/>
                    </a:lnTo>
                    <a:lnTo>
                      <a:pt x="4867" y="66"/>
                    </a:lnTo>
                    <a:lnTo>
                      <a:pt x="4824" y="66"/>
                    </a:lnTo>
                    <a:lnTo>
                      <a:pt x="4771" y="75"/>
                    </a:lnTo>
                    <a:lnTo>
                      <a:pt x="4718" y="75"/>
                    </a:lnTo>
                    <a:lnTo>
                      <a:pt x="4667" y="82"/>
                    </a:lnTo>
                    <a:lnTo>
                      <a:pt x="4625" y="90"/>
                    </a:lnTo>
                    <a:lnTo>
                      <a:pt x="4572" y="90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9"/>
                    </a:lnTo>
                    <a:lnTo>
                      <a:pt x="4374" y="99"/>
                    </a:lnTo>
                    <a:lnTo>
                      <a:pt x="4321" y="99"/>
                    </a:lnTo>
                    <a:lnTo>
                      <a:pt x="4270" y="99"/>
                    </a:lnTo>
                    <a:lnTo>
                      <a:pt x="4226" y="99"/>
                    </a:lnTo>
                    <a:lnTo>
                      <a:pt x="4174" y="99"/>
                    </a:lnTo>
                    <a:lnTo>
                      <a:pt x="4123" y="99"/>
                    </a:lnTo>
                    <a:lnTo>
                      <a:pt x="4072" y="99"/>
                    </a:lnTo>
                    <a:lnTo>
                      <a:pt x="4028" y="99"/>
                    </a:lnTo>
                    <a:lnTo>
                      <a:pt x="3975" y="99"/>
                    </a:lnTo>
                    <a:lnTo>
                      <a:pt x="3924" y="90"/>
                    </a:lnTo>
                    <a:lnTo>
                      <a:pt x="3871" y="90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0"/>
                    </a:lnTo>
                    <a:lnTo>
                      <a:pt x="3673" y="90"/>
                    </a:lnTo>
                    <a:lnTo>
                      <a:pt x="3630" y="99"/>
                    </a:lnTo>
                    <a:lnTo>
                      <a:pt x="3578" y="107"/>
                    </a:lnTo>
                    <a:lnTo>
                      <a:pt x="3526" y="116"/>
                    </a:lnTo>
                    <a:lnTo>
                      <a:pt x="3474" y="131"/>
                    </a:lnTo>
                    <a:lnTo>
                      <a:pt x="3431" y="140"/>
                    </a:lnTo>
                    <a:lnTo>
                      <a:pt x="3380" y="140"/>
                    </a:lnTo>
                    <a:lnTo>
                      <a:pt x="3329" y="148"/>
                    </a:lnTo>
                    <a:lnTo>
                      <a:pt x="3276" y="155"/>
                    </a:lnTo>
                    <a:lnTo>
                      <a:pt x="3233" y="164"/>
                    </a:lnTo>
                    <a:lnTo>
                      <a:pt x="3180" y="164"/>
                    </a:lnTo>
                    <a:lnTo>
                      <a:pt x="3129" y="174"/>
                    </a:lnTo>
                    <a:lnTo>
                      <a:pt x="3076" y="181"/>
                    </a:lnTo>
                    <a:lnTo>
                      <a:pt x="3034" y="189"/>
                    </a:lnTo>
                    <a:lnTo>
                      <a:pt x="2982" y="189"/>
                    </a:lnTo>
                    <a:lnTo>
                      <a:pt x="2930" y="189"/>
                    </a:lnTo>
                    <a:lnTo>
                      <a:pt x="2878" y="198"/>
                    </a:lnTo>
                    <a:lnTo>
                      <a:pt x="2834" y="198"/>
                    </a:lnTo>
                    <a:lnTo>
                      <a:pt x="2783" y="198"/>
                    </a:lnTo>
                    <a:lnTo>
                      <a:pt x="2730" y="198"/>
                    </a:lnTo>
                    <a:lnTo>
                      <a:pt x="2679" y="198"/>
                    </a:lnTo>
                    <a:lnTo>
                      <a:pt x="2636" y="205"/>
                    </a:lnTo>
                    <a:lnTo>
                      <a:pt x="2585" y="205"/>
                    </a:lnTo>
                    <a:lnTo>
                      <a:pt x="2532" y="205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81"/>
                    </a:lnTo>
                    <a:lnTo>
                      <a:pt x="2333" y="174"/>
                    </a:lnTo>
                    <a:lnTo>
                      <a:pt x="2281" y="174"/>
                    </a:lnTo>
                    <a:lnTo>
                      <a:pt x="2239" y="174"/>
                    </a:lnTo>
                    <a:lnTo>
                      <a:pt x="2188" y="174"/>
                    </a:lnTo>
                    <a:lnTo>
                      <a:pt x="2135" y="181"/>
                    </a:lnTo>
                    <a:lnTo>
                      <a:pt x="2084" y="198"/>
                    </a:lnTo>
                    <a:lnTo>
                      <a:pt x="2039" y="205"/>
                    </a:lnTo>
                    <a:lnTo>
                      <a:pt x="1986" y="222"/>
                    </a:lnTo>
                    <a:lnTo>
                      <a:pt x="1935" y="230"/>
                    </a:lnTo>
                    <a:lnTo>
                      <a:pt x="1884" y="230"/>
                    </a:lnTo>
                    <a:lnTo>
                      <a:pt x="1841" y="230"/>
                    </a:lnTo>
                    <a:lnTo>
                      <a:pt x="1789" y="230"/>
                    </a:lnTo>
                    <a:lnTo>
                      <a:pt x="1737" y="239"/>
                    </a:lnTo>
                    <a:lnTo>
                      <a:pt x="1685" y="239"/>
                    </a:lnTo>
                    <a:lnTo>
                      <a:pt x="1642" y="246"/>
                    </a:lnTo>
                    <a:lnTo>
                      <a:pt x="1589" y="246"/>
                    </a:lnTo>
                    <a:lnTo>
                      <a:pt x="1538" y="254"/>
                    </a:lnTo>
                    <a:lnTo>
                      <a:pt x="1487" y="254"/>
                    </a:lnTo>
                    <a:lnTo>
                      <a:pt x="1444" y="263"/>
                    </a:lnTo>
                    <a:lnTo>
                      <a:pt x="1391" y="263"/>
                    </a:lnTo>
                    <a:lnTo>
                      <a:pt x="1340" y="263"/>
                    </a:lnTo>
                    <a:lnTo>
                      <a:pt x="1287" y="254"/>
                    </a:lnTo>
                    <a:lnTo>
                      <a:pt x="1245" y="254"/>
                    </a:lnTo>
                    <a:lnTo>
                      <a:pt x="1192" y="263"/>
                    </a:lnTo>
                    <a:lnTo>
                      <a:pt x="1141" y="263"/>
                    </a:lnTo>
                    <a:lnTo>
                      <a:pt x="1089" y="272"/>
                    </a:lnTo>
                    <a:lnTo>
                      <a:pt x="1045" y="263"/>
                    </a:lnTo>
                    <a:lnTo>
                      <a:pt x="994" y="254"/>
                    </a:lnTo>
                    <a:lnTo>
                      <a:pt x="943" y="239"/>
                    </a:lnTo>
                    <a:lnTo>
                      <a:pt x="890" y="215"/>
                    </a:lnTo>
                    <a:lnTo>
                      <a:pt x="845" y="189"/>
                    </a:lnTo>
                    <a:lnTo>
                      <a:pt x="794" y="164"/>
                    </a:lnTo>
                    <a:lnTo>
                      <a:pt x="743" y="148"/>
                    </a:lnTo>
                    <a:lnTo>
                      <a:pt x="690" y="155"/>
                    </a:lnTo>
                    <a:lnTo>
                      <a:pt x="648" y="181"/>
                    </a:lnTo>
                    <a:lnTo>
                      <a:pt x="596" y="198"/>
                    </a:lnTo>
                    <a:lnTo>
                      <a:pt x="544" y="222"/>
                    </a:lnTo>
                    <a:lnTo>
                      <a:pt x="491" y="239"/>
                    </a:lnTo>
                    <a:lnTo>
                      <a:pt x="448" y="254"/>
                    </a:lnTo>
                    <a:lnTo>
                      <a:pt x="397" y="263"/>
                    </a:lnTo>
                    <a:lnTo>
                      <a:pt x="346" y="272"/>
                    </a:lnTo>
                    <a:lnTo>
                      <a:pt x="293" y="263"/>
                    </a:lnTo>
                    <a:lnTo>
                      <a:pt x="250" y="263"/>
                    </a:lnTo>
                    <a:lnTo>
                      <a:pt x="199" y="272"/>
                    </a:lnTo>
                    <a:lnTo>
                      <a:pt x="146" y="287"/>
                    </a:lnTo>
                    <a:lnTo>
                      <a:pt x="93" y="297"/>
                    </a:lnTo>
                    <a:lnTo>
                      <a:pt x="51" y="297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53560" y="3852360"/>
                <a:ext cx="3537720" cy="390240"/>
              </a:xfrm>
              <a:custGeom>
                <a:avLst/>
                <a:gdLst/>
                <a:ahLst/>
                <a:rect l="l" t="t" r="r" b="b"/>
                <a:pathLst>
                  <a:path w="4918" h="568">
                    <a:moveTo>
                      <a:pt x="0" y="568"/>
                    </a:moveTo>
                    <a:lnTo>
                      <a:pt x="0" y="486"/>
                    </a:lnTo>
                    <a:lnTo>
                      <a:pt x="51" y="460"/>
                    </a:lnTo>
                    <a:lnTo>
                      <a:pt x="93" y="428"/>
                    </a:lnTo>
                    <a:lnTo>
                      <a:pt x="146" y="362"/>
                    </a:lnTo>
                    <a:lnTo>
                      <a:pt x="199" y="287"/>
                    </a:lnTo>
                    <a:lnTo>
                      <a:pt x="250" y="231"/>
                    </a:lnTo>
                    <a:lnTo>
                      <a:pt x="293" y="231"/>
                    </a:lnTo>
                    <a:lnTo>
                      <a:pt x="346" y="296"/>
                    </a:lnTo>
                    <a:lnTo>
                      <a:pt x="397" y="337"/>
                    </a:lnTo>
                    <a:lnTo>
                      <a:pt x="448" y="337"/>
                    </a:lnTo>
                    <a:lnTo>
                      <a:pt x="491" y="313"/>
                    </a:lnTo>
                    <a:lnTo>
                      <a:pt x="544" y="272"/>
                    </a:lnTo>
                    <a:lnTo>
                      <a:pt x="596" y="214"/>
                    </a:lnTo>
                    <a:lnTo>
                      <a:pt x="648" y="132"/>
                    </a:lnTo>
                    <a:lnTo>
                      <a:pt x="690" y="50"/>
                    </a:lnTo>
                    <a:lnTo>
                      <a:pt x="743" y="0"/>
                    </a:lnTo>
                    <a:lnTo>
                      <a:pt x="794" y="17"/>
                    </a:lnTo>
                    <a:lnTo>
                      <a:pt x="845" y="82"/>
                    </a:lnTo>
                    <a:lnTo>
                      <a:pt x="890" y="164"/>
                    </a:lnTo>
                    <a:lnTo>
                      <a:pt x="943" y="222"/>
                    </a:lnTo>
                    <a:lnTo>
                      <a:pt x="994" y="239"/>
                    </a:lnTo>
                    <a:lnTo>
                      <a:pt x="1045" y="239"/>
                    </a:lnTo>
                    <a:lnTo>
                      <a:pt x="1089" y="222"/>
                    </a:lnTo>
                    <a:lnTo>
                      <a:pt x="1141" y="181"/>
                    </a:lnTo>
                    <a:lnTo>
                      <a:pt x="1192" y="149"/>
                    </a:lnTo>
                    <a:lnTo>
                      <a:pt x="1245" y="132"/>
                    </a:lnTo>
                    <a:lnTo>
                      <a:pt x="1287" y="157"/>
                    </a:lnTo>
                    <a:lnTo>
                      <a:pt x="1340" y="207"/>
                    </a:lnTo>
                    <a:lnTo>
                      <a:pt x="1391" y="263"/>
                    </a:lnTo>
                    <a:lnTo>
                      <a:pt x="1444" y="313"/>
                    </a:lnTo>
                    <a:lnTo>
                      <a:pt x="1487" y="337"/>
                    </a:lnTo>
                    <a:lnTo>
                      <a:pt x="1538" y="346"/>
                    </a:lnTo>
                    <a:lnTo>
                      <a:pt x="1589" y="330"/>
                    </a:lnTo>
                    <a:lnTo>
                      <a:pt x="1642" y="305"/>
                    </a:lnTo>
                    <a:lnTo>
                      <a:pt x="1685" y="272"/>
                    </a:lnTo>
                    <a:lnTo>
                      <a:pt x="1737" y="255"/>
                    </a:lnTo>
                    <a:lnTo>
                      <a:pt x="1789" y="255"/>
                    </a:lnTo>
                    <a:lnTo>
                      <a:pt x="1841" y="272"/>
                    </a:lnTo>
                    <a:lnTo>
                      <a:pt x="1884" y="281"/>
                    </a:lnTo>
                    <a:lnTo>
                      <a:pt x="1935" y="281"/>
                    </a:lnTo>
                    <a:lnTo>
                      <a:pt x="1986" y="272"/>
                    </a:lnTo>
                    <a:lnTo>
                      <a:pt x="2039" y="239"/>
                    </a:lnTo>
                    <a:lnTo>
                      <a:pt x="2084" y="198"/>
                    </a:lnTo>
                    <a:lnTo>
                      <a:pt x="2135" y="157"/>
                    </a:lnTo>
                    <a:lnTo>
                      <a:pt x="2188" y="116"/>
                    </a:lnTo>
                    <a:lnTo>
                      <a:pt x="2239" y="90"/>
                    </a:lnTo>
                    <a:lnTo>
                      <a:pt x="2281" y="82"/>
                    </a:lnTo>
                    <a:lnTo>
                      <a:pt x="2333" y="90"/>
                    </a:lnTo>
                    <a:lnTo>
                      <a:pt x="2385" y="108"/>
                    </a:lnTo>
                    <a:lnTo>
                      <a:pt x="2437" y="123"/>
                    </a:lnTo>
                    <a:lnTo>
                      <a:pt x="2481" y="132"/>
                    </a:lnTo>
                    <a:lnTo>
                      <a:pt x="2532" y="132"/>
                    </a:lnTo>
                    <a:lnTo>
                      <a:pt x="2585" y="132"/>
                    </a:lnTo>
                    <a:lnTo>
                      <a:pt x="2636" y="123"/>
                    </a:lnTo>
                    <a:lnTo>
                      <a:pt x="2679" y="116"/>
                    </a:lnTo>
                    <a:lnTo>
                      <a:pt x="2730" y="123"/>
                    </a:lnTo>
                    <a:lnTo>
                      <a:pt x="2783" y="140"/>
                    </a:lnTo>
                    <a:lnTo>
                      <a:pt x="2834" y="173"/>
                    </a:lnTo>
                    <a:lnTo>
                      <a:pt x="2878" y="198"/>
                    </a:lnTo>
                    <a:lnTo>
                      <a:pt x="2930" y="222"/>
                    </a:lnTo>
                    <a:lnTo>
                      <a:pt x="2982" y="239"/>
                    </a:lnTo>
                    <a:lnTo>
                      <a:pt x="3034" y="248"/>
                    </a:lnTo>
                    <a:lnTo>
                      <a:pt x="3076" y="239"/>
                    </a:lnTo>
                    <a:lnTo>
                      <a:pt x="3129" y="231"/>
                    </a:lnTo>
                    <a:lnTo>
                      <a:pt x="3180" y="214"/>
                    </a:lnTo>
                    <a:lnTo>
                      <a:pt x="3233" y="198"/>
                    </a:lnTo>
                    <a:lnTo>
                      <a:pt x="3276" y="189"/>
                    </a:lnTo>
                    <a:lnTo>
                      <a:pt x="3329" y="181"/>
                    </a:lnTo>
                    <a:lnTo>
                      <a:pt x="3380" y="173"/>
                    </a:lnTo>
                    <a:lnTo>
                      <a:pt x="3431" y="164"/>
                    </a:lnTo>
                    <a:lnTo>
                      <a:pt x="3474" y="140"/>
                    </a:lnTo>
                    <a:lnTo>
                      <a:pt x="3526" y="123"/>
                    </a:lnTo>
                    <a:lnTo>
                      <a:pt x="3578" y="90"/>
                    </a:lnTo>
                    <a:lnTo>
                      <a:pt x="3630" y="66"/>
                    </a:lnTo>
                    <a:lnTo>
                      <a:pt x="3673" y="41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25"/>
                    </a:lnTo>
                    <a:lnTo>
                      <a:pt x="3871" y="34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41"/>
                    </a:lnTo>
                    <a:lnTo>
                      <a:pt x="4123" y="41"/>
                    </a:lnTo>
                    <a:lnTo>
                      <a:pt x="4174" y="41"/>
                    </a:lnTo>
                    <a:lnTo>
                      <a:pt x="4226" y="50"/>
                    </a:lnTo>
                    <a:lnTo>
                      <a:pt x="4270" y="58"/>
                    </a:lnTo>
                    <a:lnTo>
                      <a:pt x="4321" y="75"/>
                    </a:lnTo>
                    <a:lnTo>
                      <a:pt x="4374" y="90"/>
                    </a:lnTo>
                    <a:lnTo>
                      <a:pt x="4427" y="108"/>
                    </a:lnTo>
                    <a:lnTo>
                      <a:pt x="4469" y="116"/>
                    </a:lnTo>
                    <a:lnTo>
                      <a:pt x="4521" y="123"/>
                    </a:lnTo>
                    <a:lnTo>
                      <a:pt x="4572" y="123"/>
                    </a:lnTo>
                    <a:lnTo>
                      <a:pt x="4625" y="116"/>
                    </a:lnTo>
                    <a:lnTo>
                      <a:pt x="4667" y="108"/>
                    </a:lnTo>
                    <a:lnTo>
                      <a:pt x="4718" y="99"/>
                    </a:lnTo>
                    <a:lnTo>
                      <a:pt x="4771" y="99"/>
                    </a:lnTo>
                    <a:lnTo>
                      <a:pt x="4824" y="90"/>
                    </a:lnTo>
                    <a:lnTo>
                      <a:pt x="4867" y="82"/>
                    </a:lnTo>
                    <a:lnTo>
                      <a:pt x="4918" y="75"/>
                    </a:lnTo>
                    <a:lnTo>
                      <a:pt x="4918" y="305"/>
                    </a:lnTo>
                    <a:lnTo>
                      <a:pt x="4867" y="313"/>
                    </a:lnTo>
                    <a:lnTo>
                      <a:pt x="4824" y="313"/>
                    </a:lnTo>
                    <a:lnTo>
                      <a:pt x="4771" y="321"/>
                    </a:lnTo>
                    <a:lnTo>
                      <a:pt x="4718" y="330"/>
                    </a:lnTo>
                    <a:lnTo>
                      <a:pt x="4667" y="330"/>
                    </a:lnTo>
                    <a:lnTo>
                      <a:pt x="4625" y="337"/>
                    </a:lnTo>
                    <a:lnTo>
                      <a:pt x="4572" y="346"/>
                    </a:lnTo>
                    <a:lnTo>
                      <a:pt x="4521" y="346"/>
                    </a:lnTo>
                    <a:lnTo>
                      <a:pt x="4469" y="346"/>
                    </a:lnTo>
                    <a:lnTo>
                      <a:pt x="4427" y="354"/>
                    </a:lnTo>
                    <a:lnTo>
                      <a:pt x="4374" y="346"/>
                    </a:lnTo>
                    <a:lnTo>
                      <a:pt x="4321" y="346"/>
                    </a:lnTo>
                    <a:lnTo>
                      <a:pt x="4270" y="346"/>
                    </a:lnTo>
                    <a:lnTo>
                      <a:pt x="4226" y="337"/>
                    </a:lnTo>
                    <a:lnTo>
                      <a:pt x="4174" y="337"/>
                    </a:lnTo>
                    <a:lnTo>
                      <a:pt x="4123" y="337"/>
                    </a:lnTo>
                    <a:lnTo>
                      <a:pt x="4072" y="337"/>
                    </a:lnTo>
                    <a:lnTo>
                      <a:pt x="4028" y="337"/>
                    </a:lnTo>
                    <a:lnTo>
                      <a:pt x="3975" y="330"/>
                    </a:lnTo>
                    <a:lnTo>
                      <a:pt x="3924" y="330"/>
                    </a:lnTo>
                    <a:lnTo>
                      <a:pt x="3871" y="321"/>
                    </a:lnTo>
                    <a:lnTo>
                      <a:pt x="3828" y="321"/>
                    </a:lnTo>
                    <a:lnTo>
                      <a:pt x="3777" y="321"/>
                    </a:lnTo>
                    <a:lnTo>
                      <a:pt x="3726" y="321"/>
                    </a:lnTo>
                    <a:lnTo>
                      <a:pt x="3673" y="330"/>
                    </a:lnTo>
                    <a:lnTo>
                      <a:pt x="3630" y="337"/>
                    </a:lnTo>
                    <a:lnTo>
                      <a:pt x="3578" y="346"/>
                    </a:lnTo>
                    <a:lnTo>
                      <a:pt x="3526" y="362"/>
                    </a:lnTo>
                    <a:lnTo>
                      <a:pt x="3474" y="371"/>
                    </a:lnTo>
                    <a:lnTo>
                      <a:pt x="3431" y="387"/>
                    </a:lnTo>
                    <a:lnTo>
                      <a:pt x="3380" y="395"/>
                    </a:lnTo>
                    <a:lnTo>
                      <a:pt x="3329" y="404"/>
                    </a:lnTo>
                    <a:lnTo>
                      <a:pt x="3276" y="404"/>
                    </a:lnTo>
                    <a:lnTo>
                      <a:pt x="3233" y="412"/>
                    </a:lnTo>
                    <a:lnTo>
                      <a:pt x="3180" y="419"/>
                    </a:lnTo>
                    <a:lnTo>
                      <a:pt x="3129" y="428"/>
                    </a:lnTo>
                    <a:lnTo>
                      <a:pt x="3076" y="436"/>
                    </a:lnTo>
                    <a:lnTo>
                      <a:pt x="3034" y="445"/>
                    </a:lnTo>
                    <a:lnTo>
                      <a:pt x="2982" y="445"/>
                    </a:lnTo>
                    <a:lnTo>
                      <a:pt x="2930" y="445"/>
                    </a:lnTo>
                    <a:lnTo>
                      <a:pt x="2878" y="445"/>
                    </a:lnTo>
                    <a:lnTo>
                      <a:pt x="2834" y="445"/>
                    </a:lnTo>
                    <a:lnTo>
                      <a:pt x="2783" y="436"/>
                    </a:lnTo>
                    <a:lnTo>
                      <a:pt x="2730" y="436"/>
                    </a:lnTo>
                    <a:lnTo>
                      <a:pt x="2679" y="436"/>
                    </a:lnTo>
                    <a:lnTo>
                      <a:pt x="2636" y="436"/>
                    </a:lnTo>
                    <a:lnTo>
                      <a:pt x="2585" y="436"/>
                    </a:lnTo>
                    <a:lnTo>
                      <a:pt x="2532" y="436"/>
                    </a:lnTo>
                    <a:lnTo>
                      <a:pt x="2481" y="428"/>
                    </a:lnTo>
                    <a:lnTo>
                      <a:pt x="2437" y="428"/>
                    </a:lnTo>
                    <a:lnTo>
                      <a:pt x="2385" y="419"/>
                    </a:lnTo>
                    <a:lnTo>
                      <a:pt x="2333" y="412"/>
                    </a:lnTo>
                    <a:lnTo>
                      <a:pt x="2281" y="404"/>
                    </a:lnTo>
                    <a:lnTo>
                      <a:pt x="2239" y="404"/>
                    </a:lnTo>
                    <a:lnTo>
                      <a:pt x="2188" y="412"/>
                    </a:lnTo>
                    <a:lnTo>
                      <a:pt x="2135" y="419"/>
                    </a:lnTo>
                    <a:lnTo>
                      <a:pt x="2084" y="436"/>
                    </a:lnTo>
                    <a:lnTo>
                      <a:pt x="2039" y="453"/>
                    </a:lnTo>
                    <a:lnTo>
                      <a:pt x="1986" y="460"/>
                    </a:lnTo>
                    <a:lnTo>
                      <a:pt x="1935" y="479"/>
                    </a:lnTo>
                    <a:lnTo>
                      <a:pt x="1884" y="486"/>
                    </a:lnTo>
                    <a:lnTo>
                      <a:pt x="1841" y="486"/>
                    </a:lnTo>
                    <a:lnTo>
                      <a:pt x="1789" y="486"/>
                    </a:lnTo>
                    <a:lnTo>
                      <a:pt x="1737" y="486"/>
                    </a:lnTo>
                    <a:lnTo>
                      <a:pt x="1685" y="494"/>
                    </a:lnTo>
                    <a:lnTo>
                      <a:pt x="1642" y="503"/>
                    </a:lnTo>
                    <a:lnTo>
                      <a:pt x="1589" y="510"/>
                    </a:lnTo>
                    <a:lnTo>
                      <a:pt x="1538" y="518"/>
                    </a:lnTo>
                    <a:lnTo>
                      <a:pt x="1487" y="518"/>
                    </a:lnTo>
                    <a:lnTo>
                      <a:pt x="1444" y="518"/>
                    </a:lnTo>
                    <a:lnTo>
                      <a:pt x="1391" y="518"/>
                    </a:lnTo>
                    <a:lnTo>
                      <a:pt x="1340" y="503"/>
                    </a:lnTo>
                    <a:lnTo>
                      <a:pt x="1287" y="494"/>
                    </a:lnTo>
                    <a:lnTo>
                      <a:pt x="1245" y="486"/>
                    </a:lnTo>
                    <a:lnTo>
                      <a:pt x="1192" y="486"/>
                    </a:lnTo>
                    <a:lnTo>
                      <a:pt x="1141" y="494"/>
                    </a:lnTo>
                    <a:lnTo>
                      <a:pt x="1089" y="503"/>
                    </a:lnTo>
                    <a:lnTo>
                      <a:pt x="1045" y="503"/>
                    </a:lnTo>
                    <a:lnTo>
                      <a:pt x="994" y="494"/>
                    </a:lnTo>
                    <a:lnTo>
                      <a:pt x="943" y="479"/>
                    </a:lnTo>
                    <a:lnTo>
                      <a:pt x="890" y="453"/>
                    </a:lnTo>
                    <a:lnTo>
                      <a:pt x="845" y="428"/>
                    </a:lnTo>
                    <a:lnTo>
                      <a:pt x="794" y="395"/>
                    </a:lnTo>
                    <a:lnTo>
                      <a:pt x="743" y="380"/>
                    </a:lnTo>
                    <a:lnTo>
                      <a:pt x="690" y="387"/>
                    </a:lnTo>
                    <a:lnTo>
                      <a:pt x="648" y="412"/>
                    </a:lnTo>
                    <a:lnTo>
                      <a:pt x="596" y="436"/>
                    </a:lnTo>
                    <a:lnTo>
                      <a:pt x="544" y="460"/>
                    </a:lnTo>
                    <a:lnTo>
                      <a:pt x="491" y="486"/>
                    </a:lnTo>
                    <a:lnTo>
                      <a:pt x="448" y="503"/>
                    </a:lnTo>
                    <a:lnTo>
                      <a:pt x="397" y="518"/>
                    </a:lnTo>
                    <a:lnTo>
                      <a:pt x="346" y="527"/>
                    </a:lnTo>
                    <a:lnTo>
                      <a:pt x="293" y="518"/>
                    </a:lnTo>
                    <a:lnTo>
                      <a:pt x="250" y="510"/>
                    </a:lnTo>
                    <a:lnTo>
                      <a:pt x="199" y="527"/>
                    </a:lnTo>
                    <a:lnTo>
                      <a:pt x="146" y="551"/>
                    </a:lnTo>
                    <a:lnTo>
                      <a:pt x="93" y="559"/>
                    </a:lnTo>
                    <a:lnTo>
                      <a:pt x="51" y="559"/>
                    </a:lnTo>
                    <a:lnTo>
                      <a:pt x="0" y="568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53560" y="3805560"/>
                <a:ext cx="3537720" cy="380520"/>
              </a:xfrm>
              <a:custGeom>
                <a:avLst/>
                <a:gdLst/>
                <a:ahLst/>
                <a:rect l="l" t="t" r="r" b="b"/>
                <a:pathLst>
                  <a:path w="4918" h="552">
                    <a:moveTo>
                      <a:pt x="0" y="552"/>
                    </a:moveTo>
                    <a:lnTo>
                      <a:pt x="0" y="552"/>
                    </a:lnTo>
                    <a:lnTo>
                      <a:pt x="51" y="528"/>
                    </a:lnTo>
                    <a:lnTo>
                      <a:pt x="93" y="494"/>
                    </a:lnTo>
                    <a:lnTo>
                      <a:pt x="146" y="428"/>
                    </a:lnTo>
                    <a:lnTo>
                      <a:pt x="199" y="353"/>
                    </a:lnTo>
                    <a:lnTo>
                      <a:pt x="250" y="297"/>
                    </a:lnTo>
                    <a:lnTo>
                      <a:pt x="293" y="297"/>
                    </a:lnTo>
                    <a:lnTo>
                      <a:pt x="346" y="362"/>
                    </a:lnTo>
                    <a:lnTo>
                      <a:pt x="397" y="403"/>
                    </a:lnTo>
                    <a:lnTo>
                      <a:pt x="448" y="403"/>
                    </a:lnTo>
                    <a:lnTo>
                      <a:pt x="491" y="379"/>
                    </a:lnTo>
                    <a:lnTo>
                      <a:pt x="544" y="338"/>
                    </a:lnTo>
                    <a:lnTo>
                      <a:pt x="596" y="279"/>
                    </a:lnTo>
                    <a:lnTo>
                      <a:pt x="648" y="198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82"/>
                    </a:lnTo>
                    <a:lnTo>
                      <a:pt x="845" y="148"/>
                    </a:lnTo>
                    <a:lnTo>
                      <a:pt x="890" y="230"/>
                    </a:lnTo>
                    <a:lnTo>
                      <a:pt x="943" y="279"/>
                    </a:lnTo>
                    <a:lnTo>
                      <a:pt x="994" y="305"/>
                    </a:lnTo>
                    <a:lnTo>
                      <a:pt x="1045" y="305"/>
                    </a:lnTo>
                    <a:lnTo>
                      <a:pt x="1089" y="279"/>
                    </a:lnTo>
                    <a:lnTo>
                      <a:pt x="1141" y="247"/>
                    </a:lnTo>
                    <a:lnTo>
                      <a:pt x="1192" y="206"/>
                    </a:lnTo>
                    <a:lnTo>
                      <a:pt x="1245" y="189"/>
                    </a:lnTo>
                    <a:lnTo>
                      <a:pt x="1287" y="206"/>
                    </a:lnTo>
                    <a:lnTo>
                      <a:pt x="1340" y="255"/>
                    </a:lnTo>
                    <a:lnTo>
                      <a:pt x="1391" y="312"/>
                    </a:lnTo>
                    <a:lnTo>
                      <a:pt x="1444" y="353"/>
                    </a:lnTo>
                    <a:lnTo>
                      <a:pt x="1487" y="371"/>
                    </a:lnTo>
                    <a:lnTo>
                      <a:pt x="1538" y="371"/>
                    </a:lnTo>
                    <a:lnTo>
                      <a:pt x="1589" y="353"/>
                    </a:lnTo>
                    <a:lnTo>
                      <a:pt x="1642" y="329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297"/>
                    </a:lnTo>
                    <a:lnTo>
                      <a:pt x="1841" y="312"/>
                    </a:lnTo>
                    <a:lnTo>
                      <a:pt x="1884" y="338"/>
                    </a:lnTo>
                    <a:lnTo>
                      <a:pt x="1935" y="338"/>
                    </a:lnTo>
                    <a:lnTo>
                      <a:pt x="1986" y="329"/>
                    </a:lnTo>
                    <a:lnTo>
                      <a:pt x="2039" y="305"/>
                    </a:lnTo>
                    <a:lnTo>
                      <a:pt x="2084" y="264"/>
                    </a:lnTo>
                    <a:lnTo>
                      <a:pt x="2135" y="223"/>
                    </a:lnTo>
                    <a:lnTo>
                      <a:pt x="2188" y="180"/>
                    </a:lnTo>
                    <a:lnTo>
                      <a:pt x="2239" y="156"/>
                    </a:lnTo>
                    <a:lnTo>
                      <a:pt x="2281" y="148"/>
                    </a:lnTo>
                    <a:lnTo>
                      <a:pt x="2333" y="156"/>
                    </a:lnTo>
                    <a:lnTo>
                      <a:pt x="2385" y="173"/>
                    </a:lnTo>
                    <a:lnTo>
                      <a:pt x="2437" y="189"/>
                    </a:lnTo>
                    <a:lnTo>
                      <a:pt x="2481" y="198"/>
                    </a:lnTo>
                    <a:lnTo>
                      <a:pt x="2532" y="198"/>
                    </a:lnTo>
                    <a:lnTo>
                      <a:pt x="2585" y="198"/>
                    </a:lnTo>
                    <a:lnTo>
                      <a:pt x="2636" y="189"/>
                    </a:lnTo>
                    <a:lnTo>
                      <a:pt x="2679" y="180"/>
                    </a:lnTo>
                    <a:lnTo>
                      <a:pt x="2730" y="189"/>
                    </a:lnTo>
                    <a:lnTo>
                      <a:pt x="2783" y="206"/>
                    </a:lnTo>
                    <a:lnTo>
                      <a:pt x="2834" y="230"/>
                    </a:lnTo>
                    <a:lnTo>
                      <a:pt x="2878" y="264"/>
                    </a:lnTo>
                    <a:lnTo>
                      <a:pt x="2930" y="288"/>
                    </a:lnTo>
                    <a:lnTo>
                      <a:pt x="2982" y="305"/>
                    </a:lnTo>
                    <a:lnTo>
                      <a:pt x="3034" y="305"/>
                    </a:lnTo>
                    <a:lnTo>
                      <a:pt x="3076" y="297"/>
                    </a:lnTo>
                    <a:lnTo>
                      <a:pt x="3129" y="288"/>
                    </a:lnTo>
                    <a:lnTo>
                      <a:pt x="3180" y="264"/>
                    </a:lnTo>
                    <a:lnTo>
                      <a:pt x="3233" y="247"/>
                    </a:lnTo>
                    <a:lnTo>
                      <a:pt x="3276" y="230"/>
                    </a:lnTo>
                    <a:lnTo>
                      <a:pt x="3329" y="223"/>
                    </a:lnTo>
                    <a:lnTo>
                      <a:pt x="3380" y="206"/>
                    </a:lnTo>
                    <a:lnTo>
                      <a:pt x="3431" y="189"/>
                    </a:lnTo>
                    <a:lnTo>
                      <a:pt x="3474" y="173"/>
                    </a:lnTo>
                    <a:lnTo>
                      <a:pt x="3526" y="139"/>
                    </a:lnTo>
                    <a:lnTo>
                      <a:pt x="3578" y="115"/>
                    </a:lnTo>
                    <a:lnTo>
                      <a:pt x="3630" y="82"/>
                    </a:lnTo>
                    <a:lnTo>
                      <a:pt x="3673" y="50"/>
                    </a:lnTo>
                    <a:lnTo>
                      <a:pt x="3726" y="31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24"/>
                    </a:lnTo>
                    <a:lnTo>
                      <a:pt x="3924" y="31"/>
                    </a:lnTo>
                    <a:lnTo>
                      <a:pt x="3975" y="31"/>
                    </a:lnTo>
                    <a:lnTo>
                      <a:pt x="4028" y="24"/>
                    </a:lnTo>
                    <a:lnTo>
                      <a:pt x="4072" y="16"/>
                    </a:lnTo>
                    <a:lnTo>
                      <a:pt x="4123" y="7"/>
                    </a:lnTo>
                    <a:lnTo>
                      <a:pt x="4174" y="7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6"/>
                    </a:lnTo>
                    <a:lnTo>
                      <a:pt x="4374" y="24"/>
                    </a:lnTo>
                    <a:lnTo>
                      <a:pt x="4427" y="31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41"/>
                    </a:lnTo>
                    <a:lnTo>
                      <a:pt x="4667" y="31"/>
                    </a:lnTo>
                    <a:lnTo>
                      <a:pt x="4718" y="31"/>
                    </a:lnTo>
                    <a:lnTo>
                      <a:pt x="4771" y="24"/>
                    </a:lnTo>
                    <a:lnTo>
                      <a:pt x="4824" y="24"/>
                    </a:lnTo>
                    <a:lnTo>
                      <a:pt x="4867" y="24"/>
                    </a:lnTo>
                    <a:lnTo>
                      <a:pt x="4918" y="24"/>
                    </a:lnTo>
                    <a:lnTo>
                      <a:pt x="4918" y="139"/>
                    </a:lnTo>
                    <a:lnTo>
                      <a:pt x="4867" y="148"/>
                    </a:lnTo>
                    <a:lnTo>
                      <a:pt x="4824" y="156"/>
                    </a:lnTo>
                    <a:lnTo>
                      <a:pt x="4771" y="165"/>
                    </a:lnTo>
                    <a:lnTo>
                      <a:pt x="4718" y="165"/>
                    </a:lnTo>
                    <a:lnTo>
                      <a:pt x="4667" y="173"/>
                    </a:lnTo>
                    <a:lnTo>
                      <a:pt x="4625" y="180"/>
                    </a:lnTo>
                    <a:lnTo>
                      <a:pt x="4572" y="189"/>
                    </a:lnTo>
                    <a:lnTo>
                      <a:pt x="4521" y="189"/>
                    </a:lnTo>
                    <a:lnTo>
                      <a:pt x="4469" y="180"/>
                    </a:lnTo>
                    <a:lnTo>
                      <a:pt x="4427" y="173"/>
                    </a:lnTo>
                    <a:lnTo>
                      <a:pt x="4374" y="156"/>
                    </a:lnTo>
                    <a:lnTo>
                      <a:pt x="4321" y="139"/>
                    </a:lnTo>
                    <a:lnTo>
                      <a:pt x="4270" y="124"/>
                    </a:lnTo>
                    <a:lnTo>
                      <a:pt x="4226" y="115"/>
                    </a:lnTo>
                    <a:lnTo>
                      <a:pt x="4174" y="106"/>
                    </a:lnTo>
                    <a:lnTo>
                      <a:pt x="4123" y="106"/>
                    </a:lnTo>
                    <a:lnTo>
                      <a:pt x="4072" y="106"/>
                    </a:lnTo>
                    <a:lnTo>
                      <a:pt x="4028" y="106"/>
                    </a:lnTo>
                    <a:lnTo>
                      <a:pt x="3975" y="106"/>
                    </a:lnTo>
                    <a:lnTo>
                      <a:pt x="3924" y="106"/>
                    </a:lnTo>
                    <a:lnTo>
                      <a:pt x="3871" y="98"/>
                    </a:lnTo>
                    <a:lnTo>
                      <a:pt x="3828" y="91"/>
                    </a:lnTo>
                    <a:lnTo>
                      <a:pt x="3777" y="91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32"/>
                    </a:lnTo>
                    <a:lnTo>
                      <a:pt x="3578" y="156"/>
                    </a:lnTo>
                    <a:lnTo>
                      <a:pt x="3526" y="189"/>
                    </a:lnTo>
                    <a:lnTo>
                      <a:pt x="3474" y="206"/>
                    </a:lnTo>
                    <a:lnTo>
                      <a:pt x="3431" y="230"/>
                    </a:lnTo>
                    <a:lnTo>
                      <a:pt x="3380" y="239"/>
                    </a:lnTo>
                    <a:lnTo>
                      <a:pt x="3329" y="247"/>
                    </a:lnTo>
                    <a:lnTo>
                      <a:pt x="3276" y="255"/>
                    </a:lnTo>
                    <a:lnTo>
                      <a:pt x="3233" y="264"/>
                    </a:lnTo>
                    <a:lnTo>
                      <a:pt x="3180" y="279"/>
                    </a:lnTo>
                    <a:lnTo>
                      <a:pt x="3129" y="297"/>
                    </a:lnTo>
                    <a:lnTo>
                      <a:pt x="3076" y="305"/>
                    </a:lnTo>
                    <a:lnTo>
                      <a:pt x="3034" y="312"/>
                    </a:lnTo>
                    <a:lnTo>
                      <a:pt x="2982" y="305"/>
                    </a:lnTo>
                    <a:lnTo>
                      <a:pt x="2930" y="288"/>
                    </a:lnTo>
                    <a:lnTo>
                      <a:pt x="2878" y="264"/>
                    </a:lnTo>
                    <a:lnTo>
                      <a:pt x="2834" y="239"/>
                    </a:lnTo>
                    <a:lnTo>
                      <a:pt x="2783" y="206"/>
                    </a:lnTo>
                    <a:lnTo>
                      <a:pt x="2730" y="189"/>
                    </a:lnTo>
                    <a:lnTo>
                      <a:pt x="2679" y="180"/>
                    </a:lnTo>
                    <a:lnTo>
                      <a:pt x="2636" y="189"/>
                    </a:lnTo>
                    <a:lnTo>
                      <a:pt x="2585" y="198"/>
                    </a:lnTo>
                    <a:lnTo>
                      <a:pt x="2532" y="198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73"/>
                    </a:lnTo>
                    <a:lnTo>
                      <a:pt x="2333" y="156"/>
                    </a:lnTo>
                    <a:lnTo>
                      <a:pt x="2281" y="148"/>
                    </a:lnTo>
                    <a:lnTo>
                      <a:pt x="2239" y="156"/>
                    </a:lnTo>
                    <a:lnTo>
                      <a:pt x="2188" y="180"/>
                    </a:lnTo>
                    <a:lnTo>
                      <a:pt x="2135" y="223"/>
                    </a:lnTo>
                    <a:lnTo>
                      <a:pt x="2084" y="264"/>
                    </a:lnTo>
                    <a:lnTo>
                      <a:pt x="2039" y="305"/>
                    </a:lnTo>
                    <a:lnTo>
                      <a:pt x="1986" y="338"/>
                    </a:lnTo>
                    <a:lnTo>
                      <a:pt x="1935" y="346"/>
                    </a:lnTo>
                    <a:lnTo>
                      <a:pt x="1884" y="346"/>
                    </a:lnTo>
                    <a:lnTo>
                      <a:pt x="1841" y="338"/>
                    </a:lnTo>
                    <a:lnTo>
                      <a:pt x="1789" y="321"/>
                    </a:lnTo>
                    <a:lnTo>
                      <a:pt x="1737" y="321"/>
                    </a:lnTo>
                    <a:lnTo>
                      <a:pt x="1685" y="338"/>
                    </a:lnTo>
                    <a:lnTo>
                      <a:pt x="1642" y="371"/>
                    </a:lnTo>
                    <a:lnTo>
                      <a:pt x="1589" y="396"/>
                    </a:lnTo>
                    <a:lnTo>
                      <a:pt x="1538" y="412"/>
                    </a:lnTo>
                    <a:lnTo>
                      <a:pt x="1487" y="403"/>
                    </a:lnTo>
                    <a:lnTo>
                      <a:pt x="1444" y="379"/>
                    </a:lnTo>
                    <a:lnTo>
                      <a:pt x="1391" y="329"/>
                    </a:lnTo>
                    <a:lnTo>
                      <a:pt x="1340" y="273"/>
                    </a:lnTo>
                    <a:lnTo>
                      <a:pt x="1287" y="223"/>
                    </a:lnTo>
                    <a:lnTo>
                      <a:pt x="1245" y="198"/>
                    </a:lnTo>
                    <a:lnTo>
                      <a:pt x="1192" y="214"/>
                    </a:lnTo>
                    <a:lnTo>
                      <a:pt x="1141" y="247"/>
                    </a:lnTo>
                    <a:lnTo>
                      <a:pt x="1089" y="288"/>
                    </a:lnTo>
                    <a:lnTo>
                      <a:pt x="1045" y="305"/>
                    </a:lnTo>
                    <a:lnTo>
                      <a:pt x="994" y="305"/>
                    </a:lnTo>
                    <a:lnTo>
                      <a:pt x="943" y="288"/>
                    </a:lnTo>
                    <a:lnTo>
                      <a:pt x="890" y="230"/>
                    </a:lnTo>
                    <a:lnTo>
                      <a:pt x="845" y="148"/>
                    </a:lnTo>
                    <a:lnTo>
                      <a:pt x="794" y="82"/>
                    </a:lnTo>
                    <a:lnTo>
                      <a:pt x="743" y="65"/>
                    </a:lnTo>
                    <a:lnTo>
                      <a:pt x="690" y="115"/>
                    </a:lnTo>
                    <a:lnTo>
                      <a:pt x="648" y="198"/>
                    </a:lnTo>
                    <a:lnTo>
                      <a:pt x="596" y="279"/>
                    </a:lnTo>
                    <a:lnTo>
                      <a:pt x="544" y="338"/>
                    </a:lnTo>
                    <a:lnTo>
                      <a:pt x="491" y="379"/>
                    </a:lnTo>
                    <a:lnTo>
                      <a:pt x="448" y="403"/>
                    </a:lnTo>
                    <a:lnTo>
                      <a:pt x="397" y="403"/>
                    </a:lnTo>
                    <a:lnTo>
                      <a:pt x="346" y="362"/>
                    </a:lnTo>
                    <a:lnTo>
                      <a:pt x="293" y="297"/>
                    </a:lnTo>
                    <a:lnTo>
                      <a:pt x="250" y="297"/>
                    </a:lnTo>
                    <a:lnTo>
                      <a:pt x="199" y="353"/>
                    </a:lnTo>
                    <a:lnTo>
                      <a:pt x="146" y="428"/>
                    </a:lnTo>
                    <a:lnTo>
                      <a:pt x="93" y="494"/>
                    </a:lnTo>
                    <a:lnTo>
                      <a:pt x="51" y="528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53560" y="3765600"/>
                <a:ext cx="3537720" cy="42048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36"/>
                    </a:lnTo>
                    <a:lnTo>
                      <a:pt x="93" y="504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22"/>
                    </a:lnTo>
                    <a:lnTo>
                      <a:pt x="346" y="396"/>
                    </a:lnTo>
                    <a:lnTo>
                      <a:pt x="397" y="446"/>
                    </a:lnTo>
                    <a:lnTo>
                      <a:pt x="448" y="446"/>
                    </a:lnTo>
                    <a:lnTo>
                      <a:pt x="491" y="420"/>
                    </a:lnTo>
                    <a:lnTo>
                      <a:pt x="544" y="372"/>
                    </a:lnTo>
                    <a:lnTo>
                      <a:pt x="596" y="305"/>
                    </a:lnTo>
                    <a:lnTo>
                      <a:pt x="648" y="214"/>
                    </a:lnTo>
                    <a:lnTo>
                      <a:pt x="690" y="124"/>
                    </a:lnTo>
                    <a:lnTo>
                      <a:pt x="743" y="74"/>
                    </a:lnTo>
                    <a:lnTo>
                      <a:pt x="794" y="99"/>
                    </a:lnTo>
                    <a:lnTo>
                      <a:pt x="845" y="182"/>
                    </a:lnTo>
                    <a:lnTo>
                      <a:pt x="890" y="264"/>
                    </a:lnTo>
                    <a:lnTo>
                      <a:pt x="943" y="313"/>
                    </a:lnTo>
                    <a:lnTo>
                      <a:pt x="994" y="331"/>
                    </a:lnTo>
                    <a:lnTo>
                      <a:pt x="1045" y="322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6"/>
                    </a:lnTo>
                    <a:lnTo>
                      <a:pt x="1391" y="322"/>
                    </a:lnTo>
                    <a:lnTo>
                      <a:pt x="1444" y="363"/>
                    </a:lnTo>
                    <a:lnTo>
                      <a:pt x="1487" y="387"/>
                    </a:lnTo>
                    <a:lnTo>
                      <a:pt x="1538" y="379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63"/>
                    </a:lnTo>
                    <a:lnTo>
                      <a:pt x="1935" y="372"/>
                    </a:lnTo>
                    <a:lnTo>
                      <a:pt x="1986" y="363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6"/>
                    </a:lnTo>
                    <a:lnTo>
                      <a:pt x="2239" y="182"/>
                    </a:lnTo>
                    <a:lnTo>
                      <a:pt x="2281" y="173"/>
                    </a:lnTo>
                    <a:lnTo>
                      <a:pt x="2333" y="182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6"/>
                    </a:lnTo>
                    <a:lnTo>
                      <a:pt x="2585" y="190"/>
                    </a:lnTo>
                    <a:lnTo>
                      <a:pt x="2636" y="182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81"/>
                    </a:lnTo>
                    <a:lnTo>
                      <a:pt x="3233" y="264"/>
                    </a:lnTo>
                    <a:lnTo>
                      <a:pt x="3276" y="247"/>
                    </a:lnTo>
                    <a:lnTo>
                      <a:pt x="3329" y="238"/>
                    </a:lnTo>
                    <a:lnTo>
                      <a:pt x="3380" y="231"/>
                    </a:lnTo>
                    <a:lnTo>
                      <a:pt x="3431" y="214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2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41"/>
                    </a:lnTo>
                    <a:lnTo>
                      <a:pt x="3828" y="41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3"/>
                    </a:lnTo>
                    <a:lnTo>
                      <a:pt x="4072" y="24"/>
                    </a:lnTo>
                    <a:lnTo>
                      <a:pt x="4123" y="17"/>
                    </a:lnTo>
                    <a:lnTo>
                      <a:pt x="4174" y="9"/>
                    </a:lnTo>
                    <a:lnTo>
                      <a:pt x="4226" y="0"/>
                    </a:lnTo>
                    <a:lnTo>
                      <a:pt x="4270" y="9"/>
                    </a:lnTo>
                    <a:lnTo>
                      <a:pt x="4321" y="17"/>
                    </a:lnTo>
                    <a:lnTo>
                      <a:pt x="4374" y="33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3"/>
                    </a:lnTo>
                    <a:lnTo>
                      <a:pt x="4867" y="83"/>
                    </a:lnTo>
                    <a:lnTo>
                      <a:pt x="4824" y="83"/>
                    </a:lnTo>
                    <a:lnTo>
                      <a:pt x="4771" y="83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1"/>
                    </a:lnTo>
                    <a:lnTo>
                      <a:pt x="4374" y="83"/>
                    </a:lnTo>
                    <a:lnTo>
                      <a:pt x="4321" y="74"/>
                    </a:lnTo>
                    <a:lnTo>
                      <a:pt x="4270" y="65"/>
                    </a:lnTo>
                    <a:lnTo>
                      <a:pt x="4226" y="58"/>
                    </a:lnTo>
                    <a:lnTo>
                      <a:pt x="4174" y="65"/>
                    </a:lnTo>
                    <a:lnTo>
                      <a:pt x="4123" y="65"/>
                    </a:lnTo>
                    <a:lnTo>
                      <a:pt x="4072" y="74"/>
                    </a:lnTo>
                    <a:lnTo>
                      <a:pt x="4028" y="83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83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91"/>
                    </a:lnTo>
                    <a:lnTo>
                      <a:pt x="3673" y="108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197"/>
                    </a:lnTo>
                    <a:lnTo>
                      <a:pt x="3474" y="231"/>
                    </a:lnTo>
                    <a:lnTo>
                      <a:pt x="3431" y="247"/>
                    </a:lnTo>
                    <a:lnTo>
                      <a:pt x="3380" y="264"/>
                    </a:lnTo>
                    <a:lnTo>
                      <a:pt x="3329" y="281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46"/>
                    </a:lnTo>
                    <a:lnTo>
                      <a:pt x="3076" y="355"/>
                    </a:lnTo>
                    <a:lnTo>
                      <a:pt x="3034" y="363"/>
                    </a:lnTo>
                    <a:lnTo>
                      <a:pt x="2982" y="363"/>
                    </a:lnTo>
                    <a:lnTo>
                      <a:pt x="2930" y="346"/>
                    </a:lnTo>
                    <a:lnTo>
                      <a:pt x="2878" y="322"/>
                    </a:lnTo>
                    <a:lnTo>
                      <a:pt x="2834" y="288"/>
                    </a:lnTo>
                    <a:lnTo>
                      <a:pt x="2783" y="264"/>
                    </a:lnTo>
                    <a:lnTo>
                      <a:pt x="2730" y="247"/>
                    </a:lnTo>
                    <a:lnTo>
                      <a:pt x="2679" y="238"/>
                    </a:lnTo>
                    <a:lnTo>
                      <a:pt x="2636" y="247"/>
                    </a:lnTo>
                    <a:lnTo>
                      <a:pt x="2585" y="256"/>
                    </a:lnTo>
                    <a:lnTo>
                      <a:pt x="2532" y="256"/>
                    </a:lnTo>
                    <a:lnTo>
                      <a:pt x="2481" y="256"/>
                    </a:lnTo>
                    <a:lnTo>
                      <a:pt x="2437" y="247"/>
                    </a:lnTo>
                    <a:lnTo>
                      <a:pt x="2385" y="231"/>
                    </a:lnTo>
                    <a:lnTo>
                      <a:pt x="2333" y="214"/>
                    </a:lnTo>
                    <a:lnTo>
                      <a:pt x="2281" y="206"/>
                    </a:lnTo>
                    <a:lnTo>
                      <a:pt x="2239" y="214"/>
                    </a:lnTo>
                    <a:lnTo>
                      <a:pt x="2188" y="238"/>
                    </a:lnTo>
                    <a:lnTo>
                      <a:pt x="2135" y="281"/>
                    </a:lnTo>
                    <a:lnTo>
                      <a:pt x="2084" y="322"/>
                    </a:lnTo>
                    <a:lnTo>
                      <a:pt x="2039" y="363"/>
                    </a:lnTo>
                    <a:lnTo>
                      <a:pt x="1986" y="387"/>
                    </a:lnTo>
                    <a:lnTo>
                      <a:pt x="1935" y="396"/>
                    </a:lnTo>
                    <a:lnTo>
                      <a:pt x="1884" y="396"/>
                    </a:lnTo>
                    <a:lnTo>
                      <a:pt x="1841" y="372"/>
                    </a:lnTo>
                    <a:lnTo>
                      <a:pt x="1789" y="355"/>
                    </a:lnTo>
                    <a:lnTo>
                      <a:pt x="1737" y="355"/>
                    </a:lnTo>
                    <a:lnTo>
                      <a:pt x="1685" y="363"/>
                    </a:lnTo>
                    <a:lnTo>
                      <a:pt x="1642" y="387"/>
                    </a:lnTo>
                    <a:lnTo>
                      <a:pt x="1589" y="413"/>
                    </a:lnTo>
                    <a:lnTo>
                      <a:pt x="1538" y="429"/>
                    </a:lnTo>
                    <a:lnTo>
                      <a:pt x="1487" y="429"/>
                    </a:lnTo>
                    <a:lnTo>
                      <a:pt x="1444" y="413"/>
                    </a:lnTo>
                    <a:lnTo>
                      <a:pt x="1391" y="372"/>
                    </a:lnTo>
                    <a:lnTo>
                      <a:pt x="1340" y="313"/>
                    </a:lnTo>
                    <a:lnTo>
                      <a:pt x="1287" y="264"/>
                    </a:lnTo>
                    <a:lnTo>
                      <a:pt x="1245" y="247"/>
                    </a:lnTo>
                    <a:lnTo>
                      <a:pt x="1192" y="264"/>
                    </a:lnTo>
                    <a:lnTo>
                      <a:pt x="1141" y="305"/>
                    </a:lnTo>
                    <a:lnTo>
                      <a:pt x="1089" y="338"/>
                    </a:lnTo>
                    <a:lnTo>
                      <a:pt x="1045" y="363"/>
                    </a:lnTo>
                    <a:lnTo>
                      <a:pt x="994" y="363"/>
                    </a:lnTo>
                    <a:lnTo>
                      <a:pt x="943" y="338"/>
                    </a:lnTo>
                    <a:lnTo>
                      <a:pt x="890" y="288"/>
                    </a:lnTo>
                    <a:lnTo>
                      <a:pt x="845" y="206"/>
                    </a:lnTo>
                    <a:lnTo>
                      <a:pt x="794" y="140"/>
                    </a:lnTo>
                    <a:lnTo>
                      <a:pt x="743" y="124"/>
                    </a:lnTo>
                    <a:lnTo>
                      <a:pt x="690" y="173"/>
                    </a:lnTo>
                    <a:lnTo>
                      <a:pt x="648" y="256"/>
                    </a:lnTo>
                    <a:lnTo>
                      <a:pt x="596" y="338"/>
                    </a:lnTo>
                    <a:lnTo>
                      <a:pt x="544" y="396"/>
                    </a:lnTo>
                    <a:lnTo>
                      <a:pt x="491" y="437"/>
                    </a:lnTo>
                    <a:lnTo>
                      <a:pt x="448" y="461"/>
                    </a:lnTo>
                    <a:lnTo>
                      <a:pt x="397" y="461"/>
                    </a:lnTo>
                    <a:lnTo>
                      <a:pt x="346" y="420"/>
                    </a:lnTo>
                    <a:lnTo>
                      <a:pt x="293" y="355"/>
                    </a:lnTo>
                    <a:lnTo>
                      <a:pt x="250" y="355"/>
                    </a:lnTo>
                    <a:lnTo>
                      <a:pt x="199" y="413"/>
                    </a:lnTo>
                    <a:lnTo>
                      <a:pt x="146" y="486"/>
                    </a:lnTo>
                    <a:lnTo>
                      <a:pt x="93" y="552"/>
                    </a:lnTo>
                    <a:lnTo>
                      <a:pt x="51" y="586"/>
                    </a:lnTo>
                    <a:lnTo>
                      <a:pt x="0" y="61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53560" y="3738240"/>
                <a:ext cx="3537720" cy="41904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45"/>
                    </a:lnTo>
                    <a:lnTo>
                      <a:pt x="93" y="502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13"/>
                    </a:lnTo>
                    <a:lnTo>
                      <a:pt x="346" y="404"/>
                    </a:lnTo>
                    <a:lnTo>
                      <a:pt x="397" y="452"/>
                    </a:lnTo>
                    <a:lnTo>
                      <a:pt x="448" y="452"/>
                    </a:lnTo>
                    <a:lnTo>
                      <a:pt x="491" y="420"/>
                    </a:lnTo>
                    <a:lnTo>
                      <a:pt x="544" y="379"/>
                    </a:lnTo>
                    <a:lnTo>
                      <a:pt x="596" y="305"/>
                    </a:lnTo>
                    <a:lnTo>
                      <a:pt x="648" y="205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91"/>
                    </a:lnTo>
                    <a:lnTo>
                      <a:pt x="845" y="173"/>
                    </a:lnTo>
                    <a:lnTo>
                      <a:pt x="890" y="264"/>
                    </a:lnTo>
                    <a:lnTo>
                      <a:pt x="943" y="322"/>
                    </a:lnTo>
                    <a:lnTo>
                      <a:pt x="994" y="338"/>
                    </a:lnTo>
                    <a:lnTo>
                      <a:pt x="1045" y="329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5"/>
                    </a:lnTo>
                    <a:lnTo>
                      <a:pt x="1391" y="322"/>
                    </a:lnTo>
                    <a:lnTo>
                      <a:pt x="1444" y="372"/>
                    </a:lnTo>
                    <a:lnTo>
                      <a:pt x="1487" y="387"/>
                    </a:lnTo>
                    <a:lnTo>
                      <a:pt x="1538" y="387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72"/>
                    </a:lnTo>
                    <a:lnTo>
                      <a:pt x="1935" y="379"/>
                    </a:lnTo>
                    <a:lnTo>
                      <a:pt x="1986" y="372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5"/>
                    </a:lnTo>
                    <a:lnTo>
                      <a:pt x="2239" y="173"/>
                    </a:lnTo>
                    <a:lnTo>
                      <a:pt x="2281" y="164"/>
                    </a:lnTo>
                    <a:lnTo>
                      <a:pt x="2333" y="181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5"/>
                    </a:lnTo>
                    <a:lnTo>
                      <a:pt x="2585" y="197"/>
                    </a:lnTo>
                    <a:lnTo>
                      <a:pt x="2636" y="181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79"/>
                    </a:lnTo>
                    <a:lnTo>
                      <a:pt x="3233" y="264"/>
                    </a:lnTo>
                    <a:lnTo>
                      <a:pt x="3276" y="255"/>
                    </a:lnTo>
                    <a:lnTo>
                      <a:pt x="3329" y="247"/>
                    </a:lnTo>
                    <a:lnTo>
                      <a:pt x="3380" y="238"/>
                    </a:lnTo>
                    <a:lnTo>
                      <a:pt x="3431" y="223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0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32"/>
                    </a:lnTo>
                    <a:lnTo>
                      <a:pt x="3828" y="32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2"/>
                    </a:lnTo>
                    <a:lnTo>
                      <a:pt x="4072" y="24"/>
                    </a:lnTo>
                    <a:lnTo>
                      <a:pt x="4123" y="7"/>
                    </a:lnTo>
                    <a:lnTo>
                      <a:pt x="4174" y="0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7"/>
                    </a:lnTo>
                    <a:lnTo>
                      <a:pt x="4374" y="32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82"/>
                    </a:lnTo>
                    <a:lnTo>
                      <a:pt x="4718" y="82"/>
                    </a:lnTo>
                    <a:lnTo>
                      <a:pt x="4667" y="82"/>
                    </a:lnTo>
                    <a:lnTo>
                      <a:pt x="4625" y="82"/>
                    </a:lnTo>
                    <a:lnTo>
                      <a:pt x="4572" y="91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82"/>
                    </a:lnTo>
                    <a:lnTo>
                      <a:pt x="4374" y="74"/>
                    </a:lnTo>
                    <a:lnTo>
                      <a:pt x="4321" y="58"/>
                    </a:lnTo>
                    <a:lnTo>
                      <a:pt x="4270" y="50"/>
                    </a:lnTo>
                    <a:lnTo>
                      <a:pt x="4226" y="41"/>
                    </a:lnTo>
                    <a:lnTo>
                      <a:pt x="4174" y="50"/>
                    </a:lnTo>
                    <a:lnTo>
                      <a:pt x="4123" y="58"/>
                    </a:lnTo>
                    <a:lnTo>
                      <a:pt x="4072" y="65"/>
                    </a:lnTo>
                    <a:lnTo>
                      <a:pt x="4028" y="74"/>
                    </a:lnTo>
                    <a:lnTo>
                      <a:pt x="3975" y="82"/>
                    </a:lnTo>
                    <a:lnTo>
                      <a:pt x="3924" y="82"/>
                    </a:lnTo>
                    <a:lnTo>
                      <a:pt x="3871" y="82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205"/>
                    </a:lnTo>
                    <a:lnTo>
                      <a:pt x="3474" y="238"/>
                    </a:lnTo>
                    <a:lnTo>
                      <a:pt x="3431" y="255"/>
                    </a:lnTo>
                    <a:lnTo>
                      <a:pt x="3380" y="272"/>
                    </a:lnTo>
                    <a:lnTo>
                      <a:pt x="3329" y="279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38"/>
                    </a:lnTo>
                    <a:lnTo>
                      <a:pt x="3076" y="354"/>
                    </a:lnTo>
                    <a:lnTo>
                      <a:pt x="3034" y="363"/>
                    </a:lnTo>
                    <a:lnTo>
                      <a:pt x="2982" y="354"/>
                    </a:lnTo>
                    <a:lnTo>
                      <a:pt x="2930" y="338"/>
                    </a:lnTo>
                    <a:lnTo>
                      <a:pt x="2878" y="305"/>
                    </a:lnTo>
                    <a:lnTo>
                      <a:pt x="2834" y="272"/>
                    </a:lnTo>
                    <a:lnTo>
                      <a:pt x="2783" y="238"/>
                    </a:lnTo>
                    <a:lnTo>
                      <a:pt x="2730" y="214"/>
                    </a:lnTo>
                    <a:lnTo>
                      <a:pt x="2679" y="214"/>
                    </a:lnTo>
                    <a:lnTo>
                      <a:pt x="2636" y="223"/>
                    </a:lnTo>
                    <a:lnTo>
                      <a:pt x="2585" y="231"/>
                    </a:lnTo>
                    <a:lnTo>
                      <a:pt x="2532" y="247"/>
                    </a:lnTo>
                    <a:lnTo>
                      <a:pt x="2481" y="255"/>
                    </a:lnTo>
                    <a:lnTo>
                      <a:pt x="2437" y="255"/>
                    </a:lnTo>
                    <a:lnTo>
                      <a:pt x="2385" y="238"/>
                    </a:lnTo>
                    <a:lnTo>
                      <a:pt x="2333" y="223"/>
                    </a:lnTo>
                    <a:lnTo>
                      <a:pt x="2281" y="214"/>
                    </a:lnTo>
                    <a:lnTo>
                      <a:pt x="2239" y="223"/>
                    </a:lnTo>
                    <a:lnTo>
                      <a:pt x="2188" y="247"/>
                    </a:lnTo>
                    <a:lnTo>
                      <a:pt x="2135" y="288"/>
                    </a:lnTo>
                    <a:lnTo>
                      <a:pt x="2084" y="338"/>
                    </a:lnTo>
                    <a:lnTo>
                      <a:pt x="2039" y="379"/>
                    </a:lnTo>
                    <a:lnTo>
                      <a:pt x="1986" y="404"/>
                    </a:lnTo>
                    <a:lnTo>
                      <a:pt x="1935" y="413"/>
                    </a:lnTo>
                    <a:lnTo>
                      <a:pt x="1884" y="404"/>
                    </a:lnTo>
                    <a:lnTo>
                      <a:pt x="1841" y="379"/>
                    </a:lnTo>
                    <a:lnTo>
                      <a:pt x="1789" y="354"/>
                    </a:lnTo>
                    <a:lnTo>
                      <a:pt x="1737" y="338"/>
                    </a:lnTo>
                    <a:lnTo>
                      <a:pt x="1685" y="346"/>
                    </a:lnTo>
                    <a:lnTo>
                      <a:pt x="1642" y="379"/>
                    </a:lnTo>
                    <a:lnTo>
                      <a:pt x="1589" y="404"/>
                    </a:lnTo>
                    <a:lnTo>
                      <a:pt x="1538" y="420"/>
                    </a:lnTo>
                    <a:lnTo>
                      <a:pt x="1487" y="428"/>
                    </a:lnTo>
                    <a:lnTo>
                      <a:pt x="1444" y="404"/>
                    </a:lnTo>
                    <a:lnTo>
                      <a:pt x="1391" y="363"/>
                    </a:lnTo>
                    <a:lnTo>
                      <a:pt x="1340" y="297"/>
                    </a:lnTo>
                    <a:lnTo>
                      <a:pt x="1287" y="238"/>
                    </a:lnTo>
                    <a:lnTo>
                      <a:pt x="1245" y="214"/>
                    </a:lnTo>
                    <a:lnTo>
                      <a:pt x="1192" y="231"/>
                    </a:lnTo>
                    <a:lnTo>
                      <a:pt x="1141" y="279"/>
                    </a:lnTo>
                    <a:lnTo>
                      <a:pt x="1089" y="329"/>
                    </a:lnTo>
                    <a:lnTo>
                      <a:pt x="1045" y="363"/>
                    </a:lnTo>
                    <a:lnTo>
                      <a:pt x="994" y="372"/>
                    </a:lnTo>
                    <a:lnTo>
                      <a:pt x="943" y="354"/>
                    </a:lnTo>
                    <a:lnTo>
                      <a:pt x="890" y="305"/>
                    </a:lnTo>
                    <a:lnTo>
                      <a:pt x="845" y="223"/>
                    </a:lnTo>
                    <a:lnTo>
                      <a:pt x="794" y="140"/>
                    </a:lnTo>
                    <a:lnTo>
                      <a:pt x="743" y="115"/>
                    </a:lnTo>
                    <a:lnTo>
                      <a:pt x="690" y="164"/>
                    </a:lnTo>
                    <a:lnTo>
                      <a:pt x="648" y="255"/>
                    </a:lnTo>
                    <a:lnTo>
                      <a:pt x="596" y="346"/>
                    </a:lnTo>
                    <a:lnTo>
                      <a:pt x="544" y="413"/>
                    </a:lnTo>
                    <a:lnTo>
                      <a:pt x="491" y="461"/>
                    </a:lnTo>
                    <a:lnTo>
                      <a:pt x="448" y="486"/>
                    </a:lnTo>
                    <a:lnTo>
                      <a:pt x="397" y="486"/>
                    </a:lnTo>
                    <a:lnTo>
                      <a:pt x="346" y="437"/>
                    </a:lnTo>
                    <a:lnTo>
                      <a:pt x="293" y="363"/>
                    </a:lnTo>
                    <a:lnTo>
                      <a:pt x="250" y="346"/>
                    </a:lnTo>
                    <a:lnTo>
                      <a:pt x="199" y="404"/>
                    </a:lnTo>
                    <a:lnTo>
                      <a:pt x="146" y="478"/>
                    </a:lnTo>
                    <a:lnTo>
                      <a:pt x="93" y="545"/>
                    </a:lnTo>
                    <a:lnTo>
                      <a:pt x="51" y="577"/>
                    </a:lnTo>
                    <a:lnTo>
                      <a:pt x="0" y="6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53560" y="3080880"/>
                <a:ext cx="3537720" cy="1048680"/>
              </a:xfrm>
              <a:custGeom>
                <a:avLst/>
                <a:gdLst/>
                <a:ahLst/>
                <a:rect l="l" t="t" r="r" b="b"/>
                <a:pathLst>
                  <a:path w="4918" h="1524">
                    <a:moveTo>
                      <a:pt x="0" y="1524"/>
                    </a:moveTo>
                    <a:lnTo>
                      <a:pt x="0" y="1482"/>
                    </a:lnTo>
                    <a:lnTo>
                      <a:pt x="51" y="1457"/>
                    </a:lnTo>
                    <a:lnTo>
                      <a:pt x="93" y="1409"/>
                    </a:lnTo>
                    <a:lnTo>
                      <a:pt x="146" y="1342"/>
                    </a:lnTo>
                    <a:lnTo>
                      <a:pt x="199" y="1260"/>
                    </a:lnTo>
                    <a:lnTo>
                      <a:pt x="250" y="1202"/>
                    </a:lnTo>
                    <a:lnTo>
                      <a:pt x="293" y="1202"/>
                    </a:lnTo>
                    <a:lnTo>
                      <a:pt x="346" y="1284"/>
                    </a:lnTo>
                    <a:lnTo>
                      <a:pt x="397" y="1334"/>
                    </a:lnTo>
                    <a:lnTo>
                      <a:pt x="448" y="1327"/>
                    </a:lnTo>
                    <a:lnTo>
                      <a:pt x="491" y="1293"/>
                    </a:lnTo>
                    <a:lnTo>
                      <a:pt x="544" y="1243"/>
                    </a:lnTo>
                    <a:lnTo>
                      <a:pt x="596" y="1161"/>
                    </a:lnTo>
                    <a:lnTo>
                      <a:pt x="648" y="1063"/>
                    </a:lnTo>
                    <a:lnTo>
                      <a:pt x="690" y="962"/>
                    </a:lnTo>
                    <a:lnTo>
                      <a:pt x="743" y="906"/>
                    </a:lnTo>
                    <a:lnTo>
                      <a:pt x="794" y="921"/>
                    </a:lnTo>
                    <a:lnTo>
                      <a:pt x="845" y="1005"/>
                    </a:lnTo>
                    <a:lnTo>
                      <a:pt x="890" y="1087"/>
                    </a:lnTo>
                    <a:lnTo>
                      <a:pt x="943" y="1136"/>
                    </a:lnTo>
                    <a:lnTo>
                      <a:pt x="994" y="1154"/>
                    </a:lnTo>
                    <a:lnTo>
                      <a:pt x="1045" y="1136"/>
                    </a:lnTo>
                    <a:lnTo>
                      <a:pt x="1089" y="1095"/>
                    </a:lnTo>
                    <a:lnTo>
                      <a:pt x="1141" y="1029"/>
                    </a:lnTo>
                    <a:lnTo>
                      <a:pt x="1192" y="981"/>
                    </a:lnTo>
                    <a:lnTo>
                      <a:pt x="1245" y="947"/>
                    </a:lnTo>
                    <a:lnTo>
                      <a:pt x="1287" y="962"/>
                    </a:lnTo>
                    <a:lnTo>
                      <a:pt x="1340" y="1013"/>
                    </a:lnTo>
                    <a:lnTo>
                      <a:pt x="1391" y="1070"/>
                    </a:lnTo>
                    <a:lnTo>
                      <a:pt x="1444" y="1111"/>
                    </a:lnTo>
                    <a:lnTo>
                      <a:pt x="1487" y="1128"/>
                    </a:lnTo>
                    <a:lnTo>
                      <a:pt x="1538" y="1111"/>
                    </a:lnTo>
                    <a:lnTo>
                      <a:pt x="1589" y="1079"/>
                    </a:lnTo>
                    <a:lnTo>
                      <a:pt x="1642" y="1037"/>
                    </a:lnTo>
                    <a:lnTo>
                      <a:pt x="1685" y="1005"/>
                    </a:lnTo>
                    <a:lnTo>
                      <a:pt x="1737" y="981"/>
                    </a:lnTo>
                    <a:lnTo>
                      <a:pt x="1789" y="981"/>
                    </a:lnTo>
                    <a:lnTo>
                      <a:pt x="1841" y="996"/>
                    </a:lnTo>
                    <a:lnTo>
                      <a:pt x="1884" y="1013"/>
                    </a:lnTo>
                    <a:lnTo>
                      <a:pt x="1935" y="1013"/>
                    </a:lnTo>
                    <a:lnTo>
                      <a:pt x="1986" y="996"/>
                    </a:lnTo>
                    <a:lnTo>
                      <a:pt x="2039" y="955"/>
                    </a:lnTo>
                    <a:lnTo>
                      <a:pt x="2084" y="897"/>
                    </a:lnTo>
                    <a:lnTo>
                      <a:pt x="2135" y="841"/>
                    </a:lnTo>
                    <a:lnTo>
                      <a:pt x="2188" y="782"/>
                    </a:lnTo>
                    <a:lnTo>
                      <a:pt x="2239" y="750"/>
                    </a:lnTo>
                    <a:lnTo>
                      <a:pt x="2281" y="733"/>
                    </a:lnTo>
                    <a:lnTo>
                      <a:pt x="2333" y="733"/>
                    </a:lnTo>
                    <a:lnTo>
                      <a:pt x="2385" y="742"/>
                    </a:lnTo>
                    <a:lnTo>
                      <a:pt x="2437" y="750"/>
                    </a:lnTo>
                    <a:lnTo>
                      <a:pt x="2481" y="750"/>
                    </a:lnTo>
                    <a:lnTo>
                      <a:pt x="2532" y="733"/>
                    </a:lnTo>
                    <a:lnTo>
                      <a:pt x="2585" y="716"/>
                    </a:lnTo>
                    <a:lnTo>
                      <a:pt x="2636" y="692"/>
                    </a:lnTo>
                    <a:lnTo>
                      <a:pt x="2679" y="675"/>
                    </a:lnTo>
                    <a:lnTo>
                      <a:pt x="2730" y="675"/>
                    </a:lnTo>
                    <a:lnTo>
                      <a:pt x="2783" y="692"/>
                    </a:lnTo>
                    <a:lnTo>
                      <a:pt x="2834" y="716"/>
                    </a:lnTo>
                    <a:lnTo>
                      <a:pt x="2878" y="750"/>
                    </a:lnTo>
                    <a:lnTo>
                      <a:pt x="2930" y="774"/>
                    </a:lnTo>
                    <a:lnTo>
                      <a:pt x="2982" y="782"/>
                    </a:lnTo>
                    <a:lnTo>
                      <a:pt x="3034" y="774"/>
                    </a:lnTo>
                    <a:lnTo>
                      <a:pt x="3076" y="757"/>
                    </a:lnTo>
                    <a:lnTo>
                      <a:pt x="3129" y="733"/>
                    </a:lnTo>
                    <a:lnTo>
                      <a:pt x="3180" y="700"/>
                    </a:lnTo>
                    <a:lnTo>
                      <a:pt x="3233" y="668"/>
                    </a:lnTo>
                    <a:lnTo>
                      <a:pt x="3276" y="642"/>
                    </a:lnTo>
                    <a:lnTo>
                      <a:pt x="3329" y="618"/>
                    </a:lnTo>
                    <a:lnTo>
                      <a:pt x="3380" y="593"/>
                    </a:lnTo>
                    <a:lnTo>
                      <a:pt x="3431" y="560"/>
                    </a:lnTo>
                    <a:lnTo>
                      <a:pt x="3474" y="510"/>
                    </a:lnTo>
                    <a:lnTo>
                      <a:pt x="3526" y="461"/>
                    </a:lnTo>
                    <a:lnTo>
                      <a:pt x="3578" y="404"/>
                    </a:lnTo>
                    <a:lnTo>
                      <a:pt x="3630" y="346"/>
                    </a:lnTo>
                    <a:lnTo>
                      <a:pt x="3673" y="288"/>
                    </a:lnTo>
                    <a:lnTo>
                      <a:pt x="3726" y="247"/>
                    </a:lnTo>
                    <a:lnTo>
                      <a:pt x="3777" y="214"/>
                    </a:lnTo>
                    <a:lnTo>
                      <a:pt x="3828" y="190"/>
                    </a:lnTo>
                    <a:lnTo>
                      <a:pt x="3871" y="173"/>
                    </a:lnTo>
                    <a:lnTo>
                      <a:pt x="3924" y="149"/>
                    </a:lnTo>
                    <a:lnTo>
                      <a:pt x="3975" y="130"/>
                    </a:lnTo>
                    <a:lnTo>
                      <a:pt x="4028" y="99"/>
                    </a:lnTo>
                    <a:lnTo>
                      <a:pt x="4072" y="74"/>
                    </a:lnTo>
                    <a:lnTo>
                      <a:pt x="4123" y="41"/>
                    </a:lnTo>
                    <a:lnTo>
                      <a:pt x="4174" y="24"/>
                    </a:lnTo>
                    <a:lnTo>
                      <a:pt x="4226" y="7"/>
                    </a:lnTo>
                    <a:lnTo>
                      <a:pt x="4270" y="0"/>
                    </a:lnTo>
                    <a:lnTo>
                      <a:pt x="4321" y="7"/>
                    </a:lnTo>
                    <a:lnTo>
                      <a:pt x="4374" y="17"/>
                    </a:lnTo>
                    <a:lnTo>
                      <a:pt x="4427" y="24"/>
                    </a:lnTo>
                    <a:lnTo>
                      <a:pt x="4469" y="32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50"/>
                    </a:lnTo>
                    <a:lnTo>
                      <a:pt x="4667" y="58"/>
                    </a:lnTo>
                    <a:lnTo>
                      <a:pt x="4718" y="65"/>
                    </a:lnTo>
                    <a:lnTo>
                      <a:pt x="4771" y="82"/>
                    </a:lnTo>
                    <a:lnTo>
                      <a:pt x="4824" y="106"/>
                    </a:lnTo>
                    <a:lnTo>
                      <a:pt x="4867" y="130"/>
                    </a:lnTo>
                    <a:lnTo>
                      <a:pt x="4918" y="149"/>
                    </a:lnTo>
                    <a:lnTo>
                      <a:pt x="4918" y="996"/>
                    </a:lnTo>
                    <a:lnTo>
                      <a:pt x="4867" y="996"/>
                    </a:lnTo>
                    <a:lnTo>
                      <a:pt x="4824" y="996"/>
                    </a:lnTo>
                    <a:lnTo>
                      <a:pt x="4771" y="996"/>
                    </a:lnTo>
                    <a:lnTo>
                      <a:pt x="4718" y="996"/>
                    </a:lnTo>
                    <a:lnTo>
                      <a:pt x="4667" y="996"/>
                    </a:lnTo>
                    <a:lnTo>
                      <a:pt x="4625" y="996"/>
                    </a:lnTo>
                    <a:lnTo>
                      <a:pt x="4572" y="1005"/>
                    </a:lnTo>
                    <a:lnTo>
                      <a:pt x="4521" y="1005"/>
                    </a:lnTo>
                    <a:lnTo>
                      <a:pt x="4469" y="1005"/>
                    </a:lnTo>
                    <a:lnTo>
                      <a:pt x="4427" y="996"/>
                    </a:lnTo>
                    <a:lnTo>
                      <a:pt x="4374" y="988"/>
                    </a:lnTo>
                    <a:lnTo>
                      <a:pt x="4321" y="972"/>
                    </a:lnTo>
                    <a:lnTo>
                      <a:pt x="4270" y="962"/>
                    </a:lnTo>
                    <a:lnTo>
                      <a:pt x="4226" y="955"/>
                    </a:lnTo>
                    <a:lnTo>
                      <a:pt x="4174" y="955"/>
                    </a:lnTo>
                    <a:lnTo>
                      <a:pt x="4123" y="962"/>
                    </a:lnTo>
                    <a:lnTo>
                      <a:pt x="4072" y="981"/>
                    </a:lnTo>
                    <a:lnTo>
                      <a:pt x="4028" y="988"/>
                    </a:lnTo>
                    <a:lnTo>
                      <a:pt x="3975" y="996"/>
                    </a:lnTo>
                    <a:lnTo>
                      <a:pt x="3924" y="996"/>
                    </a:lnTo>
                    <a:lnTo>
                      <a:pt x="3871" y="996"/>
                    </a:lnTo>
                    <a:lnTo>
                      <a:pt x="3828" y="988"/>
                    </a:lnTo>
                    <a:lnTo>
                      <a:pt x="3777" y="988"/>
                    </a:lnTo>
                    <a:lnTo>
                      <a:pt x="3726" y="1005"/>
                    </a:lnTo>
                    <a:lnTo>
                      <a:pt x="3673" y="1022"/>
                    </a:lnTo>
                    <a:lnTo>
                      <a:pt x="3630" y="1055"/>
                    </a:lnTo>
                    <a:lnTo>
                      <a:pt x="3578" y="1087"/>
                    </a:lnTo>
                    <a:lnTo>
                      <a:pt x="3526" y="1120"/>
                    </a:lnTo>
                    <a:lnTo>
                      <a:pt x="3474" y="1154"/>
                    </a:lnTo>
                    <a:lnTo>
                      <a:pt x="3431" y="1178"/>
                    </a:lnTo>
                    <a:lnTo>
                      <a:pt x="3380" y="1195"/>
                    </a:lnTo>
                    <a:lnTo>
                      <a:pt x="3329" y="1202"/>
                    </a:lnTo>
                    <a:lnTo>
                      <a:pt x="3276" y="1210"/>
                    </a:lnTo>
                    <a:lnTo>
                      <a:pt x="3233" y="1219"/>
                    </a:lnTo>
                    <a:lnTo>
                      <a:pt x="3180" y="1236"/>
                    </a:lnTo>
                    <a:lnTo>
                      <a:pt x="3129" y="1252"/>
                    </a:lnTo>
                    <a:lnTo>
                      <a:pt x="3076" y="1268"/>
                    </a:lnTo>
                    <a:lnTo>
                      <a:pt x="3034" y="1277"/>
                    </a:lnTo>
                    <a:lnTo>
                      <a:pt x="2982" y="1268"/>
                    </a:lnTo>
                    <a:lnTo>
                      <a:pt x="2930" y="1252"/>
                    </a:lnTo>
                    <a:lnTo>
                      <a:pt x="2878" y="1219"/>
                    </a:lnTo>
                    <a:lnTo>
                      <a:pt x="2834" y="1186"/>
                    </a:lnTo>
                    <a:lnTo>
                      <a:pt x="2783" y="1154"/>
                    </a:lnTo>
                    <a:lnTo>
                      <a:pt x="2730" y="1128"/>
                    </a:lnTo>
                    <a:lnTo>
                      <a:pt x="2679" y="1128"/>
                    </a:lnTo>
                    <a:lnTo>
                      <a:pt x="2636" y="1136"/>
                    </a:lnTo>
                    <a:lnTo>
                      <a:pt x="2585" y="1154"/>
                    </a:lnTo>
                    <a:lnTo>
                      <a:pt x="2532" y="1161"/>
                    </a:lnTo>
                    <a:lnTo>
                      <a:pt x="2481" y="1169"/>
                    </a:lnTo>
                    <a:lnTo>
                      <a:pt x="2437" y="1169"/>
                    </a:lnTo>
                    <a:lnTo>
                      <a:pt x="2385" y="1154"/>
                    </a:lnTo>
                    <a:lnTo>
                      <a:pt x="2333" y="1136"/>
                    </a:lnTo>
                    <a:lnTo>
                      <a:pt x="2281" y="1120"/>
                    </a:lnTo>
                    <a:lnTo>
                      <a:pt x="2239" y="1128"/>
                    </a:lnTo>
                    <a:lnTo>
                      <a:pt x="2188" y="1161"/>
                    </a:lnTo>
                    <a:lnTo>
                      <a:pt x="2135" y="1202"/>
                    </a:lnTo>
                    <a:lnTo>
                      <a:pt x="2084" y="1252"/>
                    </a:lnTo>
                    <a:lnTo>
                      <a:pt x="2039" y="1293"/>
                    </a:lnTo>
                    <a:lnTo>
                      <a:pt x="1986" y="1327"/>
                    </a:lnTo>
                    <a:lnTo>
                      <a:pt x="1935" y="1334"/>
                    </a:lnTo>
                    <a:lnTo>
                      <a:pt x="1884" y="1327"/>
                    </a:lnTo>
                    <a:lnTo>
                      <a:pt x="1841" y="1293"/>
                    </a:lnTo>
                    <a:lnTo>
                      <a:pt x="1789" y="1268"/>
                    </a:lnTo>
                    <a:lnTo>
                      <a:pt x="1737" y="1252"/>
                    </a:lnTo>
                    <a:lnTo>
                      <a:pt x="1685" y="1260"/>
                    </a:lnTo>
                    <a:lnTo>
                      <a:pt x="1642" y="1293"/>
                    </a:lnTo>
                    <a:lnTo>
                      <a:pt x="1589" y="1318"/>
                    </a:lnTo>
                    <a:lnTo>
                      <a:pt x="1538" y="1342"/>
                    </a:lnTo>
                    <a:lnTo>
                      <a:pt x="1487" y="1342"/>
                    </a:lnTo>
                    <a:lnTo>
                      <a:pt x="1444" y="1327"/>
                    </a:lnTo>
                    <a:lnTo>
                      <a:pt x="1391" y="1277"/>
                    </a:lnTo>
                    <a:lnTo>
                      <a:pt x="1340" y="1210"/>
                    </a:lnTo>
                    <a:lnTo>
                      <a:pt x="1287" y="1154"/>
                    </a:lnTo>
                    <a:lnTo>
                      <a:pt x="1245" y="1128"/>
                    </a:lnTo>
                    <a:lnTo>
                      <a:pt x="1192" y="1145"/>
                    </a:lnTo>
                    <a:lnTo>
                      <a:pt x="1141" y="1195"/>
                    </a:lnTo>
                    <a:lnTo>
                      <a:pt x="1089" y="1243"/>
                    </a:lnTo>
                    <a:lnTo>
                      <a:pt x="1045" y="1284"/>
                    </a:lnTo>
                    <a:lnTo>
                      <a:pt x="994" y="1293"/>
                    </a:lnTo>
                    <a:lnTo>
                      <a:pt x="943" y="1277"/>
                    </a:lnTo>
                    <a:lnTo>
                      <a:pt x="890" y="1219"/>
                    </a:lnTo>
                    <a:lnTo>
                      <a:pt x="845" y="1128"/>
                    </a:lnTo>
                    <a:lnTo>
                      <a:pt x="794" y="1046"/>
                    </a:lnTo>
                    <a:lnTo>
                      <a:pt x="743" y="1022"/>
                    </a:lnTo>
                    <a:lnTo>
                      <a:pt x="690" y="1070"/>
                    </a:lnTo>
                    <a:lnTo>
                      <a:pt x="648" y="1161"/>
                    </a:lnTo>
                    <a:lnTo>
                      <a:pt x="596" y="1260"/>
                    </a:lnTo>
                    <a:lnTo>
                      <a:pt x="544" y="1334"/>
                    </a:lnTo>
                    <a:lnTo>
                      <a:pt x="491" y="1375"/>
                    </a:lnTo>
                    <a:lnTo>
                      <a:pt x="448" y="1409"/>
                    </a:lnTo>
                    <a:lnTo>
                      <a:pt x="397" y="1409"/>
                    </a:lnTo>
                    <a:lnTo>
                      <a:pt x="346" y="1359"/>
                    </a:lnTo>
                    <a:lnTo>
                      <a:pt x="293" y="1268"/>
                    </a:lnTo>
                    <a:lnTo>
                      <a:pt x="250" y="1260"/>
                    </a:lnTo>
                    <a:lnTo>
                      <a:pt x="199" y="1318"/>
                    </a:lnTo>
                    <a:lnTo>
                      <a:pt x="146" y="1392"/>
                    </a:lnTo>
                    <a:lnTo>
                      <a:pt x="93" y="1457"/>
                    </a:lnTo>
                    <a:lnTo>
                      <a:pt x="51" y="1500"/>
                    </a:lnTo>
                    <a:lnTo>
                      <a:pt x="0" y="152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53560" y="2718000"/>
                <a:ext cx="3537720" cy="1381320"/>
              </a:xfrm>
              <a:custGeom>
                <a:avLst/>
                <a:gdLst/>
                <a:ahLst/>
                <a:rect l="l" t="t" r="r" b="b"/>
                <a:pathLst>
                  <a:path w="4918" h="2011">
                    <a:moveTo>
                      <a:pt x="0" y="2011"/>
                    </a:moveTo>
                    <a:lnTo>
                      <a:pt x="0" y="1681"/>
                    </a:lnTo>
                    <a:lnTo>
                      <a:pt x="51" y="1640"/>
                    </a:lnTo>
                    <a:lnTo>
                      <a:pt x="93" y="1590"/>
                    </a:lnTo>
                    <a:lnTo>
                      <a:pt x="146" y="1508"/>
                    </a:lnTo>
                    <a:lnTo>
                      <a:pt x="199" y="1409"/>
                    </a:lnTo>
                    <a:lnTo>
                      <a:pt x="250" y="1335"/>
                    </a:lnTo>
                    <a:lnTo>
                      <a:pt x="293" y="1320"/>
                    </a:lnTo>
                    <a:lnTo>
                      <a:pt x="346" y="1385"/>
                    </a:lnTo>
                    <a:lnTo>
                      <a:pt x="397" y="1409"/>
                    </a:lnTo>
                    <a:lnTo>
                      <a:pt x="448" y="1376"/>
                    </a:lnTo>
                    <a:lnTo>
                      <a:pt x="491" y="1320"/>
                    </a:lnTo>
                    <a:lnTo>
                      <a:pt x="544" y="1245"/>
                    </a:lnTo>
                    <a:lnTo>
                      <a:pt x="596" y="1147"/>
                    </a:lnTo>
                    <a:lnTo>
                      <a:pt x="648" y="1022"/>
                    </a:lnTo>
                    <a:lnTo>
                      <a:pt x="690" y="907"/>
                    </a:lnTo>
                    <a:lnTo>
                      <a:pt x="743" y="832"/>
                    </a:lnTo>
                    <a:lnTo>
                      <a:pt x="794" y="842"/>
                    </a:lnTo>
                    <a:lnTo>
                      <a:pt x="845" y="907"/>
                    </a:lnTo>
                    <a:lnTo>
                      <a:pt x="890" y="981"/>
                    </a:lnTo>
                    <a:lnTo>
                      <a:pt x="943" y="1030"/>
                    </a:lnTo>
                    <a:lnTo>
                      <a:pt x="994" y="1039"/>
                    </a:lnTo>
                    <a:lnTo>
                      <a:pt x="1045" y="1022"/>
                    </a:lnTo>
                    <a:lnTo>
                      <a:pt x="1089" y="981"/>
                    </a:lnTo>
                    <a:lnTo>
                      <a:pt x="1141" y="924"/>
                    </a:lnTo>
                    <a:lnTo>
                      <a:pt x="1192" y="866"/>
                    </a:lnTo>
                    <a:lnTo>
                      <a:pt x="1245" y="832"/>
                    </a:lnTo>
                    <a:lnTo>
                      <a:pt x="1287" y="849"/>
                    </a:lnTo>
                    <a:lnTo>
                      <a:pt x="1340" y="899"/>
                    </a:lnTo>
                    <a:lnTo>
                      <a:pt x="1391" y="948"/>
                    </a:lnTo>
                    <a:lnTo>
                      <a:pt x="1444" y="981"/>
                    </a:lnTo>
                    <a:lnTo>
                      <a:pt x="1487" y="974"/>
                    </a:lnTo>
                    <a:lnTo>
                      <a:pt x="1538" y="940"/>
                    </a:lnTo>
                    <a:lnTo>
                      <a:pt x="1589" y="883"/>
                    </a:lnTo>
                    <a:lnTo>
                      <a:pt x="1642" y="816"/>
                    </a:lnTo>
                    <a:lnTo>
                      <a:pt x="1685" y="743"/>
                    </a:lnTo>
                    <a:lnTo>
                      <a:pt x="1737" y="676"/>
                    </a:lnTo>
                    <a:lnTo>
                      <a:pt x="1789" y="635"/>
                    </a:lnTo>
                    <a:lnTo>
                      <a:pt x="1841" y="609"/>
                    </a:lnTo>
                    <a:lnTo>
                      <a:pt x="1884" y="577"/>
                    </a:lnTo>
                    <a:lnTo>
                      <a:pt x="1935" y="536"/>
                    </a:lnTo>
                    <a:lnTo>
                      <a:pt x="1986" y="470"/>
                    </a:lnTo>
                    <a:lnTo>
                      <a:pt x="2039" y="389"/>
                    </a:lnTo>
                    <a:lnTo>
                      <a:pt x="2084" y="297"/>
                    </a:lnTo>
                    <a:lnTo>
                      <a:pt x="2135" y="207"/>
                    </a:lnTo>
                    <a:lnTo>
                      <a:pt x="2188" y="123"/>
                    </a:lnTo>
                    <a:lnTo>
                      <a:pt x="2239" y="67"/>
                    </a:lnTo>
                    <a:lnTo>
                      <a:pt x="2281" y="34"/>
                    </a:lnTo>
                    <a:lnTo>
                      <a:pt x="2333" y="25"/>
                    </a:lnTo>
                    <a:lnTo>
                      <a:pt x="2385" y="25"/>
                    </a:lnTo>
                    <a:lnTo>
                      <a:pt x="2437" y="34"/>
                    </a:lnTo>
                    <a:lnTo>
                      <a:pt x="2481" y="34"/>
                    </a:lnTo>
                    <a:lnTo>
                      <a:pt x="2532" y="25"/>
                    </a:lnTo>
                    <a:lnTo>
                      <a:pt x="2585" y="17"/>
                    </a:lnTo>
                    <a:lnTo>
                      <a:pt x="2636" y="10"/>
                    </a:lnTo>
                    <a:lnTo>
                      <a:pt x="2679" y="0"/>
                    </a:lnTo>
                    <a:lnTo>
                      <a:pt x="2730" y="17"/>
                    </a:lnTo>
                    <a:lnTo>
                      <a:pt x="2783" y="51"/>
                    </a:lnTo>
                    <a:lnTo>
                      <a:pt x="2834" y="92"/>
                    </a:lnTo>
                    <a:lnTo>
                      <a:pt x="2878" y="142"/>
                    </a:lnTo>
                    <a:lnTo>
                      <a:pt x="2930" y="183"/>
                    </a:lnTo>
                    <a:lnTo>
                      <a:pt x="2982" y="216"/>
                    </a:lnTo>
                    <a:lnTo>
                      <a:pt x="3034" y="224"/>
                    </a:lnTo>
                    <a:lnTo>
                      <a:pt x="3076" y="224"/>
                    </a:lnTo>
                    <a:lnTo>
                      <a:pt x="3129" y="216"/>
                    </a:lnTo>
                    <a:lnTo>
                      <a:pt x="3180" y="198"/>
                    </a:lnTo>
                    <a:lnTo>
                      <a:pt x="3233" y="190"/>
                    </a:lnTo>
                    <a:lnTo>
                      <a:pt x="3276" y="183"/>
                    </a:lnTo>
                    <a:lnTo>
                      <a:pt x="3329" y="174"/>
                    </a:lnTo>
                    <a:lnTo>
                      <a:pt x="3380" y="174"/>
                    </a:lnTo>
                    <a:lnTo>
                      <a:pt x="3431" y="166"/>
                    </a:lnTo>
                    <a:lnTo>
                      <a:pt x="3474" y="142"/>
                    </a:lnTo>
                    <a:lnTo>
                      <a:pt x="3526" y="116"/>
                    </a:lnTo>
                    <a:lnTo>
                      <a:pt x="3578" y="92"/>
                    </a:lnTo>
                    <a:lnTo>
                      <a:pt x="3630" y="58"/>
                    </a:lnTo>
                    <a:lnTo>
                      <a:pt x="3673" y="43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34"/>
                    </a:lnTo>
                    <a:lnTo>
                      <a:pt x="3871" y="43"/>
                    </a:lnTo>
                    <a:lnTo>
                      <a:pt x="3924" y="51"/>
                    </a:lnTo>
                    <a:lnTo>
                      <a:pt x="3975" y="58"/>
                    </a:lnTo>
                    <a:lnTo>
                      <a:pt x="4028" y="51"/>
                    </a:lnTo>
                    <a:lnTo>
                      <a:pt x="4072" y="43"/>
                    </a:lnTo>
                    <a:lnTo>
                      <a:pt x="4123" y="34"/>
                    </a:lnTo>
                    <a:lnTo>
                      <a:pt x="4174" y="25"/>
                    </a:lnTo>
                    <a:lnTo>
                      <a:pt x="4226" y="25"/>
                    </a:lnTo>
                    <a:lnTo>
                      <a:pt x="4270" y="34"/>
                    </a:lnTo>
                    <a:lnTo>
                      <a:pt x="4321" y="51"/>
                    </a:lnTo>
                    <a:lnTo>
                      <a:pt x="4374" y="67"/>
                    </a:lnTo>
                    <a:lnTo>
                      <a:pt x="4427" y="84"/>
                    </a:lnTo>
                    <a:lnTo>
                      <a:pt x="4469" y="92"/>
                    </a:lnTo>
                    <a:lnTo>
                      <a:pt x="4521" y="99"/>
                    </a:lnTo>
                    <a:lnTo>
                      <a:pt x="4572" y="108"/>
                    </a:lnTo>
                    <a:lnTo>
                      <a:pt x="4625" y="108"/>
                    </a:lnTo>
                    <a:lnTo>
                      <a:pt x="4667" y="116"/>
                    </a:lnTo>
                    <a:lnTo>
                      <a:pt x="4718" y="123"/>
                    </a:lnTo>
                    <a:lnTo>
                      <a:pt x="4771" y="133"/>
                    </a:lnTo>
                    <a:lnTo>
                      <a:pt x="4824" y="142"/>
                    </a:lnTo>
                    <a:lnTo>
                      <a:pt x="4867" y="157"/>
                    </a:lnTo>
                    <a:lnTo>
                      <a:pt x="4918" y="157"/>
                    </a:lnTo>
                    <a:lnTo>
                      <a:pt x="4918" y="676"/>
                    </a:lnTo>
                    <a:lnTo>
                      <a:pt x="4867" y="659"/>
                    </a:lnTo>
                    <a:lnTo>
                      <a:pt x="4824" y="635"/>
                    </a:lnTo>
                    <a:lnTo>
                      <a:pt x="4771" y="609"/>
                    </a:lnTo>
                    <a:lnTo>
                      <a:pt x="4718" y="594"/>
                    </a:lnTo>
                    <a:lnTo>
                      <a:pt x="4667" y="585"/>
                    </a:lnTo>
                    <a:lnTo>
                      <a:pt x="4625" y="577"/>
                    </a:lnTo>
                    <a:lnTo>
                      <a:pt x="4572" y="570"/>
                    </a:lnTo>
                    <a:lnTo>
                      <a:pt x="4521" y="570"/>
                    </a:lnTo>
                    <a:lnTo>
                      <a:pt x="4469" y="561"/>
                    </a:lnTo>
                    <a:lnTo>
                      <a:pt x="4427" y="553"/>
                    </a:lnTo>
                    <a:lnTo>
                      <a:pt x="4374" y="544"/>
                    </a:lnTo>
                    <a:lnTo>
                      <a:pt x="4321" y="536"/>
                    </a:lnTo>
                    <a:lnTo>
                      <a:pt x="4270" y="529"/>
                    </a:lnTo>
                    <a:lnTo>
                      <a:pt x="4226" y="536"/>
                    </a:lnTo>
                    <a:lnTo>
                      <a:pt x="4174" y="553"/>
                    </a:lnTo>
                    <a:lnTo>
                      <a:pt x="4123" y="570"/>
                    </a:lnTo>
                    <a:lnTo>
                      <a:pt x="4072" y="602"/>
                    </a:lnTo>
                    <a:lnTo>
                      <a:pt x="4028" y="628"/>
                    </a:lnTo>
                    <a:lnTo>
                      <a:pt x="3975" y="659"/>
                    </a:lnTo>
                    <a:lnTo>
                      <a:pt x="3924" y="676"/>
                    </a:lnTo>
                    <a:lnTo>
                      <a:pt x="3871" y="702"/>
                    </a:lnTo>
                    <a:lnTo>
                      <a:pt x="3828" y="717"/>
                    </a:lnTo>
                    <a:lnTo>
                      <a:pt x="3777" y="743"/>
                    </a:lnTo>
                    <a:lnTo>
                      <a:pt x="3726" y="775"/>
                    </a:lnTo>
                    <a:lnTo>
                      <a:pt x="3673" y="816"/>
                    </a:lnTo>
                    <a:lnTo>
                      <a:pt x="3630" y="875"/>
                    </a:lnTo>
                    <a:lnTo>
                      <a:pt x="3578" y="931"/>
                    </a:lnTo>
                    <a:lnTo>
                      <a:pt x="3526" y="989"/>
                    </a:lnTo>
                    <a:lnTo>
                      <a:pt x="3474" y="1039"/>
                    </a:lnTo>
                    <a:lnTo>
                      <a:pt x="3431" y="1089"/>
                    </a:lnTo>
                    <a:lnTo>
                      <a:pt x="3380" y="1121"/>
                    </a:lnTo>
                    <a:lnTo>
                      <a:pt x="3329" y="1147"/>
                    </a:lnTo>
                    <a:lnTo>
                      <a:pt x="3276" y="1171"/>
                    </a:lnTo>
                    <a:lnTo>
                      <a:pt x="3233" y="1195"/>
                    </a:lnTo>
                    <a:lnTo>
                      <a:pt x="3180" y="1229"/>
                    </a:lnTo>
                    <a:lnTo>
                      <a:pt x="3129" y="1262"/>
                    </a:lnTo>
                    <a:lnTo>
                      <a:pt x="3076" y="1286"/>
                    </a:lnTo>
                    <a:lnTo>
                      <a:pt x="3034" y="1302"/>
                    </a:lnTo>
                    <a:lnTo>
                      <a:pt x="2982" y="1311"/>
                    </a:lnTo>
                    <a:lnTo>
                      <a:pt x="2930" y="1302"/>
                    </a:lnTo>
                    <a:lnTo>
                      <a:pt x="2878" y="1277"/>
                    </a:lnTo>
                    <a:lnTo>
                      <a:pt x="2834" y="1245"/>
                    </a:lnTo>
                    <a:lnTo>
                      <a:pt x="2783" y="1221"/>
                    </a:lnTo>
                    <a:lnTo>
                      <a:pt x="2730" y="1203"/>
                    </a:lnTo>
                    <a:lnTo>
                      <a:pt x="2679" y="1203"/>
                    </a:lnTo>
                    <a:lnTo>
                      <a:pt x="2636" y="1221"/>
                    </a:lnTo>
                    <a:lnTo>
                      <a:pt x="2585" y="1245"/>
                    </a:lnTo>
                    <a:lnTo>
                      <a:pt x="2532" y="1262"/>
                    </a:lnTo>
                    <a:lnTo>
                      <a:pt x="2481" y="1277"/>
                    </a:lnTo>
                    <a:lnTo>
                      <a:pt x="2437" y="1277"/>
                    </a:lnTo>
                    <a:lnTo>
                      <a:pt x="2385" y="1270"/>
                    </a:lnTo>
                    <a:lnTo>
                      <a:pt x="2333" y="1262"/>
                    </a:lnTo>
                    <a:lnTo>
                      <a:pt x="2281" y="1262"/>
                    </a:lnTo>
                    <a:lnTo>
                      <a:pt x="2239" y="1277"/>
                    </a:lnTo>
                    <a:lnTo>
                      <a:pt x="2188" y="1311"/>
                    </a:lnTo>
                    <a:lnTo>
                      <a:pt x="2135" y="1368"/>
                    </a:lnTo>
                    <a:lnTo>
                      <a:pt x="2084" y="1426"/>
                    </a:lnTo>
                    <a:lnTo>
                      <a:pt x="2039" y="1484"/>
                    </a:lnTo>
                    <a:lnTo>
                      <a:pt x="1986" y="1525"/>
                    </a:lnTo>
                    <a:lnTo>
                      <a:pt x="1935" y="1542"/>
                    </a:lnTo>
                    <a:lnTo>
                      <a:pt x="1884" y="1542"/>
                    </a:lnTo>
                    <a:lnTo>
                      <a:pt x="1841" y="1525"/>
                    </a:lnTo>
                    <a:lnTo>
                      <a:pt x="1789" y="1508"/>
                    </a:lnTo>
                    <a:lnTo>
                      <a:pt x="1737" y="1508"/>
                    </a:lnTo>
                    <a:lnTo>
                      <a:pt x="1685" y="1534"/>
                    </a:lnTo>
                    <a:lnTo>
                      <a:pt x="1642" y="1566"/>
                    </a:lnTo>
                    <a:lnTo>
                      <a:pt x="1589" y="1607"/>
                    </a:lnTo>
                    <a:lnTo>
                      <a:pt x="1538" y="1640"/>
                    </a:lnTo>
                    <a:lnTo>
                      <a:pt x="1487" y="1657"/>
                    </a:lnTo>
                    <a:lnTo>
                      <a:pt x="1444" y="1640"/>
                    </a:lnTo>
                    <a:lnTo>
                      <a:pt x="1391" y="1599"/>
                    </a:lnTo>
                    <a:lnTo>
                      <a:pt x="1340" y="1542"/>
                    </a:lnTo>
                    <a:lnTo>
                      <a:pt x="1287" y="1491"/>
                    </a:lnTo>
                    <a:lnTo>
                      <a:pt x="1245" y="1475"/>
                    </a:lnTo>
                    <a:lnTo>
                      <a:pt x="1192" y="1508"/>
                    </a:lnTo>
                    <a:lnTo>
                      <a:pt x="1141" y="1558"/>
                    </a:lnTo>
                    <a:lnTo>
                      <a:pt x="1089" y="1624"/>
                    </a:lnTo>
                    <a:lnTo>
                      <a:pt x="1045" y="1665"/>
                    </a:lnTo>
                    <a:lnTo>
                      <a:pt x="994" y="1681"/>
                    </a:lnTo>
                    <a:lnTo>
                      <a:pt x="943" y="1665"/>
                    </a:lnTo>
                    <a:lnTo>
                      <a:pt x="890" y="1614"/>
                    </a:lnTo>
                    <a:lnTo>
                      <a:pt x="845" y="1534"/>
                    </a:lnTo>
                    <a:lnTo>
                      <a:pt x="794" y="1450"/>
                    </a:lnTo>
                    <a:lnTo>
                      <a:pt x="743" y="1435"/>
                    </a:lnTo>
                    <a:lnTo>
                      <a:pt x="690" y="1491"/>
                    </a:lnTo>
                    <a:lnTo>
                      <a:pt x="648" y="1590"/>
                    </a:lnTo>
                    <a:lnTo>
                      <a:pt x="596" y="1689"/>
                    </a:lnTo>
                    <a:lnTo>
                      <a:pt x="544" y="1772"/>
                    </a:lnTo>
                    <a:lnTo>
                      <a:pt x="491" y="1821"/>
                    </a:lnTo>
                    <a:lnTo>
                      <a:pt x="448" y="1854"/>
                    </a:lnTo>
                    <a:lnTo>
                      <a:pt x="397" y="1862"/>
                    </a:lnTo>
                    <a:lnTo>
                      <a:pt x="346" y="1813"/>
                    </a:lnTo>
                    <a:lnTo>
                      <a:pt x="293" y="1731"/>
                    </a:lnTo>
                    <a:lnTo>
                      <a:pt x="250" y="1731"/>
                    </a:lnTo>
                    <a:lnTo>
                      <a:pt x="199" y="1787"/>
                    </a:lnTo>
                    <a:lnTo>
                      <a:pt x="146" y="1871"/>
                    </a:lnTo>
                    <a:lnTo>
                      <a:pt x="93" y="1936"/>
                    </a:lnTo>
                    <a:lnTo>
                      <a:pt x="51" y="1986"/>
                    </a:lnTo>
                    <a:lnTo>
                      <a:pt x="0" y="20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53560" y="4242600"/>
                <a:ext cx="3537720" cy="27360"/>
              </a:xfrm>
              <a:custGeom>
                <a:avLst/>
                <a:gdLst/>
                <a:ahLst/>
                <a:rect l="l" t="t" r="r" b="b"/>
                <a:pathLst>
                  <a:path w="4918" h="41">
                    <a:moveTo>
                      <a:pt x="0" y="41"/>
                    </a:moveTo>
                    <a:lnTo>
                      <a:pt x="0" y="41"/>
                    </a:lnTo>
                    <a:lnTo>
                      <a:pt x="51" y="41"/>
                    </a:lnTo>
                    <a:lnTo>
                      <a:pt x="93" y="41"/>
                    </a:lnTo>
                    <a:lnTo>
                      <a:pt x="146" y="41"/>
                    </a:lnTo>
                    <a:lnTo>
                      <a:pt x="199" y="41"/>
                    </a:lnTo>
                    <a:lnTo>
                      <a:pt x="250" y="41"/>
                    </a:lnTo>
                    <a:lnTo>
                      <a:pt x="293" y="41"/>
                    </a:lnTo>
                    <a:lnTo>
                      <a:pt x="346" y="41"/>
                    </a:lnTo>
                    <a:lnTo>
                      <a:pt x="397" y="41"/>
                    </a:lnTo>
                    <a:lnTo>
                      <a:pt x="448" y="41"/>
                    </a:lnTo>
                    <a:lnTo>
                      <a:pt x="491" y="41"/>
                    </a:lnTo>
                    <a:lnTo>
                      <a:pt x="544" y="41"/>
                    </a:lnTo>
                    <a:lnTo>
                      <a:pt x="596" y="41"/>
                    </a:lnTo>
                    <a:lnTo>
                      <a:pt x="648" y="41"/>
                    </a:lnTo>
                    <a:lnTo>
                      <a:pt x="690" y="41"/>
                    </a:lnTo>
                    <a:lnTo>
                      <a:pt x="743" y="41"/>
                    </a:lnTo>
                    <a:lnTo>
                      <a:pt x="794" y="41"/>
                    </a:lnTo>
                    <a:lnTo>
                      <a:pt x="845" y="41"/>
                    </a:lnTo>
                    <a:lnTo>
                      <a:pt x="890" y="41"/>
                    </a:lnTo>
                    <a:lnTo>
                      <a:pt x="943" y="41"/>
                    </a:lnTo>
                    <a:lnTo>
                      <a:pt x="994" y="41"/>
                    </a:lnTo>
                    <a:lnTo>
                      <a:pt x="1045" y="41"/>
                    </a:lnTo>
                    <a:lnTo>
                      <a:pt x="1089" y="41"/>
                    </a:lnTo>
                    <a:lnTo>
                      <a:pt x="1141" y="41"/>
                    </a:lnTo>
                    <a:lnTo>
                      <a:pt x="1192" y="41"/>
                    </a:lnTo>
                    <a:lnTo>
                      <a:pt x="1245" y="41"/>
                    </a:lnTo>
                    <a:lnTo>
                      <a:pt x="1287" y="34"/>
                    </a:lnTo>
                    <a:lnTo>
                      <a:pt x="1340" y="34"/>
                    </a:lnTo>
                    <a:lnTo>
                      <a:pt x="1391" y="34"/>
                    </a:lnTo>
                    <a:lnTo>
                      <a:pt x="1444" y="34"/>
                    </a:lnTo>
                    <a:lnTo>
                      <a:pt x="1487" y="34"/>
                    </a:lnTo>
                    <a:lnTo>
                      <a:pt x="1538" y="34"/>
                    </a:lnTo>
                    <a:lnTo>
                      <a:pt x="1589" y="34"/>
                    </a:lnTo>
                    <a:lnTo>
                      <a:pt x="1642" y="34"/>
                    </a:lnTo>
                    <a:lnTo>
                      <a:pt x="1685" y="34"/>
                    </a:lnTo>
                    <a:lnTo>
                      <a:pt x="1737" y="34"/>
                    </a:lnTo>
                    <a:lnTo>
                      <a:pt x="1789" y="34"/>
                    </a:lnTo>
                    <a:lnTo>
                      <a:pt x="1841" y="34"/>
                    </a:lnTo>
                    <a:lnTo>
                      <a:pt x="1884" y="24"/>
                    </a:lnTo>
                    <a:lnTo>
                      <a:pt x="1935" y="24"/>
                    </a:lnTo>
                    <a:lnTo>
                      <a:pt x="1986" y="24"/>
                    </a:lnTo>
                    <a:lnTo>
                      <a:pt x="2039" y="24"/>
                    </a:lnTo>
                    <a:lnTo>
                      <a:pt x="2084" y="24"/>
                    </a:lnTo>
                    <a:lnTo>
                      <a:pt x="2135" y="24"/>
                    </a:lnTo>
                    <a:lnTo>
                      <a:pt x="2188" y="24"/>
                    </a:lnTo>
                    <a:lnTo>
                      <a:pt x="2239" y="24"/>
                    </a:lnTo>
                    <a:lnTo>
                      <a:pt x="2281" y="24"/>
                    </a:lnTo>
                    <a:lnTo>
                      <a:pt x="2333" y="24"/>
                    </a:lnTo>
                    <a:lnTo>
                      <a:pt x="2385" y="24"/>
                    </a:lnTo>
                    <a:lnTo>
                      <a:pt x="2437" y="24"/>
                    </a:lnTo>
                    <a:lnTo>
                      <a:pt x="2481" y="24"/>
                    </a:lnTo>
                    <a:lnTo>
                      <a:pt x="2532" y="24"/>
                    </a:lnTo>
                    <a:lnTo>
                      <a:pt x="2585" y="24"/>
                    </a:lnTo>
                    <a:lnTo>
                      <a:pt x="2636" y="24"/>
                    </a:lnTo>
                    <a:lnTo>
                      <a:pt x="2679" y="24"/>
                    </a:lnTo>
                    <a:lnTo>
                      <a:pt x="2730" y="24"/>
                    </a:lnTo>
                    <a:lnTo>
                      <a:pt x="2783" y="24"/>
                    </a:lnTo>
                    <a:lnTo>
                      <a:pt x="2834" y="24"/>
                    </a:lnTo>
                    <a:lnTo>
                      <a:pt x="2878" y="24"/>
                    </a:lnTo>
                    <a:lnTo>
                      <a:pt x="2930" y="24"/>
                    </a:lnTo>
                    <a:lnTo>
                      <a:pt x="2982" y="24"/>
                    </a:lnTo>
                    <a:lnTo>
                      <a:pt x="3034" y="24"/>
                    </a:lnTo>
                    <a:lnTo>
                      <a:pt x="3076" y="24"/>
                    </a:lnTo>
                    <a:lnTo>
                      <a:pt x="3129" y="24"/>
                    </a:lnTo>
                    <a:lnTo>
                      <a:pt x="3180" y="24"/>
                    </a:lnTo>
                    <a:lnTo>
                      <a:pt x="3233" y="24"/>
                    </a:lnTo>
                    <a:lnTo>
                      <a:pt x="3276" y="24"/>
                    </a:lnTo>
                    <a:lnTo>
                      <a:pt x="3329" y="24"/>
                    </a:lnTo>
                    <a:lnTo>
                      <a:pt x="3380" y="24"/>
                    </a:lnTo>
                    <a:lnTo>
                      <a:pt x="3431" y="24"/>
                    </a:lnTo>
                    <a:lnTo>
                      <a:pt x="3474" y="34"/>
                    </a:lnTo>
                    <a:lnTo>
                      <a:pt x="3526" y="34"/>
                    </a:lnTo>
                    <a:lnTo>
                      <a:pt x="3578" y="34"/>
                    </a:lnTo>
                    <a:lnTo>
                      <a:pt x="3630" y="34"/>
                    </a:lnTo>
                    <a:lnTo>
                      <a:pt x="3673" y="34"/>
                    </a:lnTo>
                    <a:lnTo>
                      <a:pt x="3726" y="34"/>
                    </a:lnTo>
                    <a:lnTo>
                      <a:pt x="3777" y="34"/>
                    </a:lnTo>
                    <a:lnTo>
                      <a:pt x="3828" y="34"/>
                    </a:lnTo>
                    <a:lnTo>
                      <a:pt x="3871" y="34"/>
                    </a:lnTo>
                    <a:lnTo>
                      <a:pt x="3924" y="34"/>
                    </a:lnTo>
                    <a:lnTo>
                      <a:pt x="3975" y="34"/>
                    </a:lnTo>
                    <a:lnTo>
                      <a:pt x="4028" y="34"/>
                    </a:lnTo>
                    <a:lnTo>
                      <a:pt x="4072" y="34"/>
                    </a:lnTo>
                    <a:lnTo>
                      <a:pt x="4123" y="34"/>
                    </a:lnTo>
                    <a:lnTo>
                      <a:pt x="4174" y="34"/>
                    </a:lnTo>
                    <a:lnTo>
                      <a:pt x="4226" y="24"/>
                    </a:lnTo>
                    <a:lnTo>
                      <a:pt x="4270" y="24"/>
                    </a:lnTo>
                    <a:lnTo>
                      <a:pt x="4321" y="24"/>
                    </a:lnTo>
                    <a:lnTo>
                      <a:pt x="4374" y="24"/>
                    </a:lnTo>
                    <a:lnTo>
                      <a:pt x="4427" y="24"/>
                    </a:lnTo>
                    <a:lnTo>
                      <a:pt x="4469" y="24"/>
                    </a:lnTo>
                    <a:lnTo>
                      <a:pt x="4521" y="17"/>
                    </a:lnTo>
                    <a:lnTo>
                      <a:pt x="4572" y="17"/>
                    </a:lnTo>
                    <a:lnTo>
                      <a:pt x="4625" y="17"/>
                    </a:lnTo>
                    <a:lnTo>
                      <a:pt x="4667" y="9"/>
                    </a:lnTo>
                    <a:lnTo>
                      <a:pt x="4718" y="9"/>
                    </a:lnTo>
                    <a:lnTo>
                      <a:pt x="4771" y="9"/>
                    </a:lnTo>
                    <a:lnTo>
                      <a:pt x="4824" y="0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41"/>
                    </a:lnTo>
                    <a:lnTo>
                      <a:pt x="4867" y="41"/>
                    </a:lnTo>
                    <a:lnTo>
                      <a:pt x="4824" y="41"/>
                    </a:lnTo>
                    <a:lnTo>
                      <a:pt x="4771" y="41"/>
                    </a:lnTo>
                    <a:lnTo>
                      <a:pt x="4718" y="41"/>
                    </a:lnTo>
                    <a:lnTo>
                      <a:pt x="4667" y="41"/>
                    </a:lnTo>
                    <a:lnTo>
                      <a:pt x="4625" y="41"/>
                    </a:lnTo>
                    <a:lnTo>
                      <a:pt x="4572" y="41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41"/>
                    </a:lnTo>
                    <a:lnTo>
                      <a:pt x="4374" y="41"/>
                    </a:lnTo>
                    <a:lnTo>
                      <a:pt x="4321" y="41"/>
                    </a:lnTo>
                    <a:lnTo>
                      <a:pt x="4270" y="41"/>
                    </a:lnTo>
                    <a:lnTo>
                      <a:pt x="4226" y="41"/>
                    </a:lnTo>
                    <a:lnTo>
                      <a:pt x="4174" y="41"/>
                    </a:lnTo>
                    <a:lnTo>
                      <a:pt x="4123" y="41"/>
                    </a:lnTo>
                    <a:lnTo>
                      <a:pt x="4072" y="41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41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41"/>
                    </a:lnTo>
                    <a:lnTo>
                      <a:pt x="3578" y="41"/>
                    </a:lnTo>
                    <a:lnTo>
                      <a:pt x="3526" y="41"/>
                    </a:lnTo>
                    <a:lnTo>
                      <a:pt x="3474" y="41"/>
                    </a:lnTo>
                    <a:lnTo>
                      <a:pt x="3431" y="41"/>
                    </a:lnTo>
                    <a:lnTo>
                      <a:pt x="3380" y="41"/>
                    </a:lnTo>
                    <a:lnTo>
                      <a:pt x="3329" y="41"/>
                    </a:lnTo>
                    <a:lnTo>
                      <a:pt x="3276" y="41"/>
                    </a:lnTo>
                    <a:lnTo>
                      <a:pt x="3233" y="41"/>
                    </a:lnTo>
                    <a:lnTo>
                      <a:pt x="3180" y="41"/>
                    </a:lnTo>
                    <a:lnTo>
                      <a:pt x="3129" y="41"/>
                    </a:lnTo>
                    <a:lnTo>
                      <a:pt x="3076" y="41"/>
                    </a:lnTo>
                    <a:lnTo>
                      <a:pt x="3034" y="41"/>
                    </a:lnTo>
                    <a:lnTo>
                      <a:pt x="2982" y="41"/>
                    </a:lnTo>
                    <a:lnTo>
                      <a:pt x="2930" y="41"/>
                    </a:lnTo>
                    <a:lnTo>
                      <a:pt x="2878" y="41"/>
                    </a:lnTo>
                    <a:lnTo>
                      <a:pt x="2834" y="41"/>
                    </a:lnTo>
                    <a:lnTo>
                      <a:pt x="2783" y="41"/>
                    </a:lnTo>
                    <a:lnTo>
                      <a:pt x="2730" y="41"/>
                    </a:lnTo>
                    <a:lnTo>
                      <a:pt x="2679" y="41"/>
                    </a:lnTo>
                    <a:lnTo>
                      <a:pt x="2636" y="41"/>
                    </a:lnTo>
                    <a:lnTo>
                      <a:pt x="2585" y="41"/>
                    </a:lnTo>
                    <a:lnTo>
                      <a:pt x="2532" y="41"/>
                    </a:lnTo>
                    <a:lnTo>
                      <a:pt x="2481" y="41"/>
                    </a:lnTo>
                    <a:lnTo>
                      <a:pt x="2437" y="41"/>
                    </a:lnTo>
                    <a:lnTo>
                      <a:pt x="2385" y="41"/>
                    </a:lnTo>
                    <a:lnTo>
                      <a:pt x="2333" y="41"/>
                    </a:lnTo>
                    <a:lnTo>
                      <a:pt x="2281" y="41"/>
                    </a:lnTo>
                    <a:lnTo>
                      <a:pt x="2239" y="41"/>
                    </a:lnTo>
                    <a:lnTo>
                      <a:pt x="2188" y="41"/>
                    </a:lnTo>
                    <a:lnTo>
                      <a:pt x="2135" y="41"/>
                    </a:lnTo>
                    <a:lnTo>
                      <a:pt x="2084" y="41"/>
                    </a:lnTo>
                    <a:lnTo>
                      <a:pt x="2039" y="41"/>
                    </a:lnTo>
                    <a:lnTo>
                      <a:pt x="1986" y="41"/>
                    </a:lnTo>
                    <a:lnTo>
                      <a:pt x="1935" y="41"/>
                    </a:lnTo>
                    <a:lnTo>
                      <a:pt x="1884" y="41"/>
                    </a:lnTo>
                    <a:lnTo>
                      <a:pt x="1841" y="41"/>
                    </a:lnTo>
                    <a:lnTo>
                      <a:pt x="1789" y="41"/>
                    </a:lnTo>
                    <a:lnTo>
                      <a:pt x="1737" y="41"/>
                    </a:lnTo>
                    <a:lnTo>
                      <a:pt x="1685" y="41"/>
                    </a:lnTo>
                    <a:lnTo>
                      <a:pt x="1642" y="41"/>
                    </a:lnTo>
                    <a:lnTo>
                      <a:pt x="1589" y="41"/>
                    </a:lnTo>
                    <a:lnTo>
                      <a:pt x="1538" y="41"/>
                    </a:lnTo>
                    <a:lnTo>
                      <a:pt x="1487" y="41"/>
                    </a:lnTo>
                    <a:lnTo>
                      <a:pt x="1444" y="41"/>
                    </a:lnTo>
                    <a:lnTo>
                      <a:pt x="1391" y="41"/>
                    </a:lnTo>
                    <a:lnTo>
                      <a:pt x="1340" y="41"/>
                    </a:lnTo>
                    <a:lnTo>
                      <a:pt x="1287" y="41"/>
                    </a:lnTo>
                    <a:lnTo>
                      <a:pt x="1245" y="41"/>
                    </a:lnTo>
                    <a:lnTo>
                      <a:pt x="1192" y="41"/>
                    </a:lnTo>
                    <a:lnTo>
                      <a:pt x="1141" y="41"/>
                    </a:lnTo>
                    <a:lnTo>
                      <a:pt x="1089" y="41"/>
                    </a:lnTo>
                    <a:lnTo>
                      <a:pt x="1045" y="41"/>
                    </a:lnTo>
                    <a:lnTo>
                      <a:pt x="994" y="41"/>
                    </a:lnTo>
                    <a:lnTo>
                      <a:pt x="943" y="41"/>
                    </a:lnTo>
                    <a:lnTo>
                      <a:pt x="890" y="41"/>
                    </a:lnTo>
                    <a:lnTo>
                      <a:pt x="845" y="41"/>
                    </a:lnTo>
                    <a:lnTo>
                      <a:pt x="794" y="41"/>
                    </a:lnTo>
                    <a:lnTo>
                      <a:pt x="743" y="41"/>
                    </a:lnTo>
                    <a:lnTo>
                      <a:pt x="690" y="41"/>
                    </a:lnTo>
                    <a:lnTo>
                      <a:pt x="648" y="41"/>
                    </a:lnTo>
                    <a:lnTo>
                      <a:pt x="596" y="41"/>
                    </a:lnTo>
                    <a:lnTo>
                      <a:pt x="544" y="41"/>
                    </a:lnTo>
                    <a:lnTo>
                      <a:pt x="491" y="41"/>
                    </a:lnTo>
                    <a:lnTo>
                      <a:pt x="448" y="41"/>
                    </a:lnTo>
                    <a:lnTo>
                      <a:pt x="397" y="41"/>
                    </a:lnTo>
                    <a:lnTo>
                      <a:pt x="346" y="41"/>
                    </a:lnTo>
                    <a:lnTo>
                      <a:pt x="293" y="41"/>
                    </a:lnTo>
                    <a:lnTo>
                      <a:pt x="250" y="41"/>
                    </a:lnTo>
                    <a:lnTo>
                      <a:pt x="199" y="41"/>
                    </a:lnTo>
                    <a:lnTo>
                      <a:pt x="146" y="41"/>
                    </a:lnTo>
                    <a:lnTo>
                      <a:pt x="93" y="41"/>
                    </a:lnTo>
                    <a:lnTo>
                      <a:pt x="51" y="41"/>
                    </a:lnTo>
                    <a:lnTo>
                      <a:pt x="0" y="4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53560" y="4186080"/>
                <a:ext cx="3537720" cy="83520"/>
              </a:xfrm>
              <a:custGeom>
                <a:avLst/>
                <a:gdLst/>
                <a:ahLst/>
                <a:rect l="l" t="t" r="r" b="b"/>
                <a:pathLst>
                  <a:path w="4918" h="123">
                    <a:moveTo>
                      <a:pt x="0" y="123"/>
                    </a:moveTo>
                    <a:lnTo>
                      <a:pt x="0" y="116"/>
                    </a:lnTo>
                    <a:lnTo>
                      <a:pt x="51" y="116"/>
                    </a:lnTo>
                    <a:lnTo>
                      <a:pt x="93" y="116"/>
                    </a:lnTo>
                    <a:lnTo>
                      <a:pt x="146" y="116"/>
                    </a:lnTo>
                    <a:lnTo>
                      <a:pt x="199" y="106"/>
                    </a:lnTo>
                    <a:lnTo>
                      <a:pt x="250" y="106"/>
                    </a:lnTo>
                    <a:lnTo>
                      <a:pt x="293" y="106"/>
                    </a:lnTo>
                    <a:lnTo>
                      <a:pt x="346" y="99"/>
                    </a:lnTo>
                    <a:lnTo>
                      <a:pt x="397" y="91"/>
                    </a:lnTo>
                    <a:lnTo>
                      <a:pt x="448" y="82"/>
                    </a:lnTo>
                    <a:lnTo>
                      <a:pt x="491" y="67"/>
                    </a:lnTo>
                    <a:lnTo>
                      <a:pt x="544" y="49"/>
                    </a:lnTo>
                    <a:lnTo>
                      <a:pt x="596" y="34"/>
                    </a:lnTo>
                    <a:lnTo>
                      <a:pt x="648" y="17"/>
                    </a:lnTo>
                    <a:lnTo>
                      <a:pt x="690" y="9"/>
                    </a:lnTo>
                    <a:lnTo>
                      <a:pt x="743" y="0"/>
                    </a:lnTo>
                    <a:lnTo>
                      <a:pt x="794" y="9"/>
                    </a:lnTo>
                    <a:lnTo>
                      <a:pt x="845" y="24"/>
                    </a:lnTo>
                    <a:lnTo>
                      <a:pt x="890" y="49"/>
                    </a:lnTo>
                    <a:lnTo>
                      <a:pt x="943" y="67"/>
                    </a:lnTo>
                    <a:lnTo>
                      <a:pt x="994" y="82"/>
                    </a:lnTo>
                    <a:lnTo>
                      <a:pt x="1045" y="99"/>
                    </a:lnTo>
                    <a:lnTo>
                      <a:pt x="1089" y="106"/>
                    </a:lnTo>
                    <a:lnTo>
                      <a:pt x="1141" y="106"/>
                    </a:lnTo>
                    <a:lnTo>
                      <a:pt x="1192" y="106"/>
                    </a:lnTo>
                    <a:lnTo>
                      <a:pt x="1245" y="106"/>
                    </a:lnTo>
                    <a:lnTo>
                      <a:pt x="1287" y="106"/>
                    </a:lnTo>
                    <a:lnTo>
                      <a:pt x="1340" y="106"/>
                    </a:lnTo>
                    <a:lnTo>
                      <a:pt x="1391" y="106"/>
                    </a:lnTo>
                    <a:lnTo>
                      <a:pt x="1444" y="106"/>
                    </a:lnTo>
                    <a:lnTo>
                      <a:pt x="1487" y="99"/>
                    </a:lnTo>
                    <a:lnTo>
                      <a:pt x="1538" y="99"/>
                    </a:lnTo>
                    <a:lnTo>
                      <a:pt x="1589" y="99"/>
                    </a:lnTo>
                    <a:lnTo>
                      <a:pt x="1642" y="99"/>
                    </a:lnTo>
                    <a:lnTo>
                      <a:pt x="1685" y="99"/>
                    </a:lnTo>
                    <a:lnTo>
                      <a:pt x="1737" y="99"/>
                    </a:lnTo>
                    <a:lnTo>
                      <a:pt x="1789" y="99"/>
                    </a:lnTo>
                    <a:lnTo>
                      <a:pt x="1841" y="91"/>
                    </a:lnTo>
                    <a:lnTo>
                      <a:pt x="1884" y="91"/>
                    </a:lnTo>
                    <a:lnTo>
                      <a:pt x="1935" y="82"/>
                    </a:lnTo>
                    <a:lnTo>
                      <a:pt x="1986" y="75"/>
                    </a:lnTo>
                    <a:lnTo>
                      <a:pt x="2039" y="58"/>
                    </a:lnTo>
                    <a:lnTo>
                      <a:pt x="2084" y="49"/>
                    </a:lnTo>
                    <a:lnTo>
                      <a:pt x="2135" y="41"/>
                    </a:lnTo>
                    <a:lnTo>
                      <a:pt x="2188" y="41"/>
                    </a:lnTo>
                    <a:lnTo>
                      <a:pt x="2239" y="34"/>
                    </a:lnTo>
                    <a:lnTo>
                      <a:pt x="2281" y="34"/>
                    </a:lnTo>
                    <a:lnTo>
                      <a:pt x="2333" y="41"/>
                    </a:lnTo>
                    <a:lnTo>
                      <a:pt x="2385" y="49"/>
                    </a:lnTo>
                    <a:lnTo>
                      <a:pt x="2437" y="58"/>
                    </a:lnTo>
                    <a:lnTo>
                      <a:pt x="2481" y="67"/>
                    </a:lnTo>
                    <a:lnTo>
                      <a:pt x="2532" y="67"/>
                    </a:lnTo>
                    <a:lnTo>
                      <a:pt x="2585" y="75"/>
                    </a:lnTo>
                    <a:lnTo>
                      <a:pt x="2636" y="82"/>
                    </a:lnTo>
                    <a:lnTo>
                      <a:pt x="2679" y="82"/>
                    </a:lnTo>
                    <a:lnTo>
                      <a:pt x="2730" y="82"/>
                    </a:lnTo>
                    <a:lnTo>
                      <a:pt x="2783" y="82"/>
                    </a:lnTo>
                    <a:lnTo>
                      <a:pt x="2834" y="82"/>
                    </a:lnTo>
                    <a:lnTo>
                      <a:pt x="2878" y="82"/>
                    </a:lnTo>
                    <a:lnTo>
                      <a:pt x="2930" y="82"/>
                    </a:lnTo>
                    <a:lnTo>
                      <a:pt x="2982" y="82"/>
                    </a:lnTo>
                    <a:lnTo>
                      <a:pt x="3034" y="75"/>
                    </a:lnTo>
                    <a:lnTo>
                      <a:pt x="3076" y="75"/>
                    </a:lnTo>
                    <a:lnTo>
                      <a:pt x="3129" y="75"/>
                    </a:lnTo>
                    <a:lnTo>
                      <a:pt x="3180" y="75"/>
                    </a:lnTo>
                    <a:lnTo>
                      <a:pt x="3233" y="75"/>
                    </a:lnTo>
                    <a:lnTo>
                      <a:pt x="3276" y="75"/>
                    </a:lnTo>
                    <a:lnTo>
                      <a:pt x="3329" y="75"/>
                    </a:lnTo>
                    <a:lnTo>
                      <a:pt x="3380" y="67"/>
                    </a:lnTo>
                    <a:lnTo>
                      <a:pt x="3431" y="67"/>
                    </a:lnTo>
                    <a:lnTo>
                      <a:pt x="3474" y="58"/>
                    </a:lnTo>
                    <a:lnTo>
                      <a:pt x="3526" y="58"/>
                    </a:lnTo>
                    <a:lnTo>
                      <a:pt x="3578" y="49"/>
                    </a:lnTo>
                    <a:lnTo>
                      <a:pt x="3630" y="49"/>
                    </a:lnTo>
                    <a:lnTo>
                      <a:pt x="3673" y="49"/>
                    </a:lnTo>
                    <a:lnTo>
                      <a:pt x="3726" y="49"/>
                    </a:lnTo>
                    <a:lnTo>
                      <a:pt x="3777" y="49"/>
                    </a:lnTo>
                    <a:lnTo>
                      <a:pt x="3828" y="58"/>
                    </a:lnTo>
                    <a:lnTo>
                      <a:pt x="3871" y="58"/>
                    </a:lnTo>
                    <a:lnTo>
                      <a:pt x="3924" y="67"/>
                    </a:lnTo>
                    <a:lnTo>
                      <a:pt x="3975" y="67"/>
                    </a:lnTo>
                    <a:lnTo>
                      <a:pt x="4028" y="75"/>
                    </a:lnTo>
                    <a:lnTo>
                      <a:pt x="4072" y="82"/>
                    </a:lnTo>
                    <a:lnTo>
                      <a:pt x="4123" y="82"/>
                    </a:lnTo>
                    <a:lnTo>
                      <a:pt x="4174" y="91"/>
                    </a:lnTo>
                    <a:lnTo>
                      <a:pt x="4226" y="91"/>
                    </a:lnTo>
                    <a:lnTo>
                      <a:pt x="4270" y="91"/>
                    </a:lnTo>
                    <a:lnTo>
                      <a:pt x="4321" y="99"/>
                    </a:lnTo>
                    <a:lnTo>
                      <a:pt x="4374" y="99"/>
                    </a:lnTo>
                    <a:lnTo>
                      <a:pt x="4427" y="91"/>
                    </a:lnTo>
                    <a:lnTo>
                      <a:pt x="4469" y="91"/>
                    </a:lnTo>
                    <a:lnTo>
                      <a:pt x="4521" y="91"/>
                    </a:lnTo>
                    <a:lnTo>
                      <a:pt x="4572" y="82"/>
                    </a:lnTo>
                    <a:lnTo>
                      <a:pt x="4625" y="82"/>
                    </a:lnTo>
                    <a:lnTo>
                      <a:pt x="4667" y="75"/>
                    </a:lnTo>
                    <a:lnTo>
                      <a:pt x="4718" y="75"/>
                    </a:lnTo>
                    <a:lnTo>
                      <a:pt x="4771" y="67"/>
                    </a:lnTo>
                    <a:lnTo>
                      <a:pt x="4824" y="58"/>
                    </a:lnTo>
                    <a:lnTo>
                      <a:pt x="4867" y="49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91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106"/>
                    </a:lnTo>
                    <a:lnTo>
                      <a:pt x="4427" y="106"/>
                    </a:lnTo>
                    <a:lnTo>
                      <a:pt x="4374" y="106"/>
                    </a:lnTo>
                    <a:lnTo>
                      <a:pt x="4321" y="106"/>
                    </a:lnTo>
                    <a:lnTo>
                      <a:pt x="4270" y="106"/>
                    </a:lnTo>
                    <a:lnTo>
                      <a:pt x="4226" y="106"/>
                    </a:lnTo>
                    <a:lnTo>
                      <a:pt x="4174" y="116"/>
                    </a:lnTo>
                    <a:lnTo>
                      <a:pt x="4123" y="116"/>
                    </a:lnTo>
                    <a:lnTo>
                      <a:pt x="4072" y="116"/>
                    </a:lnTo>
                    <a:lnTo>
                      <a:pt x="4028" y="116"/>
                    </a:lnTo>
                    <a:lnTo>
                      <a:pt x="3975" y="116"/>
                    </a:lnTo>
                    <a:lnTo>
                      <a:pt x="3924" y="116"/>
                    </a:lnTo>
                    <a:lnTo>
                      <a:pt x="3871" y="116"/>
                    </a:lnTo>
                    <a:lnTo>
                      <a:pt x="3828" y="116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16"/>
                    </a:lnTo>
                    <a:lnTo>
                      <a:pt x="3474" y="116"/>
                    </a:lnTo>
                    <a:lnTo>
                      <a:pt x="3431" y="106"/>
                    </a:lnTo>
                    <a:lnTo>
                      <a:pt x="3380" y="106"/>
                    </a:lnTo>
                    <a:lnTo>
                      <a:pt x="3329" y="106"/>
                    </a:lnTo>
                    <a:lnTo>
                      <a:pt x="3276" y="106"/>
                    </a:lnTo>
                    <a:lnTo>
                      <a:pt x="3233" y="106"/>
                    </a:lnTo>
                    <a:lnTo>
                      <a:pt x="3180" y="106"/>
                    </a:lnTo>
                    <a:lnTo>
                      <a:pt x="3129" y="106"/>
                    </a:lnTo>
                    <a:lnTo>
                      <a:pt x="3076" y="106"/>
                    </a:lnTo>
                    <a:lnTo>
                      <a:pt x="3034" y="106"/>
                    </a:lnTo>
                    <a:lnTo>
                      <a:pt x="2982" y="106"/>
                    </a:lnTo>
                    <a:lnTo>
                      <a:pt x="2930" y="106"/>
                    </a:lnTo>
                    <a:lnTo>
                      <a:pt x="2878" y="106"/>
                    </a:lnTo>
                    <a:lnTo>
                      <a:pt x="2834" y="106"/>
                    </a:lnTo>
                    <a:lnTo>
                      <a:pt x="2783" y="106"/>
                    </a:lnTo>
                    <a:lnTo>
                      <a:pt x="2730" y="106"/>
                    </a:lnTo>
                    <a:lnTo>
                      <a:pt x="2679" y="106"/>
                    </a:lnTo>
                    <a:lnTo>
                      <a:pt x="2636" y="106"/>
                    </a:lnTo>
                    <a:lnTo>
                      <a:pt x="2585" y="106"/>
                    </a:lnTo>
                    <a:lnTo>
                      <a:pt x="2532" y="106"/>
                    </a:lnTo>
                    <a:lnTo>
                      <a:pt x="2481" y="106"/>
                    </a:lnTo>
                    <a:lnTo>
                      <a:pt x="2437" y="106"/>
                    </a:lnTo>
                    <a:lnTo>
                      <a:pt x="2385" y="106"/>
                    </a:lnTo>
                    <a:lnTo>
                      <a:pt x="2333" y="106"/>
                    </a:lnTo>
                    <a:lnTo>
                      <a:pt x="2281" y="106"/>
                    </a:lnTo>
                    <a:lnTo>
                      <a:pt x="2239" y="106"/>
                    </a:lnTo>
                    <a:lnTo>
                      <a:pt x="2188" y="106"/>
                    </a:lnTo>
                    <a:lnTo>
                      <a:pt x="2135" y="106"/>
                    </a:lnTo>
                    <a:lnTo>
                      <a:pt x="2084" y="106"/>
                    </a:lnTo>
                    <a:lnTo>
                      <a:pt x="2039" y="106"/>
                    </a:lnTo>
                    <a:lnTo>
                      <a:pt x="1986" y="106"/>
                    </a:lnTo>
                    <a:lnTo>
                      <a:pt x="1935" y="106"/>
                    </a:lnTo>
                    <a:lnTo>
                      <a:pt x="1884" y="106"/>
                    </a:lnTo>
                    <a:lnTo>
                      <a:pt x="1841" y="116"/>
                    </a:lnTo>
                    <a:lnTo>
                      <a:pt x="1789" y="116"/>
                    </a:lnTo>
                    <a:lnTo>
                      <a:pt x="1737" y="116"/>
                    </a:lnTo>
                    <a:lnTo>
                      <a:pt x="1685" y="116"/>
                    </a:lnTo>
                    <a:lnTo>
                      <a:pt x="1642" y="116"/>
                    </a:lnTo>
                    <a:lnTo>
                      <a:pt x="1589" y="116"/>
                    </a:lnTo>
                    <a:lnTo>
                      <a:pt x="1538" y="116"/>
                    </a:lnTo>
                    <a:lnTo>
                      <a:pt x="1487" y="116"/>
                    </a:lnTo>
                    <a:lnTo>
                      <a:pt x="1444" y="116"/>
                    </a:lnTo>
                    <a:lnTo>
                      <a:pt x="1391" y="116"/>
                    </a:lnTo>
                    <a:lnTo>
                      <a:pt x="1340" y="116"/>
                    </a:lnTo>
                    <a:lnTo>
                      <a:pt x="1287" y="116"/>
                    </a:lnTo>
                    <a:lnTo>
                      <a:pt x="1245" y="123"/>
                    </a:lnTo>
                    <a:lnTo>
                      <a:pt x="1192" y="123"/>
                    </a:lnTo>
                    <a:lnTo>
                      <a:pt x="1141" y="123"/>
                    </a:lnTo>
                    <a:lnTo>
                      <a:pt x="1089" y="123"/>
                    </a:lnTo>
                    <a:lnTo>
                      <a:pt x="1045" y="123"/>
                    </a:lnTo>
                    <a:lnTo>
                      <a:pt x="994" y="123"/>
                    </a:lnTo>
                    <a:lnTo>
                      <a:pt x="943" y="123"/>
                    </a:lnTo>
                    <a:lnTo>
                      <a:pt x="890" y="123"/>
                    </a:lnTo>
                    <a:lnTo>
                      <a:pt x="845" y="123"/>
                    </a:lnTo>
                    <a:lnTo>
                      <a:pt x="794" y="123"/>
                    </a:lnTo>
                    <a:lnTo>
                      <a:pt x="743" y="123"/>
                    </a:lnTo>
                    <a:lnTo>
                      <a:pt x="690" y="123"/>
                    </a:lnTo>
                    <a:lnTo>
                      <a:pt x="648" y="123"/>
                    </a:lnTo>
                    <a:lnTo>
                      <a:pt x="596" y="123"/>
                    </a:lnTo>
                    <a:lnTo>
                      <a:pt x="544" y="123"/>
                    </a:lnTo>
                    <a:lnTo>
                      <a:pt x="491" y="123"/>
                    </a:lnTo>
                    <a:lnTo>
                      <a:pt x="448" y="123"/>
                    </a:lnTo>
                    <a:lnTo>
                      <a:pt x="397" y="123"/>
                    </a:lnTo>
                    <a:lnTo>
                      <a:pt x="346" y="123"/>
                    </a:lnTo>
                    <a:lnTo>
                      <a:pt x="293" y="123"/>
                    </a:lnTo>
                    <a:lnTo>
                      <a:pt x="250" y="123"/>
                    </a:lnTo>
                    <a:lnTo>
                      <a:pt x="199" y="123"/>
                    </a:lnTo>
                    <a:lnTo>
                      <a:pt x="146" y="123"/>
                    </a:lnTo>
                    <a:lnTo>
                      <a:pt x="93" y="123"/>
                    </a:lnTo>
                    <a:lnTo>
                      <a:pt x="51" y="123"/>
                    </a:lnTo>
                    <a:lnTo>
                      <a:pt x="0" y="12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108"/>
                    </a:lnTo>
                    <a:lnTo>
                      <a:pt x="4867" y="116"/>
                    </a:lnTo>
                    <a:lnTo>
                      <a:pt x="4824" y="125"/>
                    </a:lnTo>
                    <a:lnTo>
                      <a:pt x="4771" y="132"/>
                    </a:lnTo>
                    <a:lnTo>
                      <a:pt x="4718" y="140"/>
                    </a:lnTo>
                    <a:lnTo>
                      <a:pt x="4667" y="140"/>
                    </a:lnTo>
                    <a:lnTo>
                      <a:pt x="4625" y="149"/>
                    </a:lnTo>
                    <a:lnTo>
                      <a:pt x="4572" y="149"/>
                    </a:lnTo>
                    <a:lnTo>
                      <a:pt x="4521" y="158"/>
                    </a:lnTo>
                    <a:lnTo>
                      <a:pt x="4469" y="158"/>
                    </a:lnTo>
                    <a:lnTo>
                      <a:pt x="4427" y="158"/>
                    </a:lnTo>
                    <a:lnTo>
                      <a:pt x="4374" y="166"/>
                    </a:lnTo>
                    <a:lnTo>
                      <a:pt x="4321" y="166"/>
                    </a:lnTo>
                    <a:lnTo>
                      <a:pt x="4270" y="158"/>
                    </a:lnTo>
                    <a:lnTo>
                      <a:pt x="4226" y="158"/>
                    </a:lnTo>
                    <a:lnTo>
                      <a:pt x="4174" y="158"/>
                    </a:lnTo>
                    <a:lnTo>
                      <a:pt x="4123" y="149"/>
                    </a:lnTo>
                    <a:lnTo>
                      <a:pt x="4072" y="149"/>
                    </a:lnTo>
                    <a:lnTo>
                      <a:pt x="4028" y="140"/>
                    </a:lnTo>
                    <a:lnTo>
                      <a:pt x="3975" y="132"/>
                    </a:lnTo>
                    <a:lnTo>
                      <a:pt x="3924" y="132"/>
                    </a:lnTo>
                    <a:lnTo>
                      <a:pt x="3871" y="125"/>
                    </a:lnTo>
                    <a:lnTo>
                      <a:pt x="3828" y="125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25"/>
                    </a:lnTo>
                    <a:lnTo>
                      <a:pt x="3474" y="125"/>
                    </a:lnTo>
                    <a:lnTo>
                      <a:pt x="3431" y="132"/>
                    </a:lnTo>
                    <a:lnTo>
                      <a:pt x="3380" y="132"/>
                    </a:lnTo>
                    <a:lnTo>
                      <a:pt x="3329" y="140"/>
                    </a:lnTo>
                    <a:lnTo>
                      <a:pt x="3276" y="140"/>
                    </a:lnTo>
                    <a:lnTo>
                      <a:pt x="3233" y="140"/>
                    </a:lnTo>
                    <a:lnTo>
                      <a:pt x="3180" y="140"/>
                    </a:lnTo>
                    <a:lnTo>
                      <a:pt x="3129" y="140"/>
                    </a:lnTo>
                    <a:lnTo>
                      <a:pt x="3076" y="140"/>
                    </a:lnTo>
                    <a:lnTo>
                      <a:pt x="3034" y="140"/>
                    </a:lnTo>
                    <a:lnTo>
                      <a:pt x="2982" y="149"/>
                    </a:lnTo>
                    <a:lnTo>
                      <a:pt x="2930" y="149"/>
                    </a:lnTo>
                    <a:lnTo>
                      <a:pt x="2878" y="149"/>
                    </a:lnTo>
                    <a:lnTo>
                      <a:pt x="2834" y="149"/>
                    </a:lnTo>
                    <a:lnTo>
                      <a:pt x="2783" y="149"/>
                    </a:lnTo>
                    <a:lnTo>
                      <a:pt x="2730" y="149"/>
                    </a:lnTo>
                    <a:lnTo>
                      <a:pt x="2679" y="149"/>
                    </a:lnTo>
                    <a:lnTo>
                      <a:pt x="2636" y="149"/>
                    </a:lnTo>
                    <a:lnTo>
                      <a:pt x="2585" y="140"/>
                    </a:lnTo>
                    <a:lnTo>
                      <a:pt x="2532" y="132"/>
                    </a:lnTo>
                    <a:lnTo>
                      <a:pt x="2481" y="132"/>
                    </a:lnTo>
                    <a:lnTo>
                      <a:pt x="2437" y="125"/>
                    </a:lnTo>
                    <a:lnTo>
                      <a:pt x="2385" y="116"/>
                    </a:lnTo>
                    <a:lnTo>
                      <a:pt x="2333" y="108"/>
                    </a:lnTo>
                    <a:lnTo>
                      <a:pt x="2281" y="99"/>
                    </a:lnTo>
                    <a:lnTo>
                      <a:pt x="2239" y="99"/>
                    </a:lnTo>
                    <a:lnTo>
                      <a:pt x="2188" y="108"/>
                    </a:lnTo>
                    <a:lnTo>
                      <a:pt x="2135" y="108"/>
                    </a:lnTo>
                    <a:lnTo>
                      <a:pt x="2084" y="116"/>
                    </a:lnTo>
                    <a:lnTo>
                      <a:pt x="2039" y="125"/>
                    </a:lnTo>
                    <a:lnTo>
                      <a:pt x="1986" y="140"/>
                    </a:lnTo>
                    <a:lnTo>
                      <a:pt x="1935" y="149"/>
                    </a:lnTo>
                    <a:lnTo>
                      <a:pt x="1884" y="158"/>
                    </a:lnTo>
                    <a:lnTo>
                      <a:pt x="1841" y="158"/>
                    </a:lnTo>
                    <a:lnTo>
                      <a:pt x="1789" y="166"/>
                    </a:lnTo>
                    <a:lnTo>
                      <a:pt x="1737" y="166"/>
                    </a:lnTo>
                    <a:lnTo>
                      <a:pt x="1685" y="166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73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867" y="0"/>
                    </a:lnTo>
                    <a:lnTo>
                      <a:pt x="4824" y="9"/>
                    </a:lnTo>
                    <a:lnTo>
                      <a:pt x="4771" y="17"/>
                    </a:lnTo>
                    <a:lnTo>
                      <a:pt x="4718" y="25"/>
                    </a:lnTo>
                    <a:lnTo>
                      <a:pt x="4667" y="25"/>
                    </a:lnTo>
                    <a:lnTo>
                      <a:pt x="4625" y="34"/>
                    </a:lnTo>
                    <a:lnTo>
                      <a:pt x="4572" y="34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50"/>
                    </a:lnTo>
                    <a:lnTo>
                      <a:pt x="4374" y="50"/>
                    </a:lnTo>
                    <a:lnTo>
                      <a:pt x="4321" y="50"/>
                    </a:lnTo>
                    <a:lnTo>
                      <a:pt x="4270" y="50"/>
                    </a:lnTo>
                    <a:lnTo>
                      <a:pt x="4226" y="50"/>
                    </a:lnTo>
                    <a:lnTo>
                      <a:pt x="4174" y="50"/>
                    </a:lnTo>
                    <a:lnTo>
                      <a:pt x="4123" y="50"/>
                    </a:lnTo>
                    <a:lnTo>
                      <a:pt x="4072" y="50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34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50"/>
                    </a:lnTo>
                    <a:lnTo>
                      <a:pt x="3578" y="58"/>
                    </a:lnTo>
                    <a:lnTo>
                      <a:pt x="3526" y="58"/>
                    </a:lnTo>
                    <a:lnTo>
                      <a:pt x="3474" y="66"/>
                    </a:lnTo>
                    <a:lnTo>
                      <a:pt x="3431" y="75"/>
                    </a:lnTo>
                    <a:lnTo>
                      <a:pt x="3380" y="84"/>
                    </a:lnTo>
                    <a:lnTo>
                      <a:pt x="3329" y="91"/>
                    </a:lnTo>
                    <a:lnTo>
                      <a:pt x="3276" y="91"/>
                    </a:lnTo>
                    <a:lnTo>
                      <a:pt x="3233" y="99"/>
                    </a:lnTo>
                    <a:lnTo>
                      <a:pt x="3180" y="99"/>
                    </a:lnTo>
                    <a:lnTo>
                      <a:pt x="3129" y="99"/>
                    </a:lnTo>
                    <a:lnTo>
                      <a:pt x="3076" y="108"/>
                    </a:lnTo>
                    <a:lnTo>
                      <a:pt x="3034" y="108"/>
                    </a:lnTo>
                    <a:lnTo>
                      <a:pt x="2982" y="108"/>
                    </a:lnTo>
                    <a:lnTo>
                      <a:pt x="2930" y="116"/>
                    </a:lnTo>
                    <a:lnTo>
                      <a:pt x="2878" y="116"/>
                    </a:lnTo>
                    <a:lnTo>
                      <a:pt x="2834" y="116"/>
                    </a:lnTo>
                    <a:lnTo>
                      <a:pt x="2783" y="125"/>
                    </a:lnTo>
                    <a:lnTo>
                      <a:pt x="2730" y="125"/>
                    </a:lnTo>
                    <a:lnTo>
                      <a:pt x="2679" y="125"/>
                    </a:lnTo>
                    <a:lnTo>
                      <a:pt x="2636" y="125"/>
                    </a:lnTo>
                    <a:lnTo>
                      <a:pt x="2585" y="116"/>
                    </a:lnTo>
                    <a:lnTo>
                      <a:pt x="2532" y="116"/>
                    </a:lnTo>
                    <a:lnTo>
                      <a:pt x="2481" y="108"/>
                    </a:lnTo>
                    <a:lnTo>
                      <a:pt x="2437" y="99"/>
                    </a:lnTo>
                    <a:lnTo>
                      <a:pt x="2385" y="91"/>
                    </a:lnTo>
                    <a:lnTo>
                      <a:pt x="2333" y="91"/>
                    </a:lnTo>
                    <a:lnTo>
                      <a:pt x="2281" y="84"/>
                    </a:lnTo>
                    <a:lnTo>
                      <a:pt x="2239" y="84"/>
                    </a:lnTo>
                    <a:lnTo>
                      <a:pt x="2188" y="91"/>
                    </a:lnTo>
                    <a:lnTo>
                      <a:pt x="2135" y="99"/>
                    </a:lnTo>
                    <a:lnTo>
                      <a:pt x="2084" y="108"/>
                    </a:lnTo>
                    <a:lnTo>
                      <a:pt x="2039" y="116"/>
                    </a:lnTo>
                    <a:lnTo>
                      <a:pt x="1986" y="125"/>
                    </a:lnTo>
                    <a:lnTo>
                      <a:pt x="1935" y="132"/>
                    </a:lnTo>
                    <a:lnTo>
                      <a:pt x="1884" y="140"/>
                    </a:lnTo>
                    <a:lnTo>
                      <a:pt x="1841" y="149"/>
                    </a:lnTo>
                    <a:lnTo>
                      <a:pt x="1789" y="158"/>
                    </a:lnTo>
                    <a:lnTo>
                      <a:pt x="1737" y="158"/>
                    </a:lnTo>
                    <a:lnTo>
                      <a:pt x="1685" y="158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66"/>
                    </a:lnTo>
                    <a:lnTo>
                      <a:pt x="1391" y="166"/>
                    </a:lnTo>
                    <a:lnTo>
                      <a:pt x="1340" y="166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66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53560" y="4134240"/>
                <a:ext cx="3537720" cy="130320"/>
              </a:xfrm>
              <a:custGeom>
                <a:avLst/>
                <a:gdLst/>
                <a:ahLst/>
                <a:rect l="l" t="t" r="r" b="b"/>
                <a:pathLst>
                  <a:path w="4918" h="190">
                    <a:moveTo>
                      <a:pt x="0" y="190"/>
                    </a:moveTo>
                    <a:lnTo>
                      <a:pt x="0" y="190"/>
                    </a:lnTo>
                    <a:lnTo>
                      <a:pt x="51" y="190"/>
                    </a:lnTo>
                    <a:lnTo>
                      <a:pt x="93" y="190"/>
                    </a:lnTo>
                    <a:lnTo>
                      <a:pt x="146" y="180"/>
                    </a:lnTo>
                    <a:lnTo>
                      <a:pt x="199" y="173"/>
                    </a:lnTo>
                    <a:lnTo>
                      <a:pt x="250" y="156"/>
                    </a:lnTo>
                    <a:lnTo>
                      <a:pt x="293" y="165"/>
                    </a:lnTo>
                    <a:lnTo>
                      <a:pt x="346" y="165"/>
                    </a:lnTo>
                    <a:lnTo>
                      <a:pt x="397" y="165"/>
                    </a:lnTo>
                    <a:lnTo>
                      <a:pt x="448" y="147"/>
                    </a:lnTo>
                    <a:lnTo>
                      <a:pt x="491" y="141"/>
                    </a:lnTo>
                    <a:lnTo>
                      <a:pt x="544" y="123"/>
                    </a:lnTo>
                    <a:lnTo>
                      <a:pt x="596" y="98"/>
                    </a:lnTo>
                    <a:lnTo>
                      <a:pt x="648" y="74"/>
                    </a:lnTo>
                    <a:lnTo>
                      <a:pt x="690" y="57"/>
                    </a:lnTo>
                    <a:lnTo>
                      <a:pt x="743" y="48"/>
                    </a:lnTo>
                    <a:lnTo>
                      <a:pt x="794" y="67"/>
                    </a:lnTo>
                    <a:lnTo>
                      <a:pt x="845" y="91"/>
                    </a:lnTo>
                    <a:lnTo>
                      <a:pt x="890" y="115"/>
                    </a:lnTo>
                    <a:lnTo>
                      <a:pt x="943" y="141"/>
                    </a:lnTo>
                    <a:lnTo>
                      <a:pt x="994" y="156"/>
                    </a:lnTo>
                    <a:lnTo>
                      <a:pt x="1045" y="165"/>
                    </a:lnTo>
                    <a:lnTo>
                      <a:pt x="1089" y="173"/>
                    </a:lnTo>
                    <a:lnTo>
                      <a:pt x="1141" y="173"/>
                    </a:lnTo>
                    <a:lnTo>
                      <a:pt x="1192" y="165"/>
                    </a:lnTo>
                    <a:lnTo>
                      <a:pt x="1245" y="165"/>
                    </a:lnTo>
                    <a:lnTo>
                      <a:pt x="1287" y="165"/>
                    </a:lnTo>
                    <a:lnTo>
                      <a:pt x="1340" y="165"/>
                    </a:lnTo>
                    <a:lnTo>
                      <a:pt x="1391" y="173"/>
                    </a:lnTo>
                    <a:lnTo>
                      <a:pt x="1444" y="173"/>
                    </a:lnTo>
                    <a:lnTo>
                      <a:pt x="1487" y="165"/>
                    </a:lnTo>
                    <a:lnTo>
                      <a:pt x="1538" y="165"/>
                    </a:lnTo>
                    <a:lnTo>
                      <a:pt x="1589" y="165"/>
                    </a:lnTo>
                    <a:lnTo>
                      <a:pt x="1642" y="156"/>
                    </a:lnTo>
                    <a:lnTo>
                      <a:pt x="1685" y="147"/>
                    </a:lnTo>
                    <a:lnTo>
                      <a:pt x="1737" y="147"/>
                    </a:lnTo>
                    <a:lnTo>
                      <a:pt x="1789" y="147"/>
                    </a:lnTo>
                    <a:lnTo>
                      <a:pt x="1841" y="147"/>
                    </a:lnTo>
                    <a:lnTo>
                      <a:pt x="1884" y="141"/>
                    </a:lnTo>
                    <a:lnTo>
                      <a:pt x="1935" y="141"/>
                    </a:lnTo>
                    <a:lnTo>
                      <a:pt x="1986" y="132"/>
                    </a:lnTo>
                    <a:lnTo>
                      <a:pt x="2039" y="115"/>
                    </a:lnTo>
                    <a:lnTo>
                      <a:pt x="2084" y="108"/>
                    </a:lnTo>
                    <a:lnTo>
                      <a:pt x="2135" y="98"/>
                    </a:lnTo>
                    <a:lnTo>
                      <a:pt x="2188" y="82"/>
                    </a:lnTo>
                    <a:lnTo>
                      <a:pt x="2239" y="82"/>
                    </a:lnTo>
                    <a:lnTo>
                      <a:pt x="2281" y="82"/>
                    </a:lnTo>
                    <a:lnTo>
                      <a:pt x="2333" y="91"/>
                    </a:lnTo>
                    <a:lnTo>
                      <a:pt x="2385" y="98"/>
                    </a:lnTo>
                    <a:lnTo>
                      <a:pt x="2437" y="98"/>
                    </a:lnTo>
                    <a:lnTo>
                      <a:pt x="2481" y="108"/>
                    </a:lnTo>
                    <a:lnTo>
                      <a:pt x="2532" y="115"/>
                    </a:lnTo>
                    <a:lnTo>
                      <a:pt x="2585" y="115"/>
                    </a:lnTo>
                    <a:lnTo>
                      <a:pt x="2636" y="115"/>
                    </a:lnTo>
                    <a:lnTo>
                      <a:pt x="2679" y="115"/>
                    </a:lnTo>
                    <a:lnTo>
                      <a:pt x="2730" y="115"/>
                    </a:lnTo>
                    <a:lnTo>
                      <a:pt x="2783" y="115"/>
                    </a:lnTo>
                    <a:lnTo>
                      <a:pt x="2834" y="115"/>
                    </a:lnTo>
                    <a:lnTo>
                      <a:pt x="2878" y="115"/>
                    </a:lnTo>
                    <a:lnTo>
                      <a:pt x="2930" y="115"/>
                    </a:lnTo>
                    <a:lnTo>
                      <a:pt x="2982" y="115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8"/>
                    </a:lnTo>
                    <a:lnTo>
                      <a:pt x="3180" y="98"/>
                    </a:lnTo>
                    <a:lnTo>
                      <a:pt x="3233" y="91"/>
                    </a:lnTo>
                    <a:lnTo>
                      <a:pt x="3276" y="91"/>
                    </a:lnTo>
                    <a:lnTo>
                      <a:pt x="3329" y="82"/>
                    </a:lnTo>
                    <a:lnTo>
                      <a:pt x="3380" y="82"/>
                    </a:lnTo>
                    <a:lnTo>
                      <a:pt x="3431" y="74"/>
                    </a:lnTo>
                    <a:lnTo>
                      <a:pt x="3474" y="67"/>
                    </a:lnTo>
                    <a:lnTo>
                      <a:pt x="3526" y="57"/>
                    </a:lnTo>
                    <a:lnTo>
                      <a:pt x="3578" y="48"/>
                    </a:lnTo>
                    <a:lnTo>
                      <a:pt x="3630" y="42"/>
                    </a:lnTo>
                    <a:lnTo>
                      <a:pt x="3673" y="42"/>
                    </a:lnTo>
                    <a:lnTo>
                      <a:pt x="3726" y="33"/>
                    </a:lnTo>
                    <a:lnTo>
                      <a:pt x="3777" y="33"/>
                    </a:lnTo>
                    <a:lnTo>
                      <a:pt x="3828" y="33"/>
                    </a:lnTo>
                    <a:lnTo>
                      <a:pt x="3871" y="42"/>
                    </a:lnTo>
                    <a:lnTo>
                      <a:pt x="3924" y="42"/>
                    </a:lnTo>
                    <a:lnTo>
                      <a:pt x="3975" y="42"/>
                    </a:lnTo>
                    <a:lnTo>
                      <a:pt x="4028" y="48"/>
                    </a:lnTo>
                    <a:lnTo>
                      <a:pt x="4072" y="48"/>
                    </a:lnTo>
                    <a:lnTo>
                      <a:pt x="4123" y="48"/>
                    </a:lnTo>
                    <a:lnTo>
                      <a:pt x="4174" y="48"/>
                    </a:lnTo>
                    <a:lnTo>
                      <a:pt x="4226" y="48"/>
                    </a:lnTo>
                    <a:lnTo>
                      <a:pt x="4270" y="48"/>
                    </a:lnTo>
                    <a:lnTo>
                      <a:pt x="4321" y="48"/>
                    </a:lnTo>
                    <a:lnTo>
                      <a:pt x="4374" y="48"/>
                    </a:lnTo>
                    <a:lnTo>
                      <a:pt x="4427" y="48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9"/>
                    </a:lnTo>
                    <a:lnTo>
                      <a:pt x="4867" y="9"/>
                    </a:lnTo>
                    <a:lnTo>
                      <a:pt x="4824" y="16"/>
                    </a:lnTo>
                    <a:lnTo>
                      <a:pt x="4771" y="24"/>
                    </a:lnTo>
                    <a:lnTo>
                      <a:pt x="4718" y="33"/>
                    </a:lnTo>
                    <a:lnTo>
                      <a:pt x="4667" y="33"/>
                    </a:lnTo>
                    <a:lnTo>
                      <a:pt x="4625" y="42"/>
                    </a:lnTo>
                    <a:lnTo>
                      <a:pt x="4572" y="42"/>
                    </a:lnTo>
                    <a:lnTo>
                      <a:pt x="4521" y="48"/>
                    </a:lnTo>
                    <a:lnTo>
                      <a:pt x="4469" y="48"/>
                    </a:lnTo>
                    <a:lnTo>
                      <a:pt x="4427" y="57"/>
                    </a:lnTo>
                    <a:lnTo>
                      <a:pt x="4374" y="57"/>
                    </a:lnTo>
                    <a:lnTo>
                      <a:pt x="4321" y="57"/>
                    </a:lnTo>
                    <a:lnTo>
                      <a:pt x="4270" y="57"/>
                    </a:lnTo>
                    <a:lnTo>
                      <a:pt x="4226" y="57"/>
                    </a:lnTo>
                    <a:lnTo>
                      <a:pt x="4174" y="57"/>
                    </a:lnTo>
                    <a:lnTo>
                      <a:pt x="4123" y="57"/>
                    </a:lnTo>
                    <a:lnTo>
                      <a:pt x="4072" y="57"/>
                    </a:lnTo>
                    <a:lnTo>
                      <a:pt x="4028" y="48"/>
                    </a:lnTo>
                    <a:lnTo>
                      <a:pt x="3975" y="48"/>
                    </a:lnTo>
                    <a:lnTo>
                      <a:pt x="3924" y="48"/>
                    </a:lnTo>
                    <a:lnTo>
                      <a:pt x="3871" y="48"/>
                    </a:lnTo>
                    <a:lnTo>
                      <a:pt x="3828" y="42"/>
                    </a:lnTo>
                    <a:lnTo>
                      <a:pt x="3777" y="48"/>
                    </a:lnTo>
                    <a:lnTo>
                      <a:pt x="3726" y="48"/>
                    </a:lnTo>
                    <a:lnTo>
                      <a:pt x="3673" y="48"/>
                    </a:lnTo>
                    <a:lnTo>
                      <a:pt x="3630" y="57"/>
                    </a:lnTo>
                    <a:lnTo>
                      <a:pt x="3578" y="67"/>
                    </a:lnTo>
                    <a:lnTo>
                      <a:pt x="3526" y="67"/>
                    </a:lnTo>
                    <a:lnTo>
                      <a:pt x="3474" y="74"/>
                    </a:lnTo>
                    <a:lnTo>
                      <a:pt x="3431" y="82"/>
                    </a:lnTo>
                    <a:lnTo>
                      <a:pt x="3380" y="91"/>
                    </a:lnTo>
                    <a:lnTo>
                      <a:pt x="3329" y="98"/>
                    </a:lnTo>
                    <a:lnTo>
                      <a:pt x="3276" y="98"/>
                    </a:lnTo>
                    <a:lnTo>
                      <a:pt x="3233" y="108"/>
                    </a:lnTo>
                    <a:lnTo>
                      <a:pt x="3180" y="108"/>
                    </a:lnTo>
                    <a:lnTo>
                      <a:pt x="3129" y="108"/>
                    </a:lnTo>
                    <a:lnTo>
                      <a:pt x="3076" y="115"/>
                    </a:lnTo>
                    <a:lnTo>
                      <a:pt x="3034" y="115"/>
                    </a:lnTo>
                    <a:lnTo>
                      <a:pt x="2982" y="115"/>
                    </a:lnTo>
                    <a:lnTo>
                      <a:pt x="2930" y="123"/>
                    </a:lnTo>
                    <a:lnTo>
                      <a:pt x="2878" y="123"/>
                    </a:lnTo>
                    <a:lnTo>
                      <a:pt x="2834" y="123"/>
                    </a:lnTo>
                    <a:lnTo>
                      <a:pt x="2783" y="132"/>
                    </a:lnTo>
                    <a:lnTo>
                      <a:pt x="2730" y="132"/>
                    </a:lnTo>
                    <a:lnTo>
                      <a:pt x="2679" y="132"/>
                    </a:lnTo>
                    <a:lnTo>
                      <a:pt x="2636" y="132"/>
                    </a:lnTo>
                    <a:lnTo>
                      <a:pt x="2585" y="123"/>
                    </a:lnTo>
                    <a:lnTo>
                      <a:pt x="2532" y="123"/>
                    </a:lnTo>
                    <a:lnTo>
                      <a:pt x="2481" y="115"/>
                    </a:lnTo>
                    <a:lnTo>
                      <a:pt x="2437" y="108"/>
                    </a:lnTo>
                    <a:lnTo>
                      <a:pt x="2385" y="98"/>
                    </a:lnTo>
                    <a:lnTo>
                      <a:pt x="2333" y="98"/>
                    </a:lnTo>
                    <a:lnTo>
                      <a:pt x="2281" y="91"/>
                    </a:lnTo>
                    <a:lnTo>
                      <a:pt x="2239" y="91"/>
                    </a:lnTo>
                    <a:lnTo>
                      <a:pt x="2188" y="98"/>
                    </a:lnTo>
                    <a:lnTo>
                      <a:pt x="2135" y="108"/>
                    </a:lnTo>
                    <a:lnTo>
                      <a:pt x="2084" y="115"/>
                    </a:lnTo>
                    <a:lnTo>
                      <a:pt x="2039" y="123"/>
                    </a:lnTo>
                    <a:lnTo>
                      <a:pt x="1986" y="132"/>
                    </a:lnTo>
                    <a:lnTo>
                      <a:pt x="1935" y="141"/>
                    </a:lnTo>
                    <a:lnTo>
                      <a:pt x="1884" y="147"/>
                    </a:lnTo>
                    <a:lnTo>
                      <a:pt x="1841" y="156"/>
                    </a:lnTo>
                    <a:lnTo>
                      <a:pt x="1789" y="165"/>
                    </a:lnTo>
                    <a:lnTo>
                      <a:pt x="1737" y="165"/>
                    </a:lnTo>
                    <a:lnTo>
                      <a:pt x="1685" y="165"/>
                    </a:lnTo>
                    <a:lnTo>
                      <a:pt x="1642" y="173"/>
                    </a:lnTo>
                    <a:lnTo>
                      <a:pt x="1589" y="173"/>
                    </a:lnTo>
                    <a:lnTo>
                      <a:pt x="1538" y="173"/>
                    </a:lnTo>
                    <a:lnTo>
                      <a:pt x="1487" y="173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80"/>
                    </a:lnTo>
                    <a:lnTo>
                      <a:pt x="1245" y="180"/>
                    </a:lnTo>
                    <a:lnTo>
                      <a:pt x="1192" y="180"/>
                    </a:lnTo>
                    <a:lnTo>
                      <a:pt x="1141" y="180"/>
                    </a:lnTo>
                    <a:lnTo>
                      <a:pt x="1089" y="173"/>
                    </a:lnTo>
                    <a:lnTo>
                      <a:pt x="1045" y="173"/>
                    </a:lnTo>
                    <a:lnTo>
                      <a:pt x="994" y="156"/>
                    </a:lnTo>
                    <a:lnTo>
                      <a:pt x="943" y="141"/>
                    </a:lnTo>
                    <a:lnTo>
                      <a:pt x="890" y="123"/>
                    </a:lnTo>
                    <a:lnTo>
                      <a:pt x="845" y="98"/>
                    </a:lnTo>
                    <a:lnTo>
                      <a:pt x="794" y="82"/>
                    </a:lnTo>
                    <a:lnTo>
                      <a:pt x="743" y="74"/>
                    </a:lnTo>
                    <a:lnTo>
                      <a:pt x="690" y="82"/>
                    </a:lnTo>
                    <a:lnTo>
                      <a:pt x="648" y="91"/>
                    </a:lnTo>
                    <a:lnTo>
                      <a:pt x="596" y="108"/>
                    </a:lnTo>
                    <a:lnTo>
                      <a:pt x="544" y="123"/>
                    </a:lnTo>
                    <a:lnTo>
                      <a:pt x="491" y="141"/>
                    </a:lnTo>
                    <a:lnTo>
                      <a:pt x="448" y="156"/>
                    </a:lnTo>
                    <a:lnTo>
                      <a:pt x="397" y="165"/>
                    </a:lnTo>
                    <a:lnTo>
                      <a:pt x="346" y="173"/>
                    </a:lnTo>
                    <a:lnTo>
                      <a:pt x="293" y="180"/>
                    </a:lnTo>
                    <a:lnTo>
                      <a:pt x="250" y="180"/>
                    </a:lnTo>
                    <a:lnTo>
                      <a:pt x="199" y="180"/>
                    </a:lnTo>
                    <a:lnTo>
                      <a:pt x="146" y="190"/>
                    </a:lnTo>
                    <a:lnTo>
                      <a:pt x="93" y="190"/>
                    </a:lnTo>
                    <a:lnTo>
                      <a:pt x="51" y="190"/>
                    </a:lnTo>
                    <a:lnTo>
                      <a:pt x="0" y="19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53560" y="4099680"/>
                <a:ext cx="3537720" cy="164880"/>
              </a:xfrm>
              <a:custGeom>
                <a:avLst/>
                <a:gdLst/>
                <a:ahLst/>
                <a:rect l="l" t="t" r="r" b="b"/>
                <a:pathLst>
                  <a:path w="4918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51" y="240"/>
                    </a:lnTo>
                    <a:lnTo>
                      <a:pt x="93" y="240"/>
                    </a:lnTo>
                    <a:lnTo>
                      <a:pt x="146" y="230"/>
                    </a:lnTo>
                    <a:lnTo>
                      <a:pt x="199" y="215"/>
                    </a:lnTo>
                    <a:lnTo>
                      <a:pt x="250" y="206"/>
                    </a:lnTo>
                    <a:lnTo>
                      <a:pt x="293" y="206"/>
                    </a:lnTo>
                    <a:lnTo>
                      <a:pt x="346" y="215"/>
                    </a:lnTo>
                    <a:lnTo>
                      <a:pt x="397" y="206"/>
                    </a:lnTo>
                    <a:lnTo>
                      <a:pt x="448" y="197"/>
                    </a:lnTo>
                    <a:lnTo>
                      <a:pt x="491" y="182"/>
                    </a:lnTo>
                    <a:lnTo>
                      <a:pt x="544" y="165"/>
                    </a:lnTo>
                    <a:lnTo>
                      <a:pt x="596" y="141"/>
                    </a:lnTo>
                    <a:lnTo>
                      <a:pt x="648" y="123"/>
                    </a:lnTo>
                    <a:lnTo>
                      <a:pt x="690" y="98"/>
                    </a:lnTo>
                    <a:lnTo>
                      <a:pt x="743" y="91"/>
                    </a:lnTo>
                    <a:lnTo>
                      <a:pt x="794" y="107"/>
                    </a:lnTo>
                    <a:lnTo>
                      <a:pt x="845" y="132"/>
                    </a:lnTo>
                    <a:lnTo>
                      <a:pt x="890" y="156"/>
                    </a:lnTo>
                    <a:lnTo>
                      <a:pt x="943" y="182"/>
                    </a:lnTo>
                    <a:lnTo>
                      <a:pt x="994" y="197"/>
                    </a:lnTo>
                    <a:lnTo>
                      <a:pt x="1045" y="206"/>
                    </a:lnTo>
                    <a:lnTo>
                      <a:pt x="1089" y="215"/>
                    </a:lnTo>
                    <a:lnTo>
                      <a:pt x="1141" y="206"/>
                    </a:lnTo>
                    <a:lnTo>
                      <a:pt x="1192" y="206"/>
                    </a:lnTo>
                    <a:lnTo>
                      <a:pt x="1245" y="197"/>
                    </a:lnTo>
                    <a:lnTo>
                      <a:pt x="1287" y="197"/>
                    </a:lnTo>
                    <a:lnTo>
                      <a:pt x="1340" y="206"/>
                    </a:lnTo>
                    <a:lnTo>
                      <a:pt x="1391" y="206"/>
                    </a:lnTo>
                    <a:lnTo>
                      <a:pt x="1444" y="206"/>
                    </a:lnTo>
                    <a:lnTo>
                      <a:pt x="1487" y="197"/>
                    </a:lnTo>
                    <a:lnTo>
                      <a:pt x="1538" y="197"/>
                    </a:lnTo>
                    <a:lnTo>
                      <a:pt x="1589" y="189"/>
                    </a:lnTo>
                    <a:lnTo>
                      <a:pt x="1642" y="189"/>
                    </a:lnTo>
                    <a:lnTo>
                      <a:pt x="1685" y="182"/>
                    </a:lnTo>
                    <a:lnTo>
                      <a:pt x="1737" y="182"/>
                    </a:lnTo>
                    <a:lnTo>
                      <a:pt x="1789" y="173"/>
                    </a:lnTo>
                    <a:lnTo>
                      <a:pt x="1841" y="173"/>
                    </a:lnTo>
                    <a:lnTo>
                      <a:pt x="1884" y="173"/>
                    </a:lnTo>
                    <a:lnTo>
                      <a:pt x="1935" y="173"/>
                    </a:lnTo>
                    <a:lnTo>
                      <a:pt x="1986" y="165"/>
                    </a:lnTo>
                    <a:lnTo>
                      <a:pt x="2039" y="148"/>
                    </a:lnTo>
                    <a:lnTo>
                      <a:pt x="2084" y="141"/>
                    </a:lnTo>
                    <a:lnTo>
                      <a:pt x="2135" y="123"/>
                    </a:lnTo>
                    <a:lnTo>
                      <a:pt x="2188" y="117"/>
                    </a:lnTo>
                    <a:lnTo>
                      <a:pt x="2239" y="117"/>
                    </a:lnTo>
                    <a:lnTo>
                      <a:pt x="2281" y="117"/>
                    </a:lnTo>
                    <a:lnTo>
                      <a:pt x="2333" y="117"/>
                    </a:lnTo>
                    <a:lnTo>
                      <a:pt x="2385" y="123"/>
                    </a:lnTo>
                    <a:lnTo>
                      <a:pt x="2437" y="132"/>
                    </a:lnTo>
                    <a:lnTo>
                      <a:pt x="2481" y="141"/>
                    </a:lnTo>
                    <a:lnTo>
                      <a:pt x="2532" y="148"/>
                    </a:lnTo>
                    <a:lnTo>
                      <a:pt x="2585" y="148"/>
                    </a:lnTo>
                    <a:lnTo>
                      <a:pt x="2636" y="148"/>
                    </a:lnTo>
                    <a:lnTo>
                      <a:pt x="2679" y="141"/>
                    </a:lnTo>
                    <a:lnTo>
                      <a:pt x="2730" y="141"/>
                    </a:lnTo>
                    <a:lnTo>
                      <a:pt x="2783" y="141"/>
                    </a:lnTo>
                    <a:lnTo>
                      <a:pt x="2834" y="141"/>
                    </a:lnTo>
                    <a:lnTo>
                      <a:pt x="2878" y="141"/>
                    </a:lnTo>
                    <a:lnTo>
                      <a:pt x="2930" y="132"/>
                    </a:lnTo>
                    <a:lnTo>
                      <a:pt x="2982" y="132"/>
                    </a:lnTo>
                    <a:lnTo>
                      <a:pt x="3034" y="132"/>
                    </a:lnTo>
                    <a:lnTo>
                      <a:pt x="3076" y="123"/>
                    </a:lnTo>
                    <a:lnTo>
                      <a:pt x="3129" y="117"/>
                    </a:lnTo>
                    <a:lnTo>
                      <a:pt x="3180" y="107"/>
                    </a:lnTo>
                    <a:lnTo>
                      <a:pt x="3233" y="107"/>
                    </a:lnTo>
                    <a:lnTo>
                      <a:pt x="3276" y="98"/>
                    </a:lnTo>
                    <a:lnTo>
                      <a:pt x="3329" y="91"/>
                    </a:lnTo>
                    <a:lnTo>
                      <a:pt x="3380" y="83"/>
                    </a:lnTo>
                    <a:lnTo>
                      <a:pt x="3431" y="83"/>
                    </a:lnTo>
                    <a:lnTo>
                      <a:pt x="3474" y="74"/>
                    </a:lnTo>
                    <a:lnTo>
                      <a:pt x="3526" y="57"/>
                    </a:lnTo>
                    <a:lnTo>
                      <a:pt x="3578" y="50"/>
                    </a:lnTo>
                    <a:lnTo>
                      <a:pt x="3630" y="42"/>
                    </a:lnTo>
                    <a:lnTo>
                      <a:pt x="3673" y="33"/>
                    </a:lnTo>
                    <a:lnTo>
                      <a:pt x="3726" y="33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33"/>
                    </a:lnTo>
                    <a:lnTo>
                      <a:pt x="3924" y="33"/>
                    </a:lnTo>
                    <a:lnTo>
                      <a:pt x="3975" y="42"/>
                    </a:lnTo>
                    <a:lnTo>
                      <a:pt x="4028" y="42"/>
                    </a:lnTo>
                    <a:lnTo>
                      <a:pt x="4072" y="42"/>
                    </a:lnTo>
                    <a:lnTo>
                      <a:pt x="4123" y="42"/>
                    </a:lnTo>
                    <a:lnTo>
                      <a:pt x="4174" y="42"/>
                    </a:lnTo>
                    <a:lnTo>
                      <a:pt x="4226" y="42"/>
                    </a:lnTo>
                    <a:lnTo>
                      <a:pt x="4270" y="42"/>
                    </a:lnTo>
                    <a:lnTo>
                      <a:pt x="4321" y="42"/>
                    </a:lnTo>
                    <a:lnTo>
                      <a:pt x="4374" y="42"/>
                    </a:lnTo>
                    <a:lnTo>
                      <a:pt x="4427" y="42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9"/>
                    </a:lnTo>
                    <a:lnTo>
                      <a:pt x="4918" y="0"/>
                    </a:lnTo>
                    <a:lnTo>
                      <a:pt x="4918" y="50"/>
                    </a:lnTo>
                    <a:lnTo>
                      <a:pt x="4867" y="50"/>
                    </a:lnTo>
                    <a:lnTo>
                      <a:pt x="4824" y="57"/>
                    </a:lnTo>
                    <a:lnTo>
                      <a:pt x="4771" y="66"/>
                    </a:lnTo>
                    <a:lnTo>
                      <a:pt x="4718" y="66"/>
                    </a:lnTo>
                    <a:lnTo>
                      <a:pt x="4667" y="74"/>
                    </a:lnTo>
                    <a:lnTo>
                      <a:pt x="4625" y="83"/>
                    </a:lnTo>
                    <a:lnTo>
                      <a:pt x="4572" y="83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98"/>
                    </a:lnTo>
                    <a:lnTo>
                      <a:pt x="4374" y="98"/>
                    </a:lnTo>
                    <a:lnTo>
                      <a:pt x="4321" y="98"/>
                    </a:lnTo>
                    <a:lnTo>
                      <a:pt x="4270" y="98"/>
                    </a:lnTo>
                    <a:lnTo>
                      <a:pt x="4226" y="98"/>
                    </a:lnTo>
                    <a:lnTo>
                      <a:pt x="4174" y="98"/>
                    </a:lnTo>
                    <a:lnTo>
                      <a:pt x="4123" y="98"/>
                    </a:lnTo>
                    <a:lnTo>
                      <a:pt x="4072" y="98"/>
                    </a:lnTo>
                    <a:lnTo>
                      <a:pt x="4028" y="98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91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83"/>
                    </a:lnTo>
                    <a:lnTo>
                      <a:pt x="3673" y="91"/>
                    </a:lnTo>
                    <a:lnTo>
                      <a:pt x="3630" y="91"/>
                    </a:lnTo>
                    <a:lnTo>
                      <a:pt x="3578" y="98"/>
                    </a:lnTo>
                    <a:lnTo>
                      <a:pt x="3526" y="107"/>
                    </a:lnTo>
                    <a:lnTo>
                      <a:pt x="3474" y="117"/>
                    </a:lnTo>
                    <a:lnTo>
                      <a:pt x="3431" y="123"/>
                    </a:lnTo>
                    <a:lnTo>
                      <a:pt x="3380" y="132"/>
                    </a:lnTo>
                    <a:lnTo>
                      <a:pt x="3329" y="132"/>
                    </a:lnTo>
                    <a:lnTo>
                      <a:pt x="3276" y="141"/>
                    </a:lnTo>
                    <a:lnTo>
                      <a:pt x="3233" y="141"/>
                    </a:lnTo>
                    <a:lnTo>
                      <a:pt x="3180" y="148"/>
                    </a:lnTo>
                    <a:lnTo>
                      <a:pt x="3129" y="148"/>
                    </a:lnTo>
                    <a:lnTo>
                      <a:pt x="3076" y="156"/>
                    </a:lnTo>
                    <a:lnTo>
                      <a:pt x="3034" y="156"/>
                    </a:lnTo>
                    <a:lnTo>
                      <a:pt x="2982" y="165"/>
                    </a:lnTo>
                    <a:lnTo>
                      <a:pt x="2930" y="165"/>
                    </a:lnTo>
                    <a:lnTo>
                      <a:pt x="2878" y="165"/>
                    </a:lnTo>
                    <a:lnTo>
                      <a:pt x="2834" y="165"/>
                    </a:lnTo>
                    <a:lnTo>
                      <a:pt x="2783" y="165"/>
                    </a:lnTo>
                    <a:lnTo>
                      <a:pt x="2730" y="165"/>
                    </a:lnTo>
                    <a:lnTo>
                      <a:pt x="2679" y="165"/>
                    </a:lnTo>
                    <a:lnTo>
                      <a:pt x="2636" y="165"/>
                    </a:lnTo>
                    <a:lnTo>
                      <a:pt x="2585" y="165"/>
                    </a:lnTo>
                    <a:lnTo>
                      <a:pt x="2532" y="165"/>
                    </a:lnTo>
                    <a:lnTo>
                      <a:pt x="2481" y="156"/>
                    </a:lnTo>
                    <a:lnTo>
                      <a:pt x="2437" y="148"/>
                    </a:lnTo>
                    <a:lnTo>
                      <a:pt x="2385" y="148"/>
                    </a:lnTo>
                    <a:lnTo>
                      <a:pt x="2333" y="141"/>
                    </a:lnTo>
                    <a:lnTo>
                      <a:pt x="2281" y="132"/>
                    </a:lnTo>
                    <a:lnTo>
                      <a:pt x="2239" y="132"/>
                    </a:lnTo>
                    <a:lnTo>
                      <a:pt x="2188" y="132"/>
                    </a:lnTo>
                    <a:lnTo>
                      <a:pt x="2135" y="148"/>
                    </a:lnTo>
                    <a:lnTo>
                      <a:pt x="2084" y="156"/>
                    </a:lnTo>
                    <a:lnTo>
                      <a:pt x="2039" y="165"/>
                    </a:lnTo>
                    <a:lnTo>
                      <a:pt x="1986" y="182"/>
                    </a:lnTo>
                    <a:lnTo>
                      <a:pt x="1935" y="189"/>
                    </a:lnTo>
                    <a:lnTo>
                      <a:pt x="1884" y="189"/>
                    </a:lnTo>
                    <a:lnTo>
                      <a:pt x="1841" y="197"/>
                    </a:lnTo>
                    <a:lnTo>
                      <a:pt x="1789" y="197"/>
                    </a:lnTo>
                    <a:lnTo>
                      <a:pt x="1737" y="197"/>
                    </a:lnTo>
                    <a:lnTo>
                      <a:pt x="1685" y="197"/>
                    </a:lnTo>
                    <a:lnTo>
                      <a:pt x="1642" y="206"/>
                    </a:lnTo>
                    <a:lnTo>
                      <a:pt x="1589" y="215"/>
                    </a:lnTo>
                    <a:lnTo>
                      <a:pt x="1538" y="215"/>
                    </a:lnTo>
                    <a:lnTo>
                      <a:pt x="1487" y="215"/>
                    </a:lnTo>
                    <a:lnTo>
                      <a:pt x="1444" y="223"/>
                    </a:lnTo>
                    <a:lnTo>
                      <a:pt x="1391" y="223"/>
                    </a:lnTo>
                    <a:lnTo>
                      <a:pt x="1340" y="215"/>
                    </a:lnTo>
                    <a:lnTo>
                      <a:pt x="1287" y="215"/>
                    </a:lnTo>
                    <a:lnTo>
                      <a:pt x="1245" y="215"/>
                    </a:lnTo>
                    <a:lnTo>
                      <a:pt x="1192" y="215"/>
                    </a:lnTo>
                    <a:lnTo>
                      <a:pt x="1141" y="223"/>
                    </a:lnTo>
                    <a:lnTo>
                      <a:pt x="1089" y="223"/>
                    </a:lnTo>
                    <a:lnTo>
                      <a:pt x="1045" y="215"/>
                    </a:lnTo>
                    <a:lnTo>
                      <a:pt x="994" y="206"/>
                    </a:lnTo>
                    <a:lnTo>
                      <a:pt x="943" y="189"/>
                    </a:lnTo>
                    <a:lnTo>
                      <a:pt x="890" y="165"/>
                    </a:lnTo>
                    <a:lnTo>
                      <a:pt x="845" y="141"/>
                    </a:lnTo>
                    <a:lnTo>
                      <a:pt x="794" y="117"/>
                    </a:lnTo>
                    <a:lnTo>
                      <a:pt x="743" y="98"/>
                    </a:lnTo>
                    <a:lnTo>
                      <a:pt x="690" y="107"/>
                    </a:lnTo>
                    <a:lnTo>
                      <a:pt x="648" y="123"/>
                    </a:lnTo>
                    <a:lnTo>
                      <a:pt x="596" y="148"/>
                    </a:lnTo>
                    <a:lnTo>
                      <a:pt x="544" y="173"/>
                    </a:lnTo>
                    <a:lnTo>
                      <a:pt x="491" y="189"/>
                    </a:lnTo>
                    <a:lnTo>
                      <a:pt x="448" y="197"/>
                    </a:lnTo>
                    <a:lnTo>
                      <a:pt x="397" y="215"/>
                    </a:lnTo>
                    <a:lnTo>
                      <a:pt x="346" y="215"/>
                    </a:lnTo>
                    <a:lnTo>
                      <a:pt x="293" y="215"/>
                    </a:lnTo>
                    <a:lnTo>
                      <a:pt x="250" y="206"/>
                    </a:lnTo>
                    <a:lnTo>
                      <a:pt x="199" y="223"/>
                    </a:lnTo>
                    <a:lnTo>
                      <a:pt x="146" y="230"/>
                    </a:lnTo>
                    <a:lnTo>
                      <a:pt x="93" y="240"/>
                    </a:lnTo>
                    <a:lnTo>
                      <a:pt x="51" y="240"/>
                    </a:lnTo>
                    <a:lnTo>
                      <a:pt x="0" y="24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3560" y="4061160"/>
                <a:ext cx="3537720" cy="203400"/>
              </a:xfrm>
              <a:custGeom>
                <a:avLst/>
                <a:gdLst/>
                <a:ahLst/>
                <a:rect l="l" t="t" r="r" b="b"/>
                <a:pathLst>
                  <a:path w="4918" h="297">
                    <a:moveTo>
                      <a:pt x="0" y="297"/>
                    </a:moveTo>
                    <a:lnTo>
                      <a:pt x="0" y="263"/>
                    </a:lnTo>
                    <a:lnTo>
                      <a:pt x="51" y="254"/>
                    </a:lnTo>
                    <a:lnTo>
                      <a:pt x="93" y="254"/>
                    </a:lnTo>
                    <a:lnTo>
                      <a:pt x="146" y="246"/>
                    </a:lnTo>
                    <a:lnTo>
                      <a:pt x="199" y="222"/>
                    </a:lnTo>
                    <a:lnTo>
                      <a:pt x="250" y="205"/>
                    </a:lnTo>
                    <a:lnTo>
                      <a:pt x="293" y="215"/>
                    </a:lnTo>
                    <a:lnTo>
                      <a:pt x="346" y="222"/>
                    </a:lnTo>
                    <a:lnTo>
                      <a:pt x="397" y="215"/>
                    </a:lnTo>
                    <a:lnTo>
                      <a:pt x="448" y="198"/>
                    </a:lnTo>
                    <a:lnTo>
                      <a:pt x="491" y="181"/>
                    </a:lnTo>
                    <a:lnTo>
                      <a:pt x="544" y="155"/>
                    </a:lnTo>
                    <a:lnTo>
                      <a:pt x="596" y="131"/>
                    </a:lnTo>
                    <a:lnTo>
                      <a:pt x="648" y="107"/>
                    </a:lnTo>
                    <a:lnTo>
                      <a:pt x="690" y="82"/>
                    </a:lnTo>
                    <a:lnTo>
                      <a:pt x="743" y="75"/>
                    </a:lnTo>
                    <a:lnTo>
                      <a:pt x="794" y="90"/>
                    </a:lnTo>
                    <a:lnTo>
                      <a:pt x="845" y="123"/>
                    </a:lnTo>
                    <a:lnTo>
                      <a:pt x="890" y="148"/>
                    </a:lnTo>
                    <a:lnTo>
                      <a:pt x="943" y="174"/>
                    </a:lnTo>
                    <a:lnTo>
                      <a:pt x="994" y="189"/>
                    </a:lnTo>
                    <a:lnTo>
                      <a:pt x="1045" y="198"/>
                    </a:lnTo>
                    <a:lnTo>
                      <a:pt x="1089" y="198"/>
                    </a:lnTo>
                    <a:lnTo>
                      <a:pt x="1141" y="189"/>
                    </a:lnTo>
                    <a:lnTo>
                      <a:pt x="1192" y="181"/>
                    </a:lnTo>
                    <a:lnTo>
                      <a:pt x="1245" y="181"/>
                    </a:lnTo>
                    <a:lnTo>
                      <a:pt x="1287" y="189"/>
                    </a:lnTo>
                    <a:lnTo>
                      <a:pt x="1340" y="198"/>
                    </a:lnTo>
                    <a:lnTo>
                      <a:pt x="1391" y="215"/>
                    </a:lnTo>
                    <a:lnTo>
                      <a:pt x="1444" y="215"/>
                    </a:lnTo>
                    <a:lnTo>
                      <a:pt x="1487" y="215"/>
                    </a:lnTo>
                    <a:lnTo>
                      <a:pt x="1538" y="215"/>
                    </a:lnTo>
                    <a:lnTo>
                      <a:pt x="1589" y="205"/>
                    </a:lnTo>
                    <a:lnTo>
                      <a:pt x="1642" y="198"/>
                    </a:lnTo>
                    <a:lnTo>
                      <a:pt x="1685" y="189"/>
                    </a:lnTo>
                    <a:lnTo>
                      <a:pt x="1737" y="181"/>
                    </a:lnTo>
                    <a:lnTo>
                      <a:pt x="1789" y="181"/>
                    </a:lnTo>
                    <a:lnTo>
                      <a:pt x="1841" y="181"/>
                    </a:lnTo>
                    <a:lnTo>
                      <a:pt x="1884" y="181"/>
                    </a:lnTo>
                    <a:lnTo>
                      <a:pt x="1935" y="174"/>
                    </a:lnTo>
                    <a:lnTo>
                      <a:pt x="1986" y="155"/>
                    </a:lnTo>
                    <a:lnTo>
                      <a:pt x="2039" y="148"/>
                    </a:lnTo>
                    <a:lnTo>
                      <a:pt x="2084" y="131"/>
                    </a:lnTo>
                    <a:lnTo>
                      <a:pt x="2135" y="116"/>
                    </a:lnTo>
                    <a:lnTo>
                      <a:pt x="2188" y="107"/>
                    </a:lnTo>
                    <a:lnTo>
                      <a:pt x="2239" y="99"/>
                    </a:lnTo>
                    <a:lnTo>
                      <a:pt x="2281" y="99"/>
                    </a:lnTo>
                    <a:lnTo>
                      <a:pt x="2333" y="107"/>
                    </a:lnTo>
                    <a:lnTo>
                      <a:pt x="2385" y="116"/>
                    </a:lnTo>
                    <a:lnTo>
                      <a:pt x="2437" y="123"/>
                    </a:lnTo>
                    <a:lnTo>
                      <a:pt x="2481" y="123"/>
                    </a:lnTo>
                    <a:lnTo>
                      <a:pt x="2532" y="131"/>
                    </a:lnTo>
                    <a:lnTo>
                      <a:pt x="2585" y="131"/>
                    </a:lnTo>
                    <a:lnTo>
                      <a:pt x="2636" y="131"/>
                    </a:lnTo>
                    <a:lnTo>
                      <a:pt x="2679" y="131"/>
                    </a:lnTo>
                    <a:lnTo>
                      <a:pt x="2730" y="131"/>
                    </a:lnTo>
                    <a:lnTo>
                      <a:pt x="2783" y="131"/>
                    </a:lnTo>
                    <a:lnTo>
                      <a:pt x="2834" y="140"/>
                    </a:lnTo>
                    <a:lnTo>
                      <a:pt x="2878" y="140"/>
                    </a:lnTo>
                    <a:lnTo>
                      <a:pt x="2930" y="140"/>
                    </a:lnTo>
                    <a:lnTo>
                      <a:pt x="2982" y="140"/>
                    </a:lnTo>
                    <a:lnTo>
                      <a:pt x="3034" y="140"/>
                    </a:lnTo>
                    <a:lnTo>
                      <a:pt x="3076" y="131"/>
                    </a:lnTo>
                    <a:lnTo>
                      <a:pt x="3129" y="123"/>
                    </a:lnTo>
                    <a:lnTo>
                      <a:pt x="3180" y="116"/>
                    </a:lnTo>
                    <a:lnTo>
                      <a:pt x="3233" y="107"/>
                    </a:lnTo>
                    <a:lnTo>
                      <a:pt x="3276" y="99"/>
                    </a:lnTo>
                    <a:lnTo>
                      <a:pt x="3329" y="99"/>
                    </a:lnTo>
                    <a:lnTo>
                      <a:pt x="3380" y="90"/>
                    </a:lnTo>
                    <a:lnTo>
                      <a:pt x="3431" y="82"/>
                    </a:lnTo>
                    <a:lnTo>
                      <a:pt x="3474" y="66"/>
                    </a:lnTo>
                    <a:lnTo>
                      <a:pt x="3526" y="57"/>
                    </a:lnTo>
                    <a:lnTo>
                      <a:pt x="3578" y="41"/>
                    </a:lnTo>
                    <a:lnTo>
                      <a:pt x="3630" y="32"/>
                    </a:lnTo>
                    <a:lnTo>
                      <a:pt x="3673" y="25"/>
                    </a:lnTo>
                    <a:lnTo>
                      <a:pt x="3726" y="17"/>
                    </a:lnTo>
                    <a:lnTo>
                      <a:pt x="3777" y="17"/>
                    </a:lnTo>
                    <a:lnTo>
                      <a:pt x="3828" y="17"/>
                    </a:lnTo>
                    <a:lnTo>
                      <a:pt x="3871" y="17"/>
                    </a:lnTo>
                    <a:lnTo>
                      <a:pt x="3924" y="25"/>
                    </a:lnTo>
                    <a:lnTo>
                      <a:pt x="3975" y="25"/>
                    </a:lnTo>
                    <a:lnTo>
                      <a:pt x="4028" y="32"/>
                    </a:lnTo>
                    <a:lnTo>
                      <a:pt x="4072" y="32"/>
                    </a:lnTo>
                    <a:lnTo>
                      <a:pt x="4123" y="32"/>
                    </a:lnTo>
                    <a:lnTo>
                      <a:pt x="4174" y="32"/>
                    </a:lnTo>
                    <a:lnTo>
                      <a:pt x="4226" y="32"/>
                    </a:lnTo>
                    <a:lnTo>
                      <a:pt x="4270" y="41"/>
                    </a:lnTo>
                    <a:lnTo>
                      <a:pt x="4321" y="41"/>
                    </a:lnTo>
                    <a:lnTo>
                      <a:pt x="4374" y="41"/>
                    </a:lnTo>
                    <a:lnTo>
                      <a:pt x="4427" y="49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32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8"/>
                    </a:lnTo>
                    <a:lnTo>
                      <a:pt x="4867" y="8"/>
                    </a:lnTo>
                    <a:lnTo>
                      <a:pt x="4918" y="0"/>
                    </a:lnTo>
                    <a:lnTo>
                      <a:pt x="4918" y="57"/>
                    </a:lnTo>
                    <a:lnTo>
                      <a:pt x="4867" y="66"/>
                    </a:lnTo>
                    <a:lnTo>
                      <a:pt x="4824" y="66"/>
                    </a:lnTo>
                    <a:lnTo>
                      <a:pt x="4771" y="75"/>
                    </a:lnTo>
                    <a:lnTo>
                      <a:pt x="4718" y="75"/>
                    </a:lnTo>
                    <a:lnTo>
                      <a:pt x="4667" y="82"/>
                    </a:lnTo>
                    <a:lnTo>
                      <a:pt x="4625" y="90"/>
                    </a:lnTo>
                    <a:lnTo>
                      <a:pt x="4572" y="90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9"/>
                    </a:lnTo>
                    <a:lnTo>
                      <a:pt x="4374" y="99"/>
                    </a:lnTo>
                    <a:lnTo>
                      <a:pt x="4321" y="99"/>
                    </a:lnTo>
                    <a:lnTo>
                      <a:pt x="4270" y="99"/>
                    </a:lnTo>
                    <a:lnTo>
                      <a:pt x="4226" y="99"/>
                    </a:lnTo>
                    <a:lnTo>
                      <a:pt x="4174" y="99"/>
                    </a:lnTo>
                    <a:lnTo>
                      <a:pt x="4123" y="99"/>
                    </a:lnTo>
                    <a:lnTo>
                      <a:pt x="4072" y="99"/>
                    </a:lnTo>
                    <a:lnTo>
                      <a:pt x="4028" y="99"/>
                    </a:lnTo>
                    <a:lnTo>
                      <a:pt x="3975" y="99"/>
                    </a:lnTo>
                    <a:lnTo>
                      <a:pt x="3924" y="90"/>
                    </a:lnTo>
                    <a:lnTo>
                      <a:pt x="3871" y="90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0"/>
                    </a:lnTo>
                    <a:lnTo>
                      <a:pt x="3673" y="90"/>
                    </a:lnTo>
                    <a:lnTo>
                      <a:pt x="3630" y="99"/>
                    </a:lnTo>
                    <a:lnTo>
                      <a:pt x="3578" y="107"/>
                    </a:lnTo>
                    <a:lnTo>
                      <a:pt x="3526" y="116"/>
                    </a:lnTo>
                    <a:lnTo>
                      <a:pt x="3474" y="131"/>
                    </a:lnTo>
                    <a:lnTo>
                      <a:pt x="3431" y="140"/>
                    </a:lnTo>
                    <a:lnTo>
                      <a:pt x="3380" y="140"/>
                    </a:lnTo>
                    <a:lnTo>
                      <a:pt x="3329" y="148"/>
                    </a:lnTo>
                    <a:lnTo>
                      <a:pt x="3276" y="155"/>
                    </a:lnTo>
                    <a:lnTo>
                      <a:pt x="3233" y="164"/>
                    </a:lnTo>
                    <a:lnTo>
                      <a:pt x="3180" y="164"/>
                    </a:lnTo>
                    <a:lnTo>
                      <a:pt x="3129" y="174"/>
                    </a:lnTo>
                    <a:lnTo>
                      <a:pt x="3076" y="181"/>
                    </a:lnTo>
                    <a:lnTo>
                      <a:pt x="3034" y="189"/>
                    </a:lnTo>
                    <a:lnTo>
                      <a:pt x="2982" y="189"/>
                    </a:lnTo>
                    <a:lnTo>
                      <a:pt x="2930" y="189"/>
                    </a:lnTo>
                    <a:lnTo>
                      <a:pt x="2878" y="198"/>
                    </a:lnTo>
                    <a:lnTo>
                      <a:pt x="2834" y="198"/>
                    </a:lnTo>
                    <a:lnTo>
                      <a:pt x="2783" y="198"/>
                    </a:lnTo>
                    <a:lnTo>
                      <a:pt x="2730" y="198"/>
                    </a:lnTo>
                    <a:lnTo>
                      <a:pt x="2679" y="198"/>
                    </a:lnTo>
                    <a:lnTo>
                      <a:pt x="2636" y="205"/>
                    </a:lnTo>
                    <a:lnTo>
                      <a:pt x="2585" y="205"/>
                    </a:lnTo>
                    <a:lnTo>
                      <a:pt x="2532" y="205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81"/>
                    </a:lnTo>
                    <a:lnTo>
                      <a:pt x="2333" y="174"/>
                    </a:lnTo>
                    <a:lnTo>
                      <a:pt x="2281" y="174"/>
                    </a:lnTo>
                    <a:lnTo>
                      <a:pt x="2239" y="174"/>
                    </a:lnTo>
                    <a:lnTo>
                      <a:pt x="2188" y="174"/>
                    </a:lnTo>
                    <a:lnTo>
                      <a:pt x="2135" y="181"/>
                    </a:lnTo>
                    <a:lnTo>
                      <a:pt x="2084" y="198"/>
                    </a:lnTo>
                    <a:lnTo>
                      <a:pt x="2039" y="205"/>
                    </a:lnTo>
                    <a:lnTo>
                      <a:pt x="1986" y="222"/>
                    </a:lnTo>
                    <a:lnTo>
                      <a:pt x="1935" y="230"/>
                    </a:lnTo>
                    <a:lnTo>
                      <a:pt x="1884" y="230"/>
                    </a:lnTo>
                    <a:lnTo>
                      <a:pt x="1841" y="230"/>
                    </a:lnTo>
                    <a:lnTo>
                      <a:pt x="1789" y="230"/>
                    </a:lnTo>
                    <a:lnTo>
                      <a:pt x="1737" y="239"/>
                    </a:lnTo>
                    <a:lnTo>
                      <a:pt x="1685" y="239"/>
                    </a:lnTo>
                    <a:lnTo>
                      <a:pt x="1642" y="246"/>
                    </a:lnTo>
                    <a:lnTo>
                      <a:pt x="1589" y="246"/>
                    </a:lnTo>
                    <a:lnTo>
                      <a:pt x="1538" y="254"/>
                    </a:lnTo>
                    <a:lnTo>
                      <a:pt x="1487" y="254"/>
                    </a:lnTo>
                    <a:lnTo>
                      <a:pt x="1444" y="263"/>
                    </a:lnTo>
                    <a:lnTo>
                      <a:pt x="1391" y="263"/>
                    </a:lnTo>
                    <a:lnTo>
                      <a:pt x="1340" y="263"/>
                    </a:lnTo>
                    <a:lnTo>
                      <a:pt x="1287" y="254"/>
                    </a:lnTo>
                    <a:lnTo>
                      <a:pt x="1245" y="254"/>
                    </a:lnTo>
                    <a:lnTo>
                      <a:pt x="1192" y="263"/>
                    </a:lnTo>
                    <a:lnTo>
                      <a:pt x="1141" y="263"/>
                    </a:lnTo>
                    <a:lnTo>
                      <a:pt x="1089" y="272"/>
                    </a:lnTo>
                    <a:lnTo>
                      <a:pt x="1045" y="263"/>
                    </a:lnTo>
                    <a:lnTo>
                      <a:pt x="994" y="254"/>
                    </a:lnTo>
                    <a:lnTo>
                      <a:pt x="943" y="239"/>
                    </a:lnTo>
                    <a:lnTo>
                      <a:pt x="890" y="215"/>
                    </a:lnTo>
                    <a:lnTo>
                      <a:pt x="845" y="189"/>
                    </a:lnTo>
                    <a:lnTo>
                      <a:pt x="794" y="164"/>
                    </a:lnTo>
                    <a:lnTo>
                      <a:pt x="743" y="148"/>
                    </a:lnTo>
                    <a:lnTo>
                      <a:pt x="690" y="155"/>
                    </a:lnTo>
                    <a:lnTo>
                      <a:pt x="648" y="181"/>
                    </a:lnTo>
                    <a:lnTo>
                      <a:pt x="596" y="198"/>
                    </a:lnTo>
                    <a:lnTo>
                      <a:pt x="544" y="222"/>
                    </a:lnTo>
                    <a:lnTo>
                      <a:pt x="491" y="239"/>
                    </a:lnTo>
                    <a:lnTo>
                      <a:pt x="448" y="254"/>
                    </a:lnTo>
                    <a:lnTo>
                      <a:pt x="397" y="263"/>
                    </a:lnTo>
                    <a:lnTo>
                      <a:pt x="346" y="272"/>
                    </a:lnTo>
                    <a:lnTo>
                      <a:pt x="293" y="263"/>
                    </a:lnTo>
                    <a:lnTo>
                      <a:pt x="250" y="263"/>
                    </a:lnTo>
                    <a:lnTo>
                      <a:pt x="199" y="272"/>
                    </a:lnTo>
                    <a:lnTo>
                      <a:pt x="146" y="287"/>
                    </a:lnTo>
                    <a:lnTo>
                      <a:pt x="93" y="297"/>
                    </a:lnTo>
                    <a:lnTo>
                      <a:pt x="51" y="297"/>
                    </a:lnTo>
                    <a:lnTo>
                      <a:pt x="0" y="29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53560" y="3852360"/>
                <a:ext cx="3537720" cy="390240"/>
              </a:xfrm>
              <a:custGeom>
                <a:avLst/>
                <a:gdLst/>
                <a:ahLst/>
                <a:rect l="l" t="t" r="r" b="b"/>
                <a:pathLst>
                  <a:path w="4918" h="568">
                    <a:moveTo>
                      <a:pt x="0" y="568"/>
                    </a:moveTo>
                    <a:lnTo>
                      <a:pt x="0" y="486"/>
                    </a:lnTo>
                    <a:lnTo>
                      <a:pt x="51" y="460"/>
                    </a:lnTo>
                    <a:lnTo>
                      <a:pt x="93" y="428"/>
                    </a:lnTo>
                    <a:lnTo>
                      <a:pt x="146" y="362"/>
                    </a:lnTo>
                    <a:lnTo>
                      <a:pt x="199" y="287"/>
                    </a:lnTo>
                    <a:lnTo>
                      <a:pt x="250" y="231"/>
                    </a:lnTo>
                    <a:lnTo>
                      <a:pt x="293" y="231"/>
                    </a:lnTo>
                    <a:lnTo>
                      <a:pt x="346" y="296"/>
                    </a:lnTo>
                    <a:lnTo>
                      <a:pt x="397" y="337"/>
                    </a:lnTo>
                    <a:lnTo>
                      <a:pt x="448" y="337"/>
                    </a:lnTo>
                    <a:lnTo>
                      <a:pt x="491" y="313"/>
                    </a:lnTo>
                    <a:lnTo>
                      <a:pt x="544" y="272"/>
                    </a:lnTo>
                    <a:lnTo>
                      <a:pt x="596" y="214"/>
                    </a:lnTo>
                    <a:lnTo>
                      <a:pt x="648" y="132"/>
                    </a:lnTo>
                    <a:lnTo>
                      <a:pt x="690" y="50"/>
                    </a:lnTo>
                    <a:lnTo>
                      <a:pt x="743" y="0"/>
                    </a:lnTo>
                    <a:lnTo>
                      <a:pt x="794" y="17"/>
                    </a:lnTo>
                    <a:lnTo>
                      <a:pt x="845" y="82"/>
                    </a:lnTo>
                    <a:lnTo>
                      <a:pt x="890" y="164"/>
                    </a:lnTo>
                    <a:lnTo>
                      <a:pt x="943" y="222"/>
                    </a:lnTo>
                    <a:lnTo>
                      <a:pt x="994" y="239"/>
                    </a:lnTo>
                    <a:lnTo>
                      <a:pt x="1045" y="239"/>
                    </a:lnTo>
                    <a:lnTo>
                      <a:pt x="1089" y="222"/>
                    </a:lnTo>
                    <a:lnTo>
                      <a:pt x="1141" y="181"/>
                    </a:lnTo>
                    <a:lnTo>
                      <a:pt x="1192" y="149"/>
                    </a:lnTo>
                    <a:lnTo>
                      <a:pt x="1245" y="132"/>
                    </a:lnTo>
                    <a:lnTo>
                      <a:pt x="1287" y="157"/>
                    </a:lnTo>
                    <a:lnTo>
                      <a:pt x="1340" y="207"/>
                    </a:lnTo>
                    <a:lnTo>
                      <a:pt x="1391" y="263"/>
                    </a:lnTo>
                    <a:lnTo>
                      <a:pt x="1444" y="313"/>
                    </a:lnTo>
                    <a:lnTo>
                      <a:pt x="1487" y="337"/>
                    </a:lnTo>
                    <a:lnTo>
                      <a:pt x="1538" y="346"/>
                    </a:lnTo>
                    <a:lnTo>
                      <a:pt x="1589" y="330"/>
                    </a:lnTo>
                    <a:lnTo>
                      <a:pt x="1642" y="305"/>
                    </a:lnTo>
                    <a:lnTo>
                      <a:pt x="1685" y="272"/>
                    </a:lnTo>
                    <a:lnTo>
                      <a:pt x="1737" y="255"/>
                    </a:lnTo>
                    <a:lnTo>
                      <a:pt x="1789" y="255"/>
                    </a:lnTo>
                    <a:lnTo>
                      <a:pt x="1841" y="272"/>
                    </a:lnTo>
                    <a:lnTo>
                      <a:pt x="1884" y="281"/>
                    </a:lnTo>
                    <a:lnTo>
                      <a:pt x="1935" y="281"/>
                    </a:lnTo>
                    <a:lnTo>
                      <a:pt x="1986" y="272"/>
                    </a:lnTo>
                    <a:lnTo>
                      <a:pt x="2039" y="239"/>
                    </a:lnTo>
                    <a:lnTo>
                      <a:pt x="2084" y="198"/>
                    </a:lnTo>
                    <a:lnTo>
                      <a:pt x="2135" y="157"/>
                    </a:lnTo>
                    <a:lnTo>
                      <a:pt x="2188" y="116"/>
                    </a:lnTo>
                    <a:lnTo>
                      <a:pt x="2239" y="90"/>
                    </a:lnTo>
                    <a:lnTo>
                      <a:pt x="2281" y="82"/>
                    </a:lnTo>
                    <a:lnTo>
                      <a:pt x="2333" y="90"/>
                    </a:lnTo>
                    <a:lnTo>
                      <a:pt x="2385" y="108"/>
                    </a:lnTo>
                    <a:lnTo>
                      <a:pt x="2437" y="123"/>
                    </a:lnTo>
                    <a:lnTo>
                      <a:pt x="2481" y="132"/>
                    </a:lnTo>
                    <a:lnTo>
                      <a:pt x="2532" y="132"/>
                    </a:lnTo>
                    <a:lnTo>
                      <a:pt x="2585" y="132"/>
                    </a:lnTo>
                    <a:lnTo>
                      <a:pt x="2636" y="123"/>
                    </a:lnTo>
                    <a:lnTo>
                      <a:pt x="2679" y="116"/>
                    </a:lnTo>
                    <a:lnTo>
                      <a:pt x="2730" y="123"/>
                    </a:lnTo>
                    <a:lnTo>
                      <a:pt x="2783" y="140"/>
                    </a:lnTo>
                    <a:lnTo>
                      <a:pt x="2834" y="173"/>
                    </a:lnTo>
                    <a:lnTo>
                      <a:pt x="2878" y="198"/>
                    </a:lnTo>
                    <a:lnTo>
                      <a:pt x="2930" y="222"/>
                    </a:lnTo>
                    <a:lnTo>
                      <a:pt x="2982" y="239"/>
                    </a:lnTo>
                    <a:lnTo>
                      <a:pt x="3034" y="248"/>
                    </a:lnTo>
                    <a:lnTo>
                      <a:pt x="3076" y="239"/>
                    </a:lnTo>
                    <a:lnTo>
                      <a:pt x="3129" y="231"/>
                    </a:lnTo>
                    <a:lnTo>
                      <a:pt x="3180" y="214"/>
                    </a:lnTo>
                    <a:lnTo>
                      <a:pt x="3233" y="198"/>
                    </a:lnTo>
                    <a:lnTo>
                      <a:pt x="3276" y="189"/>
                    </a:lnTo>
                    <a:lnTo>
                      <a:pt x="3329" y="181"/>
                    </a:lnTo>
                    <a:lnTo>
                      <a:pt x="3380" y="173"/>
                    </a:lnTo>
                    <a:lnTo>
                      <a:pt x="3431" y="164"/>
                    </a:lnTo>
                    <a:lnTo>
                      <a:pt x="3474" y="140"/>
                    </a:lnTo>
                    <a:lnTo>
                      <a:pt x="3526" y="123"/>
                    </a:lnTo>
                    <a:lnTo>
                      <a:pt x="3578" y="90"/>
                    </a:lnTo>
                    <a:lnTo>
                      <a:pt x="3630" y="66"/>
                    </a:lnTo>
                    <a:lnTo>
                      <a:pt x="3673" y="41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25"/>
                    </a:lnTo>
                    <a:lnTo>
                      <a:pt x="3871" y="34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41"/>
                    </a:lnTo>
                    <a:lnTo>
                      <a:pt x="4123" y="41"/>
                    </a:lnTo>
                    <a:lnTo>
                      <a:pt x="4174" y="41"/>
                    </a:lnTo>
                    <a:lnTo>
                      <a:pt x="4226" y="50"/>
                    </a:lnTo>
                    <a:lnTo>
                      <a:pt x="4270" y="58"/>
                    </a:lnTo>
                    <a:lnTo>
                      <a:pt x="4321" y="75"/>
                    </a:lnTo>
                    <a:lnTo>
                      <a:pt x="4374" y="90"/>
                    </a:lnTo>
                    <a:lnTo>
                      <a:pt x="4427" y="108"/>
                    </a:lnTo>
                    <a:lnTo>
                      <a:pt x="4469" y="116"/>
                    </a:lnTo>
                    <a:lnTo>
                      <a:pt x="4521" y="123"/>
                    </a:lnTo>
                    <a:lnTo>
                      <a:pt x="4572" y="123"/>
                    </a:lnTo>
                    <a:lnTo>
                      <a:pt x="4625" y="116"/>
                    </a:lnTo>
                    <a:lnTo>
                      <a:pt x="4667" y="108"/>
                    </a:lnTo>
                    <a:lnTo>
                      <a:pt x="4718" y="99"/>
                    </a:lnTo>
                    <a:lnTo>
                      <a:pt x="4771" y="99"/>
                    </a:lnTo>
                    <a:lnTo>
                      <a:pt x="4824" y="90"/>
                    </a:lnTo>
                    <a:lnTo>
                      <a:pt x="4867" y="82"/>
                    </a:lnTo>
                    <a:lnTo>
                      <a:pt x="4918" y="75"/>
                    </a:lnTo>
                    <a:lnTo>
                      <a:pt x="4918" y="305"/>
                    </a:lnTo>
                    <a:lnTo>
                      <a:pt x="4867" y="313"/>
                    </a:lnTo>
                    <a:lnTo>
                      <a:pt x="4824" y="313"/>
                    </a:lnTo>
                    <a:lnTo>
                      <a:pt x="4771" y="321"/>
                    </a:lnTo>
                    <a:lnTo>
                      <a:pt x="4718" y="330"/>
                    </a:lnTo>
                    <a:lnTo>
                      <a:pt x="4667" y="330"/>
                    </a:lnTo>
                    <a:lnTo>
                      <a:pt x="4625" y="337"/>
                    </a:lnTo>
                    <a:lnTo>
                      <a:pt x="4572" y="346"/>
                    </a:lnTo>
                    <a:lnTo>
                      <a:pt x="4521" y="346"/>
                    </a:lnTo>
                    <a:lnTo>
                      <a:pt x="4469" y="346"/>
                    </a:lnTo>
                    <a:lnTo>
                      <a:pt x="4427" y="354"/>
                    </a:lnTo>
                    <a:lnTo>
                      <a:pt x="4374" y="346"/>
                    </a:lnTo>
                    <a:lnTo>
                      <a:pt x="4321" y="346"/>
                    </a:lnTo>
                    <a:lnTo>
                      <a:pt x="4270" y="346"/>
                    </a:lnTo>
                    <a:lnTo>
                      <a:pt x="4226" y="337"/>
                    </a:lnTo>
                    <a:lnTo>
                      <a:pt x="4174" y="337"/>
                    </a:lnTo>
                    <a:lnTo>
                      <a:pt x="4123" y="337"/>
                    </a:lnTo>
                    <a:lnTo>
                      <a:pt x="4072" y="337"/>
                    </a:lnTo>
                    <a:lnTo>
                      <a:pt x="4028" y="337"/>
                    </a:lnTo>
                    <a:lnTo>
                      <a:pt x="3975" y="330"/>
                    </a:lnTo>
                    <a:lnTo>
                      <a:pt x="3924" y="330"/>
                    </a:lnTo>
                    <a:lnTo>
                      <a:pt x="3871" y="321"/>
                    </a:lnTo>
                    <a:lnTo>
                      <a:pt x="3828" y="321"/>
                    </a:lnTo>
                    <a:lnTo>
                      <a:pt x="3777" y="321"/>
                    </a:lnTo>
                    <a:lnTo>
                      <a:pt x="3726" y="321"/>
                    </a:lnTo>
                    <a:lnTo>
                      <a:pt x="3673" y="330"/>
                    </a:lnTo>
                    <a:lnTo>
                      <a:pt x="3630" y="337"/>
                    </a:lnTo>
                    <a:lnTo>
                      <a:pt x="3578" y="346"/>
                    </a:lnTo>
                    <a:lnTo>
                      <a:pt x="3526" y="362"/>
                    </a:lnTo>
                    <a:lnTo>
                      <a:pt x="3474" y="371"/>
                    </a:lnTo>
                    <a:lnTo>
                      <a:pt x="3431" y="387"/>
                    </a:lnTo>
                    <a:lnTo>
                      <a:pt x="3380" y="395"/>
                    </a:lnTo>
                    <a:lnTo>
                      <a:pt x="3329" y="404"/>
                    </a:lnTo>
                    <a:lnTo>
                      <a:pt x="3276" y="404"/>
                    </a:lnTo>
                    <a:lnTo>
                      <a:pt x="3233" y="412"/>
                    </a:lnTo>
                    <a:lnTo>
                      <a:pt x="3180" y="419"/>
                    </a:lnTo>
                    <a:lnTo>
                      <a:pt x="3129" y="428"/>
                    </a:lnTo>
                    <a:lnTo>
                      <a:pt x="3076" y="436"/>
                    </a:lnTo>
                    <a:lnTo>
                      <a:pt x="3034" y="445"/>
                    </a:lnTo>
                    <a:lnTo>
                      <a:pt x="2982" y="445"/>
                    </a:lnTo>
                    <a:lnTo>
                      <a:pt x="2930" y="445"/>
                    </a:lnTo>
                    <a:lnTo>
                      <a:pt x="2878" y="445"/>
                    </a:lnTo>
                    <a:lnTo>
                      <a:pt x="2834" y="445"/>
                    </a:lnTo>
                    <a:lnTo>
                      <a:pt x="2783" y="436"/>
                    </a:lnTo>
                    <a:lnTo>
                      <a:pt x="2730" y="436"/>
                    </a:lnTo>
                    <a:lnTo>
                      <a:pt x="2679" y="436"/>
                    </a:lnTo>
                    <a:lnTo>
                      <a:pt x="2636" y="436"/>
                    </a:lnTo>
                    <a:lnTo>
                      <a:pt x="2585" y="436"/>
                    </a:lnTo>
                    <a:lnTo>
                      <a:pt x="2532" y="436"/>
                    </a:lnTo>
                    <a:lnTo>
                      <a:pt x="2481" y="428"/>
                    </a:lnTo>
                    <a:lnTo>
                      <a:pt x="2437" y="428"/>
                    </a:lnTo>
                    <a:lnTo>
                      <a:pt x="2385" y="419"/>
                    </a:lnTo>
                    <a:lnTo>
                      <a:pt x="2333" y="412"/>
                    </a:lnTo>
                    <a:lnTo>
                      <a:pt x="2281" y="404"/>
                    </a:lnTo>
                    <a:lnTo>
                      <a:pt x="2239" y="404"/>
                    </a:lnTo>
                    <a:lnTo>
                      <a:pt x="2188" y="412"/>
                    </a:lnTo>
                    <a:lnTo>
                      <a:pt x="2135" y="419"/>
                    </a:lnTo>
                    <a:lnTo>
                      <a:pt x="2084" y="436"/>
                    </a:lnTo>
                    <a:lnTo>
                      <a:pt x="2039" y="453"/>
                    </a:lnTo>
                    <a:lnTo>
                      <a:pt x="1986" y="460"/>
                    </a:lnTo>
                    <a:lnTo>
                      <a:pt x="1935" y="479"/>
                    </a:lnTo>
                    <a:lnTo>
                      <a:pt x="1884" y="486"/>
                    </a:lnTo>
                    <a:lnTo>
                      <a:pt x="1841" y="486"/>
                    </a:lnTo>
                    <a:lnTo>
                      <a:pt x="1789" y="486"/>
                    </a:lnTo>
                    <a:lnTo>
                      <a:pt x="1737" y="486"/>
                    </a:lnTo>
                    <a:lnTo>
                      <a:pt x="1685" y="494"/>
                    </a:lnTo>
                    <a:lnTo>
                      <a:pt x="1642" y="503"/>
                    </a:lnTo>
                    <a:lnTo>
                      <a:pt x="1589" y="510"/>
                    </a:lnTo>
                    <a:lnTo>
                      <a:pt x="1538" y="518"/>
                    </a:lnTo>
                    <a:lnTo>
                      <a:pt x="1487" y="518"/>
                    </a:lnTo>
                    <a:lnTo>
                      <a:pt x="1444" y="518"/>
                    </a:lnTo>
                    <a:lnTo>
                      <a:pt x="1391" y="518"/>
                    </a:lnTo>
                    <a:lnTo>
                      <a:pt x="1340" y="503"/>
                    </a:lnTo>
                    <a:lnTo>
                      <a:pt x="1287" y="494"/>
                    </a:lnTo>
                    <a:lnTo>
                      <a:pt x="1245" y="486"/>
                    </a:lnTo>
                    <a:lnTo>
                      <a:pt x="1192" y="486"/>
                    </a:lnTo>
                    <a:lnTo>
                      <a:pt x="1141" y="494"/>
                    </a:lnTo>
                    <a:lnTo>
                      <a:pt x="1089" y="503"/>
                    </a:lnTo>
                    <a:lnTo>
                      <a:pt x="1045" y="503"/>
                    </a:lnTo>
                    <a:lnTo>
                      <a:pt x="994" y="494"/>
                    </a:lnTo>
                    <a:lnTo>
                      <a:pt x="943" y="479"/>
                    </a:lnTo>
                    <a:lnTo>
                      <a:pt x="890" y="453"/>
                    </a:lnTo>
                    <a:lnTo>
                      <a:pt x="845" y="428"/>
                    </a:lnTo>
                    <a:lnTo>
                      <a:pt x="794" y="395"/>
                    </a:lnTo>
                    <a:lnTo>
                      <a:pt x="743" y="380"/>
                    </a:lnTo>
                    <a:lnTo>
                      <a:pt x="690" y="387"/>
                    </a:lnTo>
                    <a:lnTo>
                      <a:pt x="648" y="412"/>
                    </a:lnTo>
                    <a:lnTo>
                      <a:pt x="596" y="436"/>
                    </a:lnTo>
                    <a:lnTo>
                      <a:pt x="544" y="460"/>
                    </a:lnTo>
                    <a:lnTo>
                      <a:pt x="491" y="486"/>
                    </a:lnTo>
                    <a:lnTo>
                      <a:pt x="448" y="503"/>
                    </a:lnTo>
                    <a:lnTo>
                      <a:pt x="397" y="518"/>
                    </a:lnTo>
                    <a:lnTo>
                      <a:pt x="346" y="527"/>
                    </a:lnTo>
                    <a:lnTo>
                      <a:pt x="293" y="518"/>
                    </a:lnTo>
                    <a:lnTo>
                      <a:pt x="250" y="510"/>
                    </a:lnTo>
                    <a:lnTo>
                      <a:pt x="199" y="527"/>
                    </a:lnTo>
                    <a:lnTo>
                      <a:pt x="146" y="551"/>
                    </a:lnTo>
                    <a:lnTo>
                      <a:pt x="93" y="559"/>
                    </a:lnTo>
                    <a:lnTo>
                      <a:pt x="51" y="559"/>
                    </a:lnTo>
                    <a:lnTo>
                      <a:pt x="0" y="56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53560" y="3805560"/>
                <a:ext cx="3537720" cy="380520"/>
              </a:xfrm>
              <a:custGeom>
                <a:avLst/>
                <a:gdLst/>
                <a:ahLst/>
                <a:rect l="l" t="t" r="r" b="b"/>
                <a:pathLst>
                  <a:path w="4918" h="552">
                    <a:moveTo>
                      <a:pt x="0" y="552"/>
                    </a:moveTo>
                    <a:lnTo>
                      <a:pt x="0" y="552"/>
                    </a:lnTo>
                    <a:lnTo>
                      <a:pt x="51" y="528"/>
                    </a:lnTo>
                    <a:lnTo>
                      <a:pt x="93" y="494"/>
                    </a:lnTo>
                    <a:lnTo>
                      <a:pt x="146" y="428"/>
                    </a:lnTo>
                    <a:lnTo>
                      <a:pt x="199" y="353"/>
                    </a:lnTo>
                    <a:lnTo>
                      <a:pt x="250" y="297"/>
                    </a:lnTo>
                    <a:lnTo>
                      <a:pt x="293" y="297"/>
                    </a:lnTo>
                    <a:lnTo>
                      <a:pt x="346" y="362"/>
                    </a:lnTo>
                    <a:lnTo>
                      <a:pt x="397" y="403"/>
                    </a:lnTo>
                    <a:lnTo>
                      <a:pt x="448" y="403"/>
                    </a:lnTo>
                    <a:lnTo>
                      <a:pt x="491" y="379"/>
                    </a:lnTo>
                    <a:lnTo>
                      <a:pt x="544" y="338"/>
                    </a:lnTo>
                    <a:lnTo>
                      <a:pt x="596" y="279"/>
                    </a:lnTo>
                    <a:lnTo>
                      <a:pt x="648" y="198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82"/>
                    </a:lnTo>
                    <a:lnTo>
                      <a:pt x="845" y="148"/>
                    </a:lnTo>
                    <a:lnTo>
                      <a:pt x="890" y="230"/>
                    </a:lnTo>
                    <a:lnTo>
                      <a:pt x="943" y="279"/>
                    </a:lnTo>
                    <a:lnTo>
                      <a:pt x="994" y="305"/>
                    </a:lnTo>
                    <a:lnTo>
                      <a:pt x="1045" y="305"/>
                    </a:lnTo>
                    <a:lnTo>
                      <a:pt x="1089" y="279"/>
                    </a:lnTo>
                    <a:lnTo>
                      <a:pt x="1141" y="247"/>
                    </a:lnTo>
                    <a:lnTo>
                      <a:pt x="1192" y="206"/>
                    </a:lnTo>
                    <a:lnTo>
                      <a:pt x="1245" y="189"/>
                    </a:lnTo>
                    <a:lnTo>
                      <a:pt x="1287" y="206"/>
                    </a:lnTo>
                    <a:lnTo>
                      <a:pt x="1340" y="255"/>
                    </a:lnTo>
                    <a:lnTo>
                      <a:pt x="1391" y="312"/>
                    </a:lnTo>
                    <a:lnTo>
                      <a:pt x="1444" y="353"/>
                    </a:lnTo>
                    <a:lnTo>
                      <a:pt x="1487" y="371"/>
                    </a:lnTo>
                    <a:lnTo>
                      <a:pt x="1538" y="371"/>
                    </a:lnTo>
                    <a:lnTo>
                      <a:pt x="1589" y="353"/>
                    </a:lnTo>
                    <a:lnTo>
                      <a:pt x="1642" y="329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297"/>
                    </a:lnTo>
                    <a:lnTo>
                      <a:pt x="1841" y="312"/>
                    </a:lnTo>
                    <a:lnTo>
                      <a:pt x="1884" y="338"/>
                    </a:lnTo>
                    <a:lnTo>
                      <a:pt x="1935" y="338"/>
                    </a:lnTo>
                    <a:lnTo>
                      <a:pt x="1986" y="329"/>
                    </a:lnTo>
                    <a:lnTo>
                      <a:pt x="2039" y="305"/>
                    </a:lnTo>
                    <a:lnTo>
                      <a:pt x="2084" y="264"/>
                    </a:lnTo>
                    <a:lnTo>
                      <a:pt x="2135" y="223"/>
                    </a:lnTo>
                    <a:lnTo>
                      <a:pt x="2188" y="180"/>
                    </a:lnTo>
                    <a:lnTo>
                      <a:pt x="2239" y="156"/>
                    </a:lnTo>
                    <a:lnTo>
                      <a:pt x="2281" y="148"/>
                    </a:lnTo>
                    <a:lnTo>
                      <a:pt x="2333" y="156"/>
                    </a:lnTo>
                    <a:lnTo>
                      <a:pt x="2385" y="173"/>
                    </a:lnTo>
                    <a:lnTo>
                      <a:pt x="2437" y="189"/>
                    </a:lnTo>
                    <a:lnTo>
                      <a:pt x="2481" y="198"/>
                    </a:lnTo>
                    <a:lnTo>
                      <a:pt x="2532" y="198"/>
                    </a:lnTo>
                    <a:lnTo>
                      <a:pt x="2585" y="198"/>
                    </a:lnTo>
                    <a:lnTo>
                      <a:pt x="2636" y="189"/>
                    </a:lnTo>
                    <a:lnTo>
                      <a:pt x="2679" y="180"/>
                    </a:lnTo>
                    <a:lnTo>
                      <a:pt x="2730" y="189"/>
                    </a:lnTo>
                    <a:lnTo>
                      <a:pt x="2783" y="206"/>
                    </a:lnTo>
                    <a:lnTo>
                      <a:pt x="2834" y="230"/>
                    </a:lnTo>
                    <a:lnTo>
                      <a:pt x="2878" y="264"/>
                    </a:lnTo>
                    <a:lnTo>
                      <a:pt x="2930" y="288"/>
                    </a:lnTo>
                    <a:lnTo>
                      <a:pt x="2982" y="305"/>
                    </a:lnTo>
                    <a:lnTo>
                      <a:pt x="3034" y="305"/>
                    </a:lnTo>
                    <a:lnTo>
                      <a:pt x="3076" y="297"/>
                    </a:lnTo>
                    <a:lnTo>
                      <a:pt x="3129" y="288"/>
                    </a:lnTo>
                    <a:lnTo>
                      <a:pt x="3180" y="264"/>
                    </a:lnTo>
                    <a:lnTo>
                      <a:pt x="3233" y="247"/>
                    </a:lnTo>
                    <a:lnTo>
                      <a:pt x="3276" y="230"/>
                    </a:lnTo>
                    <a:lnTo>
                      <a:pt x="3329" y="223"/>
                    </a:lnTo>
                    <a:lnTo>
                      <a:pt x="3380" y="206"/>
                    </a:lnTo>
                    <a:lnTo>
                      <a:pt x="3431" y="189"/>
                    </a:lnTo>
                    <a:lnTo>
                      <a:pt x="3474" y="173"/>
                    </a:lnTo>
                    <a:lnTo>
                      <a:pt x="3526" y="139"/>
                    </a:lnTo>
                    <a:lnTo>
                      <a:pt x="3578" y="115"/>
                    </a:lnTo>
                    <a:lnTo>
                      <a:pt x="3630" y="82"/>
                    </a:lnTo>
                    <a:lnTo>
                      <a:pt x="3673" y="50"/>
                    </a:lnTo>
                    <a:lnTo>
                      <a:pt x="3726" y="31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24"/>
                    </a:lnTo>
                    <a:lnTo>
                      <a:pt x="3924" y="31"/>
                    </a:lnTo>
                    <a:lnTo>
                      <a:pt x="3975" y="31"/>
                    </a:lnTo>
                    <a:lnTo>
                      <a:pt x="4028" y="24"/>
                    </a:lnTo>
                    <a:lnTo>
                      <a:pt x="4072" y="16"/>
                    </a:lnTo>
                    <a:lnTo>
                      <a:pt x="4123" y="7"/>
                    </a:lnTo>
                    <a:lnTo>
                      <a:pt x="4174" y="7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6"/>
                    </a:lnTo>
                    <a:lnTo>
                      <a:pt x="4374" y="24"/>
                    </a:lnTo>
                    <a:lnTo>
                      <a:pt x="4427" y="31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41"/>
                    </a:lnTo>
                    <a:lnTo>
                      <a:pt x="4667" y="31"/>
                    </a:lnTo>
                    <a:lnTo>
                      <a:pt x="4718" y="31"/>
                    </a:lnTo>
                    <a:lnTo>
                      <a:pt x="4771" y="24"/>
                    </a:lnTo>
                    <a:lnTo>
                      <a:pt x="4824" y="24"/>
                    </a:lnTo>
                    <a:lnTo>
                      <a:pt x="4867" y="24"/>
                    </a:lnTo>
                    <a:lnTo>
                      <a:pt x="4918" y="24"/>
                    </a:lnTo>
                    <a:lnTo>
                      <a:pt x="4918" y="139"/>
                    </a:lnTo>
                    <a:lnTo>
                      <a:pt x="4867" y="148"/>
                    </a:lnTo>
                    <a:lnTo>
                      <a:pt x="4824" y="156"/>
                    </a:lnTo>
                    <a:lnTo>
                      <a:pt x="4771" y="165"/>
                    </a:lnTo>
                    <a:lnTo>
                      <a:pt x="4718" y="165"/>
                    </a:lnTo>
                    <a:lnTo>
                      <a:pt x="4667" y="173"/>
                    </a:lnTo>
                    <a:lnTo>
                      <a:pt x="4625" y="180"/>
                    </a:lnTo>
                    <a:lnTo>
                      <a:pt x="4572" y="189"/>
                    </a:lnTo>
                    <a:lnTo>
                      <a:pt x="4521" y="189"/>
                    </a:lnTo>
                    <a:lnTo>
                      <a:pt x="4469" y="180"/>
                    </a:lnTo>
                    <a:lnTo>
                      <a:pt x="4427" y="173"/>
                    </a:lnTo>
                    <a:lnTo>
                      <a:pt x="4374" y="156"/>
                    </a:lnTo>
                    <a:lnTo>
                      <a:pt x="4321" y="139"/>
                    </a:lnTo>
                    <a:lnTo>
                      <a:pt x="4270" y="124"/>
                    </a:lnTo>
                    <a:lnTo>
                      <a:pt x="4226" y="115"/>
                    </a:lnTo>
                    <a:lnTo>
                      <a:pt x="4174" y="106"/>
                    </a:lnTo>
                    <a:lnTo>
                      <a:pt x="4123" y="106"/>
                    </a:lnTo>
                    <a:lnTo>
                      <a:pt x="4072" y="106"/>
                    </a:lnTo>
                    <a:lnTo>
                      <a:pt x="4028" y="106"/>
                    </a:lnTo>
                    <a:lnTo>
                      <a:pt x="3975" y="106"/>
                    </a:lnTo>
                    <a:lnTo>
                      <a:pt x="3924" y="106"/>
                    </a:lnTo>
                    <a:lnTo>
                      <a:pt x="3871" y="98"/>
                    </a:lnTo>
                    <a:lnTo>
                      <a:pt x="3828" y="91"/>
                    </a:lnTo>
                    <a:lnTo>
                      <a:pt x="3777" y="91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32"/>
                    </a:lnTo>
                    <a:lnTo>
                      <a:pt x="3578" y="156"/>
                    </a:lnTo>
                    <a:lnTo>
                      <a:pt x="3526" y="189"/>
                    </a:lnTo>
                    <a:lnTo>
                      <a:pt x="3474" y="206"/>
                    </a:lnTo>
                    <a:lnTo>
                      <a:pt x="3431" y="230"/>
                    </a:lnTo>
                    <a:lnTo>
                      <a:pt x="3380" y="239"/>
                    </a:lnTo>
                    <a:lnTo>
                      <a:pt x="3329" y="247"/>
                    </a:lnTo>
                    <a:lnTo>
                      <a:pt x="3276" y="255"/>
                    </a:lnTo>
                    <a:lnTo>
                      <a:pt x="3233" y="264"/>
                    </a:lnTo>
                    <a:lnTo>
                      <a:pt x="3180" y="279"/>
                    </a:lnTo>
                    <a:lnTo>
                      <a:pt x="3129" y="297"/>
                    </a:lnTo>
                    <a:lnTo>
                      <a:pt x="3076" y="305"/>
                    </a:lnTo>
                    <a:lnTo>
                      <a:pt x="3034" y="312"/>
                    </a:lnTo>
                    <a:lnTo>
                      <a:pt x="2982" y="305"/>
                    </a:lnTo>
                    <a:lnTo>
                      <a:pt x="2930" y="288"/>
                    </a:lnTo>
                    <a:lnTo>
                      <a:pt x="2878" y="264"/>
                    </a:lnTo>
                    <a:lnTo>
                      <a:pt x="2834" y="239"/>
                    </a:lnTo>
                    <a:lnTo>
                      <a:pt x="2783" y="206"/>
                    </a:lnTo>
                    <a:lnTo>
                      <a:pt x="2730" y="189"/>
                    </a:lnTo>
                    <a:lnTo>
                      <a:pt x="2679" y="180"/>
                    </a:lnTo>
                    <a:lnTo>
                      <a:pt x="2636" y="189"/>
                    </a:lnTo>
                    <a:lnTo>
                      <a:pt x="2585" y="198"/>
                    </a:lnTo>
                    <a:lnTo>
                      <a:pt x="2532" y="198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73"/>
                    </a:lnTo>
                    <a:lnTo>
                      <a:pt x="2333" y="156"/>
                    </a:lnTo>
                    <a:lnTo>
                      <a:pt x="2281" y="148"/>
                    </a:lnTo>
                    <a:lnTo>
                      <a:pt x="2239" y="156"/>
                    </a:lnTo>
                    <a:lnTo>
                      <a:pt x="2188" y="180"/>
                    </a:lnTo>
                    <a:lnTo>
                      <a:pt x="2135" y="223"/>
                    </a:lnTo>
                    <a:lnTo>
                      <a:pt x="2084" y="264"/>
                    </a:lnTo>
                    <a:lnTo>
                      <a:pt x="2039" y="305"/>
                    </a:lnTo>
                    <a:lnTo>
                      <a:pt x="1986" y="338"/>
                    </a:lnTo>
                    <a:lnTo>
                      <a:pt x="1935" y="346"/>
                    </a:lnTo>
                    <a:lnTo>
                      <a:pt x="1884" y="346"/>
                    </a:lnTo>
                    <a:lnTo>
                      <a:pt x="1841" y="338"/>
                    </a:lnTo>
                    <a:lnTo>
                      <a:pt x="1789" y="321"/>
                    </a:lnTo>
                    <a:lnTo>
                      <a:pt x="1737" y="321"/>
                    </a:lnTo>
                    <a:lnTo>
                      <a:pt x="1685" y="338"/>
                    </a:lnTo>
                    <a:lnTo>
                      <a:pt x="1642" y="371"/>
                    </a:lnTo>
                    <a:lnTo>
                      <a:pt x="1589" y="396"/>
                    </a:lnTo>
                    <a:lnTo>
                      <a:pt x="1538" y="412"/>
                    </a:lnTo>
                    <a:lnTo>
                      <a:pt x="1487" y="403"/>
                    </a:lnTo>
                    <a:lnTo>
                      <a:pt x="1444" y="379"/>
                    </a:lnTo>
                    <a:lnTo>
                      <a:pt x="1391" y="329"/>
                    </a:lnTo>
                    <a:lnTo>
                      <a:pt x="1340" y="273"/>
                    </a:lnTo>
                    <a:lnTo>
                      <a:pt x="1287" y="223"/>
                    </a:lnTo>
                    <a:lnTo>
                      <a:pt x="1245" y="198"/>
                    </a:lnTo>
                    <a:lnTo>
                      <a:pt x="1192" y="214"/>
                    </a:lnTo>
                    <a:lnTo>
                      <a:pt x="1141" y="247"/>
                    </a:lnTo>
                    <a:lnTo>
                      <a:pt x="1089" y="288"/>
                    </a:lnTo>
                    <a:lnTo>
                      <a:pt x="1045" y="305"/>
                    </a:lnTo>
                    <a:lnTo>
                      <a:pt x="994" y="305"/>
                    </a:lnTo>
                    <a:lnTo>
                      <a:pt x="943" y="288"/>
                    </a:lnTo>
                    <a:lnTo>
                      <a:pt x="890" y="230"/>
                    </a:lnTo>
                    <a:lnTo>
                      <a:pt x="845" y="148"/>
                    </a:lnTo>
                    <a:lnTo>
                      <a:pt x="794" y="82"/>
                    </a:lnTo>
                    <a:lnTo>
                      <a:pt x="743" y="65"/>
                    </a:lnTo>
                    <a:lnTo>
                      <a:pt x="690" y="115"/>
                    </a:lnTo>
                    <a:lnTo>
                      <a:pt x="648" y="198"/>
                    </a:lnTo>
                    <a:lnTo>
                      <a:pt x="596" y="279"/>
                    </a:lnTo>
                    <a:lnTo>
                      <a:pt x="544" y="338"/>
                    </a:lnTo>
                    <a:lnTo>
                      <a:pt x="491" y="379"/>
                    </a:lnTo>
                    <a:lnTo>
                      <a:pt x="448" y="403"/>
                    </a:lnTo>
                    <a:lnTo>
                      <a:pt x="397" y="403"/>
                    </a:lnTo>
                    <a:lnTo>
                      <a:pt x="346" y="362"/>
                    </a:lnTo>
                    <a:lnTo>
                      <a:pt x="293" y="297"/>
                    </a:lnTo>
                    <a:lnTo>
                      <a:pt x="250" y="297"/>
                    </a:lnTo>
                    <a:lnTo>
                      <a:pt x="199" y="353"/>
                    </a:lnTo>
                    <a:lnTo>
                      <a:pt x="146" y="428"/>
                    </a:lnTo>
                    <a:lnTo>
                      <a:pt x="93" y="494"/>
                    </a:lnTo>
                    <a:lnTo>
                      <a:pt x="51" y="528"/>
                    </a:lnTo>
                    <a:lnTo>
                      <a:pt x="0" y="55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53560" y="3765600"/>
                <a:ext cx="3537720" cy="42048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36"/>
                    </a:lnTo>
                    <a:lnTo>
                      <a:pt x="93" y="504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22"/>
                    </a:lnTo>
                    <a:lnTo>
                      <a:pt x="346" y="396"/>
                    </a:lnTo>
                    <a:lnTo>
                      <a:pt x="397" y="446"/>
                    </a:lnTo>
                    <a:lnTo>
                      <a:pt x="448" y="446"/>
                    </a:lnTo>
                    <a:lnTo>
                      <a:pt x="491" y="420"/>
                    </a:lnTo>
                    <a:lnTo>
                      <a:pt x="544" y="372"/>
                    </a:lnTo>
                    <a:lnTo>
                      <a:pt x="596" y="305"/>
                    </a:lnTo>
                    <a:lnTo>
                      <a:pt x="648" y="214"/>
                    </a:lnTo>
                    <a:lnTo>
                      <a:pt x="690" y="124"/>
                    </a:lnTo>
                    <a:lnTo>
                      <a:pt x="743" y="74"/>
                    </a:lnTo>
                    <a:lnTo>
                      <a:pt x="794" y="99"/>
                    </a:lnTo>
                    <a:lnTo>
                      <a:pt x="845" y="182"/>
                    </a:lnTo>
                    <a:lnTo>
                      <a:pt x="890" y="264"/>
                    </a:lnTo>
                    <a:lnTo>
                      <a:pt x="943" y="313"/>
                    </a:lnTo>
                    <a:lnTo>
                      <a:pt x="994" y="331"/>
                    </a:lnTo>
                    <a:lnTo>
                      <a:pt x="1045" y="322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6"/>
                    </a:lnTo>
                    <a:lnTo>
                      <a:pt x="1391" y="322"/>
                    </a:lnTo>
                    <a:lnTo>
                      <a:pt x="1444" y="363"/>
                    </a:lnTo>
                    <a:lnTo>
                      <a:pt x="1487" y="387"/>
                    </a:lnTo>
                    <a:lnTo>
                      <a:pt x="1538" y="379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63"/>
                    </a:lnTo>
                    <a:lnTo>
                      <a:pt x="1935" y="372"/>
                    </a:lnTo>
                    <a:lnTo>
                      <a:pt x="1986" y="363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6"/>
                    </a:lnTo>
                    <a:lnTo>
                      <a:pt x="2239" y="182"/>
                    </a:lnTo>
                    <a:lnTo>
                      <a:pt x="2281" y="173"/>
                    </a:lnTo>
                    <a:lnTo>
                      <a:pt x="2333" y="182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6"/>
                    </a:lnTo>
                    <a:lnTo>
                      <a:pt x="2585" y="190"/>
                    </a:lnTo>
                    <a:lnTo>
                      <a:pt x="2636" y="182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81"/>
                    </a:lnTo>
                    <a:lnTo>
                      <a:pt x="3233" y="264"/>
                    </a:lnTo>
                    <a:lnTo>
                      <a:pt x="3276" y="247"/>
                    </a:lnTo>
                    <a:lnTo>
                      <a:pt x="3329" y="238"/>
                    </a:lnTo>
                    <a:lnTo>
                      <a:pt x="3380" y="231"/>
                    </a:lnTo>
                    <a:lnTo>
                      <a:pt x="3431" y="214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2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41"/>
                    </a:lnTo>
                    <a:lnTo>
                      <a:pt x="3828" y="41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3"/>
                    </a:lnTo>
                    <a:lnTo>
                      <a:pt x="4072" y="24"/>
                    </a:lnTo>
                    <a:lnTo>
                      <a:pt x="4123" y="17"/>
                    </a:lnTo>
                    <a:lnTo>
                      <a:pt x="4174" y="9"/>
                    </a:lnTo>
                    <a:lnTo>
                      <a:pt x="4226" y="0"/>
                    </a:lnTo>
                    <a:lnTo>
                      <a:pt x="4270" y="9"/>
                    </a:lnTo>
                    <a:lnTo>
                      <a:pt x="4321" y="17"/>
                    </a:lnTo>
                    <a:lnTo>
                      <a:pt x="4374" y="33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3"/>
                    </a:lnTo>
                    <a:lnTo>
                      <a:pt x="4867" y="83"/>
                    </a:lnTo>
                    <a:lnTo>
                      <a:pt x="4824" y="83"/>
                    </a:lnTo>
                    <a:lnTo>
                      <a:pt x="4771" y="83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1"/>
                    </a:lnTo>
                    <a:lnTo>
                      <a:pt x="4374" y="83"/>
                    </a:lnTo>
                    <a:lnTo>
                      <a:pt x="4321" y="74"/>
                    </a:lnTo>
                    <a:lnTo>
                      <a:pt x="4270" y="65"/>
                    </a:lnTo>
                    <a:lnTo>
                      <a:pt x="4226" y="58"/>
                    </a:lnTo>
                    <a:lnTo>
                      <a:pt x="4174" y="65"/>
                    </a:lnTo>
                    <a:lnTo>
                      <a:pt x="4123" y="65"/>
                    </a:lnTo>
                    <a:lnTo>
                      <a:pt x="4072" y="74"/>
                    </a:lnTo>
                    <a:lnTo>
                      <a:pt x="4028" y="83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83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91"/>
                    </a:lnTo>
                    <a:lnTo>
                      <a:pt x="3673" y="108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197"/>
                    </a:lnTo>
                    <a:lnTo>
                      <a:pt x="3474" y="231"/>
                    </a:lnTo>
                    <a:lnTo>
                      <a:pt x="3431" y="247"/>
                    </a:lnTo>
                    <a:lnTo>
                      <a:pt x="3380" y="264"/>
                    </a:lnTo>
                    <a:lnTo>
                      <a:pt x="3329" y="281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46"/>
                    </a:lnTo>
                    <a:lnTo>
                      <a:pt x="3076" y="355"/>
                    </a:lnTo>
                    <a:lnTo>
                      <a:pt x="3034" y="363"/>
                    </a:lnTo>
                    <a:lnTo>
                      <a:pt x="2982" y="363"/>
                    </a:lnTo>
                    <a:lnTo>
                      <a:pt x="2930" y="346"/>
                    </a:lnTo>
                    <a:lnTo>
                      <a:pt x="2878" y="322"/>
                    </a:lnTo>
                    <a:lnTo>
                      <a:pt x="2834" y="288"/>
                    </a:lnTo>
                    <a:lnTo>
                      <a:pt x="2783" y="264"/>
                    </a:lnTo>
                    <a:lnTo>
                      <a:pt x="2730" y="247"/>
                    </a:lnTo>
                    <a:lnTo>
                      <a:pt x="2679" y="238"/>
                    </a:lnTo>
                    <a:lnTo>
                      <a:pt x="2636" y="247"/>
                    </a:lnTo>
                    <a:lnTo>
                      <a:pt x="2585" y="256"/>
                    </a:lnTo>
                    <a:lnTo>
                      <a:pt x="2532" y="256"/>
                    </a:lnTo>
                    <a:lnTo>
                      <a:pt x="2481" y="256"/>
                    </a:lnTo>
                    <a:lnTo>
                      <a:pt x="2437" y="247"/>
                    </a:lnTo>
                    <a:lnTo>
                      <a:pt x="2385" y="231"/>
                    </a:lnTo>
                    <a:lnTo>
                      <a:pt x="2333" y="214"/>
                    </a:lnTo>
                    <a:lnTo>
                      <a:pt x="2281" y="206"/>
                    </a:lnTo>
                    <a:lnTo>
                      <a:pt x="2239" y="214"/>
                    </a:lnTo>
                    <a:lnTo>
                      <a:pt x="2188" y="238"/>
                    </a:lnTo>
                    <a:lnTo>
                      <a:pt x="2135" y="281"/>
                    </a:lnTo>
                    <a:lnTo>
                      <a:pt x="2084" y="322"/>
                    </a:lnTo>
                    <a:lnTo>
                      <a:pt x="2039" y="363"/>
                    </a:lnTo>
                    <a:lnTo>
                      <a:pt x="1986" y="387"/>
                    </a:lnTo>
                    <a:lnTo>
                      <a:pt x="1935" y="396"/>
                    </a:lnTo>
                    <a:lnTo>
                      <a:pt x="1884" y="396"/>
                    </a:lnTo>
                    <a:lnTo>
                      <a:pt x="1841" y="372"/>
                    </a:lnTo>
                    <a:lnTo>
                      <a:pt x="1789" y="355"/>
                    </a:lnTo>
                    <a:lnTo>
                      <a:pt x="1737" y="355"/>
                    </a:lnTo>
                    <a:lnTo>
                      <a:pt x="1685" y="363"/>
                    </a:lnTo>
                    <a:lnTo>
                      <a:pt x="1642" y="387"/>
                    </a:lnTo>
                    <a:lnTo>
                      <a:pt x="1589" y="413"/>
                    </a:lnTo>
                    <a:lnTo>
                      <a:pt x="1538" y="429"/>
                    </a:lnTo>
                    <a:lnTo>
                      <a:pt x="1487" y="429"/>
                    </a:lnTo>
                    <a:lnTo>
                      <a:pt x="1444" y="413"/>
                    </a:lnTo>
                    <a:lnTo>
                      <a:pt x="1391" y="372"/>
                    </a:lnTo>
                    <a:lnTo>
                      <a:pt x="1340" y="313"/>
                    </a:lnTo>
                    <a:lnTo>
                      <a:pt x="1287" y="264"/>
                    </a:lnTo>
                    <a:lnTo>
                      <a:pt x="1245" y="247"/>
                    </a:lnTo>
                    <a:lnTo>
                      <a:pt x="1192" y="264"/>
                    </a:lnTo>
                    <a:lnTo>
                      <a:pt x="1141" y="305"/>
                    </a:lnTo>
                    <a:lnTo>
                      <a:pt x="1089" y="338"/>
                    </a:lnTo>
                    <a:lnTo>
                      <a:pt x="1045" y="363"/>
                    </a:lnTo>
                    <a:lnTo>
                      <a:pt x="994" y="363"/>
                    </a:lnTo>
                    <a:lnTo>
                      <a:pt x="943" y="338"/>
                    </a:lnTo>
                    <a:lnTo>
                      <a:pt x="890" y="288"/>
                    </a:lnTo>
                    <a:lnTo>
                      <a:pt x="845" y="206"/>
                    </a:lnTo>
                    <a:lnTo>
                      <a:pt x="794" y="140"/>
                    </a:lnTo>
                    <a:lnTo>
                      <a:pt x="743" y="124"/>
                    </a:lnTo>
                    <a:lnTo>
                      <a:pt x="690" y="173"/>
                    </a:lnTo>
                    <a:lnTo>
                      <a:pt x="648" y="256"/>
                    </a:lnTo>
                    <a:lnTo>
                      <a:pt x="596" y="338"/>
                    </a:lnTo>
                    <a:lnTo>
                      <a:pt x="544" y="396"/>
                    </a:lnTo>
                    <a:lnTo>
                      <a:pt x="491" y="437"/>
                    </a:lnTo>
                    <a:lnTo>
                      <a:pt x="448" y="461"/>
                    </a:lnTo>
                    <a:lnTo>
                      <a:pt x="397" y="461"/>
                    </a:lnTo>
                    <a:lnTo>
                      <a:pt x="346" y="420"/>
                    </a:lnTo>
                    <a:lnTo>
                      <a:pt x="293" y="355"/>
                    </a:lnTo>
                    <a:lnTo>
                      <a:pt x="250" y="355"/>
                    </a:lnTo>
                    <a:lnTo>
                      <a:pt x="199" y="413"/>
                    </a:lnTo>
                    <a:lnTo>
                      <a:pt x="146" y="486"/>
                    </a:lnTo>
                    <a:lnTo>
                      <a:pt x="93" y="552"/>
                    </a:lnTo>
                    <a:lnTo>
                      <a:pt x="51" y="586"/>
                    </a:lnTo>
                    <a:lnTo>
                      <a:pt x="0" y="61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53560" y="3738240"/>
                <a:ext cx="3537720" cy="41904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45"/>
                    </a:lnTo>
                    <a:lnTo>
                      <a:pt x="93" y="502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13"/>
                    </a:lnTo>
                    <a:lnTo>
                      <a:pt x="346" y="404"/>
                    </a:lnTo>
                    <a:lnTo>
                      <a:pt x="397" y="452"/>
                    </a:lnTo>
                    <a:lnTo>
                      <a:pt x="448" y="452"/>
                    </a:lnTo>
                    <a:lnTo>
                      <a:pt x="491" y="420"/>
                    </a:lnTo>
                    <a:lnTo>
                      <a:pt x="544" y="379"/>
                    </a:lnTo>
                    <a:lnTo>
                      <a:pt x="596" y="305"/>
                    </a:lnTo>
                    <a:lnTo>
                      <a:pt x="648" y="205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91"/>
                    </a:lnTo>
                    <a:lnTo>
                      <a:pt x="845" y="173"/>
                    </a:lnTo>
                    <a:lnTo>
                      <a:pt x="890" y="264"/>
                    </a:lnTo>
                    <a:lnTo>
                      <a:pt x="943" y="322"/>
                    </a:lnTo>
                    <a:lnTo>
                      <a:pt x="994" y="338"/>
                    </a:lnTo>
                    <a:lnTo>
                      <a:pt x="1045" y="329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5"/>
                    </a:lnTo>
                    <a:lnTo>
                      <a:pt x="1391" y="322"/>
                    </a:lnTo>
                    <a:lnTo>
                      <a:pt x="1444" y="372"/>
                    </a:lnTo>
                    <a:lnTo>
                      <a:pt x="1487" y="387"/>
                    </a:lnTo>
                    <a:lnTo>
                      <a:pt x="1538" y="387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72"/>
                    </a:lnTo>
                    <a:lnTo>
                      <a:pt x="1935" y="379"/>
                    </a:lnTo>
                    <a:lnTo>
                      <a:pt x="1986" y="372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5"/>
                    </a:lnTo>
                    <a:lnTo>
                      <a:pt x="2239" y="173"/>
                    </a:lnTo>
                    <a:lnTo>
                      <a:pt x="2281" y="164"/>
                    </a:lnTo>
                    <a:lnTo>
                      <a:pt x="2333" y="181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5"/>
                    </a:lnTo>
                    <a:lnTo>
                      <a:pt x="2585" y="197"/>
                    </a:lnTo>
                    <a:lnTo>
                      <a:pt x="2636" y="181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79"/>
                    </a:lnTo>
                    <a:lnTo>
                      <a:pt x="3233" y="264"/>
                    </a:lnTo>
                    <a:lnTo>
                      <a:pt x="3276" y="255"/>
                    </a:lnTo>
                    <a:lnTo>
                      <a:pt x="3329" y="247"/>
                    </a:lnTo>
                    <a:lnTo>
                      <a:pt x="3380" y="238"/>
                    </a:lnTo>
                    <a:lnTo>
                      <a:pt x="3431" y="223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0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32"/>
                    </a:lnTo>
                    <a:lnTo>
                      <a:pt x="3828" y="32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2"/>
                    </a:lnTo>
                    <a:lnTo>
                      <a:pt x="4072" y="24"/>
                    </a:lnTo>
                    <a:lnTo>
                      <a:pt x="4123" y="7"/>
                    </a:lnTo>
                    <a:lnTo>
                      <a:pt x="4174" y="0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7"/>
                    </a:lnTo>
                    <a:lnTo>
                      <a:pt x="4374" y="32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82"/>
                    </a:lnTo>
                    <a:lnTo>
                      <a:pt x="4718" y="82"/>
                    </a:lnTo>
                    <a:lnTo>
                      <a:pt x="4667" y="82"/>
                    </a:lnTo>
                    <a:lnTo>
                      <a:pt x="4625" y="82"/>
                    </a:lnTo>
                    <a:lnTo>
                      <a:pt x="4572" y="91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82"/>
                    </a:lnTo>
                    <a:lnTo>
                      <a:pt x="4374" y="74"/>
                    </a:lnTo>
                    <a:lnTo>
                      <a:pt x="4321" y="58"/>
                    </a:lnTo>
                    <a:lnTo>
                      <a:pt x="4270" y="50"/>
                    </a:lnTo>
                    <a:lnTo>
                      <a:pt x="4226" y="41"/>
                    </a:lnTo>
                    <a:lnTo>
                      <a:pt x="4174" y="50"/>
                    </a:lnTo>
                    <a:lnTo>
                      <a:pt x="4123" y="58"/>
                    </a:lnTo>
                    <a:lnTo>
                      <a:pt x="4072" y="65"/>
                    </a:lnTo>
                    <a:lnTo>
                      <a:pt x="4028" y="74"/>
                    </a:lnTo>
                    <a:lnTo>
                      <a:pt x="3975" y="82"/>
                    </a:lnTo>
                    <a:lnTo>
                      <a:pt x="3924" y="82"/>
                    </a:lnTo>
                    <a:lnTo>
                      <a:pt x="3871" y="82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205"/>
                    </a:lnTo>
                    <a:lnTo>
                      <a:pt x="3474" y="238"/>
                    </a:lnTo>
                    <a:lnTo>
                      <a:pt x="3431" y="255"/>
                    </a:lnTo>
                    <a:lnTo>
                      <a:pt x="3380" y="272"/>
                    </a:lnTo>
                    <a:lnTo>
                      <a:pt x="3329" y="279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38"/>
                    </a:lnTo>
                    <a:lnTo>
                      <a:pt x="3076" y="354"/>
                    </a:lnTo>
                    <a:lnTo>
                      <a:pt x="3034" y="363"/>
                    </a:lnTo>
                    <a:lnTo>
                      <a:pt x="2982" y="354"/>
                    </a:lnTo>
                    <a:lnTo>
                      <a:pt x="2930" y="338"/>
                    </a:lnTo>
                    <a:lnTo>
                      <a:pt x="2878" y="305"/>
                    </a:lnTo>
                    <a:lnTo>
                      <a:pt x="2834" y="272"/>
                    </a:lnTo>
                    <a:lnTo>
                      <a:pt x="2783" y="238"/>
                    </a:lnTo>
                    <a:lnTo>
                      <a:pt x="2730" y="214"/>
                    </a:lnTo>
                    <a:lnTo>
                      <a:pt x="2679" y="214"/>
                    </a:lnTo>
                    <a:lnTo>
                      <a:pt x="2636" y="223"/>
                    </a:lnTo>
                    <a:lnTo>
                      <a:pt x="2585" y="231"/>
                    </a:lnTo>
                    <a:lnTo>
                      <a:pt x="2532" y="247"/>
                    </a:lnTo>
                    <a:lnTo>
                      <a:pt x="2481" y="255"/>
                    </a:lnTo>
                    <a:lnTo>
                      <a:pt x="2437" y="255"/>
                    </a:lnTo>
                    <a:lnTo>
                      <a:pt x="2385" y="238"/>
                    </a:lnTo>
                    <a:lnTo>
                      <a:pt x="2333" y="223"/>
                    </a:lnTo>
                    <a:lnTo>
                      <a:pt x="2281" y="214"/>
                    </a:lnTo>
                    <a:lnTo>
                      <a:pt x="2239" y="223"/>
                    </a:lnTo>
                    <a:lnTo>
                      <a:pt x="2188" y="247"/>
                    </a:lnTo>
                    <a:lnTo>
                      <a:pt x="2135" y="288"/>
                    </a:lnTo>
                    <a:lnTo>
                      <a:pt x="2084" y="338"/>
                    </a:lnTo>
                    <a:lnTo>
                      <a:pt x="2039" y="379"/>
                    </a:lnTo>
                    <a:lnTo>
                      <a:pt x="1986" y="404"/>
                    </a:lnTo>
                    <a:lnTo>
                      <a:pt x="1935" y="413"/>
                    </a:lnTo>
                    <a:lnTo>
                      <a:pt x="1884" y="404"/>
                    </a:lnTo>
                    <a:lnTo>
                      <a:pt x="1841" y="379"/>
                    </a:lnTo>
                    <a:lnTo>
                      <a:pt x="1789" y="354"/>
                    </a:lnTo>
                    <a:lnTo>
                      <a:pt x="1737" y="338"/>
                    </a:lnTo>
                    <a:lnTo>
                      <a:pt x="1685" y="346"/>
                    </a:lnTo>
                    <a:lnTo>
                      <a:pt x="1642" y="379"/>
                    </a:lnTo>
                    <a:lnTo>
                      <a:pt x="1589" y="404"/>
                    </a:lnTo>
                    <a:lnTo>
                      <a:pt x="1538" y="420"/>
                    </a:lnTo>
                    <a:lnTo>
                      <a:pt x="1487" y="428"/>
                    </a:lnTo>
                    <a:lnTo>
                      <a:pt x="1444" y="404"/>
                    </a:lnTo>
                    <a:lnTo>
                      <a:pt x="1391" y="363"/>
                    </a:lnTo>
                    <a:lnTo>
                      <a:pt x="1340" y="297"/>
                    </a:lnTo>
                    <a:lnTo>
                      <a:pt x="1287" y="238"/>
                    </a:lnTo>
                    <a:lnTo>
                      <a:pt x="1245" y="214"/>
                    </a:lnTo>
                    <a:lnTo>
                      <a:pt x="1192" y="231"/>
                    </a:lnTo>
                    <a:lnTo>
                      <a:pt x="1141" y="279"/>
                    </a:lnTo>
                    <a:lnTo>
                      <a:pt x="1089" y="329"/>
                    </a:lnTo>
                    <a:lnTo>
                      <a:pt x="1045" y="363"/>
                    </a:lnTo>
                    <a:lnTo>
                      <a:pt x="994" y="372"/>
                    </a:lnTo>
                    <a:lnTo>
                      <a:pt x="943" y="354"/>
                    </a:lnTo>
                    <a:lnTo>
                      <a:pt x="890" y="305"/>
                    </a:lnTo>
                    <a:lnTo>
                      <a:pt x="845" y="223"/>
                    </a:lnTo>
                    <a:lnTo>
                      <a:pt x="794" y="140"/>
                    </a:lnTo>
                    <a:lnTo>
                      <a:pt x="743" y="115"/>
                    </a:lnTo>
                    <a:lnTo>
                      <a:pt x="690" y="164"/>
                    </a:lnTo>
                    <a:lnTo>
                      <a:pt x="648" y="255"/>
                    </a:lnTo>
                    <a:lnTo>
                      <a:pt x="596" y="346"/>
                    </a:lnTo>
                    <a:lnTo>
                      <a:pt x="544" y="413"/>
                    </a:lnTo>
                    <a:lnTo>
                      <a:pt x="491" y="461"/>
                    </a:lnTo>
                    <a:lnTo>
                      <a:pt x="448" y="486"/>
                    </a:lnTo>
                    <a:lnTo>
                      <a:pt x="397" y="486"/>
                    </a:lnTo>
                    <a:lnTo>
                      <a:pt x="346" y="437"/>
                    </a:lnTo>
                    <a:lnTo>
                      <a:pt x="293" y="363"/>
                    </a:lnTo>
                    <a:lnTo>
                      <a:pt x="250" y="346"/>
                    </a:lnTo>
                    <a:lnTo>
                      <a:pt x="199" y="404"/>
                    </a:lnTo>
                    <a:lnTo>
                      <a:pt x="146" y="478"/>
                    </a:lnTo>
                    <a:lnTo>
                      <a:pt x="93" y="545"/>
                    </a:lnTo>
                    <a:lnTo>
                      <a:pt x="51" y="577"/>
                    </a:lnTo>
                    <a:lnTo>
                      <a:pt x="0" y="61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53560" y="3080880"/>
                <a:ext cx="3537720" cy="1048680"/>
              </a:xfrm>
              <a:custGeom>
                <a:avLst/>
                <a:gdLst/>
                <a:ahLst/>
                <a:rect l="l" t="t" r="r" b="b"/>
                <a:pathLst>
                  <a:path w="4918" h="1524">
                    <a:moveTo>
                      <a:pt x="0" y="1524"/>
                    </a:moveTo>
                    <a:lnTo>
                      <a:pt x="0" y="1482"/>
                    </a:lnTo>
                    <a:lnTo>
                      <a:pt x="51" y="1457"/>
                    </a:lnTo>
                    <a:lnTo>
                      <a:pt x="93" y="1409"/>
                    </a:lnTo>
                    <a:lnTo>
                      <a:pt x="146" y="1342"/>
                    </a:lnTo>
                    <a:lnTo>
                      <a:pt x="199" y="1260"/>
                    </a:lnTo>
                    <a:lnTo>
                      <a:pt x="250" y="1202"/>
                    </a:lnTo>
                    <a:lnTo>
                      <a:pt x="293" y="1202"/>
                    </a:lnTo>
                    <a:lnTo>
                      <a:pt x="346" y="1284"/>
                    </a:lnTo>
                    <a:lnTo>
                      <a:pt x="397" y="1334"/>
                    </a:lnTo>
                    <a:lnTo>
                      <a:pt x="448" y="1327"/>
                    </a:lnTo>
                    <a:lnTo>
                      <a:pt x="491" y="1293"/>
                    </a:lnTo>
                    <a:lnTo>
                      <a:pt x="544" y="1243"/>
                    </a:lnTo>
                    <a:lnTo>
                      <a:pt x="596" y="1161"/>
                    </a:lnTo>
                    <a:lnTo>
                      <a:pt x="648" y="1063"/>
                    </a:lnTo>
                    <a:lnTo>
                      <a:pt x="690" y="962"/>
                    </a:lnTo>
                    <a:lnTo>
                      <a:pt x="743" y="906"/>
                    </a:lnTo>
                    <a:lnTo>
                      <a:pt x="794" y="921"/>
                    </a:lnTo>
                    <a:lnTo>
                      <a:pt x="845" y="1005"/>
                    </a:lnTo>
                    <a:lnTo>
                      <a:pt x="890" y="1087"/>
                    </a:lnTo>
                    <a:lnTo>
                      <a:pt x="943" y="1136"/>
                    </a:lnTo>
                    <a:lnTo>
                      <a:pt x="994" y="1154"/>
                    </a:lnTo>
                    <a:lnTo>
                      <a:pt x="1045" y="1136"/>
                    </a:lnTo>
                    <a:lnTo>
                      <a:pt x="1089" y="1095"/>
                    </a:lnTo>
                    <a:lnTo>
                      <a:pt x="1141" y="1029"/>
                    </a:lnTo>
                    <a:lnTo>
                      <a:pt x="1192" y="981"/>
                    </a:lnTo>
                    <a:lnTo>
                      <a:pt x="1245" y="947"/>
                    </a:lnTo>
                    <a:lnTo>
                      <a:pt x="1287" y="962"/>
                    </a:lnTo>
                    <a:lnTo>
                      <a:pt x="1340" y="1013"/>
                    </a:lnTo>
                    <a:lnTo>
                      <a:pt x="1391" y="1070"/>
                    </a:lnTo>
                    <a:lnTo>
                      <a:pt x="1444" y="1111"/>
                    </a:lnTo>
                    <a:lnTo>
                      <a:pt x="1487" y="1128"/>
                    </a:lnTo>
                    <a:lnTo>
                      <a:pt x="1538" y="1111"/>
                    </a:lnTo>
                    <a:lnTo>
                      <a:pt x="1589" y="1079"/>
                    </a:lnTo>
                    <a:lnTo>
                      <a:pt x="1642" y="1037"/>
                    </a:lnTo>
                    <a:lnTo>
                      <a:pt x="1685" y="1005"/>
                    </a:lnTo>
                    <a:lnTo>
                      <a:pt x="1737" y="981"/>
                    </a:lnTo>
                    <a:lnTo>
                      <a:pt x="1789" y="981"/>
                    </a:lnTo>
                    <a:lnTo>
                      <a:pt x="1841" y="996"/>
                    </a:lnTo>
                    <a:lnTo>
                      <a:pt x="1884" y="1013"/>
                    </a:lnTo>
                    <a:lnTo>
                      <a:pt x="1935" y="1013"/>
                    </a:lnTo>
                    <a:lnTo>
                      <a:pt x="1986" y="996"/>
                    </a:lnTo>
                    <a:lnTo>
                      <a:pt x="2039" y="955"/>
                    </a:lnTo>
                    <a:lnTo>
                      <a:pt x="2084" y="897"/>
                    </a:lnTo>
                    <a:lnTo>
                      <a:pt x="2135" y="841"/>
                    </a:lnTo>
                    <a:lnTo>
                      <a:pt x="2188" y="782"/>
                    </a:lnTo>
                    <a:lnTo>
                      <a:pt x="2239" y="750"/>
                    </a:lnTo>
                    <a:lnTo>
                      <a:pt x="2281" y="733"/>
                    </a:lnTo>
                    <a:lnTo>
                      <a:pt x="2333" y="733"/>
                    </a:lnTo>
                    <a:lnTo>
                      <a:pt x="2385" y="742"/>
                    </a:lnTo>
                    <a:lnTo>
                      <a:pt x="2437" y="750"/>
                    </a:lnTo>
                    <a:lnTo>
                      <a:pt x="2481" y="750"/>
                    </a:lnTo>
                    <a:lnTo>
                      <a:pt x="2532" y="733"/>
                    </a:lnTo>
                    <a:lnTo>
                      <a:pt x="2585" y="716"/>
                    </a:lnTo>
                    <a:lnTo>
                      <a:pt x="2636" y="692"/>
                    </a:lnTo>
                    <a:lnTo>
                      <a:pt x="2679" y="675"/>
                    </a:lnTo>
                    <a:lnTo>
                      <a:pt x="2730" y="675"/>
                    </a:lnTo>
                    <a:lnTo>
                      <a:pt x="2783" y="692"/>
                    </a:lnTo>
                    <a:lnTo>
                      <a:pt x="2834" y="716"/>
                    </a:lnTo>
                    <a:lnTo>
                      <a:pt x="2878" y="750"/>
                    </a:lnTo>
                    <a:lnTo>
                      <a:pt x="2930" y="774"/>
                    </a:lnTo>
                    <a:lnTo>
                      <a:pt x="2982" y="782"/>
                    </a:lnTo>
                    <a:lnTo>
                      <a:pt x="3034" y="774"/>
                    </a:lnTo>
                    <a:lnTo>
                      <a:pt x="3076" y="757"/>
                    </a:lnTo>
                    <a:lnTo>
                      <a:pt x="3129" y="733"/>
                    </a:lnTo>
                    <a:lnTo>
                      <a:pt x="3180" y="700"/>
                    </a:lnTo>
                    <a:lnTo>
                      <a:pt x="3233" y="668"/>
                    </a:lnTo>
                    <a:lnTo>
                      <a:pt x="3276" y="642"/>
                    </a:lnTo>
                    <a:lnTo>
                      <a:pt x="3329" y="618"/>
                    </a:lnTo>
                    <a:lnTo>
                      <a:pt x="3380" y="593"/>
                    </a:lnTo>
                    <a:lnTo>
                      <a:pt x="3431" y="560"/>
                    </a:lnTo>
                    <a:lnTo>
                      <a:pt x="3474" y="510"/>
                    </a:lnTo>
                    <a:lnTo>
                      <a:pt x="3526" y="461"/>
                    </a:lnTo>
                    <a:lnTo>
                      <a:pt x="3578" y="404"/>
                    </a:lnTo>
                    <a:lnTo>
                      <a:pt x="3630" y="346"/>
                    </a:lnTo>
                    <a:lnTo>
                      <a:pt x="3673" y="288"/>
                    </a:lnTo>
                    <a:lnTo>
                      <a:pt x="3726" y="247"/>
                    </a:lnTo>
                    <a:lnTo>
                      <a:pt x="3777" y="214"/>
                    </a:lnTo>
                    <a:lnTo>
                      <a:pt x="3828" y="190"/>
                    </a:lnTo>
                    <a:lnTo>
                      <a:pt x="3871" y="173"/>
                    </a:lnTo>
                    <a:lnTo>
                      <a:pt x="3924" y="149"/>
                    </a:lnTo>
                    <a:lnTo>
                      <a:pt x="3975" y="130"/>
                    </a:lnTo>
                    <a:lnTo>
                      <a:pt x="4028" y="99"/>
                    </a:lnTo>
                    <a:lnTo>
                      <a:pt x="4072" y="74"/>
                    </a:lnTo>
                    <a:lnTo>
                      <a:pt x="4123" y="41"/>
                    </a:lnTo>
                    <a:lnTo>
                      <a:pt x="4174" y="24"/>
                    </a:lnTo>
                    <a:lnTo>
                      <a:pt x="4226" y="7"/>
                    </a:lnTo>
                    <a:lnTo>
                      <a:pt x="4270" y="0"/>
                    </a:lnTo>
                    <a:lnTo>
                      <a:pt x="4321" y="7"/>
                    </a:lnTo>
                    <a:lnTo>
                      <a:pt x="4374" y="17"/>
                    </a:lnTo>
                    <a:lnTo>
                      <a:pt x="4427" y="24"/>
                    </a:lnTo>
                    <a:lnTo>
                      <a:pt x="4469" y="32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50"/>
                    </a:lnTo>
                    <a:lnTo>
                      <a:pt x="4667" y="58"/>
                    </a:lnTo>
                    <a:lnTo>
                      <a:pt x="4718" y="65"/>
                    </a:lnTo>
                    <a:lnTo>
                      <a:pt x="4771" y="82"/>
                    </a:lnTo>
                    <a:lnTo>
                      <a:pt x="4824" y="106"/>
                    </a:lnTo>
                    <a:lnTo>
                      <a:pt x="4867" y="130"/>
                    </a:lnTo>
                    <a:lnTo>
                      <a:pt x="4918" y="149"/>
                    </a:lnTo>
                    <a:lnTo>
                      <a:pt x="4918" y="996"/>
                    </a:lnTo>
                    <a:lnTo>
                      <a:pt x="4867" y="996"/>
                    </a:lnTo>
                    <a:lnTo>
                      <a:pt x="4824" y="996"/>
                    </a:lnTo>
                    <a:lnTo>
                      <a:pt x="4771" y="996"/>
                    </a:lnTo>
                    <a:lnTo>
                      <a:pt x="4718" y="996"/>
                    </a:lnTo>
                    <a:lnTo>
                      <a:pt x="4667" y="996"/>
                    </a:lnTo>
                    <a:lnTo>
                      <a:pt x="4625" y="996"/>
                    </a:lnTo>
                    <a:lnTo>
                      <a:pt x="4572" y="1005"/>
                    </a:lnTo>
                    <a:lnTo>
                      <a:pt x="4521" y="1005"/>
                    </a:lnTo>
                    <a:lnTo>
                      <a:pt x="4469" y="1005"/>
                    </a:lnTo>
                    <a:lnTo>
                      <a:pt x="4427" y="996"/>
                    </a:lnTo>
                    <a:lnTo>
                      <a:pt x="4374" y="988"/>
                    </a:lnTo>
                    <a:lnTo>
                      <a:pt x="4321" y="972"/>
                    </a:lnTo>
                    <a:lnTo>
                      <a:pt x="4270" y="962"/>
                    </a:lnTo>
                    <a:lnTo>
                      <a:pt x="4226" y="955"/>
                    </a:lnTo>
                    <a:lnTo>
                      <a:pt x="4174" y="955"/>
                    </a:lnTo>
                    <a:lnTo>
                      <a:pt x="4123" y="962"/>
                    </a:lnTo>
                    <a:lnTo>
                      <a:pt x="4072" y="981"/>
                    </a:lnTo>
                    <a:lnTo>
                      <a:pt x="4028" y="988"/>
                    </a:lnTo>
                    <a:lnTo>
                      <a:pt x="3975" y="996"/>
                    </a:lnTo>
                    <a:lnTo>
                      <a:pt x="3924" y="996"/>
                    </a:lnTo>
                    <a:lnTo>
                      <a:pt x="3871" y="996"/>
                    </a:lnTo>
                    <a:lnTo>
                      <a:pt x="3828" y="988"/>
                    </a:lnTo>
                    <a:lnTo>
                      <a:pt x="3777" y="988"/>
                    </a:lnTo>
                    <a:lnTo>
                      <a:pt x="3726" y="1005"/>
                    </a:lnTo>
                    <a:lnTo>
                      <a:pt x="3673" y="1022"/>
                    </a:lnTo>
                    <a:lnTo>
                      <a:pt x="3630" y="1055"/>
                    </a:lnTo>
                    <a:lnTo>
                      <a:pt x="3578" y="1087"/>
                    </a:lnTo>
                    <a:lnTo>
                      <a:pt x="3526" y="1120"/>
                    </a:lnTo>
                    <a:lnTo>
                      <a:pt x="3474" y="1154"/>
                    </a:lnTo>
                    <a:lnTo>
                      <a:pt x="3431" y="1178"/>
                    </a:lnTo>
                    <a:lnTo>
                      <a:pt x="3380" y="1195"/>
                    </a:lnTo>
                    <a:lnTo>
                      <a:pt x="3329" y="1202"/>
                    </a:lnTo>
                    <a:lnTo>
                      <a:pt x="3276" y="1210"/>
                    </a:lnTo>
                    <a:lnTo>
                      <a:pt x="3233" y="1219"/>
                    </a:lnTo>
                    <a:lnTo>
                      <a:pt x="3180" y="1236"/>
                    </a:lnTo>
                    <a:lnTo>
                      <a:pt x="3129" y="1252"/>
                    </a:lnTo>
                    <a:lnTo>
                      <a:pt x="3076" y="1268"/>
                    </a:lnTo>
                    <a:lnTo>
                      <a:pt x="3034" y="1277"/>
                    </a:lnTo>
                    <a:lnTo>
                      <a:pt x="2982" y="1268"/>
                    </a:lnTo>
                    <a:lnTo>
                      <a:pt x="2930" y="1252"/>
                    </a:lnTo>
                    <a:lnTo>
                      <a:pt x="2878" y="1219"/>
                    </a:lnTo>
                    <a:lnTo>
                      <a:pt x="2834" y="1186"/>
                    </a:lnTo>
                    <a:lnTo>
                      <a:pt x="2783" y="1154"/>
                    </a:lnTo>
                    <a:lnTo>
                      <a:pt x="2730" y="1128"/>
                    </a:lnTo>
                    <a:lnTo>
                      <a:pt x="2679" y="1128"/>
                    </a:lnTo>
                    <a:lnTo>
                      <a:pt x="2636" y="1136"/>
                    </a:lnTo>
                    <a:lnTo>
                      <a:pt x="2585" y="1154"/>
                    </a:lnTo>
                    <a:lnTo>
                      <a:pt x="2532" y="1161"/>
                    </a:lnTo>
                    <a:lnTo>
                      <a:pt x="2481" y="1169"/>
                    </a:lnTo>
                    <a:lnTo>
                      <a:pt x="2437" y="1169"/>
                    </a:lnTo>
                    <a:lnTo>
                      <a:pt x="2385" y="1154"/>
                    </a:lnTo>
                    <a:lnTo>
                      <a:pt x="2333" y="1136"/>
                    </a:lnTo>
                    <a:lnTo>
                      <a:pt x="2281" y="1120"/>
                    </a:lnTo>
                    <a:lnTo>
                      <a:pt x="2239" y="1128"/>
                    </a:lnTo>
                    <a:lnTo>
                      <a:pt x="2188" y="1161"/>
                    </a:lnTo>
                    <a:lnTo>
                      <a:pt x="2135" y="1202"/>
                    </a:lnTo>
                    <a:lnTo>
                      <a:pt x="2084" y="1252"/>
                    </a:lnTo>
                    <a:lnTo>
                      <a:pt x="2039" y="1293"/>
                    </a:lnTo>
                    <a:lnTo>
                      <a:pt x="1986" y="1327"/>
                    </a:lnTo>
                    <a:lnTo>
                      <a:pt x="1935" y="1334"/>
                    </a:lnTo>
                    <a:lnTo>
                      <a:pt x="1884" y="1327"/>
                    </a:lnTo>
                    <a:lnTo>
                      <a:pt x="1841" y="1293"/>
                    </a:lnTo>
                    <a:lnTo>
                      <a:pt x="1789" y="1268"/>
                    </a:lnTo>
                    <a:lnTo>
                      <a:pt x="1737" y="1252"/>
                    </a:lnTo>
                    <a:lnTo>
                      <a:pt x="1685" y="1260"/>
                    </a:lnTo>
                    <a:lnTo>
                      <a:pt x="1642" y="1293"/>
                    </a:lnTo>
                    <a:lnTo>
                      <a:pt x="1589" y="1318"/>
                    </a:lnTo>
                    <a:lnTo>
                      <a:pt x="1538" y="1342"/>
                    </a:lnTo>
                    <a:lnTo>
                      <a:pt x="1487" y="1342"/>
                    </a:lnTo>
                    <a:lnTo>
                      <a:pt x="1444" y="1327"/>
                    </a:lnTo>
                    <a:lnTo>
                      <a:pt x="1391" y="1277"/>
                    </a:lnTo>
                    <a:lnTo>
                      <a:pt x="1340" y="1210"/>
                    </a:lnTo>
                    <a:lnTo>
                      <a:pt x="1287" y="1154"/>
                    </a:lnTo>
                    <a:lnTo>
                      <a:pt x="1245" y="1128"/>
                    </a:lnTo>
                    <a:lnTo>
                      <a:pt x="1192" y="1145"/>
                    </a:lnTo>
                    <a:lnTo>
                      <a:pt x="1141" y="1195"/>
                    </a:lnTo>
                    <a:lnTo>
                      <a:pt x="1089" y="1243"/>
                    </a:lnTo>
                    <a:lnTo>
                      <a:pt x="1045" y="1284"/>
                    </a:lnTo>
                    <a:lnTo>
                      <a:pt x="994" y="1293"/>
                    </a:lnTo>
                    <a:lnTo>
                      <a:pt x="943" y="1277"/>
                    </a:lnTo>
                    <a:lnTo>
                      <a:pt x="890" y="1219"/>
                    </a:lnTo>
                    <a:lnTo>
                      <a:pt x="845" y="1128"/>
                    </a:lnTo>
                    <a:lnTo>
                      <a:pt x="794" y="1046"/>
                    </a:lnTo>
                    <a:lnTo>
                      <a:pt x="743" y="1022"/>
                    </a:lnTo>
                    <a:lnTo>
                      <a:pt x="690" y="1070"/>
                    </a:lnTo>
                    <a:lnTo>
                      <a:pt x="648" y="1161"/>
                    </a:lnTo>
                    <a:lnTo>
                      <a:pt x="596" y="1260"/>
                    </a:lnTo>
                    <a:lnTo>
                      <a:pt x="544" y="1334"/>
                    </a:lnTo>
                    <a:lnTo>
                      <a:pt x="491" y="1375"/>
                    </a:lnTo>
                    <a:lnTo>
                      <a:pt x="448" y="1409"/>
                    </a:lnTo>
                    <a:lnTo>
                      <a:pt x="397" y="1409"/>
                    </a:lnTo>
                    <a:lnTo>
                      <a:pt x="346" y="1359"/>
                    </a:lnTo>
                    <a:lnTo>
                      <a:pt x="293" y="1268"/>
                    </a:lnTo>
                    <a:lnTo>
                      <a:pt x="250" y="1260"/>
                    </a:lnTo>
                    <a:lnTo>
                      <a:pt x="199" y="1318"/>
                    </a:lnTo>
                    <a:lnTo>
                      <a:pt x="146" y="1392"/>
                    </a:lnTo>
                    <a:lnTo>
                      <a:pt x="93" y="1457"/>
                    </a:lnTo>
                    <a:lnTo>
                      <a:pt x="51" y="1500"/>
                    </a:lnTo>
                    <a:lnTo>
                      <a:pt x="0" y="152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53560" y="2718000"/>
                <a:ext cx="3537720" cy="1381320"/>
              </a:xfrm>
              <a:custGeom>
                <a:avLst/>
                <a:gdLst/>
                <a:ahLst/>
                <a:rect l="l" t="t" r="r" b="b"/>
                <a:pathLst>
                  <a:path w="4918" h="2011">
                    <a:moveTo>
                      <a:pt x="0" y="2011"/>
                    </a:moveTo>
                    <a:lnTo>
                      <a:pt x="0" y="1681"/>
                    </a:lnTo>
                    <a:lnTo>
                      <a:pt x="51" y="1640"/>
                    </a:lnTo>
                    <a:lnTo>
                      <a:pt x="93" y="1590"/>
                    </a:lnTo>
                    <a:lnTo>
                      <a:pt x="146" y="1508"/>
                    </a:lnTo>
                    <a:lnTo>
                      <a:pt x="199" y="1409"/>
                    </a:lnTo>
                    <a:lnTo>
                      <a:pt x="250" y="1335"/>
                    </a:lnTo>
                    <a:lnTo>
                      <a:pt x="293" y="1320"/>
                    </a:lnTo>
                    <a:lnTo>
                      <a:pt x="346" y="1385"/>
                    </a:lnTo>
                    <a:lnTo>
                      <a:pt x="397" y="1409"/>
                    </a:lnTo>
                    <a:lnTo>
                      <a:pt x="448" y="1376"/>
                    </a:lnTo>
                    <a:lnTo>
                      <a:pt x="491" y="1320"/>
                    </a:lnTo>
                    <a:lnTo>
                      <a:pt x="544" y="1245"/>
                    </a:lnTo>
                    <a:lnTo>
                      <a:pt x="596" y="1147"/>
                    </a:lnTo>
                    <a:lnTo>
                      <a:pt x="648" y="1022"/>
                    </a:lnTo>
                    <a:lnTo>
                      <a:pt x="690" y="907"/>
                    </a:lnTo>
                    <a:lnTo>
                      <a:pt x="743" y="832"/>
                    </a:lnTo>
                    <a:lnTo>
                      <a:pt x="794" y="842"/>
                    </a:lnTo>
                    <a:lnTo>
                      <a:pt x="845" y="907"/>
                    </a:lnTo>
                    <a:lnTo>
                      <a:pt x="890" y="981"/>
                    </a:lnTo>
                    <a:lnTo>
                      <a:pt x="943" y="1030"/>
                    </a:lnTo>
                    <a:lnTo>
                      <a:pt x="994" y="1039"/>
                    </a:lnTo>
                    <a:lnTo>
                      <a:pt x="1045" y="1022"/>
                    </a:lnTo>
                    <a:lnTo>
                      <a:pt x="1089" y="981"/>
                    </a:lnTo>
                    <a:lnTo>
                      <a:pt x="1141" y="924"/>
                    </a:lnTo>
                    <a:lnTo>
                      <a:pt x="1192" y="866"/>
                    </a:lnTo>
                    <a:lnTo>
                      <a:pt x="1245" y="832"/>
                    </a:lnTo>
                    <a:lnTo>
                      <a:pt x="1287" y="849"/>
                    </a:lnTo>
                    <a:lnTo>
                      <a:pt x="1340" y="899"/>
                    </a:lnTo>
                    <a:lnTo>
                      <a:pt x="1391" y="948"/>
                    </a:lnTo>
                    <a:lnTo>
                      <a:pt x="1444" y="981"/>
                    </a:lnTo>
                    <a:lnTo>
                      <a:pt x="1487" y="974"/>
                    </a:lnTo>
                    <a:lnTo>
                      <a:pt x="1538" y="940"/>
                    </a:lnTo>
                    <a:lnTo>
                      <a:pt x="1589" y="883"/>
                    </a:lnTo>
                    <a:lnTo>
                      <a:pt x="1642" y="816"/>
                    </a:lnTo>
                    <a:lnTo>
                      <a:pt x="1685" y="743"/>
                    </a:lnTo>
                    <a:lnTo>
                      <a:pt x="1737" y="676"/>
                    </a:lnTo>
                    <a:lnTo>
                      <a:pt x="1789" y="635"/>
                    </a:lnTo>
                    <a:lnTo>
                      <a:pt x="1841" y="609"/>
                    </a:lnTo>
                    <a:lnTo>
                      <a:pt x="1884" y="577"/>
                    </a:lnTo>
                    <a:lnTo>
                      <a:pt x="1935" y="536"/>
                    </a:lnTo>
                    <a:lnTo>
                      <a:pt x="1986" y="470"/>
                    </a:lnTo>
                    <a:lnTo>
                      <a:pt x="2039" y="389"/>
                    </a:lnTo>
                    <a:lnTo>
                      <a:pt x="2084" y="297"/>
                    </a:lnTo>
                    <a:lnTo>
                      <a:pt x="2135" y="207"/>
                    </a:lnTo>
                    <a:lnTo>
                      <a:pt x="2188" y="123"/>
                    </a:lnTo>
                    <a:lnTo>
                      <a:pt x="2239" y="67"/>
                    </a:lnTo>
                    <a:lnTo>
                      <a:pt x="2281" y="34"/>
                    </a:lnTo>
                    <a:lnTo>
                      <a:pt x="2333" y="25"/>
                    </a:lnTo>
                    <a:lnTo>
                      <a:pt x="2385" y="25"/>
                    </a:lnTo>
                    <a:lnTo>
                      <a:pt x="2437" y="34"/>
                    </a:lnTo>
                    <a:lnTo>
                      <a:pt x="2481" y="34"/>
                    </a:lnTo>
                    <a:lnTo>
                      <a:pt x="2532" y="25"/>
                    </a:lnTo>
                    <a:lnTo>
                      <a:pt x="2585" y="17"/>
                    </a:lnTo>
                    <a:lnTo>
                      <a:pt x="2636" y="10"/>
                    </a:lnTo>
                    <a:lnTo>
                      <a:pt x="2679" y="0"/>
                    </a:lnTo>
                    <a:lnTo>
                      <a:pt x="2730" y="17"/>
                    </a:lnTo>
                    <a:lnTo>
                      <a:pt x="2783" y="51"/>
                    </a:lnTo>
                    <a:lnTo>
                      <a:pt x="2834" y="92"/>
                    </a:lnTo>
                    <a:lnTo>
                      <a:pt x="2878" y="142"/>
                    </a:lnTo>
                    <a:lnTo>
                      <a:pt x="2930" y="183"/>
                    </a:lnTo>
                    <a:lnTo>
                      <a:pt x="2982" y="216"/>
                    </a:lnTo>
                    <a:lnTo>
                      <a:pt x="3034" y="224"/>
                    </a:lnTo>
                    <a:lnTo>
                      <a:pt x="3076" y="224"/>
                    </a:lnTo>
                    <a:lnTo>
                      <a:pt x="3129" y="216"/>
                    </a:lnTo>
                    <a:lnTo>
                      <a:pt x="3180" y="198"/>
                    </a:lnTo>
                    <a:lnTo>
                      <a:pt x="3233" y="190"/>
                    </a:lnTo>
                    <a:lnTo>
                      <a:pt x="3276" y="183"/>
                    </a:lnTo>
                    <a:lnTo>
                      <a:pt x="3329" y="174"/>
                    </a:lnTo>
                    <a:lnTo>
                      <a:pt x="3380" y="174"/>
                    </a:lnTo>
                    <a:lnTo>
                      <a:pt x="3431" y="166"/>
                    </a:lnTo>
                    <a:lnTo>
                      <a:pt x="3474" y="142"/>
                    </a:lnTo>
                    <a:lnTo>
                      <a:pt x="3526" y="116"/>
                    </a:lnTo>
                    <a:lnTo>
                      <a:pt x="3578" y="92"/>
                    </a:lnTo>
                    <a:lnTo>
                      <a:pt x="3630" y="58"/>
                    </a:lnTo>
                    <a:lnTo>
                      <a:pt x="3673" y="43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34"/>
                    </a:lnTo>
                    <a:lnTo>
                      <a:pt x="3871" y="43"/>
                    </a:lnTo>
                    <a:lnTo>
                      <a:pt x="3924" y="51"/>
                    </a:lnTo>
                    <a:lnTo>
                      <a:pt x="3975" y="58"/>
                    </a:lnTo>
                    <a:lnTo>
                      <a:pt x="4028" y="51"/>
                    </a:lnTo>
                    <a:lnTo>
                      <a:pt x="4072" y="43"/>
                    </a:lnTo>
                    <a:lnTo>
                      <a:pt x="4123" y="34"/>
                    </a:lnTo>
                    <a:lnTo>
                      <a:pt x="4174" y="25"/>
                    </a:lnTo>
                    <a:lnTo>
                      <a:pt x="4226" y="25"/>
                    </a:lnTo>
                    <a:lnTo>
                      <a:pt x="4270" y="34"/>
                    </a:lnTo>
                    <a:lnTo>
                      <a:pt x="4321" y="51"/>
                    </a:lnTo>
                    <a:lnTo>
                      <a:pt x="4374" y="67"/>
                    </a:lnTo>
                    <a:lnTo>
                      <a:pt x="4427" y="84"/>
                    </a:lnTo>
                    <a:lnTo>
                      <a:pt x="4469" y="92"/>
                    </a:lnTo>
                    <a:lnTo>
                      <a:pt x="4521" y="99"/>
                    </a:lnTo>
                    <a:lnTo>
                      <a:pt x="4572" y="108"/>
                    </a:lnTo>
                    <a:lnTo>
                      <a:pt x="4625" y="108"/>
                    </a:lnTo>
                    <a:lnTo>
                      <a:pt x="4667" y="116"/>
                    </a:lnTo>
                    <a:lnTo>
                      <a:pt x="4718" y="123"/>
                    </a:lnTo>
                    <a:lnTo>
                      <a:pt x="4771" y="133"/>
                    </a:lnTo>
                    <a:lnTo>
                      <a:pt x="4824" y="142"/>
                    </a:lnTo>
                    <a:lnTo>
                      <a:pt x="4867" y="157"/>
                    </a:lnTo>
                    <a:lnTo>
                      <a:pt x="4918" y="157"/>
                    </a:lnTo>
                    <a:lnTo>
                      <a:pt x="4918" y="676"/>
                    </a:lnTo>
                    <a:lnTo>
                      <a:pt x="4867" y="659"/>
                    </a:lnTo>
                    <a:lnTo>
                      <a:pt x="4824" y="635"/>
                    </a:lnTo>
                    <a:lnTo>
                      <a:pt x="4771" y="609"/>
                    </a:lnTo>
                    <a:lnTo>
                      <a:pt x="4718" y="594"/>
                    </a:lnTo>
                    <a:lnTo>
                      <a:pt x="4667" y="585"/>
                    </a:lnTo>
                    <a:lnTo>
                      <a:pt x="4625" y="577"/>
                    </a:lnTo>
                    <a:lnTo>
                      <a:pt x="4572" y="570"/>
                    </a:lnTo>
                    <a:lnTo>
                      <a:pt x="4521" y="570"/>
                    </a:lnTo>
                    <a:lnTo>
                      <a:pt x="4469" y="561"/>
                    </a:lnTo>
                    <a:lnTo>
                      <a:pt x="4427" y="553"/>
                    </a:lnTo>
                    <a:lnTo>
                      <a:pt x="4374" y="544"/>
                    </a:lnTo>
                    <a:lnTo>
                      <a:pt x="4321" y="536"/>
                    </a:lnTo>
                    <a:lnTo>
                      <a:pt x="4270" y="529"/>
                    </a:lnTo>
                    <a:lnTo>
                      <a:pt x="4226" y="536"/>
                    </a:lnTo>
                    <a:lnTo>
                      <a:pt x="4174" y="553"/>
                    </a:lnTo>
                    <a:lnTo>
                      <a:pt x="4123" y="570"/>
                    </a:lnTo>
                    <a:lnTo>
                      <a:pt x="4072" y="602"/>
                    </a:lnTo>
                    <a:lnTo>
                      <a:pt x="4028" y="628"/>
                    </a:lnTo>
                    <a:lnTo>
                      <a:pt x="3975" y="659"/>
                    </a:lnTo>
                    <a:lnTo>
                      <a:pt x="3924" y="676"/>
                    </a:lnTo>
                    <a:lnTo>
                      <a:pt x="3871" y="702"/>
                    </a:lnTo>
                    <a:lnTo>
                      <a:pt x="3828" y="717"/>
                    </a:lnTo>
                    <a:lnTo>
                      <a:pt x="3777" y="743"/>
                    </a:lnTo>
                    <a:lnTo>
                      <a:pt x="3726" y="775"/>
                    </a:lnTo>
                    <a:lnTo>
                      <a:pt x="3673" y="816"/>
                    </a:lnTo>
                    <a:lnTo>
                      <a:pt x="3630" y="875"/>
                    </a:lnTo>
                    <a:lnTo>
                      <a:pt x="3578" y="931"/>
                    </a:lnTo>
                    <a:lnTo>
                      <a:pt x="3526" y="989"/>
                    </a:lnTo>
                    <a:lnTo>
                      <a:pt x="3474" y="1039"/>
                    </a:lnTo>
                    <a:lnTo>
                      <a:pt x="3431" y="1089"/>
                    </a:lnTo>
                    <a:lnTo>
                      <a:pt x="3380" y="1121"/>
                    </a:lnTo>
                    <a:lnTo>
                      <a:pt x="3329" y="1147"/>
                    </a:lnTo>
                    <a:lnTo>
                      <a:pt x="3276" y="1171"/>
                    </a:lnTo>
                    <a:lnTo>
                      <a:pt x="3233" y="1195"/>
                    </a:lnTo>
                    <a:lnTo>
                      <a:pt x="3180" y="1229"/>
                    </a:lnTo>
                    <a:lnTo>
                      <a:pt x="3129" y="1262"/>
                    </a:lnTo>
                    <a:lnTo>
                      <a:pt x="3076" y="1286"/>
                    </a:lnTo>
                    <a:lnTo>
                      <a:pt x="3034" y="1302"/>
                    </a:lnTo>
                    <a:lnTo>
                      <a:pt x="2982" y="1311"/>
                    </a:lnTo>
                    <a:lnTo>
                      <a:pt x="2930" y="1302"/>
                    </a:lnTo>
                    <a:lnTo>
                      <a:pt x="2878" y="1277"/>
                    </a:lnTo>
                    <a:lnTo>
                      <a:pt x="2834" y="1245"/>
                    </a:lnTo>
                    <a:lnTo>
                      <a:pt x="2783" y="1221"/>
                    </a:lnTo>
                    <a:lnTo>
                      <a:pt x="2730" y="1203"/>
                    </a:lnTo>
                    <a:lnTo>
                      <a:pt x="2679" y="1203"/>
                    </a:lnTo>
                    <a:lnTo>
                      <a:pt x="2636" y="1221"/>
                    </a:lnTo>
                    <a:lnTo>
                      <a:pt x="2585" y="1245"/>
                    </a:lnTo>
                    <a:lnTo>
                      <a:pt x="2532" y="1262"/>
                    </a:lnTo>
                    <a:lnTo>
                      <a:pt x="2481" y="1277"/>
                    </a:lnTo>
                    <a:lnTo>
                      <a:pt x="2437" y="1277"/>
                    </a:lnTo>
                    <a:lnTo>
                      <a:pt x="2385" y="1270"/>
                    </a:lnTo>
                    <a:lnTo>
                      <a:pt x="2333" y="1262"/>
                    </a:lnTo>
                    <a:lnTo>
                      <a:pt x="2281" y="1262"/>
                    </a:lnTo>
                    <a:lnTo>
                      <a:pt x="2239" y="1277"/>
                    </a:lnTo>
                    <a:lnTo>
                      <a:pt x="2188" y="1311"/>
                    </a:lnTo>
                    <a:lnTo>
                      <a:pt x="2135" y="1368"/>
                    </a:lnTo>
                    <a:lnTo>
                      <a:pt x="2084" y="1426"/>
                    </a:lnTo>
                    <a:lnTo>
                      <a:pt x="2039" y="1484"/>
                    </a:lnTo>
                    <a:lnTo>
                      <a:pt x="1986" y="1525"/>
                    </a:lnTo>
                    <a:lnTo>
                      <a:pt x="1935" y="1542"/>
                    </a:lnTo>
                    <a:lnTo>
                      <a:pt x="1884" y="1542"/>
                    </a:lnTo>
                    <a:lnTo>
                      <a:pt x="1841" y="1525"/>
                    </a:lnTo>
                    <a:lnTo>
                      <a:pt x="1789" y="1508"/>
                    </a:lnTo>
                    <a:lnTo>
                      <a:pt x="1737" y="1508"/>
                    </a:lnTo>
                    <a:lnTo>
                      <a:pt x="1685" y="1534"/>
                    </a:lnTo>
                    <a:lnTo>
                      <a:pt x="1642" y="1566"/>
                    </a:lnTo>
                    <a:lnTo>
                      <a:pt x="1589" y="1607"/>
                    </a:lnTo>
                    <a:lnTo>
                      <a:pt x="1538" y="1640"/>
                    </a:lnTo>
                    <a:lnTo>
                      <a:pt x="1487" y="1657"/>
                    </a:lnTo>
                    <a:lnTo>
                      <a:pt x="1444" y="1640"/>
                    </a:lnTo>
                    <a:lnTo>
                      <a:pt x="1391" y="1599"/>
                    </a:lnTo>
                    <a:lnTo>
                      <a:pt x="1340" y="1542"/>
                    </a:lnTo>
                    <a:lnTo>
                      <a:pt x="1287" y="1491"/>
                    </a:lnTo>
                    <a:lnTo>
                      <a:pt x="1245" y="1475"/>
                    </a:lnTo>
                    <a:lnTo>
                      <a:pt x="1192" y="1508"/>
                    </a:lnTo>
                    <a:lnTo>
                      <a:pt x="1141" y="1558"/>
                    </a:lnTo>
                    <a:lnTo>
                      <a:pt x="1089" y="1624"/>
                    </a:lnTo>
                    <a:lnTo>
                      <a:pt x="1045" y="1665"/>
                    </a:lnTo>
                    <a:lnTo>
                      <a:pt x="994" y="1681"/>
                    </a:lnTo>
                    <a:lnTo>
                      <a:pt x="943" y="1665"/>
                    </a:lnTo>
                    <a:lnTo>
                      <a:pt x="890" y="1614"/>
                    </a:lnTo>
                    <a:lnTo>
                      <a:pt x="845" y="1534"/>
                    </a:lnTo>
                    <a:lnTo>
                      <a:pt x="794" y="1450"/>
                    </a:lnTo>
                    <a:lnTo>
                      <a:pt x="743" y="1435"/>
                    </a:lnTo>
                    <a:lnTo>
                      <a:pt x="690" y="1491"/>
                    </a:lnTo>
                    <a:lnTo>
                      <a:pt x="648" y="1590"/>
                    </a:lnTo>
                    <a:lnTo>
                      <a:pt x="596" y="1689"/>
                    </a:lnTo>
                    <a:lnTo>
                      <a:pt x="544" y="1772"/>
                    </a:lnTo>
                    <a:lnTo>
                      <a:pt x="491" y="1821"/>
                    </a:lnTo>
                    <a:lnTo>
                      <a:pt x="448" y="1854"/>
                    </a:lnTo>
                    <a:lnTo>
                      <a:pt x="397" y="1862"/>
                    </a:lnTo>
                    <a:lnTo>
                      <a:pt x="346" y="1813"/>
                    </a:lnTo>
                    <a:lnTo>
                      <a:pt x="293" y="1731"/>
                    </a:lnTo>
                    <a:lnTo>
                      <a:pt x="250" y="1731"/>
                    </a:lnTo>
                    <a:lnTo>
                      <a:pt x="199" y="1787"/>
                    </a:lnTo>
                    <a:lnTo>
                      <a:pt x="146" y="1871"/>
                    </a:lnTo>
                    <a:lnTo>
                      <a:pt x="93" y="1936"/>
                    </a:lnTo>
                    <a:lnTo>
                      <a:pt x="51" y="1986"/>
                    </a:lnTo>
                    <a:lnTo>
                      <a:pt x="0" y="201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53560" y="2407320"/>
                <a:ext cx="1080" cy="1862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9080" y="4269960"/>
                <a:ext cx="241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080" y="389628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9080" y="352368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29080" y="315504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29080" y="278136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29080" y="2407320"/>
                <a:ext cx="241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53560" y="4269960"/>
                <a:ext cx="3537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353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391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42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46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497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533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563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60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638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677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707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746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782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819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850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8885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924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963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5993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0310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068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1059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137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174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211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248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62802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31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6355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39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224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459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49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534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5664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603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639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678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67089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7464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67824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8212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8529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8886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69274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638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995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0311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070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1060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137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751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214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250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2802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73173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354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3926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4239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4613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498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5362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5664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05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413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6784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71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7479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785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821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85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89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7927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79635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996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0337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071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8107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8137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176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212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8251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82828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8320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356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8393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8425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84625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8498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8537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8569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6050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864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6799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711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874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8785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882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88542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8891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36480" y="4224960"/>
                <a:ext cx="720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93720" y="423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93280" y="3852360"/>
                <a:ext cx="1436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2320" y="3859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48640" y="347688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09480" y="34837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48640" y="311004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09480" y="3117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48640" y="273600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09480" y="27442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48640" y="2362320"/>
                <a:ext cx="2156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09480" y="23691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5355360" y="4188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5533920" y="4272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585432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621540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654048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69278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730332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76424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200000">
                <a:off x="799956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35920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6200000">
                <a:off x="87116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13880" y="4473720"/>
                <a:ext cx="34920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90920" y="4516200"/>
                <a:ext cx="34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4642560" y="3072600"/>
                <a:ext cx="57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$ Mill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5920" y="202680"/>
            <a:ext cx="86677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Narrow"/>
              </a:rPr>
              <a:t>Condition Assessment Supports Risk-Based Approach</a:t>
            </a:r>
            <a:endParaRPr b="1" lang="en-US" sz="2800" spc="-1" strike="noStrike">
              <a:solidFill>
                <a:srgbClr val="003399"/>
              </a:solidFill>
              <a:latin typeface="Arial Narrow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065320" y="1368360"/>
          <a:ext cx="447984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1368360"/>
                    <a:ext cx="447984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WERF Research Projec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080" y="1236240"/>
            <a:ext cx="8472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Research Priorities for Successful Asset Management,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March 2002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Develop protocols for the assessing the condition and performance of water and wastewater infrastructure assets and develop predictive models for correlating asset condition and performance”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Project Objectives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944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and document available tools and technique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vide guidance on incorporating into utility management philosophy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Water &amp; wastewater treatment, collection, and distribution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266" name="WST03826" descr=""/>
          <p:cNvPicPr/>
          <p:nvPr/>
        </p:nvPicPr>
        <p:blipFill>
          <a:blip r:embed="rId1"/>
          <a:stretch/>
        </p:blipFill>
        <p:spPr>
          <a:xfrm>
            <a:off x="5108400" y="1359000"/>
            <a:ext cx="3810240" cy="303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Project Scope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90800" y="1331640"/>
            <a:ext cx="67960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Research available tools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practices from other industri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best applicable practic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458640" y="1332000"/>
            <a:ext cx="13557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8640" y="3419640"/>
            <a:ext cx="14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36880" y="3419640"/>
            <a:ext cx="69278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Develop a programmatic approach for condition and performance assessment (schedule, resource ne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vide case studies with positive cost jus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area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Core Project Participants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514440" y="1077840"/>
            <a:ext cx="1355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Project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Spon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4762440"/>
            <a:ext cx="14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WERF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4440" y="2936880"/>
            <a:ext cx="1355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Team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6240" y="107784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E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AWWA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14640" y="293688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TA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CSI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E2 Consul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5800" y="476244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City of Bellev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Northeast Ohio Regional Sewer Distri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atercare (N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ater Corporation of Western Austral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24:13Z</dcterms:created>
  <dc:creator>MWH Global, Inc.</dc:creator>
  <dc:description/>
  <dc:language>en-US</dc:language>
  <cp:lastModifiedBy>MWH Global, Inc.</cp:lastModifiedBy>
  <cp:lastPrinted>2005-01-28T17:42:01Z</cp:lastPrinted>
  <dcterms:modified xsi:type="dcterms:W3CDTF">2005-01-31T17:01:37Z</dcterms:modified>
  <cp:revision>7</cp:revision>
  <dc:subject/>
  <dc:title>Condition Assessments - A Key Component of Asset Management Better Management - Maintaining the Momentum</dc:title>
</cp:coreProperties>
</file>