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75547-A2DA-47A9-94CB-9E24287EA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0908-CAEC-4DF9-8EF7-040C613E5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D6E4F-CB92-4758-B440-FAD549E48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B7DC9-5AFA-404E-B75A-9E551C905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387E2-0B09-468D-AA7E-58C54FEC0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BC14C-9279-4954-8480-56EF2355E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348A6-921D-42D7-AEBB-489424BC8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990D7-966D-4DBF-A04F-791FF67B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E4D77-A2D3-4F86-BF7D-AD33573CE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1A3F8-5DF8-405E-A07A-B3291ED3D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26485-A874-4F19-9D47-275386CD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888AE-1A58-4714-A812-E87A565D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A27CC-467B-4E3F-93A6-468202C22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D0E0-7D27-488B-A8D6-70C508264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2F02F-4599-4A97-8A9C-A75C0FF94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CAE2A-B85D-4501-8D47-DB7A8F2A0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A9D68-57B3-418F-A54C-EC702EDA9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D7FAA-4C25-4F0F-9734-C8FA626ED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C5BF7-1A79-4C6B-9800-9A96BB2DD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6492F-A193-4555-B89A-0C0C46878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DA44B-8B95-42E5-B059-7EC72172D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7A20E-92CD-449A-8C23-46C024D5A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3DB3-6DF1-4528-8DC7-1B571DBF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672C3-9ACE-4D29-9DFF-DD7E3B3C0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290F7-0699-468B-97E7-A17EE84F9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5238D-F531-44C4-85DF-4774C26CD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4CFB6-6B84-4AD4-97BE-562053D64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070ED-EADB-4AEA-A14D-04F7003FA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17053D-5C83-4CB6-9C5C-AB8C79F74B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41272-8A62-43F7-9A1B-7C1BE4D5E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B3B1-A0B0-41CE-803F-5220CA16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06A3-FC80-4770-8D1D-FD81A915F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FFBC-C31C-4F92-A4C4-DA04752D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167C-BA60-44C3-BBA5-5C5394787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3055-9EE4-4630-AF16-01EA3F208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F1CF-6A00-4160-B6DB-4B35E6F81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735E-45E6-4FB2-8586-4A10C96AC3B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E4FD-6ACB-4440-984C-3A646429F9B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44D1-873C-45E7-A04F-879A583D2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380880"/>
            <a:ext cx="7391520" cy="23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ustainable Security …</a:t>
            </a:r>
            <a:br>
              <a:rPr sz="4000"/>
            </a:br>
            <a:r>
              <a:rPr b="0" lang="en-US" sz="4000" spc="-1" strike="noStrike">
                <a:solidFill>
                  <a:srgbClr val="333399"/>
                </a:solidFill>
                <a:latin typeface="Tahoma"/>
              </a:rPr>
              <a:t>Common Challenges – </a:t>
            </a:r>
            <a:br>
              <a:rPr sz="4000"/>
            </a:br>
            <a:r>
              <a:rPr b="0" lang="en-US" sz="4000" spc="-1" strike="noStrike">
                <a:solidFill>
                  <a:srgbClr val="333399"/>
                </a:solidFill>
                <a:latin typeface="Tahoma"/>
              </a:rPr>
              <a:t>New Resources</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SA Winter Conferenc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day, February 3 2005</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 – 3:30 Session</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ter Sector Coordinating Council</a:t>
            </a:r>
            <a:br>
              <a:rPr sz="3600"/>
            </a:br>
            <a:r>
              <a:rPr b="0" lang="en-US" sz="3600" spc="-1" strike="noStrike">
                <a:solidFill>
                  <a:srgbClr val="333399"/>
                </a:solidFill>
                <a:latin typeface="Tahoma"/>
              </a:rPr>
              <a:t>(WSCC)</a:t>
            </a:r>
            <a:endParaRPr b="0" lang="en-US" sz="3600" spc="-1" strike="noStrike">
              <a:solidFill>
                <a:srgbClr val="333399"/>
              </a:solidFill>
              <a:latin typeface="Tahoma"/>
            </a:endParaRPr>
          </a:p>
        </p:txBody>
      </p:sp>
      <p:sp>
        <p:nvSpPr>
          <p:cNvPr id="155" name="PlaceHolder 2"/>
          <p:cNvSpPr>
            <a:spLocks noGrp="1"/>
          </p:cNvSpPr>
          <p:nvPr>
            <p:ph/>
          </p:nvPr>
        </p:nvSpPr>
        <p:spPr>
          <a:xfrm>
            <a:off x="609120" y="2057040"/>
            <a:ext cx="80773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e with DHS on matters of homeland security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tor is public and private water treatment and distribution and wastewater collection and treat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e development of sector-wide input to the National Infrastructure Protection Plan (NIP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 outreach and awareness programs to support NIPP implementation</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SCC</a:t>
            </a:r>
            <a:endParaRPr b="0" lang="en-US" sz="4400" spc="-1" strike="noStrike">
              <a:solidFill>
                <a:srgbClr val="333399"/>
              </a:solidFill>
              <a:latin typeface="Tahoma"/>
            </a:endParaRPr>
          </a:p>
        </p:txBody>
      </p:sp>
      <p:sp>
        <p:nvSpPr>
          <p:cNvPr id="15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of vulnerability assessments will be a primary focus (VA is one element of the utility security program)</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ing on common problems, vulnerabilities, sharing information and ways to collaborate.</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ing the NIPP as a grass-roots effort, not a top down structure </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SA participants:</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ke Gritzuk, Phoenix, Arizona</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ula Dannenfeldt, AMSA</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b Steidel, Richmond, Virginia</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8088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s of Sector Communication to WSCC:</a:t>
            </a:r>
            <a:endParaRPr b="0" lang="en-US" sz="3600" spc="-1" strike="noStrike">
              <a:solidFill>
                <a:srgbClr val="333399"/>
              </a:solidFill>
              <a:latin typeface="Tahoma"/>
            </a:endParaRPr>
          </a:p>
        </p:txBody>
      </p:sp>
      <p:sp>
        <p:nvSpPr>
          <p:cNvPr id="159" name="PlaceHolder 2"/>
          <p:cNvSpPr>
            <a:spLocks noGrp="1"/>
          </p:cNvSpPr>
          <p:nvPr>
            <p:ph/>
          </p:nvPr>
        </p:nvSpPr>
        <p:spPr>
          <a:xfrm>
            <a:off x="380880" y="2057400"/>
            <a:ext cx="8305920" cy="4572000"/>
          </a:xfrm>
          <a:prstGeom prst="rect">
            <a:avLst/>
          </a:prstGeom>
          <a:noFill/>
          <a:ln w="0">
            <a:noFill/>
          </a:ln>
        </p:spPr>
        <p:txBody>
          <a:bodyPr lIns="90000" rIns="90000" tIns="46800" bIns="46800"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amination Early Warning / Detec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amination Containment / Decontamina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storation of Public Trust Post-Contamina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ysical Security Method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yber-Security Method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urity Management: Sworn Officers with Weapons: Conservator of the Peac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w Enforcement Reporting: fencing breech, discovery of an unlocked door / hatch, chlorine rail car delivery diverted, surveillance camera detects trespass</a:t>
            </a:r>
            <a:endParaRPr b="0" lang="en-US" sz="2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ctor Communication</a:t>
            </a:r>
            <a:endParaRPr b="0" lang="en-US" sz="3600" spc="-1" strike="noStrike">
              <a:solidFill>
                <a:srgbClr val="333399"/>
              </a:solidFill>
              <a:latin typeface="Tahoma"/>
            </a:endParaRPr>
          </a:p>
        </p:txBody>
      </p:sp>
      <p:sp>
        <p:nvSpPr>
          <p:cNvPr id="161"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and tool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ing and assessing threa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measures to mitigate those threa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incident repor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  Water sector and Federal / State / Local</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l, homeland security, law enforcement, intelligence and public health.</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eland Security Information Network (HSI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Information Sharing and Analysis Center (WaterISA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cident Management System (NIM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ident Command System (IC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ergency Operations Centers (EOCs)</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ural or Man-made </a:t>
            </a:r>
            <a:br>
              <a:rPr sz="3600"/>
            </a:br>
            <a:r>
              <a:rPr b="0" lang="en-US" sz="3600" spc="-1" strike="noStrike">
                <a:solidFill>
                  <a:srgbClr val="333399"/>
                </a:solidFill>
                <a:latin typeface="Tahoma"/>
              </a:rPr>
              <a:t>Threats and Incidents</a:t>
            </a:r>
            <a:endParaRPr b="0" lang="en-US" sz="3600" spc="-1" strike="noStrike">
              <a:solidFill>
                <a:srgbClr val="333399"/>
              </a:solidFill>
              <a:latin typeface="Tahoma"/>
            </a:endParaRPr>
          </a:p>
        </p:txBody>
      </p:sp>
      <p:sp>
        <p:nvSpPr>
          <p:cNvPr id="163"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Ri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ng Risks (Mitig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train, try, test (tabletop and field exerci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ding to Inci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vering from Inci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tion and review</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276720" y="914400"/>
            <a:ext cx="281916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ulnerability Analysi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lorine gas and other gasses under pressur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sabotage</a:t>
            </a:r>
            <a:endParaRPr b="0" lang="en-US" sz="1800" spc="-1" strike="noStrike">
              <a:solidFill>
                <a:srgbClr val="000000"/>
              </a:solidFill>
              <a:latin typeface="Arial"/>
            </a:endParaRPr>
          </a:p>
        </p:txBody>
      </p:sp>
      <p:sp>
        <p:nvSpPr>
          <p:cNvPr id="165" name=""/>
          <p:cNvSpPr/>
          <p:nvPr/>
        </p:nvSpPr>
        <p:spPr>
          <a:xfrm>
            <a:off x="685800" y="114300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Management Plan (RMP) - EPA</a:t>
            </a:r>
            <a:endParaRPr b="0" lang="en-US" sz="1600" spc="-1" strike="noStrike">
              <a:solidFill>
                <a:srgbClr val="000000"/>
              </a:solidFill>
              <a:latin typeface="Arial"/>
            </a:endParaRPr>
          </a:p>
        </p:txBody>
      </p:sp>
      <p:sp>
        <p:nvSpPr>
          <p:cNvPr id="166" name=""/>
          <p:cNvSpPr/>
          <p:nvPr/>
        </p:nvSpPr>
        <p:spPr>
          <a:xfrm>
            <a:off x="762120" y="175248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afety Management (PSM) - OSHA</a:t>
            </a:r>
            <a:endParaRPr b="0" lang="en-US" sz="1600" spc="-1" strike="noStrike">
              <a:solidFill>
                <a:srgbClr val="000000"/>
              </a:solidFill>
              <a:latin typeface="Arial"/>
            </a:endParaRPr>
          </a:p>
        </p:txBody>
      </p:sp>
      <p:sp>
        <p:nvSpPr>
          <p:cNvPr id="167" name="Cloud"/>
          <p:cNvSpPr/>
          <p:nvPr/>
        </p:nvSpPr>
        <p:spPr>
          <a:xfrm>
            <a:off x="6248520" y="914400"/>
            <a:ext cx="2666880" cy="1787400"/>
          </a:xfrm>
          <a:prstGeom prst="pie">
            <a:avLst/>
          </a:pr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77120" y="152388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Zone Protection Plan -BZPP</a:t>
            </a:r>
            <a:endParaRPr b="0" lang="en-US" sz="1600" spc="-1" strike="noStrike">
              <a:solidFill>
                <a:srgbClr val="000000"/>
              </a:solidFill>
              <a:latin typeface="Arial"/>
            </a:endParaRPr>
          </a:p>
        </p:txBody>
      </p:sp>
      <p:sp>
        <p:nvSpPr>
          <p:cNvPr id="169" name=""/>
          <p:cNvSpPr/>
          <p:nvPr/>
        </p:nvSpPr>
        <p:spPr>
          <a:xfrm>
            <a:off x="4191120" y="4800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3520" y="2971800"/>
            <a:ext cx="8153280" cy="34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mergency Operations Plan – EOP / Emergency Response Plan – ERP (Natural and Man-made Emergenci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mphlet 57 Emergency Shut-off Systems for Bulk Transfer of Chlorine - 2003</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PA Response Protocol Toolbox: Planning for and Responding to Drinking Water Contamination Threats and Incidents - 2003</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ergency Response Plan Guidance for Wastewater Systems: WERF in Collaboration with EPA – 2004</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uarding Against Terrorist and Security Threats: Suggested Measures for Drinking Water Utilities - 2004</a:t>
            </a:r>
            <a:endParaRPr b="0" lang="en-US" sz="1800" spc="-1" strike="noStrike">
              <a:solidFill>
                <a:srgbClr val="000000"/>
              </a:solidFill>
              <a:latin typeface="Arial"/>
            </a:endParaRPr>
          </a:p>
        </p:txBody>
      </p:sp>
      <p:sp>
        <p:nvSpPr>
          <p:cNvPr id="171" name="Cloud"/>
          <p:cNvSpPr/>
          <p:nvPr/>
        </p:nvSpPr>
        <p:spPr>
          <a:xfrm>
            <a:off x="152280" y="762120"/>
            <a:ext cx="2971800" cy="2095560"/>
          </a:xfrm>
          <a:prstGeom prst="pie">
            <a:avLst/>
          </a:pr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76520" y="22860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actical / Operational Planning Elements to Consider</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nciples of Security</a:t>
            </a:r>
            <a:endParaRPr b="0" lang="en-US" sz="3600" spc="-1" strike="noStrike">
              <a:solidFill>
                <a:srgbClr val="333399"/>
              </a:solidFill>
              <a:latin typeface="Tahoma"/>
            </a:endParaRPr>
          </a:p>
        </p:txBody>
      </p:sp>
      <p:sp>
        <p:nvSpPr>
          <p:cNvPr id="174" name="PlaceHolder 2"/>
          <p:cNvSpPr>
            <a:spLocks noGrp="1"/>
          </p:cNvSpPr>
          <p:nvPr>
            <p:ph/>
          </p:nvPr>
        </p:nvSpPr>
        <p:spPr>
          <a:xfrm>
            <a:off x="4647960" y="2209320"/>
            <a:ext cx="4267080" cy="3916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OTECTION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 </a:t>
            </a:r>
            <a:r>
              <a:rPr b="1" lang="en-US" sz="3200" spc="-1" strike="noStrike">
                <a:solidFill>
                  <a:srgbClr val="000000"/>
                </a:solidFill>
                <a:latin typeface="Tahoma"/>
              </a:rPr>
              <a:t>↓</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TECT</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TER</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VALUE</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FEND</a:t>
            </a:r>
            <a:r>
              <a:rPr b="0" lang="en-US" sz="2800" spc="-1" strike="noStrike">
                <a:solidFill>
                  <a:srgbClr val="000000"/>
                </a:solidFill>
                <a:latin typeface="Tahoma"/>
              </a:rPr>
              <a:t> </a:t>
            </a:r>
            <a:r>
              <a:rPr b="1" lang="en-US" sz="2800" spc="-1" strike="noStrike">
                <a:solidFill>
                  <a:srgbClr val="000000"/>
                </a:solidFill>
                <a:latin typeface="Tahoma"/>
              </a:rPr>
              <a:t>↓</a:t>
            </a:r>
            <a:endParaRPr b="0" lang="en-US" sz="28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TTACK PREVENTED</a:t>
            </a:r>
            <a:endParaRPr b="0" lang="en-US" sz="2800" spc="-1" strike="noStrike">
              <a:solidFill>
                <a:srgbClr val="000000"/>
              </a:solidFill>
              <a:latin typeface="Tahoma"/>
            </a:endParaRPr>
          </a:p>
        </p:txBody>
      </p:sp>
      <p:graphicFrame>
        <p:nvGraphicFramePr>
          <p:cNvPr id="175" name=""/>
          <p:cNvGraphicFramePr/>
          <p:nvPr/>
        </p:nvGraphicFramePr>
        <p:xfrm>
          <a:off x="457200" y="2209680"/>
          <a:ext cx="4038480" cy="4284720"/>
        </p:xfrm>
        <a:graphic>
          <a:graphicData uri="http://schemas.openxmlformats.org/drawingml/2006/table">
            <a:tbl>
              <a:tblPr/>
              <a:tblGrid>
                <a:gridCol w="2019240"/>
                <a:gridCol w="2019240"/>
              </a:tblGrid>
              <a:tr h="78696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rorist Method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8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ha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Timeli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ars /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ths / Wee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lo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ac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ys / Secon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ffer Zone Protection Plans</a:t>
            </a:r>
            <a:endParaRPr b="0" lang="en-US" sz="3600" spc="-1" strike="noStrike">
              <a:solidFill>
                <a:srgbClr val="333399"/>
              </a:solidFill>
              <a:latin typeface="Tahoma"/>
            </a:endParaRPr>
          </a:p>
        </p:txBody>
      </p:sp>
      <p:sp>
        <p:nvSpPr>
          <p:cNvPr id="177" name="PlaceHolder 2"/>
          <p:cNvSpPr>
            <a:spLocks noGrp="1"/>
          </p:cNvSpPr>
          <p:nvPr>
            <p:ph/>
          </p:nvPr>
        </p:nvSpPr>
        <p:spPr>
          <a:xfrm>
            <a:off x="457200" y="20570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zone is the area outside of a Critical Infrastructure / Key Asset that can be used to conduct surveillance and launch an attack</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ZZP is a tool developed by law enforcement to prevent attack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between local and state law enforcement to communicate needs to DH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DHS, State Office of Emergency Preparedness, Law Enforcement Officials (Utility Managers?)</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2133720"/>
            <a:ext cx="746748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Security considerations will drive many agendas and utilize scarce resource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There will be a continued need to respond to new security challeng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order to meet the general duty expectations of the public, security and emergency preparations must be in place and appropriate for the community in which we are the clean water stewards.</a:t>
            </a:r>
            <a:endParaRPr b="0" lang="en-US" sz="2600" spc="-1" strike="noStrike">
              <a:solidFill>
                <a:srgbClr val="000000"/>
              </a:solidFill>
              <a:latin typeface="Arial"/>
            </a:endParaRPr>
          </a:p>
        </p:txBody>
      </p:sp>
      <p:sp>
        <p:nvSpPr>
          <p:cNvPr id="179" name=""/>
          <p:cNvSpPr/>
          <p:nvPr/>
        </p:nvSpPr>
        <p:spPr>
          <a:xfrm flipV="1" rot="10800000">
            <a:off x="1218960" y="989640"/>
            <a:ext cx="592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 the Water Sector:</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1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ssion Agenda</a:t>
            </a:r>
            <a:endParaRPr b="0" lang="en-US" sz="4400" spc="-1" strike="noStrike">
              <a:solidFill>
                <a:srgbClr val="333399"/>
              </a:solidFill>
              <a:latin typeface="Tahoma"/>
            </a:endParaRPr>
          </a:p>
        </p:txBody>
      </p:sp>
      <p:sp>
        <p:nvSpPr>
          <p:cNvPr id="143" name="PlaceHolder 2"/>
          <p:cNvSpPr>
            <a:spLocks noGrp="1"/>
          </p:cNvSpPr>
          <p:nvPr>
            <p:ph/>
          </p:nvPr>
        </p:nvSpPr>
        <p:spPr>
          <a:xfrm>
            <a:off x="1523880" y="1981080"/>
            <a:ext cx="7010640" cy="5181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pic Introduction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Security priorities and practices may take different forms at different utilities. . . but there are common challenges – and a growing number of resources</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da Warren &amp; Guy Aydlet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naging Decontamination Wastewater A Utility Planning Too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New AMSA Publication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ated for Release in March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d Schardei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ater Security Working Group (NDWAC) – Exploring the Features of Active &amp; Effective Secur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dvisory Process Concludes in April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r Emery: Emergency Response Planning for Wastewater Utilities (ERP), New EPA Guidance and a New VSAT</a:t>
            </a:r>
            <a:r>
              <a:rPr b="0" lang="en-US" sz="3200" spc="-1" strike="noStrike">
                <a:solidFill>
                  <a:srgbClr val="000000"/>
                </a:solidFill>
                <a:latin typeface="Tahoma"/>
                <a:ea typeface="Tahoma"/>
              </a:rPr>
              <a:t>™</a:t>
            </a:r>
            <a:r>
              <a:rPr b="0" lang="en-US" sz="3200" spc="-1" strike="noStrike">
                <a:solidFill>
                  <a:srgbClr val="000000"/>
                </a:solidFill>
                <a:latin typeface="Tahoma"/>
              </a:rPr>
              <a:t> Software Modu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New VSAT</a:t>
            </a:r>
            <a:r>
              <a:rPr b="0" lang="en-US" sz="2800" spc="-1" strike="noStrike">
                <a:solidFill>
                  <a:srgbClr val="000000"/>
                </a:solidFill>
                <a:latin typeface="Tahoma"/>
                <a:ea typeface="Tahoma"/>
              </a:rPr>
              <a:t>™ ERP Module Slated for Distribution in February ‘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O Study – Allocation of Federal Funds for Wastewater Security, March ’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lorine Gas &amp; Utility Security – Decision Tree &amp; Report Template, Fall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y, 3:30- 5:00 pm – AMSA Security &amp; Emergency Preparedness Committe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1240"/>
            <a:ext cx="7793280" cy="19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curity Sustainability and Linkage to the AMSA Strategic Plan</a:t>
            </a:r>
            <a:endParaRPr b="0" lang="en-US" sz="36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Legislation / Regul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i="1" lang="en-US" sz="2800" spc="-1" strike="noStrike">
                <a:solidFill>
                  <a:srgbClr val="000000"/>
                </a:solidFill>
                <a:latin typeface="Tahoma"/>
              </a:rPr>
              <a:t>“</a:t>
            </a:r>
            <a:r>
              <a:rPr b="1" i="1" lang="en-US" sz="2800" spc="-1" strike="noStrike">
                <a:solidFill>
                  <a:srgbClr val="000000"/>
                </a:solidFill>
                <a:latin typeface="Tahoma"/>
              </a:rPr>
              <a:t>Security considerations will drive many agendas and utilize scarce resour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Professional Competition / Stru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i="1" lang="en-US" sz="2800" spc="-1" strike="noStrike">
                <a:solidFill>
                  <a:srgbClr val="000000"/>
                </a:solidFill>
                <a:latin typeface="Tahoma"/>
              </a:rPr>
              <a:t>“</a:t>
            </a:r>
            <a:r>
              <a:rPr b="1" i="1" lang="en-US" sz="2800" spc="-1" strike="noStrike">
                <a:solidFill>
                  <a:srgbClr val="000000"/>
                </a:solidFill>
                <a:latin typeface="Tahoma"/>
              </a:rPr>
              <a:t>There will be a continued need to respond to new security challeng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3840"/>
            <a:ext cx="7792920" cy="120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SA Actions</a:t>
            </a:r>
            <a:endParaRPr b="0" lang="en-US" sz="4400" spc="-1" strike="noStrike">
              <a:solidFill>
                <a:srgbClr val="333399"/>
              </a:solidFill>
              <a:latin typeface="Tahoma"/>
            </a:endParaRPr>
          </a:p>
        </p:txBody>
      </p:sp>
      <p:sp>
        <p:nvSpPr>
          <p:cNvPr id="151" name="PlaceHolder 2"/>
          <p:cNvSpPr>
            <a:spLocks noGrp="1"/>
          </p:cNvSpPr>
          <p:nvPr>
            <p:ph/>
          </p:nvPr>
        </p:nvSpPr>
        <p:spPr>
          <a:xfrm>
            <a:off x="457200" y="2286000"/>
            <a:ext cx="8153280" cy="419112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tewater Security Priorities in the 109</a:t>
            </a:r>
            <a:r>
              <a:rPr b="0" lang="en-US" sz="2800" spc="-1" strike="noStrike" baseline="30000">
                <a:solidFill>
                  <a:srgbClr val="000000"/>
                </a:solidFill>
                <a:latin typeface="Tahoma"/>
              </a:rPr>
              <a:t>th</a:t>
            </a:r>
            <a:r>
              <a:rPr b="0" lang="en-US" sz="2800" spc="-1" strike="noStrike">
                <a:solidFill>
                  <a:srgbClr val="000000"/>
                </a:solidFill>
                <a:latin typeface="Tahoma"/>
              </a:rPr>
              <a:t> Congres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amp; Emergency Preparedness Committe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ntamination Wastewater Planning Tool</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lorine Gas Decision Tree Projec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tor Coordinating Council (WSCC)</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urity Working Group (WSWG)</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Information Sharing &amp; Analysis Center</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SSC and WSWG</a:t>
            </a:r>
            <a:endParaRPr b="0" lang="en-US" sz="4400" spc="-1" strike="noStrike">
              <a:solidFill>
                <a:srgbClr val="333399"/>
              </a:solidFill>
              <a:latin typeface="Tahoma"/>
            </a:endParaRPr>
          </a:p>
        </p:txBody>
      </p:sp>
      <p:sp>
        <p:nvSpPr>
          <p:cNvPr id="153" name="PlaceHolder 2"/>
          <p:cNvSpPr>
            <a:spLocks noGrp="1"/>
          </p:cNvSpPr>
          <p:nvPr>
            <p:ph/>
          </p:nvPr>
        </p:nvSpPr>
        <p:spPr>
          <a:xfrm>
            <a:off x="838080" y="2133720"/>
            <a:ext cx="7848720" cy="3992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ector Coordinating Council (long-term focus on detailed sector and cross-sector implementation issu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ise Department of Homeland Security (December 17, 2003 Homeland Security Presidential Directiv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e sector-wide input into the National Infrastructure Protection Plan (NIPP)</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ecurity Working Group (address broad strategic directives Sept 04 – April 05)</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mmendations to the National Drinking Water Advisory Council for use in advising EP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3T22:16:49Z</dcterms:created>
  <dc:creator>dpu</dc:creator>
  <dc:description/>
  <dc:language>en-US</dc:language>
  <cp:lastModifiedBy>paula</cp:lastModifiedBy>
  <dcterms:modified xsi:type="dcterms:W3CDTF">2005-01-25T16:47:48Z</dcterms:modified>
  <cp:revision>30</cp:revision>
  <dc:subject/>
  <dc:title>Sustainable Systems – Sustainable Security … Common Challenges –  New Resources</dc:title>
</cp:coreProperties>
</file>