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FF9-02C8-47D3-8BFD-33A23B60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02B-C056-45F9-B044-B09A3BE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BDA-3152-431F-8D81-46B401CB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696-D24A-4B4D-8193-3E12F36C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0D0-7FBC-4811-8800-16C0BF3A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872-E463-43EB-91F2-526354DA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D36-33C0-4B51-9CD5-816C1BF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C59-4EDB-4F8A-917A-A033A5E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BF79-EC6C-4439-9CC6-B6896CFE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898-B53B-4186-A6DA-E417E01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F4C-90E7-4523-9AEE-972FE25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6CE-5B4D-4F7F-9CD9-9BF9A75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825D-157A-4A4A-9790-1ED5574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AB1-9CA2-4C2E-9DA5-0BF7A26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D46-97B6-4061-89DE-5710281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D29-CD80-4E67-8A4B-505899B8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7BC-B5A3-447B-B91F-B3B236F4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771-B358-4FA4-8784-73740BD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A06-69E1-4FDF-B7CB-5D8CE1A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BD1-39E8-496C-9036-E55DB85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BB-65DE-41E9-8B06-9633207A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917-7596-4EC1-86AB-08DEE6B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C22-BDB3-44D2-B0B9-D6188F7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675-ACFD-45EC-976B-FE11433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CB7C-9591-4D4E-894F-4A8D4639A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622-6580-4689-97B3-33D82A013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SO MANGEMENT STANDARD FOR WASTEWATER UTILITIES – AN UPDATE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CWA Win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stainab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System Pro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management objectiv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appropriate service quality criteria that parallel the management objectiv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erformance indicators and targets to measure effectiveness of service deliver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costs as a percent of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flows per length of s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anagement actions to meet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DCA Management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5638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y Relationships Contained i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raft Stand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1676520"/>
            <a:ext cx="3276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2514600"/>
            <a:ext cx="32767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886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5029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133720"/>
            <a:ext cx="762120" cy="761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40040 h 761760"/>
              <a:gd name="textAreaBottom" fmla="*/ 5187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43" stAng="-5400000" swAng="-5400000"/>
                <a:lnTo>
                  <a:pt x="0" y="10733"/>
                </a:lnTo>
                <a:arcTo wR="21600" hR="7943" stAng="10800000" swAng="-2767458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31"/>
                </a:lnTo>
                <a:arcTo wR="21600" hR="7943" stAng="8032542" swAng="2542254"/>
                <a:lnTo>
                  <a:pt x="336" y="9337"/>
                </a:lnTo>
                <a:arcTo wR="21600" hR="7943" stAng="-10574796" swAng="5174796"/>
                <a:close/>
              </a:path>
              <a:path fill="darkenLess" w="21600" h="21600">
                <a:moveTo>
                  <a:pt x="21600" y="0"/>
                </a:moveTo>
                <a:arcTo wR="21600" hR="7943" stAng="-5400000" swAng="-5400000"/>
                <a:lnTo>
                  <a:pt x="0" y="7943"/>
                </a:lnTo>
                <a:arcTo wR="21600" hR="7943" stAng="10800000" swAng="-225204"/>
                <a:lnTo>
                  <a:pt x="336" y="9337"/>
                </a:lnTo>
                <a:arcTo wR="21600" hR="7943" stAng="-10574796" swAng="517479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2666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962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3581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724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787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incipal Objectives for Wastewater Servi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public heal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natural 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public/built 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 of sustainable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, Assessment  Criteria, and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752480"/>
          <a:ext cx="80010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971800"/>
                <a:gridCol w="2514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Service Assessment Crit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Performance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e in a manner that minimizes adverse effects on the 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and limit pollutants    in effluent and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ze energy effici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ize reuse of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users on pollution pre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ze influent loa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ermit non-complia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used per volume treated or per population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biosolids re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influent loading reductions over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3429000"/>
            <a:ext cx="65530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Indicators (PIs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s are the key to th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easure quality, effectiveness, and efficiency of service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nformation to benchmark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internal measurement &amp;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for comparisons among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key to “plan, do, check, act” principle of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communicate with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ensure management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regulations can form the basis of a 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 Involvement in ISO/TC 22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erican National Standards Instit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NSI) is official member organization to 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W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dministrator of the U.S. Technical Advisory Group (TAG) and lead delegate to ISO/TC 2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C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eading U.S. representative on behalf of publicly-owned treatment works (POT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WA ISO Advisory Committee comprised of utility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delegates supported via NACWA Targeted Action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comment to U.S. TAG on draft ISO/TC 224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 ISO/TC 224 meetings to voice U.S. POTWs’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CWA Involv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put into standard reflects concern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allow local decisions regarding selection of service objectives, selection of performance indicators, and establishing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represent U.S. wastewater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solids management op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water/wastewater utilit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lesale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ing storm water management utility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ndicato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S efforts ongoing in the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, NACWA EMS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Biosolids Partnership’s EMS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, WEF,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Third-Party Audits Already Comple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inual Improvement in Utility Management: A Framework for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framework to integrate existing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 EPA, AMSA, &amp; WEF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WA, WEF QualServ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Performance Indic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Achieving Environmental Excellen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Environmental Management Systems (EMS) Handbook for Wastewater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/WEF members provided input on successful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Status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ing ISO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raft standards have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rvic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rinking wat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astewater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2005 – Meeting in Valencia, S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harmonize docu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tter address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ead ad-hoc editing work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Standards – what are they and why should you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 for a water/wastewater management standard, and how it relates to sustain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for standar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 for the ISO Stand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509840"/>
          <a:ext cx="8153280" cy="4599000"/>
        </p:xfrm>
        <a:graphic>
          <a:graphicData uri="http://schemas.openxmlformats.org/drawingml/2006/table">
            <a:tbl>
              <a:tblPr/>
              <a:tblGrid>
                <a:gridCol w="2552760"/>
                <a:gridCol w="5600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pril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tee Draft (CD) of standards sent to ISO/TC 224 country participants for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 TC 224 country participants’ review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ctober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ting of ISO/TC 224, Berlin, Germ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 to complete Draft International Standard (DIS) for ISO member country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pring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ting by ISO member countries on whether to adopt Final Draft International Standard (FD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 of ISO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O 24500 standard will strongly promote the PDCA management cycle and the use of performance measur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WA members already strive for continuous improvement and the ISO standard will provide a useful tool to aid in these effor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WA will continue to make wastewater services standards as relevant to U.S. POTWs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4952880"/>
            <a:ext cx="655308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an ISO Standard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= international organization comprised of standardization bodies from its member countries (the U.S. member is ANS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are adopted on a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voluntary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s of Standa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global trade, exchange,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hance product quality an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istribution ef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urrent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nagement Standa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 9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zes international quality management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 14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environmental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s eco-friendly business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measurement of environmental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SO Standards for Management of Water and Wastewater Servi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d by the French in April 200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service to net population growth of more than 1 billion over next 15 yea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the coverage and service ga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sustainability of existing and new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quality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rpose of ISO 24500 Se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Achieve an ongoing dialo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users and service provid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Develop a mutual understan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cal objectives and quality assessment crite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Improve operation and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ssets via a management system approach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performance indic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nable measurement of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continual improvement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service and facilitate monitoring of pro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 of ISO 245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drive progress in achieving quality and efficiency for both the interest of users and to protect the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atures of the ISO Stand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752480"/>
            <a:ext cx="73152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tes another  tool for utilities to achieve goal of sustainable systems through focus on performance indicato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specify PI target valu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applic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substitute for existing regulatio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prescribe a management structu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ludes effluent limitations or quality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Components of a Wastewater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rela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44:12Z</dcterms:created>
  <dc:creator>adam</dc:creator>
  <dc:description/>
  <dc:language>en-US</dc:language>
  <cp:lastModifiedBy>AMSA</cp:lastModifiedBy>
  <dcterms:modified xsi:type="dcterms:W3CDTF">2005-02-02T00:48:34Z</dcterms:modified>
  <cp:revision>87</cp:revision>
  <dc:subject/>
  <dc:title>NEW ISO WATER AND WASTEWATER STANDARDS . . . MEASURING IMPROV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