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DD3A-F78C-4D3C-8085-DC68B5B5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A6C-882B-4314-9819-1B610612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59EE-47EC-4CC1-A702-774CA89B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BEFC-916B-419F-A580-AC1151F8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89D2-6C3F-4BB8-A363-CDF4182D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AE78-D753-4911-88B8-A12CEA38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4B8D-0DB2-4926-85BA-5A5182A3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D94D-BC4B-46C6-9810-6C3DC5CF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9093-08CA-442D-828D-DA569AB9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3D5D-931A-4D6C-B90D-9B07ED17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EEB2-3810-4E86-B151-2C9BCF1F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A184-D128-459D-9CA0-06E9FD7E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66FF-4D3C-4E30-9B59-43E9FBC7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7023-1370-460F-8EC6-E2904F19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6AC0-A413-4668-9B03-05C4D1FA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850B-64BA-4B6F-847E-161DCFB5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1304-D6B5-4B38-8D94-211590E3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D0D5-C112-4867-994E-A7208FA2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353A-2110-43D0-8A3C-EC1D3350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6DA1-0812-4BC7-959D-414AB404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C205-6C11-43C9-8888-D93636CC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9AD-86AC-40F3-95C2-DAA939AE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3B2-C49A-481A-A46C-1F5EC8A1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8AD2-1079-46E8-8371-79DD05C1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3E40-EFBF-46F0-8B4F-7CE669C923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51D9-790B-4127-BC39-7C951A760B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SO MANGEMENT STANDARD FOR WASTEWATER UTILITIES – AN UPDATE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CWA Winter Co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ustainable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bruary 2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nagement System Proces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 management objectiv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 appropriate service quality criteria that parallel the management objectiv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performance indicators and targets to measure effectiveness of service delivery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tewater costs as a percent of family inc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flows per length of se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management actions to meet tar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DCA Management Syst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5638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Key Relationships Contained i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Draft Standard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1676520"/>
            <a:ext cx="327672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66880" y="2514600"/>
            <a:ext cx="3276720" cy="1143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3886200"/>
            <a:ext cx="327672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66880" y="5029200"/>
            <a:ext cx="327672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2133720"/>
            <a:ext cx="762120" cy="761760"/>
          </a:xfrm>
          <a:custGeom>
            <a:avLst/>
            <a:gdLst>
              <a:gd name="textAreaLeft" fmla="*/ 101880 w 762120"/>
              <a:gd name="textAreaRight" fmla="*/ 660240 w 762120"/>
              <a:gd name="textAreaTop" fmla="*/ 140040 h 761760"/>
              <a:gd name="textAreaBottom" fmla="*/ 5187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43" stAng="-5400000" swAng="-5400000"/>
                <a:lnTo>
                  <a:pt x="0" y="10733"/>
                </a:lnTo>
                <a:arcTo wR="21600" hR="7943" stAng="10800000" swAng="-2767458"/>
                <a:lnTo>
                  <a:pt x="14400" y="21146"/>
                </a:lnTo>
                <a:lnTo>
                  <a:pt x="21600" y="17280"/>
                </a:lnTo>
                <a:lnTo>
                  <a:pt x="14400" y="12506"/>
                </a:lnTo>
                <a:lnTo>
                  <a:pt x="14400" y="15431"/>
                </a:lnTo>
                <a:arcTo wR="21600" hR="7943" stAng="8032542" swAng="2542254"/>
                <a:lnTo>
                  <a:pt x="336" y="9337"/>
                </a:lnTo>
                <a:arcTo wR="21600" hR="7943" stAng="-10574796" swAng="5174796"/>
                <a:close/>
              </a:path>
              <a:path fill="darkenLess" w="21600" h="21600">
                <a:moveTo>
                  <a:pt x="21600" y="0"/>
                </a:moveTo>
                <a:arcTo wR="21600" hR="7943" stAng="-5400000" swAng="-5400000"/>
                <a:lnTo>
                  <a:pt x="0" y="7943"/>
                </a:lnTo>
                <a:arcTo wR="21600" hR="7943" stAng="10800000" swAng="-225204"/>
                <a:lnTo>
                  <a:pt x="336" y="9337"/>
                </a:lnTo>
                <a:arcTo wR="21600" hR="7943" stAng="-10574796" swAng="5174796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266688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 Assessment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8120" y="39625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ance Indic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1752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 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5257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ment 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52480" y="3581280"/>
            <a:ext cx="685800" cy="533520"/>
          </a:xfrm>
          <a:custGeom>
            <a:avLst/>
            <a:gdLst>
              <a:gd name="textAreaLeft" fmla="*/ 91800 w 685800"/>
              <a:gd name="textAreaRight" fmla="*/ 594000 w 6858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52480" y="4724280"/>
            <a:ext cx="685800" cy="533520"/>
          </a:xfrm>
          <a:custGeom>
            <a:avLst/>
            <a:gdLst>
              <a:gd name="textAreaLeft" fmla="*/ 91800 w 685800"/>
              <a:gd name="textAreaRight" fmla="*/ 594000 w 6858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248520" y="3505320"/>
            <a:ext cx="709560" cy="5443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172200" y="4648320"/>
            <a:ext cx="709560" cy="5443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172200" y="2133720"/>
            <a:ext cx="7873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incipal Objectives for Wastewater Servic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on of public healt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on of the natural environmen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on of the public/built environmen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ion of sustainable develo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Objectives, Assessment  Criteria, and Performance Indicato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09480" y="1752480"/>
          <a:ext cx="8001000" cy="4572000"/>
        </p:xfrm>
        <a:graphic>
          <a:graphicData uri="http://schemas.openxmlformats.org/drawingml/2006/table">
            <a:tbl>
              <a:tblPr/>
              <a:tblGrid>
                <a:gridCol w="2514600"/>
                <a:gridCol w="2971800"/>
                <a:gridCol w="25146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le Service Assessment Criter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le Performance Indicato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65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e in a manner that minimizes adverse effects on the environ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 and limit pollutants    in effluent and bio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mize energy efficienc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ximize reuse of bio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ucate users on pollution preven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imize influent loadin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permit non-complian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rgy used per volume treated or per population equival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biosolids reu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influent loading reductions over 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219320" y="3429000"/>
            <a:ext cx="6553080" cy="3124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erformance Indicators (PIs)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s are the key to the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measure quality, effectiveness, and efficiency of service deli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information to benchmark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s internal measurement &amp; compari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used for comparisons among ut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key to “plan, do, check, act” principle of EM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as tools to communicate with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as tools to ensure management accoun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ational regulations can form the basis of a 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.S. Involvement in ISO/TC 224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merican National Standards Institu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NSI) is official member organization to I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WW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administrator of the U.S. Technical Advisory Group (TAG) and lead delegate to ISO/TC 2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ACW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leading U.S. representative on behalf of publicly-owned treatment works (POTW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CWA ISO Advisory Committee comprised of utility lea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.S. delegates supported via NACWA Targeted Action F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comment to U.S. TAG on draft ISO/TC 224 propos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 ISO/TC 224 meetings to voice U.S. POTWs’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ACWA Involve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input into standard reflects concerns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 Standards allow local decisions regarding selection of service objectives, selection of performance indicators, and establishing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 Standards represent U.S. wastewater indu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solids management op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int water/wastewater utility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olesaler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ing storm water management utility objec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indicator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S efforts ongoing in the U.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.S., NACWA EMS Initiativ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ational Biosolids Partnership’s EMS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SA, WEF, EP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al Third-Party Audits Already Comple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ntinual Improvement in Utility Management: A Framework for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framework to integrate existing management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int  EPA, AMSA, &amp; WEF eff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WWA, WEF QualServ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Performance Indic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’s Achieving Environmental Excellence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n Environmental Management Systems (EMS) Handbook for Wastewater Ut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SA/WEF members provided input on successful EM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urrent Status of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veloping ISO Standard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draft standards have been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SO/WD 245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Guidelines for the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service to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SO/WD 245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Guidelines for the management and assessment of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drinking water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SO/WD 245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Guidelines for the management and assessment of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wastewater servic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uary 2005 – Meeting in Valencia, S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harmonize docu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better address developing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S. lead ad-hoc editing work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 Standards – what are they and why should you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al for a water/wastewater management standard, and how it relates to sustain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cess for standard develo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xt Steps for the ISO Standar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33520" y="1509840"/>
          <a:ext cx="8153280" cy="4599000"/>
        </p:xfrm>
        <a:graphic>
          <a:graphicData uri="http://schemas.openxmlformats.org/drawingml/2006/table">
            <a:tbl>
              <a:tblPr/>
              <a:tblGrid>
                <a:gridCol w="2552760"/>
                <a:gridCol w="5600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pril 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ittee Draft (CD) of standards sent to ISO/TC 224 country participants for review and com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July 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O TC 224 country participants’ review comple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ctober 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ting of ISO/TC 224, Berlin, German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July 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adline to complete Draft International Standard (DIS) for ISO member country review and com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Spring 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ting by ISO member countries on whether to adopt Final Draft International Standard (FD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July 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blication of ISO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SO 24500 standard will strongly promote the PDCA management cycle and the use of performance measureme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CWA members already strive for continuous improvement and the ISO standard will provide a useful tool to aid in these effort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CWA will continue to make wastewater services standards as relevant to U.S. POTWs as pos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3000" y="4952880"/>
            <a:ext cx="6553080" cy="15242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hat is an ISO Standard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 = international organization comprised of standardization bodies from its member countries (the U.S. member is ANSI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s are adopted on a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</a:rPr>
              <a:t>voluntary b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als of Standar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te global trade, exchange,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nhance product quality and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crease distribution effici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urrent ISO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Management Standar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SO 9000 ser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onizes international quality management princi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motes concept of continuous management improvement (Plan, do, check, act princip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SO 14000 ser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 on environmental management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ourages eco-friendly business pract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motes concept of continuous management improvement (Plan, do, check, act princip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ilitate measurement of environmental perform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ISO Standards for Management of Water and Wastewater Servic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osed by the French in April 200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nsure service to net population growth of more than 1 billion over next 15 year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e the coverage and service ga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ure sustainability of existing and new servic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quality of serv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urpose of ISO 24500 Ser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Achieve an ongoing dialogu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tween users and service provider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Develop a mutual understand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local objectives and quality assessment criteri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Improve operation and manage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ssets via a management system approach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Promote performance indica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enable measurement of servic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Promote continual improvement cyc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 service and facilitate monitoring of prog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nt of ISO 2450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drive progress in achieving quality and efficiency for both the interest of users and to protect the enviro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eatures of the ISO Standar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752480"/>
            <a:ext cx="73152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itutes another  tool for utilities to achieve goal of sustainable systems through focus on performance indicator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specify PI target valu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ntary applic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 substitute for existing regulation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prescribe a management structur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ludes effluent limitations or quality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nagement Components of a Wastewater Syste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urc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 relation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t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4:44:12Z</dcterms:created>
  <dc:creator>adam</dc:creator>
  <dc:description/>
  <dc:language>en-US</dc:language>
  <cp:lastModifiedBy>AMSA</cp:lastModifiedBy>
  <dcterms:modified xsi:type="dcterms:W3CDTF">2005-02-02T00:48:34Z</dcterms:modified>
  <cp:revision>87</cp:revision>
  <dc:subject/>
  <dc:title>NEW ISO WATER AND WASTEWATER STANDARDS . . . MEASURING IMPROV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