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C39E-95CD-4E44-B143-4954D1D36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D1D6-8A40-4811-AA10-0D2B4863B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42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542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D055-13FE-4660-A2F6-FE802B069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96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72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96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72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680A-A190-4EE7-8C3A-C22F108756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AD37-CEE1-447B-9C98-ACFAC495D3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15E5-DB7A-4C0A-ACB7-B9596C0CF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542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3B59-B455-4AD0-898E-3797A2406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FB36-391B-4270-9ED4-4A5613FE7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316C-FDEC-43EE-914D-7AF111A86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542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21E64-AD44-400D-82E1-E277414F9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542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542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75DC-64C9-413D-B45C-973756E13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EDAF-2A04-4933-BB02-35277C33C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3617-C34F-4B65-A0EE-74C6934BE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resentation%20border%201" descr=""/>
          <p:cNvPicPr/>
          <p:nvPr/>
        </p:nvPicPr>
        <p:blipFill>
          <a:blip r:embed="rId2"/>
          <a:srcRect l="16667" t="5455" r="0" b="6364"/>
          <a:stretch/>
        </p:blipFill>
        <p:spPr>
          <a:xfrm>
            <a:off x="0" y="0"/>
            <a:ext cx="17668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523880" y="1295280"/>
            <a:ext cx="71629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CHCHP" descr=""/>
          <p:cNvPicPr/>
          <p:nvPr/>
        </p:nvPicPr>
        <p:blipFill>
          <a:blip r:embed="rId3"/>
          <a:stretch/>
        </p:blipFill>
        <p:spPr>
          <a:xfrm>
            <a:off x="7201080" y="6324480"/>
            <a:ext cx="19429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AMSA%20logo" descr=""/>
          <p:cNvPicPr/>
          <p:nvPr/>
        </p:nvPicPr>
        <p:blipFill>
          <a:blip r:embed="rId4"/>
          <a:stretch/>
        </p:blipFill>
        <p:spPr>
          <a:xfrm>
            <a:off x="7753320" y="0"/>
            <a:ext cx="1390680" cy="720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ire-Decon1" descr=""/>
          <p:cNvPicPr/>
          <p:nvPr/>
        </p:nvPicPr>
        <p:blipFill>
          <a:blip r:embed="rId1"/>
          <a:srcRect l="1973" t="4299" r="0" b="15045"/>
          <a:stretch/>
        </p:blipFill>
        <p:spPr>
          <a:xfrm>
            <a:off x="0" y="0"/>
            <a:ext cx="4572000" cy="3432240"/>
          </a:xfrm>
          <a:prstGeom prst="rect">
            <a:avLst/>
          </a:prstGeom>
          <a:ln w="0">
            <a:noFill/>
          </a:ln>
        </p:spPr>
      </p:pic>
      <p:pic>
        <p:nvPicPr>
          <p:cNvPr id="44" name="HazMat1" descr=""/>
          <p:cNvPicPr/>
          <p:nvPr/>
        </p:nvPicPr>
        <p:blipFill>
          <a:blip r:embed="rId2">
            <a:lum bright="70000" contrast="-70000"/>
          </a:blip>
          <a:srcRect l="5000" t="7500" r="2500" b="1875"/>
          <a:stretch/>
        </p:blipFill>
        <p:spPr>
          <a:xfrm>
            <a:off x="4572000" y="0"/>
            <a:ext cx="4572000" cy="2987640"/>
          </a:xfrm>
          <a:prstGeom prst="rect">
            <a:avLst/>
          </a:prstGeom>
          <a:ln w="0">
            <a:noFill/>
          </a:ln>
        </p:spPr>
      </p:pic>
      <p:pic>
        <p:nvPicPr>
          <p:cNvPr id="45" name="APR_7706" descr=""/>
          <p:cNvPicPr/>
          <p:nvPr/>
        </p:nvPicPr>
        <p:blipFill>
          <a:blip r:embed="rId3">
            <a:lum bright="70000" contrast="-70000"/>
          </a:blip>
          <a:srcRect l="22222" t="0" r="6349" b="0"/>
          <a:stretch/>
        </p:blipFill>
        <p:spPr>
          <a:xfrm>
            <a:off x="0" y="2514600"/>
            <a:ext cx="9144000" cy="3995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ntamination Wastewater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tility Planning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76520" y="35049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stainab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SA’s 2005 Winter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 3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HCHP" descr=""/>
          <p:cNvPicPr/>
          <p:nvPr/>
        </p:nvPicPr>
        <p:blipFill>
          <a:blip r:embed="rId4"/>
          <a:stretch/>
        </p:blipFill>
        <p:spPr>
          <a:xfrm>
            <a:off x="7201080" y="6323040"/>
            <a:ext cx="1942920" cy="533520"/>
          </a:xfrm>
          <a:prstGeom prst="rect">
            <a:avLst/>
          </a:prstGeom>
          <a:ln w="0">
            <a:noFill/>
          </a:ln>
        </p:spPr>
      </p:pic>
      <p:pic>
        <p:nvPicPr>
          <p:cNvPr id="49" name="AMSA%20logo" descr=""/>
          <p:cNvPicPr/>
          <p:nvPr/>
        </p:nvPicPr>
        <p:blipFill>
          <a:blip r:embed="rId5"/>
          <a:stretch/>
        </p:blipFill>
        <p:spPr>
          <a:xfrm>
            <a:off x="0" y="6097680"/>
            <a:ext cx="1467000" cy="760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4876920"/>
            <a:ext cx="2971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Guy Aydlett:  Director of Water Quality, HRSD and Chair, AMSA Pretreatment and Hazardous Waste 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4876920"/>
            <a:ext cx="2514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inda Warren: Director of Emergency Response Programs and Project Manager, CH2M H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9240" y="38088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tecting Wastewater Infrastructure Asset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2286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substances are we concerned abou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8960" y="1625760"/>
            <a:ext cx="42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adioactive Sub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2895480"/>
            <a:ext cx="358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ricium-2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sium-1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balt-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odine-1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idium-1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952560" cy="847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029200" y="289548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ybdenum-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to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um-2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tium-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2286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can these substances enter the sewer syste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1828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off from decontamination wash-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SWand%20Catch%20Basin1a" descr=""/>
          <p:cNvPicPr/>
          <p:nvPr/>
        </p:nvPicPr>
        <p:blipFill>
          <a:blip r:embed="rId1"/>
          <a:srcRect l="9600" t="9774" r="7200" b="9774"/>
          <a:stretch/>
        </p:blipFill>
        <p:spPr>
          <a:xfrm>
            <a:off x="4114800" y="2666880"/>
            <a:ext cx="2408400" cy="1717920"/>
          </a:xfrm>
          <a:prstGeom prst="rect">
            <a:avLst/>
          </a:prstGeom>
          <a:ln w="0">
            <a:noFill/>
          </a:ln>
        </p:spPr>
      </p:pic>
      <p:pic>
        <p:nvPicPr>
          <p:cNvPr id="90" name="MH%20Snow" descr=""/>
          <p:cNvPicPr/>
          <p:nvPr/>
        </p:nvPicPr>
        <p:blipFill>
          <a:blip r:embed="rId2">
            <a:lum contrast="-4000"/>
          </a:blip>
          <a:srcRect l="18757" t="16317" r="15871" b="16317"/>
          <a:stretch/>
        </p:blipFill>
        <p:spPr>
          <a:xfrm>
            <a:off x="1523880" y="2666880"/>
            <a:ext cx="2394000" cy="1743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95280" y="449568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low around and through manhole co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44956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 catch basin inlets of combine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Floor%20Drain1" descr=""/>
          <p:cNvPicPr/>
          <p:nvPr/>
        </p:nvPicPr>
        <p:blipFill>
          <a:blip r:embed="rId3"/>
          <a:stretch/>
        </p:blipFill>
        <p:spPr>
          <a:xfrm>
            <a:off x="6705720" y="2666880"/>
            <a:ext cx="2273040" cy="1708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553080" y="44956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 a floor drain from interior deconta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2286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can these substances enter the sewer syste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600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ontamination Sh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5181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Decon%20Shower%20Portable1" descr=""/>
          <p:cNvPicPr/>
          <p:nvPr/>
        </p:nvPicPr>
        <p:blipFill>
          <a:blip r:embed="rId1"/>
          <a:stretch/>
        </p:blipFill>
        <p:spPr>
          <a:xfrm>
            <a:off x="5867280" y="3809880"/>
            <a:ext cx="2590920" cy="1943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91320" y="57913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Decon%20Shower%20Fixed2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2374920" cy="2004840"/>
          </a:xfrm>
          <a:prstGeom prst="rect">
            <a:avLst/>
          </a:prstGeom>
          <a:ln w="0">
            <a:noFill/>
          </a:ln>
        </p:spPr>
      </p:pic>
      <p:pic>
        <p:nvPicPr>
          <p:cNvPr id="101" name="Decon%20Shower%20Trailer1" descr=""/>
          <p:cNvPicPr/>
          <p:nvPr/>
        </p:nvPicPr>
        <p:blipFill>
          <a:blip r:embed="rId3"/>
          <a:stretch/>
        </p:blipFill>
        <p:spPr>
          <a:xfrm>
            <a:off x="3505320" y="3276720"/>
            <a:ext cx="2666880" cy="1833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19320" y="43434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2286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can these substances enter the sewer syste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60195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and intentional discharge by emergency 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BR-exposed persons washing and laun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reta from exposed 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osal of contaminated drinking water from distribution systems and storage 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47920" y="30492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Minimizing the threat thru 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Planning, Coordination &amp;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2362320"/>
            <a:ext cx="685800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an Emergency Response Plan that includes info related to Decontamination Wastewat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39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ision-making framework for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39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s for preparedness, response and incident manag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39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ct info for agencies to assist and agencies to not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3560" y="1549440"/>
            <a:ext cx="32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ithin the utility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0492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Minimizing the threat thru 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Planning, Coordination &amp;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590920"/>
            <a:ext cx="6553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ain and distribute supplies and equipment to contain decon waste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Personal Protective Equipment (PP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mutual aid agreements (other utilities, haul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3560" y="1549440"/>
            <a:ext cx="32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ithin the utility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228600"/>
            <a:ext cx="7010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Minimizing the threat thru 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Planning, Coordination &amp;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2590920"/>
            <a:ext cx="74674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 protocols and agreements to assure utility no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ite representatives to train with utility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st with developing procedures and identifying labs for rapid determination of CBR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borate in designing methods for containing decontamination wastewater on-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15238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ith emergency managers and first responder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228600"/>
            <a:ext cx="7238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Minimizing the threat thru 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Planning, Coordination &amp;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666880"/>
            <a:ext cx="723888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information for proper deployment of equipment and materials to prevent decon wastewater from entering sewe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urage the use of a safe tracer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e brief instructions ready to give to persons involved in a decon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235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 containment procedures and contact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15238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ith emergency managers and first responder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22860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Minimizing the threat thru 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Planning, Coordination &amp;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2971800"/>
            <a:ext cx="7010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 with key customers (hospitals, clinics, laboratories and industr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rporate notification requirement into pretreatment per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d pretreatment regulations to require key customers to develop a plan for containing decontamination waste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167652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ith customers and agencies that may discharge decon wastewater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22860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Minimizing the threat thru 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Planning, Coordination &amp;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2971800"/>
            <a:ext cx="662940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 with water utilities to establish decon disposal proced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40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o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40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-situ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40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mporary storage prior to dis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16765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ith customers and agencies that may discharge decon wastewater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7920" y="2286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is Decontamination (Decon) Wastewat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96240" y="1598760"/>
            <a:ext cx="46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r the purpose of this tool…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2286000"/>
            <a:ext cx="63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tewater generated as a result of decontamination activities performed after a terrorist attack wi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iolog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adioa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9880" y="5181480"/>
            <a:ext cx="914400" cy="860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819520" y="5105520"/>
            <a:ext cx="906480" cy="1019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800600" y="5181480"/>
            <a:ext cx="952560" cy="847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895480" y="4495680"/>
            <a:ext cx="2743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C  B  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2286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34308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Minimizing the Threat thru 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Physical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2743200"/>
            <a:ext cx="6019920" cy="47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144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in seals, manhole shields, pan inserts, berms and drain plu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144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ps, pools, or improvised dikes that retain the runoff; storage and treatment of decon shower 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b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144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ls, foams and soli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144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16765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eventing decontamination wastewater from entering the sewer system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Mitigating Impacts if decon wastewater reaches the s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agents minimized by calcium hypochlorite, sodium hydroxide or the U.S. Military’s Decontamination Solution No.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, but not all, bacteria, viruses and toxins can be inactivated with a sufficient contact time with chlor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oactive materials removed only through advanced treatment  (ultrafiltration and reverse osmosi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rate of entry to minimize surges that affect bugs at the pla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Minimizing the Threat thru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Training and Information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75"/>
              </a:spcBef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vide periodic training for utility staff in emergency preparedness, response, and recove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est and evaluate emergency plans and procedures through tabletop, functional, and full-scale exercises.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articipate with other utilities, local emergency management agencies, regulators and first responder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tay abreast of new legislation and regulations, industry research and newly developed guidance and protocols (visit http://www.amsa-cleanwater.org/advocacy/security/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2286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to do to prepare and What to look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1981080"/>
            <a:ext cx="6629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s (First Responders, Utilitie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lls/mock-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y inspection (mobile &amp; fix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 containment/ho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low-up (treatment &amp; dispo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47920" y="6858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On-going Research and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2971800"/>
            <a:ext cx="6019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15238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PA is working with 15 other agencies 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2133720"/>
            <a:ext cx="754380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354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Protecting physical and cyber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354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Identifying drinking water contami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354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Improving analytical methodologies and monitoring systems for drinking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354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.  Containing, treating, decontaminating, and disposing of contaminated water and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354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.  Planning for contingencies and addressing infrastructure interdepend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354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.  Targeting impacts on human health and informing the public about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354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.  Protecting wastewater treatment and collec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3880" y="7621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heck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22860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vides the reader with a quick reference of key actions to take for decontamination wastewater preparation and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7621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For mor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5360" y="154944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ac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2133720"/>
            <a:ext cx="60199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Pett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, Regulatory Aff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23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02) 833-32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23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pettit@amsa-cleanwater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7920" y="6858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Understanding the Thr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18288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Why the issue of Decon Wastewater is important to util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3429000"/>
            <a:ext cx="67820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er &amp; System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-through &amp;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solids contamination/disposal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47920" y="2286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istory of the Decon Wastewater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1752480"/>
            <a:ext cx="7086600" cy="19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4772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Why it beg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4772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4772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ca Raton, Flor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4772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hrax Protoc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3880" y="7621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About the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1752480"/>
            <a:ext cx="70866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4772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gnment with USEPA and related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4772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the Decontamination Wastewater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4772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Purpo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74772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vide guidance to wastewater utilities to plan for, and react to, a malevolent incident involving CBR agents where decontamination activities may result in such agents entering the sewer system.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3880" y="7621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the Tool won’t cove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362320"/>
            <a:ext cx="701064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is document does not address malevolent attacks directed at the wastewater system or any other asset owned or operated by the wastewater utility.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47920" y="2286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Organization of the Decon Wastewater Planning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905120"/>
            <a:ext cx="69343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x chap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uide the reader from background on the issue through ways to minimize the thr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quick guide for utility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be available on the AMSA website (www.amsa-cleanwater.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2286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substances are we concerned abou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7880" y="162576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emical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2438280"/>
            <a:ext cx="3124440" cy="24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v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r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istering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lfur must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906480" cy="1019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105520" y="2438280"/>
            <a:ext cx="3657600" cy="24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od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drogen cyan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s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king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s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hos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5133960"/>
            <a:ext cx="334476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 chem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73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senic comp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73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dium fluoroace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73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thophosph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2286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substances are we concerned abou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7880" y="1625760"/>
            <a:ext cx="31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iological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91440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76520" y="2666880"/>
            <a:ext cx="4419360" cy="31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hr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lar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mmorhagic fe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ephal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2666880"/>
            <a:ext cx="3581280" cy="33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kettsi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cky Mountain spotted f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h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x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uli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otox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14:11:31Z</dcterms:created>
  <dc:creator>aispass</dc:creator>
  <dc:description/>
  <dc:language>en-US</dc:language>
  <cp:lastModifiedBy>Linda P. Warren</cp:lastModifiedBy>
  <dcterms:modified xsi:type="dcterms:W3CDTF">2005-01-24T18:48:29Z</dcterms:modified>
  <cp:revision>4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98113058</vt:r8>
  </property>
  <property fmtid="{D5CDD505-2E9C-101B-9397-08002B2CF9AE}" pid="3" name="_AuthorEmail">
    <vt:lpwstr>Alan.Ispass@CH2M.com</vt:lpwstr>
  </property>
  <property fmtid="{D5CDD505-2E9C-101B-9397-08002B2CF9AE}" pid="4" name="_AuthorEmailDisplayName">
    <vt:lpwstr>Ispass, Alan/WDC</vt:lpwstr>
  </property>
  <property fmtid="{D5CDD505-2E9C-101B-9397-08002B2CF9AE}" pid="5" name="_EmailSubject">
    <vt:lpwstr>Slides</vt:lpwstr>
  </property>
</Properties>
</file>