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15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0513C-48F1-49B7-BFE0-3AD9E29116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DD8A0-192C-46E3-95E4-FBA2C46DB6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542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542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C8842-15F2-4E8D-A0DB-EC6FFFFB1A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96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272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96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272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CBE74-9965-4CFB-A13F-5201E9FC28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D2396-B710-4B82-A66A-759EA0156D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8EAF6-85A6-45BA-95EF-329CCF23F3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542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A6F3A-61D8-4D09-9646-974B715719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D4C79-76B2-4A79-B51D-7D5B2B53EE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96A42-5D0D-4867-81C6-DAD0FDED25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542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1B230-CFFF-47E2-B9E1-03A5511FA9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542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542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677ED-0E1C-4773-93EC-9383CCB0E9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42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7CC29-962C-4F55-B5BC-2501E1CF98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DAA0-C657-4024-80EC-A12643EB7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resentation%20border%201" descr=""/>
          <p:cNvPicPr/>
          <p:nvPr/>
        </p:nvPicPr>
        <p:blipFill>
          <a:blip r:embed="rId2"/>
          <a:srcRect l="16667" t="5455" r="0" b="6364"/>
          <a:stretch/>
        </p:blipFill>
        <p:spPr>
          <a:xfrm>
            <a:off x="0" y="0"/>
            <a:ext cx="176688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523880" y="1295280"/>
            <a:ext cx="716292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CHCHP" descr=""/>
          <p:cNvPicPr/>
          <p:nvPr/>
        </p:nvPicPr>
        <p:blipFill>
          <a:blip r:embed="rId3"/>
          <a:stretch/>
        </p:blipFill>
        <p:spPr>
          <a:xfrm>
            <a:off x="7201080" y="6324480"/>
            <a:ext cx="1942920" cy="533520"/>
          </a:xfrm>
          <a:prstGeom prst="rect">
            <a:avLst/>
          </a:prstGeom>
          <a:ln w="0">
            <a:noFill/>
          </a:ln>
        </p:spPr>
      </p:pic>
      <p:pic>
        <p:nvPicPr>
          <p:cNvPr id="5" name="AMSA%20logo" descr=""/>
          <p:cNvPicPr/>
          <p:nvPr/>
        </p:nvPicPr>
        <p:blipFill>
          <a:blip r:embed="rId4"/>
          <a:stretch/>
        </p:blipFill>
        <p:spPr>
          <a:xfrm>
            <a:off x="7753320" y="0"/>
            <a:ext cx="1390680" cy="720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Fire-Decon1" descr=""/>
          <p:cNvPicPr/>
          <p:nvPr/>
        </p:nvPicPr>
        <p:blipFill>
          <a:blip r:embed="rId1"/>
          <a:srcRect l="1973" t="4299" r="0" b="15045"/>
          <a:stretch/>
        </p:blipFill>
        <p:spPr>
          <a:xfrm>
            <a:off x="0" y="0"/>
            <a:ext cx="4572000" cy="3432240"/>
          </a:xfrm>
          <a:prstGeom prst="rect">
            <a:avLst/>
          </a:prstGeom>
          <a:ln w="0">
            <a:noFill/>
          </a:ln>
        </p:spPr>
      </p:pic>
      <p:pic>
        <p:nvPicPr>
          <p:cNvPr id="44" name="HazMat1" descr=""/>
          <p:cNvPicPr/>
          <p:nvPr/>
        </p:nvPicPr>
        <p:blipFill>
          <a:blip r:embed="rId2">
            <a:lum bright="70000" contrast="-70000"/>
          </a:blip>
          <a:srcRect l="5000" t="7500" r="2500" b="1875"/>
          <a:stretch/>
        </p:blipFill>
        <p:spPr>
          <a:xfrm>
            <a:off x="4572000" y="0"/>
            <a:ext cx="4572000" cy="2987640"/>
          </a:xfrm>
          <a:prstGeom prst="rect">
            <a:avLst/>
          </a:prstGeom>
          <a:ln w="0">
            <a:noFill/>
          </a:ln>
        </p:spPr>
      </p:pic>
      <p:pic>
        <p:nvPicPr>
          <p:cNvPr id="45" name="APR_7706" descr=""/>
          <p:cNvPicPr/>
          <p:nvPr/>
        </p:nvPicPr>
        <p:blipFill>
          <a:blip r:embed="rId3">
            <a:lum bright="70000" contrast="-70000"/>
          </a:blip>
          <a:srcRect l="22222" t="0" r="6349" b="0"/>
          <a:stretch/>
        </p:blipFill>
        <p:spPr>
          <a:xfrm>
            <a:off x="0" y="2514600"/>
            <a:ext cx="9144000" cy="3995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ontamination Wastewater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Utility Planning T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76520" y="3504960"/>
            <a:ext cx="5867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ustainab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SA’s 2005 Winter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bruary 3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CHCHP" descr=""/>
          <p:cNvPicPr/>
          <p:nvPr/>
        </p:nvPicPr>
        <p:blipFill>
          <a:blip r:embed="rId4"/>
          <a:stretch/>
        </p:blipFill>
        <p:spPr>
          <a:xfrm>
            <a:off x="7201080" y="6323040"/>
            <a:ext cx="1942920" cy="533520"/>
          </a:xfrm>
          <a:prstGeom prst="rect">
            <a:avLst/>
          </a:prstGeom>
          <a:ln w="0">
            <a:noFill/>
          </a:ln>
        </p:spPr>
      </p:pic>
      <p:pic>
        <p:nvPicPr>
          <p:cNvPr id="49" name="AMSA%20logo" descr=""/>
          <p:cNvPicPr/>
          <p:nvPr/>
        </p:nvPicPr>
        <p:blipFill>
          <a:blip r:embed="rId5"/>
          <a:stretch/>
        </p:blipFill>
        <p:spPr>
          <a:xfrm>
            <a:off x="0" y="6097680"/>
            <a:ext cx="1467000" cy="760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2280" y="4876920"/>
            <a:ext cx="2971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Guy Aydlett:  Director of Water Quality, HRSD and Chair, AMSA Pretreatment and Hazardous Waste Committ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00800" y="4876920"/>
            <a:ext cx="2514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inda Warren: Director of Emergency Response Programs and Project Manager, CH2M H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59240" y="38088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otecting Wastewater Infrastructure Asset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447920" y="22860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What substances are we concerned abou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48960" y="1625760"/>
            <a:ext cx="427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adioactive Sub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2895480"/>
            <a:ext cx="3583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ericium-2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sium-1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balt-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odine-1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idium-1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952560" cy="847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029200" y="2895480"/>
            <a:ext cx="3124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ybdenum-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ton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um-2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ntium-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an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47920" y="22860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How can these substances enter the sewer system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18288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off from decontamination wash-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SWand%20Catch%20Basin1a" descr=""/>
          <p:cNvPicPr/>
          <p:nvPr/>
        </p:nvPicPr>
        <p:blipFill>
          <a:blip r:embed="rId1"/>
          <a:srcRect l="9600" t="9774" r="7200" b="9774"/>
          <a:stretch/>
        </p:blipFill>
        <p:spPr>
          <a:xfrm>
            <a:off x="4114800" y="2666880"/>
            <a:ext cx="2408400" cy="1717920"/>
          </a:xfrm>
          <a:prstGeom prst="rect">
            <a:avLst/>
          </a:prstGeom>
          <a:ln w="0">
            <a:noFill/>
          </a:ln>
        </p:spPr>
      </p:pic>
      <p:pic>
        <p:nvPicPr>
          <p:cNvPr id="90" name="MH%20Snow" descr=""/>
          <p:cNvPicPr/>
          <p:nvPr/>
        </p:nvPicPr>
        <p:blipFill>
          <a:blip r:embed="rId2">
            <a:lum contrast="-4000"/>
          </a:blip>
          <a:srcRect l="18757" t="16317" r="15871" b="16317"/>
          <a:stretch/>
        </p:blipFill>
        <p:spPr>
          <a:xfrm>
            <a:off x="1523880" y="2666880"/>
            <a:ext cx="2394000" cy="1743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295280" y="4495680"/>
            <a:ext cx="26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low around and through manhole co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449568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 catch basin inlets of combined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Floor%20Drain1" descr=""/>
          <p:cNvPicPr/>
          <p:nvPr/>
        </p:nvPicPr>
        <p:blipFill>
          <a:blip r:embed="rId3"/>
          <a:stretch/>
        </p:blipFill>
        <p:spPr>
          <a:xfrm>
            <a:off x="6705720" y="2666880"/>
            <a:ext cx="2273040" cy="1708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553080" y="449568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 a floor drain from interior decontam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47920" y="22860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How can these substances enter the sewer system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16002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ontamination Sh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51814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Decon%20Shower%20Portable1" descr=""/>
          <p:cNvPicPr/>
          <p:nvPr/>
        </p:nvPicPr>
        <p:blipFill>
          <a:blip r:embed="rId1"/>
          <a:stretch/>
        </p:blipFill>
        <p:spPr>
          <a:xfrm>
            <a:off x="5867280" y="3809880"/>
            <a:ext cx="2590920" cy="1943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791320" y="57913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Decon%20Shower%20Fixed2" descr=""/>
          <p:cNvPicPr/>
          <p:nvPr/>
        </p:nvPicPr>
        <p:blipFill>
          <a:blip r:embed="rId2"/>
          <a:stretch/>
        </p:blipFill>
        <p:spPr>
          <a:xfrm>
            <a:off x="1523880" y="2362320"/>
            <a:ext cx="2374920" cy="2004840"/>
          </a:xfrm>
          <a:prstGeom prst="rect">
            <a:avLst/>
          </a:prstGeom>
          <a:ln w="0">
            <a:noFill/>
          </a:ln>
        </p:spPr>
      </p:pic>
      <p:pic>
        <p:nvPicPr>
          <p:cNvPr id="101" name="Decon%20Shower%20Trailer1" descr=""/>
          <p:cNvPicPr/>
          <p:nvPr/>
        </p:nvPicPr>
        <p:blipFill>
          <a:blip r:embed="rId3"/>
          <a:stretch/>
        </p:blipFill>
        <p:spPr>
          <a:xfrm>
            <a:off x="3505320" y="3276720"/>
            <a:ext cx="2666880" cy="1833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219320" y="43434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22860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How can these substances enter the sewer system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601956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 and intentional discharge by emergency perso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BR-exposed persons washing and laun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reta from exposed per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osal of contaminated drinking water from distribution systems and storage t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447920" y="30492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Minimizing the threat thru </a:t>
            </a:r>
            <a:r>
              <a:rPr b="1" lang="en-US" sz="3200" spc="-1" strike="noStrike">
                <a:solidFill>
                  <a:srgbClr val="000066"/>
                </a:solidFill>
                <a:latin typeface="Arial Narrow"/>
              </a:rPr>
              <a:t>Planning, Coordination &amp;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2362320"/>
            <a:ext cx="6858000" cy="31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 an Emergency Response Plan that includes info related to Decontamination Wastewat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339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ision-making framework for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339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dures for preparedness, response and incident manag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339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ct info for agencies to assist and agencies to notif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3560" y="1549440"/>
            <a:ext cx="32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ithin the utility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47920" y="30492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Minimizing the threat thru </a:t>
            </a:r>
            <a:r>
              <a:rPr b="1" lang="en-US" sz="3200" spc="-1" strike="noStrike">
                <a:solidFill>
                  <a:srgbClr val="000066"/>
                </a:solidFill>
                <a:latin typeface="Arial Narrow"/>
              </a:rPr>
              <a:t>Planning, Coordination &amp;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590920"/>
            <a:ext cx="65530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tain and distribute supplies and equipment to contain decon waste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Personal Protective Equipment (PP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 mutual aid agreements (other utilities, haul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3560" y="1549440"/>
            <a:ext cx="32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ithin the utility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447920" y="228600"/>
            <a:ext cx="7010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Minimizing the threat thru </a:t>
            </a:r>
            <a:r>
              <a:rPr b="1" lang="en-US" sz="3200" spc="-1" strike="noStrike">
                <a:solidFill>
                  <a:srgbClr val="000066"/>
                </a:solidFill>
                <a:latin typeface="Arial Narrow"/>
              </a:rPr>
              <a:t>Planning, Coordination &amp;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2590920"/>
            <a:ext cx="74674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 protocols and agreements to assure utility no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ite representatives to train with utility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st with developing procedures and identifying labs for rapid determination of CBR sub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aborate in designing methods for containing decontamination wastewater on-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15238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ith emergency managers and first responder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47920" y="228600"/>
            <a:ext cx="72388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Minimizing the threat thru </a:t>
            </a:r>
            <a:r>
              <a:rPr b="1" lang="en-US" sz="3200" spc="-1" strike="noStrike">
                <a:solidFill>
                  <a:srgbClr val="000066"/>
                </a:solidFill>
                <a:latin typeface="Arial Narrow"/>
              </a:rPr>
              <a:t>Planning, Coordination &amp;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2666880"/>
            <a:ext cx="7238880" cy="31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information for proper deployment of equipment and materials to prevent decon wastewater from entering sewe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ourage the use of a safe tracer d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pare brief instructions ready to give to persons involved in a decon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320" indent="-2235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 containment procedures and contact in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15238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ith emergency managers and first responder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47920" y="22860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Minimizing the threat thru </a:t>
            </a:r>
            <a:r>
              <a:rPr b="1" lang="en-US" sz="3200" spc="-1" strike="noStrike">
                <a:solidFill>
                  <a:srgbClr val="000066"/>
                </a:solidFill>
                <a:latin typeface="Arial Narrow"/>
              </a:rPr>
              <a:t>Planning, Coordination &amp;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2971800"/>
            <a:ext cx="70102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et with key customers (hospitals, clinics, laboratories and industr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rporate notification requirement into pretreatment perm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end pretreatment regulations to require key customers to develop a plan for containing decontamination wastewa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52480" y="1676520"/>
            <a:ext cx="678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ith customers and agencies that may discharge decon wastewater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22860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Minimizing the threat thru </a:t>
            </a:r>
            <a:r>
              <a:rPr b="1" lang="en-US" sz="3200" spc="-1" strike="noStrike">
                <a:solidFill>
                  <a:srgbClr val="000066"/>
                </a:solidFill>
                <a:latin typeface="Arial Narrow"/>
              </a:rPr>
              <a:t>Planning, Coordination &amp;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2971800"/>
            <a:ext cx="6629400" cy="24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 with water utilities to establish decon disposal proced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404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o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404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-situ trea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404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mporary storage prior to dis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16765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ith customers and agencies that may discharge decon wastewater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47920" y="22860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What is Decontamination (Decon) Wastewate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96240" y="1598760"/>
            <a:ext cx="46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or the purpose of this tool…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2286000"/>
            <a:ext cx="632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tewater generated as a result of decontamination activities performed after a terrorist attack wit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mic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iologic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adioact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ub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9880" y="5181480"/>
            <a:ext cx="914400" cy="860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819520" y="5105520"/>
            <a:ext cx="906480" cy="1019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800600" y="5181480"/>
            <a:ext cx="952560" cy="847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2895480" y="4495680"/>
            <a:ext cx="2743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C  B  R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43000" y="22860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34308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Minimizing the Threat thru </a:t>
            </a:r>
            <a:r>
              <a:rPr b="1" lang="en-US" sz="3200" spc="-1" strike="noStrike">
                <a:solidFill>
                  <a:srgbClr val="000066"/>
                </a:solidFill>
                <a:latin typeface="Arial Narrow"/>
              </a:rPr>
              <a:t>Physical Mea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81080" y="2743200"/>
            <a:ext cx="6019920" cy="47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74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1440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74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in seals, manhole shields, pan inserts, berms and drain plu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74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1440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74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ps, pools, or improvised dikes that retain the runoff; storage and treatment of decon shower w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74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rb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1440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74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ls, foams and soli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1440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74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74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167652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eventing decontamination wastewater from entering the sewer system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Mitigating Impacts if decon wastewater reaches the se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agents minimized by calcium hypochlorite, sodium hydroxide or the U.S. Military’s Decontamination Solution No.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, but not all, bacteria, viruses and toxins can be inactivated with a sufficient contact time with chlor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oactive materials removed only through advanced treatment  (ultrafiltration and reverse osmosi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rate of entry to minimize surges that affect bugs at the plan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Minimizing the Threat thru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 Narrow"/>
              </a:rPr>
              <a:t>Training and Information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575"/>
              </a:spcBef>
              <a:spcAft>
                <a:spcPts val="799"/>
              </a:spcAft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ovide periodic training for utility staff in emergency preparedness, response, and recove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575"/>
              </a:spcBef>
              <a:spcAft>
                <a:spcPts val="799"/>
              </a:spcAft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est and evaluate emergency plans and procedures through tabletop, functional, and full-scale exercises.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575"/>
              </a:spcBef>
              <a:spcAft>
                <a:spcPts val="799"/>
              </a:spcAft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articipate with other utilities, local emergency management agencies, regulators and first responder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575"/>
              </a:spcBef>
              <a:spcAft>
                <a:spcPts val="799"/>
              </a:spcAft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tay abreast of new legislation and regulations, industry research and newly developed guidance and protocols (visit http://www.amsa-cleanwater.org/advocacy/security/)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371600" y="22860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What to do to prepare and What to look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1981080"/>
            <a:ext cx="66294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cts (First Responders, Utilitie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ills/mock-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ility inspection (mobile &amp; fix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 containment/ho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llow-up (treatment &amp; dispos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447920" y="68580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On-going Research and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2971800"/>
            <a:ext cx="6019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15238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PA is working with 15 other agencies 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00200" y="2133720"/>
            <a:ext cx="7543800" cy="42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3542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Protecting physical and cyber infra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3542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Identifying drinking water contamin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3542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 Improving analytical methodologies and monitoring systems for drinking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3542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.  Containing, treating, decontaminating, and disposing of contaminated water and 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3542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.  Planning for contingencies and addressing infrastructure interdependen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3542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.  Targeting impacts on human health and informing the public about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3542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.  Protecting wastewater treatment and collec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523880" y="7621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Check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228600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vides the reader with a quick reference of key actions to take for decontamination wastewater preparation and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3880" y="7621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For mor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55360" y="154944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act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2133720"/>
            <a:ext cx="60199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 Pett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r, Regulatory Aff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320" indent="-223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02) 833-32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320" indent="-223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pettit@amsa-cleanwater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47920" y="6858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Understanding the Thr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182880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Why the issue of Decon Wastewater is important to utili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3429000"/>
            <a:ext cx="67820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er &amp; System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-through &amp; inter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osolids contamination/disposal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47920" y="22860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History of the Decon Wastewater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1752480"/>
            <a:ext cx="7086600" cy="19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4772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Why it beg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28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4772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28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4772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ca Raton, Flor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28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4772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hrax Protoco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23880" y="7621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About the T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1752480"/>
            <a:ext cx="708660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4772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ignment with USEPA and related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4772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the Decontamination Wastewater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4772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Purpo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74772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vide guidance to wastewater utilities to plan for, and react to, a malevolent incident involving CBR agents where decontamination activities may result in such agents entering the sewer system.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3880" y="76212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What the Tool won’t cover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362320"/>
            <a:ext cx="701064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is document does not address malevolent attacks directed at the wastewater system or any other asset owned or operated by the wastewater utility.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447920" y="22860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Organization of the Decon Wastewater Planning T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905120"/>
            <a:ext cx="693432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x chapt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uide the reader from background on the issue through ways to minimize the thr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eck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quick guide for utility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ferenc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ll be available on the AMSA website (www.amsa-cleanwater.or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22860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What substances are we concerned abou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7880" y="1625760"/>
            <a:ext cx="30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emical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2438280"/>
            <a:ext cx="3124440" cy="24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rve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r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istering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lfur must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wi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906480" cy="1019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105520" y="2438280"/>
            <a:ext cx="3657600" cy="24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od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ydrogen cyan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s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king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osg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phosg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71800" y="5133960"/>
            <a:ext cx="334476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strial chem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120" indent="-173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senic compou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120" indent="-173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dium fluoroace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120" indent="-173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thophosph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447920" y="22860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What substances are we concerned abou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47880" y="1625760"/>
            <a:ext cx="31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iological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91440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676520" y="2666880"/>
            <a:ext cx="4419360" cy="31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hr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lar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p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mmorhagic fe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cephal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57800" y="2666880"/>
            <a:ext cx="3581280" cy="33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ckettsi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cky Mountain spotted fe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h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x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c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uli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3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otox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5T14:11:31Z</dcterms:created>
  <dc:creator>aispass</dc:creator>
  <dc:description/>
  <dc:language>en-US</dc:language>
  <cp:lastModifiedBy>Linda P. Warren</cp:lastModifiedBy>
  <dcterms:modified xsi:type="dcterms:W3CDTF">2005-01-24T18:48:29Z</dcterms:modified>
  <cp:revision>4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98113058</vt:r8>
  </property>
  <property fmtid="{D5CDD505-2E9C-101B-9397-08002B2CF9AE}" pid="3" name="_AuthorEmail">
    <vt:lpwstr>Alan.Ispass@CH2M.com</vt:lpwstr>
  </property>
  <property fmtid="{D5CDD505-2E9C-101B-9397-08002B2CF9AE}" pid="4" name="_AuthorEmailDisplayName">
    <vt:lpwstr>Ispass, Alan/WDC</vt:lpwstr>
  </property>
  <property fmtid="{D5CDD505-2E9C-101B-9397-08002B2CF9AE}" pid="5" name="_EmailSubject">
    <vt:lpwstr>Slides</vt:lpwstr>
  </property>
</Properties>
</file>