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3680" y="1628640"/>
            <a:ext cx="86090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93680" y="3906720"/>
            <a:ext cx="86090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3680" y="1628640"/>
            <a:ext cx="42012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5480" y="1628640"/>
            <a:ext cx="42012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3680" y="3906720"/>
            <a:ext cx="42012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05480" y="3906720"/>
            <a:ext cx="42012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628640"/>
            <a:ext cx="27720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04640" y="1628640"/>
            <a:ext cx="27720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1628640"/>
            <a:ext cx="27720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93680" y="3906720"/>
            <a:ext cx="27720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04640" y="3906720"/>
            <a:ext cx="27720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3906720"/>
            <a:ext cx="27720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93680" y="1628640"/>
            <a:ext cx="860904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93680" y="1628640"/>
            <a:ext cx="860904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3680" y="1628640"/>
            <a:ext cx="420120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05480" y="1628640"/>
            <a:ext cx="420120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93680" y="514440"/>
            <a:ext cx="862344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628640"/>
            <a:ext cx="42012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5480" y="1628640"/>
            <a:ext cx="420120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93680" y="3906720"/>
            <a:ext cx="42012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3680" y="1628640"/>
            <a:ext cx="420120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5480" y="1628640"/>
            <a:ext cx="42012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05480" y="3906720"/>
            <a:ext cx="42012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3680" y="1628640"/>
            <a:ext cx="42012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5480" y="1628640"/>
            <a:ext cx="420120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93680" y="3906720"/>
            <a:ext cx="86090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30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628640"/>
            <a:ext cx="8609040" cy="43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76000"/>
          </a:bodyPr>
          <a:p>
            <a:pPr marL="352080" indent="-35208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32320" indent="-35316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99240" indent="-34236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89120" indent="-30276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38680" indent="-25416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38680" indent="-254160">
              <a:spcBef>
                <a:spcPts val="2251"/>
              </a:spcBef>
              <a:buClr>
                <a:srgbClr val="ffffff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38680" indent="-254160">
              <a:spcBef>
                <a:spcPts val="2251"/>
              </a:spcBef>
              <a:buClr>
                <a:srgbClr val="ffffff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5"/>
          <p:cNvSpPr/>
          <p:nvPr/>
        </p:nvSpPr>
        <p:spPr>
          <a:xfrm>
            <a:off x="0" y="3240"/>
            <a:ext cx="9144000" cy="461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Rectangle 6"/>
          <p:cNvSpPr/>
          <p:nvPr/>
        </p:nvSpPr>
        <p:spPr>
          <a:xfrm>
            <a:off x="0" y="0"/>
            <a:ext cx="9144000" cy="46432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0" y="1538280"/>
            <a:ext cx="8972640" cy="2004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limate Change: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It’s all about Wat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Picture 4" descr="color_OCSD_trans"/>
          <p:cNvPicPr/>
          <p:nvPr/>
        </p:nvPicPr>
        <p:blipFill>
          <a:blip r:embed="rId2"/>
          <a:stretch/>
        </p:blipFill>
        <p:spPr>
          <a:xfrm>
            <a:off x="7466040" y="5427720"/>
            <a:ext cx="1227240" cy="1227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78000" y="4844880"/>
            <a:ext cx="8635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ward M. Torr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nge County Sanitation District, C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ir of NACWA Climate Change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9" descr="NACWA"/>
          <p:cNvPicPr/>
          <p:nvPr/>
        </p:nvPicPr>
        <p:blipFill>
          <a:blip r:embed="rId3"/>
          <a:stretch/>
        </p:blipFill>
        <p:spPr>
          <a:xfrm>
            <a:off x="4854600" y="6019920"/>
            <a:ext cx="2449440" cy="530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11"/>
          <p:cNvSpPr/>
          <p:nvPr/>
        </p:nvSpPr>
        <p:spPr>
          <a:xfrm>
            <a:off x="0" y="1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ACWA’s Flow Series Web Seminar 2 – March 10, 2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786200" y="4624560"/>
            <a:ext cx="4357800" cy="2233440"/>
          </a:xfrm>
          <a:prstGeom prst="rect">
            <a:avLst/>
          </a:prstGeom>
          <a:solidFill>
            <a:srgbClr val="0043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786200" y="5560920"/>
            <a:ext cx="4357800" cy="1297080"/>
          </a:xfrm>
          <a:prstGeom prst="rect">
            <a:avLst/>
          </a:prstGeom>
          <a:solidFill>
            <a:srgbClr val="7d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3680" y="514440"/>
            <a:ext cx="8623440" cy="728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ndustry / Research Need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93320" y="1628640"/>
            <a:ext cx="4616280" cy="43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459000" indent="-459000">
              <a:spcBef>
                <a:spcPts val="1375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mprove mode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predict climate chang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 watershed sc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9000" indent="-459000">
              <a:spcBef>
                <a:spcPts val="1375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Assess vulner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flood risk from sea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vel rise and extrem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infall ev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9000" indent="-459000">
              <a:spcBef>
                <a:spcPts val="1375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mprove decision support too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at incorporate climate change risks with other utility ris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9000" indent="-459000">
              <a:spcBef>
                <a:spcPts val="1375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03720" y="1628640"/>
            <a:ext cx="4790880" cy="29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3000"/>
          </a:bodyPr>
          <a:p>
            <a:pPr marL="430920" indent="-430920">
              <a:spcBef>
                <a:spcPts val="1375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Create national</a:t>
            </a:r>
            <a:br>
              <a:rPr sz="2600"/>
            </a:b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databases</a:t>
            </a:r>
            <a:br>
              <a:rPr sz="400"/>
            </a:br>
            <a:r>
              <a:rPr b="1" lang="en-US" sz="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st and current stat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f climate variab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e studies / lessons learned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om utilities adapting to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chan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421400" y="4630680"/>
            <a:ext cx="1722600" cy="2227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NACWA"/>
          <p:cNvPicPr/>
          <p:nvPr/>
        </p:nvPicPr>
        <p:blipFill>
          <a:blip r:embed="rId2"/>
          <a:stretch/>
        </p:blipFill>
        <p:spPr>
          <a:xfrm>
            <a:off x="4937040" y="4807080"/>
            <a:ext cx="2282760" cy="4935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9"/>
          <p:cNvSpPr/>
          <p:nvPr/>
        </p:nvSpPr>
        <p:spPr>
          <a:xfrm>
            <a:off x="5227560" y="5667480"/>
            <a:ext cx="170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ST CENTUR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3151080" y="3911760"/>
            <a:ext cx="5759640" cy="143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dward M. Torres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WA Climate Change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torres@ocsd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191040" y="5850000"/>
            <a:ext cx="595296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ange County Sanitation District, C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ocsd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color_OCSD_trans"/>
          <p:cNvPicPr/>
          <p:nvPr/>
        </p:nvPicPr>
        <p:blipFill>
          <a:blip r:embed="rId1"/>
          <a:stretch/>
        </p:blipFill>
        <p:spPr>
          <a:xfrm>
            <a:off x="1122480" y="4629240"/>
            <a:ext cx="1908000" cy="190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1308240" y="244440"/>
            <a:ext cx="6443640" cy="3508560"/>
          </a:xfrm>
          <a:prstGeom prst="rect">
            <a:avLst/>
          </a:prstGeom>
          <a:solidFill>
            <a:srgbClr val="0043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1308240" y="1714680"/>
            <a:ext cx="6443640" cy="2038320"/>
          </a:xfrm>
          <a:prstGeom prst="rect">
            <a:avLst/>
          </a:prstGeom>
          <a:solidFill>
            <a:srgbClr val="7d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5203800" y="252360"/>
            <a:ext cx="2548080" cy="3500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NACWA"/>
          <p:cNvPicPr/>
          <p:nvPr/>
        </p:nvPicPr>
        <p:blipFill>
          <a:blip r:embed="rId3"/>
          <a:stretch/>
        </p:blipFill>
        <p:spPr>
          <a:xfrm>
            <a:off x="1558800" y="530280"/>
            <a:ext cx="3375000" cy="776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1"/>
          <p:cNvSpPr/>
          <p:nvPr/>
        </p:nvSpPr>
        <p:spPr>
          <a:xfrm>
            <a:off x="1620360" y="1967040"/>
            <a:ext cx="3251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ST CENTU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low Series Web Semin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7840" y="438120"/>
            <a:ext cx="8531280" cy="89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WA’s Climate Change Committee Activities</a:t>
            </a:r>
            <a:br>
              <a:rPr sz="2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Greenhouse Gas Emissions &amp; Mitigatio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3680" y="1668240"/>
            <a:ext cx="5200560" cy="432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8000"/>
          </a:bodyPr>
          <a:p>
            <a:pPr marL="407880" indent="-407880">
              <a:lnSpc>
                <a:spcPts val="2599"/>
              </a:lnSpc>
              <a:spcBef>
                <a:spcPts val="1749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/ IPCC invento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GHG e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7880" indent="-407880">
              <a:lnSpc>
                <a:spcPts val="2599"/>
              </a:lnSpc>
              <a:spcBef>
                <a:spcPts val="1749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Office of Wat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mate change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7880" indent="-407880">
              <a:lnSpc>
                <a:spcPts val="2599"/>
              </a:lnSpc>
              <a:spcBef>
                <a:spcPts val="1749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mate change white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7880" indent="-407880">
              <a:lnSpc>
                <a:spcPts val="2599"/>
              </a:lnSpc>
              <a:spcBef>
                <a:spcPts val="1749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er on carbon tr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7880" indent="-407880">
              <a:lnSpc>
                <a:spcPts val="2599"/>
              </a:lnSpc>
              <a:spcBef>
                <a:spcPts val="1749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solids renewab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7880" indent="-407880">
              <a:lnSpc>
                <a:spcPts val="2599"/>
              </a:lnSpc>
              <a:spcBef>
                <a:spcPts val="1749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ory development advoc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7880" indent="-407880">
              <a:lnSpc>
                <a:spcPts val="2599"/>
              </a:lnSpc>
              <a:spcBef>
                <a:spcPts val="1749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153040" y="1577880"/>
            <a:ext cx="3990960" cy="528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7480" y="423720"/>
            <a:ext cx="6521400" cy="1262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WA’s Climate Change Committee Activities</a:t>
            </a:r>
            <a:br>
              <a:rPr sz="28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dapt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9520" y="1569600"/>
            <a:ext cx="4641840" cy="528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63680" indent="-463680">
              <a:spcBef>
                <a:spcPts val="1749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on wa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wastewater adaptation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749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ve advocac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f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749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mate-ready water utilities working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749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mate change risk assessment tool working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5" descr="http://www.amwa.net/galleries/default-image/ConfrontingClimateChangeCover.jpg"/>
          <p:cNvPicPr/>
          <p:nvPr/>
        </p:nvPicPr>
        <p:blipFill>
          <a:blip r:embed="rId1"/>
          <a:stretch/>
        </p:blipFill>
        <p:spPr>
          <a:xfrm>
            <a:off x="5099040" y="1601640"/>
            <a:ext cx="40449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0280" y="685440"/>
            <a:ext cx="8623440" cy="114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ajor Effects of Climate Change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or Wastewater Sector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2" name="Picture 28" descr="See full size image"/>
          <p:cNvPicPr/>
          <p:nvPr/>
        </p:nvPicPr>
        <p:blipFill>
          <a:blip r:embed="rId1"/>
          <a:stretch/>
        </p:blipFill>
        <p:spPr>
          <a:xfrm>
            <a:off x="-4341960" y="4516560"/>
            <a:ext cx="684360" cy="266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95400" y="2475000"/>
            <a:ext cx="2093760" cy="3419280"/>
          </a:xfrm>
          <a:prstGeom prst="rect">
            <a:avLst/>
          </a:prstGeom>
          <a:solidFill>
            <a:srgbClr val="006666"/>
          </a:solidFill>
          <a:ln w="1908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a Lev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25" descr="See full size image"/>
          <p:cNvPicPr/>
          <p:nvPr/>
        </p:nvPicPr>
        <p:blipFill>
          <a:blip r:embed="rId2"/>
          <a:srcRect l="0" t="0" r="24407" b="0"/>
          <a:stretch/>
        </p:blipFill>
        <p:spPr>
          <a:xfrm>
            <a:off x="95400" y="3792600"/>
            <a:ext cx="2085840" cy="210168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3"/>
          <p:cNvGrpSpPr/>
          <p:nvPr/>
        </p:nvGrpSpPr>
        <p:grpSpPr>
          <a:xfrm>
            <a:off x="2367000" y="2475000"/>
            <a:ext cx="2098800" cy="3419280"/>
            <a:chOff x="2367000" y="2475000"/>
            <a:chExt cx="2098800" cy="3419280"/>
          </a:xfrm>
        </p:grpSpPr>
        <p:sp>
          <p:nvSpPr>
            <p:cNvPr id="56" name="Rectangle 5"/>
            <p:cNvSpPr/>
            <p:nvPr/>
          </p:nvSpPr>
          <p:spPr>
            <a:xfrm>
              <a:off x="2373120" y="2475000"/>
              <a:ext cx="2092680" cy="3419280"/>
            </a:xfrm>
            <a:prstGeom prst="rect">
              <a:avLst/>
            </a:prstGeom>
            <a:solidFill>
              <a:srgbClr val="006666"/>
            </a:solidFill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Warmer, Shorter Win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" name="Picture 2" descr="C:\Documents and Settings\kardos\Local Settings\Temporary Internet Files\Content.IE5\LAE30U3W\MPj04479030000[1].jpg"/>
            <p:cNvPicPr/>
            <p:nvPr/>
          </p:nvPicPr>
          <p:blipFill>
            <a:blip r:embed="rId3"/>
            <a:stretch/>
          </p:blipFill>
          <p:spPr>
            <a:xfrm>
              <a:off x="2367000" y="3773520"/>
              <a:ext cx="2092680" cy="212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12"/>
          <p:cNvGrpSpPr/>
          <p:nvPr/>
        </p:nvGrpSpPr>
        <p:grpSpPr>
          <a:xfrm>
            <a:off x="4643280" y="2475000"/>
            <a:ext cx="2094120" cy="3419280"/>
            <a:chOff x="4643280" y="2475000"/>
            <a:chExt cx="2094120" cy="3419280"/>
          </a:xfrm>
        </p:grpSpPr>
        <p:sp>
          <p:nvSpPr>
            <p:cNvPr id="59" name="Rectangle 7"/>
            <p:cNvSpPr/>
            <p:nvPr/>
          </p:nvSpPr>
          <p:spPr>
            <a:xfrm>
              <a:off x="4643280" y="2475000"/>
              <a:ext cx="2094120" cy="3419280"/>
            </a:xfrm>
            <a:prstGeom prst="rect">
              <a:avLst/>
            </a:prstGeom>
            <a:solidFill>
              <a:srgbClr val="006666"/>
            </a:solidFill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Warmer, Drier Summ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" name="Picture 3" descr="C:\Documents and Settings\kardos\My Documents\My Pictures\Microsoft Clip Organizer\j0437341.jpg"/>
            <p:cNvPicPr/>
            <p:nvPr/>
          </p:nvPicPr>
          <p:blipFill>
            <a:blip r:embed="rId4"/>
            <a:stretch/>
          </p:blipFill>
          <p:spPr>
            <a:xfrm>
              <a:off x="4672080" y="3792600"/>
              <a:ext cx="2045520" cy="208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11"/>
          <p:cNvGrpSpPr/>
          <p:nvPr/>
        </p:nvGrpSpPr>
        <p:grpSpPr>
          <a:xfrm>
            <a:off x="6916680" y="2475000"/>
            <a:ext cx="2168640" cy="3419280"/>
            <a:chOff x="6916680" y="2475000"/>
            <a:chExt cx="2168640" cy="3419280"/>
          </a:xfrm>
        </p:grpSpPr>
        <p:sp>
          <p:nvSpPr>
            <p:cNvPr id="62" name="Rectangle 8"/>
            <p:cNvSpPr/>
            <p:nvPr/>
          </p:nvSpPr>
          <p:spPr>
            <a:xfrm>
              <a:off x="6916680" y="2475000"/>
              <a:ext cx="2168640" cy="3419280"/>
            </a:xfrm>
            <a:prstGeom prst="rect">
              <a:avLst/>
            </a:prstGeom>
            <a:solidFill>
              <a:srgbClr val="006666"/>
            </a:solidFill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More Intense Rainfall Eve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" name="Picture 7" descr="http://blog.nj.com/jerseyblogs/2007/08/large_hoboken-flooding-august-8-2007-9.jpg"/>
            <p:cNvPicPr/>
            <p:nvPr/>
          </p:nvPicPr>
          <p:blipFill>
            <a:blip r:embed="rId5"/>
            <a:stretch/>
          </p:blipFill>
          <p:spPr>
            <a:xfrm>
              <a:off x="6935760" y="3816360"/>
              <a:ext cx="2125800" cy="2048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:\dept\gmo\150\152\Graphic Services\PICTURES\Plant 2\DCP_0409.JPG"/>
          <p:cNvPicPr/>
          <p:nvPr/>
        </p:nvPicPr>
        <p:blipFill>
          <a:blip r:embed="rId1"/>
          <a:stretch/>
        </p:blipFill>
        <p:spPr>
          <a:xfrm>
            <a:off x="425520" y="1244520"/>
            <a:ext cx="1636560" cy="1446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680" y="304560"/>
            <a:ext cx="8623440" cy="618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rivers for Adapt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425520" y="798480"/>
          <a:ext cx="8367480" cy="6039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5520" y="798480"/>
                    <a:ext cx="836748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4"/>
          <p:cNvSpPr/>
          <p:nvPr/>
        </p:nvSpPr>
        <p:spPr>
          <a:xfrm>
            <a:off x="579960" y="1765440"/>
            <a:ext cx="1355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alibri"/>
              </a:rPr>
              <a:t>Effects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Calibri"/>
              </a:rPr>
              <a:t>on WWT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48440" y="561600"/>
            <a:ext cx="3789360" cy="114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hat i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ot Know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0" name="Picture 1" descr="H:\dept\gmo\150\152\Graphic Services\PICTURES\DONT USE Stock Photos\FREE_Stockxchng\190931_6472.jpg"/>
          <p:cNvPicPr/>
          <p:nvPr/>
        </p:nvPicPr>
        <p:blipFill>
          <a:blip r:embed="rId1"/>
          <a:srcRect l="0" t="-134" r="0" b="0"/>
          <a:stretch/>
        </p:blipFill>
        <p:spPr>
          <a:xfrm>
            <a:off x="0" y="0"/>
            <a:ext cx="49989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221440" y="2090880"/>
            <a:ext cx="3922560" cy="389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63680" indent="-463680">
              <a:spcBef>
                <a:spcPts val="200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itud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mp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00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ic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00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93320" y="1666800"/>
            <a:ext cx="5149800" cy="423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8000"/>
          </a:bodyPr>
          <a:p>
            <a:pPr marL="407880" indent="-407880">
              <a:spcBef>
                <a:spcPts val="1749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limate changes are expected over what period of 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7880" indent="-407880">
              <a:spcBef>
                <a:spcPts val="1749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threshold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onsequences for key assets and syste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7880" indent="-407880">
              <a:spcBef>
                <a:spcPts val="1749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adaptive responses avoid or reduce expected consequenc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se key asse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0280" y="419040"/>
            <a:ext cx="8623440" cy="184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orporate climate change into adaptive planning efforts</a:t>
            </a:r>
            <a:br>
              <a:rPr sz="24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Risk Management Questions</a:t>
            </a:r>
            <a:br>
              <a:rPr sz="54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4" name="Picture 5" descr="H:\dept\gmo\150\152\Graphic Services\PICTURES\misc pics_signs_graphics\Tsunami Sign 2 006.jpg"/>
          <p:cNvPicPr/>
          <p:nvPr/>
        </p:nvPicPr>
        <p:blipFill>
          <a:blip r:embed="rId1"/>
          <a:stretch/>
        </p:blipFill>
        <p:spPr>
          <a:xfrm>
            <a:off x="5504040" y="1770120"/>
            <a:ext cx="3639960" cy="251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H:\dept\gmo\150\152\Graphic Services\PICTURES\Collections\OCSD SSO Training Facility\150 gpm.JPG"/>
          <p:cNvPicPr/>
          <p:nvPr/>
        </p:nvPicPr>
        <p:blipFill>
          <a:blip r:embed="rId2"/>
          <a:stretch/>
        </p:blipFill>
        <p:spPr>
          <a:xfrm>
            <a:off x="5504040" y="4557600"/>
            <a:ext cx="3639960" cy="23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88"/>
          <p:cNvSpPr/>
          <p:nvPr/>
        </p:nvSpPr>
        <p:spPr>
          <a:xfrm>
            <a:off x="0" y="3476520"/>
            <a:ext cx="9144000" cy="1478160"/>
          </a:xfrm>
          <a:prstGeom prst="rect">
            <a:avLst/>
          </a:prstGeom>
          <a:solidFill>
            <a:srgbClr val="ffc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187"/>
          <p:cNvSpPr/>
          <p:nvPr/>
        </p:nvSpPr>
        <p:spPr>
          <a:xfrm>
            <a:off x="0" y="2722680"/>
            <a:ext cx="9144000" cy="753840"/>
          </a:xfrm>
          <a:prstGeom prst="rect">
            <a:avLst/>
          </a:prstGeom>
          <a:solidFill>
            <a:srgbClr val="fdff6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86"/>
          <p:cNvSpPr/>
          <p:nvPr/>
        </p:nvSpPr>
        <p:spPr>
          <a:xfrm>
            <a:off x="0" y="2104920"/>
            <a:ext cx="9144000" cy="627120"/>
          </a:xfrm>
          <a:prstGeom prst="rect">
            <a:avLst/>
          </a:prstGeom>
          <a:solidFill>
            <a:srgbClr val="c9925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185"/>
          <p:cNvSpPr/>
          <p:nvPr/>
        </p:nvSpPr>
        <p:spPr>
          <a:xfrm>
            <a:off x="0" y="1424160"/>
            <a:ext cx="9144000" cy="680760"/>
          </a:xfrm>
          <a:prstGeom prst="rect">
            <a:avLst/>
          </a:prstGeom>
          <a:solidFill>
            <a:srgbClr val="92d05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3405240" y="3478320"/>
            <a:ext cx="1611360" cy="392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AP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ounded Rectangle 10"/>
          <p:cNvSpPr/>
          <p:nvPr/>
        </p:nvSpPr>
        <p:spPr>
          <a:xfrm>
            <a:off x="2498760" y="757080"/>
            <a:ext cx="3424320" cy="412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ACTS OF CLIMATE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ounded Rectangle 29"/>
          <p:cNvSpPr/>
          <p:nvPr/>
        </p:nvSpPr>
        <p:spPr>
          <a:xfrm>
            <a:off x="2868480" y="2730600"/>
            <a:ext cx="2684520" cy="395280"/>
          </a:xfrm>
          <a:prstGeom prst="roundRect">
            <a:avLst>
              <a:gd name="adj" fmla="val 16667"/>
            </a:avLst>
          </a:prstGeom>
          <a:solidFill>
            <a:srgbClr val="fdff6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MAINING LIFE of AS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ounded Rectangle 30"/>
          <p:cNvSpPr/>
          <p:nvPr/>
        </p:nvSpPr>
        <p:spPr>
          <a:xfrm>
            <a:off x="3201840" y="1436760"/>
            <a:ext cx="2017800" cy="3477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EAR TERM RIS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3"/>
          <p:cNvSpPr/>
          <p:nvPr/>
        </p:nvSpPr>
        <p:spPr>
          <a:xfrm>
            <a:off x="3174840" y="4214880"/>
            <a:ext cx="2071800" cy="423720"/>
          </a:xfrm>
          <a:prstGeom prst="roundRect">
            <a:avLst>
              <a:gd name="adj" fmla="val 16667"/>
            </a:avLst>
          </a:prstGeom>
          <a:solidFill>
            <a:srgbClr val="ffd85d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HORT TERM CHO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4"/>
          <p:cNvSpPr/>
          <p:nvPr/>
        </p:nvSpPr>
        <p:spPr>
          <a:xfrm>
            <a:off x="3156120" y="5486400"/>
            <a:ext cx="2109600" cy="42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NG TERM CHO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2231640" y="1446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ea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5554440" y="1446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r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5965920" y="2946240"/>
            <a:ext cx="6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7571880" y="29462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ounded Rectangle 36"/>
          <p:cNvSpPr/>
          <p:nvPr/>
        </p:nvSpPr>
        <p:spPr>
          <a:xfrm>
            <a:off x="3201840" y="2104920"/>
            <a:ext cx="2017800" cy="349200"/>
          </a:xfrm>
          <a:prstGeom prst="roundRect">
            <a:avLst>
              <a:gd name="adj" fmla="val 16667"/>
            </a:avLst>
          </a:prstGeom>
          <a:solidFill>
            <a:srgbClr val="d5a97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NG TERM RIS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7"/>
          <p:cNvSpPr/>
          <p:nvPr/>
        </p:nvSpPr>
        <p:spPr>
          <a:xfrm>
            <a:off x="533160" y="21844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ea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Box 39"/>
          <p:cNvSpPr/>
          <p:nvPr/>
        </p:nvSpPr>
        <p:spPr>
          <a:xfrm>
            <a:off x="1763640" y="21844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r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Box 40"/>
          <p:cNvSpPr/>
          <p:nvPr/>
        </p:nvSpPr>
        <p:spPr>
          <a:xfrm>
            <a:off x="6721200" y="21844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r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41"/>
          <p:cNvSpPr/>
          <p:nvPr/>
        </p:nvSpPr>
        <p:spPr>
          <a:xfrm>
            <a:off x="217800" y="2946240"/>
            <a:ext cx="6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Box 42"/>
          <p:cNvSpPr/>
          <p:nvPr/>
        </p:nvSpPr>
        <p:spPr>
          <a:xfrm>
            <a:off x="917280" y="29462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43"/>
          <p:cNvSpPr/>
          <p:nvPr/>
        </p:nvSpPr>
        <p:spPr>
          <a:xfrm>
            <a:off x="1517760" y="2946240"/>
            <a:ext cx="6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44"/>
          <p:cNvSpPr/>
          <p:nvPr/>
        </p:nvSpPr>
        <p:spPr>
          <a:xfrm>
            <a:off x="2217240" y="29462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8" name="Elbow Connector 46"/>
          <p:cNvCxnSpPr>
            <a:stCxn id="86" idx="1"/>
            <a:endCxn id="91" idx="0"/>
          </p:cNvCxnSpPr>
          <p:nvPr/>
        </p:nvCxnSpPr>
        <p:spPr>
          <a:xfrm flipV="1" rot="10800000">
            <a:off x="842400" y="1614600"/>
            <a:ext cx="1380240" cy="568800"/>
          </a:xfrm>
          <a:prstGeom prst="bentConnector2">
            <a:avLst/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99" name="Elbow Connector 48"/>
          <p:cNvCxnSpPr>
            <a:stCxn id="86" idx="1"/>
          </p:cNvCxnSpPr>
          <p:nvPr/>
        </p:nvCxnSpPr>
        <p:spPr>
          <a:xfrm rot="10800000">
            <a:off x="2009160" y="1583640"/>
            <a:ext cx="213480" cy="3240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00" name="Elbow Connector 52"/>
          <p:cNvCxnSpPr>
            <a:stCxn id="86" idx="2"/>
            <a:endCxn id="92" idx="0"/>
          </p:cNvCxnSpPr>
          <p:nvPr/>
        </p:nvCxnSpPr>
        <p:spPr>
          <a:xfrm rot="5400000">
            <a:off x="2128320" y="1773000"/>
            <a:ext cx="400680" cy="4230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1" name="Straight Arrow Connector 58"/>
          <p:cNvCxnSpPr>
            <a:stCxn id="83" idx="1"/>
            <a:endCxn id="86" idx="3"/>
          </p:cNvCxnSpPr>
          <p:nvPr/>
        </p:nvCxnSpPr>
        <p:spPr>
          <a:xfrm flipH="1">
            <a:off x="2858760" y="1609560"/>
            <a:ext cx="34344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Elbow Connector 60"/>
          <p:cNvCxnSpPr>
            <a:stCxn id="91" idx="2"/>
            <a:endCxn id="94" idx="0"/>
          </p:cNvCxnSpPr>
          <p:nvPr/>
        </p:nvCxnSpPr>
        <p:spPr>
          <a:xfrm rot="5400000">
            <a:off x="470520" y="2573640"/>
            <a:ext cx="423000" cy="3229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3" name="Elbow Connector 66"/>
          <p:cNvCxnSpPr>
            <a:stCxn id="91" idx="2"/>
            <a:endCxn id="95" idx="0"/>
          </p:cNvCxnSpPr>
          <p:nvPr/>
        </p:nvCxnSpPr>
        <p:spPr>
          <a:xfrm flipH="1" rot="16200000">
            <a:off x="803160" y="2563200"/>
            <a:ext cx="423000" cy="343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4" name="Elbow Connector 69"/>
          <p:cNvCxnSpPr>
            <a:stCxn id="92" idx="2"/>
            <a:endCxn id="97" idx="0"/>
          </p:cNvCxnSpPr>
          <p:nvPr/>
        </p:nvCxnSpPr>
        <p:spPr>
          <a:xfrm flipH="1" rot="16200000">
            <a:off x="2090520" y="2549880"/>
            <a:ext cx="423000" cy="370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5" name="Elbow Connector 74"/>
          <p:cNvCxnSpPr>
            <a:stCxn id="92" idx="2"/>
            <a:endCxn id="96" idx="0"/>
          </p:cNvCxnSpPr>
          <p:nvPr/>
        </p:nvCxnSpPr>
        <p:spPr>
          <a:xfrm rot="5400000">
            <a:off x="1757520" y="2586240"/>
            <a:ext cx="423000" cy="2977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6" name="TextBox 75"/>
          <p:cNvSpPr/>
          <p:nvPr/>
        </p:nvSpPr>
        <p:spPr>
          <a:xfrm>
            <a:off x="63360" y="3630600"/>
            <a:ext cx="155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crease trend monitoring. Research long-term op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76"/>
          <p:cNvSpPr/>
          <p:nvPr/>
        </p:nvSpPr>
        <p:spPr>
          <a:xfrm>
            <a:off x="6772320" y="3630600"/>
            <a:ext cx="213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arly deployment of alternative and more sustainable infrastructu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77"/>
          <p:cNvSpPr/>
          <p:nvPr/>
        </p:nvSpPr>
        <p:spPr>
          <a:xfrm>
            <a:off x="1558800" y="3630600"/>
            <a:ext cx="120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ccept the risk to asset. Develop contingen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78"/>
          <p:cNvSpPr/>
          <p:nvPr/>
        </p:nvSpPr>
        <p:spPr>
          <a:xfrm>
            <a:off x="5656320" y="3630600"/>
            <a:ext cx="122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mploy defensive measu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79"/>
          <p:cNvSpPr/>
          <p:nvPr/>
        </p:nvSpPr>
        <p:spPr>
          <a:xfrm>
            <a:off x="0" y="5176800"/>
            <a:ext cx="107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U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velop contingency pla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80"/>
          <p:cNvSpPr/>
          <p:nvPr/>
        </p:nvSpPr>
        <p:spPr>
          <a:xfrm>
            <a:off x="1000080" y="5176800"/>
            <a:ext cx="10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U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mplo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fensive measu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81"/>
          <p:cNvSpPr/>
          <p:nvPr/>
        </p:nvSpPr>
        <p:spPr>
          <a:xfrm>
            <a:off x="1981080" y="5176800"/>
            <a:ext cx="102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U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t a less vulnerable loc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82"/>
          <p:cNvSpPr/>
          <p:nvPr/>
        </p:nvSpPr>
        <p:spPr>
          <a:xfrm>
            <a:off x="5245200" y="5176800"/>
            <a:ext cx="122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place more sustain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sset(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83"/>
          <p:cNvSpPr/>
          <p:nvPr/>
        </p:nvSpPr>
        <p:spPr>
          <a:xfrm>
            <a:off x="6357960" y="5176800"/>
            <a:ext cx="136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gional collaboration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atershed scale alternativ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Box 84"/>
          <p:cNvSpPr/>
          <p:nvPr/>
        </p:nvSpPr>
        <p:spPr>
          <a:xfrm>
            <a:off x="7613640" y="5176800"/>
            <a:ext cx="146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ybrid options, incremental variants of the above option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nd other strategi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6" name="Elbow Connector 86"/>
          <p:cNvCxnSpPr>
            <a:stCxn id="94" idx="2"/>
            <a:endCxn id="106" idx="0"/>
          </p:cNvCxnSpPr>
          <p:nvPr/>
        </p:nvCxnSpPr>
        <p:spPr>
          <a:xfrm flipH="1" rot="16200000">
            <a:off x="506880" y="3298320"/>
            <a:ext cx="345240" cy="3200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7" name="Elbow Connector 89"/>
          <p:cNvCxnSpPr>
            <a:stCxn id="95" idx="2"/>
            <a:endCxn id="106" idx="0"/>
          </p:cNvCxnSpPr>
          <p:nvPr/>
        </p:nvCxnSpPr>
        <p:spPr>
          <a:xfrm rot="5400000">
            <a:off x="839880" y="3285000"/>
            <a:ext cx="345240" cy="3466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8" name="Elbow Connector 92"/>
          <p:cNvCxnSpPr>
            <a:stCxn id="96" idx="2"/>
            <a:endCxn id="108" idx="0"/>
          </p:cNvCxnSpPr>
          <p:nvPr/>
        </p:nvCxnSpPr>
        <p:spPr>
          <a:xfrm flipH="1" rot="16200000">
            <a:off x="1819080" y="3287160"/>
            <a:ext cx="345240" cy="3420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9" name="Elbow Connector 95"/>
          <p:cNvCxnSpPr>
            <a:stCxn id="97" idx="2"/>
            <a:endCxn id="108" idx="0"/>
          </p:cNvCxnSpPr>
          <p:nvPr/>
        </p:nvCxnSpPr>
        <p:spPr>
          <a:xfrm rot="5400000">
            <a:off x="2152080" y="3295440"/>
            <a:ext cx="345240" cy="3261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0" name="Elbow Connector 98"/>
          <p:cNvCxnSpPr>
            <a:stCxn id="106" idx="2"/>
            <a:endCxn id="110" idx="0"/>
          </p:cNvCxnSpPr>
          <p:nvPr/>
        </p:nvCxnSpPr>
        <p:spPr>
          <a:xfrm rot="5400000">
            <a:off x="453240" y="4790520"/>
            <a:ext cx="469080" cy="3042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1" name="Shape 101"/>
          <p:cNvCxnSpPr>
            <a:stCxn id="106" idx="2"/>
            <a:endCxn id="122" idx="0"/>
          </p:cNvCxnSpPr>
          <p:nvPr/>
        </p:nvCxnSpPr>
        <p:spPr>
          <a:xfrm flipH="1" rot="16200000">
            <a:off x="842040" y="4705200"/>
            <a:ext cx="473760" cy="479880"/>
          </a:xfrm>
          <a:prstGeom prst="bentConnector3">
            <a:avLst>
              <a:gd name="adj1" fmla="val 49961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3" name="TextBox 103"/>
          <p:cNvSpPr/>
          <p:nvPr/>
        </p:nvSpPr>
        <p:spPr>
          <a:xfrm>
            <a:off x="189720" y="6456240"/>
            <a:ext cx="37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URA = Rehab, upgrade, replace as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4" name="Elbow Connector 111"/>
          <p:cNvCxnSpPr>
            <a:stCxn id="108" idx="2"/>
            <a:endCxn id="125" idx="0"/>
          </p:cNvCxnSpPr>
          <p:nvPr/>
        </p:nvCxnSpPr>
        <p:spPr>
          <a:xfrm rot="5400000">
            <a:off x="1698480" y="4718520"/>
            <a:ext cx="473760" cy="453240"/>
          </a:xfrm>
          <a:prstGeom prst="bentConnector3">
            <a:avLst>
              <a:gd name="adj1" fmla="val 49961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6" name="Elbow Connector 114"/>
          <p:cNvCxnSpPr>
            <a:stCxn id="108" idx="2"/>
            <a:endCxn id="112" idx="0"/>
          </p:cNvCxnSpPr>
          <p:nvPr/>
        </p:nvCxnSpPr>
        <p:spPr>
          <a:xfrm flipH="1" rot="16200000">
            <a:off x="2094480" y="4775400"/>
            <a:ext cx="469080" cy="334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7" name="Straight Arrow Connector 117"/>
          <p:cNvCxnSpPr>
            <a:stCxn id="81" idx="2"/>
            <a:endCxn id="83" idx="0"/>
          </p:cNvCxnSpPr>
          <p:nvPr/>
        </p:nvCxnSpPr>
        <p:spPr>
          <a:xfrm>
            <a:off x="4209120" y="1169640"/>
            <a:ext cx="1080" cy="267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Straight Arrow Connector 123"/>
          <p:cNvCxnSpPr>
            <a:stCxn id="83" idx="2"/>
            <a:endCxn id="90" idx="0"/>
          </p:cNvCxnSpPr>
          <p:nvPr/>
        </p:nvCxnSpPr>
        <p:spPr>
          <a:xfrm flipH="1">
            <a:off x="4209840" y="1785960"/>
            <a:ext cx="2160" cy="319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Straight Arrow Connector 125"/>
          <p:cNvCxnSpPr>
            <a:stCxn id="90" idx="2"/>
            <a:endCxn id="82" idx="0"/>
          </p:cNvCxnSpPr>
          <p:nvPr/>
        </p:nvCxnSpPr>
        <p:spPr>
          <a:xfrm flipH="1">
            <a:off x="4209840" y="2454120"/>
            <a:ext cx="2160" cy="278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Straight Arrow Connector 127"/>
          <p:cNvCxnSpPr>
            <a:stCxn id="82" idx="2"/>
            <a:endCxn id="80" idx="0"/>
          </p:cNvCxnSpPr>
          <p:nvPr/>
        </p:nvCxnSpPr>
        <p:spPr>
          <a:xfrm flipH="1">
            <a:off x="4209480" y="3125520"/>
            <a:ext cx="1080" cy="353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Straight Arrow Connector 129"/>
          <p:cNvCxnSpPr>
            <a:stCxn id="80" idx="2"/>
            <a:endCxn id="84" idx="0"/>
          </p:cNvCxnSpPr>
          <p:nvPr/>
        </p:nvCxnSpPr>
        <p:spPr>
          <a:xfrm flipH="1">
            <a:off x="4209840" y="3870000"/>
            <a:ext cx="2160" cy="345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Straight Arrow Connector 131"/>
          <p:cNvCxnSpPr>
            <a:stCxn id="84" idx="2"/>
            <a:endCxn id="85" idx="0"/>
          </p:cNvCxnSpPr>
          <p:nvPr/>
        </p:nvCxnSpPr>
        <p:spPr>
          <a:xfrm>
            <a:off x="4209120" y="4638240"/>
            <a:ext cx="1080" cy="848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Straight Arrow Connector 134"/>
          <p:cNvCxnSpPr>
            <a:stCxn id="83" idx="3"/>
            <a:endCxn id="87" idx="1"/>
          </p:cNvCxnSpPr>
          <p:nvPr/>
        </p:nvCxnSpPr>
        <p:spPr>
          <a:xfrm>
            <a:off x="5219640" y="1609560"/>
            <a:ext cx="33408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Elbow Connector 138"/>
          <p:cNvCxnSpPr>
            <a:stCxn id="93" idx="2"/>
            <a:endCxn id="88" idx="0"/>
          </p:cNvCxnSpPr>
          <p:nvPr/>
        </p:nvCxnSpPr>
        <p:spPr>
          <a:xfrm rot="5400000">
            <a:off x="6460560" y="2331720"/>
            <a:ext cx="423000" cy="807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5" name="Elbow Connector 140"/>
          <p:cNvCxnSpPr>
            <a:stCxn id="93" idx="2"/>
            <a:endCxn id="89" idx="0"/>
          </p:cNvCxnSpPr>
          <p:nvPr/>
        </p:nvCxnSpPr>
        <p:spPr>
          <a:xfrm flipH="1" rot="16200000">
            <a:off x="7247520" y="2351160"/>
            <a:ext cx="423000" cy="7675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6" name="Elbow Connector 142"/>
          <p:cNvCxnSpPr>
            <a:stCxn id="87" idx="3"/>
            <a:endCxn id="93" idx="0"/>
          </p:cNvCxnSpPr>
          <p:nvPr/>
        </p:nvCxnSpPr>
        <p:spPr>
          <a:xfrm>
            <a:off x="6265440" y="1615680"/>
            <a:ext cx="810360" cy="568800"/>
          </a:xfrm>
          <a:prstGeom prst="bentConnector2">
            <a:avLst/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7" name="Elbow Connector 145"/>
          <p:cNvCxnSpPr>
            <a:stCxn id="88" idx="2"/>
            <a:endCxn id="109" idx="0"/>
          </p:cNvCxnSpPr>
          <p:nvPr/>
        </p:nvCxnSpPr>
        <p:spPr>
          <a:xfrm rot="5400000">
            <a:off x="6095520" y="3457440"/>
            <a:ext cx="345240" cy="21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8" name="Elbow Connector 148"/>
          <p:cNvCxnSpPr>
            <a:stCxn id="89" idx="2"/>
            <a:endCxn id="107" idx="0"/>
          </p:cNvCxnSpPr>
          <p:nvPr/>
        </p:nvCxnSpPr>
        <p:spPr>
          <a:xfrm rot="5400000">
            <a:off x="7669440" y="3457800"/>
            <a:ext cx="345240" cy="1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9" name="Elbow Connector 151"/>
          <p:cNvCxnSpPr>
            <a:stCxn id="109" idx="2"/>
            <a:endCxn id="113" idx="0"/>
          </p:cNvCxnSpPr>
          <p:nvPr/>
        </p:nvCxnSpPr>
        <p:spPr>
          <a:xfrm rot="5400000">
            <a:off x="5703840" y="4613760"/>
            <a:ext cx="714960" cy="412200"/>
          </a:xfrm>
          <a:prstGeom prst="bentConnector3">
            <a:avLst>
              <a:gd name="adj1" fmla="val 69319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0" name="Elbow Connector 155"/>
          <p:cNvCxnSpPr>
            <a:stCxn id="109" idx="2"/>
            <a:endCxn id="141" idx="0"/>
          </p:cNvCxnSpPr>
          <p:nvPr/>
        </p:nvCxnSpPr>
        <p:spPr>
          <a:xfrm flipH="1" rot="16200000">
            <a:off x="6210360" y="4519440"/>
            <a:ext cx="729360" cy="614880"/>
          </a:xfrm>
          <a:prstGeom prst="bentConnector3">
            <a:avLst>
              <a:gd name="adj1" fmla="val 68296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2" name="Elbow Connector 160"/>
          <p:cNvCxnSpPr>
            <a:stCxn id="107" idx="2"/>
            <a:endCxn id="143" idx="0"/>
          </p:cNvCxnSpPr>
          <p:nvPr/>
        </p:nvCxnSpPr>
        <p:spPr>
          <a:xfrm rot="5400000">
            <a:off x="7134840" y="4484520"/>
            <a:ext cx="729360" cy="685080"/>
          </a:xfrm>
          <a:prstGeom prst="bentConnector3">
            <a:avLst>
              <a:gd name="adj1" fmla="val 66962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4" name="Elbow Connector 162"/>
          <p:cNvCxnSpPr>
            <a:stCxn id="107" idx="2"/>
            <a:endCxn id="115" idx="0"/>
          </p:cNvCxnSpPr>
          <p:nvPr/>
        </p:nvCxnSpPr>
        <p:spPr>
          <a:xfrm flipH="1" rot="16200000">
            <a:off x="7737480" y="4566960"/>
            <a:ext cx="714960" cy="505440"/>
          </a:xfrm>
          <a:prstGeom prst="bentConnector3">
            <a:avLst>
              <a:gd name="adj1" fmla="val 68161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5" name="TextBox 183"/>
          <p:cNvSpPr/>
          <p:nvPr/>
        </p:nvSpPr>
        <p:spPr>
          <a:xfrm>
            <a:off x="890280" y="165240"/>
            <a:ext cx="73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a sustainable path in adaptation 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71"/>
          <p:cNvSpPr/>
          <p:nvPr/>
        </p:nvSpPr>
        <p:spPr>
          <a:xfrm>
            <a:off x="990720" y="5181480"/>
            <a:ext cx="657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73"/>
          <p:cNvSpPr/>
          <p:nvPr/>
        </p:nvSpPr>
        <p:spPr>
          <a:xfrm>
            <a:off x="1380960" y="5181480"/>
            <a:ext cx="657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75"/>
          <p:cNvSpPr/>
          <p:nvPr/>
        </p:nvSpPr>
        <p:spPr>
          <a:xfrm>
            <a:off x="6553080" y="5191200"/>
            <a:ext cx="657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76"/>
          <p:cNvSpPr/>
          <p:nvPr/>
        </p:nvSpPr>
        <p:spPr>
          <a:xfrm>
            <a:off x="6829560" y="5191200"/>
            <a:ext cx="657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NACWA_102_Wastewater_Climate_Change_Impacts_Costs.jpg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6151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948960" y="165240"/>
            <a:ext cx="72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of Wastewater Sector Adaptation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3:18:11Z</dcterms:created>
  <dc:creator>E. Torres (NACWA cmte chair)</dc:creator>
  <dc:description>NACWA’s Flow Series Seminar 2: March 10, 2010, 2:00 – 3:00 PM Eastern 
Climate Change: It’s all about Water</dc:description>
  <dc:language>en-US</dc:language>
  <cp:lastModifiedBy>cynthia</cp:lastModifiedBy>
  <dcterms:modified xsi:type="dcterms:W3CDTF">2010-03-09T16:14:46Z</dcterms:modified>
  <cp:revision>595</cp:revision>
  <dc:subject>NACWA webinar w/NOAA 3/10/10</dc:subject>
  <dc:title>NACWA's Climate Change Committee Activities</dc:title>
</cp:coreProperties>
</file>