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234-DB0A-449C-8F76-8FAD7107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354-2A77-4666-91C9-BDB964DE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079-79DF-4F01-B3EA-21F9D16A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76A-72E9-4DAC-9A36-3657E797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070-5591-4F56-9A4E-249BF2EA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981-91A3-4CC3-9136-4FEED5C0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8C6-C426-4B36-BA02-816F2008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CF0-69A6-48A0-893E-30B42B69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BA3-F27B-4E96-863F-4EDEA817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6F3-47FD-4B33-8B76-03320693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944-0C6D-442A-879F-AF5FC02D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4C4-94D9-4BF5-80B8-F515855C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330C-11DB-462A-8D4A-7CBEF39BE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and Problems with EPA’s New Methodology for Developing Stream Nutrient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T.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l &amp; Assoc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Paul and McDonald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and McDonald: Must Be Strong Stressor For Method To Be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erative that extensive laboratory data analysis be conducted to confirm that stressor is highly correlated to the impai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 clear, scientifically established causal relationship between pollutant and en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 said Conditional Probability not good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RNS WITH EPA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skewed database to draw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fully ignored site-specific information contrary to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es “Bedrock” National Criteria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DROCK 304(a)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at level necessary and sufficient to protect designated 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be based on documented dose/ response relationships from lab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ounded data may not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te-specific data must be consi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fficient well documented data must ex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TE-SPECIFIC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TE-SPECIFIC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991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GNORED OTHER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ED DATABASE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USGS MONITO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USGS MONITO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179360"/>
            <a:ext cx="830592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PERT 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ic Di Toro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probability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 sufficie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stablishing water quality standards … it represent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eat from scientifically defensibl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n Chapra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uch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ally indefen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ation of the connection between nutrients and ecosystem health that I believe that its adoption would represen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e mis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ER REVIEW JUS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 304(a) criteria deriva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sistent with “Bedrock” 304(a) criteria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edent setting approach impacts other pollu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prevailing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nationwid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experts urge pe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TRIENT STANDARD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 (N, P) not toxic in classical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ause toxic effects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 plant grow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vers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A Nutrient Criteria Guidance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elationship to plant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 to macroinvertebrates,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WPCA (May 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ble to demonstrate necessar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MELINE AND BASIS FOR PA NUTRIENT TMDL 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752480"/>
          <a:ext cx="8229600" cy="4295880"/>
        </p:xfrm>
        <a:graphic>
          <a:graphicData uri="http://schemas.openxmlformats.org/drawingml/2006/table">
            <a:tbl>
              <a:tblPr/>
              <a:tblGrid>
                <a:gridCol w="1371600"/>
                <a:gridCol w="4114800"/>
                <a:gridCol w="274320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 Lim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– 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solved Oxygen</a:t>
                      </a:r>
                      <a:br>
                        <a:rPr sz="28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ina River Basin;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sahickon C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.0 mg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- 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isance Algae</a:t>
                      </a:r>
                      <a:br>
                        <a:rPr sz="28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ppack Creek; Neshaminy Creek; Wissahickon C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mg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brates</a:t>
                      </a:r>
                      <a:br>
                        <a:rPr sz="28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ster Creek; Indian Creek; Paxton Creek; Sawmill Run; Southampton C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 mg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OLUTION OF NUTRIENT TMD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standing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 effect of nutrients on plant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plant effect on diurnal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 nutrients to control plant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isance Alg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 nutrient to prevent nuisance algae (but no standard for nuisance alga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ression approach discred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of Evidence/Conditional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st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ats TP as a toxic substance to inverteb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s extremely restrictive end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8 NUTRIENT TMDLs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P Limit/Reduc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447920"/>
          <a:ext cx="8534160" cy="474984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778680"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D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18288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se Cre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 mg/L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&gt;98% redu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9%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18288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 Cre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05 mg/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-97% redu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-70%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160">
                <a:tc>
                  <a:txBody>
                    <a:bodyPr lIns="90000" rIns="90000" tIns="18288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ampton 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 mg/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2% redu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90%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18288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xton Cre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O Long Term Contro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18288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wmill R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 Reduction from C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-96%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IGHT OF EVIDENCE”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676520"/>
          <a:ext cx="8534160" cy="474804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590560"/>
                <a:gridCol w="1828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dmo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ge &amp; Vall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gheny Plat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-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or</a:t>
                      </a:r>
                      <a:br>
                        <a:rPr sz="2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ax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T Tax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apers/Cling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Ta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9,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-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trong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inal End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 ug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 ug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 ug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IGHT OF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lated to impai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 reference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al growth sat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dds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ersey T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war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or-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inverteb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T Taxa &lt; 8, 10.5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gers &lt; 52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apers &lt; 7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Intolerant &lt; 31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Taxa &lt;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inant Ta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tom TSI &gt; 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SUES WITH NEW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nsistent with Published 304(a)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ores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s new invertebrate impairment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s all invertebrate impairments are due to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s TP like a tox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probability defines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8:36:59Z</dcterms:created>
  <dc:creator> </dc:creator>
  <dc:description/>
  <dc:language>en-US</dc:language>
  <cp:lastModifiedBy>bhall</cp:lastModifiedBy>
  <dcterms:modified xsi:type="dcterms:W3CDTF">2008-09-02T19:18:39Z</dcterms:modified>
  <cp:revision>8</cp:revision>
  <dc:subject/>
  <dc:title>Issues and Problems with EPA’s New Methodology for Developing Stream Nutrient Standards</dc:title>
</cp:coreProperties>
</file>