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EF2-C52D-4676-8C20-DAD2258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094-4EB7-4F73-B887-4CD78833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58D-63D4-4418-8A79-8CD7559E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15D-104B-4EEE-983E-FD26E6B6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3E4-7C89-4773-A79E-F776D23B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3F9-A092-4CD3-8415-E80CAB5F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373-D5DA-458C-A2E3-6D622EF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8D2-5107-4A78-AEFA-65934A5D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C61-8465-4C8B-A372-1267E4E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117-09FF-401B-9024-D2A469C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5BC-6CD6-4945-AD2F-8AD9823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AB8-2905-44DF-A615-8940E5E0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0047-91F1-47E4-9A91-36B842D20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sues and Problems with EPA’s New Methodology for Developing Stream Nutrient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.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 &amp; Asso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Paul and McDonald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and McDonald: Must Be Strong Stressor For Method To Be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erative that extensive laboratory data analysis be conducted to confirm that stressor is highly correlated to the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 clear, scientifically established causal relationship between pollutant and en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 said Conditional Probability not good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RNS WITH EPA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kewed database to draw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fully ignored site-specific information contrary to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es “Bedrock” National Criteria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DROCK 304(a)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at level necessary and sufficient to protect designated 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be based on documented dose/ response relationships from lab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ounded data may not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e-specific data must be consi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ient well documented data must ex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E-SPECIF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TE-SPECIFIC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991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GNORED OTHER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ED DATABASE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USGS MONITO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USGS MONITO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179360"/>
            <a:ext cx="830592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ERT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ic Di Toro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probability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 sufficie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stablishing water quality standards … it represent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eat from scientifically defensibl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Chapra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uch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ally indefen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ation of the connection between nutrients and ecosystem health that I believe that its adoption would represen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e mi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ER REVIEW JUS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 304(a) criteria derivation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t with “Bedrock” 304(a) criteria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edent setting approach impacts other pollu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prevail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nationwid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experts urge pe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TRIENT STANDAR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N, P) not toxic in classic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ause toxic effect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plant grow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vers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Nutrient Criteria Guidance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onship to plant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o macroinvertebrates,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WPCA (May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ble to demonstrate necessar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LINE AND BASIS FOR PA NUTRIENT TMDL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752480"/>
          <a:ext cx="8229600" cy="4295880"/>
        </p:xfrm>
        <a:graphic>
          <a:graphicData uri="http://schemas.openxmlformats.org/drawingml/2006/table">
            <a:tbl>
              <a:tblPr/>
              <a:tblGrid>
                <a:gridCol w="1371600"/>
                <a:gridCol w="4114800"/>
                <a:gridCol w="27432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 Lim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– 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lved Oxygen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ina River Basin;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ahick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0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- 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isance Algae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ppack Creek; Neshaminy Creek; Wissahick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brates</a:t>
                      </a:r>
                      <a:br>
                        <a:rPr sz="28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er Creek; Indian Creek; Paxton Creek; Sawmill Run; Southampton C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m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OLUTION OF NUTRIENT TMD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stand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effect of nutrients on plant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plant effect on diurnal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 nutrients to control plant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isance Alg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 nutrient to prevent nuisance algae (but no standard for nuisance alga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approach discred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Evidence/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st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s TP as a toxic substance to inverteb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s extremely restrictive end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8 NUTRIENT TMDLs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P Limit/Redu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8534160" cy="474984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778680"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D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se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 mg/L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gt;98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9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05 mg/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-97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-7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ampton 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 mg/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2% redu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90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xton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 Long Term Contro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18288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wmill R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Reduction from C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96% Re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GHT OF EVIDENCE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676520"/>
          <a:ext cx="8534160" cy="474804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590560"/>
                <a:gridCol w="1828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dm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ge &amp; Va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gheny Plat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-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or</a:t>
                      </a:r>
                      <a:br>
                        <a:rPr sz="2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x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T Tax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apers/Cling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Ta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9,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trong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 End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ug/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IGHT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lated to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reference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al growth 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ds 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 T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or-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inverteb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T Taxa &lt; 8, 10.5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gers &lt; 5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pers &lt; 7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Intolerant &lt; 31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axa &lt;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tom TSI &gt; 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WITH NEW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sistent with Published 304(a)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ores plant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s new invertebrate impairment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s all invertebrate impairments are due to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TP like a tox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robability define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8:36:59Z</dcterms:created>
  <dc:creator> </dc:creator>
  <dc:description/>
  <dc:language>en-US</dc:language>
  <cp:lastModifiedBy>bhall</cp:lastModifiedBy>
  <dcterms:modified xsi:type="dcterms:W3CDTF">2008-09-02T19:18:39Z</dcterms:modified>
  <cp:revision>8</cp:revision>
  <dc:subject/>
  <dc:title>Issues and Problems with EPA’s New Methodology for Developing Stream Nutrient Standards</dc:title>
</cp:coreProperties>
</file>