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9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366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66400" y="693360"/>
            <a:ext cx="4614840" cy="346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5200" y="4384800"/>
            <a:ext cx="5095800" cy="4155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18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366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748737-66E0-4276-83F7-F728254E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6532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5200" y="4384800"/>
            <a:ext cx="5095800" cy="4155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average age and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-specific statist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532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5200" y="4384800"/>
            <a:ext cx="5095800" cy="4155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average age and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-specific statist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366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D88D87F-1F07-4D41-B28D-EFA94A182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18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18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366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36960" y="0"/>
            <a:ext cx="3009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36960" y="8767800"/>
            <a:ext cx="3009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76780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3008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8320" y="468360"/>
            <a:ext cx="5214960" cy="3911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7880" y="4441680"/>
            <a:ext cx="5214960" cy="4213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ery loves company … a wide-spread problem in th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-50-5 from Electric Power 2000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-30 from EP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e these retirements with evidence of “Gen Xers” having shorter tenure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366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CBCE78-B52F-4DEC-97FF-A28A43872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18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18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366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530360" y="704880"/>
            <a:ext cx="3533760" cy="2651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440" y="3355920"/>
            <a:ext cx="50893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A137-983F-4F5E-B01A-02402E83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20720" y="3597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701D-BB53-4B8C-BD88-77E1A823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0828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4C67-4EC9-4D2B-AFAB-C8CA1C45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20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1932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2072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20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1932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DE75-EE33-4B7A-A1B4-8092D0C9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E8398-5298-4B9F-97C7-F87E1DC2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40547-8055-42DC-9147-DA6F8757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5969E-FCE6-4135-8C1A-CF5ABF96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685AB-8C0F-4A48-B6AF-1EAFD6BE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B9B3A-C314-4DC4-8D27-A85D6B0F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57000" y="-360"/>
            <a:ext cx="744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26A44-44C8-4C33-894A-A45165C1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B7EC2-4B6C-48C5-9E55-8DDD99CB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7313-D284-49AB-8A35-6DC4F3A2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828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1E97D-BF70-49A2-ABE5-16140DA3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3750B-50AC-4C18-A804-A8A85846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20720" y="3597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2A5BE-053D-4529-AFF1-F60B5533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0828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7E8CB-CE5D-4F95-87B5-81204859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2020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932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2072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2020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932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11A6A-97EC-4C99-B726-3018455B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30CA-0B6F-47E3-B729-418D5D7C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88CE-047A-46D5-ABD7-7B9D614B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CEF8-7D72-4FB2-98D6-D5831B5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57000" y="-360"/>
            <a:ext cx="744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306C-6E1B-486E-92D0-D7953A1D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12B9-D9AA-457D-842C-BCE5CA42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828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5BB5-FD73-4175-B858-7394571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AA4B-FEE5-41BB-9E7A-D6E7D3C5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6605280"/>
            <a:ext cx="1447920" cy="2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7A2E-DA21-4BE7-BE60-F6D6569533B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509760" y="31104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5360" y="3268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36440" y="1752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-119520" y="6627600"/>
            <a:ext cx="1590840" cy="2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2018-119C-410D-917C-B4C78A12ECE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7320" y="6613560"/>
            <a:ext cx="4572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pt.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1420920" cy="94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" y="2241720"/>
            <a:ext cx="1520640" cy="93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680" y="3255840"/>
            <a:ext cx="1519200" cy="935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0" y="114300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4267080"/>
            <a:ext cx="1523880" cy="1089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20360" y="990720"/>
            <a:ext cx="721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ING KNOWLEDGE IN AN AGING WORK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erry La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nnessee Valley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W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9256-0921-4173-9851-9206E4A88B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Some Lessons Lear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2072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” is not a pl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.  Focus. 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nce on skill &amp; experience =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y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trumps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influence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5032-55F8-4493-A941-D4471B24CD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57400" y="2971800"/>
            <a:ext cx="617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7059f9"/>
                </a:solidFill>
                <a:latin typeface="Arial Black"/>
              </a:rPr>
              <a:t>Questions ? ?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5AAE-26A6-45F6-892E-89B1370A8249}" type="slidenum">
              <a:t>11</a:t>
            </a:fld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562720" y="3809880"/>
            <a:ext cx="3407760" cy="2565000"/>
            <a:chOff x="5562720" y="3809880"/>
            <a:chExt cx="3407760" cy="25650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5562720" y="3809880"/>
              <a:ext cx="3407760" cy="256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234840" y="4531320"/>
              <a:ext cx="171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nness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o is TV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’s largest public power produc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8.5 million customers; 7 sta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rough a network of 158 municipal and cooperative power distribu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2,600 Employe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pacity – 31,000 M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uclea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 units; 5,683 megawat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coal-fir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hydroelectric 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ump storage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0614-0F05-4FAB-AAAB-3DB7497D9C07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0200" y="1398600"/>
            <a:ext cx="723888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gnificant downsizing over 15+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rious Retirement Incentives to Aid Downsiz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y Limited Entry Level Recru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erage Age –  4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roximately 1/3 of work force eligible to retire within next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ssure to Reduce Labor Cost = Not all retirees will be repla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57360" y="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09640" y="152280"/>
            <a:ext cx="7442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6F0E-DF1B-40E9-91BA-B2741C22C9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14360" y="200160"/>
            <a:ext cx="7715520" cy="579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4120" y="116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7360" y="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Attrit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5280" y="1447920"/>
            <a:ext cx="675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0259"/>
                </a:solidFill>
                <a:latin typeface="Arial"/>
              </a:rPr>
              <a:t>An Aging Work Force Nearing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28800" y="2106720"/>
          <a:ext cx="6702480" cy="400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106720"/>
                    <a:ext cx="670248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391D-1BE1-42AD-BBF6-AF34666FDF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30360" y="1278000"/>
            <a:ext cx="7543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1000080"/>
            <a:ext cx="70102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ts val="4935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40259"/>
                </a:solidFill>
                <a:latin typeface="Arial Black"/>
              </a:rPr>
              <a:t>Electric Industry-wid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4680" y="2057400"/>
            <a:ext cx="742932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marL="339840" indent="-339840">
              <a:lnSpc>
                <a:spcPct val="110000"/>
              </a:lnSpc>
              <a:spcBef>
                <a:spcPts val="349"/>
              </a:spcBef>
              <a:spcAft>
                <a:spcPts val="7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0% to lose 50% in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1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0% of utilities are faced with 50% or more of their workforce retiring in the next five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349"/>
              </a:spcBef>
              <a:spcAft>
                <a:spcPts val="7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90% have a problem … 30% have a pla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0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terviewed representatives of 21 energy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0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ver 90% report attrition as an important or emerging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1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ly 30% report having a plan to address the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349"/>
              </a:spcBef>
              <a:spcAft>
                <a:spcPts val="7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e anecdotal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0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luding explicit plans to recruit replacements from other ut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57360" y="0"/>
            <a:ext cx="74422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Attrit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BF55-6257-4C9B-8259-84AA5AEC26C1}" type="slidenum">
              <a:t>5</a:t>
            </a:fld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05320" y="28954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2952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2952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4956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4956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49600" y="243000"/>
            <a:ext cx="185040" cy="1067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49520" y="0"/>
            <a:ext cx="7441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ork For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5380200"/>
            <a:ext cx="350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do we retain critical  knowledge &amp; skills?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844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adership &amp; Employee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600" y="25257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28040" y="4807080"/>
            <a:ext cx="27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520" y="16606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e Re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05280" y="2286000"/>
            <a:ext cx="343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do we retain our critical employe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276720"/>
            <a:ext cx="3124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Forc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3880" y="16365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96840" y="2286000"/>
            <a:ext cx="312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do we find qualified candida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5562720"/>
            <a:ext cx="28958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do we prepare current and future lea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388620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are our 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 when do they occu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6C6C-CD92-4BB9-9CC8-214CE6F1EF9D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828960" cy="5781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71600" y="1219320"/>
            <a:ext cx="361008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ritical Undocumented Knowledg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nowledge Retention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Specific Knowledge &amp;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Individuals’ “Criticality” and Attrition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ntory Knowledge/Skill “Cluste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Impact of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iz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Retention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30840" y="76320"/>
            <a:ext cx="3336840" cy="9144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457200"/>
            <a:ext cx="35053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ow do we retain critical  knowledge &amp; skills?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120" y="152280"/>
            <a:ext cx="22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D33F-5A4C-4B05-B7C7-7B5904DD9E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23960" y="1154160"/>
            <a:ext cx="6296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7520" bIns="4752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 Rang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09640" y="1675440"/>
            <a:ext cx="329724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n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lists, Inventori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Suppor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 Map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653280"/>
            <a:ext cx="365256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&amp;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and Simulator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BT, Video-based, and alternativ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JT and Targeted Work Assig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ching, Shadowing and Men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enticeship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16640" y="1675440"/>
            <a:ext cx="351756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 It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” tools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 task, product or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2240" y="3657600"/>
            <a:ext cx="326232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/site/department exp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ational or “Visiting”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skilling or Cross-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ors, part-timers, reti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57360" y="0"/>
            <a:ext cx="74422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nowledge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5216-27DF-430F-A9EB-0B53DDE093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8:45:44Z</dcterms:created>
  <dc:creator>TVA</dc:creator>
  <dc:description/>
  <dc:language>en-US</dc:language>
  <cp:lastModifiedBy>AMSA</cp:lastModifiedBy>
  <cp:lastPrinted>2002-10-11T18:02:45Z</cp:lastPrinted>
  <dcterms:modified xsi:type="dcterms:W3CDTF">2006-02-02T16:04:56Z</dcterms:modified>
  <cp:revision>227</cp:revision>
  <dc:subject/>
  <dc:title>PowerPoint Presentation</dc:title>
</cp:coreProperties>
</file>