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9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36600" y="-36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66400" y="693360"/>
            <a:ext cx="4614840" cy="346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5200" y="4384800"/>
            <a:ext cx="5095800" cy="4155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1800" y="877212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36600" y="877212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1403C0-7025-4F39-87DF-36351FD10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65320" y="6937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5200" y="4384800"/>
            <a:ext cx="5095800" cy="4155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average age and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-specific statist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65320" y="6937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5200" y="4384800"/>
            <a:ext cx="5095800" cy="4155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average age and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-specific statist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936600" y="877212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B02F24-50ED-46AA-ABB4-03FEB6150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1800" y="877212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1800" y="-36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36600" y="-36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36960" y="0"/>
            <a:ext cx="3009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36960" y="8767800"/>
            <a:ext cx="3009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876780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3008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8320" y="468360"/>
            <a:ext cx="5214960" cy="3911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47880" y="4441680"/>
            <a:ext cx="5214960" cy="4213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ery loves company … a wide-spread problem in the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-50-5 from Electric Power 2000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-30 from EP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e these retirements with evidence of “Gen Xers” having shorter tenure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936600" y="877212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FAE75F-7669-43D2-A093-D40906BD0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1800" y="877212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1800" y="-36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36600" y="-360"/>
            <a:ext cx="3011400" cy="460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530360" y="704880"/>
            <a:ext cx="3533760" cy="2651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440" y="3355920"/>
            <a:ext cx="50893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B7B0-9A51-490E-BFC7-90062835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20720" y="3597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7AD8-3C78-49AE-B8E9-BD9C1182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2072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0828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E099-B8F2-4FEF-9D96-F25A4B00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0200" y="14479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19320" y="14479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20720" y="3597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0200" y="3597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19320" y="3597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D949-5C8F-4463-80CE-15E075A4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B6D94-CA3C-4BDA-88FA-B6AE8F51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20720" y="1447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184FE-7279-4CEA-B567-E19E0D09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EB550-9480-4BD8-B07A-0B0A648F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3A48F-AC29-4FB2-B84D-B451269A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D6F64-D5FC-4C3B-AD7E-702D70A9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57000" y="-360"/>
            <a:ext cx="7442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F58BF-F18B-42C2-8EF7-24BF3A28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2072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FC777-1653-47C9-A7ED-2E1FFAF3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20720" y="1447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4E97-AE34-4CD1-B90A-F7A98A46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828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2F898-028D-4272-AF2F-AA9B1641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20720" y="3597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020C9-8DF3-48E3-ADFD-CCD9B6E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20720" y="3597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4F6FE-D7AB-4E0C-A97B-43F81B59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2072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40828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02511-0FE3-4843-82C6-DE6769F0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20200" y="14479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19320" y="14479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20720" y="3597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20200" y="3597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19320" y="3597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0A128-F279-4AEC-AA9E-AE4BB711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7D2E-62A0-48F5-AD79-82797441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EEC0-3F87-480E-8A30-B09346B6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95DB-E5F5-4E37-9B42-4FE48376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57000" y="-360"/>
            <a:ext cx="7442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7C48-8DE3-45A8-9395-20A34561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2072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9FEA-788F-45C6-83FE-5FE84A2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8280" y="3597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1B8F-34E5-4286-B24C-2ECD615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8280" y="14479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20720" y="3597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892A-3545-47D7-8659-63B0C945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720" y="1447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1436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6605280"/>
            <a:ext cx="1447920" cy="2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AF0F-A2FE-444D-9C2B-4AB503057CD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509760" y="31104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95360" y="32688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36440" y="1752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-119520" y="6627600"/>
            <a:ext cx="1590840" cy="20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F270-BA39-4391-858B-804139E9D29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7320" y="6613560"/>
            <a:ext cx="4572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pt.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1420920" cy="94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" y="2241720"/>
            <a:ext cx="1520640" cy="938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680" y="3255840"/>
            <a:ext cx="1519200" cy="935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0" y="1143000"/>
            <a:ext cx="152388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0" y="4267080"/>
            <a:ext cx="1523880" cy="1089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20360" y="990720"/>
            <a:ext cx="721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NING KNOWLEDGE IN AN AGING WORK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Jerry La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ennessee Valley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W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4DA8-67FB-4104-B14D-C8830A656E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Some Lessons Lear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2072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” is not a pl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.  Focus.  Foc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nce on skill &amp; experience =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you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trumps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influence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7347-A36D-441F-99EB-EE14E85F8C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57400" y="2971800"/>
            <a:ext cx="617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7059f9"/>
                </a:solidFill>
                <a:latin typeface="Arial Black"/>
              </a:rPr>
              <a:t>Questions ? ?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CA43-C663-4B9A-A762-5A329C566DC4}" type="slidenum">
              <a:t>11</a:t>
            </a:fld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562720" y="3809880"/>
            <a:ext cx="3407760" cy="2565000"/>
            <a:chOff x="5562720" y="3809880"/>
            <a:chExt cx="3407760" cy="25650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5562720" y="3809880"/>
              <a:ext cx="3407760" cy="256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234840" y="4531320"/>
              <a:ext cx="171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nness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o is TV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erica’s largest public power produc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8.5 million customers; 7 sta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rough a network of 158 municipal and cooperative power distribu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2,600 Employe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pacity – 31,000 M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uclear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 units; 5,683 megawat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coal-fired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hydroelectric d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ump storage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31CC-6550-48D1-A053-43EFDF2DC508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00200" y="1398600"/>
            <a:ext cx="723888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347760" indent="-2332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gnificant downsizing over 15+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rious Retirement Incentives to Aid Downsiz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ery Limited Entry Level Recrui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erage Age –  4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roximately 1/3 of work force eligible to retire within next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lnSpc>
                <a:spcPct val="15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ssure to Reduce Labor Cost = Not all retirees will be repla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57360" y="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09640" y="152280"/>
            <a:ext cx="7442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tri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20AA-A315-4BB0-8687-EEEE918928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14360" y="200160"/>
            <a:ext cx="7715520" cy="579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4120" y="116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57360" y="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Attrit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15280" y="1447920"/>
            <a:ext cx="675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0259"/>
                </a:solidFill>
                <a:latin typeface="Arial"/>
              </a:rPr>
              <a:t>An Aging Work Force Nearing Ret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828800" y="2106720"/>
          <a:ext cx="6702480" cy="400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106720"/>
                    <a:ext cx="670248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08B8-FF2D-477B-B792-B646504AD8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30360" y="1278000"/>
            <a:ext cx="7543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1000080"/>
            <a:ext cx="70102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ts val="4935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40259"/>
                </a:solidFill>
                <a:latin typeface="Arial Black"/>
              </a:rPr>
              <a:t>Electric Industry-wid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4680" y="2057400"/>
            <a:ext cx="742932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marL="339840" indent="-339840">
              <a:lnSpc>
                <a:spcPct val="110000"/>
              </a:lnSpc>
              <a:spcBef>
                <a:spcPts val="349"/>
              </a:spcBef>
              <a:spcAft>
                <a:spcPts val="7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50% to lose 50% in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82600">
              <a:lnSpc>
                <a:spcPct val="110000"/>
              </a:lnSpc>
              <a:spcBef>
                <a:spcPts val="224"/>
              </a:spcBef>
              <a:spcAft>
                <a:spcPts val="451"/>
              </a:spcAft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0% of utilities are faced with 50% or more of their workforce retiring in the next five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349"/>
              </a:spcBef>
              <a:spcAft>
                <a:spcPts val="7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90% have a problem … 30% have a pla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82600">
              <a:lnSpc>
                <a:spcPct val="100000"/>
              </a:lnSpc>
              <a:spcBef>
                <a:spcPts val="224"/>
              </a:spcBef>
              <a:spcAft>
                <a:spcPts val="451"/>
              </a:spcAft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terviewed representatives of 21 energy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82600">
              <a:lnSpc>
                <a:spcPct val="100000"/>
              </a:lnSpc>
              <a:spcBef>
                <a:spcPts val="224"/>
              </a:spcBef>
              <a:spcAft>
                <a:spcPts val="451"/>
              </a:spcAft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ver 90% report attrition as an important or emerging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82600">
              <a:lnSpc>
                <a:spcPct val="110000"/>
              </a:lnSpc>
              <a:spcBef>
                <a:spcPts val="224"/>
              </a:spcBef>
              <a:spcAft>
                <a:spcPts val="451"/>
              </a:spcAft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ly 30% report having a plan to address the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349"/>
              </a:spcBef>
              <a:spcAft>
                <a:spcPts val="7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ple anecdotal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82600">
              <a:lnSpc>
                <a:spcPct val="100000"/>
              </a:lnSpc>
              <a:spcBef>
                <a:spcPts val="224"/>
              </a:spcBef>
              <a:spcAft>
                <a:spcPts val="451"/>
              </a:spcAft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luding explicit plans to recruit replacements from other ut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57360" y="0"/>
            <a:ext cx="74422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Attrit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055B-9521-492B-AA64-5CA17813CE49}" type="slidenum">
              <a:t>5</a:t>
            </a:fld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505320" y="2895480"/>
            <a:ext cx="3657600" cy="1828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295280"/>
            <a:ext cx="3657600" cy="1828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1295280"/>
            <a:ext cx="3657600" cy="1828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495680"/>
            <a:ext cx="3657600" cy="1828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4495680"/>
            <a:ext cx="3657600" cy="18288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49600" y="243000"/>
            <a:ext cx="185040" cy="1067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49520" y="0"/>
            <a:ext cx="7441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ork Forc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5380200"/>
            <a:ext cx="350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do we retain critical  knowledge &amp; skills?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4844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adership &amp; Employee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600" y="25257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28040" y="4807080"/>
            <a:ext cx="27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ledge Re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520" y="1660680"/>
            <a:ext cx="26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ee Re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05280" y="2286000"/>
            <a:ext cx="343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do we retain our critical employe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3276720"/>
            <a:ext cx="3124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Forc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3880" y="163656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96840" y="2286000"/>
            <a:ext cx="312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do we find qualified candida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5562720"/>
            <a:ext cx="28958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do we prepare current and future leader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388620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are our nee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 when do they occu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9D2C-B56F-4291-B23F-B62340F52ECB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828960" cy="5781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71600" y="1219320"/>
            <a:ext cx="361008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ritical Undocumented Knowledg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57000" y="-360"/>
            <a:ext cx="7442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Knowledge Retention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20720" y="14479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Specific Knowledge &amp;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Individuals’ “Criticality” and Attrition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ntory Knowledge/Skill “Cluster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Impact of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ize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Retention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30840" y="76320"/>
            <a:ext cx="3336840" cy="91440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457200"/>
            <a:ext cx="35053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ow do we retain critical  knowledge &amp; skills?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120" y="152280"/>
            <a:ext cx="22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Re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7978-E2D7-4437-82E0-87EE7FAF6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23960" y="1154160"/>
            <a:ext cx="62960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7520" bIns="47520" anchor="t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 Rang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09640" y="1675440"/>
            <a:ext cx="329724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and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lists, Inventori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Suppor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 Map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3653280"/>
            <a:ext cx="365256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&amp;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room and Simulator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BT, Video-based, and alternativ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JT and Targeted Work Assig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ching, Shadowing and Men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enticeship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16640" y="1675440"/>
            <a:ext cx="351756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ineer It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” tools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e task, product or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2240" y="3657600"/>
            <a:ext cx="326232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/site/department exp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tational or “Visiting”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skilling or Cross-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ors, part-timers, retir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57360" y="0"/>
            <a:ext cx="74422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nowledge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BD91-C12D-4C54-90EE-CB4624AC98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18:45:44Z</dcterms:created>
  <dc:creator>TVA</dc:creator>
  <dc:description/>
  <dc:language>en-US</dc:language>
  <cp:lastModifiedBy>AMSA</cp:lastModifiedBy>
  <cp:lastPrinted>2002-10-11T18:02:45Z</cp:lastPrinted>
  <dcterms:modified xsi:type="dcterms:W3CDTF">2006-02-02T16:04:56Z</dcterms:modified>
  <cp:revision>227</cp:revision>
  <dc:subject/>
  <dc:title>PowerPoint Presentation</dc:title>
</cp:coreProperties>
</file>