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44160" y="709560"/>
            <a:ext cx="4824360" cy="361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7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527DFE8-CE42-439E-BEB9-FEC3DA447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2DDA2B-32E4-42E1-9F81-B5FB20D1E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B0FE6D-BA88-4F3A-B496-ED83E2CF7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701D3C6-8100-4386-8EFC-982E82145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314379-AFA2-4001-A60A-1CCCE868B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A6B66F9-8833-4FDC-B160-DF007C54F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15F64E5-2B1E-4F23-B993-413AFDABC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721BEC0-8237-4729-8818-5A2E8866A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E53E61-26A2-492B-A615-EFF5FB329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877FA28-D74A-488E-A63B-699C9CCD4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D97-D913-44EA-A292-56251BD7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6760" y="378972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F1D-5751-4A36-80AD-3123EA49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676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92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A02-034C-4E48-A343-D95D93A2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8080" y="16002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9400" y="16002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66760" y="378972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8080" y="378972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9400" y="378972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CB8-1917-4A16-A6F9-E2DA0F05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11700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6676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04D-E210-40FC-A669-8EB0D4B1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892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6760" y="378972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6760" y="378972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6676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892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78080" y="16002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9400" y="160020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66760" y="378972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78080" y="378972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9400" y="3789720"/>
            <a:ext cx="277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F1E-07AC-477C-BDB0-91F8CD35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AC3-43ED-4607-92E9-E1F879DE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021-E256-4B48-BC61-E967048F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1700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327-66A2-4EA8-A827-7C1CBB1E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6676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F3A-EF8D-4B27-B8CF-78373E6F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920" y="378972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B43-8F2D-4108-931E-6C32D47E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1600200"/>
            <a:ext cx="4201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3789720"/>
            <a:ext cx="8610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143-AD89-48EE-9226-12C9A652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30400"/>
            <a:ext cx="9144000" cy="328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525680"/>
            <a:ext cx="9144000" cy="118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849320"/>
            <a:ext cx="9144000" cy="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8360" indent="-3783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858600" indent="-326880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146600" indent="-191880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3" marL="1434600" indent="-191880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1728000" indent="-191880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5" marL="1728000" indent="-191880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6" marL="1728000" indent="-191880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5706-90F7-4BB9-8C80-07C3CC894388}" type="slidenum"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45720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949400"/>
            <a:ext cx="9144000" cy="328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44680"/>
            <a:ext cx="9144000" cy="1191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68680"/>
            <a:ext cx="9144000" cy="55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indent="0"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algn="ctr">
              <a:lnSpc>
                <a:spcPct val="125000"/>
              </a:lnSpc>
              <a:spcBef>
                <a:spcPts val="700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3" algn="ctr">
              <a:lnSpc>
                <a:spcPct val="125000"/>
              </a:lnSpc>
              <a:spcBef>
                <a:spcPts val="700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4" algn="ctr">
              <a:lnSpc>
                <a:spcPct val="125000"/>
              </a:lnSpc>
              <a:spcBef>
                <a:spcPts val="700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5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6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05280" y="53640"/>
            <a:ext cx="9372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UTILITIES HELPING UTILITI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nsuring Service Continuity in      Times of Emergenc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3124080"/>
            <a:ext cx="495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y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rtin Falarski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alWARN/East Bay MUD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cott Kelly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laWARN/JE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57150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CWA 2006 Winter Conference  Palm Springs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ebruary 3, 2006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tional Incident Managemen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By October 1, 2006 Local, Tribal and Stat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Government Must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Adopt NIM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Update emergency plan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Integrate public and private responder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With Associations promote intrastate mutual aid 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Lack of Compliance Impacts Agency’s Ability to Obtain Federal Grant Funds to Prepare for, Respond to and Recover from a Disaster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7652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tual Aid Agre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5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National Incident Management System (NIMS) Requirement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Definitions of key term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Roles and responsibilities of individual partie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Procedures for requesting and providing aid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Reimbursement and allocation of cost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Notification procedure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Protocols for interoperable communication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Relationships with other jurisdiction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Workers Compensation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Liability and Immunity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Recognition of qualifications and certification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451"/>
              </a:spcBef>
              <a:buSzPct val="15995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3f99"/>
                </a:solidFill>
                <a:latin typeface="Arial"/>
              </a:rPr>
              <a:t>Sharing agreement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atrin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48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RP implemented for the 1</a:t>
            </a:r>
            <a:r>
              <a:rPr b="0" lang="en-US" sz="2800" spc="-1" strike="noStrike" baseline="30000">
                <a:solidFill>
                  <a:srgbClr val="183f99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 tim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ommunication &amp; Coordination problem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ational Emergency Resource Registry (NERR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ilot program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Barriers to willing assistance provider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urrent mechanisms not designed for public work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o clear chain of command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Liability concern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Learn from success/challenges of existing program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dentify key steps for organization, support, and management of a mutual aid network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trastate Aid Network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15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How can this work for me locally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gional Aid Network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How can this work across state jurisdictions?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ational Aid Network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15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Incorporation into a National Preparedness System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s for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24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Does EMAC need to be amended for water and wastewater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Do we need to standardize (as much as possible) mutual aid agreements (MAAs)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Do we need a central library for MAAs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What roles can DHS, FEMA, and EPA play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Is there $$ for developing and operating WARN networks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How can NACWA &amp; others assist in developing these networks in other states?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 rot="10800000">
            <a:off x="2819520" y="7695000"/>
            <a:ext cx="526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9720" y="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aWAR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03280"/>
            <a:ext cx="85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orida Water/Wastewater Agency Response Networ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4880" y="1865160"/>
            <a:ext cx="611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5000"/>
              </a:lnSpc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905120"/>
            <a:ext cx="807696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FlaWARN conducted a workshop on November 30th in Orlando to encourage formation of additional WARN organiza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Thirteen state and regional groups have already formed or are considering formation of additional WARN organizati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25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White paper on workshop and future steps will be developed by March 1, 2006 jointly by AWWA, EPA and FlaWAR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laWARN Working on Best Management Pract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-44604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mergency Preparednes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46040" indent="-44604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Preparing for the Storm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1011960" indent="-38520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nding Mutual Aid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46040" indent="-44604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Receiving Mutual Aid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46040" indent="-44604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After the Storm – Restoring Servic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46040" indent="-44604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Reimbursement from FEMA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46040" indent="-44604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xit Strateg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6002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Can NACWA Hel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6760" y="17524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3360" indent="-4233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ncourage members to form or join a WARN program</a:t>
            </a:r>
            <a:br>
              <a:rPr sz="3200"/>
            </a:b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23360" indent="-4233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Promote emergency preparedness planning</a:t>
            </a:r>
            <a:br>
              <a:rPr sz="3200"/>
            </a:b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23360" indent="-423360">
              <a:lnSpc>
                <a:spcPct val="12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Sign on to white paper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37160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48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Martin Falarski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Manager of Construction &amp;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Chair, CalWARN State Steering Committee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Oakland, California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510-287-1233 or falarski@ebmud.com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4191120"/>
            <a:ext cx="8649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Scott Kell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Vice President JEA &amp;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Chair FlaWAR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Jacksonville, Florid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904-665-4642 or kellsd@jea.co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uty to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2133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05000"/>
              </a:lnSpc>
              <a:spcBef>
                <a:spcPts val="601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Our Duty to Provide Service is Either: </a:t>
            </a:r>
            <a:br>
              <a:rPr sz="2800"/>
            </a:b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-  Prescribed by Law</a:t>
            </a:r>
            <a:br>
              <a:rPr sz="2400"/>
            </a:b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-  Assumed by Customer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601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Emergencies Change All That</a:t>
            </a:r>
            <a:br>
              <a:rPr sz="2800"/>
            </a:b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-  Media</a:t>
            </a:r>
            <a:br>
              <a:rPr sz="2400"/>
            </a:b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-  Health Care Issues</a:t>
            </a:r>
            <a:br>
              <a:rPr sz="2400"/>
            </a:b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-  Political Pressur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45072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A Big Emergency You Wi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Lose Worker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Lose Power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Lose Communica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Suffer Damage to Key Faciliti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Run Out of Key Chemical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Overspend Your Budget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Need Extra Equipment &amp; Worker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405360" indent="-405360">
              <a:lnSpc>
                <a:spcPct val="115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Asked What’s Wrong and When Will it be Fixed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ergency (cont’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4360" indent="-414360">
              <a:lnSpc>
                <a:spcPct val="10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Affect Your Neighbor Agenci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14360" indent="-414360">
              <a:lnSpc>
                <a:spcPct val="10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Impact Your Communit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14360" indent="-414360">
              <a:lnSpc>
                <a:spcPct val="105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State and Federal Response Ma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940320" indent="-35784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Take Several Day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940320" indent="-357840">
              <a:lnSpc>
                <a:spcPct val="105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Will Need Paper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ergency (cont’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25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3f99"/>
                </a:solidFill>
                <a:latin typeface="Times New Roman"/>
              </a:rPr>
              <a:t>You Will Be Asked Why You Were Not Better Prepared</a:t>
            </a:r>
            <a:endParaRPr b="0" lang="en-US" sz="44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tual Assis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You Can Avoid Many of These Problems By:</a:t>
            </a:r>
            <a:br>
              <a:rPr sz="2800"/>
            </a:b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Having an Emergency Operations Plan</a:t>
            </a:r>
            <a:br>
              <a:rPr sz="2800"/>
            </a:b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Preparing Employees to Respond</a:t>
            </a:r>
            <a:br>
              <a:rPr sz="2800"/>
            </a:b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1022400" indent="-389160">
              <a:lnSpc>
                <a:spcPct val="10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Be Part of a Statewide or Regional Mutual Assistance Organiza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1676520"/>
            <a:ext cx="8839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Help Can Respond Immediately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Contains Terms and Conditions for Assistanc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List Contacts &amp; Equipm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Helps with FEMA $ Reimbursement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Addresses Workers Comp &amp; Liability/Immunity Issu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Consistent with NI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Borrower Pays Lenders Cos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692280"/>
                <a:tab algn="l" pos="1593720"/>
                <a:tab algn="l" pos="2684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It is Getting Big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A WARN (Water/Wastewater Agency Response Network) Mutual Aid Organization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RN Organizations Unique Aspe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6400" y="1904760"/>
            <a:ext cx="422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CalWARN – 215 Signator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Regional and state committee oversight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Direct utility to utility request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Website calwarn.org allows view of all resource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Agreement covers more NIMS requirement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Coordination at state level through OES/CUEA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Used in three declared emergencie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Sign MAA to Join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5880" y="1904760"/>
            <a:ext cx="422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FlaWARN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Direct utility to utility request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Security information collaborative and emergency response network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Responded to four major hurricane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Used to respond to out of state emergencie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FlaWARN staffs state EOC ESF 10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Website flawarn.org has interactive bulletin board 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MAA execution not required for membership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05000"/>
              </a:lnSpc>
              <a:spcBef>
                <a:spcPts val="400"/>
              </a:spcBef>
              <a:buSzPct val="20592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3f99"/>
                </a:solidFill>
                <a:latin typeface="Arial"/>
              </a:rPr>
              <a:t>Approximately 150  Members</a:t>
            </a: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marL="45072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1700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ational Preparedness 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urpose is to help entities at all levels of government develop and maintain the capabilities to prevent, respond to, and recover from major events or Incidents of National Significance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450720" indent="-450720">
              <a:lnSpc>
                <a:spcPct val="115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Key Priority: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Expand regional collaboration through mutual aid agreements and assistance compac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9:09:13Z</dcterms:created>
  <dc:creator>aroberso</dc:creator>
  <dc:description/>
  <dc:language>en-US</dc:language>
  <cp:lastModifiedBy>tsharris</cp:lastModifiedBy>
  <dcterms:modified xsi:type="dcterms:W3CDTF">2006-01-18T23:02:20Z</dcterms:modified>
  <cp:revision>123</cp:revision>
  <dc:subject/>
  <dc:title>PowerPoint Presentation</dc:title>
</cp:coreProperties>
</file>