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44160" y="709560"/>
            <a:ext cx="4824360" cy="361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74880" y="4563720"/>
            <a:ext cx="5365440" cy="4327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0FB26B0-634D-4CDE-A63B-0EAC6F4B92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264A9EC-555D-49EC-978A-181283802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A0B9C88-8BA9-4912-ACE7-315A0E7783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B8D37AE-68D6-44B7-8960-B363CF8A3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7BEFE22-5D66-4495-8DD3-C9094092D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C2138E3-E4C1-4E9C-92D7-A09C81590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745784D-29C7-4A9C-A149-F1F0966CD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3E82D91-C5CC-430F-A27C-4A5BB00AD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CD83638-8A4F-4AAE-8410-5B121AAE2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621442F-6C76-4D6A-9D54-6495750BF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5E94-D645-43AD-98A3-2D6087BA5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8610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66760" y="3789720"/>
            <a:ext cx="8610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6482-97FD-4EDE-874A-4213FEC9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8920" y="160020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66760" y="378972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8920" y="378972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4A56-DA5F-4042-9710-FFA6B088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277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78080" y="1600200"/>
            <a:ext cx="277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89400" y="1600200"/>
            <a:ext cx="277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66760" y="3789720"/>
            <a:ext cx="277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78080" y="3789720"/>
            <a:ext cx="277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89400" y="3789720"/>
            <a:ext cx="277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6746-50A8-4190-9B96-122F3573F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66760" y="16002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4201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920" y="1600200"/>
            <a:ext cx="4201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0" y="117000"/>
            <a:ext cx="9144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920" y="1600200"/>
            <a:ext cx="4201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66760" y="378972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66760" y="16002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EA99-5BEB-4407-9CAA-23BD14EF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4201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920" y="160020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8920" y="378972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0020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6760" y="3789720"/>
            <a:ext cx="8610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8610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66760" y="3789720"/>
            <a:ext cx="8610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8920" y="160020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66760" y="378972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8920" y="378972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277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78080" y="1600200"/>
            <a:ext cx="277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89400" y="1600200"/>
            <a:ext cx="277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66760" y="3789720"/>
            <a:ext cx="277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78080" y="3789720"/>
            <a:ext cx="277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89400" y="3789720"/>
            <a:ext cx="277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9D64-69DA-4DD9-BB59-95219119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4201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00200"/>
            <a:ext cx="4201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97DF-122A-444D-A96C-39084116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1305-6B07-4630-BAF0-B87CF942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117000"/>
            <a:ext cx="9144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4BD6-A365-4549-B78A-F1F060EE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1600200"/>
            <a:ext cx="4201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66760" y="378972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57CD-D8F7-4DD9-BEF9-61E36DC9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4201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920" y="160020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8920" y="378972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7171-BFBB-45F6-90F9-BB37539B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920" y="160020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6760" y="3789720"/>
            <a:ext cx="8610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4766-E613-4D72-8B8B-C1E95901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101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30400"/>
            <a:ext cx="9144000" cy="328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525680"/>
            <a:ext cx="9144000" cy="118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849320"/>
            <a:ext cx="9144000" cy="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266760" y="16002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8360" indent="-37836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858600" indent="-326880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2" marL="1146600" indent="-191880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3" marL="1434600" indent="-191880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4" marL="1728000" indent="-191880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5" marL="1728000" indent="-191880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6" marL="1728000" indent="-191880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BCEC-24A7-4C83-9B39-E5CEA085A5FC}" type="slidenum"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-45720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949400"/>
            <a:ext cx="9144000" cy="328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344680"/>
            <a:ext cx="9144000" cy="1191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668680"/>
            <a:ext cx="9144000" cy="554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indent="0"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2" algn="ctr">
              <a:lnSpc>
                <a:spcPct val="125000"/>
              </a:lnSpc>
              <a:spcBef>
                <a:spcPts val="700"/>
              </a:spcBef>
              <a:buClr>
                <a:srgbClr val="183f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3" algn="ctr">
              <a:lnSpc>
                <a:spcPct val="125000"/>
              </a:lnSpc>
              <a:spcBef>
                <a:spcPts val="700"/>
              </a:spcBef>
              <a:buClr>
                <a:srgbClr val="183f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4" algn="ctr">
              <a:lnSpc>
                <a:spcPct val="125000"/>
              </a:lnSpc>
              <a:spcBef>
                <a:spcPts val="700"/>
              </a:spcBef>
              <a:buClr>
                <a:srgbClr val="183f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5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6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05280" y="53640"/>
            <a:ext cx="9372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UTILITIES HELPING UTILITIE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74678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Ensuring Service Continuity in      Times of Emergency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3124080"/>
            <a:ext cx="495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y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artin Falarski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alWARN/East Bay MUD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nd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cott Kelly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laWARN/JEA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81480" y="571500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ACWA 2006 Winter Conference  Palm Springs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ebruary 3, 2006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tional Incident Management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0720" indent="-450720">
              <a:lnSpc>
                <a:spcPct val="105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By October 1, 2006 Local, Tribal and State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4507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Government Must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Adopt NIMS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Update emergency plans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Integrate public and private responders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With Associations promote intrastate mutual aid 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05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Lack of Compliance Impacts Agency’s Ability to Obtain Federal Grant Funds to Prepare for, Respond to and Recover from a Disaster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67652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utual Aid Agree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5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3f99"/>
                </a:solidFill>
                <a:latin typeface="Arial"/>
              </a:rPr>
              <a:t>National Incident Management System (NIMS) Requirements</a:t>
            </a:r>
            <a:endParaRPr b="0" lang="en-US" sz="1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451"/>
              </a:spcBef>
              <a:buSzPct val="15995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3f99"/>
                </a:solidFill>
                <a:latin typeface="Arial"/>
              </a:rPr>
              <a:t>Definitions of key terms</a:t>
            </a:r>
            <a:endParaRPr b="0" lang="en-US" sz="1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451"/>
              </a:spcBef>
              <a:buSzPct val="15995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3f99"/>
                </a:solidFill>
                <a:latin typeface="Arial"/>
              </a:rPr>
              <a:t>Roles and responsibilities of individual parties</a:t>
            </a:r>
            <a:endParaRPr b="0" lang="en-US" sz="1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451"/>
              </a:spcBef>
              <a:buSzPct val="15995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3f99"/>
                </a:solidFill>
                <a:latin typeface="Arial"/>
              </a:rPr>
              <a:t>Procedures for requesting and providing aid</a:t>
            </a:r>
            <a:endParaRPr b="0" lang="en-US" sz="1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451"/>
              </a:spcBef>
              <a:buSzPct val="15995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3f99"/>
                </a:solidFill>
                <a:latin typeface="Arial"/>
              </a:rPr>
              <a:t>Reimbursement and allocation of costs</a:t>
            </a:r>
            <a:endParaRPr b="0" lang="en-US" sz="1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451"/>
              </a:spcBef>
              <a:buSzPct val="15995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3f99"/>
                </a:solidFill>
                <a:latin typeface="Arial"/>
              </a:rPr>
              <a:t>Notification procedures</a:t>
            </a:r>
            <a:endParaRPr b="0" lang="en-US" sz="1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451"/>
              </a:spcBef>
              <a:buSzPct val="15995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3f99"/>
                </a:solidFill>
                <a:latin typeface="Arial"/>
              </a:rPr>
              <a:t>Protocols for interoperable communications</a:t>
            </a:r>
            <a:endParaRPr b="0" lang="en-US" sz="1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451"/>
              </a:spcBef>
              <a:buSzPct val="15995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3f99"/>
                </a:solidFill>
                <a:latin typeface="Arial"/>
              </a:rPr>
              <a:t>Relationships with other jurisdictions</a:t>
            </a:r>
            <a:endParaRPr b="0" lang="en-US" sz="1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451"/>
              </a:spcBef>
              <a:buSzPct val="15995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3f99"/>
                </a:solidFill>
                <a:latin typeface="Arial"/>
              </a:rPr>
              <a:t>Workers Compensation</a:t>
            </a:r>
            <a:endParaRPr b="0" lang="en-US" sz="1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451"/>
              </a:spcBef>
              <a:buSzPct val="15995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3f99"/>
                </a:solidFill>
                <a:latin typeface="Arial"/>
              </a:rPr>
              <a:t>Liability and Immunity</a:t>
            </a:r>
            <a:endParaRPr b="0" lang="en-US" sz="1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451"/>
              </a:spcBef>
              <a:buSzPct val="159955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3f99"/>
                </a:solidFill>
                <a:latin typeface="Arial"/>
              </a:rPr>
              <a:t>Recognition of qualifications and certifications</a:t>
            </a:r>
            <a:endParaRPr b="0" lang="en-US" sz="1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451"/>
              </a:spcBef>
              <a:buSzPct val="159955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3f99"/>
                </a:solidFill>
                <a:latin typeface="Arial"/>
              </a:rPr>
              <a:t>Sharing agreements</a:t>
            </a:r>
            <a:endParaRPr b="0" lang="en-US" sz="18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Katrina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48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5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NRP implemented for the 1</a:t>
            </a:r>
            <a:r>
              <a:rPr b="0" lang="en-US" sz="2800" spc="-1" strike="noStrike" baseline="30000">
                <a:solidFill>
                  <a:srgbClr val="183f99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 time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05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Communication &amp; Coordination problem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05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National Emergency Resource Registry (NERR)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Pilot program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05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Barriers to willing assistance provider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Current mechanisms not designed for public work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No clear chain of command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Liability concern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xt Ste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5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Learn from success/challenges of existing program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15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Identify key steps for organization, support, and management of a mutual aid network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15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Intrastate Aid Network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15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How can this work for me locally?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15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Regional Aid Network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How can this work across state jurisdictions?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15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National Aid Network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15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Incorporation into a National Preparedness System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s for Discus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724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5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Does EMAC need to be amended for water and wastewater?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25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Do we need to standardize (as much as possible) mutual aid agreements (MAAs)?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25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Do we need a central library for MAAs?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25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What roles can DHS, FEMA, and EPA play?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25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Is there $$ for developing and operating WARN networks?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25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How can NACWA &amp; others assist in developing these networks in other states?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 rot="10800000">
            <a:off x="2819520" y="7695000"/>
            <a:ext cx="526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09720" y="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aWARN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503280"/>
            <a:ext cx="85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orida Water/Wastewater Agency Response Network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74880" y="1865160"/>
            <a:ext cx="611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5000"/>
              </a:lnSpc>
              <a:spcBef>
                <a:spcPts val="799"/>
              </a:spcBef>
              <a:buClr>
                <a:srgbClr val="183f99"/>
              </a:buClr>
              <a:buFont typeface="Arial"/>
              <a:buChar char="•"/>
              <a:tabLst>
                <a:tab algn="l" pos="692280"/>
                <a:tab algn="l" pos="159372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1905120"/>
            <a:ext cx="8076960" cy="43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5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692280"/>
                <a:tab algn="l" pos="159372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FlaWARN conducted a workshop on November 30th in Orlando to encourage formation of additional WARN organizati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450720" indent="-450720">
              <a:lnSpc>
                <a:spcPct val="125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692280"/>
                <a:tab algn="l" pos="159372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Thirteen state and regional groups have already formed or are considering formation of additional WARN organization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450720" indent="-450720">
              <a:lnSpc>
                <a:spcPct val="125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692280"/>
                <a:tab algn="l" pos="159372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White paper on workshop and future steps will be developed by March 1, 2006 jointly by AWWA, EPA and FlaWARN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laWARN Working on Best Management Pract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6040" indent="-446040">
              <a:lnSpc>
                <a:spcPct val="115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Emergency Preparednes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446040" indent="-446040">
              <a:lnSpc>
                <a:spcPct val="115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Preparing for the Storm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1011960" indent="-38520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Sending Mutual Aid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446040" indent="-446040">
              <a:lnSpc>
                <a:spcPct val="115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Receiving Mutual Aid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446040" indent="-446040">
              <a:lnSpc>
                <a:spcPct val="115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After the Storm – Restoring Service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446040" indent="-446040">
              <a:lnSpc>
                <a:spcPct val="115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Reimbursement from FEMA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446040" indent="-446040">
              <a:lnSpc>
                <a:spcPct val="115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Exit Strategy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60020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w Can NACWA Hel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66760" y="175248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3360" indent="-42336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Encourage members to form or join a WARN program</a:t>
            </a:r>
            <a:br>
              <a:rPr sz="3200"/>
            </a:b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423360" indent="-42336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Promote emergency preparedness planning</a:t>
            </a:r>
            <a:br>
              <a:rPr sz="3200"/>
            </a:b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423360" indent="-42336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Sign on to white paper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137160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486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0" algn="ctr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Martin Falarski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450720" indent="0" algn="ctr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Manager of Construction &amp;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450720" indent="0" algn="ctr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Chair, CalWARN State Steering Committee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450720" indent="0" algn="ctr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Oakland, California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450720" indent="0" algn="ctr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510-287-1233 or falarski@ebmud.com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4191120"/>
            <a:ext cx="8649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 algn="ctr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Scott Kelly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450720" indent="-450720" algn="ctr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Vice President JEA &amp;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450720" indent="-450720" algn="ctr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Chair FlaWAR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450720" indent="-450720" algn="ctr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Jacksonville, Florida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450720" indent="-450720" algn="ctr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904-665-4642 or kellsd@jea.co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uty to Our Custom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6760" y="2133360"/>
            <a:ext cx="8610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0720" indent="-450720">
              <a:lnSpc>
                <a:spcPct val="105000"/>
              </a:lnSpc>
              <a:spcBef>
                <a:spcPts val="601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Our Duty to Provide Service is Either: </a:t>
            </a:r>
            <a:br>
              <a:rPr sz="2800"/>
            </a:b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-  Prescribed by Law</a:t>
            </a:r>
            <a:br>
              <a:rPr sz="2400"/>
            </a:b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-  Assumed by Customers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45072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05000"/>
              </a:lnSpc>
              <a:spcBef>
                <a:spcPts val="601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Emergencies Change All That</a:t>
            </a:r>
            <a:br>
              <a:rPr sz="2800"/>
            </a:b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-  Media</a:t>
            </a:r>
            <a:br>
              <a:rPr sz="2400"/>
            </a:b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-  Health Care Issues</a:t>
            </a:r>
            <a:br>
              <a:rPr sz="2400"/>
            </a:b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-  Political Pressure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45072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A Big Emergency You Wil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05360" indent="-405360">
              <a:lnSpc>
                <a:spcPct val="115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Lose Worker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405360" indent="-405360">
              <a:lnSpc>
                <a:spcPct val="115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Lose Power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405360" indent="-405360">
              <a:lnSpc>
                <a:spcPct val="115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Lose Communication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405360" indent="-405360">
              <a:lnSpc>
                <a:spcPct val="115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Suffer Damage to Key Facilitie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405360" indent="-405360">
              <a:lnSpc>
                <a:spcPct val="115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Run Out of Key Chemical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405360" indent="-405360">
              <a:lnSpc>
                <a:spcPct val="115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Overspend Your Budget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405360" indent="-405360">
              <a:lnSpc>
                <a:spcPct val="115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Need Extra Equipment &amp; Worker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405360" indent="-405360">
              <a:lnSpc>
                <a:spcPct val="115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Asked What’s Wrong and When Will it be Fixed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mergency (cont’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4360" indent="-414360">
              <a:lnSpc>
                <a:spcPct val="105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Affect Your Neighbor Agencie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414360" indent="-414360">
              <a:lnSpc>
                <a:spcPct val="105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Impact Your Community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414360" indent="-414360">
              <a:lnSpc>
                <a:spcPct val="105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State and Federal Response May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940320" indent="-357840">
              <a:lnSpc>
                <a:spcPct val="105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Take Several Day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940320" indent="-357840">
              <a:lnSpc>
                <a:spcPct val="105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Will Need Paper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mergency (cont’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0">
              <a:lnSpc>
                <a:spcPct val="125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25000"/>
              </a:lnSpc>
              <a:spcBef>
                <a:spcPts val="11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3f99"/>
                </a:solidFill>
                <a:latin typeface="Times New Roman"/>
              </a:rPr>
              <a:t>You Will Be Asked Why You Were Not Better Prepared</a:t>
            </a:r>
            <a:endParaRPr b="0" lang="en-US" sz="44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utual Assist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07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You Can Avoid Many of These Problems By:</a:t>
            </a:r>
            <a:br>
              <a:rPr sz="2800"/>
            </a:b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Having an Emergency Operations Plan</a:t>
            </a:r>
            <a:br>
              <a:rPr sz="2800"/>
            </a:b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Preparing Employees to Respond</a:t>
            </a:r>
            <a:br>
              <a:rPr sz="2800"/>
            </a:b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Be Part of a Statewide or Regional Mutual Assistance Organization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52280" y="1676520"/>
            <a:ext cx="8839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692280"/>
                <a:tab algn="l" pos="159372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Help Can Respond Immediately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450720" indent="-45072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692280"/>
                <a:tab algn="l" pos="159372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692280"/>
                <a:tab algn="l" pos="159372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Contains Terms and Conditions for Assistanc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692280"/>
                <a:tab algn="l" pos="159372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List Contacts &amp; Equipmen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692280"/>
                <a:tab algn="l" pos="159372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Helps with FEMA $ Reimbursement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692280"/>
                <a:tab algn="l" pos="159372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Addresses Workers Comp &amp; Liability/Immunity Issu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692280"/>
                <a:tab algn="l" pos="159372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Consistent with NIM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692280"/>
                <a:tab algn="l" pos="159372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Borrower Pays Lenders Cost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692280"/>
                <a:tab algn="l" pos="159372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It is Getting Bigg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A WARN (Water/Wastewater Agency Response Network) Mutual Aid Organization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RN Organizations Unique Aspe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6400" y="1904760"/>
            <a:ext cx="422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CalWARN – 215 Signators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05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3f99"/>
                </a:solidFill>
                <a:latin typeface="Arial"/>
              </a:rPr>
              <a:t>Regional and state committee oversight</a:t>
            </a:r>
            <a:endParaRPr b="0" lang="en-US" sz="16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05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3f99"/>
                </a:solidFill>
                <a:latin typeface="Arial"/>
              </a:rPr>
              <a:t>Direct utility to utility requests</a:t>
            </a:r>
            <a:endParaRPr b="0" lang="en-US" sz="16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05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3f99"/>
                </a:solidFill>
                <a:latin typeface="Arial"/>
              </a:rPr>
              <a:t>Website calwarn.org allows view of all resources</a:t>
            </a:r>
            <a:endParaRPr b="0" lang="en-US" sz="16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05000"/>
              </a:lnSpc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3f99"/>
                </a:solidFill>
                <a:latin typeface="Arial"/>
              </a:rPr>
              <a:t>Agreement covers more NIMS requirements</a:t>
            </a:r>
            <a:endParaRPr b="0" lang="en-US" sz="16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05000"/>
              </a:lnSpc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3f99"/>
                </a:solidFill>
                <a:latin typeface="Arial"/>
              </a:rPr>
              <a:t>Coordination at state level through OES/CUEA</a:t>
            </a:r>
            <a:endParaRPr b="0" lang="en-US" sz="16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05000"/>
              </a:lnSpc>
              <a:spcBef>
                <a:spcPts val="400"/>
              </a:spcBef>
              <a:buSzPct val="20592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3f99"/>
                </a:solidFill>
                <a:latin typeface="Arial"/>
              </a:rPr>
              <a:t>Used in three declared emergencies</a:t>
            </a:r>
            <a:endParaRPr b="0" lang="en-US" sz="16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05000"/>
              </a:lnSpc>
              <a:spcBef>
                <a:spcPts val="400"/>
              </a:spcBef>
              <a:buSzPct val="20592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3f99"/>
                </a:solidFill>
                <a:latin typeface="Arial"/>
              </a:rPr>
              <a:t>Sign MAA to Join</a:t>
            </a:r>
            <a:endParaRPr b="0" lang="en-US" sz="1600" spc="-1" strike="noStrike">
              <a:solidFill>
                <a:srgbClr val="183f99"/>
              </a:solidFill>
              <a:latin typeface="Arial"/>
            </a:endParaRPr>
          </a:p>
          <a:p>
            <a:pPr marL="45072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5880" y="1904760"/>
            <a:ext cx="422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FlaWARN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05000"/>
              </a:lnSpc>
              <a:spcBef>
                <a:spcPts val="400"/>
              </a:spcBef>
              <a:buSzPct val="20592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3f99"/>
                </a:solidFill>
                <a:latin typeface="Arial"/>
              </a:rPr>
              <a:t>Direct utility to utility requests</a:t>
            </a:r>
            <a:endParaRPr b="0" lang="en-US" sz="16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05000"/>
              </a:lnSpc>
              <a:spcBef>
                <a:spcPts val="400"/>
              </a:spcBef>
              <a:buSzPct val="20592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3f99"/>
                </a:solidFill>
                <a:latin typeface="Arial"/>
              </a:rPr>
              <a:t>Security information collaborative and emergency response network</a:t>
            </a:r>
            <a:endParaRPr b="0" lang="en-US" sz="16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05000"/>
              </a:lnSpc>
              <a:spcBef>
                <a:spcPts val="400"/>
              </a:spcBef>
              <a:buSzPct val="20592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3f99"/>
                </a:solidFill>
                <a:latin typeface="Arial"/>
              </a:rPr>
              <a:t>Responded to four major hurricanes</a:t>
            </a:r>
            <a:endParaRPr b="0" lang="en-US" sz="16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05000"/>
              </a:lnSpc>
              <a:spcBef>
                <a:spcPts val="400"/>
              </a:spcBef>
              <a:buSzPct val="20592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3f99"/>
                </a:solidFill>
                <a:latin typeface="Arial"/>
              </a:rPr>
              <a:t>Used to respond to out of state emergencies</a:t>
            </a:r>
            <a:endParaRPr b="0" lang="en-US" sz="16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05000"/>
              </a:lnSpc>
              <a:spcBef>
                <a:spcPts val="400"/>
              </a:spcBef>
              <a:buSzPct val="20592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3f99"/>
                </a:solidFill>
                <a:latin typeface="Arial"/>
              </a:rPr>
              <a:t>FlaWARN staffs state EOC ESF 10</a:t>
            </a:r>
            <a:endParaRPr b="0" lang="en-US" sz="16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05000"/>
              </a:lnSpc>
              <a:spcBef>
                <a:spcPts val="400"/>
              </a:spcBef>
              <a:buSzPct val="20592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3f99"/>
                </a:solidFill>
                <a:latin typeface="Arial"/>
              </a:rPr>
              <a:t>Website flawarn.org has interactive bulletin board </a:t>
            </a:r>
            <a:endParaRPr b="0" lang="en-US" sz="16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05000"/>
              </a:lnSpc>
              <a:spcBef>
                <a:spcPts val="400"/>
              </a:spcBef>
              <a:buSzPct val="20592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3f99"/>
                </a:solidFill>
                <a:latin typeface="Arial"/>
              </a:rPr>
              <a:t>MAA execution not required for membership</a:t>
            </a:r>
            <a:endParaRPr b="0" lang="en-US" sz="16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05000"/>
              </a:lnSpc>
              <a:spcBef>
                <a:spcPts val="400"/>
              </a:spcBef>
              <a:buSzPct val="20592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3f99"/>
                </a:solidFill>
                <a:latin typeface="Arial"/>
              </a:rPr>
              <a:t>Approximately 150  Members</a:t>
            </a:r>
            <a:endParaRPr b="0" lang="en-US" sz="1600" spc="-1" strike="noStrike">
              <a:solidFill>
                <a:srgbClr val="183f99"/>
              </a:solidFill>
              <a:latin typeface="Arial"/>
            </a:endParaRPr>
          </a:p>
          <a:p>
            <a:pPr marL="45072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ational Preparedness Go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5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Purpose is to help entities at all levels of government develop and maintain the capabilities to prevent, respond to, and recover from major events or Incidents of National Significance 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15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Key Priority: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Expand regional collaboration through mutual aid agreements and assistance compact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9:09:13Z</dcterms:created>
  <dc:creator>aroberso</dc:creator>
  <dc:description/>
  <dc:language>en-US</dc:language>
  <cp:lastModifiedBy>tsharris</cp:lastModifiedBy>
  <dcterms:modified xsi:type="dcterms:W3CDTF">2006-01-18T23:02:20Z</dcterms:modified>
  <cp:revision>123</cp:revision>
  <dc:subject/>
  <dc:title>PowerPoint Presentation</dc:title>
</cp:coreProperties>
</file>