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5457-1D1B-4EBA-AB39-27A2C69C3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Novato Sanitary is currently implementing C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Ax screen s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ized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Novato Sanitary is currently implementing C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683-480A-4E5C-9AA9-DD24BA33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8360-8DB5-46D6-A625-67BC122B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813-972E-4A0B-AB2A-15354107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D7E-542B-4E72-88D1-267A7437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0E0-9396-4F19-883F-AA5664A2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302-A66C-4F80-A78A-14E3CD15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C31-C3D7-42C0-9DC9-9F851F1E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F530-7B04-437D-8100-E531C229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253-FA9B-4653-BFD0-BC2337AA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4A2-18B7-4609-96BA-7E707165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982-B0F4-4485-AAAB-A639A8D8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808-7875-45D4-96F0-CDA6CE90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6217-7218-49C5-ADD1-60370B8B2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Franklin Gothic Demi"/>
              </a:rPr>
              <a:t>Efficient Operations Using a Knowledge-Based Suppor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deep Karkal,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uty District Manager-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ato Sanitary 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ven S.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MMM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391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CTV remaining Lines ~80% prioritized a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G program Inspection Scheduler and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gram Generated Spot Repair Work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dentify Backflow Prevention 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base for Automated Customer Notification of Lateral Damage or for Accessing Ea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ink service Charge Data to Parcel and Address.  Commercial &amp; Resid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ink Permit Card Information to Bas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PS Tracking and Reporting of District Collection Cr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4280" y="1438200"/>
            <a:ext cx="8515440" cy="5162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Knowledge Management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86080" y="3191040"/>
            <a:ext cx="259092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8f8f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COM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Knowledge Manag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00640" y="3314880"/>
            <a:ext cx="1933560" cy="1056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4629240"/>
            <a:ext cx="1695240" cy="1123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ydrau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91000" y="5143680"/>
            <a:ext cx="19810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34240" y="2152800"/>
            <a:ext cx="1618920" cy="904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lanner 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85960" y="3343320"/>
            <a:ext cx="2057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d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nd Risk </a:t>
            </a:r>
            <a:br>
              <a:rPr sz="1800"/>
            </a:b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62680" y="4724280"/>
            <a:ext cx="2133720" cy="1257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c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Re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86080" y="237168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CT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Ax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1" idx="6"/>
            <a:endCxn id="76" idx="2"/>
          </p:cNvCxnSpPr>
          <p:nvPr/>
        </p:nvCxnSpPr>
        <p:spPr>
          <a:xfrm>
            <a:off x="2943360" y="3838320"/>
            <a:ext cx="343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79" idx="0"/>
            <a:endCxn id="76" idx="4"/>
          </p:cNvCxnSpPr>
          <p:nvPr/>
        </p:nvCxnSpPr>
        <p:spPr>
          <a:xfrm flipV="1">
            <a:off x="4581000" y="4485960"/>
            <a:ext cx="1080" cy="658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529080" y="1646280"/>
            <a:ext cx="2104920" cy="113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s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GI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6" idx="6"/>
            <a:endCxn id="77" idx="2"/>
          </p:cNvCxnSpPr>
          <p:nvPr/>
        </p:nvCxnSpPr>
        <p:spPr>
          <a:xfrm>
            <a:off x="5876640" y="3838320"/>
            <a:ext cx="3243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76" idx="0"/>
            <a:endCxn id="86" idx="4"/>
          </p:cNvCxnSpPr>
          <p:nvPr/>
        </p:nvCxnSpPr>
        <p:spPr>
          <a:xfrm flipV="1">
            <a:off x="4581000" y="2778840"/>
            <a:ext cx="1080" cy="412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76" idx="1"/>
            <a:endCxn id="83" idx="5"/>
          </p:cNvCxnSpPr>
          <p:nvPr/>
        </p:nvCxnSpPr>
        <p:spPr>
          <a:xfrm flipH="1" flipV="1">
            <a:off x="2850840" y="2956680"/>
            <a:ext cx="815040" cy="423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80" idx="3"/>
            <a:endCxn id="76" idx="7"/>
          </p:cNvCxnSpPr>
          <p:nvPr/>
        </p:nvCxnSpPr>
        <p:spPr>
          <a:xfrm flipH="1">
            <a:off x="5497200" y="2925360"/>
            <a:ext cx="67392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1" name=""/>
          <p:cNvCxnSpPr/>
          <p:nvPr/>
        </p:nvCxnSpPr>
        <p:spPr>
          <a:xfrm flipH="1">
            <a:off x="3057120" y="4343040"/>
            <a:ext cx="67392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" name=""/>
          <p:cNvCxnSpPr>
            <a:stCxn id="82" idx="1"/>
          </p:cNvCxnSpPr>
          <p:nvPr/>
        </p:nvCxnSpPr>
        <p:spPr>
          <a:xfrm flipH="1" flipV="1">
            <a:off x="5503320" y="4290480"/>
            <a:ext cx="772200" cy="61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81" idx="0"/>
            <a:endCxn id="83" idx="4"/>
          </p:cNvCxnSpPr>
          <p:nvPr/>
        </p:nvCxnSpPr>
        <p:spPr>
          <a:xfrm flipV="1">
            <a:off x="1914480" y="3057120"/>
            <a:ext cx="37224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it away – Stev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Key Objectives of the  Knowledge Base System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vide a common information repository for O&amp;M, Engineering, Planning, and Program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t goals and track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fidence  in resource allocation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ully Support SSMP, SSO, and other regulatory and management programs reporting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CCTV Inspection Progra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62520" y="1219320"/>
            <a:ext cx="4838760" cy="3890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0880" y="1219320"/>
            <a:ext cx="342900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sistency of defect Identification is k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ords structural, operational, and configuratio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 Inspection records are maintained for analysis and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ystem Incorporates Damage Severity Index for prioritizing CIP and R&amp;R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54600" y="1631880"/>
            <a:ext cx="486540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sset Inventory</a:t>
            </a:r>
            <a:br>
              <a:rPr sz="40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IS Knowledg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600200"/>
            <a:ext cx="321948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IS Based  Network of all collection system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ipe segment and manhole is unique  for recor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S is used as the primary interface for all of the System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management and configuration management practices are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91000" y="1486080"/>
            <a:ext cx="5387760" cy="4311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616800" y="4229280"/>
            <a:ext cx="453960" cy="2854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10080" y="1549440"/>
            <a:ext cx="5400720" cy="4309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33960" y="3260880"/>
            <a:ext cx="2862360" cy="2435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594240" y="1492200"/>
            <a:ext cx="54086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lanning / Schedu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Planner -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ssigns Asset Plan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to infrastructure components – i.e. cleaning and inspection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ncorporates Risk Managemen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– looks at condition, capacity, as well as consequence of failure in planning scena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Establishes Program Goal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– inspection, cleaning and R&amp;R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Scheduler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ssigns Work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based on plan and daily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evels Assignment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based on crew performance and resource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racks Progres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made against  plan as well as amount of reactive mainten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Work Manageme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5920" y="1495440"/>
            <a:ext cx="3429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signs routine scheduled and unscheduled Work Or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lects and reports facility specific costs for maintenance and repair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ack maintenance history for performanc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819600" y="1538280"/>
            <a:ext cx="4979880" cy="3691080"/>
            <a:chOff x="3819600" y="1538280"/>
            <a:chExt cx="4979880" cy="369108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3819600" y="1538280"/>
              <a:ext cx="4952880" cy="36910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4943520" y="1790640"/>
              <a:ext cx="3855960" cy="340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6118200" y="2324160"/>
            <a:ext cx="511200" cy="279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1640" y="2027160"/>
            <a:ext cx="630360" cy="193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64320" y="2222640"/>
            <a:ext cx="344520" cy="10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2920" y="2595600"/>
            <a:ext cx="411120" cy="150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40520" y="2746440"/>
            <a:ext cx="830160" cy="50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005440" y="3095640"/>
            <a:ext cx="2085840" cy="1731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734000" y="4432320"/>
            <a:ext cx="4091040" cy="19969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708440" y="4405320"/>
            <a:ext cx="4102200" cy="2004840"/>
          </a:xfrm>
          <a:prstGeom prst="rect">
            <a:avLst/>
          </a:prstGeom>
          <a:ln w="15840">
            <a:solidFill>
              <a:srgbClr val="000000"/>
            </a:solidFill>
            <a:miter/>
          </a:ln>
          <a:effectLst>
            <a:outerShdw dist="81185" dir="2321969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rogram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74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 Managemen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P pla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 Cycle cos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itary Sewer Manage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O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B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71840" y="1666800"/>
            <a:ext cx="4559400" cy="40528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ckground on NS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563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pecial purpose independent 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ed in 19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ice area: Novato and portions of northern Marin Cou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ice population: approx. 5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ices offer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astewater collection, treatment, and dis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fuse disposal, recycling, and green-waste collection through a franchise collecto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2895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812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KM as Basis for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37760" y="1588680"/>
            <a:ext cx="8248680" cy="46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performance through proactive planning and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ed history helps crews plan respons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Rep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urbishment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/condition/capacity replacement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SSO’s through proactive / predictive maintenance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 risk through shared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build consensus for public outreach and futur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09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11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hank You !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SD Facilitie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-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reatment Pl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76520"/>
            <a:ext cx="7391160" cy="44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Novato Treatment Plant (NTP)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3 MGD AD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graded 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ludge secondary, nitrifying bio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Ignacio Treatment Plant (IT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3 MGD AD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graded 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ling filter secondary, nitrifying bio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9724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ollec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pprox. 23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pper system” -  6” to 24”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rceptors 30” to 48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ystem age: 1920s to 1970s, some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ig picture sizing crite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950s plan buildout population: 3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990s plan buildout population: 6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686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Collection System Past Pract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Mainten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urely reactive (including run to failure m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esponse P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utside entities reported backups, overflows, or othe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ecord-keep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per and Memory B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per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dividuals in Collection Crews remembered problem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SS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active nature of al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ge and reliability of existing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indset of collections cr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ait for problem to b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ean areas by memory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bout five years ag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arted recording segment clea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ig Picture for Knowledge Acquisition and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200" y="1676520"/>
            <a:ext cx="75438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on Knowledge Management System across Enter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98960" y="2808360"/>
            <a:ext cx="3505320" cy="31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ork Management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lanning, Scheduling, Tracking and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gram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S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8200" y="2808360"/>
            <a:ext cx="350496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set Inven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llection System, Pump Stations, Treatment Plants, Fle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dition and Risk Assess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CTV Inspections, In-situ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pacity Assess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low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ompleted: 2004 -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rst Phase of Video Inventory of Collection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eaning Scheduling and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pot 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runk line Flow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et Weather Tributary Flow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pital Improvement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SO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urrently in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CTV collection system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20% this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ploying Field Compu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gramming continuing 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IP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&amp;M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ydrauli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lor Aerial Orthophoto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tour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nhole and Pipe Ele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21:13:55Z</dcterms:created>
  <dc:creator>RobinM</dc:creator>
  <dc:description/>
  <dc:language>en-US</dc:language>
  <cp:lastModifiedBy>Steve Line</cp:lastModifiedBy>
  <dcterms:modified xsi:type="dcterms:W3CDTF">2006-02-02T19:45:08Z</dcterms:modified>
  <cp:revision>98</cp:revision>
  <dc:subject/>
  <dc:title>Novato Sanitary District CMOM</dc:title>
</cp:coreProperties>
</file>