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jpeg" ContentType="image/jpeg"/>
  <Override PartName="/ppt/media/image12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1"/>
          </p:nvPr>
        </p:nvSpPr>
        <p:spPr>
          <a:xfrm>
            <a:off x="3929040" y="0"/>
            <a:ext cx="300528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72880" y="688680"/>
            <a:ext cx="45910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25560" y="4361040"/>
            <a:ext cx="5083200" cy="4208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2"/>
          </p:nvPr>
        </p:nvSpPr>
        <p:spPr>
          <a:xfrm>
            <a:off x="0" y="8798040"/>
            <a:ext cx="300528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3"/>
          </p:nvPr>
        </p:nvSpPr>
        <p:spPr>
          <a:xfrm>
            <a:off x="3929040" y="8798040"/>
            <a:ext cx="300528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7747D43-AFCA-481E-8C8C-601EF7767B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56680" y="4424400"/>
            <a:ext cx="5264280" cy="236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ink we can all relate to this stat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 want to take a minute and do a short surv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How many of you get more emails than you can effectively respond to in a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of you can easily access all the information you need, when and where you nee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feel that information could be presented in a way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uld allow your staff to make significantly quicker, better and smarter deci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uldn’t it be nice to have a tool that helped to solve this probl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1440" y="6890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20760" y="4649760"/>
            <a:ext cx="5084640" cy="3919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on is to have a toolset that is adaptable enough to help you over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overl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tools are coming in the form of “Information Portals”, they are adap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ing conditions and can assimilate information in a way that decision m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be hearing the “Portal” term used quit often in the futur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remember it is ONLY A TOO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with sound principles the tool can be turned into an effective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you and all you staff use to run your business.  These systems are referred to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Management” systems, they help manage and share information and knowl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56680" y="4424400"/>
            <a:ext cx="5264280" cy="236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ink we can all relate to this stat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 want to take a minute and do a short surv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How many of you get more emails than you can effectively respond to in a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of you can easily access all the information you need, when and where you nee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feel that information could be presented in a way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uld allow your staff to make significantly quicker, better and smarter deci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uldn’t it be nice to have a tool that helped to solve this probl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256680" y="4424400"/>
            <a:ext cx="5264280" cy="236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ink we can all relate to this stat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 want to take a minute and do a short surv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How many of you get more emails than you can effectively respond to in a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of you can easily access all the information you need, when and where you nee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feel that information could be presented in a way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uld allow your staff to make significantly quicker, better and smarter deci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uldn’t it be nice to have a tool that helped to solve this probl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064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don introduces Harp to discuss “our vision of a technology enabler for the Utilit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571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42840" y="4496760"/>
            <a:ext cx="571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74284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7108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5320" y="358092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07440" y="358092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742840" y="449676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675320" y="449676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07440" y="449676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42840" y="35809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10920" y="1598400"/>
            <a:ext cx="792468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74284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742840" y="35809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7108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742840" y="4496760"/>
            <a:ext cx="571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571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742840" y="4496760"/>
            <a:ext cx="571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74284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67108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5320" y="358092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07440" y="358092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742840" y="449676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4675320" y="449676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607440" y="449676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10920" y="1598400"/>
            <a:ext cx="792468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284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7108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42840" y="4496760"/>
            <a:ext cx="571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5920" y="0"/>
            <a:ext cx="8758080" cy="1373040"/>
          </a:xfrm>
          <a:prstGeom prst="rect">
            <a:avLst/>
          </a:prstGeom>
          <a:solidFill>
            <a:srgbClr val="004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6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39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736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70640"/>
            <a:ext cx="3808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4840"/>
            <a:ext cx="380880" cy="1903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87828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23214" t="18745" r="17104" b="14738"/>
          <a:stretch/>
        </p:blipFill>
        <p:spPr>
          <a:xfrm>
            <a:off x="3240" y="3890880"/>
            <a:ext cx="372960" cy="3733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095880"/>
            <a:ext cx="380880" cy="381240"/>
          </a:xfrm>
          <a:prstGeom prst="rect">
            <a:avLst/>
          </a:prstGeom>
          <a:solidFill>
            <a:srgbClr val="009e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648320"/>
            <a:ext cx="380880" cy="380880"/>
          </a:xfrm>
          <a:prstGeom prst="rect">
            <a:avLst/>
          </a:prstGeom>
          <a:solidFill>
            <a:srgbClr val="008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267080"/>
            <a:ext cx="380880" cy="381240"/>
          </a:xfrm>
          <a:prstGeom prst="rect">
            <a:avLst/>
          </a:prstGeom>
          <a:solidFill>
            <a:srgbClr val="0f2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477120"/>
            <a:ext cx="3808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029200"/>
            <a:ext cx="380880" cy="380880"/>
          </a:xfrm>
          <a:prstGeom prst="rect">
            <a:avLst/>
          </a:prstGeom>
          <a:solidFill>
            <a:srgbClr val="66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0" y="1373040"/>
            <a:ext cx="388800" cy="190512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0" y="65404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9602-2530-47A8-BF0F-025DAE695203}" type="slidenum">
              <a:rPr b="1" lang="en-US" sz="1200" spc="-1" strike="noStrike">
                <a:solidFill>
                  <a:srgbClr val="0a1d3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36520"/>
            <a:ext cx="38088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8476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268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5920" y="1144440"/>
            <a:ext cx="8758080" cy="1897200"/>
          </a:xfrm>
          <a:prstGeom prst="rect">
            <a:avLst/>
          </a:prstGeom>
          <a:solidFill>
            <a:srgbClr val="004f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33680" y="239760"/>
            <a:ext cx="190008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23214" t="18745" r="17104" b="14738"/>
          <a:stretch/>
        </p:blipFill>
        <p:spPr>
          <a:xfrm>
            <a:off x="3240" y="3890880"/>
            <a:ext cx="372960" cy="37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095880"/>
            <a:ext cx="380880" cy="381240"/>
          </a:xfrm>
          <a:prstGeom prst="rect">
            <a:avLst/>
          </a:prstGeom>
          <a:solidFill>
            <a:srgbClr val="009e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648320"/>
            <a:ext cx="380880" cy="380880"/>
          </a:xfrm>
          <a:prstGeom prst="rect">
            <a:avLst/>
          </a:prstGeom>
          <a:solidFill>
            <a:srgbClr val="008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2120"/>
            <a:ext cx="380880" cy="380880"/>
          </a:xfrm>
          <a:prstGeom prst="rect">
            <a:avLst/>
          </a:prstGeom>
          <a:solidFill>
            <a:srgbClr val="006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267080"/>
            <a:ext cx="380880" cy="381240"/>
          </a:xfrm>
          <a:prstGeom prst="rect">
            <a:avLst/>
          </a:prstGeom>
          <a:solidFill>
            <a:srgbClr val="0f2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240" y="388800"/>
            <a:ext cx="372960" cy="373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477120"/>
            <a:ext cx="3808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380880" cy="380880"/>
          </a:xfrm>
          <a:prstGeom prst="rect">
            <a:avLst/>
          </a:prstGeom>
          <a:solidFill>
            <a:srgbClr val="66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029200"/>
            <a:ext cx="380880" cy="380880"/>
          </a:xfrm>
          <a:prstGeom prst="rect">
            <a:avLst/>
          </a:prstGeom>
          <a:solidFill>
            <a:srgbClr val="66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82920" y="743040"/>
            <a:ext cx="209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utions Through Technolo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1138320"/>
            <a:ext cx="388800" cy="1904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048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image" Target="../media/image16.wmf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fujita@dwsd.or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6320" y="1569960"/>
            <a:ext cx="870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Effective, Efficient Operations through Knowledge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08040" y="3174480"/>
            <a:ext cx="615816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ACWA Winter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alm Dessert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ebruary 2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y Fuji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uise Lieb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uty Dire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stant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roit Water and Sewerage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mas DeLa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3240"/>
            <a:ext cx="1135080" cy="1128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391440" y="212760"/>
            <a:ext cx="2365200" cy="73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3960" y="80640"/>
            <a:ext cx="8747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WSD Wastewater Treatment Divi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9760" y="159840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8520" indent="-218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4 People (July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2 People (July 2005 -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Retirements in F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1 Projected Retirements (2006 - Currently ~20% of Staf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tirement E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SD has been aggressively pursuing projects related to people, process, culture, and technology – to capture the knowledge of high seniority staff (we now view this as supporting a broader KM philosop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WSD (KM) Challen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6800" y="1467000"/>
            <a:ext cx="79390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ion Planning (Workforce attr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t Management (began with a CM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(Regional)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Pres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ing Simultaneous Construction &amp;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tention/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ew DWSD Initiatives (Past &amp; Prese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511280"/>
            <a:ext cx="8458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Billing (Finan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esources (Perso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Meter Reading (wholesale done, residential under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DA (Ope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al Information System (Engine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S/PIMS (Lab/Pretrea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aul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&amp;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need timely information, in a usable form, from thes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MS (A KM Opportunit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85360" y="1479600"/>
            <a:ext cx="84582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from many sources was brought into a single, visual presentation, for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ased tool, sear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management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me the Cornerstone of KM for Wastewater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– Customized for every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7026120" y="2162160"/>
            <a:ext cx="676080" cy="749160"/>
            <a:chOff x="7026120" y="2162160"/>
            <a:chExt cx="676080" cy="749160"/>
          </a:xfrm>
        </p:grpSpPr>
        <p:sp>
          <p:nvSpPr>
            <p:cNvPr id="143" name=""/>
            <p:cNvSpPr/>
            <p:nvPr/>
          </p:nvSpPr>
          <p:spPr>
            <a:xfrm>
              <a:off x="7137000" y="2162160"/>
              <a:ext cx="565200" cy="654480"/>
            </a:xfrm>
            <a:prstGeom prst="rect">
              <a:avLst/>
            </a:prstGeom>
            <a:solidFill>
              <a:srgbClr val="f1f1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4440" y="2210040"/>
              <a:ext cx="566280" cy="654480"/>
            </a:xfrm>
            <a:prstGeom prst="rect">
              <a:avLst/>
            </a:prstGeom>
            <a:solidFill>
              <a:srgbClr val="f1f1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26120" y="2257920"/>
              <a:ext cx="563760" cy="65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15040" y="2365200"/>
              <a:ext cx="39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15040" y="2448360"/>
              <a:ext cx="39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15040" y="2544480"/>
              <a:ext cx="39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5040" y="2640240"/>
              <a:ext cx="39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15040" y="2733480"/>
              <a:ext cx="39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15040" y="2829600"/>
              <a:ext cx="39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95320" y="3517920"/>
            <a:ext cx="1080360" cy="539280"/>
            <a:chOff x="895320" y="3517920"/>
            <a:chExt cx="1080360" cy="539280"/>
          </a:xfrm>
        </p:grpSpPr>
        <p:sp>
          <p:nvSpPr>
            <p:cNvPr id="153" name=""/>
            <p:cNvSpPr/>
            <p:nvPr/>
          </p:nvSpPr>
          <p:spPr>
            <a:xfrm>
              <a:off x="993960" y="3607920"/>
              <a:ext cx="919800" cy="38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702080" y="3615480"/>
              <a:ext cx="1080" cy="3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1474560" y="3611520"/>
              <a:ext cx="0" cy="38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216800" y="3611520"/>
              <a:ext cx="0" cy="38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007280" y="3710160"/>
              <a:ext cx="92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007280" y="3804480"/>
              <a:ext cx="91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999000" y="3903120"/>
              <a:ext cx="92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30840" y="368100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0960" y="368100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4640" y="368100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4640" y="377460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64480" y="377460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5360" y="376992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5360" y="388260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80320" y="388872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5800" y="388872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33360" y="3589200"/>
              <a:ext cx="29484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78880" y="3589200"/>
              <a:ext cx="2995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77960" y="3589200"/>
              <a:ext cx="2977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59040" y="3698280"/>
              <a:ext cx="3250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59040" y="3792960"/>
              <a:ext cx="3250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59040" y="3880800"/>
              <a:ext cx="3250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95320" y="3517920"/>
              <a:ext cx="1033200" cy="489600"/>
            </a:xfrm>
            <a:custGeom>
              <a:avLst/>
              <a:gdLst/>
              <a:ahLst/>
              <a:rect l="l" t="t" r="r" b="b"/>
              <a:pathLst>
                <a:path w="867" h="507">
                  <a:moveTo>
                    <a:pt x="69" y="506"/>
                  </a:moveTo>
                  <a:lnTo>
                    <a:pt x="0" y="506"/>
                  </a:lnTo>
                  <a:lnTo>
                    <a:pt x="0" y="0"/>
                  </a:lnTo>
                  <a:lnTo>
                    <a:pt x="866" y="0"/>
                  </a:lnTo>
                  <a:lnTo>
                    <a:pt x="866" y="78"/>
                  </a:lnTo>
                  <a:lnTo>
                    <a:pt x="69" y="78"/>
                  </a:lnTo>
                  <a:lnTo>
                    <a:pt x="69" y="506"/>
                  </a:lnTo>
                </a:path>
              </a:pathLst>
            </a:custGeom>
            <a:solidFill>
              <a:srgbClr val="0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815040" y="2908440"/>
            <a:ext cx="1869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rison To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41160" y="2908440"/>
            <a:ext cx="12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 O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81760" y="4038480"/>
            <a:ext cx="1919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sh Repor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ermit Compli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7360" y="5487840"/>
            <a:ext cx="2062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chasing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upplies On H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9000" y="5502240"/>
            <a:ext cx="1371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2520" y="4038480"/>
            <a:ext cx="2018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atements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dget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863960" y="5216400"/>
            <a:ext cx="585720" cy="639720"/>
            <a:chOff x="4863960" y="5216400"/>
            <a:chExt cx="585720" cy="639720"/>
          </a:xfrm>
        </p:grpSpPr>
        <p:sp>
          <p:nvSpPr>
            <p:cNvPr id="183" name=""/>
            <p:cNvSpPr/>
            <p:nvPr/>
          </p:nvSpPr>
          <p:spPr>
            <a:xfrm>
              <a:off x="4863960" y="5216400"/>
              <a:ext cx="584640" cy="63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10040" y="5253480"/>
              <a:ext cx="15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10040" y="5284800"/>
              <a:ext cx="15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10040" y="5318640"/>
              <a:ext cx="15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0040" y="5349960"/>
              <a:ext cx="15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10040" y="5383440"/>
              <a:ext cx="15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10040" y="543816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10040" y="548604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10040" y="553392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10040" y="558360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10040" y="563148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0040" y="568224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10040" y="573120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10040" y="578052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17120" y="581832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09920" y="5676840"/>
              <a:ext cx="2397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To: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1920" y="5517360"/>
              <a:ext cx="2840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From: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94600" y="2293920"/>
            <a:ext cx="1077840" cy="617040"/>
            <a:chOff x="894600" y="2293920"/>
            <a:chExt cx="1077840" cy="617040"/>
          </a:xfrm>
        </p:grpSpPr>
        <p:sp>
          <p:nvSpPr>
            <p:cNvPr id="201" name=""/>
            <p:cNvSpPr/>
            <p:nvPr/>
          </p:nvSpPr>
          <p:spPr>
            <a:xfrm>
              <a:off x="932040" y="2323080"/>
              <a:ext cx="1038240" cy="587880"/>
            </a:xfrm>
            <a:custGeom>
              <a:avLst/>
              <a:gdLst/>
              <a:ahLst/>
              <a:rect l="l" t="t" r="r" b="b"/>
              <a:pathLst>
                <a:path w="845" h="556">
                  <a:moveTo>
                    <a:pt x="844" y="0"/>
                  </a:moveTo>
                  <a:lnTo>
                    <a:pt x="0" y="0"/>
                  </a:lnTo>
                  <a:lnTo>
                    <a:pt x="0" y="555"/>
                  </a:lnTo>
                  <a:lnTo>
                    <a:pt x="844" y="555"/>
                  </a:lnTo>
                  <a:lnTo>
                    <a:pt x="84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928080" y="238788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928080" y="2452320"/>
              <a:ext cx="1044360" cy="0"/>
            </a:xfrm>
            <a:prstGeom prst="line">
              <a:avLst/>
            </a:prstGeom>
            <a:ln w="12600">
              <a:solidFill>
                <a:srgbClr val="df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928080" y="251784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928080" y="258444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928080" y="264996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928080" y="27126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928080" y="277776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928080" y="284256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91760" y="2336040"/>
              <a:ext cx="360000" cy="96120"/>
            </a:xfrm>
            <a:custGeom>
              <a:avLst/>
              <a:gdLst/>
              <a:ahLst/>
              <a:rect l="l" t="t" r="r" b="b"/>
              <a:pathLst>
                <a:path w="293" h="91">
                  <a:moveTo>
                    <a:pt x="190" y="78"/>
                  </a:moveTo>
                  <a:lnTo>
                    <a:pt x="199" y="73"/>
                  </a:lnTo>
                  <a:lnTo>
                    <a:pt x="193" y="69"/>
                  </a:lnTo>
                  <a:lnTo>
                    <a:pt x="188" y="66"/>
                  </a:lnTo>
                  <a:lnTo>
                    <a:pt x="181" y="64"/>
                  </a:lnTo>
                  <a:lnTo>
                    <a:pt x="174" y="60"/>
                  </a:lnTo>
                  <a:lnTo>
                    <a:pt x="166" y="58"/>
                  </a:lnTo>
                  <a:lnTo>
                    <a:pt x="158" y="56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37" y="50"/>
                  </a:lnTo>
                  <a:lnTo>
                    <a:pt x="132" y="46"/>
                  </a:lnTo>
                  <a:lnTo>
                    <a:pt x="126" y="45"/>
                  </a:lnTo>
                  <a:lnTo>
                    <a:pt x="117" y="42"/>
                  </a:lnTo>
                  <a:lnTo>
                    <a:pt x="112" y="42"/>
                  </a:lnTo>
                  <a:lnTo>
                    <a:pt x="105" y="40"/>
                  </a:lnTo>
                  <a:lnTo>
                    <a:pt x="100" y="39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7" y="34"/>
                  </a:lnTo>
                  <a:lnTo>
                    <a:pt x="61" y="36"/>
                  </a:lnTo>
                  <a:lnTo>
                    <a:pt x="56" y="34"/>
                  </a:lnTo>
                  <a:lnTo>
                    <a:pt x="53" y="34"/>
                  </a:lnTo>
                  <a:lnTo>
                    <a:pt x="46" y="34"/>
                  </a:lnTo>
                  <a:lnTo>
                    <a:pt x="40" y="36"/>
                  </a:lnTo>
                  <a:lnTo>
                    <a:pt x="35" y="37"/>
                  </a:lnTo>
                  <a:lnTo>
                    <a:pt x="33" y="39"/>
                  </a:lnTo>
                  <a:lnTo>
                    <a:pt x="28" y="39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3" y="46"/>
                  </a:lnTo>
                  <a:lnTo>
                    <a:pt x="13" y="49"/>
                  </a:lnTo>
                  <a:lnTo>
                    <a:pt x="10" y="50"/>
                  </a:lnTo>
                  <a:lnTo>
                    <a:pt x="10" y="52"/>
                  </a:lnTo>
                  <a:lnTo>
                    <a:pt x="8" y="56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3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6" y="13"/>
                  </a:lnTo>
                  <a:lnTo>
                    <a:pt x="10" y="12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3" y="2"/>
                  </a:lnTo>
                  <a:lnTo>
                    <a:pt x="111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3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8" y="12"/>
                  </a:lnTo>
                  <a:lnTo>
                    <a:pt x="166" y="16"/>
                  </a:lnTo>
                  <a:lnTo>
                    <a:pt x="173" y="18"/>
                  </a:lnTo>
                  <a:lnTo>
                    <a:pt x="183" y="21"/>
                  </a:lnTo>
                  <a:lnTo>
                    <a:pt x="192" y="23"/>
                  </a:lnTo>
                  <a:lnTo>
                    <a:pt x="199" y="25"/>
                  </a:lnTo>
                  <a:lnTo>
                    <a:pt x="205" y="28"/>
                  </a:lnTo>
                  <a:lnTo>
                    <a:pt x="216" y="31"/>
                  </a:lnTo>
                  <a:lnTo>
                    <a:pt x="224" y="34"/>
                  </a:lnTo>
                  <a:lnTo>
                    <a:pt x="231" y="38"/>
                  </a:lnTo>
                  <a:lnTo>
                    <a:pt x="236" y="42"/>
                  </a:lnTo>
                  <a:lnTo>
                    <a:pt x="246" y="45"/>
                  </a:lnTo>
                  <a:lnTo>
                    <a:pt x="258" y="39"/>
                  </a:lnTo>
                  <a:lnTo>
                    <a:pt x="292" y="90"/>
                  </a:lnTo>
                  <a:lnTo>
                    <a:pt x="188" y="82"/>
                  </a:lnTo>
                  <a:lnTo>
                    <a:pt x="190" y="78"/>
                  </a:lnTo>
                </a:path>
              </a:pathLst>
            </a:custGeom>
            <a:solidFill>
              <a:srgbClr val="c2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64080" y="2338200"/>
              <a:ext cx="422640" cy="1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4600" y="2293920"/>
              <a:ext cx="627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pa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78840" y="2672280"/>
              <a:ext cx="99720" cy="176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16"/>
                  </a:moveTo>
                  <a:lnTo>
                    <a:pt x="62" y="16"/>
                  </a:lnTo>
                  <a:lnTo>
                    <a:pt x="80" y="0"/>
                  </a:lnTo>
                  <a:lnTo>
                    <a:pt x="20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55160" y="2672280"/>
              <a:ext cx="23400" cy="22392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0" y="211"/>
                  </a:moveTo>
                  <a:lnTo>
                    <a:pt x="0" y="15"/>
                  </a:lnTo>
                  <a:lnTo>
                    <a:pt x="18" y="0"/>
                  </a:lnTo>
                  <a:lnTo>
                    <a:pt x="18" y="197"/>
                  </a:lnTo>
                  <a:lnTo>
                    <a:pt x="0" y="2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77120" y="2565360"/>
              <a:ext cx="98280" cy="17640"/>
            </a:xfrm>
            <a:custGeom>
              <a:avLst/>
              <a:gdLst/>
              <a:ahLst/>
              <a:rect l="l" t="t" r="r" b="b"/>
              <a:pathLst>
                <a:path w="80" h="17">
                  <a:moveTo>
                    <a:pt x="0" y="16"/>
                  </a:moveTo>
                  <a:lnTo>
                    <a:pt x="60" y="16"/>
                  </a:lnTo>
                  <a:lnTo>
                    <a:pt x="79" y="0"/>
                  </a:lnTo>
                  <a:lnTo>
                    <a:pt x="21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50920" y="2565360"/>
              <a:ext cx="24480" cy="330840"/>
            </a:xfrm>
            <a:custGeom>
              <a:avLst/>
              <a:gdLst/>
              <a:ahLst/>
              <a:rect l="l" t="t" r="r" b="b"/>
              <a:pathLst>
                <a:path w="20" h="313">
                  <a:moveTo>
                    <a:pt x="0" y="312"/>
                  </a:moveTo>
                  <a:lnTo>
                    <a:pt x="0" y="14"/>
                  </a:lnTo>
                  <a:lnTo>
                    <a:pt x="19" y="0"/>
                  </a:lnTo>
                  <a:lnTo>
                    <a:pt x="19" y="298"/>
                  </a:lnTo>
                  <a:lnTo>
                    <a:pt x="0" y="3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112760" y="2879280"/>
              <a:ext cx="0" cy="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19680" y="2515680"/>
              <a:ext cx="99360" cy="176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16"/>
                  </a:moveTo>
                  <a:lnTo>
                    <a:pt x="59" y="16"/>
                  </a:lnTo>
                  <a:lnTo>
                    <a:pt x="80" y="0"/>
                  </a:lnTo>
                  <a:lnTo>
                    <a:pt x="20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17960" y="2453400"/>
              <a:ext cx="100800" cy="17640"/>
            </a:xfrm>
            <a:custGeom>
              <a:avLst/>
              <a:gdLst/>
              <a:ahLst/>
              <a:rect l="l" t="t" r="r" b="b"/>
              <a:pathLst>
                <a:path w="82" h="17">
                  <a:moveTo>
                    <a:pt x="0" y="16"/>
                  </a:moveTo>
                  <a:lnTo>
                    <a:pt x="60" y="16"/>
                  </a:lnTo>
                  <a:lnTo>
                    <a:pt x="81" y="0"/>
                  </a:lnTo>
                  <a:lnTo>
                    <a:pt x="20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1760" y="2453400"/>
              <a:ext cx="27000" cy="442800"/>
            </a:xfrm>
            <a:custGeom>
              <a:avLst/>
              <a:gdLst/>
              <a:ahLst/>
              <a:rect l="l" t="t" r="r" b="b"/>
              <a:pathLst>
                <a:path w="22" h="419">
                  <a:moveTo>
                    <a:pt x="0" y="418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21" y="404"/>
                  </a:lnTo>
                  <a:lnTo>
                    <a:pt x="0" y="4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356120" y="2879280"/>
              <a:ext cx="0" cy="15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840" y="2506320"/>
              <a:ext cx="97200" cy="176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0" y="16"/>
                  </a:moveTo>
                  <a:lnTo>
                    <a:pt x="59" y="16"/>
                  </a:lnTo>
                  <a:lnTo>
                    <a:pt x="78" y="0"/>
                  </a:lnTo>
                  <a:lnTo>
                    <a:pt x="19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69960" y="2431080"/>
              <a:ext cx="100800" cy="17640"/>
            </a:xfrm>
            <a:custGeom>
              <a:avLst/>
              <a:gdLst/>
              <a:ahLst/>
              <a:rect l="l" t="t" r="r" b="b"/>
              <a:pathLst>
                <a:path w="82" h="17">
                  <a:moveTo>
                    <a:pt x="0" y="16"/>
                  </a:moveTo>
                  <a:lnTo>
                    <a:pt x="63" y="16"/>
                  </a:lnTo>
                  <a:lnTo>
                    <a:pt x="81" y="0"/>
                  </a:lnTo>
                  <a:lnTo>
                    <a:pt x="22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47360" y="2431080"/>
              <a:ext cx="23400" cy="465120"/>
            </a:xfrm>
            <a:custGeom>
              <a:avLst/>
              <a:gdLst/>
              <a:ahLst/>
              <a:rect l="l" t="t" r="r" b="b"/>
              <a:pathLst>
                <a:path w="19" h="440">
                  <a:moveTo>
                    <a:pt x="0" y="439"/>
                  </a:moveTo>
                  <a:lnTo>
                    <a:pt x="0" y="14"/>
                  </a:lnTo>
                  <a:lnTo>
                    <a:pt x="18" y="0"/>
                  </a:lnTo>
                  <a:lnTo>
                    <a:pt x="18" y="425"/>
                  </a:lnTo>
                  <a:lnTo>
                    <a:pt x="0" y="4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605600" y="2879280"/>
              <a:ext cx="0" cy="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15040" y="2444040"/>
              <a:ext cx="99360" cy="176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16"/>
                  </a:moveTo>
                  <a:lnTo>
                    <a:pt x="59" y="16"/>
                  </a:lnTo>
                  <a:lnTo>
                    <a:pt x="80" y="0"/>
                  </a:lnTo>
                  <a:lnTo>
                    <a:pt x="20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87400" y="2444040"/>
              <a:ext cx="27000" cy="452520"/>
            </a:xfrm>
            <a:custGeom>
              <a:avLst/>
              <a:gdLst/>
              <a:ahLst/>
              <a:rect l="l" t="t" r="r" b="b"/>
              <a:pathLst>
                <a:path w="22" h="428">
                  <a:moveTo>
                    <a:pt x="0" y="427"/>
                  </a:moveTo>
                  <a:lnTo>
                    <a:pt x="0" y="12"/>
                  </a:lnTo>
                  <a:lnTo>
                    <a:pt x="21" y="0"/>
                  </a:lnTo>
                  <a:lnTo>
                    <a:pt x="21" y="413"/>
                  </a:lnTo>
                  <a:lnTo>
                    <a:pt x="0" y="4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13320" y="2369880"/>
              <a:ext cx="100440" cy="17640"/>
            </a:xfrm>
            <a:custGeom>
              <a:avLst/>
              <a:gdLst/>
              <a:ahLst/>
              <a:rect l="l" t="t" r="r" b="b"/>
              <a:pathLst>
                <a:path w="82" h="17">
                  <a:moveTo>
                    <a:pt x="0" y="16"/>
                  </a:moveTo>
                  <a:lnTo>
                    <a:pt x="61" y="16"/>
                  </a:lnTo>
                  <a:lnTo>
                    <a:pt x="81" y="0"/>
                  </a:lnTo>
                  <a:lnTo>
                    <a:pt x="21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88200" y="2369880"/>
              <a:ext cx="25560" cy="526320"/>
            </a:xfrm>
            <a:custGeom>
              <a:avLst/>
              <a:gdLst/>
              <a:ahLst/>
              <a:rect l="l" t="t" r="r" b="b"/>
              <a:pathLst>
                <a:path w="21" h="498">
                  <a:moveTo>
                    <a:pt x="0" y="497"/>
                  </a:moveTo>
                  <a:lnTo>
                    <a:pt x="0" y="14"/>
                  </a:lnTo>
                  <a:lnTo>
                    <a:pt x="20" y="0"/>
                  </a:lnTo>
                  <a:lnTo>
                    <a:pt x="20" y="482"/>
                  </a:lnTo>
                  <a:lnTo>
                    <a:pt x="0" y="49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850040" y="287712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92400" y="2515680"/>
              <a:ext cx="27000" cy="380520"/>
            </a:xfrm>
            <a:custGeom>
              <a:avLst/>
              <a:gdLst/>
              <a:ahLst/>
              <a:rect l="l" t="t" r="r" b="b"/>
              <a:pathLst>
                <a:path w="22" h="360">
                  <a:moveTo>
                    <a:pt x="0" y="359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21" y="345"/>
                  </a:lnTo>
                  <a:lnTo>
                    <a:pt x="0" y="3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46560" y="2506320"/>
              <a:ext cx="24480" cy="389880"/>
            </a:xfrm>
            <a:custGeom>
              <a:avLst/>
              <a:gdLst/>
              <a:ahLst/>
              <a:rect l="l" t="t" r="r" b="b"/>
              <a:pathLst>
                <a:path w="20" h="369">
                  <a:moveTo>
                    <a:pt x="0" y="368"/>
                  </a:moveTo>
                  <a:lnTo>
                    <a:pt x="0" y="15"/>
                  </a:lnTo>
                  <a:lnTo>
                    <a:pt x="19" y="0"/>
                  </a:lnTo>
                  <a:lnTo>
                    <a:pt x="19" y="354"/>
                  </a:lnTo>
                  <a:lnTo>
                    <a:pt x="0" y="3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31920" y="2535840"/>
              <a:ext cx="63720" cy="354960"/>
            </a:xfrm>
            <a:prstGeom prst="rect">
              <a:avLst/>
            </a:prstGeom>
            <a:solidFill>
              <a:srgbClr val="df007f"/>
            </a:solidFill>
            <a:ln w="12600">
              <a:solidFill>
                <a:srgbClr val="df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7520" y="2526480"/>
              <a:ext cx="60120" cy="364680"/>
            </a:xfrm>
            <a:prstGeom prst="rect">
              <a:avLst/>
            </a:prstGeom>
            <a:solidFill>
              <a:srgbClr val="df007f"/>
            </a:solidFill>
            <a:ln w="12600">
              <a:solidFill>
                <a:srgbClr val="df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91080" y="2692440"/>
              <a:ext cx="62640" cy="198720"/>
            </a:xfrm>
            <a:prstGeom prst="rect">
              <a:avLst/>
            </a:prstGeom>
            <a:solidFill>
              <a:srgbClr val="df007f"/>
            </a:solidFill>
            <a:ln w="12600">
              <a:solidFill>
                <a:srgbClr val="df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88280" y="2584440"/>
              <a:ext cx="63720" cy="306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30560" y="2475360"/>
              <a:ext cx="63720" cy="415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82200" y="2450160"/>
              <a:ext cx="66240" cy="4410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27280" y="2464920"/>
              <a:ext cx="63720" cy="425880"/>
            </a:xfrm>
            <a:prstGeom prst="rect">
              <a:avLst/>
            </a:prstGeom>
            <a:solidFill>
              <a:srgbClr val="df007f"/>
            </a:solidFill>
            <a:ln w="12600">
              <a:solidFill>
                <a:srgbClr val="df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26640" y="2392920"/>
              <a:ext cx="62640" cy="497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590920" y="59436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ies Draw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895320" y="5038560"/>
          <a:ext cx="100188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5038560"/>
                    <a:ext cx="10018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026120" y="3468600"/>
          <a:ext cx="80172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6120" y="3468600"/>
                    <a:ext cx="8017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666880" y="5029200"/>
          <a:ext cx="1803600" cy="91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029200"/>
                    <a:ext cx="18036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898800" y="1600200"/>
          <a:ext cx="1401840" cy="3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8800" y="1600200"/>
                    <a:ext cx="14018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001960" y="1600200"/>
          <a:ext cx="93492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01960" y="1600200"/>
                    <a:ext cx="9349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009960" y="1828800"/>
            <a:ext cx="799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6838920" y="4759200"/>
            <a:ext cx="1136520" cy="684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586400" y="5800680"/>
            <a:ext cx="1739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spondence / Board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3086280"/>
            <a:ext cx="18064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62240" y="2289240"/>
            <a:ext cx="3029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nformation “Port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MS Delivers Information to Users, which enables knowledgeable 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3240" y="3048120"/>
            <a:ext cx="914400" cy="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14640" y="3886200"/>
            <a:ext cx="1143000" cy="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962000" y="4457520"/>
            <a:ext cx="1295640" cy="68580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6105600" y="3045960"/>
            <a:ext cx="838080" cy="180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105600" y="3884760"/>
            <a:ext cx="838080" cy="144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6105600" y="4457520"/>
            <a:ext cx="761760" cy="58716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038480" y="4567320"/>
            <a:ext cx="0" cy="91440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145120" y="4566960"/>
            <a:ext cx="0" cy="64764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45080" y="4762440"/>
            <a:ext cx="3598920" cy="822240"/>
          </a:xfrm>
          <a:prstGeom prst="rect">
            <a:avLst/>
          </a:prstGeom>
          <a:solidFill>
            <a:srgbClr val="008c6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ology alo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not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olu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2"/>
          <a:srcRect l="0" t="1617" r="0" b="0"/>
          <a:stretch/>
        </p:blipFill>
        <p:spPr>
          <a:xfrm>
            <a:off x="542880" y="250920"/>
            <a:ext cx="8601120" cy="6564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3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5520" y="151920"/>
            <a:ext cx="871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lly Deploying What We Have at DWS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7000" y="1874880"/>
            <a:ext cx="81421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loyment Initiatives are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ing “information” into knowledge which can be discussed, acted upon, shared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ting information into a KM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“Knowledge Workers” (i.e. our jobs are not “assembly line” repetitive – but require skills and experience to perform th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&amp;M Exam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3280" y="1392120"/>
            <a:ext cx="8640720" cy="5426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&amp;M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03280" y="1409760"/>
            <a:ext cx="8640720" cy="5365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3600" y="151920"/>
            <a:ext cx="8156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al Reporting Syst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054080" y="1430280"/>
            <a:ext cx="7188120" cy="5427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7840" y="0"/>
            <a:ext cx="8696160" cy="18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362240" y="266760"/>
            <a:ext cx="4476600" cy="3036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071800" y="3173400"/>
            <a:ext cx="3724200" cy="3532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8720" y="2075040"/>
            <a:ext cx="3063600" cy="3970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93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9760" y="2430360"/>
            <a:ext cx="363708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tory Repor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355840" y="1598760"/>
            <a:ext cx="45846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47840" y="0"/>
            <a:ext cx="8696160" cy="18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47072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4160" y="151920"/>
            <a:ext cx="8273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M  - An Evolutionary Process for DWS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83920" y="20030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6360" indent="-236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 process is far more tha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people, process,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6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KM as a busines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KM skills is as important as ww treatment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92468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Knowledge Wor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communication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/men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806480"/>
            <a:ext cx="79246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ing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d information --WWTP Operation &amp; Maintenance Manuals, Drawings, Regulatory &amp; Complianc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Bus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56920" y="1806480"/>
            <a:ext cx="8458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employee’s awareness of data, information, and knowledge to help them better resp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Change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392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392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 based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806480"/>
            <a:ext cx="79246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technology projects (CMMS, SCADA, LIMS, etc.) – View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’s the Resul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806480"/>
            <a:ext cx="79246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enable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nxious to use KM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and efficiency increases, absorbing staff reductions, while productivit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 Enab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84280" y="1949400"/>
            <a:ext cx="820260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151920"/>
            <a:ext cx="8258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e Knowledge Management a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669680"/>
            <a:ext cx="8273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your readiness (Identify “Opportun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the KM Framework (“strateg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some Pilo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technical infrastructure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nd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and evolve KM into you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 (What’s Our Point?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3680" y="1539360"/>
            <a:ext cx="84582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year in San Antonio, DWSD talked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been doing KM for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e just didn’t call it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WSD’s KM philos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novative and inclus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KM experiences can help make your K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10920" y="15267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639440" y="33523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4f6d"/>
                </a:solidFill>
                <a:uFillTx/>
                <a:latin typeface="Arial"/>
              </a:rPr>
              <a:t>lieberma@dwsd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4f6d"/>
                </a:solidFill>
                <a:uFillTx/>
                <a:latin typeface="Arial"/>
                <a:hlinkClick r:id="rId1"/>
              </a:rPr>
              <a:t>fujita@dwsd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4f6d"/>
                </a:solidFill>
                <a:uFillTx/>
                <a:latin typeface="Arial"/>
              </a:rPr>
              <a:t>tom.delaura@we-in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6002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993600" y="71280"/>
            <a:ext cx="1017720" cy="1013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0" y="1150920"/>
            <a:ext cx="9144000" cy="1901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olution – Adapting to Chan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569600"/>
            <a:ext cx="79246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is critical to sustainability (survi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 is an organizational evolution, encompassing people, culture, processes, and technology, aligned with business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ically, KM strategies must be embedded into each initiative the utility undertakes, and done as “normal”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M is a Different Approa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4160" y="1908000"/>
            <a:ext cx="651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significant problems we face cannot be solved at the same level of thinking we were at   when we created th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0960" y="151920"/>
            <a:ext cx="87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WSD Sees 4 Areas of K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63840"/>
            <a:ext cx="792468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People, 2) Process, 3) Culture, and 4) Technology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environment is characterized by Change, Complexity, Uncertainty, and Anxie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performance - characterized by each individual employee taking effective actions, making effective decisions, and combining problem solving with cre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Knowledge Management needs the 4 elements for a better understanding of the complex world in which we live – to make better and more effective decisions, and to solve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tional Intellig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8880" y="1660320"/>
            <a:ext cx="800712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ur areas of Knowledge Management are helping DWSD create Organizational Intelligence – a way of thinking about things that helps ensure every action and project is designed to empower individual employees with the necessary tools, information, and mindset required to perform optimally – that is to take effective actions, make effective decisions, and solv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151920"/>
            <a:ext cx="86486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roit Water &amp; Sewerage Dept. (DWS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3400" y="1461960"/>
            <a:ext cx="7999560" cy="5195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48480" y="5589720"/>
            <a:ext cx="1349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roit Wastewater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s 78 communities in Southeastern Michi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Area of 850 square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 weather treatment capacity of 1.7 billion gallons per day (max).  Average annual flow 650 MG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SO Facilities (2 more nearing comple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00:31:03Z</dcterms:created>
  <dc:creator>Jocelyn King</dc:creator>
  <dc:description/>
  <dc:language>en-US</dc:language>
  <cp:lastModifiedBy>tomd</cp:lastModifiedBy>
  <cp:lastPrinted>2002-06-05T22:01:33Z</cp:lastPrinted>
  <dcterms:modified xsi:type="dcterms:W3CDTF">2006-02-02T16:52:49Z</dcterms:modified>
  <cp:revision>788</cp:revision>
  <dc:subject/>
  <dc:title>Solutions Through Technology</dc:title>
</cp:coreProperties>
</file>