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5892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58920" y="880740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62EDA95-6531-45C5-977F-DDFB45365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efits of a business process approach within the city’s technology program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a common management and reporting framewor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thin the city based on standardized business processes and common data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ion of fragmented and duplicate information systems and sources of 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efficiency and fiscal accountability of city staff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ponsible for managing public infrastruct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management and delivery of the city’s $250M annual capital improvement project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reduce and/or eliminate the occurrence of project cost overru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communications with citizens, council, and staff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rough unified departmental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mented and duplicate information systems and sources of dat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no common data defini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ial management system did not support effective capital projects tracking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e to its age and configuration difficul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manage and deliver city’s $250M annual capital improvement projects on schedule and within budget (project reporting not standardized, timely or accur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996A-EF3B-46DD-9CB2-9FFA4EC0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0C2-60F8-478B-ACF9-C41A005E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16C-AD9C-4E0B-8726-5F703A3E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C35-AD00-4AAB-8370-6C407DE5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CC6-3266-46EE-A0AB-7B2903AC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830-B6F4-4481-95A6-E0292D52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78E-6CBE-48A5-8588-C3C12696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48A-8BD2-4D7F-831E-C0058DD0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B98-2592-439D-B5E9-F9521EB7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C0F-D83D-44D7-9732-DFBF81DE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5FC-FC82-405F-947E-2BCB09C8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51B-7CF9-4605-999C-1C4E332D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C278-E24A-43A7-BCAF-196187705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73920" y="304920"/>
            <a:ext cx="1054080" cy="380880"/>
          </a:xfrm>
          <a:prstGeom prst="rect">
            <a:avLst/>
          </a:prstGeom>
          <a:solidFill>
            <a:srgbClr val="cd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logo_nacwa" descr=""/>
          <p:cNvPicPr/>
          <p:nvPr/>
        </p:nvPicPr>
        <p:blipFill>
          <a:blip r:embed="rId3"/>
          <a:stretch/>
        </p:blipFill>
        <p:spPr>
          <a:xfrm>
            <a:off x="7580160" y="336600"/>
            <a:ext cx="12225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794640" y="5575320"/>
            <a:ext cx="19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brua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t.worthlogo" descr=""/>
          <p:cNvPicPr/>
          <p:nvPr/>
        </p:nvPicPr>
        <p:blipFill>
          <a:blip r:embed="rId2"/>
          <a:stretch/>
        </p:blipFill>
        <p:spPr>
          <a:xfrm>
            <a:off x="665280" y="4576680"/>
            <a:ext cx="1428480" cy="536760"/>
          </a:xfrm>
          <a:prstGeom prst="rect">
            <a:avLst/>
          </a:prstGeom>
          <a:ln w="0">
            <a:noFill/>
          </a:ln>
        </p:spPr>
      </p:pic>
      <p:pic>
        <p:nvPicPr>
          <p:cNvPr id="52" name="TAG_logoCOLOR" descr=""/>
          <p:cNvPicPr/>
          <p:nvPr/>
        </p:nvPicPr>
        <p:blipFill>
          <a:blip r:embed="rId3"/>
          <a:stretch/>
        </p:blipFill>
        <p:spPr>
          <a:xfrm>
            <a:off x="596880" y="5504040"/>
            <a:ext cx="1427040" cy="545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39560" y="1058760"/>
            <a:ext cx="68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formation Technology Improves Knowledge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8720" y="3149640"/>
            <a:ext cx="47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Randy Rinon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- City of Fort W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Geoff Price   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- MWH Ame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55640" y="1486080"/>
            <a:ext cx="7985160" cy="4475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84280" y="4572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usiness Process Data Diction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60640" y="617220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Business Process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nef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management and reporting framewor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data quality and accessi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taff efficiency and fiscal accounta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management and delivery of the $250M annual capital improvement projec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communications with citizens, council, and sta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5448240" y="609588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657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stions and Answe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6680160" y="614664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Q&amp;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ft.worthlogo" descr=""/>
          <p:cNvPicPr/>
          <p:nvPr/>
        </p:nvPicPr>
        <p:blipFill>
          <a:blip r:embed="rId2"/>
          <a:stretch/>
        </p:blipFill>
        <p:spPr>
          <a:xfrm>
            <a:off x="2990880" y="2328840"/>
            <a:ext cx="2141640" cy="803160"/>
          </a:xfrm>
          <a:prstGeom prst="rect">
            <a:avLst/>
          </a:prstGeom>
          <a:ln w="0">
            <a:noFill/>
          </a:ln>
        </p:spPr>
      </p:pic>
      <p:pic>
        <p:nvPicPr>
          <p:cNvPr id="147" name="TAG_logoCOLOR" descr=""/>
          <p:cNvPicPr/>
          <p:nvPr/>
        </p:nvPicPr>
        <p:blipFill>
          <a:blip r:embed="rId3"/>
          <a:stretch/>
        </p:blipFill>
        <p:spPr>
          <a:xfrm>
            <a:off x="2968560" y="3421080"/>
            <a:ext cx="2138400" cy="869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ity of Fort Wo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62992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astest growing US c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203040" y="617220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fort%20worth%202" descr=""/>
          <p:cNvPicPr/>
          <p:nvPr/>
        </p:nvPicPr>
        <p:blipFill>
          <a:blip r:embed="rId2"/>
          <a:stretch/>
        </p:blipFill>
        <p:spPr>
          <a:xfrm>
            <a:off x="6361200" y="4522680"/>
            <a:ext cx="2490840" cy="1662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23960" y="5219640"/>
            <a:ext cx="5664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ology program is key part of strategic asset management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11360" y="2387520"/>
            <a:ext cx="6083280" cy="596880"/>
            <a:chOff x="711360" y="2387520"/>
            <a:chExt cx="6083280" cy="596880"/>
          </a:xfrm>
        </p:grpSpPr>
        <p:sp>
          <p:nvSpPr>
            <p:cNvPr id="61" name=""/>
            <p:cNvSpPr/>
            <p:nvPr/>
          </p:nvSpPr>
          <p:spPr>
            <a:xfrm>
              <a:off x="711360" y="2387520"/>
              <a:ext cx="14475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ahoma"/>
                </a:rPr>
                <a:t>Pop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2387520"/>
              <a:ext cx="38991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618,600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711360" y="2879640"/>
            <a:ext cx="6083280" cy="596880"/>
            <a:chOff x="711360" y="2879640"/>
            <a:chExt cx="6083280" cy="596880"/>
          </a:xfrm>
        </p:grpSpPr>
        <p:sp>
          <p:nvSpPr>
            <p:cNvPr id="64" name=""/>
            <p:cNvSpPr/>
            <p:nvPr/>
          </p:nvSpPr>
          <p:spPr>
            <a:xfrm>
              <a:off x="711360" y="2879640"/>
              <a:ext cx="14475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ahoma"/>
                </a:rPr>
                <a:t>Employe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95480" y="2879640"/>
              <a:ext cx="38991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5,750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11360" y="3371760"/>
            <a:ext cx="6083280" cy="596880"/>
            <a:chOff x="711360" y="3371760"/>
            <a:chExt cx="6083280" cy="596880"/>
          </a:xfrm>
        </p:grpSpPr>
        <p:sp>
          <p:nvSpPr>
            <p:cNvPr id="67" name=""/>
            <p:cNvSpPr/>
            <p:nvPr/>
          </p:nvSpPr>
          <p:spPr>
            <a:xfrm>
              <a:off x="711360" y="3371760"/>
              <a:ext cx="18288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ahoma"/>
                </a:rPr>
                <a:t>Depart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95480" y="3371760"/>
              <a:ext cx="38991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11360" y="3863880"/>
            <a:ext cx="6083280" cy="596880"/>
            <a:chOff x="711360" y="3863880"/>
            <a:chExt cx="6083280" cy="596880"/>
          </a:xfrm>
        </p:grpSpPr>
        <p:sp>
          <p:nvSpPr>
            <p:cNvPr id="70" name=""/>
            <p:cNvSpPr/>
            <p:nvPr/>
          </p:nvSpPr>
          <p:spPr>
            <a:xfrm>
              <a:off x="711360" y="3863880"/>
              <a:ext cx="26668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ahoma"/>
                </a:rPr>
                <a:t>Operating Bud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95480" y="3863880"/>
              <a:ext cx="38991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$1.0B/Y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11360" y="4356000"/>
            <a:ext cx="6083280" cy="596880"/>
            <a:chOff x="711360" y="4356000"/>
            <a:chExt cx="6083280" cy="596880"/>
          </a:xfrm>
        </p:grpSpPr>
        <p:sp>
          <p:nvSpPr>
            <p:cNvPr id="73" name=""/>
            <p:cNvSpPr/>
            <p:nvPr/>
          </p:nvSpPr>
          <p:spPr>
            <a:xfrm>
              <a:off x="711360" y="4356000"/>
              <a:ext cx="22860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ahoma"/>
                </a:rPr>
                <a:t>Capital Bud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5480" y="4356000"/>
              <a:ext cx="38991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$250M/Y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36560" y="1460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oed depar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arate business processes and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ed and duplicate information systems and data 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ncial management system did not support effective capital projects track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Manage and deliver $250M annual capital improvement projects on schedule and within bud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418680"/>
            <a:ext cx="657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203040" y="617220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8280" y="456840"/>
            <a:ext cx="844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sset Management Mod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0800" y="1564920"/>
            <a:ext cx="13795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usiness 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2044800" y="613404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670720" y="1720800"/>
            <a:ext cx="3315960" cy="3245040"/>
            <a:chOff x="5670720" y="1720800"/>
            <a:chExt cx="3315960" cy="3245040"/>
          </a:xfrm>
        </p:grpSpPr>
        <p:sp>
          <p:nvSpPr>
            <p:cNvPr id="82" name=""/>
            <p:cNvSpPr/>
            <p:nvPr/>
          </p:nvSpPr>
          <p:spPr>
            <a:xfrm>
              <a:off x="5674680" y="1720800"/>
              <a:ext cx="3306600" cy="3245040"/>
            </a:xfrm>
            <a:prstGeom prst="triangle">
              <a:avLst>
                <a:gd name="adj" fmla="val 50000"/>
              </a:avLst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94120" y="1721880"/>
              <a:ext cx="1465920" cy="1426680"/>
            </a:xfrm>
            <a:prstGeom prst="triangle">
              <a:avLst>
                <a:gd name="adj" fmla="val 49796"/>
              </a:avLst>
            </a:prstGeom>
            <a:solidFill>
              <a:srgbClr val="0099ff"/>
            </a:solidFill>
            <a:ln w="0">
              <a:noFill/>
            </a:ln>
            <a:effectLst>
              <a:outerShdw dist="17819" dir="2700000" blurRad="0" rotWithShape="0">
                <a:srgbClr val="00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670720" y="3151080"/>
              <a:ext cx="3315960" cy="1801080"/>
              <a:chOff x="5670720" y="3151080"/>
              <a:chExt cx="3315960" cy="180108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6098760" y="3151080"/>
                <a:ext cx="2458800" cy="960480"/>
              </a:xfrm>
              <a:custGeom>
                <a:avLst/>
                <a:gdLst>
                  <a:gd name="textAreaLeft" fmla="*/ 474480 w 2458800"/>
                  <a:gd name="textAreaRight" fmla="*/ 1984320 w 2458800"/>
                  <a:gd name="textAreaTop" fmla="*/ 185400 h 960480"/>
                  <a:gd name="textAreaBottom" fmla="*/ 775080 h 96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243" y="21600"/>
                    </a:lnTo>
                    <a:lnTo>
                      <a:pt x="4357" y="2160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  <a:effectLst>
                <a:outerShdw dist="17819" dir="2700000" blurRad="0" rotWithShape="0">
                  <a:srgbClr val="003c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5670720" y="4107600"/>
                <a:ext cx="3315960" cy="844560"/>
              </a:xfrm>
              <a:custGeom>
                <a:avLst/>
                <a:gdLst>
                  <a:gd name="textAreaLeft" fmla="*/ 508320 w 3315960"/>
                  <a:gd name="textAreaRight" fmla="*/ 2807640 w 3315960"/>
                  <a:gd name="textAreaTop" fmla="*/ 129240 h 844560"/>
                  <a:gd name="textAreaBottom" fmla="*/ 715320 h 84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790" y="21600"/>
                    </a:lnTo>
                    <a:lnTo>
                      <a:pt x="2810" y="2160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  <a:effectLst>
                <a:outerShdw dist="17819" dir="2700000" blurRad="0" rotWithShape="0">
                  <a:srgbClr val="1e3c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7326000" y="4107600"/>
              <a:ext cx="1653120" cy="839520"/>
            </a:xfrm>
            <a:custGeom>
              <a:avLst/>
              <a:gdLst/>
              <a:ahLst/>
              <a:rect l="l" t="t" r="r" b="b"/>
              <a:pathLst>
                <a:path w="1608" h="773">
                  <a:moveTo>
                    <a:pt x="0" y="0"/>
                  </a:moveTo>
                  <a:lnTo>
                    <a:pt x="0" y="773"/>
                  </a:lnTo>
                  <a:lnTo>
                    <a:pt x="1608" y="773"/>
                  </a:lnTo>
                  <a:lnTo>
                    <a:pt x="11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  <a:effectLst>
              <a:outerShdw dist="17819" dir="2700000" blurRad="0" rotWithShape="0">
                <a:srgbClr val="003c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61520" y="2466720"/>
              <a:ext cx="112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Verdana"/>
                </a:rPr>
                <a:t>Business</a:t>
              </a:r>
              <a:br>
                <a:rPr sz="1400"/>
              </a:br>
              <a:r>
                <a:rPr b="0" lang="en-US" sz="1400" spc="-1" strike="noStrike">
                  <a:solidFill>
                    <a:srgbClr val="eaeaea"/>
                  </a:solidFill>
                  <a:latin typeface="Verdana"/>
                </a:rPr>
                <a:t>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43920" y="3360600"/>
              <a:ext cx="1969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Verdana"/>
                </a:rPr>
                <a:t>Service</a:t>
              </a:r>
              <a:br>
                <a:rPr sz="1400"/>
              </a:br>
              <a:r>
                <a:rPr b="0" lang="en-US" sz="1400" spc="-1" strike="noStrike">
                  <a:solidFill>
                    <a:srgbClr val="eaeaea"/>
                  </a:solidFill>
                  <a:latin typeface="Verdana"/>
                </a:rPr>
                <a:t>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64160" y="4294440"/>
              <a:ext cx="1398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Verdana"/>
                </a:rPr>
                <a:t>Asset</a:t>
              </a:r>
              <a:br>
                <a:rPr sz="1400"/>
              </a:br>
              <a:r>
                <a:rPr b="0" lang="en-US" sz="1400" spc="-1" strike="noStrike">
                  <a:solidFill>
                    <a:srgbClr val="eaeaea"/>
                  </a:solidFill>
                  <a:latin typeface="Verdana"/>
                </a:rPr>
                <a:t>Capab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3360" y="4294440"/>
              <a:ext cx="1398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Verdana"/>
                </a:rPr>
                <a:t>Business</a:t>
              </a:r>
              <a:br>
                <a:rPr sz="1400"/>
              </a:br>
              <a:r>
                <a:rPr b="0" lang="en-US" sz="1400" spc="-1" strike="noStrike">
                  <a:solidFill>
                    <a:srgbClr val="eaeaea"/>
                  </a:solidFill>
                  <a:latin typeface="Verdana"/>
                </a:rPr>
                <a:t>Capab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138400" y="1565280"/>
            <a:ext cx="34369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the environment and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0800" y="2556000"/>
            <a:ext cx="13795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ervice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800" y="3483000"/>
            <a:ext cx="15192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sset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0800" y="4765680"/>
            <a:ext cx="1557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usiness</a:t>
            </a:r>
            <a:br>
              <a:rPr sz="2000"/>
            </a:b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8400" y="2556000"/>
            <a:ext cx="34369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8400" y="3483000"/>
            <a:ext cx="36021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t characteristics required to achieve service levels (condition, capa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8400" y="4765680"/>
            <a:ext cx="36399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e competencies needed to achieve service levels (people, processes, data, technolo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mproving Business Cap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91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echnology solu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ographic information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ital project managem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enance managem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M system (call cen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ystems implemented to support  standardized city-wide business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044800" y="617220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581800" y="2025720"/>
            <a:ext cx="3315960" cy="3244680"/>
            <a:chOff x="5581800" y="2025720"/>
            <a:chExt cx="3315960" cy="3244680"/>
          </a:xfrm>
        </p:grpSpPr>
        <p:sp>
          <p:nvSpPr>
            <p:cNvPr id="103" name=""/>
            <p:cNvSpPr/>
            <p:nvPr/>
          </p:nvSpPr>
          <p:spPr>
            <a:xfrm>
              <a:off x="5586120" y="2025720"/>
              <a:ext cx="3306240" cy="3244680"/>
            </a:xfrm>
            <a:prstGeom prst="triangle">
              <a:avLst>
                <a:gd name="adj" fmla="val 50000"/>
              </a:avLst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05200" y="2027160"/>
              <a:ext cx="1464840" cy="1426680"/>
            </a:xfrm>
            <a:prstGeom prst="triangle">
              <a:avLst>
                <a:gd name="adj" fmla="val 49796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581800" y="3455280"/>
              <a:ext cx="3315960" cy="1801080"/>
              <a:chOff x="5581800" y="3455280"/>
              <a:chExt cx="3315960" cy="180108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6009840" y="3454920"/>
                <a:ext cx="2458800" cy="960120"/>
              </a:xfrm>
              <a:custGeom>
                <a:avLst/>
                <a:gdLst>
                  <a:gd name="textAreaLeft" fmla="*/ 474480 w 2458800"/>
                  <a:gd name="textAreaRight" fmla="*/ 1984320 w 2458800"/>
                  <a:gd name="textAreaTop" fmla="*/ 185400 h 960120"/>
                  <a:gd name="textAreaBottom" fmla="*/ 774720 h 96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243" y="21600"/>
                    </a:lnTo>
                    <a:lnTo>
                      <a:pt x="4357" y="216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581800" y="4411800"/>
                <a:ext cx="3315960" cy="844200"/>
              </a:xfrm>
              <a:custGeom>
                <a:avLst/>
                <a:gdLst>
                  <a:gd name="textAreaLeft" fmla="*/ 508320 w 3315960"/>
                  <a:gd name="textAreaRight" fmla="*/ 2807640 w 3315960"/>
                  <a:gd name="textAreaTop" fmla="*/ 129240 h 844200"/>
                  <a:gd name="textAreaBottom" fmla="*/ 714960 h 84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790" y="21600"/>
                    </a:lnTo>
                    <a:lnTo>
                      <a:pt x="2810" y="2160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  <a:effectLst>
                <a:outerShdw dist="17819" dir="2700000" blurRad="0" rotWithShape="0">
                  <a:srgbClr val="1e3c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7237080" y="4412880"/>
              <a:ext cx="1652400" cy="838080"/>
            </a:xfrm>
            <a:custGeom>
              <a:avLst/>
              <a:gdLst/>
              <a:ahLst/>
              <a:rect l="l" t="t" r="r" b="b"/>
              <a:pathLst>
                <a:path w="1608" h="773">
                  <a:moveTo>
                    <a:pt x="0" y="0"/>
                  </a:moveTo>
                  <a:lnTo>
                    <a:pt x="0" y="773"/>
                  </a:lnTo>
                  <a:lnTo>
                    <a:pt x="1608" y="773"/>
                  </a:lnTo>
                  <a:lnTo>
                    <a:pt x="11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71880" y="2771640"/>
              <a:ext cx="113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Verdana"/>
                </a:rPr>
                <a:t>Business</a:t>
              </a:r>
              <a:br>
                <a:rPr sz="1400"/>
              </a:br>
              <a:r>
                <a:rPr b="0" lang="en-US" sz="1400" spc="-1" strike="noStrike">
                  <a:solidFill>
                    <a:srgbClr val="eaeaea"/>
                  </a:solidFill>
                  <a:latin typeface="Verdana"/>
                </a:rPr>
                <a:t>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4640" y="3665160"/>
              <a:ext cx="1969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Verdana"/>
                </a:rPr>
                <a:t>Service</a:t>
              </a:r>
              <a:br>
                <a:rPr sz="1400"/>
              </a:br>
              <a:r>
                <a:rPr b="0" lang="en-US" sz="1400" spc="-1" strike="noStrike">
                  <a:solidFill>
                    <a:srgbClr val="eaeaea"/>
                  </a:solidFill>
                  <a:latin typeface="Verdana"/>
                </a:rPr>
                <a:t>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75240" y="4598640"/>
              <a:ext cx="1398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Verdana"/>
                </a:rPr>
                <a:t>Asset</a:t>
              </a:r>
              <a:br>
                <a:rPr sz="1400"/>
              </a:br>
              <a:r>
                <a:rPr b="0" lang="en-US" sz="1400" spc="-1" strike="noStrike">
                  <a:solidFill>
                    <a:srgbClr val="eaeaea"/>
                  </a:solidFill>
                  <a:latin typeface="Verdana"/>
                </a:rPr>
                <a:t>Capab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24080" y="4598640"/>
              <a:ext cx="1398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Verdana"/>
                </a:rPr>
                <a:t>Business</a:t>
              </a:r>
              <a:br>
                <a:rPr sz="1400"/>
              </a:br>
              <a:r>
                <a:rPr b="0" lang="en-US" sz="1400" spc="-1" strike="noStrike">
                  <a:solidFill>
                    <a:srgbClr val="eaeaea"/>
                  </a:solidFill>
                  <a:latin typeface="Verdana"/>
                </a:rPr>
                <a:t>Capab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usiness Process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873600" y="618480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Business Process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3440" y="1616040"/>
            <a:ext cx="1350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90680" y="1616040"/>
            <a:ext cx="66009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ce of tasks performed in a specific order in pursuit of a common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3440" y="2771640"/>
            <a:ext cx="1350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nformal (organ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90680" y="2771640"/>
            <a:ext cx="6500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ught by departmental expe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ne to error, duplication of effort, and data redund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3440" y="4257720"/>
            <a:ext cx="1350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90680" y="4257720"/>
            <a:ext cx="66628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s documentation and training on “the way” work is to be carri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s the basis for measurable improv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ment for successful technology implementation (workflow, screens and data dictio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98400" y="1663200"/>
            <a:ext cx="5168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shops with 150 staff over an 18-month period (collaborative approa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umented 55 end-to-end business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spcAft>
                <a:spcPts val="56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ital project management system (2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56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enance management system (1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56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stomer Relationship Management (1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125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ographic Information System (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New systems were configured and integrated to support the adopted business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999040" y="4013280"/>
          <a:ext cx="2710080" cy="200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99040" y="4013280"/>
                    <a:ext cx="271008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571680" y="482400"/>
            <a:ext cx="734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usiness Process Developmen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873600" y="618480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Business Process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0440" y="1270080"/>
            <a:ext cx="8801280" cy="530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8760" y="1257480"/>
            <a:ext cx="9988560" cy="5308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320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usiness Process Workflow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74640" y="3594240"/>
            <a:ext cx="1181160" cy="355320"/>
          </a:xfrm>
          <a:prstGeom prst="wedgeRectCallout">
            <a:avLst>
              <a:gd name="adj1" fmla="val -45833"/>
              <a:gd name="adj2" fmla="val -14508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6880" y="4089240"/>
            <a:ext cx="1295280" cy="330480"/>
          </a:xfrm>
          <a:prstGeom prst="wedgeRectCallout">
            <a:avLst>
              <a:gd name="adj1" fmla="val -65810"/>
              <a:gd name="adj2" fmla="val -294712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48040" y="4051440"/>
            <a:ext cx="1181160" cy="355320"/>
          </a:xfrm>
          <a:prstGeom prst="wedgeRectCallout">
            <a:avLst>
              <a:gd name="adj1" fmla="val 96101"/>
              <a:gd name="adj2" fmla="val -266518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5120" y="1943280"/>
            <a:ext cx="1181160" cy="342720"/>
          </a:xfrm>
          <a:prstGeom prst="wedgeRectCallout">
            <a:avLst>
              <a:gd name="adj1" fmla="val -74865"/>
              <a:gd name="adj2" fmla="val 229166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73600" y="618480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Business Process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usiness Process Scree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860640" y="6172200"/>
            <a:ext cx="2286000" cy="457200"/>
          </a:xfrm>
          <a:prstGeom prst="roundRect">
            <a:avLst>
              <a:gd name="adj" fmla="val 3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e2ff"/>
                </a:solidFill>
                <a:latin typeface="Tahoma"/>
              </a:rPr>
              <a:t>Business Process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031840" y="1330200"/>
            <a:ext cx="5335920" cy="4803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52520" y="1473120"/>
            <a:ext cx="4908600" cy="459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0:20:38Z</dcterms:created>
  <dc:creator>MWH Global, Inc.</dc:creator>
  <dc:description/>
  <dc:language>en-US</dc:language>
  <cp:lastModifiedBy>MWH Global</cp:lastModifiedBy>
  <cp:lastPrinted>2006-01-13T16:20:24Z</cp:lastPrinted>
  <dcterms:modified xsi:type="dcterms:W3CDTF">2006-01-13T16:29:37Z</dcterms:modified>
  <cp:revision>162</cp:revision>
  <dc:subject/>
  <dc:title>Business and Asset Management Plans</dc:title>
</cp:coreProperties>
</file>