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14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768-59B9-4FD1-8F7F-356F9663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630-B520-459D-9DF5-6D7CC71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8B3-8899-4C4A-9BF9-44D73194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5764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5352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5764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15352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431-BF12-4715-BAC3-25B88B4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57240" y="1461960"/>
            <a:ext cx="5257800" cy="9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DCD-7B3C-466B-B29E-2A4CAF15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5764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53520" y="146196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176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45764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153520" y="2250720"/>
            <a:ext cx="662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80E-0D2C-4C8D-AE22-13B7062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2EC-E7AA-4094-A9A6-F18A1B0E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49E-312D-4BEB-9F8D-5A938FCC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57240" y="1461960"/>
            <a:ext cx="5257800" cy="9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3AA-FD5A-467C-9CAA-0BBDA00B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DD6-AD1F-4B14-A78C-1099BFAF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15840" y="225072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432-ECB3-4A2D-8093-E4CB7E63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15840" y="1461960"/>
            <a:ext cx="1003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2250720"/>
            <a:ext cx="20574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5B9-273C-46A0-8391-3FF2291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021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435-F184-4765-885C-7D4BBE8A6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0520" y="4911840"/>
            <a:ext cx="3097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85000"/>
              </a:lnSpc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image" Target="../media/image38.jpe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57600" y="5076720"/>
            <a:ext cx="48448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Terry Brueck</a:t>
            </a:r>
            <a:br>
              <a:rPr sz="2200"/>
            </a:b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CEO/President, 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266840"/>
            <a:ext cx="54864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ddressing a 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Utility’s Need for Knowledge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5783400"/>
            <a:ext cx="2225520" cy="825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57600" y="111240"/>
            <a:ext cx="48578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CWA 2006 Winter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4059360"/>
            <a:ext cx="50054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bruary 2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he Knowledge Value Chain Shows a Progression of Added Benefit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ach Link is More Difficult and Requires More Interactio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4680" y="2852640"/>
            <a:ext cx="8645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581880"/>
            <a:ext cx="170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*APQC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Knowledge Management Approaches* are Based on Type of Knowledge and Level of Interactio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84520" y="4716360"/>
            <a:ext cx="1896840" cy="1789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xperti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3268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Self Service KM: Tools and Systems That Allow Users to Self-serve Knowledge or Find Experts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93960" y="4208400"/>
            <a:ext cx="1135080" cy="20192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fter Action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ject Mileston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Process Based KM: Systematic Tools to Gather Process-specific Knowledge and Reapply to Relevant Situation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06880" y="3790800"/>
            <a:ext cx="1457280" cy="1800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munities of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rtual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pecial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Network Based KM: Groups That Share and Learn with Common Interest and Business Purpos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364440" y="3257640"/>
            <a:ext cx="1606320" cy="174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eer As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corporating Reti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rnal KM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Facilitated Transfer KM: Sharing and Transfer of Best Practices for Knowledge Management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tility Knowledge Management Need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441440" y="21002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21002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ater/Wastewater Utility Retirements Will Drive Knowledge Management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52140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Source:  AwwaRF/WER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4080" y="6016680"/>
            <a:ext cx="48164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00200" indent="-2286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tential Ret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625920"/>
            <a:ext cx="16970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cent of Current Utility Work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638440" y="3278160"/>
            <a:ext cx="1512720" cy="2282760"/>
            <a:chOff x="2638440" y="3278160"/>
            <a:chExt cx="1512720" cy="2282760"/>
          </a:xfrm>
        </p:grpSpPr>
        <p:sp>
          <p:nvSpPr>
            <p:cNvPr id="190" name=""/>
            <p:cNvSpPr/>
            <p:nvPr/>
          </p:nvSpPr>
          <p:spPr>
            <a:xfrm>
              <a:off x="2657520" y="3830760"/>
              <a:ext cx="1493640" cy="1730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671920" y="4686480"/>
              <a:ext cx="3362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30481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19640" y="4686480"/>
              <a:ext cx="3362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37958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rcRect l="-7047" t="9617" r="0" b="0"/>
            <a:stretch/>
          </p:blipFill>
          <p:spPr>
            <a:xfrm>
              <a:off x="2638440" y="3854520"/>
              <a:ext cx="3603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8"/>
            <a:srcRect l="-6576" t="9428" r="0" b="0"/>
            <a:stretch/>
          </p:blipFill>
          <p:spPr>
            <a:xfrm>
              <a:off x="3016080" y="3852720"/>
              <a:ext cx="3589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9"/>
            <a:srcRect l="-17444" t="8132" r="0" b="0"/>
            <a:stretch/>
          </p:blipFill>
          <p:spPr>
            <a:xfrm>
              <a:off x="3351240" y="3841920"/>
              <a:ext cx="39528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0"/>
            <a:srcRect l="-17444" t="9428" r="0" b="0"/>
            <a:stretch/>
          </p:blipFill>
          <p:spPr>
            <a:xfrm>
              <a:off x="3727440" y="3852720"/>
              <a:ext cx="39528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276720" y="3278160"/>
              <a:ext cx="6807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052960" y="2284560"/>
            <a:ext cx="1495440" cy="3260520"/>
            <a:chOff x="5052960" y="2284560"/>
            <a:chExt cx="1495440" cy="3260520"/>
          </a:xfrm>
        </p:grpSpPr>
        <p:sp>
          <p:nvSpPr>
            <p:cNvPr id="201" name=""/>
            <p:cNvSpPr/>
            <p:nvPr/>
          </p:nvSpPr>
          <p:spPr>
            <a:xfrm>
              <a:off x="5054760" y="2817720"/>
              <a:ext cx="1493640" cy="27068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50641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505296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505296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544032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5"/>
            <a:stretch/>
          </p:blipFill>
          <p:spPr>
            <a:xfrm>
              <a:off x="542916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6"/>
            <a:stretch/>
          </p:blipFill>
          <p:spPr>
            <a:xfrm>
              <a:off x="542916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7"/>
            <a:stretch/>
          </p:blipFill>
          <p:spPr>
            <a:xfrm>
              <a:off x="58118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8"/>
            <a:stretch/>
          </p:blipFill>
          <p:spPr>
            <a:xfrm>
              <a:off x="580068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9"/>
            <a:stretch/>
          </p:blipFill>
          <p:spPr>
            <a:xfrm>
              <a:off x="580068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0"/>
            <a:stretch/>
          </p:blipFill>
          <p:spPr>
            <a:xfrm>
              <a:off x="6188040" y="46864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1"/>
            <a:stretch/>
          </p:blipFill>
          <p:spPr>
            <a:xfrm>
              <a:off x="6176880" y="3772080"/>
              <a:ext cx="3366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6176880" y="2879640"/>
              <a:ext cx="3366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607000" y="2284560"/>
              <a:ext cx="8208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Most Employees Have Spent Majority of Work Years With Same Utility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1455840"/>
          <a:ext cx="62010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55840"/>
                    <a:ext cx="6201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147760" y="5083200"/>
            <a:ext cx="2955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ge at Ret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44800" y="4078440"/>
            <a:ext cx="1424160" cy="94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44800" y="2097000"/>
            <a:ext cx="1424160" cy="1981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68600" y="155736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111400" y="2835360"/>
            <a:ext cx="5773680" cy="3495960"/>
            <a:chOff x="2111400" y="2835360"/>
            <a:chExt cx="5773680" cy="3495960"/>
          </a:xfrm>
        </p:grpSpPr>
        <p:sp>
          <p:nvSpPr>
            <p:cNvPr id="223" name=""/>
            <p:cNvSpPr/>
            <p:nvPr/>
          </p:nvSpPr>
          <p:spPr>
            <a:xfrm>
              <a:off x="6964200" y="2835360"/>
              <a:ext cx="136800" cy="1278000"/>
            </a:xfrm>
            <a:custGeom>
              <a:avLst/>
              <a:gdLst>
                <a:gd name="textAreaLeft" fmla="*/ 0 w 136800"/>
                <a:gd name="textAreaRight" fmla="*/ 49320 w 136800"/>
                <a:gd name="textAreaTop" fmla="*/ 33120 h 1278000"/>
                <a:gd name="textAreaBottom" fmla="*/ 1244880 h 12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21520" y="3292560"/>
              <a:ext cx="7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11400" y="5902200"/>
              <a:ext cx="53262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"/>
                </a:rPr>
                <a:t>2/3 of Your Career in One Place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0" y="6521400"/>
            <a:ext cx="67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Source: AwwaRF/WERF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9800" y="2901960"/>
            <a:ext cx="6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7480" y="444168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8080" y="1933560"/>
            <a:ext cx="3225960" cy="3792240"/>
            <a:chOff x="4348080" y="1933560"/>
            <a:chExt cx="3225960" cy="3792240"/>
          </a:xfrm>
        </p:grpSpPr>
        <p:sp>
          <p:nvSpPr>
            <p:cNvPr id="230" name=""/>
            <p:cNvSpPr/>
            <p:nvPr/>
          </p:nvSpPr>
          <p:spPr>
            <a:xfrm>
              <a:off x="4618080" y="5083200"/>
              <a:ext cx="29559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 Years at Same 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3080" y="2828880"/>
              <a:ext cx="1424160" cy="1249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19880" y="2284560"/>
              <a:ext cx="14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2760" y="2090880"/>
              <a:ext cx="1028880" cy="1987560"/>
            </a:xfrm>
            <a:custGeom>
              <a:avLst/>
              <a:gdLst/>
              <a:ahLst/>
              <a:rect l="l" t="t" r="r" b="b"/>
              <a:pathLst>
                <a:path w="648" h="1252">
                  <a:moveTo>
                    <a:pt x="0" y="0"/>
                  </a:moveTo>
                  <a:lnTo>
                    <a:pt x="648" y="462"/>
                  </a:lnTo>
                  <a:lnTo>
                    <a:pt x="645" y="1251"/>
                  </a:lnTo>
                  <a:lnTo>
                    <a:pt x="5" y="125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00">
                    <a:alpha val="50196"/>
                  </a:srgbClr>
                </a:gs>
                <a:gs pos="100000">
                  <a:srgbClr val="003399">
                    <a:alpha val="3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080" y="1933560"/>
              <a:ext cx="1195560" cy="895320"/>
            </a:xfrm>
            <a:custGeom>
              <a:avLst/>
              <a:gdLst/>
              <a:ahLst/>
              <a:rect l="l" t="t" r="r" b="b"/>
              <a:pathLst>
                <a:path w="753" h="564">
                  <a:moveTo>
                    <a:pt x="0" y="99"/>
                  </a:moveTo>
                  <a:lnTo>
                    <a:pt x="119" y="0"/>
                  </a:lnTo>
                  <a:lnTo>
                    <a:pt x="753" y="462"/>
                  </a:lnTo>
                  <a:lnTo>
                    <a:pt x="651" y="564"/>
                  </a:lnTo>
                  <a:lnTo>
                    <a:pt x="0" y="99"/>
                  </a:lnTo>
                  <a:close/>
                </a:path>
              </a:pathLst>
            </a:custGeom>
            <a:gradFill rotWithShape="0">
              <a:gsLst>
                <a:gs pos="0">
                  <a:srgbClr val="009900">
                    <a:alpha val="50196"/>
                  </a:srgbClr>
                </a:gs>
                <a:gs pos="100000">
                  <a:srgbClr val="003399">
                    <a:alpha val="49019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1461960"/>
            <a:ext cx="4665600" cy="47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nowledge Management Concepts and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tility Knowledge Management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8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 to Address Knowledg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89160"/>
            <a:ext cx="20574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is presentation has 3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406600" y="1446120"/>
            <a:ext cx="4487760" cy="5411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orkforce Changes Will Require New Approaches to Retain Knowledg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203560" y="1639800"/>
            <a:ext cx="4690800" cy="4659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Knowledge is a Component of the Total Resources of Your Workforce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595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KM Alone Cannot Overcome Lack of Skills o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25520" y="1147680"/>
            <a:ext cx="5938920" cy="5635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Workforce Management is Key to Sustaining Organizational Knowledg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5910120" y="1384200"/>
            <a:ext cx="3233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DRIVE Model of Organization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25520" y="1147680"/>
            <a:ext cx="5938920" cy="5635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4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Knowledge Management is Critical in a Holistic View of Your Workforce</a:t>
            </a:r>
            <a:endParaRPr b="1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317840" y="4059360"/>
            <a:ext cx="2551320" cy="2519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910120" y="1384200"/>
            <a:ext cx="32338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DRIVE Model of Organization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eps to Address Knowledge Managemen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695920" y="2236680"/>
            <a:ext cx="3348000" cy="772560"/>
          </a:xfrm>
          <a:prstGeom prst="rect">
            <a:avLst/>
          </a:prstGeom>
          <a:solidFill>
            <a:srgbClr val="80008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ck and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76720" y="3714840"/>
            <a:ext cx="3863880" cy="772560"/>
          </a:xfrm>
          <a:prstGeom prst="rect">
            <a:avLst/>
          </a:prstGeom>
          <a:solidFill>
            <a:srgbClr val="00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 KM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volve Key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7680" y="5205240"/>
            <a:ext cx="5048280" cy="772560"/>
          </a:xfrm>
          <a:prstGeom prst="rect">
            <a:avLst/>
          </a:prstGeom>
          <a:solidFill>
            <a:srgbClr val="009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ssion Crit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2120">
              <a:lnSpc>
                <a:spcPct val="85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tility Demographics b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hree-Step Process Addresses a Utility’s Knowledge Management Need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81560" y="1503360"/>
            <a:ext cx="3044520" cy="2233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908000" y="2971800"/>
            <a:ext cx="304488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16080" y="4437000"/>
            <a:ext cx="3044520" cy="2233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2600" y="4984920"/>
            <a:ext cx="24876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Assess Knowledge Vuln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05000" y="3514680"/>
            <a:ext cx="24894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lan for Knowledge and Suc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67280" y="2217600"/>
            <a:ext cx="193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Implement Your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81000" y="1492200"/>
            <a:ext cx="7331040" cy="4921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Areas are Most Difficult for Your Utility to Retain Knowledge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429240"/>
            <a:ext cx="9144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 Narrow"/>
              </a:rPr>
              <a:t>The Utility Business Architecture Shows Mission Critic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Positions in Your Organization are Most Vulnerable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333520" y="5524560"/>
            <a:ext cx="520092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igible for Ret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ck of Back-Up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81160">
              <a:lnSpc>
                <a:spcPct val="85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nowledge Not Available Ex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280" y="1727280"/>
            <a:ext cx="9077400" cy="3676680"/>
            <a:chOff x="44280" y="1727280"/>
            <a:chExt cx="9077400" cy="3676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336600" y="423216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681360" y="1727280"/>
              <a:ext cx="17636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1512720" y="4694400"/>
              <a:ext cx="115128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4"/>
            <a:stretch/>
          </p:blipFill>
          <p:spPr>
            <a:xfrm>
              <a:off x="269244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387180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"/>
            <a:stretch/>
          </p:blipFill>
          <p:spPr>
            <a:xfrm>
              <a:off x="5035680" y="423216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7"/>
            <a:stretch/>
          </p:blipFill>
          <p:spPr>
            <a:xfrm>
              <a:off x="676584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8"/>
            <a:stretch/>
          </p:blipFill>
          <p:spPr>
            <a:xfrm>
              <a:off x="7970760" y="4694400"/>
              <a:ext cx="115092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86080" y="3005280"/>
              <a:ext cx="17636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0"/>
            <a:stretch/>
          </p:blipFill>
          <p:spPr>
            <a:xfrm>
              <a:off x="44280" y="3005280"/>
              <a:ext cx="17654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1"/>
            <a:stretch/>
          </p:blipFill>
          <p:spPr>
            <a:xfrm>
              <a:off x="7067520" y="3005280"/>
              <a:ext cx="17654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2"/>
            <a:stretch/>
          </p:blipFill>
          <p:spPr>
            <a:xfrm>
              <a:off x="4726080" y="3005280"/>
              <a:ext cx="1765080" cy="709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3" name=""/>
            <p:cNvCxnSpPr>
              <a:stCxn id="280" idx="0"/>
              <a:endCxn id="272" idx="2"/>
            </p:cNvCxnSpPr>
            <p:nvPr/>
          </p:nvCxnSpPr>
          <p:spPr>
            <a:xfrm flipH="1" flipV="1" rot="5400000">
              <a:off x="2460960" y="901800"/>
              <a:ext cx="568800" cy="363780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81" idx="0"/>
              <a:endCxn id="272" idx="2"/>
            </p:cNvCxnSpPr>
            <p:nvPr/>
          </p:nvCxnSpPr>
          <p:spPr>
            <a:xfrm flipV="1" rot="16200000">
              <a:off x="5973480" y="1026360"/>
              <a:ext cx="568800" cy="338832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79" idx="0"/>
              <a:endCxn id="272" idx="2"/>
            </p:cNvCxnSpPr>
            <p:nvPr/>
          </p:nvCxnSpPr>
          <p:spPr>
            <a:xfrm flipH="1" flipV="1" rot="5400000">
              <a:off x="3632040" y="2072880"/>
              <a:ext cx="568800" cy="129600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stCxn id="282" idx="0"/>
              <a:endCxn id="272" idx="2"/>
            </p:cNvCxnSpPr>
            <p:nvPr/>
          </p:nvCxnSpPr>
          <p:spPr>
            <a:xfrm flipV="1" rot="16200000">
              <a:off x="4802760" y="2197080"/>
              <a:ext cx="568800" cy="1046880"/>
            </a:xfrm>
            <a:prstGeom prst="bentConnector3">
              <a:avLst>
                <a:gd name="adj1" fmla="val 50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>
              <a:stCxn id="277" idx="0"/>
              <a:endCxn id="281" idx="2"/>
            </p:cNvCxnSpPr>
            <p:nvPr/>
          </p:nvCxnSpPr>
          <p:spPr>
            <a:xfrm flipH="1" flipV="1" rot="5400000">
              <a:off x="7156800" y="3899160"/>
              <a:ext cx="980280" cy="61020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78" idx="0"/>
              <a:endCxn id="281" idx="2"/>
            </p:cNvCxnSpPr>
            <p:nvPr/>
          </p:nvCxnSpPr>
          <p:spPr>
            <a:xfrm flipV="1" rot="16200000">
              <a:off x="7759080" y="3906000"/>
              <a:ext cx="980280" cy="59616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>
              <a:stCxn id="273" idx="0"/>
              <a:endCxn id="279" idx="2"/>
            </p:cNvCxnSpPr>
            <p:nvPr/>
          </p:nvCxnSpPr>
          <p:spPr>
            <a:xfrm flipH="1" flipV="1" rot="5400000">
              <a:off x="2188800" y="3614040"/>
              <a:ext cx="980280" cy="118044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"/>
            <p:cNvCxnSpPr>
              <a:stCxn id="275" idx="0"/>
              <a:endCxn id="279" idx="2"/>
            </p:cNvCxnSpPr>
            <p:nvPr/>
          </p:nvCxnSpPr>
          <p:spPr>
            <a:xfrm flipV="1" rot="16200000">
              <a:off x="3368160" y="3614040"/>
              <a:ext cx="980280" cy="1180080"/>
            </a:xfrm>
            <a:prstGeom prst="bentConnector3">
              <a:avLst>
                <a:gd name="adj1" fmla="val 500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>
              <a:stCxn id="274" idx="0"/>
              <a:endCxn id="279" idx="2"/>
            </p:cNvCxnSpPr>
            <p:nvPr/>
          </p:nvCxnSpPr>
          <p:spPr>
            <a:xfrm flipV="1">
              <a:off x="3268440" y="3714120"/>
              <a:ext cx="1080" cy="980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"/>
            <p:cNvCxnSpPr>
              <a:stCxn id="271" idx="0"/>
              <a:endCxn id="280" idx="2"/>
            </p:cNvCxnSpPr>
            <p:nvPr/>
          </p:nvCxnSpPr>
          <p:spPr>
            <a:xfrm flipV="1">
              <a:off x="912600" y="3714120"/>
              <a:ext cx="14760" cy="51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82" idx="2"/>
              <a:endCxn id="276" idx="0"/>
            </p:cNvCxnSpPr>
            <p:nvPr/>
          </p:nvCxnSpPr>
          <p:spPr>
            <a:xfrm>
              <a:off x="5610240" y="3714480"/>
              <a:ext cx="2160" cy="51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2637000" y="4702320"/>
            <a:ext cx="5352840" cy="674640"/>
            <a:chOff x="2637000" y="4702320"/>
            <a:chExt cx="5352840" cy="674640"/>
          </a:xfrm>
        </p:grpSpPr>
        <p:pic>
          <p:nvPicPr>
            <p:cNvPr id="295" name="" descr=""/>
            <p:cNvPicPr/>
            <p:nvPr/>
          </p:nvPicPr>
          <p:blipFill>
            <a:blip r:embed="rId13"/>
            <a:stretch/>
          </p:blipFill>
          <p:spPr>
            <a:xfrm>
              <a:off x="6931080" y="4702320"/>
              <a:ext cx="83016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4"/>
            <a:stretch/>
          </p:blipFill>
          <p:spPr>
            <a:xfrm>
              <a:off x="2846520" y="4702320"/>
              <a:ext cx="83160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37000" y="4732200"/>
              <a:ext cx="1279440" cy="33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 Narrow"/>
                </a:rPr>
                <a:t>Hot Sp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0400" y="4732200"/>
              <a:ext cx="1279440" cy="33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 Narrow"/>
                </a:rPr>
                <a:t>Hot Spo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20835600">
            <a:off x="161640" y="5032080"/>
            <a:ext cx="19080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Where 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Are Your</a:t>
            </a:r>
            <a:br>
              <a:rPr sz="2800"/>
            </a:br>
            <a:r>
              <a:rPr b="1" i="1" lang="en-US" sz="2800" spc="-1" strike="noStrike">
                <a:solidFill>
                  <a:srgbClr val="800000"/>
                </a:solidFill>
                <a:latin typeface="Arial Narrow"/>
              </a:rPr>
              <a:t>“HOT SP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04880" y="1941480"/>
            <a:ext cx="6599160" cy="46371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581880"/>
            <a:ext cx="17035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*APQC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7040" y="645480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80000" y="6454800"/>
            <a:ext cx="1395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6454800"/>
            <a:ext cx="61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uman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9080" y="576576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080" y="2343240"/>
            <a:ext cx="139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a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080" y="3816360"/>
            <a:ext cx="1428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9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What Knowledge Management Approaches* Best Fit Your Utility’s Need?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2187720" y="4151160"/>
            <a:ext cx="119844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93960" y="35733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954160"/>
            <a:ext cx="1198800" cy="64260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6880" y="2400480"/>
            <a:ext cx="1557360" cy="6426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Facilitate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84520" y="4716360"/>
            <a:ext cx="1896840" cy="17899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ocument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iscu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xperti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93960" y="4208400"/>
            <a:ext cx="1135080" cy="201924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fter Action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ject Mileston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6880" y="3790800"/>
            <a:ext cx="1457280" cy="1800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munities of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rtual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pecial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4440" y="3257640"/>
            <a:ext cx="1606320" cy="174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eer As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corporating Reti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rnal KM 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 rot="360000">
            <a:off x="4381560" y="762120"/>
            <a:ext cx="4762440" cy="5810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8052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wwaRF Project Will Identify Methods and Tools with 24 Participating Utilitie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287360" y="4175280"/>
            <a:ext cx="3727080" cy="2123640"/>
            <a:chOff x="1287360" y="4175280"/>
            <a:chExt cx="3727080" cy="2123640"/>
          </a:xfrm>
        </p:grpSpPr>
        <p:sp>
          <p:nvSpPr>
            <p:cNvPr id="320" name=""/>
            <p:cNvSpPr/>
            <p:nvPr/>
          </p:nvSpPr>
          <p:spPr>
            <a:xfrm>
              <a:off x="1287360" y="4175280"/>
              <a:ext cx="3727080" cy="2123640"/>
            </a:xfrm>
            <a:custGeom>
              <a:avLst/>
              <a:gdLst>
                <a:gd name="textAreaLeft" fmla="*/ 784800 w 3727080"/>
                <a:gd name="textAreaRight" fmla="*/ 2942280 w 3727080"/>
                <a:gd name="textAreaTop" fmla="*/ 447120 h 2123640"/>
                <a:gd name="textAreaBottom" fmla="*/ 1676520 h 21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93" y="11571"/>
                  </a:lnTo>
                  <a:lnTo>
                    <a:pt x="198" y="12861"/>
                  </a:lnTo>
                  <a:lnTo>
                    <a:pt x="2301" y="13237"/>
                  </a:lnTo>
                  <a:lnTo>
                    <a:pt x="786" y="14846"/>
                  </a:lnTo>
                  <a:lnTo>
                    <a:pt x="2994" y="14951"/>
                  </a:lnTo>
                  <a:lnTo>
                    <a:pt x="1742" y="16682"/>
                  </a:lnTo>
                  <a:lnTo>
                    <a:pt x="3929" y="16364"/>
                  </a:lnTo>
                  <a:lnTo>
                    <a:pt x="3163" y="18437"/>
                  </a:lnTo>
                  <a:lnTo>
                    <a:pt x="5117" y="17573"/>
                  </a:lnTo>
                  <a:lnTo>
                    <a:pt x="4761" y="19754"/>
                  </a:lnTo>
                  <a:lnTo>
                    <a:pt x="6514" y="18533"/>
                  </a:lnTo>
                  <a:lnTo>
                    <a:pt x="6580" y="20741"/>
                  </a:lnTo>
                  <a:lnTo>
                    <a:pt x="8215" y="19255"/>
                  </a:lnTo>
                  <a:lnTo>
                    <a:pt x="8555" y="21364"/>
                  </a:lnTo>
                  <a:lnTo>
                    <a:pt x="9876" y="19593"/>
                  </a:lnTo>
                  <a:lnTo>
                    <a:pt x="10800" y="21600"/>
                  </a:lnTo>
                  <a:lnTo>
                    <a:pt x="11571" y="19607"/>
                  </a:lnTo>
                  <a:lnTo>
                    <a:pt x="12861" y="21402"/>
                  </a:lnTo>
                  <a:lnTo>
                    <a:pt x="13237" y="19299"/>
                  </a:lnTo>
                  <a:lnTo>
                    <a:pt x="14846" y="20814"/>
                  </a:lnTo>
                  <a:lnTo>
                    <a:pt x="14951" y="18606"/>
                  </a:lnTo>
                  <a:lnTo>
                    <a:pt x="16682" y="19858"/>
                  </a:lnTo>
                  <a:lnTo>
                    <a:pt x="16364" y="17671"/>
                  </a:lnTo>
                  <a:lnTo>
                    <a:pt x="18437" y="18437"/>
                  </a:lnTo>
                  <a:lnTo>
                    <a:pt x="17573" y="16483"/>
                  </a:lnTo>
                  <a:lnTo>
                    <a:pt x="19754" y="16839"/>
                  </a:lnTo>
                  <a:lnTo>
                    <a:pt x="18533" y="15086"/>
                  </a:lnTo>
                  <a:lnTo>
                    <a:pt x="20741" y="15020"/>
                  </a:lnTo>
                  <a:lnTo>
                    <a:pt x="19255" y="13385"/>
                  </a:lnTo>
                  <a:lnTo>
                    <a:pt x="21364" y="13045"/>
                  </a:lnTo>
                  <a:lnTo>
                    <a:pt x="19593" y="11724"/>
                  </a:lnTo>
                  <a:lnTo>
                    <a:pt x="21600" y="10800"/>
                  </a:lnTo>
                  <a:lnTo>
                    <a:pt x="19607" y="10029"/>
                  </a:lnTo>
                  <a:lnTo>
                    <a:pt x="21402" y="8739"/>
                  </a:lnTo>
                  <a:lnTo>
                    <a:pt x="19299" y="8363"/>
                  </a:lnTo>
                  <a:lnTo>
                    <a:pt x="20814" y="6754"/>
                  </a:lnTo>
                  <a:lnTo>
                    <a:pt x="18606" y="6649"/>
                  </a:lnTo>
                  <a:lnTo>
                    <a:pt x="19858" y="4918"/>
                  </a:lnTo>
                  <a:lnTo>
                    <a:pt x="17671" y="5236"/>
                  </a:lnTo>
                  <a:lnTo>
                    <a:pt x="18437" y="3163"/>
                  </a:lnTo>
                  <a:lnTo>
                    <a:pt x="16483" y="4027"/>
                  </a:lnTo>
                  <a:lnTo>
                    <a:pt x="16839" y="1846"/>
                  </a:lnTo>
                  <a:lnTo>
                    <a:pt x="15086" y="3067"/>
                  </a:lnTo>
                  <a:lnTo>
                    <a:pt x="15020" y="859"/>
                  </a:lnTo>
                  <a:lnTo>
                    <a:pt x="13385" y="2345"/>
                  </a:lnTo>
                  <a:lnTo>
                    <a:pt x="13045" y="236"/>
                  </a:lnTo>
                  <a:lnTo>
                    <a:pt x="11724" y="2007"/>
                  </a:lnTo>
                  <a:lnTo>
                    <a:pt x="10800" y="0"/>
                  </a:lnTo>
                  <a:lnTo>
                    <a:pt x="10029" y="1993"/>
                  </a:lnTo>
                  <a:lnTo>
                    <a:pt x="8739" y="198"/>
                  </a:lnTo>
                  <a:lnTo>
                    <a:pt x="8363" y="2301"/>
                  </a:lnTo>
                  <a:lnTo>
                    <a:pt x="6754" y="786"/>
                  </a:lnTo>
                  <a:lnTo>
                    <a:pt x="6649" y="2994"/>
                  </a:lnTo>
                  <a:lnTo>
                    <a:pt x="4918" y="1742"/>
                  </a:lnTo>
                  <a:lnTo>
                    <a:pt x="5236" y="3929"/>
                  </a:lnTo>
                  <a:lnTo>
                    <a:pt x="3163" y="3163"/>
                  </a:lnTo>
                  <a:lnTo>
                    <a:pt x="4027" y="5117"/>
                  </a:lnTo>
                  <a:lnTo>
                    <a:pt x="1846" y="4761"/>
                  </a:lnTo>
                  <a:lnTo>
                    <a:pt x="3067" y="6514"/>
                  </a:lnTo>
                  <a:lnTo>
                    <a:pt x="859" y="6580"/>
                  </a:lnTo>
                  <a:lnTo>
                    <a:pt x="2345" y="8215"/>
                  </a:lnTo>
                  <a:lnTo>
                    <a:pt x="236" y="8555"/>
                  </a:lnTo>
                  <a:lnTo>
                    <a:pt x="2007" y="98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75280" y="4565520"/>
              <a:ext cx="3370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f You’re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nterested in Joining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It May Not Be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Too Lat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7240" y="1461960"/>
            <a:ext cx="525780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4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nowledge Management Concepts and Approache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61960"/>
            <a:ext cx="20574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CTION</a:t>
            </a:r>
            <a:br>
              <a:rPr sz="2800"/>
            </a:b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985680" y="152280"/>
            <a:ext cx="7149960" cy="7997760"/>
            <a:chOff x="985680" y="152280"/>
            <a:chExt cx="7149960" cy="7997760"/>
          </a:xfrm>
        </p:grpSpPr>
        <p:sp>
          <p:nvSpPr>
            <p:cNvPr id="323" name=""/>
            <p:cNvSpPr/>
            <p:nvPr/>
          </p:nvSpPr>
          <p:spPr>
            <a:xfrm>
              <a:off x="2459160" y="2706480"/>
              <a:ext cx="486360" cy="598680"/>
            </a:xfrm>
            <a:custGeom>
              <a:avLst/>
              <a:gdLst/>
              <a:ahLst/>
              <a:rect l="l" t="t" r="r" b="b"/>
              <a:pathLst>
                <a:path w="631" h="753">
                  <a:moveTo>
                    <a:pt x="631" y="694"/>
                  </a:moveTo>
                  <a:lnTo>
                    <a:pt x="50" y="753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9"/>
                  </a:lnTo>
                  <a:lnTo>
                    <a:pt x="569" y="24"/>
                  </a:lnTo>
                  <a:lnTo>
                    <a:pt x="575" y="20"/>
                  </a:lnTo>
                  <a:lnTo>
                    <a:pt x="583" y="16"/>
                  </a:lnTo>
                  <a:lnTo>
                    <a:pt x="589" y="11"/>
                  </a:lnTo>
                  <a:lnTo>
                    <a:pt x="595" y="7"/>
                  </a:lnTo>
                  <a:lnTo>
                    <a:pt x="602" y="3"/>
                  </a:lnTo>
                  <a:lnTo>
                    <a:pt x="608" y="0"/>
                  </a:lnTo>
                  <a:lnTo>
                    <a:pt x="622" y="17"/>
                  </a:lnTo>
                  <a:lnTo>
                    <a:pt x="618" y="21"/>
                  </a:lnTo>
                  <a:lnTo>
                    <a:pt x="613" y="27"/>
                  </a:lnTo>
                  <a:lnTo>
                    <a:pt x="608" y="33"/>
                  </a:lnTo>
                  <a:lnTo>
                    <a:pt x="604" y="39"/>
                  </a:lnTo>
                  <a:lnTo>
                    <a:pt x="599" y="44"/>
                  </a:lnTo>
                  <a:lnTo>
                    <a:pt x="594" y="50"/>
                  </a:lnTo>
                  <a:lnTo>
                    <a:pt x="588" y="56"/>
                  </a:lnTo>
                  <a:lnTo>
                    <a:pt x="583" y="62"/>
                  </a:lnTo>
                  <a:lnTo>
                    <a:pt x="631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59160" y="2706480"/>
              <a:ext cx="486360" cy="598680"/>
            </a:xfrm>
            <a:custGeom>
              <a:avLst/>
              <a:gdLst/>
              <a:ahLst/>
              <a:rect l="l" t="t" r="r" b="b"/>
              <a:pathLst>
                <a:path w="631" h="753">
                  <a:moveTo>
                    <a:pt x="631" y="694"/>
                  </a:moveTo>
                  <a:lnTo>
                    <a:pt x="50" y="753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55" y="33"/>
                  </a:lnTo>
                  <a:lnTo>
                    <a:pt x="562" y="29"/>
                  </a:lnTo>
                  <a:lnTo>
                    <a:pt x="569" y="24"/>
                  </a:lnTo>
                  <a:lnTo>
                    <a:pt x="575" y="20"/>
                  </a:lnTo>
                  <a:lnTo>
                    <a:pt x="583" y="16"/>
                  </a:lnTo>
                  <a:lnTo>
                    <a:pt x="589" y="11"/>
                  </a:lnTo>
                  <a:lnTo>
                    <a:pt x="595" y="7"/>
                  </a:lnTo>
                  <a:lnTo>
                    <a:pt x="602" y="3"/>
                  </a:lnTo>
                  <a:lnTo>
                    <a:pt x="608" y="0"/>
                  </a:lnTo>
                  <a:lnTo>
                    <a:pt x="622" y="17"/>
                  </a:lnTo>
                  <a:lnTo>
                    <a:pt x="622" y="17"/>
                  </a:lnTo>
                  <a:lnTo>
                    <a:pt x="618" y="21"/>
                  </a:lnTo>
                  <a:lnTo>
                    <a:pt x="613" y="27"/>
                  </a:lnTo>
                  <a:lnTo>
                    <a:pt x="608" y="33"/>
                  </a:lnTo>
                  <a:lnTo>
                    <a:pt x="604" y="39"/>
                  </a:lnTo>
                  <a:lnTo>
                    <a:pt x="599" y="44"/>
                  </a:lnTo>
                  <a:lnTo>
                    <a:pt x="594" y="50"/>
                  </a:lnTo>
                  <a:lnTo>
                    <a:pt x="588" y="56"/>
                  </a:lnTo>
                  <a:lnTo>
                    <a:pt x="583" y="62"/>
                  </a:lnTo>
                  <a:lnTo>
                    <a:pt x="631" y="6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2520" y="160200"/>
              <a:ext cx="7134480" cy="7981920"/>
            </a:xfrm>
            <a:custGeom>
              <a:avLst/>
              <a:gdLst/>
              <a:ahLst/>
              <a:rect l="l" t="t" r="r" b="b"/>
              <a:pathLst>
                <a:path w="9267" h="10054">
                  <a:moveTo>
                    <a:pt x="257" y="806"/>
                  </a:moveTo>
                  <a:lnTo>
                    <a:pt x="8303" y="1"/>
                  </a:lnTo>
                  <a:lnTo>
                    <a:pt x="8331" y="0"/>
                  </a:lnTo>
                  <a:lnTo>
                    <a:pt x="8358" y="0"/>
                  </a:lnTo>
                  <a:lnTo>
                    <a:pt x="8386" y="4"/>
                  </a:lnTo>
                  <a:lnTo>
                    <a:pt x="8411" y="9"/>
                  </a:lnTo>
                  <a:lnTo>
                    <a:pt x="8436" y="16"/>
                  </a:lnTo>
                  <a:lnTo>
                    <a:pt x="8459" y="24"/>
                  </a:lnTo>
                  <a:lnTo>
                    <a:pt x="8481" y="36"/>
                  </a:lnTo>
                  <a:lnTo>
                    <a:pt x="8502" y="47"/>
                  </a:lnTo>
                  <a:lnTo>
                    <a:pt x="8520" y="62"/>
                  </a:lnTo>
                  <a:lnTo>
                    <a:pt x="8538" y="78"/>
                  </a:lnTo>
                  <a:lnTo>
                    <a:pt x="8553" y="93"/>
                  </a:lnTo>
                  <a:lnTo>
                    <a:pt x="8566" y="112"/>
                  </a:lnTo>
                  <a:lnTo>
                    <a:pt x="8576" y="131"/>
                  </a:lnTo>
                  <a:lnTo>
                    <a:pt x="8585" y="153"/>
                  </a:lnTo>
                  <a:lnTo>
                    <a:pt x="8591" y="174"/>
                  </a:lnTo>
                  <a:lnTo>
                    <a:pt x="8593" y="196"/>
                  </a:lnTo>
                  <a:lnTo>
                    <a:pt x="9267" y="8996"/>
                  </a:lnTo>
                  <a:lnTo>
                    <a:pt x="9267" y="9019"/>
                  </a:lnTo>
                  <a:lnTo>
                    <a:pt x="9264" y="9042"/>
                  </a:lnTo>
                  <a:lnTo>
                    <a:pt x="9261" y="9064"/>
                  </a:lnTo>
                  <a:lnTo>
                    <a:pt x="9253" y="9085"/>
                  </a:lnTo>
                  <a:lnTo>
                    <a:pt x="9243" y="9106"/>
                  </a:lnTo>
                  <a:lnTo>
                    <a:pt x="9231" y="9126"/>
                  </a:lnTo>
                  <a:lnTo>
                    <a:pt x="9215" y="9144"/>
                  </a:lnTo>
                  <a:lnTo>
                    <a:pt x="9199" y="9162"/>
                  </a:lnTo>
                  <a:lnTo>
                    <a:pt x="9181" y="9179"/>
                  </a:lnTo>
                  <a:lnTo>
                    <a:pt x="9161" y="9193"/>
                  </a:lnTo>
                  <a:lnTo>
                    <a:pt x="9140" y="9208"/>
                  </a:lnTo>
                  <a:lnTo>
                    <a:pt x="9116" y="9219"/>
                  </a:lnTo>
                  <a:lnTo>
                    <a:pt x="9091" y="9229"/>
                  </a:lnTo>
                  <a:lnTo>
                    <a:pt x="9066" y="9237"/>
                  </a:lnTo>
                  <a:lnTo>
                    <a:pt x="9038" y="9242"/>
                  </a:lnTo>
                  <a:lnTo>
                    <a:pt x="9011" y="9247"/>
                  </a:lnTo>
                  <a:lnTo>
                    <a:pt x="964" y="10053"/>
                  </a:lnTo>
                  <a:lnTo>
                    <a:pt x="936" y="10054"/>
                  </a:lnTo>
                  <a:lnTo>
                    <a:pt x="908" y="10054"/>
                  </a:lnTo>
                  <a:lnTo>
                    <a:pt x="881" y="10051"/>
                  </a:lnTo>
                  <a:lnTo>
                    <a:pt x="856" y="10045"/>
                  </a:lnTo>
                  <a:lnTo>
                    <a:pt x="830" y="10038"/>
                  </a:lnTo>
                  <a:lnTo>
                    <a:pt x="807" y="10030"/>
                  </a:lnTo>
                  <a:lnTo>
                    <a:pt x="785" y="10020"/>
                  </a:lnTo>
                  <a:lnTo>
                    <a:pt x="764" y="10007"/>
                  </a:lnTo>
                  <a:lnTo>
                    <a:pt x="745" y="9992"/>
                  </a:lnTo>
                  <a:lnTo>
                    <a:pt x="727" y="9976"/>
                  </a:lnTo>
                  <a:lnTo>
                    <a:pt x="712" y="9961"/>
                  </a:lnTo>
                  <a:lnTo>
                    <a:pt x="700" y="9942"/>
                  </a:lnTo>
                  <a:lnTo>
                    <a:pt x="688" y="9922"/>
                  </a:lnTo>
                  <a:lnTo>
                    <a:pt x="680" y="9901"/>
                  </a:lnTo>
                  <a:lnTo>
                    <a:pt x="675" y="9880"/>
                  </a:lnTo>
                  <a:lnTo>
                    <a:pt x="671" y="9857"/>
                  </a:lnTo>
                  <a:lnTo>
                    <a:pt x="0" y="1053"/>
                  </a:lnTo>
                  <a:lnTo>
                    <a:pt x="0" y="1030"/>
                  </a:lnTo>
                  <a:lnTo>
                    <a:pt x="2" y="1009"/>
                  </a:lnTo>
                  <a:lnTo>
                    <a:pt x="7" y="987"/>
                  </a:lnTo>
                  <a:lnTo>
                    <a:pt x="15" y="966"/>
                  </a:lnTo>
                  <a:lnTo>
                    <a:pt x="25" y="945"/>
                  </a:lnTo>
                  <a:lnTo>
                    <a:pt x="37" y="925"/>
                  </a:lnTo>
                  <a:lnTo>
                    <a:pt x="53" y="907"/>
                  </a:lnTo>
                  <a:lnTo>
                    <a:pt x="69" y="889"/>
                  </a:lnTo>
                  <a:lnTo>
                    <a:pt x="88" y="874"/>
                  </a:lnTo>
                  <a:lnTo>
                    <a:pt x="108" y="858"/>
                  </a:lnTo>
                  <a:lnTo>
                    <a:pt x="129" y="845"/>
                  </a:lnTo>
                  <a:lnTo>
                    <a:pt x="152" y="833"/>
                  </a:lnTo>
                  <a:lnTo>
                    <a:pt x="177" y="823"/>
                  </a:lnTo>
                  <a:lnTo>
                    <a:pt x="202" y="816"/>
                  </a:lnTo>
                  <a:lnTo>
                    <a:pt x="230" y="809"/>
                  </a:lnTo>
                  <a:lnTo>
                    <a:pt x="257" y="806"/>
                  </a:lnTo>
                  <a:close/>
                  <a:moveTo>
                    <a:pt x="431" y="1477"/>
                  </a:moveTo>
                  <a:lnTo>
                    <a:pt x="452" y="1475"/>
                  </a:lnTo>
                  <a:lnTo>
                    <a:pt x="474" y="1478"/>
                  </a:lnTo>
                  <a:lnTo>
                    <a:pt x="495" y="1481"/>
                  </a:lnTo>
                  <a:lnTo>
                    <a:pt x="515" y="1488"/>
                  </a:lnTo>
                  <a:lnTo>
                    <a:pt x="535" y="1495"/>
                  </a:lnTo>
                  <a:lnTo>
                    <a:pt x="553" y="1507"/>
                  </a:lnTo>
                  <a:lnTo>
                    <a:pt x="570" y="1518"/>
                  </a:lnTo>
                  <a:lnTo>
                    <a:pt x="587" y="1533"/>
                  </a:lnTo>
                  <a:lnTo>
                    <a:pt x="602" y="1549"/>
                  </a:lnTo>
                  <a:lnTo>
                    <a:pt x="616" y="1566"/>
                  </a:lnTo>
                  <a:lnTo>
                    <a:pt x="628" y="1584"/>
                  </a:lnTo>
                  <a:lnTo>
                    <a:pt x="639" y="1606"/>
                  </a:lnTo>
                  <a:lnTo>
                    <a:pt x="648" y="1628"/>
                  </a:lnTo>
                  <a:lnTo>
                    <a:pt x="656" y="1649"/>
                  </a:lnTo>
                  <a:lnTo>
                    <a:pt x="661" y="1674"/>
                  </a:lnTo>
                  <a:lnTo>
                    <a:pt x="663" y="1698"/>
                  </a:lnTo>
                  <a:lnTo>
                    <a:pt x="665" y="1723"/>
                  </a:lnTo>
                  <a:lnTo>
                    <a:pt x="662" y="1749"/>
                  </a:lnTo>
                  <a:lnTo>
                    <a:pt x="660" y="1772"/>
                  </a:lnTo>
                  <a:lnTo>
                    <a:pt x="653" y="1796"/>
                  </a:lnTo>
                  <a:lnTo>
                    <a:pt x="646" y="1818"/>
                  </a:lnTo>
                  <a:lnTo>
                    <a:pt x="637" y="1839"/>
                  </a:lnTo>
                  <a:lnTo>
                    <a:pt x="626" y="1859"/>
                  </a:lnTo>
                  <a:lnTo>
                    <a:pt x="613" y="1878"/>
                  </a:lnTo>
                  <a:lnTo>
                    <a:pt x="599" y="1895"/>
                  </a:lnTo>
                  <a:lnTo>
                    <a:pt x="584" y="1911"/>
                  </a:lnTo>
                  <a:lnTo>
                    <a:pt x="568" y="1926"/>
                  </a:lnTo>
                  <a:lnTo>
                    <a:pt x="550" y="1939"/>
                  </a:lnTo>
                  <a:lnTo>
                    <a:pt x="531" y="1949"/>
                  </a:lnTo>
                  <a:lnTo>
                    <a:pt x="511" y="1957"/>
                  </a:lnTo>
                  <a:lnTo>
                    <a:pt x="490" y="1963"/>
                  </a:lnTo>
                  <a:lnTo>
                    <a:pt x="469" y="1966"/>
                  </a:lnTo>
                  <a:lnTo>
                    <a:pt x="447" y="1967"/>
                  </a:lnTo>
                  <a:lnTo>
                    <a:pt x="426" y="1964"/>
                  </a:lnTo>
                  <a:lnTo>
                    <a:pt x="406" y="1962"/>
                  </a:lnTo>
                  <a:lnTo>
                    <a:pt x="386" y="1954"/>
                  </a:lnTo>
                  <a:lnTo>
                    <a:pt x="367" y="1946"/>
                  </a:lnTo>
                  <a:lnTo>
                    <a:pt x="348" y="1936"/>
                  </a:lnTo>
                  <a:lnTo>
                    <a:pt x="330" y="1923"/>
                  </a:lnTo>
                  <a:lnTo>
                    <a:pt x="315" y="1908"/>
                  </a:lnTo>
                  <a:lnTo>
                    <a:pt x="300" y="1892"/>
                  </a:lnTo>
                  <a:lnTo>
                    <a:pt x="286" y="1875"/>
                  </a:lnTo>
                  <a:lnTo>
                    <a:pt x="274" y="1855"/>
                  </a:lnTo>
                  <a:lnTo>
                    <a:pt x="264" y="1835"/>
                  </a:lnTo>
                  <a:lnTo>
                    <a:pt x="255" y="1813"/>
                  </a:lnTo>
                  <a:lnTo>
                    <a:pt x="247" y="1790"/>
                  </a:lnTo>
                  <a:lnTo>
                    <a:pt x="242" y="1766"/>
                  </a:lnTo>
                  <a:lnTo>
                    <a:pt x="240" y="1741"/>
                  </a:lnTo>
                  <a:lnTo>
                    <a:pt x="239" y="1717"/>
                  </a:lnTo>
                  <a:lnTo>
                    <a:pt x="240" y="1692"/>
                  </a:lnTo>
                  <a:lnTo>
                    <a:pt x="244" y="1668"/>
                  </a:lnTo>
                  <a:lnTo>
                    <a:pt x="249" y="1645"/>
                  </a:lnTo>
                  <a:lnTo>
                    <a:pt x="256" y="1623"/>
                  </a:lnTo>
                  <a:lnTo>
                    <a:pt x="265" y="1602"/>
                  </a:lnTo>
                  <a:lnTo>
                    <a:pt x="276" y="1582"/>
                  </a:lnTo>
                  <a:lnTo>
                    <a:pt x="289" y="1563"/>
                  </a:lnTo>
                  <a:lnTo>
                    <a:pt x="301" y="1546"/>
                  </a:lnTo>
                  <a:lnTo>
                    <a:pt x="316" y="1530"/>
                  </a:lnTo>
                  <a:lnTo>
                    <a:pt x="333" y="1515"/>
                  </a:lnTo>
                  <a:lnTo>
                    <a:pt x="350" y="1504"/>
                  </a:lnTo>
                  <a:lnTo>
                    <a:pt x="369" y="1494"/>
                  </a:lnTo>
                  <a:lnTo>
                    <a:pt x="389" y="1485"/>
                  </a:lnTo>
                  <a:lnTo>
                    <a:pt x="409" y="1479"/>
                  </a:lnTo>
                  <a:lnTo>
                    <a:pt x="431" y="1477"/>
                  </a:lnTo>
                  <a:close/>
                  <a:moveTo>
                    <a:pt x="838" y="6804"/>
                  </a:moveTo>
                  <a:lnTo>
                    <a:pt x="859" y="6803"/>
                  </a:lnTo>
                  <a:lnTo>
                    <a:pt x="881" y="6806"/>
                  </a:lnTo>
                  <a:lnTo>
                    <a:pt x="902" y="6809"/>
                  </a:lnTo>
                  <a:lnTo>
                    <a:pt x="922" y="6816"/>
                  </a:lnTo>
                  <a:lnTo>
                    <a:pt x="942" y="6823"/>
                  </a:lnTo>
                  <a:lnTo>
                    <a:pt x="960" y="6835"/>
                  </a:lnTo>
                  <a:lnTo>
                    <a:pt x="978" y="6846"/>
                  </a:lnTo>
                  <a:lnTo>
                    <a:pt x="994" y="6861"/>
                  </a:lnTo>
                  <a:lnTo>
                    <a:pt x="1009" y="6876"/>
                  </a:lnTo>
                  <a:lnTo>
                    <a:pt x="1023" y="6894"/>
                  </a:lnTo>
                  <a:lnTo>
                    <a:pt x="1035" y="6912"/>
                  </a:lnTo>
                  <a:lnTo>
                    <a:pt x="1047" y="6934"/>
                  </a:lnTo>
                  <a:lnTo>
                    <a:pt x="1055" y="6955"/>
                  </a:lnTo>
                  <a:lnTo>
                    <a:pt x="1063" y="6977"/>
                  </a:lnTo>
                  <a:lnTo>
                    <a:pt x="1068" y="7002"/>
                  </a:lnTo>
                  <a:lnTo>
                    <a:pt x="1071" y="7026"/>
                  </a:lnTo>
                  <a:lnTo>
                    <a:pt x="1072" y="7050"/>
                  </a:lnTo>
                  <a:lnTo>
                    <a:pt x="1069" y="7076"/>
                  </a:lnTo>
                  <a:lnTo>
                    <a:pt x="1067" y="7099"/>
                  </a:lnTo>
                  <a:lnTo>
                    <a:pt x="1060" y="7124"/>
                  </a:lnTo>
                  <a:lnTo>
                    <a:pt x="1053" y="7145"/>
                  </a:lnTo>
                  <a:lnTo>
                    <a:pt x="1044" y="7167"/>
                  </a:lnTo>
                  <a:lnTo>
                    <a:pt x="1033" y="7187"/>
                  </a:lnTo>
                  <a:lnTo>
                    <a:pt x="1020" y="7206"/>
                  </a:lnTo>
                  <a:lnTo>
                    <a:pt x="1006" y="7223"/>
                  </a:lnTo>
                  <a:lnTo>
                    <a:pt x="991" y="7239"/>
                  </a:lnTo>
                  <a:lnTo>
                    <a:pt x="975" y="7253"/>
                  </a:lnTo>
                  <a:lnTo>
                    <a:pt x="957" y="7266"/>
                  </a:lnTo>
                  <a:lnTo>
                    <a:pt x="939" y="7276"/>
                  </a:lnTo>
                  <a:lnTo>
                    <a:pt x="918" y="7285"/>
                  </a:lnTo>
                  <a:lnTo>
                    <a:pt x="897" y="7291"/>
                  </a:lnTo>
                  <a:lnTo>
                    <a:pt x="876" y="7294"/>
                  </a:lnTo>
                  <a:lnTo>
                    <a:pt x="854" y="7295"/>
                  </a:lnTo>
                  <a:lnTo>
                    <a:pt x="833" y="7292"/>
                  </a:lnTo>
                  <a:lnTo>
                    <a:pt x="813" y="7289"/>
                  </a:lnTo>
                  <a:lnTo>
                    <a:pt x="793" y="7282"/>
                  </a:lnTo>
                  <a:lnTo>
                    <a:pt x="773" y="7274"/>
                  </a:lnTo>
                  <a:lnTo>
                    <a:pt x="754" y="7263"/>
                  </a:lnTo>
                  <a:lnTo>
                    <a:pt x="737" y="7251"/>
                  </a:lnTo>
                  <a:lnTo>
                    <a:pt x="721" y="7236"/>
                  </a:lnTo>
                  <a:lnTo>
                    <a:pt x="705" y="7220"/>
                  </a:lnTo>
                  <a:lnTo>
                    <a:pt x="691" y="7203"/>
                  </a:lnTo>
                  <a:lnTo>
                    <a:pt x="680" y="7183"/>
                  </a:lnTo>
                  <a:lnTo>
                    <a:pt x="668" y="7163"/>
                  </a:lnTo>
                  <a:lnTo>
                    <a:pt x="660" y="7141"/>
                  </a:lnTo>
                  <a:lnTo>
                    <a:pt x="652" y="7118"/>
                  </a:lnTo>
                  <a:lnTo>
                    <a:pt x="647" y="7094"/>
                  </a:lnTo>
                  <a:lnTo>
                    <a:pt x="645" y="7069"/>
                  </a:lnTo>
                  <a:lnTo>
                    <a:pt x="643" y="7045"/>
                  </a:lnTo>
                  <a:lnTo>
                    <a:pt x="646" y="7020"/>
                  </a:lnTo>
                  <a:lnTo>
                    <a:pt x="648" y="6996"/>
                  </a:lnTo>
                  <a:lnTo>
                    <a:pt x="655" y="6973"/>
                  </a:lnTo>
                  <a:lnTo>
                    <a:pt x="662" y="6951"/>
                  </a:lnTo>
                  <a:lnTo>
                    <a:pt x="671" y="6930"/>
                  </a:lnTo>
                  <a:lnTo>
                    <a:pt x="682" y="6909"/>
                  </a:lnTo>
                  <a:lnTo>
                    <a:pt x="695" y="6891"/>
                  </a:lnTo>
                  <a:lnTo>
                    <a:pt x="709" y="6873"/>
                  </a:lnTo>
                  <a:lnTo>
                    <a:pt x="724" y="6858"/>
                  </a:lnTo>
                  <a:lnTo>
                    <a:pt x="740" y="6843"/>
                  </a:lnTo>
                  <a:lnTo>
                    <a:pt x="758" y="6832"/>
                  </a:lnTo>
                  <a:lnTo>
                    <a:pt x="776" y="6822"/>
                  </a:lnTo>
                  <a:lnTo>
                    <a:pt x="797" y="6813"/>
                  </a:lnTo>
                  <a:lnTo>
                    <a:pt x="817" y="6807"/>
                  </a:lnTo>
                  <a:lnTo>
                    <a:pt x="838" y="680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91600" y="152280"/>
              <a:ext cx="6192360" cy="657360"/>
            </a:xfrm>
            <a:custGeom>
              <a:avLst/>
              <a:gdLst/>
              <a:ahLst/>
              <a:rect l="l" t="t" r="r" b="b"/>
              <a:pathLst>
                <a:path w="8046" h="827">
                  <a:moveTo>
                    <a:pt x="8046" y="0"/>
                  </a:moveTo>
                  <a:lnTo>
                    <a:pt x="8046" y="0"/>
                  </a:lnTo>
                  <a:lnTo>
                    <a:pt x="0" y="804"/>
                  </a:lnTo>
                  <a:lnTo>
                    <a:pt x="0" y="827"/>
                  </a:lnTo>
                  <a:lnTo>
                    <a:pt x="8046" y="23"/>
                  </a:lnTo>
                  <a:lnTo>
                    <a:pt x="8046" y="23"/>
                  </a:lnTo>
                  <a:lnTo>
                    <a:pt x="80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4320" y="152280"/>
              <a:ext cx="231840" cy="165240"/>
            </a:xfrm>
            <a:custGeom>
              <a:avLst/>
              <a:gdLst/>
              <a:ahLst/>
              <a:rect l="l" t="t" r="r" b="b"/>
              <a:pathLst>
                <a:path w="302" h="209">
                  <a:moveTo>
                    <a:pt x="302" y="208"/>
                  </a:moveTo>
                  <a:lnTo>
                    <a:pt x="302" y="209"/>
                  </a:lnTo>
                  <a:lnTo>
                    <a:pt x="299" y="185"/>
                  </a:lnTo>
                  <a:lnTo>
                    <a:pt x="293" y="162"/>
                  </a:lnTo>
                  <a:lnTo>
                    <a:pt x="284" y="140"/>
                  </a:lnTo>
                  <a:lnTo>
                    <a:pt x="274" y="120"/>
                  </a:lnTo>
                  <a:lnTo>
                    <a:pt x="260" y="100"/>
                  </a:lnTo>
                  <a:lnTo>
                    <a:pt x="245" y="82"/>
                  </a:lnTo>
                  <a:lnTo>
                    <a:pt x="226" y="67"/>
                  </a:lnTo>
                  <a:lnTo>
                    <a:pt x="207" y="52"/>
                  </a:lnTo>
                  <a:lnTo>
                    <a:pt x="186" y="39"/>
                  </a:lnTo>
                  <a:lnTo>
                    <a:pt x="162" y="28"/>
                  </a:lnTo>
                  <a:lnTo>
                    <a:pt x="138" y="18"/>
                  </a:lnTo>
                  <a:lnTo>
                    <a:pt x="112" y="11"/>
                  </a:lnTo>
                  <a:lnTo>
                    <a:pt x="87" y="6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28" y="23"/>
                  </a:lnTo>
                  <a:lnTo>
                    <a:pt x="53" y="22"/>
                  </a:lnTo>
                  <a:lnTo>
                    <a:pt x="79" y="26"/>
                  </a:lnTo>
                  <a:lnTo>
                    <a:pt x="104" y="31"/>
                  </a:lnTo>
                  <a:lnTo>
                    <a:pt x="128" y="38"/>
                  </a:lnTo>
                  <a:lnTo>
                    <a:pt x="150" y="45"/>
                  </a:lnTo>
                  <a:lnTo>
                    <a:pt x="171" y="57"/>
                  </a:lnTo>
                  <a:lnTo>
                    <a:pt x="190" y="67"/>
                  </a:lnTo>
                  <a:lnTo>
                    <a:pt x="209" y="81"/>
                  </a:lnTo>
                  <a:lnTo>
                    <a:pt x="225" y="97"/>
                  </a:lnTo>
                  <a:lnTo>
                    <a:pt x="240" y="111"/>
                  </a:lnTo>
                  <a:lnTo>
                    <a:pt x="251" y="129"/>
                  </a:lnTo>
                  <a:lnTo>
                    <a:pt x="261" y="146"/>
                  </a:lnTo>
                  <a:lnTo>
                    <a:pt x="270" y="167"/>
                  </a:lnTo>
                  <a:lnTo>
                    <a:pt x="277" y="188"/>
                  </a:lnTo>
                  <a:lnTo>
                    <a:pt x="279" y="206"/>
                  </a:lnTo>
                  <a:lnTo>
                    <a:pt x="279" y="208"/>
                  </a:lnTo>
                  <a:lnTo>
                    <a:pt x="302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1040" y="315720"/>
              <a:ext cx="534600" cy="6986520"/>
            </a:xfrm>
            <a:custGeom>
              <a:avLst/>
              <a:gdLst/>
              <a:ahLst/>
              <a:rect l="l" t="t" r="r" b="b"/>
              <a:pathLst>
                <a:path w="696" h="8800">
                  <a:moveTo>
                    <a:pt x="696" y="8800"/>
                  </a:moveTo>
                  <a:lnTo>
                    <a:pt x="696" y="880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674" y="8800"/>
                  </a:lnTo>
                  <a:lnTo>
                    <a:pt x="674" y="8800"/>
                  </a:lnTo>
                  <a:lnTo>
                    <a:pt x="696" y="8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29720" y="7302240"/>
              <a:ext cx="205920" cy="208080"/>
            </a:xfrm>
            <a:custGeom>
              <a:avLst/>
              <a:gdLst/>
              <a:ahLst/>
              <a:rect l="l" t="t" r="r" b="b"/>
              <a:pathLst>
                <a:path w="267" h="262">
                  <a:moveTo>
                    <a:pt x="0" y="262"/>
                  </a:moveTo>
                  <a:lnTo>
                    <a:pt x="0" y="262"/>
                  </a:lnTo>
                  <a:lnTo>
                    <a:pt x="28" y="258"/>
                  </a:lnTo>
                  <a:lnTo>
                    <a:pt x="56" y="251"/>
                  </a:lnTo>
                  <a:lnTo>
                    <a:pt x="84" y="243"/>
                  </a:lnTo>
                  <a:lnTo>
                    <a:pt x="110" y="233"/>
                  </a:lnTo>
                  <a:lnTo>
                    <a:pt x="135" y="222"/>
                  </a:lnTo>
                  <a:lnTo>
                    <a:pt x="157" y="206"/>
                  </a:lnTo>
                  <a:lnTo>
                    <a:pt x="178" y="192"/>
                  </a:lnTo>
                  <a:lnTo>
                    <a:pt x="197" y="173"/>
                  </a:lnTo>
                  <a:lnTo>
                    <a:pt x="213" y="156"/>
                  </a:lnTo>
                  <a:lnTo>
                    <a:pt x="230" y="136"/>
                  </a:lnTo>
                  <a:lnTo>
                    <a:pt x="242" y="115"/>
                  </a:lnTo>
                  <a:lnTo>
                    <a:pt x="253" y="94"/>
                  </a:lnTo>
                  <a:lnTo>
                    <a:pt x="261" y="71"/>
                  </a:lnTo>
                  <a:lnTo>
                    <a:pt x="265" y="48"/>
                  </a:lnTo>
                  <a:lnTo>
                    <a:pt x="267" y="25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45" y="22"/>
                  </a:lnTo>
                  <a:lnTo>
                    <a:pt x="242" y="45"/>
                  </a:lnTo>
                  <a:lnTo>
                    <a:pt x="238" y="65"/>
                  </a:lnTo>
                  <a:lnTo>
                    <a:pt x="231" y="85"/>
                  </a:lnTo>
                  <a:lnTo>
                    <a:pt x="222" y="104"/>
                  </a:lnTo>
                  <a:lnTo>
                    <a:pt x="209" y="124"/>
                  </a:lnTo>
                  <a:lnTo>
                    <a:pt x="196" y="141"/>
                  </a:lnTo>
                  <a:lnTo>
                    <a:pt x="179" y="159"/>
                  </a:lnTo>
                  <a:lnTo>
                    <a:pt x="163" y="174"/>
                  </a:lnTo>
                  <a:lnTo>
                    <a:pt x="144" y="189"/>
                  </a:lnTo>
                  <a:lnTo>
                    <a:pt x="123" y="202"/>
                  </a:lnTo>
                  <a:lnTo>
                    <a:pt x="100" y="213"/>
                  </a:lnTo>
                  <a:lnTo>
                    <a:pt x="76" y="223"/>
                  </a:lnTo>
                  <a:lnTo>
                    <a:pt x="54" y="231"/>
                  </a:lnTo>
                  <a:lnTo>
                    <a:pt x="26" y="23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35560" y="7491240"/>
              <a:ext cx="6193800" cy="658800"/>
            </a:xfrm>
            <a:custGeom>
              <a:avLst/>
              <a:gdLst/>
              <a:ahLst/>
              <a:rect l="l" t="t" r="r" b="b"/>
              <a:pathLst>
                <a:path w="8047" h="829">
                  <a:moveTo>
                    <a:pt x="0" y="829"/>
                  </a:moveTo>
                  <a:lnTo>
                    <a:pt x="0" y="829"/>
                  </a:lnTo>
                  <a:lnTo>
                    <a:pt x="8047" y="23"/>
                  </a:lnTo>
                  <a:lnTo>
                    <a:pt x="8047" y="0"/>
                  </a:lnTo>
                  <a:lnTo>
                    <a:pt x="0" y="806"/>
                  </a:lnTo>
                  <a:lnTo>
                    <a:pt x="0" y="806"/>
                  </a:lnTo>
                  <a:lnTo>
                    <a:pt x="0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1920" y="7985160"/>
              <a:ext cx="233640" cy="164880"/>
            </a:xfrm>
            <a:custGeom>
              <a:avLst/>
              <a:gdLst/>
              <a:ahLst/>
              <a:rect l="l" t="t" r="r" b="b"/>
              <a:pathLst>
                <a:path w="304" h="209">
                  <a:moveTo>
                    <a:pt x="0" y="0"/>
                  </a:moveTo>
                  <a:lnTo>
                    <a:pt x="0" y="0"/>
                  </a:lnTo>
                  <a:lnTo>
                    <a:pt x="3" y="24"/>
                  </a:lnTo>
                  <a:lnTo>
                    <a:pt x="8" y="47"/>
                  </a:lnTo>
                  <a:lnTo>
                    <a:pt x="17" y="69"/>
                  </a:lnTo>
                  <a:lnTo>
                    <a:pt x="28" y="89"/>
                  </a:lnTo>
                  <a:lnTo>
                    <a:pt x="42" y="109"/>
                  </a:lnTo>
                  <a:lnTo>
                    <a:pt x="57" y="127"/>
                  </a:lnTo>
                  <a:lnTo>
                    <a:pt x="76" y="142"/>
                  </a:lnTo>
                  <a:lnTo>
                    <a:pt x="95" y="157"/>
                  </a:lnTo>
                  <a:lnTo>
                    <a:pt x="118" y="171"/>
                  </a:lnTo>
                  <a:lnTo>
                    <a:pt x="140" y="181"/>
                  </a:lnTo>
                  <a:lnTo>
                    <a:pt x="165" y="191"/>
                  </a:lnTo>
                  <a:lnTo>
                    <a:pt x="192" y="198"/>
                  </a:lnTo>
                  <a:lnTo>
                    <a:pt x="217" y="204"/>
                  </a:lnTo>
                  <a:lnTo>
                    <a:pt x="247" y="207"/>
                  </a:lnTo>
                  <a:lnTo>
                    <a:pt x="276" y="209"/>
                  </a:lnTo>
                  <a:lnTo>
                    <a:pt x="304" y="207"/>
                  </a:lnTo>
                  <a:lnTo>
                    <a:pt x="304" y="184"/>
                  </a:lnTo>
                  <a:lnTo>
                    <a:pt x="276" y="186"/>
                  </a:lnTo>
                  <a:lnTo>
                    <a:pt x="250" y="187"/>
                  </a:lnTo>
                  <a:lnTo>
                    <a:pt x="225" y="184"/>
                  </a:lnTo>
                  <a:lnTo>
                    <a:pt x="199" y="178"/>
                  </a:lnTo>
                  <a:lnTo>
                    <a:pt x="176" y="171"/>
                  </a:lnTo>
                  <a:lnTo>
                    <a:pt x="153" y="164"/>
                  </a:lnTo>
                  <a:lnTo>
                    <a:pt x="133" y="154"/>
                  </a:lnTo>
                  <a:lnTo>
                    <a:pt x="113" y="142"/>
                  </a:lnTo>
                  <a:lnTo>
                    <a:pt x="94" y="128"/>
                  </a:lnTo>
                  <a:lnTo>
                    <a:pt x="77" y="112"/>
                  </a:lnTo>
                  <a:lnTo>
                    <a:pt x="62" y="98"/>
                  </a:lnTo>
                  <a:lnTo>
                    <a:pt x="51" y="80"/>
                  </a:lnTo>
                  <a:lnTo>
                    <a:pt x="40" y="60"/>
                  </a:lnTo>
                  <a:lnTo>
                    <a:pt x="31" y="42"/>
                  </a:lnTo>
                  <a:lnTo>
                    <a:pt x="26" y="2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85680" y="995400"/>
              <a:ext cx="533520" cy="6989760"/>
            </a:xfrm>
            <a:custGeom>
              <a:avLst/>
              <a:gdLst/>
              <a:ahLst/>
              <a:rect l="l" t="t" r="r" b="b"/>
              <a:pathLst>
                <a:path w="694" h="8805">
                  <a:moveTo>
                    <a:pt x="0" y="0"/>
                  </a:moveTo>
                  <a:lnTo>
                    <a:pt x="0" y="1"/>
                  </a:lnTo>
                  <a:lnTo>
                    <a:pt x="672" y="8805"/>
                  </a:lnTo>
                  <a:lnTo>
                    <a:pt x="694" y="8805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85680" y="792000"/>
              <a:ext cx="205920" cy="206280"/>
            </a:xfrm>
            <a:custGeom>
              <a:avLst/>
              <a:gdLst/>
              <a:ahLst/>
              <a:rect l="l" t="t" r="r" b="b"/>
              <a:pathLst>
                <a:path w="269" h="261">
                  <a:moveTo>
                    <a:pt x="269" y="0"/>
                  </a:moveTo>
                  <a:lnTo>
                    <a:pt x="269" y="0"/>
                  </a:lnTo>
                  <a:lnTo>
                    <a:pt x="241" y="3"/>
                  </a:lnTo>
                  <a:lnTo>
                    <a:pt x="212" y="12"/>
                  </a:lnTo>
                  <a:lnTo>
                    <a:pt x="185" y="19"/>
                  </a:lnTo>
                  <a:lnTo>
                    <a:pt x="159" y="29"/>
                  </a:lnTo>
                  <a:lnTo>
                    <a:pt x="136" y="41"/>
                  </a:lnTo>
                  <a:lnTo>
                    <a:pt x="114" y="55"/>
                  </a:lnTo>
                  <a:lnTo>
                    <a:pt x="92" y="71"/>
                  </a:lnTo>
                  <a:lnTo>
                    <a:pt x="72" y="88"/>
                  </a:lnTo>
                  <a:lnTo>
                    <a:pt x="56" y="105"/>
                  </a:lnTo>
                  <a:lnTo>
                    <a:pt x="39" y="126"/>
                  </a:lnTo>
                  <a:lnTo>
                    <a:pt x="27" y="146"/>
                  </a:lnTo>
                  <a:lnTo>
                    <a:pt x="16" y="167"/>
                  </a:lnTo>
                  <a:lnTo>
                    <a:pt x="8" y="190"/>
                  </a:lnTo>
                  <a:lnTo>
                    <a:pt x="3" y="212"/>
                  </a:lnTo>
                  <a:lnTo>
                    <a:pt x="0" y="235"/>
                  </a:lnTo>
                  <a:lnTo>
                    <a:pt x="0" y="258"/>
                  </a:lnTo>
                  <a:lnTo>
                    <a:pt x="23" y="261"/>
                  </a:lnTo>
                  <a:lnTo>
                    <a:pt x="23" y="238"/>
                  </a:lnTo>
                  <a:lnTo>
                    <a:pt x="26" y="218"/>
                  </a:lnTo>
                  <a:lnTo>
                    <a:pt x="31" y="196"/>
                  </a:lnTo>
                  <a:lnTo>
                    <a:pt x="38" y="176"/>
                  </a:lnTo>
                  <a:lnTo>
                    <a:pt x="47" y="157"/>
                  </a:lnTo>
                  <a:lnTo>
                    <a:pt x="60" y="137"/>
                  </a:lnTo>
                  <a:lnTo>
                    <a:pt x="73" y="120"/>
                  </a:lnTo>
                  <a:lnTo>
                    <a:pt x="90" y="103"/>
                  </a:lnTo>
                  <a:lnTo>
                    <a:pt x="107" y="88"/>
                  </a:lnTo>
                  <a:lnTo>
                    <a:pt x="126" y="72"/>
                  </a:lnTo>
                  <a:lnTo>
                    <a:pt x="146" y="61"/>
                  </a:lnTo>
                  <a:lnTo>
                    <a:pt x="169" y="49"/>
                  </a:lnTo>
                  <a:lnTo>
                    <a:pt x="193" y="39"/>
                  </a:lnTo>
                  <a:lnTo>
                    <a:pt x="217" y="32"/>
                  </a:lnTo>
                  <a:lnTo>
                    <a:pt x="243" y="26"/>
                  </a:lnTo>
                  <a:lnTo>
                    <a:pt x="269" y="23"/>
                  </a:lnTo>
                  <a:lnTo>
                    <a:pt x="269" y="2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5160" y="1323720"/>
              <a:ext cx="188280" cy="185760"/>
            </a:xfrm>
            <a:custGeom>
              <a:avLst/>
              <a:gdLst/>
              <a:ahLst/>
              <a:rect l="l" t="t" r="r" b="b"/>
              <a:pathLst>
                <a:path w="244" h="233">
                  <a:moveTo>
                    <a:pt x="244" y="233"/>
                  </a:moveTo>
                  <a:lnTo>
                    <a:pt x="244" y="233"/>
                  </a:lnTo>
                  <a:lnTo>
                    <a:pt x="241" y="207"/>
                  </a:lnTo>
                  <a:lnTo>
                    <a:pt x="236" y="181"/>
                  </a:lnTo>
                  <a:lnTo>
                    <a:pt x="229" y="160"/>
                  </a:lnTo>
                  <a:lnTo>
                    <a:pt x="220" y="138"/>
                  </a:lnTo>
                  <a:lnTo>
                    <a:pt x="208" y="115"/>
                  </a:lnTo>
                  <a:lnTo>
                    <a:pt x="195" y="95"/>
                  </a:lnTo>
                  <a:lnTo>
                    <a:pt x="181" y="78"/>
                  </a:lnTo>
                  <a:lnTo>
                    <a:pt x="166" y="60"/>
                  </a:lnTo>
                  <a:lnTo>
                    <a:pt x="148" y="46"/>
                  </a:lnTo>
                  <a:lnTo>
                    <a:pt x="131" y="35"/>
                  </a:lnTo>
                  <a:lnTo>
                    <a:pt x="112" y="22"/>
                  </a:lnTo>
                  <a:lnTo>
                    <a:pt x="89" y="13"/>
                  </a:lnTo>
                  <a:lnTo>
                    <a:pt x="68" y="6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40" y="23"/>
                  </a:lnTo>
                  <a:lnTo>
                    <a:pt x="60" y="26"/>
                  </a:lnTo>
                  <a:lnTo>
                    <a:pt x="79" y="33"/>
                  </a:lnTo>
                  <a:lnTo>
                    <a:pt x="97" y="39"/>
                  </a:lnTo>
                  <a:lnTo>
                    <a:pt x="113" y="49"/>
                  </a:lnTo>
                  <a:lnTo>
                    <a:pt x="131" y="60"/>
                  </a:lnTo>
                  <a:lnTo>
                    <a:pt x="146" y="75"/>
                  </a:lnTo>
                  <a:lnTo>
                    <a:pt x="161" y="89"/>
                  </a:lnTo>
                  <a:lnTo>
                    <a:pt x="175" y="107"/>
                  </a:lnTo>
                  <a:lnTo>
                    <a:pt x="186" y="124"/>
                  </a:lnTo>
                  <a:lnTo>
                    <a:pt x="197" y="144"/>
                  </a:lnTo>
                  <a:lnTo>
                    <a:pt x="206" y="166"/>
                  </a:lnTo>
                  <a:lnTo>
                    <a:pt x="214" y="187"/>
                  </a:lnTo>
                  <a:lnTo>
                    <a:pt x="219" y="210"/>
                  </a:lnTo>
                  <a:lnTo>
                    <a:pt x="221" y="233"/>
                  </a:lnTo>
                  <a:lnTo>
                    <a:pt x="221" y="233"/>
                  </a:lnTo>
                  <a:lnTo>
                    <a:pt x="24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54680" y="1509480"/>
              <a:ext cx="158760" cy="220680"/>
            </a:xfrm>
            <a:custGeom>
              <a:avLst/>
              <a:gdLst/>
              <a:ahLst/>
              <a:rect l="l" t="t" r="r" b="b"/>
              <a:pathLst>
                <a:path w="207" h="279">
                  <a:moveTo>
                    <a:pt x="0" y="279"/>
                  </a:moveTo>
                  <a:lnTo>
                    <a:pt x="0" y="279"/>
                  </a:lnTo>
                  <a:lnTo>
                    <a:pt x="22" y="275"/>
                  </a:lnTo>
                  <a:lnTo>
                    <a:pt x="46" y="269"/>
                  </a:lnTo>
                  <a:lnTo>
                    <a:pt x="67" y="261"/>
                  </a:lnTo>
                  <a:lnTo>
                    <a:pt x="88" y="249"/>
                  </a:lnTo>
                  <a:lnTo>
                    <a:pt x="106" y="236"/>
                  </a:lnTo>
                  <a:lnTo>
                    <a:pt x="124" y="220"/>
                  </a:lnTo>
                  <a:lnTo>
                    <a:pt x="139" y="205"/>
                  </a:lnTo>
                  <a:lnTo>
                    <a:pt x="154" y="186"/>
                  </a:lnTo>
                  <a:lnTo>
                    <a:pt x="167" y="167"/>
                  </a:lnTo>
                  <a:lnTo>
                    <a:pt x="179" y="146"/>
                  </a:lnTo>
                  <a:lnTo>
                    <a:pt x="188" y="124"/>
                  </a:lnTo>
                  <a:lnTo>
                    <a:pt x="196" y="101"/>
                  </a:lnTo>
                  <a:lnTo>
                    <a:pt x="202" y="76"/>
                  </a:lnTo>
                  <a:lnTo>
                    <a:pt x="204" y="52"/>
                  </a:lnTo>
                  <a:lnTo>
                    <a:pt x="207" y="26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84" y="23"/>
                  </a:lnTo>
                  <a:lnTo>
                    <a:pt x="182" y="49"/>
                  </a:lnTo>
                  <a:lnTo>
                    <a:pt x="179" y="71"/>
                  </a:lnTo>
                  <a:lnTo>
                    <a:pt x="173" y="95"/>
                  </a:lnTo>
                  <a:lnTo>
                    <a:pt x="165" y="115"/>
                  </a:lnTo>
                  <a:lnTo>
                    <a:pt x="157" y="137"/>
                  </a:lnTo>
                  <a:lnTo>
                    <a:pt x="147" y="156"/>
                  </a:lnTo>
                  <a:lnTo>
                    <a:pt x="134" y="174"/>
                  </a:lnTo>
                  <a:lnTo>
                    <a:pt x="121" y="190"/>
                  </a:lnTo>
                  <a:lnTo>
                    <a:pt x="106" y="206"/>
                  </a:lnTo>
                  <a:lnTo>
                    <a:pt x="91" y="219"/>
                  </a:lnTo>
                  <a:lnTo>
                    <a:pt x="75" y="232"/>
                  </a:lnTo>
                  <a:lnTo>
                    <a:pt x="57" y="241"/>
                  </a:lnTo>
                  <a:lnTo>
                    <a:pt x="39" y="249"/>
                  </a:lnTo>
                  <a:lnTo>
                    <a:pt x="20" y="25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70720" y="1542960"/>
              <a:ext cx="183600" cy="187200"/>
            </a:xfrm>
            <a:custGeom>
              <a:avLst/>
              <a:gdLst/>
              <a:ahLst/>
              <a:rect l="l" t="t" r="r" b="b"/>
              <a:pathLst>
                <a:path w="240" h="236">
                  <a:moveTo>
                    <a:pt x="0" y="0"/>
                  </a:moveTo>
                  <a:lnTo>
                    <a:pt x="0" y="0"/>
                  </a:lnTo>
                  <a:lnTo>
                    <a:pt x="2" y="26"/>
                  </a:lnTo>
                  <a:lnTo>
                    <a:pt x="7" y="51"/>
                  </a:lnTo>
                  <a:lnTo>
                    <a:pt x="15" y="75"/>
                  </a:lnTo>
                  <a:lnTo>
                    <a:pt x="23" y="97"/>
                  </a:lnTo>
                  <a:lnTo>
                    <a:pt x="33" y="118"/>
                  </a:lnTo>
                  <a:lnTo>
                    <a:pt x="46" y="139"/>
                  </a:lnTo>
                  <a:lnTo>
                    <a:pt x="61" y="157"/>
                  </a:lnTo>
                  <a:lnTo>
                    <a:pt x="76" y="174"/>
                  </a:lnTo>
                  <a:lnTo>
                    <a:pt x="93" y="189"/>
                  </a:lnTo>
                  <a:lnTo>
                    <a:pt x="111" y="203"/>
                  </a:lnTo>
                  <a:lnTo>
                    <a:pt x="130" y="213"/>
                  </a:lnTo>
                  <a:lnTo>
                    <a:pt x="150" y="222"/>
                  </a:lnTo>
                  <a:lnTo>
                    <a:pt x="173" y="231"/>
                  </a:lnTo>
                  <a:lnTo>
                    <a:pt x="194" y="234"/>
                  </a:lnTo>
                  <a:lnTo>
                    <a:pt x="217" y="236"/>
                  </a:lnTo>
                  <a:lnTo>
                    <a:pt x="240" y="236"/>
                  </a:lnTo>
                  <a:lnTo>
                    <a:pt x="240" y="213"/>
                  </a:lnTo>
                  <a:lnTo>
                    <a:pt x="219" y="216"/>
                  </a:lnTo>
                  <a:lnTo>
                    <a:pt x="199" y="213"/>
                  </a:lnTo>
                  <a:lnTo>
                    <a:pt x="180" y="210"/>
                  </a:lnTo>
                  <a:lnTo>
                    <a:pt x="163" y="205"/>
                  </a:lnTo>
                  <a:lnTo>
                    <a:pt x="145" y="196"/>
                  </a:lnTo>
                  <a:lnTo>
                    <a:pt x="126" y="186"/>
                  </a:lnTo>
                  <a:lnTo>
                    <a:pt x="110" y="174"/>
                  </a:lnTo>
                  <a:lnTo>
                    <a:pt x="96" y="160"/>
                  </a:lnTo>
                  <a:lnTo>
                    <a:pt x="81" y="146"/>
                  </a:lnTo>
                  <a:lnTo>
                    <a:pt x="69" y="130"/>
                  </a:lnTo>
                  <a:lnTo>
                    <a:pt x="56" y="110"/>
                  </a:lnTo>
                  <a:lnTo>
                    <a:pt x="46" y="91"/>
                  </a:lnTo>
                  <a:lnTo>
                    <a:pt x="37" y="69"/>
                  </a:lnTo>
                  <a:lnTo>
                    <a:pt x="30" y="48"/>
                  </a:lnTo>
                  <a:lnTo>
                    <a:pt x="25" y="2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9280" y="1323720"/>
              <a:ext cx="155880" cy="219240"/>
            </a:xfrm>
            <a:custGeom>
              <a:avLst/>
              <a:gdLst/>
              <a:ahLst/>
              <a:rect l="l" t="t" r="r" b="b"/>
              <a:pathLst>
                <a:path w="204" h="276">
                  <a:moveTo>
                    <a:pt x="204" y="0"/>
                  </a:moveTo>
                  <a:lnTo>
                    <a:pt x="204" y="0"/>
                  </a:lnTo>
                  <a:lnTo>
                    <a:pt x="181" y="4"/>
                  </a:lnTo>
                  <a:lnTo>
                    <a:pt x="159" y="10"/>
                  </a:lnTo>
                  <a:lnTo>
                    <a:pt x="137" y="19"/>
                  </a:lnTo>
                  <a:lnTo>
                    <a:pt x="117" y="30"/>
                  </a:lnTo>
                  <a:lnTo>
                    <a:pt x="98" y="42"/>
                  </a:lnTo>
                  <a:lnTo>
                    <a:pt x="81" y="58"/>
                  </a:lnTo>
                  <a:lnTo>
                    <a:pt x="66" y="73"/>
                  </a:lnTo>
                  <a:lnTo>
                    <a:pt x="52" y="92"/>
                  </a:lnTo>
                  <a:lnTo>
                    <a:pt x="39" y="111"/>
                  </a:lnTo>
                  <a:lnTo>
                    <a:pt x="27" y="132"/>
                  </a:lnTo>
                  <a:lnTo>
                    <a:pt x="18" y="154"/>
                  </a:lnTo>
                  <a:lnTo>
                    <a:pt x="10" y="177"/>
                  </a:lnTo>
                  <a:lnTo>
                    <a:pt x="5" y="200"/>
                  </a:lnTo>
                  <a:lnTo>
                    <a:pt x="2" y="226"/>
                  </a:lnTo>
                  <a:lnTo>
                    <a:pt x="0" y="250"/>
                  </a:lnTo>
                  <a:lnTo>
                    <a:pt x="2" y="276"/>
                  </a:lnTo>
                  <a:lnTo>
                    <a:pt x="24" y="276"/>
                  </a:lnTo>
                  <a:lnTo>
                    <a:pt x="23" y="253"/>
                  </a:lnTo>
                  <a:lnTo>
                    <a:pt x="24" y="229"/>
                  </a:lnTo>
                  <a:lnTo>
                    <a:pt x="28" y="206"/>
                  </a:lnTo>
                  <a:lnTo>
                    <a:pt x="33" y="183"/>
                  </a:lnTo>
                  <a:lnTo>
                    <a:pt x="40" y="163"/>
                  </a:lnTo>
                  <a:lnTo>
                    <a:pt x="49" y="141"/>
                  </a:lnTo>
                  <a:lnTo>
                    <a:pt x="59" y="122"/>
                  </a:lnTo>
                  <a:lnTo>
                    <a:pt x="72" y="104"/>
                  </a:lnTo>
                  <a:lnTo>
                    <a:pt x="83" y="88"/>
                  </a:lnTo>
                  <a:lnTo>
                    <a:pt x="98" y="72"/>
                  </a:lnTo>
                  <a:lnTo>
                    <a:pt x="113" y="59"/>
                  </a:lnTo>
                  <a:lnTo>
                    <a:pt x="130" y="48"/>
                  </a:lnTo>
                  <a:lnTo>
                    <a:pt x="147" y="39"/>
                  </a:lnTo>
                  <a:lnTo>
                    <a:pt x="166" y="30"/>
                  </a:lnTo>
                  <a:lnTo>
                    <a:pt x="184" y="25"/>
                  </a:lnTo>
                  <a:lnTo>
                    <a:pt x="204" y="23"/>
                  </a:lnTo>
                  <a:lnTo>
                    <a:pt x="204" y="23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40160" y="5553000"/>
              <a:ext cx="185040" cy="185760"/>
            </a:xfrm>
            <a:custGeom>
              <a:avLst/>
              <a:gdLst/>
              <a:ahLst/>
              <a:rect l="l" t="t" r="r" b="b"/>
              <a:pathLst>
                <a:path w="244" h="233">
                  <a:moveTo>
                    <a:pt x="244" y="233"/>
                  </a:moveTo>
                  <a:lnTo>
                    <a:pt x="244" y="233"/>
                  </a:lnTo>
                  <a:lnTo>
                    <a:pt x="241" y="207"/>
                  </a:lnTo>
                  <a:lnTo>
                    <a:pt x="236" y="181"/>
                  </a:lnTo>
                  <a:lnTo>
                    <a:pt x="229" y="160"/>
                  </a:lnTo>
                  <a:lnTo>
                    <a:pt x="220" y="138"/>
                  </a:lnTo>
                  <a:lnTo>
                    <a:pt x="209" y="115"/>
                  </a:lnTo>
                  <a:lnTo>
                    <a:pt x="195" y="95"/>
                  </a:lnTo>
                  <a:lnTo>
                    <a:pt x="181" y="78"/>
                  </a:lnTo>
                  <a:lnTo>
                    <a:pt x="166" y="60"/>
                  </a:lnTo>
                  <a:lnTo>
                    <a:pt x="148" y="46"/>
                  </a:lnTo>
                  <a:lnTo>
                    <a:pt x="131" y="34"/>
                  </a:lnTo>
                  <a:lnTo>
                    <a:pt x="112" y="21"/>
                  </a:lnTo>
                  <a:lnTo>
                    <a:pt x="89" y="13"/>
                  </a:lnTo>
                  <a:lnTo>
                    <a:pt x="68" y="6"/>
                  </a:lnTo>
                  <a:lnTo>
                    <a:pt x="45" y="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" y="20"/>
                  </a:lnTo>
                  <a:lnTo>
                    <a:pt x="40" y="23"/>
                  </a:lnTo>
                  <a:lnTo>
                    <a:pt x="60" y="26"/>
                  </a:lnTo>
                  <a:lnTo>
                    <a:pt x="79" y="33"/>
                  </a:lnTo>
                  <a:lnTo>
                    <a:pt x="97" y="39"/>
                  </a:lnTo>
                  <a:lnTo>
                    <a:pt x="113" y="49"/>
                  </a:lnTo>
                  <a:lnTo>
                    <a:pt x="131" y="60"/>
                  </a:lnTo>
                  <a:lnTo>
                    <a:pt x="146" y="75"/>
                  </a:lnTo>
                  <a:lnTo>
                    <a:pt x="161" y="89"/>
                  </a:lnTo>
                  <a:lnTo>
                    <a:pt x="175" y="106"/>
                  </a:lnTo>
                  <a:lnTo>
                    <a:pt x="186" y="124"/>
                  </a:lnTo>
                  <a:lnTo>
                    <a:pt x="197" y="144"/>
                  </a:lnTo>
                  <a:lnTo>
                    <a:pt x="206" y="165"/>
                  </a:lnTo>
                  <a:lnTo>
                    <a:pt x="214" y="187"/>
                  </a:lnTo>
                  <a:lnTo>
                    <a:pt x="219" y="210"/>
                  </a:lnTo>
                  <a:lnTo>
                    <a:pt x="221" y="233"/>
                  </a:lnTo>
                  <a:lnTo>
                    <a:pt x="221" y="233"/>
                  </a:lnTo>
                  <a:lnTo>
                    <a:pt x="24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7880" y="5738760"/>
              <a:ext cx="159120" cy="220680"/>
            </a:xfrm>
            <a:custGeom>
              <a:avLst/>
              <a:gdLst/>
              <a:ahLst/>
              <a:rect l="l" t="t" r="r" b="b"/>
              <a:pathLst>
                <a:path w="207" h="279">
                  <a:moveTo>
                    <a:pt x="0" y="279"/>
                  </a:moveTo>
                  <a:lnTo>
                    <a:pt x="0" y="279"/>
                  </a:lnTo>
                  <a:lnTo>
                    <a:pt x="22" y="275"/>
                  </a:lnTo>
                  <a:lnTo>
                    <a:pt x="46" y="269"/>
                  </a:lnTo>
                  <a:lnTo>
                    <a:pt x="68" y="261"/>
                  </a:lnTo>
                  <a:lnTo>
                    <a:pt x="88" y="249"/>
                  </a:lnTo>
                  <a:lnTo>
                    <a:pt x="107" y="236"/>
                  </a:lnTo>
                  <a:lnTo>
                    <a:pt x="124" y="220"/>
                  </a:lnTo>
                  <a:lnTo>
                    <a:pt x="139" y="204"/>
                  </a:lnTo>
                  <a:lnTo>
                    <a:pt x="154" y="186"/>
                  </a:lnTo>
                  <a:lnTo>
                    <a:pt x="167" y="167"/>
                  </a:lnTo>
                  <a:lnTo>
                    <a:pt x="179" y="145"/>
                  </a:lnTo>
                  <a:lnTo>
                    <a:pt x="188" y="124"/>
                  </a:lnTo>
                  <a:lnTo>
                    <a:pt x="196" y="101"/>
                  </a:lnTo>
                  <a:lnTo>
                    <a:pt x="202" y="76"/>
                  </a:lnTo>
                  <a:lnTo>
                    <a:pt x="205" y="52"/>
                  </a:lnTo>
                  <a:lnTo>
                    <a:pt x="207" y="26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84" y="23"/>
                  </a:lnTo>
                  <a:lnTo>
                    <a:pt x="182" y="49"/>
                  </a:lnTo>
                  <a:lnTo>
                    <a:pt x="179" y="71"/>
                  </a:lnTo>
                  <a:lnTo>
                    <a:pt x="173" y="95"/>
                  </a:lnTo>
                  <a:lnTo>
                    <a:pt x="166" y="115"/>
                  </a:lnTo>
                  <a:lnTo>
                    <a:pt x="157" y="137"/>
                  </a:lnTo>
                  <a:lnTo>
                    <a:pt x="147" y="155"/>
                  </a:lnTo>
                  <a:lnTo>
                    <a:pt x="134" y="174"/>
                  </a:lnTo>
                  <a:lnTo>
                    <a:pt x="122" y="190"/>
                  </a:lnTo>
                  <a:lnTo>
                    <a:pt x="107" y="206"/>
                  </a:lnTo>
                  <a:lnTo>
                    <a:pt x="91" y="219"/>
                  </a:lnTo>
                  <a:lnTo>
                    <a:pt x="75" y="232"/>
                  </a:lnTo>
                  <a:lnTo>
                    <a:pt x="58" y="240"/>
                  </a:lnTo>
                  <a:lnTo>
                    <a:pt x="39" y="249"/>
                  </a:lnTo>
                  <a:lnTo>
                    <a:pt x="20" y="255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81040" y="5771880"/>
              <a:ext cx="186840" cy="1875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8" y="51"/>
                  </a:lnTo>
                  <a:lnTo>
                    <a:pt x="15" y="75"/>
                  </a:lnTo>
                  <a:lnTo>
                    <a:pt x="24" y="98"/>
                  </a:lnTo>
                  <a:lnTo>
                    <a:pt x="35" y="118"/>
                  </a:lnTo>
                  <a:lnTo>
                    <a:pt x="47" y="138"/>
                  </a:lnTo>
                  <a:lnTo>
                    <a:pt x="62" y="157"/>
                  </a:lnTo>
                  <a:lnTo>
                    <a:pt x="78" y="174"/>
                  </a:lnTo>
                  <a:lnTo>
                    <a:pt x="96" y="189"/>
                  </a:lnTo>
                  <a:lnTo>
                    <a:pt x="112" y="202"/>
                  </a:lnTo>
                  <a:lnTo>
                    <a:pt x="133" y="213"/>
                  </a:lnTo>
                  <a:lnTo>
                    <a:pt x="154" y="223"/>
                  </a:lnTo>
                  <a:lnTo>
                    <a:pt x="176" y="230"/>
                  </a:lnTo>
                  <a:lnTo>
                    <a:pt x="197" y="233"/>
                  </a:lnTo>
                  <a:lnTo>
                    <a:pt x="220" y="236"/>
                  </a:lnTo>
                  <a:lnTo>
                    <a:pt x="243" y="236"/>
                  </a:lnTo>
                  <a:lnTo>
                    <a:pt x="243" y="213"/>
                  </a:lnTo>
                  <a:lnTo>
                    <a:pt x="223" y="216"/>
                  </a:lnTo>
                  <a:lnTo>
                    <a:pt x="203" y="213"/>
                  </a:lnTo>
                  <a:lnTo>
                    <a:pt x="184" y="210"/>
                  </a:lnTo>
                  <a:lnTo>
                    <a:pt x="166" y="203"/>
                  </a:lnTo>
                  <a:lnTo>
                    <a:pt x="146" y="196"/>
                  </a:lnTo>
                  <a:lnTo>
                    <a:pt x="130" y="187"/>
                  </a:lnTo>
                  <a:lnTo>
                    <a:pt x="113" y="174"/>
                  </a:lnTo>
                  <a:lnTo>
                    <a:pt x="98" y="160"/>
                  </a:lnTo>
                  <a:lnTo>
                    <a:pt x="82" y="146"/>
                  </a:lnTo>
                  <a:lnTo>
                    <a:pt x="69" y="130"/>
                  </a:lnTo>
                  <a:lnTo>
                    <a:pt x="58" y="110"/>
                  </a:lnTo>
                  <a:lnTo>
                    <a:pt x="47" y="89"/>
                  </a:lnTo>
                  <a:lnTo>
                    <a:pt x="38" y="69"/>
                  </a:lnTo>
                  <a:lnTo>
                    <a:pt x="30" y="48"/>
                  </a:lnTo>
                  <a:lnTo>
                    <a:pt x="25" y="2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79240" y="5553000"/>
              <a:ext cx="160920" cy="218880"/>
            </a:xfrm>
            <a:custGeom>
              <a:avLst/>
              <a:gdLst/>
              <a:ahLst/>
              <a:rect l="l" t="t" r="r" b="b"/>
              <a:pathLst>
                <a:path w="206" h="276">
                  <a:moveTo>
                    <a:pt x="206" y="0"/>
                  </a:moveTo>
                  <a:lnTo>
                    <a:pt x="206" y="0"/>
                  </a:lnTo>
                  <a:lnTo>
                    <a:pt x="183" y="4"/>
                  </a:lnTo>
                  <a:lnTo>
                    <a:pt x="161" y="10"/>
                  </a:lnTo>
                  <a:lnTo>
                    <a:pt x="139" y="19"/>
                  </a:lnTo>
                  <a:lnTo>
                    <a:pt x="119" y="30"/>
                  </a:lnTo>
                  <a:lnTo>
                    <a:pt x="100" y="42"/>
                  </a:lnTo>
                  <a:lnTo>
                    <a:pt x="83" y="57"/>
                  </a:lnTo>
                  <a:lnTo>
                    <a:pt x="68" y="73"/>
                  </a:lnTo>
                  <a:lnTo>
                    <a:pt x="53" y="92"/>
                  </a:lnTo>
                  <a:lnTo>
                    <a:pt x="40" y="111"/>
                  </a:lnTo>
                  <a:lnTo>
                    <a:pt x="28" y="132"/>
                  </a:lnTo>
                  <a:lnTo>
                    <a:pt x="19" y="154"/>
                  </a:lnTo>
                  <a:lnTo>
                    <a:pt x="11" y="177"/>
                  </a:lnTo>
                  <a:lnTo>
                    <a:pt x="5" y="200"/>
                  </a:lnTo>
                  <a:lnTo>
                    <a:pt x="2" y="226"/>
                  </a:lnTo>
                  <a:lnTo>
                    <a:pt x="0" y="250"/>
                  </a:lnTo>
                  <a:lnTo>
                    <a:pt x="1" y="276"/>
                  </a:lnTo>
                  <a:lnTo>
                    <a:pt x="24" y="276"/>
                  </a:lnTo>
                  <a:lnTo>
                    <a:pt x="23" y="253"/>
                  </a:lnTo>
                  <a:lnTo>
                    <a:pt x="25" y="229"/>
                  </a:lnTo>
                  <a:lnTo>
                    <a:pt x="28" y="206"/>
                  </a:lnTo>
                  <a:lnTo>
                    <a:pt x="34" y="183"/>
                  </a:lnTo>
                  <a:lnTo>
                    <a:pt x="41" y="162"/>
                  </a:lnTo>
                  <a:lnTo>
                    <a:pt x="50" y="141"/>
                  </a:lnTo>
                  <a:lnTo>
                    <a:pt x="60" y="122"/>
                  </a:lnTo>
                  <a:lnTo>
                    <a:pt x="73" y="103"/>
                  </a:lnTo>
                  <a:lnTo>
                    <a:pt x="85" y="88"/>
                  </a:lnTo>
                  <a:lnTo>
                    <a:pt x="100" y="72"/>
                  </a:lnTo>
                  <a:lnTo>
                    <a:pt x="116" y="59"/>
                  </a:lnTo>
                  <a:lnTo>
                    <a:pt x="132" y="47"/>
                  </a:lnTo>
                  <a:lnTo>
                    <a:pt x="149" y="39"/>
                  </a:lnTo>
                  <a:lnTo>
                    <a:pt x="168" y="30"/>
                  </a:lnTo>
                  <a:lnTo>
                    <a:pt x="186" y="24"/>
                  </a:lnTo>
                  <a:lnTo>
                    <a:pt x="206" y="23"/>
                  </a:lnTo>
                  <a:lnTo>
                    <a:pt x="206" y="23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97880" y="5865840"/>
              <a:ext cx="6600960" cy="701640"/>
            </a:xfrm>
            <a:custGeom>
              <a:avLst/>
              <a:gdLst/>
              <a:ahLst/>
              <a:rect l="l" t="t" r="r" b="b"/>
              <a:pathLst>
                <a:path w="8576" h="884">
                  <a:moveTo>
                    <a:pt x="8575" y="13"/>
                  </a:moveTo>
                  <a:lnTo>
                    <a:pt x="8574" y="0"/>
                  </a:lnTo>
                  <a:lnTo>
                    <a:pt x="0" y="858"/>
                  </a:lnTo>
                  <a:lnTo>
                    <a:pt x="3" y="884"/>
                  </a:lnTo>
                  <a:lnTo>
                    <a:pt x="8576" y="26"/>
                  </a:lnTo>
                  <a:lnTo>
                    <a:pt x="85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229760" y="3614400"/>
              <a:ext cx="65995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117440" y="210492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285200" y="436860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174320" y="2858760"/>
              <a:ext cx="65995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818360" y="5108040"/>
              <a:ext cx="6133680" cy="63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136160" y="2356920"/>
              <a:ext cx="6600960" cy="67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16600" y="6116400"/>
              <a:ext cx="6600960" cy="701640"/>
            </a:xfrm>
            <a:custGeom>
              <a:avLst/>
              <a:gdLst/>
              <a:ahLst/>
              <a:rect l="l" t="t" r="r" b="b"/>
              <a:pathLst>
                <a:path w="8577" h="883">
                  <a:moveTo>
                    <a:pt x="8576" y="13"/>
                  </a:moveTo>
                  <a:lnTo>
                    <a:pt x="8575" y="0"/>
                  </a:lnTo>
                  <a:lnTo>
                    <a:pt x="0" y="858"/>
                  </a:lnTo>
                  <a:lnTo>
                    <a:pt x="3" y="883"/>
                  </a:lnTo>
                  <a:lnTo>
                    <a:pt x="8577" y="26"/>
                  </a:lnTo>
                  <a:lnTo>
                    <a:pt x="857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248840" y="3865320"/>
              <a:ext cx="66009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306080" y="461952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193760" y="310968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361160" y="5371920"/>
              <a:ext cx="66009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267920" y="4116240"/>
              <a:ext cx="65995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157040" y="2608200"/>
              <a:ext cx="65977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325160" y="4870080"/>
              <a:ext cx="6597720" cy="68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212480" y="3362040"/>
              <a:ext cx="659772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380600" y="5624280"/>
              <a:ext cx="6599160" cy="68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347480" y="5775120"/>
              <a:ext cx="1400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7320" y="707760"/>
              <a:ext cx="550440" cy="7062840"/>
            </a:xfrm>
            <a:custGeom>
              <a:avLst/>
              <a:gdLst/>
              <a:ahLst/>
              <a:rect l="l" t="t" r="r" b="b"/>
              <a:pathLst>
                <a:path w="712" h="8897">
                  <a:moveTo>
                    <a:pt x="696" y="8896"/>
                  </a:moveTo>
                  <a:lnTo>
                    <a:pt x="712" y="889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680" y="8897"/>
                  </a:lnTo>
                  <a:lnTo>
                    <a:pt x="696" y="889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60600" y="2259000"/>
            <a:ext cx="5495040" cy="950760"/>
            <a:chOff x="2460600" y="2259000"/>
            <a:chExt cx="5495040" cy="950760"/>
          </a:xfrm>
        </p:grpSpPr>
        <p:sp>
          <p:nvSpPr>
            <p:cNvPr id="362" name=""/>
            <p:cNvSpPr/>
            <p:nvPr/>
          </p:nvSpPr>
          <p:spPr>
            <a:xfrm>
              <a:off x="2460600" y="283680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1232800">
              <a:off x="2893680" y="252720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munities of Pract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AwwaRF Project Will Identify Strategies, Tools and Techniques to Adapt for Utilitie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 rot="21235800">
            <a:off x="2209320" y="1622160"/>
            <a:ext cx="2289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28116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19280" y="2764080"/>
            <a:ext cx="5469840" cy="948600"/>
            <a:chOff x="2519280" y="2764080"/>
            <a:chExt cx="5469840" cy="948600"/>
          </a:xfrm>
        </p:grpSpPr>
        <p:sp>
          <p:nvSpPr>
            <p:cNvPr id="367" name=""/>
            <p:cNvSpPr/>
            <p:nvPr/>
          </p:nvSpPr>
          <p:spPr>
            <a:xfrm rot="21232800">
              <a:off x="2927160" y="303228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fter Action Revi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19280" y="3340080"/>
              <a:ext cx="317520" cy="37260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552760" y="3254400"/>
            <a:ext cx="5481000" cy="952560"/>
            <a:chOff x="2552760" y="3254400"/>
            <a:chExt cx="5481000" cy="952560"/>
          </a:xfrm>
        </p:grpSpPr>
        <p:sp>
          <p:nvSpPr>
            <p:cNvPr id="370" name=""/>
            <p:cNvSpPr/>
            <p:nvPr/>
          </p:nvSpPr>
          <p:spPr>
            <a:xfrm rot="21232800">
              <a:off x="2971440" y="352260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irtual Collabo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52760" y="3833640"/>
              <a:ext cx="317520" cy="37332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97040" y="3756240"/>
            <a:ext cx="5458680" cy="964800"/>
            <a:chOff x="2597040" y="3756240"/>
            <a:chExt cx="5458680" cy="964800"/>
          </a:xfrm>
        </p:grpSpPr>
        <p:sp>
          <p:nvSpPr>
            <p:cNvPr id="373" name=""/>
            <p:cNvSpPr/>
            <p:nvPr/>
          </p:nvSpPr>
          <p:spPr>
            <a:xfrm rot="21232800">
              <a:off x="2993760" y="40244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Lessons L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97040" y="434808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630520" y="4260960"/>
            <a:ext cx="5469840" cy="963360"/>
            <a:chOff x="2630520" y="4260960"/>
            <a:chExt cx="5469840" cy="963360"/>
          </a:xfrm>
        </p:grpSpPr>
        <p:sp>
          <p:nvSpPr>
            <p:cNvPr id="376" name=""/>
            <p:cNvSpPr/>
            <p:nvPr/>
          </p:nvSpPr>
          <p:spPr>
            <a:xfrm rot="21232800">
              <a:off x="3038040" y="452916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Story-Te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0520" y="485136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664000" y="4751640"/>
            <a:ext cx="5480640" cy="974160"/>
            <a:chOff x="2664000" y="4751640"/>
            <a:chExt cx="5480640" cy="974160"/>
          </a:xfrm>
        </p:grpSpPr>
        <p:sp>
          <p:nvSpPr>
            <p:cNvPr id="379" name=""/>
            <p:cNvSpPr/>
            <p:nvPr/>
          </p:nvSpPr>
          <p:spPr>
            <a:xfrm rot="21232800">
              <a:off x="3082680" y="50198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Mento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4000" y="5352840"/>
              <a:ext cx="31716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708280" y="5256360"/>
            <a:ext cx="5469840" cy="960120"/>
            <a:chOff x="2708280" y="5256360"/>
            <a:chExt cx="5469840" cy="960120"/>
          </a:xfrm>
        </p:grpSpPr>
        <p:sp>
          <p:nvSpPr>
            <p:cNvPr id="382" name=""/>
            <p:cNvSpPr/>
            <p:nvPr/>
          </p:nvSpPr>
          <p:spPr>
            <a:xfrm rot="21232800">
              <a:off x="3115800" y="5524560"/>
              <a:ext cx="50547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ncorporating Reti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08280" y="584352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741760" y="5751720"/>
            <a:ext cx="5469480" cy="968040"/>
            <a:chOff x="2741760" y="5751720"/>
            <a:chExt cx="5469480" cy="968040"/>
          </a:xfrm>
        </p:grpSpPr>
        <p:sp>
          <p:nvSpPr>
            <p:cNvPr id="385" name=""/>
            <p:cNvSpPr/>
            <p:nvPr/>
          </p:nvSpPr>
          <p:spPr>
            <a:xfrm rot="21232800">
              <a:off x="3149280" y="601992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Knowledge Yellow Pa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1760" y="634680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413080" y="1738440"/>
            <a:ext cx="5469480" cy="968040"/>
            <a:chOff x="2413080" y="1738440"/>
            <a:chExt cx="5469480" cy="968040"/>
          </a:xfrm>
        </p:grpSpPr>
        <p:sp>
          <p:nvSpPr>
            <p:cNvPr id="388" name=""/>
            <p:cNvSpPr/>
            <p:nvPr/>
          </p:nvSpPr>
          <p:spPr>
            <a:xfrm rot="21232800">
              <a:off x="2820600" y="2006640"/>
              <a:ext cx="5054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ocument Reposit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13080" y="2333520"/>
              <a:ext cx="317520" cy="372960"/>
            </a:xfrm>
            <a:custGeom>
              <a:avLst/>
              <a:gdLst/>
              <a:ahLst/>
              <a:rect l="l" t="t" r="r" b="b"/>
              <a:pathLst>
                <a:path w="631" h="751">
                  <a:moveTo>
                    <a:pt x="631" y="692"/>
                  </a:moveTo>
                  <a:lnTo>
                    <a:pt x="52" y="751"/>
                  </a:lnTo>
                  <a:lnTo>
                    <a:pt x="0" y="89"/>
                  </a:lnTo>
                  <a:lnTo>
                    <a:pt x="555" y="33"/>
                  </a:lnTo>
                  <a:lnTo>
                    <a:pt x="562" y="28"/>
                  </a:lnTo>
                  <a:lnTo>
                    <a:pt x="568" y="24"/>
                  </a:lnTo>
                  <a:lnTo>
                    <a:pt x="576" y="20"/>
                  </a:lnTo>
                  <a:lnTo>
                    <a:pt x="582" y="15"/>
                  </a:lnTo>
                  <a:lnTo>
                    <a:pt x="590" y="11"/>
                  </a:lnTo>
                  <a:lnTo>
                    <a:pt x="596" y="7"/>
                  </a:lnTo>
                  <a:lnTo>
                    <a:pt x="604" y="4"/>
                  </a:lnTo>
                  <a:lnTo>
                    <a:pt x="610" y="0"/>
                  </a:lnTo>
                  <a:lnTo>
                    <a:pt x="624" y="17"/>
                  </a:lnTo>
                  <a:lnTo>
                    <a:pt x="619" y="21"/>
                  </a:lnTo>
                  <a:lnTo>
                    <a:pt x="614" y="27"/>
                  </a:lnTo>
                  <a:lnTo>
                    <a:pt x="609" y="31"/>
                  </a:lnTo>
                  <a:lnTo>
                    <a:pt x="604" y="37"/>
                  </a:lnTo>
                  <a:lnTo>
                    <a:pt x="599" y="43"/>
                  </a:lnTo>
                  <a:lnTo>
                    <a:pt x="593" y="50"/>
                  </a:lnTo>
                  <a:lnTo>
                    <a:pt x="587" y="56"/>
                  </a:lnTo>
                  <a:lnTo>
                    <a:pt x="582" y="62"/>
                  </a:lnTo>
                  <a:lnTo>
                    <a:pt x="631" y="692"/>
                  </a:lnTo>
                  <a:close/>
                  <a:moveTo>
                    <a:pt x="519" y="138"/>
                  </a:moveTo>
                  <a:lnTo>
                    <a:pt x="506" y="158"/>
                  </a:lnTo>
                  <a:lnTo>
                    <a:pt x="493" y="180"/>
                  </a:lnTo>
                  <a:lnTo>
                    <a:pt x="479" y="203"/>
                  </a:lnTo>
                  <a:lnTo>
                    <a:pt x="465" y="226"/>
                  </a:lnTo>
                  <a:lnTo>
                    <a:pt x="451" y="251"/>
                  </a:lnTo>
                  <a:lnTo>
                    <a:pt x="438" y="279"/>
                  </a:lnTo>
                  <a:lnTo>
                    <a:pt x="424" y="306"/>
                  </a:lnTo>
                  <a:lnTo>
                    <a:pt x="410" y="336"/>
                  </a:lnTo>
                  <a:lnTo>
                    <a:pt x="395" y="367"/>
                  </a:lnTo>
                  <a:lnTo>
                    <a:pt x="381" y="395"/>
                  </a:lnTo>
                  <a:lnTo>
                    <a:pt x="369" y="423"/>
                  </a:lnTo>
                  <a:lnTo>
                    <a:pt x="357" y="449"/>
                  </a:lnTo>
                  <a:lnTo>
                    <a:pt x="347" y="475"/>
                  </a:lnTo>
                  <a:lnTo>
                    <a:pt x="338" y="499"/>
                  </a:lnTo>
                  <a:lnTo>
                    <a:pt x="331" y="522"/>
                  </a:lnTo>
                  <a:lnTo>
                    <a:pt x="323" y="544"/>
                  </a:lnTo>
                  <a:lnTo>
                    <a:pt x="297" y="568"/>
                  </a:lnTo>
                  <a:lnTo>
                    <a:pt x="289" y="575"/>
                  </a:lnTo>
                  <a:lnTo>
                    <a:pt x="282" y="583"/>
                  </a:lnTo>
                  <a:lnTo>
                    <a:pt x="276" y="590"/>
                  </a:lnTo>
                  <a:lnTo>
                    <a:pt x="271" y="595"/>
                  </a:lnTo>
                  <a:lnTo>
                    <a:pt x="265" y="601"/>
                  </a:lnTo>
                  <a:lnTo>
                    <a:pt x="260" y="607"/>
                  </a:lnTo>
                  <a:lnTo>
                    <a:pt x="257" y="611"/>
                  </a:lnTo>
                  <a:lnTo>
                    <a:pt x="254" y="616"/>
                  </a:lnTo>
                  <a:lnTo>
                    <a:pt x="250" y="603"/>
                  </a:lnTo>
                  <a:lnTo>
                    <a:pt x="244" y="588"/>
                  </a:lnTo>
                  <a:lnTo>
                    <a:pt x="237" y="570"/>
                  </a:lnTo>
                  <a:lnTo>
                    <a:pt x="227" y="548"/>
                  </a:lnTo>
                  <a:lnTo>
                    <a:pt x="215" y="521"/>
                  </a:lnTo>
                  <a:lnTo>
                    <a:pt x="209" y="506"/>
                  </a:lnTo>
                  <a:lnTo>
                    <a:pt x="203" y="493"/>
                  </a:lnTo>
                  <a:lnTo>
                    <a:pt x="195" y="482"/>
                  </a:lnTo>
                  <a:lnTo>
                    <a:pt x="189" y="470"/>
                  </a:lnTo>
                  <a:lnTo>
                    <a:pt x="183" y="460"/>
                  </a:lnTo>
                  <a:lnTo>
                    <a:pt x="178" y="450"/>
                  </a:lnTo>
                  <a:lnTo>
                    <a:pt x="171" y="441"/>
                  </a:lnTo>
                  <a:lnTo>
                    <a:pt x="166" y="434"/>
                  </a:lnTo>
                  <a:lnTo>
                    <a:pt x="161" y="427"/>
                  </a:lnTo>
                  <a:lnTo>
                    <a:pt x="156" y="421"/>
                  </a:lnTo>
                  <a:lnTo>
                    <a:pt x="150" y="416"/>
                  </a:lnTo>
                  <a:lnTo>
                    <a:pt x="145" y="411"/>
                  </a:lnTo>
                  <a:lnTo>
                    <a:pt x="139" y="407"/>
                  </a:lnTo>
                  <a:lnTo>
                    <a:pt x="134" y="404"/>
                  </a:lnTo>
                  <a:lnTo>
                    <a:pt x="127" y="401"/>
                  </a:lnTo>
                  <a:lnTo>
                    <a:pt x="121" y="400"/>
                  </a:lnTo>
                  <a:lnTo>
                    <a:pt x="130" y="388"/>
                  </a:lnTo>
                  <a:lnTo>
                    <a:pt x="139" y="377"/>
                  </a:lnTo>
                  <a:lnTo>
                    <a:pt x="147" y="368"/>
                  </a:lnTo>
                  <a:lnTo>
                    <a:pt x="156" y="359"/>
                  </a:lnTo>
                  <a:lnTo>
                    <a:pt x="164" y="354"/>
                  </a:lnTo>
                  <a:lnTo>
                    <a:pt x="172" y="349"/>
                  </a:lnTo>
                  <a:lnTo>
                    <a:pt x="181" y="345"/>
                  </a:lnTo>
                  <a:lnTo>
                    <a:pt x="190" y="344"/>
                  </a:lnTo>
                  <a:lnTo>
                    <a:pt x="198" y="345"/>
                  </a:lnTo>
                  <a:lnTo>
                    <a:pt x="205" y="348"/>
                  </a:lnTo>
                  <a:lnTo>
                    <a:pt x="214" y="354"/>
                  </a:lnTo>
                  <a:lnTo>
                    <a:pt x="223" y="362"/>
                  </a:lnTo>
                  <a:lnTo>
                    <a:pt x="232" y="374"/>
                  </a:lnTo>
                  <a:lnTo>
                    <a:pt x="242" y="388"/>
                  </a:lnTo>
                  <a:lnTo>
                    <a:pt x="250" y="407"/>
                  </a:lnTo>
                  <a:lnTo>
                    <a:pt x="260" y="427"/>
                  </a:lnTo>
                  <a:lnTo>
                    <a:pt x="276" y="457"/>
                  </a:lnTo>
                  <a:lnTo>
                    <a:pt x="291" y="423"/>
                  </a:lnTo>
                  <a:lnTo>
                    <a:pt x="307" y="385"/>
                  </a:lnTo>
                  <a:lnTo>
                    <a:pt x="327" y="349"/>
                  </a:lnTo>
                  <a:lnTo>
                    <a:pt x="348" y="310"/>
                  </a:lnTo>
                  <a:lnTo>
                    <a:pt x="372" y="270"/>
                  </a:lnTo>
                  <a:lnTo>
                    <a:pt x="399" y="230"/>
                  </a:lnTo>
                  <a:lnTo>
                    <a:pt x="426" y="188"/>
                  </a:lnTo>
                  <a:lnTo>
                    <a:pt x="457" y="145"/>
                  </a:lnTo>
                  <a:lnTo>
                    <a:pt x="482" y="113"/>
                  </a:lnTo>
                  <a:lnTo>
                    <a:pt x="74" y="154"/>
                  </a:lnTo>
                  <a:lnTo>
                    <a:pt x="113" y="673"/>
                  </a:lnTo>
                  <a:lnTo>
                    <a:pt x="557" y="629"/>
                  </a:lnTo>
                  <a:lnTo>
                    <a:pt x="519" y="13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22440" y="4851360"/>
            <a:ext cx="8111880" cy="689040"/>
            <a:chOff x="622440" y="4851360"/>
            <a:chExt cx="8111880" cy="68904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622440" y="48513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939960" y="4925880"/>
              <a:ext cx="779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Join the AwwaRF Project to Learn Mo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2440" y="1684440"/>
            <a:ext cx="8111880" cy="1077120"/>
            <a:chOff x="622440" y="1684440"/>
            <a:chExt cx="8111880" cy="107712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622440" y="168444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39960" y="1735200"/>
              <a:ext cx="7794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Different Types of Knowledge Require Different Approach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22440" y="4087800"/>
            <a:ext cx="8111880" cy="689040"/>
            <a:chOff x="622440" y="4087800"/>
            <a:chExt cx="8111880" cy="6890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622440" y="408780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939960" y="4167360"/>
              <a:ext cx="77943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Develop a Plan and Implemen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22440" y="2868480"/>
            <a:ext cx="8111880" cy="1067760"/>
            <a:chOff x="622440" y="2868480"/>
            <a:chExt cx="8111880" cy="1067760"/>
          </a:xfrm>
        </p:grpSpPr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622440" y="286848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39960" y="2909880"/>
              <a:ext cx="779436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6600" indent="-281160"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Understand Your Utility’s Drivers and Unique Nee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7240" y="1461600"/>
            <a:ext cx="5257800" cy="14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Bef>
                <a:spcPts val="7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4040" y="1854360"/>
            <a:ext cx="22795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ema-in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2006 EMA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43480" y="3429000"/>
            <a:ext cx="4308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or more information,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contact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 Narrow"/>
              </a:rPr>
              <a:t>tbrueck@ema-inc.com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or</a:t>
            </a:r>
            <a:r>
              <a:rPr b="1" lang="en-US" sz="2400" spc="-1" strike="noStrike">
                <a:solidFill>
                  <a:srgbClr val="00458a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 Narrow"/>
              </a:rPr>
              <a:t>www.ema-in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657600" y="5707080"/>
            <a:ext cx="222552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4280" y="1584360"/>
            <a:ext cx="6323040" cy="5273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Four Types of Knowledge are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Defined by Awarenes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2355840" y="6518160"/>
            <a:ext cx="4114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f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2146320"/>
            <a:ext cx="22050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waren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1584360"/>
            <a:ext cx="6323040" cy="5273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xplicit Knowledge is the Easiest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o Manage and Retai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50239" t="77373" r="0" b="0"/>
          <a:stretch/>
        </p:blipFill>
        <p:spPr>
          <a:xfrm>
            <a:off x="4387680" y="5661000"/>
            <a:ext cx="3146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4280" y="2413080"/>
            <a:ext cx="6323040" cy="444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Tacit Knowledge is the Most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Difficult to Retain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2067" t="78241" r="49136" b="0"/>
          <a:stretch/>
        </p:blipFill>
        <p:spPr>
          <a:xfrm>
            <a:off x="2610000" y="5721480"/>
            <a:ext cx="182088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4280" y="1793880"/>
            <a:ext cx="6323040" cy="506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Implicit Knowledge is Known But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Not Shared or Documented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4280" y="1806480"/>
            <a:ext cx="6323040" cy="505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Evident Knowledge is Unknown to Individuals But Seen by Others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3760" y="1790640"/>
            <a:ext cx="6343560" cy="5067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Barriers Must be Understood - Use Different Approaches to Retain Knowledge 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8:32:49Z</dcterms:created>
  <dc:creator>Terry Brueck and Mary Dailey-Fischer</dc:creator>
  <dc:description/>
  <dc:language>en-US</dc:language>
  <cp:lastModifiedBy>Terry Brueck</cp:lastModifiedBy>
  <dcterms:modified xsi:type="dcterms:W3CDTF">2006-02-02T14:32:48Z</dcterms:modified>
  <cp:revision>84</cp:revision>
  <dc:subject>Changing Workforce</dc:subject>
  <dc:title>Coming, Staying, Changing, Going, Gone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 Expert">
    <vt:lpwstr>Terry Brueck &amp; Mary Dailey-Fischer</vt:lpwstr>
  </property>
  <property fmtid="{D5CDD505-2E9C-101B-9397-08002B2CF9AE}" pid="3" name="Status">
    <vt:lpwstr>Draft</vt:lpwstr>
  </property>
  <property fmtid="{D5CDD505-2E9C-101B-9397-08002B2CF9AE}" pid="4" name="Support Specialist">
    <vt:lpwstr>Kelly Meighan</vt:lpwstr>
  </property>
</Properties>
</file>