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6.wmf" ContentType="image/x-wmf"/>
  <Override PartName="/ppt/media/image11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1280" y="18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676040"/>
            <a:ext cx="77724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1280" y="18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3123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67604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67604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1280" y="18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312372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312372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67604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67604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67604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18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18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18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379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3123720"/>
            <a:ext cx="379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18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11280" y="1899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18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3123720"/>
            <a:ext cx="379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67604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1280" y="18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18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379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3123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67604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18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3123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676040"/>
            <a:ext cx="77724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18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676040"/>
            <a:ext cx="77724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18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3123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67604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67604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18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312372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312372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67604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67604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67604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1280" y="18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1280" y="18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379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3123720"/>
            <a:ext cx="379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1280" y="18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1280" y="1899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1280" y="18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3123720"/>
            <a:ext cx="379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67604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1280" y="18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379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3123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67604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1280" y="18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3123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676040"/>
            <a:ext cx="77724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662200" y="0"/>
            <a:ext cx="6481800" cy="1066680"/>
          </a:xfrm>
          <a:prstGeom prst="rect">
            <a:avLst/>
          </a:prstGeom>
          <a:solidFill>
            <a:srgbClr val="7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11280" y="18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7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  <a:p>
            <a:pPr lvl="2" marL="937080" indent="-187200">
              <a:spcBef>
                <a:spcPts val="700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  <a:p>
            <a:pPr lvl="3" marL="1311840" indent="-187200">
              <a:spcBef>
                <a:spcPts val="700"/>
              </a:spcBef>
              <a:buClr>
                <a:srgbClr val="7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  <a:p>
            <a:pPr lvl="4" marL="1686960" indent="-187200">
              <a:spcBef>
                <a:spcPts val="700"/>
              </a:spcBef>
              <a:buClr>
                <a:srgbClr val="7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  <a:p>
            <a:pPr lvl="5" marL="1686960" indent="-1872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  <a:p>
            <a:pPr lvl="6" marL="1686960" indent="-1872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124840" y="2263680"/>
            <a:ext cx="101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9092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895480"/>
            <a:ext cx="9144000" cy="3962520"/>
          </a:xfrm>
          <a:prstGeom prst="rect">
            <a:avLst/>
          </a:prstGeom>
          <a:solidFill>
            <a:srgbClr val="004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91120" y="0"/>
            <a:ext cx="4952880" cy="2438280"/>
          </a:xfrm>
          <a:prstGeom prst="rect">
            <a:avLst/>
          </a:prstGeom>
          <a:solidFill>
            <a:srgbClr val="f3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3428640"/>
            <a:ext cx="7772400" cy="1143000"/>
          </a:xfrm>
          <a:prstGeom prst="rect">
            <a:avLst/>
          </a:prstGeom>
          <a:solidFill>
            <a:srgbClr val="004a6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968960" y="2459160"/>
            <a:ext cx="1174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114800" cy="2436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7f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7f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7f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3123720"/>
            <a:ext cx="7772400" cy="1143000"/>
          </a:xfrm>
          <a:prstGeom prst="rect">
            <a:avLst/>
          </a:prstGeom>
          <a:solidFill>
            <a:srgbClr val="004a6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SECTION OF THE CLEAN WATER AC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AFE DRINKING WATER 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14400" y="4572000"/>
            <a:ext cx="6400800" cy="1752480"/>
          </a:xfrm>
          <a:prstGeom prst="rect">
            <a:avLst/>
          </a:prstGeom>
          <a:solidFill>
            <a:srgbClr val="004a68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Susan H. Richards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Kilpatrick Stockton, LL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1100 Peachtree Street, Suite 28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Atlanta, GA  3031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404-815-6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surichardson@kilpatrickstockton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887537-9D8E-43D0-8445-80A9636002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	</a:t>
            </a:r>
            <a:r>
              <a:rPr b="1" i="1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The 1996 Safe Drinking Water Amendments establish a strong new emphasis on preventing contamination problems through source water protection and enhanced water system management.  That emphasis transforms the previous law, with its largely after-the-fact regulatory focus, into a truly environmental statute that can better provide for the sustainable use of water by our nation’s public water systems and their customers.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	</a:t>
            </a:r>
            <a:r>
              <a:rPr b="1" i="1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	</a:t>
            </a:r>
            <a:r>
              <a:rPr b="1" i="1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U.S. Environmental Protection Agency, 1996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000"/>
                </a:solidFill>
                <a:latin typeface="Arial"/>
              </a:rPr>
              <a:t>1996 SDWA Amendments – </a:t>
            </a:r>
            <a:br>
              <a:rPr sz="3600"/>
            </a:br>
            <a:r>
              <a:rPr b="0" lang="en-US" sz="3600" spc="-1" strike="noStrike">
                <a:solidFill>
                  <a:srgbClr val="7f0000"/>
                </a:solidFill>
                <a:latin typeface="Arial"/>
              </a:rPr>
              <a:t>New Programs</a:t>
            </a: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Source Water Assessment Program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Contaminant Monitoring Programs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Contaminant Candidate List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Unregulated Contaminant Monitoring Regulation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National Contaminant Occurrence Database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Microbial Contamination Programs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Long Term Enhanced Surface Water Treatment Rule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Stage 2 Disinfection Byproducts Rule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000"/>
                </a:solidFill>
                <a:latin typeface="Arial"/>
              </a:rPr>
              <a:t>Source Water Assessment Program</a:t>
            </a: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States required to conduct a surface water assessment program to: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Delineate the boundaries of areas providing source water for public water systems.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Identify origins of regulated and unregulated contaminants in delineated area to determine susceptibility of PWS to contaminants.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Required to be completed by 2003.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Once completed, results to be made public.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000"/>
                </a:solidFill>
                <a:latin typeface="Arial"/>
              </a:rPr>
              <a:t>Source Water Assessment Program:</a:t>
            </a:r>
            <a:br>
              <a:rPr sz="3600"/>
            </a:br>
            <a:r>
              <a:rPr b="0" lang="en-US" sz="3600" spc="-1" strike="noStrike">
                <a:solidFill>
                  <a:srgbClr val="7f0000"/>
                </a:solidFill>
                <a:latin typeface="Arial"/>
              </a:rPr>
              <a:t>Potential Impacts on Clean Water Organizations</a:t>
            </a: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3124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February 8, 2003 Memorandum to EPA Regional Administrations – source water as a top priority.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EPA has indicated that the Source Water Assessments should be used in conjunction with CWA programs such as TMDLs and NPDES permitting.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Potential increased scrutiny on wastewater sources that discharge in vicinity of drinking water source.</a:t>
            </a:r>
            <a:r>
              <a:rPr b="0" lang="en-US" sz="24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000"/>
                </a:solidFill>
                <a:latin typeface="Arial"/>
              </a:rPr>
              <a:t>Contaminant Monitoring Programs</a:t>
            </a: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1996 Amendments revamped requirements for establishing MCLs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7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Eliminated requirement for regulating 25 new contaminants every three years.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7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Established requirements for standards to be risk-based, focusing on highest priority chemicals.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000"/>
                </a:solidFill>
                <a:latin typeface="Arial"/>
              </a:rPr>
              <a:t>Contaminant Monitoring Programs</a:t>
            </a: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42880" indent="-54288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Starting in 1991, EPA to implement a cyclical process: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972720" indent="-54288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Review of five contaminants every five years;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972720" indent="-54288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Determine whether to regulate based on three criteria: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2" marL="1402560" indent="-54288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Contaminant adversely affects human health;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2" marL="1402560" indent="-54288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Known or substantially likely to occur in PWSs with a frequency and at levels of public health concern;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2" marL="1402560" indent="-54288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Regulation of contaminant presents meaningful opportunity for health risk reduction.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972720" indent="-54288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If EPA determines to regulate, then EPA has two years to establish MCLG and MCL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9727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000"/>
                </a:solidFill>
                <a:latin typeface="Arial"/>
              </a:rPr>
              <a:t>Contaminant Candidate List</a:t>
            </a: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Identifies contaminants not subject to treatment standards but known or anticipated to occur in PWSs and may require regulation.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Three categories: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914400" indent="-457200">
              <a:spcBef>
                <a:spcPts val="575"/>
              </a:spcBef>
              <a:buClr>
                <a:srgbClr val="7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Priorities for additional research;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914400" indent="-457200">
              <a:spcBef>
                <a:spcPts val="575"/>
              </a:spcBef>
              <a:buClr>
                <a:srgbClr val="7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Priorities for additional occurrence data;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7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Priorities for consideration for rulemaking.</a:t>
            </a:r>
            <a:r>
              <a:rPr b="0" lang="en-US" sz="2800" spc="-1" strike="noStrike">
                <a:solidFill>
                  <a:srgbClr val="7f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000"/>
                </a:solidFill>
                <a:latin typeface="Arial"/>
              </a:rPr>
              <a:t>Contaminant Candidate List</a:t>
            </a: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1998 CCL – 50 chemical and 10 microbial contaminants.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2005 CCL – 42 chemical and 9 microbial contaminants.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Next CCL – Draft in Winter 2006; final in early 2008; may include pharmaceuticals and personal care products.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000"/>
                </a:solidFill>
                <a:latin typeface="Arial"/>
              </a:rPr>
              <a:t>Unregulated Contaminant Monitoring</a:t>
            </a: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To develop “occurrence data” for the CCL, PWSs required to monitor water supplies for unregulated contaminants.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Every five years, EPA required to establish list of contaminants and monitoring program.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Data is utilized in evaluating contaminant’s occurrence in drinking water and potential population exposed to each.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000"/>
                </a:solidFill>
                <a:latin typeface="Arial"/>
              </a:rPr>
              <a:t>National Contaminant Occurrence Database</a:t>
            </a: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Stores data on the occurrence of both regulated and unregulated contaminants.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Utilized by EPA to make occurrence determinations on whether or not to regulate a contaminant.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May also be useful for state tailoring of system monitoring and source water protection.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Must be available to the public in readily accessible form.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000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581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Clean Water Act: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 to restore and maintain the chemical, physical and biological integrity of the nation’s waters.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Fishable and Swimmable Waters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6712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988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j0356730" descr=""/>
          <p:cNvPicPr/>
          <p:nvPr/>
        </p:nvPicPr>
        <p:blipFill>
          <a:blip r:embed="rId1"/>
          <a:stretch/>
        </p:blipFill>
        <p:spPr>
          <a:xfrm>
            <a:off x="6705720" y="4419720"/>
            <a:ext cx="1730160" cy="15681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65760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7668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bd08592_" descr=""/>
          <p:cNvPicPr/>
          <p:nvPr/>
        </p:nvPicPr>
        <p:blipFill>
          <a:blip r:embed="rId2"/>
          <a:stretch/>
        </p:blipFill>
        <p:spPr>
          <a:xfrm>
            <a:off x="5029200" y="2438280"/>
            <a:ext cx="21718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000"/>
                </a:solidFill>
                <a:latin typeface="Arial"/>
              </a:rPr>
              <a:t>Contaminant Monitoring Program:</a:t>
            </a:r>
            <a:br>
              <a:rPr sz="3600"/>
            </a:br>
            <a:r>
              <a:rPr b="0" lang="en-US" sz="3600" spc="-1" strike="noStrike">
                <a:solidFill>
                  <a:srgbClr val="7f0000"/>
                </a:solidFill>
                <a:latin typeface="Arial"/>
              </a:rPr>
              <a:t>Potential Impact on Clean Water Organizations</a:t>
            </a: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New information is being developed on a large body of contaminants, including some that are subject to water quality criteria or sampling requirements under the CWA.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Combination of occurrence information and information from Source Water Assessment Program may influence effluent limitations and other permitting requirements under TMDL program.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000"/>
                </a:solidFill>
                <a:latin typeface="Arial"/>
              </a:rPr>
              <a:t>Microbial Contamination Programs</a:t>
            </a: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4419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Greatest area for overlap for wastewater and water utilities.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Historically – CWA and SDWA use differing indicators of contamination and different treatment approaches.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Concerns about future increases in microbial contamination prompts need for more unified approach to addressing microbial contamination.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2424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an01865_" descr=""/>
          <p:cNvPicPr/>
          <p:nvPr/>
        </p:nvPicPr>
        <p:blipFill>
          <a:blip r:embed="rId1"/>
          <a:stretch/>
        </p:blipFill>
        <p:spPr>
          <a:xfrm>
            <a:off x="5867280" y="4419720"/>
            <a:ext cx="1811520" cy="2133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17672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sy01069_" descr=""/>
          <p:cNvPicPr/>
          <p:nvPr/>
        </p:nvPicPr>
        <p:blipFill>
          <a:blip r:embed="rId2"/>
          <a:stretch/>
        </p:blipFill>
        <p:spPr>
          <a:xfrm>
            <a:off x="5029200" y="2057400"/>
            <a:ext cx="1808280" cy="20480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27212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j0333246" descr=""/>
          <p:cNvPicPr/>
          <p:nvPr/>
        </p:nvPicPr>
        <p:blipFill>
          <a:blip r:embed="rId3"/>
          <a:stretch/>
        </p:blipFill>
        <p:spPr>
          <a:xfrm>
            <a:off x="7086600" y="2590920"/>
            <a:ext cx="14209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000"/>
                </a:solidFill>
                <a:latin typeface="Arial"/>
              </a:rPr>
              <a:t>New Rules Aimed At Microbial Contamination</a:t>
            </a: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January 2006 – EPA finalizes two rules: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990720" indent="-533520">
              <a:spcBef>
                <a:spcPts val="575"/>
              </a:spcBef>
              <a:buClr>
                <a:srgbClr val="7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Long Term 2 Enhanced Surface Water Treatment Rule – aimed at reducing risk of </a:t>
            </a:r>
            <a:r>
              <a:rPr b="0" i="1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Cryptosporidium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 from entering water supplies.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990720" indent="-533520">
              <a:spcBef>
                <a:spcPts val="575"/>
              </a:spcBef>
              <a:buClr>
                <a:srgbClr val="7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Stage 2 Disinfection Byproducts Rule – Requires water systems to limit the amount of disinfection byproducts in drinking water.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000"/>
                </a:solidFill>
                <a:latin typeface="Arial"/>
                <a:ea typeface="Times New Roman"/>
              </a:rPr>
              <a:t>Long Term 2 Enhanced Surface Water Treatment Rule – LT2 Rule</a:t>
            </a:r>
            <a:r>
              <a:rPr b="0" lang="en-US" sz="36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Cryptosporidium 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are resistant to chlorination and may appear in highest quality source waters.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1.  Monitoring Phase – requires PWS to conduct two 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 years of monthly sampling for </a:t>
            </a:r>
            <a:r>
              <a:rPr b="0" i="1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Cryptosporidium.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2.  Treatment Phase – Based on results of monitoring phase, filtered water systems will be assigned to one of the multiple regulatory “bins.”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Systems that fall into bins requiring higher treatment will be required to implement new treatment and management strategies – potentially significant capital expenditures.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000"/>
                </a:solidFill>
                <a:latin typeface="Arial"/>
                <a:ea typeface="Times New Roman"/>
              </a:rPr>
              <a:t>Potential Impacts on Clean Water Organizations – LT2 Rule</a:t>
            </a:r>
            <a:r>
              <a:rPr b="0" lang="en-US" sz="36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Increased information and potential capital expenditures may push for increased removal at the wastewater treatment facility.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Increased information may have impacts on </a:t>
            </a:r>
            <a:r>
              <a:rPr b="0" i="1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Cryptosporidium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 water quality criteria being developed under CWA.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000"/>
                </a:solidFill>
                <a:latin typeface="Arial"/>
                <a:ea typeface="Times New Roman"/>
              </a:rPr>
              <a:t>Stage 2 Disinfection Byproducts Rule– DBP Rule</a:t>
            </a:r>
            <a:r>
              <a:rPr b="0" lang="en-US" sz="36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DBPs may form in drinking water when disinfectants interact with naturally occurring materials; potentially associated with increased cancer, reproductive and other human health risks.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1979 – Total Trihalomethane Rule – interim MCL of 0.10 mg/L as annual average; applied to any community water system &gt; 10,000 people.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1998 – Stage 1 DBP – mandated enhanced coagulation to remove natural organic materials from systems and also set MCL for certain DBPs based on system-wide running annual averages.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2189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000"/>
                </a:solidFill>
                <a:latin typeface="Arial"/>
                <a:ea typeface="Times New Roman"/>
              </a:rPr>
              <a:t>Stage 2 Disinfection Byproducts Rule– DBP Rule</a:t>
            </a: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2006 – Stage 2 DBP – Requires PWS to identify locations within distribution system likely to have highest DBP concentration.  Locations then used as sampling sites for compliance monitoring; compliance calculated for each monitoring location.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Clean water organizations facing own unique challenges for protecting public from DBPs, prompting need for increased collaboration with drinking water agencies.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000"/>
                </a:solidFill>
                <a:latin typeface="Arial"/>
                <a:ea typeface="Times New Roman"/>
              </a:rPr>
              <a:t>Current Controversies and Emerging Issues</a:t>
            </a:r>
            <a:r>
              <a:rPr b="0" lang="en-US" sz="36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000"/>
                </a:solidFill>
                <a:latin typeface="Arial"/>
                <a:ea typeface="Times New Roman"/>
              </a:rPr>
              <a:t>Conflicts over Cryptosporidium Treatment Responsibilities – City of Cincinnati v. Sanitation District No. 1 of Northeastern Kentucky.</a:t>
            </a:r>
            <a:r>
              <a:rPr b="0" lang="en-US" sz="24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f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000"/>
                </a:solidFill>
                <a:latin typeface="Arial"/>
                <a:ea typeface="Times New Roman"/>
              </a:rPr>
              <a:t>Blending and Potential Impacts on Drinking Water.</a:t>
            </a:r>
            <a:r>
              <a:rPr b="0" lang="en-US" sz="24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f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000"/>
                </a:solidFill>
                <a:latin typeface="Arial"/>
                <a:ea typeface="Times New Roman"/>
              </a:rPr>
              <a:t>Pharmaceuticals, Personal Care Products and other Emerging Pollutants.</a:t>
            </a:r>
            <a:r>
              <a:rPr b="0" lang="en-US" sz="24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f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000"/>
                </a:solidFill>
                <a:latin typeface="Arial"/>
                <a:ea typeface="Times New Roman"/>
              </a:rPr>
              <a:t>Effluent Limitation Guidelines for Drinking Water Facilities</a:t>
            </a:r>
            <a:r>
              <a:rPr b="0" lang="en-US" sz="24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f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000"/>
                </a:solidFill>
                <a:latin typeface="Arial"/>
                <a:ea typeface="Times New Roman"/>
              </a:rPr>
              <a:t>Reclaimed Water.</a:t>
            </a:r>
            <a:r>
              <a:rPr b="0" lang="en-US" sz="24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000"/>
                </a:solidFill>
                <a:latin typeface="Arial"/>
                <a:ea typeface="Times New Roman"/>
              </a:rPr>
              <a:t>These changes create an opportunity for conflict.</a:t>
            </a: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0000"/>
                </a:solidFill>
                <a:latin typeface="Arial"/>
                <a:ea typeface="Times New Roman"/>
              </a:rPr>
              <a:t>Yet…</a:t>
            </a: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000"/>
                </a:solidFill>
                <a:latin typeface="Arial"/>
                <a:ea typeface="Times New Roman"/>
              </a:rPr>
              <a:t>These changes present unique opportunities for collaboration and cooperation between clean water organizations, drinking water organizations and state and federal regulatory agencies.</a:t>
            </a:r>
            <a:r>
              <a:rPr b="0" lang="en-US" sz="28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0000"/>
                </a:solidFill>
                <a:latin typeface="Arial"/>
                <a:ea typeface="Times New Roman"/>
              </a:rPr>
              <a:t>We want to stay away from this:</a:t>
            </a: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6696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6696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bd08125_" descr=""/>
          <p:cNvPicPr/>
          <p:nvPr/>
        </p:nvPicPr>
        <p:blipFill>
          <a:blip r:embed="rId1"/>
          <a:stretch/>
        </p:blipFill>
        <p:spPr>
          <a:xfrm>
            <a:off x="2590920" y="2546280"/>
            <a:ext cx="38098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000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22856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Safe Drinking Water Act: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 to protect the nation’s drinking water from harmful biological and chemical contaminants.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Safe Drinking Water at the Tap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</p:txBody>
      </p:sp>
      <p:pic>
        <p:nvPicPr>
          <p:cNvPr id="95" name="j0404353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21985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0000"/>
                </a:solidFill>
                <a:latin typeface="Arial"/>
              </a:rPr>
              <a:t>…</a:t>
            </a:r>
            <a:r>
              <a:rPr b="1" lang="en-US" sz="3600" spc="-1" strike="noStrike">
                <a:solidFill>
                  <a:srgbClr val="7f0000"/>
                </a:solidFill>
                <a:latin typeface="Arial"/>
              </a:rPr>
              <a:t>and create more of this:</a:t>
            </a: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52840" y="20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j0295860" descr=""/>
          <p:cNvPicPr/>
          <p:nvPr/>
        </p:nvPicPr>
        <p:blipFill>
          <a:blip r:embed="rId1"/>
          <a:stretch/>
        </p:blipFill>
        <p:spPr>
          <a:xfrm>
            <a:off x="3124080" y="2362320"/>
            <a:ext cx="28195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000"/>
                </a:solidFill>
                <a:latin typeface="Arial"/>
              </a:rPr>
              <a:t>Crossing Paths</a:t>
            </a: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Increasing Demands on Surface Waters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Increasing Quantities of Wastewater Discharges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New Pollutants are Emerging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Overlaps of Clean Water Act and Safe Drinking Water Act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1280" y="18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000"/>
                </a:solidFill>
                <a:latin typeface="Arial"/>
              </a:rPr>
              <a:t>Increased Opportunities for Cooperation and Collaboration!</a:t>
            </a: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668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j0234118" descr=""/>
          <p:cNvPicPr/>
          <p:nvPr/>
        </p:nvPicPr>
        <p:blipFill>
          <a:blip r:embed="rId1"/>
          <a:stretch/>
        </p:blipFill>
        <p:spPr>
          <a:xfrm>
            <a:off x="2743200" y="3200400"/>
            <a:ext cx="419112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000"/>
                </a:solidFill>
                <a:latin typeface="Arial"/>
              </a:rPr>
              <a:t>Safe Drinking Water Act 101</a:t>
            </a: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Enacted in 1974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Applies to Public Water Systems (“PWS”)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7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Either publicly or privately owned.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7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Provides water for human consumption.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7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Has at least 15 service connections </a:t>
            </a:r>
            <a:r>
              <a:rPr b="0" lang="en-US" sz="2300" spc="-1" strike="noStrike" u="sng">
                <a:solidFill>
                  <a:srgbClr val="7f0000"/>
                </a:solidFill>
                <a:uFillTx/>
                <a:latin typeface="Arial"/>
                <a:ea typeface="Times New Roman"/>
              </a:rPr>
              <a:t>or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7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Serves at least 25 individuals at least 60 days/year.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000"/>
                </a:solidFill>
                <a:latin typeface="Arial"/>
              </a:rPr>
              <a:t>Safe Drinking Water Act 101</a:t>
            </a: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National Primary Drinking Water Standards:  Requires compliance with Maximum Contaminant Limits (“MCLs”) or treatment techniques; federally enforceable.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EPA first establishes a Maximum Contaminant Limit Goal (“MCLG”) – level at which no adverse health effect from exposure to contaminant expected.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MCL must be set as close as feasible to the MCLG.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Treatment techniques  – utilized when not economically or technically feasible to set an MCL.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National Secondary Drinking Water Standards – Address aesthetic concerns such as taste, color and odor; not federally enforceable.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000"/>
                </a:solidFill>
                <a:latin typeface="Arial"/>
              </a:rPr>
              <a:t>1986 SDWA Amendments</a:t>
            </a: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Issue MCLGs and MCLs for 83 contaminants within three years and an additional 25 new contaminants every three years thereafter.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Surface Water Treatment Rule – Required all PWSs using surface water to disinfect.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Total Coliform Rule – Enacted to prevent microbial contamination within a distribution system. 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000"/>
                </a:solidFill>
                <a:latin typeface="Arial"/>
              </a:rPr>
              <a:t>1996 SDWA Amendments</a:t>
            </a: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Four themes that characterize the 1996 Amendments: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990720" indent="-533520">
              <a:spcBef>
                <a:spcPts val="575"/>
              </a:spcBef>
              <a:buClr>
                <a:srgbClr val="7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New and stronger approaches to prevent contamination of drinking water;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990720" indent="-533520">
              <a:spcBef>
                <a:spcPts val="575"/>
              </a:spcBef>
              <a:buClr>
                <a:srgbClr val="7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Better information for consumers;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990720" indent="-533520">
              <a:spcBef>
                <a:spcPts val="575"/>
              </a:spcBef>
              <a:buClr>
                <a:srgbClr val="7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Regulatory improvements (including better science, prioritization of effort and risk assessment); and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990720" indent="-533520">
              <a:spcBef>
                <a:spcPts val="575"/>
              </a:spcBef>
              <a:buClr>
                <a:srgbClr val="7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New funding for states and communities through Drinking Water State Revolving Program.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99072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16:38:27Z</dcterms:created>
  <dc:creator> </dc:creator>
  <dc:description/>
  <dc:language>en-US</dc:language>
  <cp:lastModifiedBy>KS User</cp:lastModifiedBy>
  <dcterms:modified xsi:type="dcterms:W3CDTF">2006-06-29T15:37:52Z</dcterms:modified>
  <cp:revision>31</cp:revision>
  <dc:subject/>
  <dc:title> </dc:title>
</cp:coreProperties>
</file>