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1899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3123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676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1899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76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123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76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62200" y="0"/>
            <a:ext cx="6481800" cy="1066680"/>
          </a:xfrm>
          <a:prstGeom prst="rect">
            <a:avLst/>
          </a:prstGeom>
          <a:solidFill>
            <a:srgbClr val="7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3" marL="1311840" indent="-187200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4" marL="1686960" indent="-187200">
              <a:spcBef>
                <a:spcPts val="700"/>
              </a:spcBef>
              <a:buClr>
                <a:srgbClr val="7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5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6" marL="1686960" indent="-1872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24840" y="2263680"/>
            <a:ext cx="101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0"/>
            <a:ext cx="4952880" cy="2438280"/>
          </a:xfrm>
          <a:prstGeom prst="rect">
            <a:avLst/>
          </a:prstGeom>
          <a:solidFill>
            <a:srgbClr val="f3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428640"/>
            <a:ext cx="7772400" cy="114300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968960" y="2459160"/>
            <a:ext cx="1174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243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7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7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7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123720"/>
            <a:ext cx="7772400" cy="114300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SECTION OF THE CLEAN WATER AC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FE DRINKING WATER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400" y="4572000"/>
            <a:ext cx="6400800" cy="1752480"/>
          </a:xfrm>
          <a:prstGeom prst="rect">
            <a:avLst/>
          </a:prstGeom>
          <a:solidFill>
            <a:srgbClr val="004a68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usan H. Richard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Kilpatrick Stockton, L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100 Peachtree Street, Suite 2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tlanta, GA  303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04-815-6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urichardson@kilpatrickstockto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ED64F-7B5A-4489-889E-D9E05A0806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he 1996 Safe Drinking Water Amendments establish a strong new emphasis on preventing contamination problems through source water protection and enhanced water system management.  That emphasis transforms the previous law, with its largely after-the-fact regulatory focus, into a truly environmental statute that can better provide for the sustainable use of water by our nation’s public water systems and their custom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1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.S. Environmental Protection Agency, 1996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96 SDWA Amendments – 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ew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ource Water Assessment Program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Monitoring Program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Candidate List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nregulated Contaminant Monitoring Regulation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Contaminant Occurrence Database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icrobial Contamination Program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Enhanced Surface Water Treatment Rule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ource Water Assessment Program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tes required to conduct a surface water assessment program to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elineate the boundaries of areas providing source water for public water system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dentify origins of regulated and unregulated contaminants in delineated area to determine susceptibility of PWS to contaminants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quired to be completed by 2003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Once completed, results to be made public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ource Water Assessment Program: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Potential Impacts on Clean Water Organization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February 8, 2003 Memorandum to EPA Regional Administrations – source water as a top priority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PA has indicated that the Source Water Assessments should be used in conjunction with CWA programs such as TMDLs and NPDES permitting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otential increased scrutiny on wastewater sources that discharge in vicinity of drinking water source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6 Amendments revamped requirements for establishing MCLs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liminated requirement for regulating 25 new contaminants every three year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stablished requirements for standards to be risk-based, focusing on highest priority chemical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288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rting in 1991, EPA to implement a cyclical process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view of five contaminants every five years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etermine whether to regulate based on three criteria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taminant adversely affects human health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Known or substantially likely to occur in PWSs with a frequency and at levels of public health concern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2" marL="140256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gulation of contaminant presents meaningful opportunity for health risk reduc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-5428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f EPA determines to regulate, then EPA has two years to establish MCLG and MCL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7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Candidate Lis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dentifies contaminants not subject to treatment standards but known or anticipated to occur in PWSs and may require regula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hree categories: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additional research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additional occurrence data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iorities for consideration for rulemaking.</a:t>
            </a: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Candidate List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8 CCL – 50 chemical and 10 microbial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005 CCL – 42 chemical and 9 microbial contaminant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xt CCL – Draft in Winter 2006; final in early 2008; may include pharmaceuticals and personal care product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Unregulated Contaminant Monitoring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o develop “occurrence data” for the CCL, PWSs required to monitor water supplies for unregulated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very five years, EPA required to establish list of contaminants and monitoring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ata is utilized in evaluating contaminant’s occurrence in drinking water and potential population exposed to each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ational Contaminant Occurrence Database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ores data on the occurrence of both regulated and unregulated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Utilized by EPA to make occurrence determinations on whether or not to regulate a contaminant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ay also be useful for state tailoring of system monitoring and source water protection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ust be available to the public in readily accessible for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lean Water Act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to restore and maintain the chemical, physical and biological integrity of the nation’s wat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Fishable and Swimmable Water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671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356730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730160" cy="1568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57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7668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8592_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17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ontaminant Monitoring Program:</a:t>
            </a:r>
            <a:br>
              <a:rPr sz="3600"/>
            </a:b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Potential Impact on Clean Water Organization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information is being developed on a large body of contaminants, including some that are subject to water quality criteria or sampling requirements under the CWA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mbination of occurrence information and information from Source Water Assessment Program may influence effluent limitations and other permitting requirements under TMDL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Microbial Contamination Program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419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Greatest area for overlap for wastewater and water utilit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Historically – CWA and SDWA use differing indicators of contamination and different treatment approach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oncerns about future increases in microbial contamination prompts need for more unified approach to addressing microbial contamination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42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n01865_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811520" cy="213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767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y01069_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1808280" cy="2048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72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j0333246" descr=""/>
          <p:cNvPicPr/>
          <p:nvPr/>
        </p:nvPicPr>
        <p:blipFill>
          <a:blip r:embed="rId3"/>
          <a:stretch/>
        </p:blipFill>
        <p:spPr>
          <a:xfrm>
            <a:off x="7086600" y="2590920"/>
            <a:ext cx="142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New Rules Aimed At Microbial Contamination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January 2006 – EPA finalizes two rules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2 Enhanced Surface Water Treatment Rule – aimed at reducing risk of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from entering water suppl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 – Requires water systems to limit the amount of disinfection byproducts in drinking water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Long Term 2 Enhanced Surface Water Treatment Rule – LT2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are resistant to chlorination and may appear in highest quality source waters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.  Monitoring Phase – requires PWS to conduct two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years of monthly sampling for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.  Treatment Phase – Based on results of monitoring phase, filtered water systems will be assigned to one of the multiple regulatory “bins.”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ystems that fall into bins requiring higher treatment will be required to implement new treatment and management strategies – potentially significant capital expenditures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Potential Impacts on Clean Water Organizations – LT2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ed information and potential capital expenditures may push for increased removal at the wastewater treatment facility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ed information may have impacts on </a:t>
            </a:r>
            <a:r>
              <a:rPr b="0" i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ryptosporidium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water quality criteria being developed under CWA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– DBP Rule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DBPs may form in drinking water when disinfectants interact with naturally occurring materials; potentially associated with increased cancer, reproductive and other human health risk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79 – Total Trihalomethane Rule – interim MCL of 0.10 mg/L as annual average; applied to any community water system &gt; 10,000 people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1998 – Stage 1 DBP – mandated enhanced coagulation to remove natural organic materials from systems and also set MCL for certain DBPs based on system-wide running annual averag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Stage 2 Disinfection Byproducts Rule– DBP Rule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2006 – Stage 2 DBP – Requires PWS to identify locations within distribution system likely to have highest DBP concentration.  Locations then used as sampling sites for compliance monitoring; compliance calculated for each monitoring location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Clean water organizations facing own unique challenges for protecting public from DBPs, prompting need for increased collaboration with drinking water agencie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Current Controversies and Emerging Issues</a:t>
            </a: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Conflicts over Cryptosporidium Treatment Responsibilities – City of Cincinnati v. Sanitation District No. 1 of Northeastern Kentucky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Blending and Potential Impacts on Drinking Water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Pharmaceuticals, Personal Care Products and other Emerging Pollutants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Effluent Limitation Guidelines for Drinking Water Facilities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00"/>
                </a:solidFill>
                <a:latin typeface="Arial"/>
                <a:ea typeface="Times New Roman"/>
              </a:rPr>
              <a:t>Reclaimed Water.</a:t>
            </a:r>
            <a:r>
              <a:rPr b="0" lang="en-US" sz="24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These changes create an opportunity for conflict.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Yet…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000"/>
                </a:solidFill>
                <a:latin typeface="Arial"/>
                <a:ea typeface="Times New Roman"/>
              </a:rPr>
              <a:t>These changes present unique opportunities for collaboration and cooperation between clean water organizations, drinking water organizations and state and federal regulatory agencies.</a:t>
            </a:r>
            <a:r>
              <a:rPr b="0" lang="en-US" sz="28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00"/>
                </a:solidFill>
                <a:latin typeface="Arial"/>
                <a:ea typeface="Times New Roman"/>
              </a:rPr>
              <a:t>We want to stay away from this: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66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6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d08125_" descr=""/>
          <p:cNvPicPr/>
          <p:nvPr/>
        </p:nvPicPr>
        <p:blipFill>
          <a:blip r:embed="rId1"/>
          <a:stretch/>
        </p:blipFill>
        <p:spPr>
          <a:xfrm>
            <a:off x="2590920" y="254628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afe Drinking Water Act: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to protect the nation’s drinking water from harmful biological and chemical contaminants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Safe Drinking Water at the Tap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  <p:pic>
        <p:nvPicPr>
          <p:cNvPr id="95" name="j0404353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198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7f0000"/>
                </a:solidFill>
                <a:latin typeface="Arial"/>
              </a:rPr>
              <a:t>and create more of this: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5284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j0295860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Crossing Path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ing Demands on Surface Water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ncreasing Quantities of Wastewater Discharges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Pollutants are Emerging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Overlaps of Clean Water Act and Safe Drinking Water Act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8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Increased Opportunities for Cooperation and Collaboration!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j0234118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4191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afe Drinking Water Act 101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nacted in 1974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Applies to Public Water Systems (“PWS”)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ither publicly or privately owned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Provides water for human consumption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Has at least 15 service connections </a:t>
            </a:r>
            <a:r>
              <a:rPr b="0" lang="en-US" sz="2300" spc="-1" strike="noStrike" u="sng">
                <a:solidFill>
                  <a:srgbClr val="7f0000"/>
                </a:solidFill>
                <a:uFillTx/>
                <a:latin typeface="Arial"/>
                <a:ea typeface="Times New Roman"/>
              </a:rPr>
              <a:t>or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7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erves at least 25 individuals at least 60 days/year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Safe Drinking Water Act 101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Primary Drinking Water Standards:  Requires compliance with Maximum Contaminant Limits (“MCLs”) or treatment techniques; federally enforceable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EPA first establishes a Maximum Contaminant Limit Goal (“MCLG”) – level at which no adverse health effect from exposure to contaminant expected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MCL must be set as close as feasible to the MCLG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reatment techniques  – utilized when not economically or technically feasible to set an MCL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ational Secondary Drinking Water Standards – Address aesthetic concerns such as taste, color and odor; not federally enforceable.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86 SDWA Amendment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Issue MCLGs and MCLs for 83 contaminants within three years and an additional 25 new contaminants every three years thereafter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Surface Water Treatment Rule – Required all PWSs using surface water to disinfect.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7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Total Coliform Rule – Enacted to prevent microbial contamination within a distribution system. 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000"/>
                </a:solidFill>
                <a:latin typeface="Arial"/>
              </a:rPr>
              <a:t>1996 SDWA Amendments</a:t>
            </a:r>
            <a:endParaRPr b="0" lang="en-US" sz="3600" spc="-1" strike="noStrike">
              <a:solidFill>
                <a:srgbClr val="7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Four themes that characterize the 1996 Amendments: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and stronger approaches to prevent contamination of drinking water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Better information for consumers;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Regulatory improvements (including better science, prioritization of effort and risk assessment); and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-533520">
              <a:spcBef>
                <a:spcPts val="575"/>
              </a:spcBef>
              <a:buClr>
                <a:srgbClr val="7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0000"/>
                </a:solidFill>
                <a:latin typeface="Arial"/>
                <a:ea typeface="Times New Roman"/>
              </a:rPr>
              <a:t>New funding for states and communities through Drinking Water State Revolving Program.</a:t>
            </a:r>
            <a:r>
              <a:rPr b="0" lang="en-US" sz="2300" spc="-1" strike="noStrike">
                <a:solidFill>
                  <a:srgbClr val="7f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6:38:27Z</dcterms:created>
  <dc:creator> </dc:creator>
  <dc:description/>
  <dc:language>en-US</dc:language>
  <cp:lastModifiedBy>KS User</cp:lastModifiedBy>
  <dcterms:modified xsi:type="dcterms:W3CDTF">2006-06-29T15:37:52Z</dcterms:modified>
  <cp:revision>31</cp:revision>
  <dc:subject/>
  <dc:title> </dc:title>
</cp:coreProperties>
</file>