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5.jpeg" ContentType="image/jpeg"/>
  <Override PartName="/ppt/media/image2.jpeg" ContentType="image/jpeg"/>
  <Override PartName="/ppt/media/image24.jpeg" ContentType="image/jpeg"/>
  <Override PartName="/ppt/media/image21.wmf" ContentType="image/x-wmf"/>
  <Override PartName="/ppt/media/image19.jpeg" ContentType="image/jpeg"/>
  <Override PartName="/ppt/media/image23.wmf" ContentType="image/x-wmf"/>
  <Override PartName="/ppt/media/image22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9B9BDA-23B4-4062-BD2B-060145D24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C76B5C-24F7-4910-9BA9-8673F55C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4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leave some helpful information on the screen as a la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DF3F64-36FC-43D8-AD88-CF61C441E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64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leave some helpful information on the screen as a la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220BFE-3AC1-4477-B9CE-608FF601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64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leave some helpful information on the screen as a la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148877D-3161-488E-99C9-5F0EF422F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4560" y="4390560"/>
            <a:ext cx="5140440" cy="423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nt coordination, add bullet and modify not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520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872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204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520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872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70A-E60F-4D2A-BD1E-4FF7DCC7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A70-D743-44F8-8FEA-3E92FA5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417-76FE-450C-9CE7-C5B58EB8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EC0-1828-4F9E-83E8-8F143FC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489-CFE0-4772-8DB5-3751C185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2040" y="1537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FD9-FF49-4D96-845D-EC243FC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955-FB45-4687-9DFA-7201D775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62E-3C10-4FB3-A357-ADCB101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9BD-F9FB-458D-9AE8-4B281E6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84E-D799-4A60-9750-1F8ECB6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D5F-CAD7-443D-B4A6-B964A776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9520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872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204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9520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872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E57-FF7D-434A-AFFC-BC7A95C2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2040" y="1537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90920" y="1447560"/>
            <a:ext cx="6013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6E1-38DF-4CED-8CA9-C2D15659B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DC WASA Lead Issues and SDWA Simultaneous Compliance</a:t>
            </a:r>
            <a:br>
              <a:rPr sz="3600"/>
            </a:b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198072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dade"/>
                </a:solidFill>
                <a:latin typeface="Arial Narrow"/>
              </a:rPr>
              <a:t>Engineering CHALLEN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dade"/>
                </a:solidFill>
                <a:latin typeface="Arial Narrow"/>
              </a:rPr>
              <a:t>Engineering SOLU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Steve Reiber, CH2M H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Rich Giani, DC W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July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2616480" cy="32004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62520" y="5410080"/>
            <a:ext cx="44193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Background:</a:t>
            </a:r>
            <a:br>
              <a:rPr sz="3600"/>
            </a:b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How Lead Gets into Drinking Water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665360"/>
          <a:ext cx="914400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5360"/>
                    <a:ext cx="914400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8080" y="60958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92e"/>
                </a:solidFill>
                <a:latin typeface="Comic Sans MS"/>
              </a:rPr>
              <a:t>The Washington Aqueduct and WASA are responsible for making sure that the water meets federal standar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10480" y="6629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27E-4A71-4C17-812F-DE57B141C6D2}" type="slidenum">
              <a:rPr b="0" lang="en-US" sz="900" spc="-1" strike="noStrike">
                <a:solidFill>
                  <a:srgbClr val="00284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360" t="0" r="2040" b="0"/>
          <a:stretch/>
        </p:blipFill>
        <p:spPr>
          <a:xfrm>
            <a:off x="371520" y="1523880"/>
            <a:ext cx="6273720" cy="4403880"/>
          </a:xfrm>
          <a:prstGeom prst="rect">
            <a:avLst/>
          </a:prstGeom>
          <a:ln w="9360">
            <a:solidFill>
              <a:srgbClr val="002844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28760" y="228600"/>
            <a:ext cx="74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Identify optimal corrosion control strategie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rcRect l="7500" t="10574" r="0" b="6187"/>
          <a:stretch/>
        </p:blipFill>
        <p:spPr>
          <a:xfrm>
            <a:off x="6264360" y="3981600"/>
            <a:ext cx="2498760" cy="2800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7010280" y="3048120"/>
            <a:ext cx="1676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dade"/>
                </a:solidFill>
                <a:latin typeface="Arial Narrow"/>
              </a:rPr>
              <a:t>Multiple and redundant</a:t>
            </a:r>
            <a:br>
              <a:rPr sz="1800"/>
            </a:br>
            <a:r>
              <a:rPr b="1" lang="en-US" sz="1800" spc="-1" strike="noStrike">
                <a:solidFill>
                  <a:srgbClr val="d0dade"/>
                </a:solidFill>
                <a:latin typeface="Arial Narrow"/>
              </a:rPr>
              <a:t> control 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6019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ade"/>
                </a:solidFill>
                <a:latin typeface="Arial Narrow"/>
              </a:rPr>
              <a:t>DC WASA is a consecutive syst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4D9-75DF-46E3-84BA-7AE2E0A6F89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0880" y="469800"/>
            <a:ext cx="4707000" cy="173988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Implement and monitor mitigation strategy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791320" y="76320"/>
            <a:ext cx="3290760" cy="5105160"/>
          </a:xfrm>
          <a:prstGeom prst="rect">
            <a:avLst/>
          </a:prstGeom>
          <a:ln w="9360">
            <a:solidFill>
              <a:srgbClr val="d0dade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6320" y="3124080"/>
            <a:ext cx="6553080" cy="3686400"/>
          </a:xfrm>
          <a:prstGeom prst="rect">
            <a:avLst/>
          </a:prstGeom>
          <a:ln w="9360">
            <a:solidFill>
              <a:srgbClr val="fadea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2133720" y="23018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dade"/>
                </a:solidFill>
                <a:latin typeface="Arial Narrow"/>
              </a:rPr>
              <a:t>Requires an exceptional level of customer particip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DBC-9285-439E-86ED-963329CFF31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9480" y="3492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Maintain distributed water quality during implementation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2009880"/>
            <a:ext cx="266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Three separate full-time flushing crews operating in the Distr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0" t="0" r="11972" b="0"/>
          <a:stretch/>
        </p:blipFill>
        <p:spPr>
          <a:xfrm>
            <a:off x="4724280" y="1676520"/>
            <a:ext cx="3409920" cy="5029200"/>
          </a:xfrm>
          <a:prstGeom prst="rect">
            <a:avLst/>
          </a:prstGeom>
          <a:ln w="25560">
            <a:solidFill>
              <a:srgbClr val="002844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066680" y="4191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dade"/>
                </a:solidFill>
                <a:latin typeface="Arial Narrow"/>
              </a:rPr>
              <a:t>Extensive coliform, HPC, turbidity and aesthetic water quality monito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C5B3-40EC-4584-B912-18167B107C6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0492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Identify potential Impacts to wastewater collection and treatment system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953240" cy="288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57600" y="3638520"/>
            <a:ext cx="5334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Corrosion inhibitor impact on WWTP nit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Discharge limitation for phosph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Biosolids metals accu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9565-BBAD-4CEA-A491-420CD0203AC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181480" y="339840"/>
            <a:ext cx="4038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000" spc="-1" strike="noStrike">
                <a:solidFill>
                  <a:srgbClr val="fadea0"/>
                </a:solidFill>
                <a:latin typeface="Arial Narrow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adea0"/>
                </a:solidFill>
                <a:latin typeface="Arial Narrow"/>
              </a:rPr>
              <a:t>Assessment of on-going Lead Service Line replacement program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429000" y="3514680"/>
            <a:ext cx="548640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3009" t="5218" r="12036" b="1305"/>
          <a:stretch/>
        </p:blipFill>
        <p:spPr>
          <a:xfrm>
            <a:off x="152280" y="152280"/>
            <a:ext cx="4876920" cy="4125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81480" y="2209680"/>
            <a:ext cx="3505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homeowner co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partial re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267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An abundance of LSLs (&gt;28,000) exist in the Distri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6400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C468-EE1F-4310-AFE1-DC00F3B4912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6840" y="334800"/>
            <a:ext cx="74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On-going simultaneous compliance management / research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752480"/>
            <a:ext cx="5257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Microbi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Total Coliform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Nit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Disinfection By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THM / HAA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Enhanced coa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NOM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Corrosio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L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Re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9012-6E1F-4BE3-80D0-898C681760A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The solutions to these challenges proceeded on a broad front.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E756-6B4C-40C0-A9D7-075A0D8B9D3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2500" t="0" r="10000" b="0"/>
          <a:stretch/>
        </p:blipFill>
        <p:spPr>
          <a:xfrm>
            <a:off x="5062680" y="2062080"/>
            <a:ext cx="3776400" cy="31831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7746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Solution: The Technical Expert Working Group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699156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7352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Formed in early 20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7352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ooperative effort among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DC WA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Washington Aquedu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EP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DC Department of Healt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D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Arlington County DP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Falls Church D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outside consulta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7352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harg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oordinate ongoing research effor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Develop a strategy to reduce lead in drinking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6661-2CFD-44E3-A2E2-C27B0E0904D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8487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Solution: redundant pilot and bench-scale studies all identify orthophosphate as an effective LSL passivating agent.</a:t>
            </a:r>
            <a:endParaRPr b="1" lang="en-US" sz="28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ade"/>
                </a:solidFill>
                <a:latin typeface="Arial Narrow"/>
              </a:rPr>
              <a:t>Orthophosphate reduced lead leaching in three separate loop studies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1054" t="0" r="0" b="0"/>
          <a:stretch/>
        </p:blipFill>
        <p:spPr>
          <a:xfrm>
            <a:off x="609480" y="2514600"/>
            <a:ext cx="7917120" cy="419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267080" y="320040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10 mg/L Orthophosph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819520"/>
            <a:ext cx="838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No trea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3124080"/>
            <a:ext cx="2286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E53-362B-43D2-8657-96918FD794B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Purpose of this Presentation: 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705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to define the complexity of the problem and recognize the engineering research that identified a compatible system-wide mitigation strategy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03D1-B359-4EE0-95ED-C4A355F4FE5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6000"/>
            <a:ext cx="762012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Solution: Orthophosphate Treatment Implementation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71680" y="2666880"/>
            <a:ext cx="6605640" cy="3219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03360" y="5943600"/>
            <a:ext cx="626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dade"/>
                </a:solidFill>
                <a:latin typeface="Arial"/>
              </a:rPr>
              <a:t>Provided by Rich Giani, DC W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1295280"/>
            <a:ext cx="7431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Over 7 months, 90</a:t>
            </a:r>
            <a:r>
              <a:rPr b="1" lang="en-US" sz="2400" spc="-1" strike="noStrike" baseline="30000">
                <a:solidFill>
                  <a:srgbClr val="d0dade"/>
                </a:solidFill>
                <a:latin typeface="Arial Narrow"/>
              </a:rPr>
              <a:t>th</a:t>
            </a: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 percentile lead levels decreased</a:t>
            </a:r>
            <a:br>
              <a:rPr sz="2400"/>
            </a:b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from over 100 ppb to under 15 pp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Partial system test followed by full-scale impleme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352680"/>
            <a:ext cx="1676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844"/>
                </a:solidFill>
                <a:latin typeface="Arial Narrow"/>
              </a:rPr>
              <a:t>Phosphate ad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714920"/>
            <a:ext cx="1295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844"/>
                </a:solidFill>
                <a:latin typeface="Arial Narrow"/>
              </a:rPr>
              <a:t>Action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3A9-00A8-4B86-90CC-3FCE6A05054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Solution: Extensive system monitoring – including household lead profiles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5944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Suspected that lead in water was coming from lead service lines, but could be coming from leaded brass fixtures, lead solder, etc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WASA conducted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Lead Profiling</a:t>
            </a: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 of homes with lead service lines, going well beyond any EPA requiremen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5B0A-EB16-425F-AFB7-CA4E81FA351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dea0"/>
                </a:solidFill>
                <a:latin typeface="Arial Narrow"/>
              </a:rPr>
              <a:t>Typical DC WASA residential lead profile following implementation of the orthophosphate inhibitor program</a:t>
            </a:r>
            <a:endParaRPr b="1" lang="en-US" sz="3000" spc="-1" strike="noStrike">
              <a:solidFill>
                <a:srgbClr val="f5bb3c"/>
              </a:solidFill>
              <a:latin typeface="Arial Narrow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12359" r="6323" b="4634"/>
          <a:stretch/>
        </p:blipFill>
        <p:spPr>
          <a:xfrm>
            <a:off x="581040" y="1681200"/>
            <a:ext cx="8029440" cy="4871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01E2-1F74-43B2-AF7C-0A6A6D5E5FE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3308400"/>
            <a:ext cx="5562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0760" y="2687760"/>
            <a:ext cx="541080" cy="3348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29528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Solution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: Improved understanding of lead chemistry and mineralogy helps explain the success of the mitigation program.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429000"/>
            <a:ext cx="259092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Findings:  Although Pb(II) compounds were thought to be controlling, the scale in the DC WASA system was a mix of both Pb(II) and Pb(IV) s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84680" y="3276720"/>
            <a:ext cx="4825800" cy="3034440"/>
            <a:chOff x="3784680" y="3276720"/>
            <a:chExt cx="4825800" cy="3034440"/>
          </a:xfrm>
        </p:grpSpPr>
        <p:grpSp>
          <p:nvGrpSpPr>
            <p:cNvPr id="258" name=""/>
            <p:cNvGrpSpPr/>
            <p:nvPr/>
          </p:nvGrpSpPr>
          <p:grpSpPr>
            <a:xfrm>
              <a:off x="5003640" y="3568680"/>
              <a:ext cx="3606840" cy="2742480"/>
              <a:chOff x="5003640" y="3568680"/>
              <a:chExt cx="3606840" cy="274248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"/>
              <a:srcRect l="1429" t="0" r="1429" b="0"/>
              <a:stretch/>
            </p:blipFill>
            <p:spPr>
              <a:xfrm>
                <a:off x="5118120" y="3706560"/>
                <a:ext cx="3492360" cy="2604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"/>
              <p:cNvGrpSpPr/>
              <p:nvPr/>
            </p:nvGrpSpPr>
            <p:grpSpPr>
              <a:xfrm>
                <a:off x="5003640" y="5283000"/>
                <a:ext cx="2629080" cy="113760"/>
                <a:chOff x="5003640" y="5283000"/>
                <a:chExt cx="2629080" cy="113760"/>
              </a:xfrm>
            </p:grpSpPr>
            <p:sp>
              <p:nvSpPr>
                <p:cNvPr id="261" name=""/>
                <p:cNvSpPr/>
                <p:nvPr/>
              </p:nvSpPr>
              <p:spPr>
                <a:xfrm flipV="1">
                  <a:off x="5003640" y="5283000"/>
                  <a:ext cx="137160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003640" y="5396760"/>
                  <a:ext cx="262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003640" y="4140000"/>
                <a:ext cx="2743200" cy="456840"/>
                <a:chOff x="5003640" y="4140000"/>
                <a:chExt cx="2743200" cy="45684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5003640" y="4140000"/>
                  <a:ext cx="13716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003640" y="4253760"/>
                  <a:ext cx="17143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003640" y="4368240"/>
                  <a:ext cx="27432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803560" y="3568680"/>
                <a:ext cx="2400480" cy="1142640"/>
                <a:chOff x="5803560" y="3568680"/>
                <a:chExt cx="2400480" cy="114264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7404120" y="3568680"/>
                  <a:ext cx="34272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46840" y="3568680"/>
                  <a:ext cx="457200" cy="11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5803560" y="3568680"/>
                  <a:ext cx="1942920" cy="9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"/>
            <p:cNvSpPr/>
            <p:nvPr/>
          </p:nvSpPr>
          <p:spPr>
            <a:xfrm>
              <a:off x="7061040" y="32767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44"/>
                  </a:solidFill>
                  <a:latin typeface="Arial Narrow"/>
                </a:rPr>
                <a:t>Hydrocerus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84680" y="5213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44"/>
                  </a:solidFill>
                  <a:latin typeface="Arial Narrow"/>
                </a:rPr>
                <a:t>PbO Massico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84680" y="4178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44"/>
                  </a:solidFill>
                  <a:latin typeface="Arial Narrow"/>
                </a:rPr>
                <a:t>PbO Lithar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81280" y="457200"/>
            <a:ext cx="55627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2030" t="0" r="4061" b="0"/>
          <a:stretch/>
        </p:blipFill>
        <p:spPr>
          <a:xfrm>
            <a:off x="3621240" y="609480"/>
            <a:ext cx="5367240" cy="2319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EB6-C88E-4A0D-934B-F9B765006E7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Solution: The most extensive service-line replacement program ever conducted 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295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More than 2000 replacements per year at a cost exceeding $8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0" r="0" b="2570"/>
          <a:stretch/>
        </p:blipFill>
        <p:spPr>
          <a:xfrm>
            <a:off x="1066680" y="1905120"/>
            <a:ext cx="7131240" cy="4724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0"/>
            <a:ext cx="7315200" cy="70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E04-A7E8-42A1-ACDF-1A958707025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0088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Lessons Learned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14440" y="1371600"/>
            <a:ext cx="7424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Conventional LCR monitoring may not be adequate to define all metal release scenarios.  Nonetheless, it remains a viable and useful corrosion-control tool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The chemistry of lead solubility, oxidation and mobility is more complicated than previously understood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The lead issues are tractable – phosphates are highly effective at passivating LSL surfaces in a chloraminated environmen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D3C-665D-4E98-B089-82B2CB4B42A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Lessons Learned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23276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Distribution system re-equilibration is always an issu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Lead release dynamics can be accurately assessed at the laboratory scale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Microbial regrowth in the distribution system is a manageable concern – even in the presence of the orthophosphate inhibitor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B1D-1F5A-42EB-9056-A9ABBA37302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Lessons Learned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67010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pH control and/or calcite deposition, as corrosion-control strategies, are not sufficiently rigorous for LSL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Issues associated with partial LSL replacement are manageabl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89C-5684-4234-BDC0-7E861A3E336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3654720" cy="27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10880"/>
            <a:ext cx="4967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Continuing Research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Continuing studies using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recirculation pipe loops</a:t>
            </a: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038480"/>
            <a:ext cx="52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New studies to evaluate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Impact of galvanic corrosion on lead rel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pH management strate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Comparison of orthophosphate and zinc orthophosph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NOM eff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819520"/>
            <a:ext cx="3124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Additional LSL scale work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using X-ray diffraction,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Raman-Spectroscop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9051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New flow-through pipe loop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studies to refine treatm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81A-DF12-473D-B9E1-EF6F3045E87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5067360" cy="900000"/>
          </a:xfrm>
          <a:prstGeom prst="rect">
            <a:avLst/>
          </a:prstGeom>
          <a:noFill/>
          <a:ln w="0">
            <a:noFill/>
          </a:ln>
        </p:spPr>
        <p:txBody>
          <a:bodyPr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Acknowledgments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25905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Laura Dufresne, The CADMUS Grou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Greg Kirmeyer, HDR Engineer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John Wujek, Hatch Mott MacDonal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John Civardi, Hatch Mott MacDonal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Gregory Korshin, University of Washingt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Mike Schock, EPA Office of Research and</a:t>
            </a:r>
            <a:br>
              <a:rPr sz="2400"/>
            </a:b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 Develop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447920"/>
            <a:ext cx="6705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This paper was prepared with substantial contributions fr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FCA6-DD56-4B59-99B4-9C252D612A2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The DC Lead experience has helped change corrosion science (as regards distribution systems) in several meaningful ways: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666880"/>
            <a:ext cx="62481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Issues of magnitud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Interactions of materia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Questions of measure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Corrosion Ind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Redox stability of corrosion sca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C5D-CE2A-40AD-AD9A-0A52EFFF5E4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9920" y="533520"/>
            <a:ext cx="286992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The District of Columbia Water and Sewer Authority (DC WASA) is just one entity in a consecutive system supplied treated water from the Potomac by the U.S. Army Corps of Engineers (Aqueduct Authorit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F4D-77B8-40E8-8ADC-2BC0EC883FC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To ensure compliance with Stage II of the DBP Rule, the Aqueduct converted to chloramination (2001).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1828800"/>
            <a:ext cx="9144000" cy="3276360"/>
            <a:chOff x="0" y="1828800"/>
            <a:chExt cx="9144000" cy="3276360"/>
          </a:xfrm>
        </p:grpSpPr>
        <p:grpSp>
          <p:nvGrpSpPr>
            <p:cNvPr id="109" name=""/>
            <p:cNvGrpSpPr/>
            <p:nvPr/>
          </p:nvGrpSpPr>
          <p:grpSpPr>
            <a:xfrm>
              <a:off x="0" y="1828800"/>
              <a:ext cx="9144000" cy="3276360"/>
              <a:chOff x="0" y="1828800"/>
              <a:chExt cx="9144000" cy="327636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1828800"/>
                <a:ext cx="9144000" cy="3276360"/>
              </a:xfrm>
              <a:prstGeom prst="rect">
                <a:avLst/>
              </a:prstGeom>
              <a:solidFill>
                <a:srgbClr val="fad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1066680" y="1981080"/>
                <a:ext cx="6858000" cy="533520"/>
                <a:chOff x="1066680" y="1981080"/>
                <a:chExt cx="6858000" cy="5335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066680" y="198108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238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810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382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8954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3526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098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2670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242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1814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38680" y="198108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0958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5530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102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674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246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09480" y="2666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199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81480" y="2666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66680" y="3676680"/>
                <a:ext cx="5334120" cy="533160"/>
              </a:xfrm>
              <a:prstGeom prst="rightArrow">
                <a:avLst>
                  <a:gd name="adj1" fmla="val 50000"/>
                  <a:gd name="adj2" fmla="val 250118"/>
                </a:avLst>
              </a:prstGeom>
              <a:solidFill>
                <a:srgbClr val="00284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00800" y="3676680"/>
                <a:ext cx="1676520" cy="533160"/>
              </a:xfrm>
              <a:prstGeom prst="rightArrow">
                <a:avLst>
                  <a:gd name="adj1" fmla="val 50000"/>
                  <a:gd name="adj2" fmla="val 78612"/>
                </a:avLst>
              </a:prstGeom>
              <a:solidFill>
                <a:srgbClr val="00284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52480" y="4228920"/>
                <a:ext cx="281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Free Chlorin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91320" y="4228920"/>
                <a:ext cx="281916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Chloramin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NH</a:t>
                </a:r>
                <a:r>
                  <a:rPr b="1" lang="en-US" sz="1800" spc="-1" strike="noStrike" baseline="-25000">
                    <a:solidFill>
                      <a:srgbClr val="002844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C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6680" y="312408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Secondary Disinfecta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57200" y="2209680"/>
              <a:ext cx="8077320" cy="76320"/>
            </a:xfrm>
            <a:prstGeom prst="rect">
              <a:avLst/>
            </a:prstGeom>
            <a:solidFill>
              <a:srgbClr val="00284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5257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bb3c"/>
                </a:solidFill>
                <a:latin typeface="Arial Narrow"/>
              </a:rPr>
              <a:t>No good deed goes unpunished.  </a:t>
            </a:r>
            <a:r>
              <a:rPr b="1" lang="en-US" sz="1800" spc="-1" strike="noStrike">
                <a:solidFill>
                  <a:srgbClr val="fadea0"/>
                </a:solidFill>
                <a:latin typeface="Arial Narrow"/>
              </a:rPr>
              <a:t>Chloramination was an appropriate response to a public health issue (DBPs).  There was little (none) case-history literature to suggest the importance of lead-oxide re-equilib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6F0B-B3DC-4074-B7EB-FEFC27BE327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Redox potential influences the mineral forms of oxidized lead.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13513" b="2674"/>
          <a:stretch/>
        </p:blipFill>
        <p:spPr>
          <a:xfrm>
            <a:off x="1562040" y="2198520"/>
            <a:ext cx="6019920" cy="428148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715000" y="2286000"/>
            <a:ext cx="297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92e"/>
                </a:solidFill>
                <a:latin typeface="Arial"/>
              </a:rPr>
              <a:t>Free chlorine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95288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92e"/>
                </a:solidFill>
                <a:latin typeface="Arial"/>
              </a:rPr>
              <a:t>Chloramine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(II) mineral solubility  &gt;&gt;  Pb(IV) mineral ox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52680" y="4266720"/>
            <a:ext cx="1600200" cy="762120"/>
          </a:xfrm>
          <a:prstGeom prst="line">
            <a:avLst/>
          </a:prstGeom>
          <a:ln w="9360">
            <a:solidFill>
              <a:srgbClr val="0028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81120" y="2666880"/>
            <a:ext cx="1143000" cy="685800"/>
          </a:xfrm>
          <a:prstGeom prst="line">
            <a:avLst/>
          </a:prstGeom>
          <a:ln w="9360">
            <a:solidFill>
              <a:srgbClr val="0028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63244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F0A-70AB-46F6-BB82-2CF169B7C77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22860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The engineering challenges were many and varied, but generally fell into one of seven categories. 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997440"/>
            <a:ext cx="34466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BFF5-D3D2-42E2-A6EC-64BB1727C51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  Identify the source and nature of the metals release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3962520"/>
            <a:ext cx="412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997440"/>
            <a:ext cx="34466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3657600"/>
          <a:ext cx="46638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4663800" cy="3041640"/>
                  </a:xfrm>
                  <a:prstGeom prst="rect">
                    <a:avLst/>
                  </a:prstGeom>
                  <a:ln w="9360">
                    <a:solidFill>
                      <a:srgbClr val="002844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3"/>
          <a:srcRect l="1054" t="0" r="1054" b="0"/>
          <a:stretch/>
        </p:blipFill>
        <p:spPr>
          <a:xfrm>
            <a:off x="4038480" y="1219320"/>
            <a:ext cx="4800600" cy="2970000"/>
          </a:xfrm>
          <a:prstGeom prst="rect">
            <a:avLst/>
          </a:prstGeom>
          <a:ln w="25560">
            <a:solidFill>
              <a:srgbClr val="002844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049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dea0"/>
                </a:solidFill>
                <a:latin typeface="Arial Narrow"/>
              </a:rPr>
              <a:t>Household Lead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dade"/>
                </a:solidFill>
                <a:latin typeface="Arial Narrow"/>
              </a:rPr>
              <a:t>LCR Complianc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19051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Chloramination implemen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590920"/>
            <a:ext cx="380880" cy="457200"/>
          </a:xfrm>
          <a:prstGeom prst="line">
            <a:avLst/>
          </a:prstGeom>
          <a:ln w="9360">
            <a:solidFill>
              <a:srgbClr val="0028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4B90-FCE7-4844-89A6-EEFDEA8E075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6:42:39Z</dcterms:created>
  <dc:creator>HDR Engineering</dc:creator>
  <dc:description/>
  <dc:language>en-US</dc:language>
  <cp:lastModifiedBy>AMSA</cp:lastModifiedBy>
  <dcterms:modified xsi:type="dcterms:W3CDTF">2006-07-19T20:14:22Z</dcterms:modified>
  <cp:revision>62</cp:revision>
  <dc:subject/>
  <dc:title>Slide 1</dc:title>
</cp:coreProperties>
</file>