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8.wmf" ContentType="image/x-wmf"/>
  <Override PartName="/ppt/media/image11.wmf" ContentType="image/x-wmf"/>
  <Override PartName="/ppt/media/image3.png" ContentType="image/png"/>
  <Override PartName="/ppt/media/image7.png" ContentType="image/png"/>
  <Override PartName="/ppt/media/image1.jpeg" ContentType="image/jpeg"/>
  <Override PartName="/ppt/media/image6.jpeg" ContentType="image/jpeg"/>
  <Override PartName="/ppt/media/image10.png" ContentType="image/png"/>
  <Override PartName="/ppt/media/image9.wmf" ContentType="image/x-wmf"/>
  <Override PartName="/ppt/media/image5.jpeg" ContentType="image/jpeg"/>
  <Override PartName="/ppt/media/image20.wmf" ContentType="image/x-wmf"/>
  <Override PartName="/ppt/media/image26.jpeg" ContentType="image/jpeg"/>
  <Override PartName="/ppt/media/image13.jpeg" ContentType="image/jpeg"/>
  <Override PartName="/ppt/media/image25.jpeg" ContentType="image/jpeg"/>
  <Override PartName="/ppt/media/image2.jpeg" ContentType="image/jpeg"/>
  <Override PartName="/ppt/media/image24.jpeg" ContentType="image/jpeg"/>
  <Override PartName="/ppt/media/image21.wmf" ContentType="image/x-wmf"/>
  <Override PartName="/ppt/media/image19.jpeg" ContentType="image/jpeg"/>
  <Override PartName="/ppt/media/image23.wmf" ContentType="image/x-wmf"/>
  <Override PartName="/ppt/media/image22.wmf" ContentType="image/x-wmf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14.jpeg" ContentType="image/jpe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5bb3c"/>
                </a:solidFill>
                <a:latin typeface="Arial Narrow"/>
              </a:rPr>
              <a:t>Click to move the slide</a:t>
            </a:r>
            <a:endParaRPr b="1" lang="en-US" sz="3600" spc="-1" strike="noStrike">
              <a:solidFill>
                <a:srgbClr val="f5bb3c"/>
              </a:solidFill>
              <a:latin typeface="Arial Narrow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AC846A12-FE80-4133-97FC-ABCE252966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algn="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44AED40D-379B-4B08-9345-443B275583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algn="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34560" y="4416480"/>
            <a:ext cx="5140440" cy="41846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od to leave some helpful information on the screen as a last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algn="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868E44C6-5289-4A30-9665-95D2A324B7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algn="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34560" y="4416480"/>
            <a:ext cx="5140440" cy="41846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od to leave some helpful information on the screen as a last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algn="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817D6AE5-E53B-408F-93BB-C727D381EB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algn="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934560" y="4416480"/>
            <a:ext cx="5140440" cy="41846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od to leave some helpful information on the screen as a last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algn="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DE972E4B-D662-4D6E-A7B7-32D0015DC9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algn="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97000" y="692280"/>
            <a:ext cx="4621320" cy="346536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934560" y="4390560"/>
            <a:ext cx="5140440" cy="423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nt coordination, add bullet and modify note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92040" y="153720"/>
            <a:ext cx="7699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5bb3c"/>
              </a:solidFill>
              <a:latin typeface="Arial Narrow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92040" y="1294920"/>
            <a:ext cx="7699320" cy="236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292040" y="3882600"/>
            <a:ext cx="7699320" cy="236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92040" y="153720"/>
            <a:ext cx="7699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5bb3c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2040" y="1294920"/>
            <a:ext cx="3756960" cy="236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237280" y="1294920"/>
            <a:ext cx="3756960" cy="236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2040" y="3882600"/>
            <a:ext cx="3756960" cy="236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237280" y="3882600"/>
            <a:ext cx="3756960" cy="236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92040" y="153720"/>
            <a:ext cx="7699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5bb3c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92040" y="1294920"/>
            <a:ext cx="2478960" cy="236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895200" y="1294920"/>
            <a:ext cx="2478960" cy="236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498720" y="1294920"/>
            <a:ext cx="2478960" cy="236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1292040" y="3882600"/>
            <a:ext cx="2478960" cy="236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895200" y="3882600"/>
            <a:ext cx="2478960" cy="236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498720" y="3882600"/>
            <a:ext cx="2478960" cy="236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A87C9-5C75-4651-AE8B-F24D82C2F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92040" y="153720"/>
            <a:ext cx="7699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5bb3c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292040" y="1294920"/>
            <a:ext cx="769932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79829-BE43-4416-9242-06C8B4367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2040" y="153720"/>
            <a:ext cx="7699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5bb3c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292040" y="1294920"/>
            <a:ext cx="769932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1454D-E1A9-4ED0-8A25-9CBFFD654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92040" y="153720"/>
            <a:ext cx="7699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5bb3c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92040" y="1294920"/>
            <a:ext cx="37569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237280" y="1294920"/>
            <a:ext cx="37569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58162-4CB6-4E34-BE64-607018014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92040" y="153720"/>
            <a:ext cx="7699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5bb3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DD81E-75E3-418F-95D4-332975D70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292040" y="153720"/>
            <a:ext cx="7699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80BF1-A617-4E8B-A4D2-15A691001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92040" y="153720"/>
            <a:ext cx="7699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5bb3c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292040" y="1294920"/>
            <a:ext cx="3756960" cy="236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237280" y="1294920"/>
            <a:ext cx="37569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292040" y="3882600"/>
            <a:ext cx="3756960" cy="236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DDF87-3BEB-4B33-9248-6DE163F79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292040" y="153720"/>
            <a:ext cx="7699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5bb3c"/>
              </a:solidFill>
              <a:latin typeface="Arial Narrow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1292040" y="1294920"/>
            <a:ext cx="769932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92040" y="153720"/>
            <a:ext cx="7699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5bb3c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2040" y="1294920"/>
            <a:ext cx="37569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37280" y="1294920"/>
            <a:ext cx="3756960" cy="236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237280" y="3882600"/>
            <a:ext cx="3756960" cy="236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97B84-EAF3-4639-97B9-51CDDA269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92040" y="153720"/>
            <a:ext cx="7699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5bb3c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292040" y="1294920"/>
            <a:ext cx="3756960" cy="236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237280" y="1294920"/>
            <a:ext cx="3756960" cy="236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292040" y="3882600"/>
            <a:ext cx="7699320" cy="236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A287B-D33D-43F5-9B0D-0799AC1B1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92040" y="153720"/>
            <a:ext cx="7699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5bb3c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92040" y="1294920"/>
            <a:ext cx="7699320" cy="236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292040" y="3882600"/>
            <a:ext cx="7699320" cy="236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85A68-FCB3-46E5-A56D-05C63213D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92040" y="153720"/>
            <a:ext cx="7699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5bb3c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2040" y="1294920"/>
            <a:ext cx="3756960" cy="236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237280" y="1294920"/>
            <a:ext cx="3756960" cy="236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292040" y="3882600"/>
            <a:ext cx="3756960" cy="236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237280" y="3882600"/>
            <a:ext cx="3756960" cy="236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B43F2-1823-4E40-B3DF-D507CFBE0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92040" y="153720"/>
            <a:ext cx="7699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5bb3c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92040" y="1294920"/>
            <a:ext cx="2478960" cy="236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95200" y="1294920"/>
            <a:ext cx="2478960" cy="236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498720" y="1294920"/>
            <a:ext cx="2478960" cy="236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292040" y="3882600"/>
            <a:ext cx="2478960" cy="236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95200" y="3882600"/>
            <a:ext cx="2478960" cy="236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498720" y="3882600"/>
            <a:ext cx="2478960" cy="236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CEE93-5537-4016-9471-2C01C4F3C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92040" y="153720"/>
            <a:ext cx="7699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5bb3c"/>
              </a:solidFill>
              <a:latin typeface="Arial Narrow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292040" y="1294920"/>
            <a:ext cx="769932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92040" y="153720"/>
            <a:ext cx="7699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5bb3c"/>
              </a:solidFill>
              <a:latin typeface="Arial Narrow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92040" y="1294920"/>
            <a:ext cx="37569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237280" y="1294920"/>
            <a:ext cx="37569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92040" y="153720"/>
            <a:ext cx="7699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5bb3c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292040" y="153720"/>
            <a:ext cx="7699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92040" y="153720"/>
            <a:ext cx="7699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5bb3c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2040" y="1294920"/>
            <a:ext cx="3756960" cy="236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237280" y="1294920"/>
            <a:ext cx="37569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1292040" y="3882600"/>
            <a:ext cx="3756960" cy="236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92040" y="153720"/>
            <a:ext cx="7699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5bb3c"/>
              </a:solidFill>
              <a:latin typeface="Arial Narrow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292040" y="1294920"/>
            <a:ext cx="37569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37280" y="1294920"/>
            <a:ext cx="3756960" cy="236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237280" y="3882600"/>
            <a:ext cx="3756960" cy="236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92040" y="153720"/>
            <a:ext cx="7699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5bb3c"/>
              </a:solidFill>
              <a:latin typeface="Arial Narrow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292040" y="1294920"/>
            <a:ext cx="3756960" cy="236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237280" y="1294920"/>
            <a:ext cx="3756960" cy="236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292040" y="3882600"/>
            <a:ext cx="7699320" cy="236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84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292040" y="153720"/>
            <a:ext cx="7699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5bb3c"/>
                </a:solidFill>
                <a:latin typeface="Arial Narrow"/>
              </a:rPr>
              <a:t>Click to edit the title text format</a:t>
            </a:r>
            <a:endParaRPr b="1" lang="en-US" sz="3600" spc="-1" strike="noStrike">
              <a:solidFill>
                <a:srgbClr val="f5bb3c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92040" y="1294920"/>
            <a:ext cx="769932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80000"/>
              </a:lnSpc>
              <a:spcBef>
                <a:spcPts val="15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1599"/>
              </a:spcBef>
              <a:buClr>
                <a:srgbClr val="ffffff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lnSpc>
                <a:spcPct val="80000"/>
              </a:lnSpc>
              <a:spcBef>
                <a:spcPts val="15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3" marL="1600200" indent="-228600">
              <a:lnSpc>
                <a:spcPct val="80000"/>
              </a:lnSpc>
              <a:spcBef>
                <a:spcPts val="1599"/>
              </a:spcBef>
              <a:buClr>
                <a:srgbClr val="ffffff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4" marL="2057400" indent="-228600">
              <a:lnSpc>
                <a:spcPct val="80000"/>
              </a:lnSpc>
              <a:spcBef>
                <a:spcPts val="1599"/>
              </a:spcBef>
              <a:buClr>
                <a:srgbClr val="ffffff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5" marL="2057400" indent="-228600">
              <a:lnSpc>
                <a:spcPct val="80000"/>
              </a:lnSpc>
              <a:spcBef>
                <a:spcPts val="1599"/>
              </a:spcBef>
              <a:buClr>
                <a:srgbClr val="ffffff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6" marL="2057400" indent="-228600">
              <a:lnSpc>
                <a:spcPct val="80000"/>
              </a:lnSpc>
              <a:spcBef>
                <a:spcPts val="1599"/>
              </a:spcBef>
              <a:buClr>
                <a:srgbClr val="ffffff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84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361960" y="533160"/>
            <a:ext cx="655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5bb3c"/>
                </a:solidFill>
                <a:latin typeface="Arial Narrow"/>
              </a:rPr>
              <a:t>Click to edit the title text format</a:t>
            </a:r>
            <a:endParaRPr b="1" lang="en-US" sz="3600" spc="-1" strike="noStrike">
              <a:solidFill>
                <a:srgbClr val="f5bb3c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2590920" y="1447560"/>
            <a:ext cx="60134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325800" indent="-3258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2" marL="325800" indent="-3258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3" marL="325800" indent="-3258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4" marL="325800" indent="-3258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5" marL="325800" indent="-3258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6" marL="325800" indent="-3258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5CA6D-8D1C-4196-BE1D-69172D89D8F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284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5bb3c"/>
                </a:solidFill>
                <a:latin typeface="Arial Narrow"/>
              </a:rPr>
              <a:t>DC WASA Lead Issues and SDWA Simultaneous Compliance</a:t>
            </a:r>
            <a:br>
              <a:rPr sz="3600"/>
            </a:br>
            <a:endParaRPr b="1" lang="en-US" sz="3600" spc="-1" strike="noStrike">
              <a:solidFill>
                <a:srgbClr val="f5bb3c"/>
              </a:solidFill>
              <a:latin typeface="Arial Narrow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209680" y="1980720"/>
            <a:ext cx="6096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8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0dade"/>
                </a:solidFill>
                <a:latin typeface="Arial Narrow"/>
              </a:rPr>
              <a:t>Engineering CHALLENGES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indent="0" algn="r">
              <a:lnSpc>
                <a:spcPct val="8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0dade"/>
                </a:solidFill>
                <a:latin typeface="Arial Narrow"/>
              </a:rPr>
              <a:t>Engineering SOLUTIONS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0" name=""/>
          <p:cNvSpPr/>
          <p:nvPr/>
        </p:nvSpPr>
        <p:spPr>
          <a:xfrm>
            <a:off x="2819520" y="3581280"/>
            <a:ext cx="5638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dea0"/>
                </a:solidFill>
                <a:latin typeface="Arial Narrow"/>
              </a:rPr>
              <a:t>Steve Reiber, CH2M HIL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dea0"/>
                </a:solidFill>
                <a:latin typeface="Arial Narrow"/>
              </a:rPr>
              <a:t>Rich Giani, DC WAS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dea0"/>
                </a:solidFill>
                <a:latin typeface="Arial Narrow"/>
              </a:rPr>
              <a:t>July, 200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80880" y="3124080"/>
            <a:ext cx="2616480" cy="3200400"/>
          </a:xfrm>
          <a:prstGeom prst="rect">
            <a:avLst/>
          </a:prstGeom>
          <a:ln w="19080">
            <a:solidFill>
              <a:srgbClr val="000080"/>
            </a:solidFill>
            <a:miter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3962520" y="5410080"/>
            <a:ext cx="4419360" cy="94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284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1447920"/>
            <a:ext cx="9144000" cy="5410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7699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5bb3c"/>
                </a:solidFill>
                <a:latin typeface="Arial Narrow"/>
              </a:rPr>
              <a:t>Background:</a:t>
            </a:r>
            <a:br>
              <a:rPr sz="3600"/>
            </a:br>
            <a:r>
              <a:rPr b="1" lang="en-US" sz="3600" spc="-1" strike="noStrike">
                <a:solidFill>
                  <a:srgbClr val="f5bb3c"/>
                </a:solidFill>
                <a:latin typeface="Arial Narrow"/>
              </a:rPr>
              <a:t>How Lead Gets into Drinking Water</a:t>
            </a:r>
            <a:endParaRPr b="1" lang="en-US" sz="3600" spc="-1" strike="noStrike">
              <a:solidFill>
                <a:srgbClr val="f5bb3c"/>
              </a:solidFill>
              <a:latin typeface="Arial Narrow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1665360"/>
          <a:ext cx="9144000" cy="412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665360"/>
                    <a:ext cx="9144000" cy="412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7" name=""/>
          <p:cNvSpPr/>
          <p:nvPr/>
        </p:nvSpPr>
        <p:spPr>
          <a:xfrm>
            <a:off x="838080" y="6095880"/>
            <a:ext cx="7391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e392e"/>
                </a:solidFill>
                <a:latin typeface="Comic Sans MS"/>
              </a:rPr>
              <a:t>The Washington Aqueduct and WASA are responsible for making sure that the water meets federal standard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610480" y="6629400"/>
            <a:ext cx="533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F4324-34F0-4631-9A04-B9AA003D7F22}" type="slidenum">
              <a:rPr b="0" lang="en-US" sz="900" spc="-1" strike="noStrike">
                <a:solidFill>
                  <a:srgbClr val="00284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284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28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rcRect l="1360" t="0" r="2040" b="0"/>
          <a:stretch/>
        </p:blipFill>
        <p:spPr>
          <a:xfrm>
            <a:off x="371520" y="1523880"/>
            <a:ext cx="6273720" cy="4403880"/>
          </a:xfrm>
          <a:prstGeom prst="rect">
            <a:avLst/>
          </a:prstGeom>
          <a:ln w="9360">
            <a:solidFill>
              <a:srgbClr val="002844"/>
            </a:solidFill>
            <a:miter/>
          </a:ln>
        </p:spPr>
      </p:pic>
      <p:sp>
        <p:nvSpPr>
          <p:cNvPr id="171" name=""/>
          <p:cNvSpPr/>
          <p:nvPr/>
        </p:nvSpPr>
        <p:spPr>
          <a:xfrm>
            <a:off x="228600" y="343080"/>
            <a:ext cx="86295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960560" y="1495440"/>
            <a:ext cx="483876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35080" indent="-235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35080" indent="-235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2743200" y="3338640"/>
          <a:ext cx="3657600" cy="180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743200" y="3338640"/>
                    <a:ext cx="3657600" cy="18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5" name=""/>
          <p:cNvSpPr/>
          <p:nvPr/>
        </p:nvSpPr>
        <p:spPr>
          <a:xfrm>
            <a:off x="428760" y="228600"/>
            <a:ext cx="7419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adea0"/>
                </a:solidFill>
                <a:uFillTx/>
                <a:latin typeface="Arial Narrow"/>
              </a:rPr>
              <a:t>Challenge:</a:t>
            </a:r>
            <a:r>
              <a:rPr b="1" lang="en-US" sz="3600" spc="-1" strike="noStrike">
                <a:solidFill>
                  <a:srgbClr val="fadea0"/>
                </a:solidFill>
                <a:latin typeface="Arial Narrow"/>
              </a:rPr>
              <a:t>  Identify optimal corrosion control strategies!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4"/>
          <a:srcRect l="7500" t="10574" r="0" b="6187"/>
          <a:stretch/>
        </p:blipFill>
        <p:spPr>
          <a:xfrm>
            <a:off x="6264360" y="3981600"/>
            <a:ext cx="2498760" cy="2800080"/>
          </a:xfrm>
          <a:prstGeom prst="rect">
            <a:avLst/>
          </a:prstGeom>
          <a:ln w="19080">
            <a:solidFill>
              <a:srgbClr val="ffffff"/>
            </a:solidFill>
            <a:miter/>
          </a:ln>
        </p:spPr>
      </p:pic>
      <p:sp>
        <p:nvSpPr>
          <p:cNvPr id="177" name=""/>
          <p:cNvSpPr/>
          <p:nvPr/>
        </p:nvSpPr>
        <p:spPr>
          <a:xfrm>
            <a:off x="7010280" y="3048120"/>
            <a:ext cx="16765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0dade"/>
                </a:solidFill>
                <a:latin typeface="Arial Narrow"/>
              </a:rPr>
              <a:t>Multiple and redundant</a:t>
            </a:r>
            <a:br>
              <a:rPr sz="1800"/>
            </a:br>
            <a:r>
              <a:rPr b="1" lang="en-US" sz="1800" spc="-1" strike="noStrike">
                <a:solidFill>
                  <a:srgbClr val="d0dade"/>
                </a:solidFill>
                <a:latin typeface="Arial Narrow"/>
              </a:rPr>
              <a:t> control studi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6320" y="6019920"/>
            <a:ext cx="449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0dade"/>
                </a:solidFill>
                <a:latin typeface="Arial Narrow"/>
              </a:rPr>
              <a:t>DC WASA is a consecutive system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8686800" y="6400800"/>
            <a:ext cx="45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83DC5-E330-4FD2-A5F2-53EC5C4124C3}" type="slidenum">
              <a:rPr b="0" lang="en-US" sz="9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284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28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343080"/>
            <a:ext cx="86295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960560" y="1495440"/>
            <a:ext cx="483876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35080" indent="-235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35080" indent="-235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2743200" y="3338640"/>
          <a:ext cx="3657600" cy="18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3338640"/>
                    <a:ext cx="3657600" cy="18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5" name=""/>
          <p:cNvSpPr/>
          <p:nvPr/>
        </p:nvSpPr>
        <p:spPr>
          <a:xfrm>
            <a:off x="380880" y="469800"/>
            <a:ext cx="4707000" cy="1739880"/>
          </a:xfrm>
          <a:prstGeom prst="rect">
            <a:avLst/>
          </a:prstGeom>
          <a:solidFill>
            <a:srgbClr val="0028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adea0"/>
                </a:solidFill>
                <a:uFillTx/>
                <a:latin typeface="Arial Narrow"/>
              </a:rPr>
              <a:t>Challenge:</a:t>
            </a:r>
            <a:r>
              <a:rPr b="1" lang="en-US" sz="3600" spc="-1" strike="noStrike">
                <a:solidFill>
                  <a:srgbClr val="fadea0"/>
                </a:solidFill>
                <a:latin typeface="Arial Narrow"/>
              </a:rPr>
              <a:t>  Implement and monitor mitigation strategy!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3"/>
          <a:stretch/>
        </p:blipFill>
        <p:spPr>
          <a:xfrm>
            <a:off x="5791320" y="76320"/>
            <a:ext cx="3290760" cy="5105160"/>
          </a:xfrm>
          <a:prstGeom prst="rect">
            <a:avLst/>
          </a:prstGeom>
          <a:ln w="9360">
            <a:solidFill>
              <a:srgbClr val="d0dade"/>
            </a:solidFill>
            <a:miter/>
          </a:ln>
        </p:spPr>
      </p:pic>
      <p:pic>
        <p:nvPicPr>
          <p:cNvPr id="187" name="" descr=""/>
          <p:cNvPicPr/>
          <p:nvPr/>
        </p:nvPicPr>
        <p:blipFill>
          <a:blip r:embed="rId4"/>
          <a:stretch/>
        </p:blipFill>
        <p:spPr>
          <a:xfrm>
            <a:off x="76320" y="3124080"/>
            <a:ext cx="6553080" cy="3686400"/>
          </a:xfrm>
          <a:prstGeom prst="rect">
            <a:avLst/>
          </a:prstGeom>
          <a:ln w="9360">
            <a:solidFill>
              <a:srgbClr val="fadea0"/>
            </a:solidFill>
            <a:miter/>
          </a:ln>
        </p:spPr>
      </p:pic>
      <p:sp>
        <p:nvSpPr>
          <p:cNvPr id="188" name=""/>
          <p:cNvSpPr/>
          <p:nvPr/>
        </p:nvSpPr>
        <p:spPr>
          <a:xfrm>
            <a:off x="2133720" y="2301840"/>
            <a:ext cx="358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0dade"/>
                </a:solidFill>
                <a:latin typeface="Arial Narrow"/>
              </a:rPr>
              <a:t>Requires an exceptional level of customer participatio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8686800" y="6400800"/>
            <a:ext cx="45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9A4C2-FCC8-41CD-A433-59D06E86DF7C}" type="slidenum">
              <a:rPr b="0" lang="en-US" sz="9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284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28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343080"/>
            <a:ext cx="86295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960560" y="1495440"/>
            <a:ext cx="483876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35080" indent="-235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35080" indent="-235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2743200" y="3338640"/>
          <a:ext cx="3657600" cy="18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3338640"/>
                    <a:ext cx="3657600" cy="18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5" name=""/>
          <p:cNvSpPr/>
          <p:nvPr/>
        </p:nvSpPr>
        <p:spPr>
          <a:xfrm>
            <a:off x="609480" y="349200"/>
            <a:ext cx="705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adea0"/>
                </a:solidFill>
                <a:uFillTx/>
                <a:latin typeface="Arial Narrow"/>
              </a:rPr>
              <a:t>Challenge:</a:t>
            </a:r>
            <a:r>
              <a:rPr b="1" lang="en-US" sz="3600" spc="-1" strike="noStrike">
                <a:solidFill>
                  <a:srgbClr val="fadea0"/>
                </a:solidFill>
                <a:latin typeface="Arial Narrow"/>
              </a:rPr>
              <a:t>  Maintain distributed water quality during implementation!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2009880"/>
            <a:ext cx="26672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0dade"/>
                </a:solidFill>
                <a:latin typeface="Arial Narrow"/>
              </a:rPr>
              <a:t>Three separate full-time flushing crews operating in the Distri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3"/>
          <a:srcRect l="0" t="0" r="11972" b="0"/>
          <a:stretch/>
        </p:blipFill>
        <p:spPr>
          <a:xfrm>
            <a:off x="4724280" y="1676520"/>
            <a:ext cx="3409920" cy="5029200"/>
          </a:xfrm>
          <a:prstGeom prst="rect">
            <a:avLst/>
          </a:prstGeom>
          <a:ln w="25560">
            <a:solidFill>
              <a:srgbClr val="002844"/>
            </a:solidFill>
            <a:miter/>
          </a:ln>
        </p:spPr>
      </p:pic>
      <p:sp>
        <p:nvSpPr>
          <p:cNvPr id="198" name=""/>
          <p:cNvSpPr/>
          <p:nvPr/>
        </p:nvSpPr>
        <p:spPr>
          <a:xfrm>
            <a:off x="1066680" y="4191120"/>
            <a:ext cx="29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0dade"/>
                </a:solidFill>
                <a:latin typeface="Arial Narrow"/>
              </a:rPr>
              <a:t>Extensive coliform, HPC, turbidity and aesthetic water quality monitoring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686800" y="6400800"/>
            <a:ext cx="45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28230-308A-48E2-A2F4-216A037ED54C}" type="slidenum">
              <a:rPr b="0" lang="en-US" sz="9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284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28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" y="343080"/>
            <a:ext cx="86295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743200" y="3338640"/>
          <a:ext cx="3657600" cy="18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3338640"/>
                    <a:ext cx="3657600" cy="18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4" name=""/>
          <p:cNvSpPr/>
          <p:nvPr/>
        </p:nvSpPr>
        <p:spPr>
          <a:xfrm>
            <a:off x="304920" y="30492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adea0"/>
                </a:solidFill>
                <a:uFillTx/>
                <a:latin typeface="Arial Narrow"/>
              </a:rPr>
              <a:t>Challenge:</a:t>
            </a:r>
            <a:r>
              <a:rPr b="1" lang="en-US" sz="3600" spc="-1" strike="noStrike">
                <a:solidFill>
                  <a:srgbClr val="fadea0"/>
                </a:solidFill>
                <a:latin typeface="Arial Narrow"/>
              </a:rPr>
              <a:t>  Identify potential Impacts to wastewater collection and treatment system!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380880" y="1676520"/>
            <a:ext cx="4953240" cy="288288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3657600" y="3638520"/>
            <a:ext cx="533412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lnSpc>
                <a:spcPct val="100000"/>
              </a:lnSpc>
              <a:spcBef>
                <a:spcPts val="1749"/>
              </a:spcBef>
              <a:buClr>
                <a:srgbClr val="d0dade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0dade"/>
                </a:solidFill>
                <a:latin typeface="Arial Narrow"/>
              </a:rPr>
              <a:t>Corrosion inhibitor impact on WWTP nitrific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25360" indent="-225360">
              <a:lnSpc>
                <a:spcPct val="100000"/>
              </a:lnSpc>
              <a:spcBef>
                <a:spcPts val="1749"/>
              </a:spcBef>
              <a:buClr>
                <a:srgbClr val="d0dade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0dade"/>
                </a:solidFill>
                <a:latin typeface="Arial Narrow"/>
              </a:rPr>
              <a:t>Discharge limitation for phospha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25360" indent="-225360">
              <a:lnSpc>
                <a:spcPct val="100000"/>
              </a:lnSpc>
              <a:spcBef>
                <a:spcPts val="1749"/>
              </a:spcBef>
              <a:buClr>
                <a:srgbClr val="d0dade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0dade"/>
                </a:solidFill>
                <a:latin typeface="Arial Narrow"/>
              </a:rPr>
              <a:t>Biosolids metals accumul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8686800" y="6400800"/>
            <a:ext cx="45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15035-CA35-4EB6-A533-C2D8821F9485}" type="slidenum">
              <a:rPr b="0" lang="en-US" sz="9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284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28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28600" y="343080"/>
            <a:ext cx="86295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2743200" y="3338640"/>
          <a:ext cx="3657600" cy="18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3338640"/>
                    <a:ext cx="3657600" cy="18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2" name=""/>
          <p:cNvSpPr/>
          <p:nvPr/>
        </p:nvSpPr>
        <p:spPr>
          <a:xfrm>
            <a:off x="5181480" y="339840"/>
            <a:ext cx="4038840" cy="17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fadea0"/>
                </a:solidFill>
                <a:uFillTx/>
                <a:latin typeface="Arial Narrow"/>
              </a:rPr>
              <a:t>Challenge:</a:t>
            </a:r>
            <a:r>
              <a:rPr b="1" lang="en-US" sz="3000" spc="-1" strike="noStrike">
                <a:solidFill>
                  <a:srgbClr val="fadea0"/>
                </a:solidFill>
                <a:latin typeface="Arial Narrow"/>
              </a:rPr>
              <a:t> </a:t>
            </a:r>
            <a:br>
              <a:rPr sz="3000"/>
            </a:br>
            <a:r>
              <a:rPr b="1" lang="en-US" sz="3000" spc="-1" strike="noStrike">
                <a:solidFill>
                  <a:srgbClr val="fadea0"/>
                </a:solidFill>
                <a:latin typeface="Arial Narrow"/>
              </a:rPr>
              <a:t>Assessment of on-going Lead Service Line replacement program!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3"/>
          <a:stretch/>
        </p:blipFill>
        <p:spPr>
          <a:xfrm>
            <a:off x="3429000" y="3514680"/>
            <a:ext cx="5486400" cy="311472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4"/>
          <a:srcRect l="3009" t="5218" r="12036" b="1305"/>
          <a:stretch/>
        </p:blipFill>
        <p:spPr>
          <a:xfrm>
            <a:off x="152280" y="152280"/>
            <a:ext cx="4876920" cy="412596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5181480" y="2209680"/>
            <a:ext cx="35053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spcBef>
                <a:spcPts val="601"/>
              </a:spcBef>
              <a:buClr>
                <a:srgbClr val="d0dade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0dade"/>
                </a:solidFill>
                <a:latin typeface="Arial Narrow"/>
              </a:rPr>
              <a:t>homeowner cooper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601"/>
              </a:spcBef>
              <a:buClr>
                <a:srgbClr val="d0dade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0dade"/>
                </a:solidFill>
                <a:latin typeface="Arial Narrow"/>
              </a:rPr>
              <a:t>partial replace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28600" y="4267080"/>
            <a:ext cx="259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0dade"/>
                </a:solidFill>
                <a:latin typeface="Arial Narrow"/>
              </a:rPr>
              <a:t>An abundance of LSLs (&gt;28,000) exist in the Distric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8763120" y="6400800"/>
            <a:ext cx="380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7BCC8-EB24-428C-9993-5BBB0124DB57}" type="slidenum">
              <a:rPr b="0" lang="en-US" sz="9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284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0" y="0"/>
            <a:ext cx="9296280" cy="6858000"/>
          </a:xfrm>
          <a:prstGeom prst="rect">
            <a:avLst/>
          </a:prstGeom>
          <a:solidFill>
            <a:srgbClr val="0028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28600" y="343080"/>
            <a:ext cx="86295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960560" y="1495440"/>
            <a:ext cx="483876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35080" indent="-235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35080" indent="-235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266840" y="334800"/>
            <a:ext cx="7419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adea0"/>
                </a:solidFill>
                <a:uFillTx/>
                <a:latin typeface="Arial Narrow"/>
              </a:rPr>
              <a:t>Challenge:</a:t>
            </a:r>
            <a:r>
              <a:rPr b="1" lang="en-US" sz="3600" spc="-1" strike="noStrike">
                <a:solidFill>
                  <a:srgbClr val="fadea0"/>
                </a:solidFill>
                <a:latin typeface="Arial Narrow"/>
              </a:rPr>
              <a:t>  On-going simultaneous compliance management / research!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590920" y="1752480"/>
            <a:ext cx="5257800" cy="454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0dade"/>
                </a:solidFill>
                <a:latin typeface="Arial Narrow"/>
              </a:rPr>
              <a:t>Microbial Qual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71680" indent="-228600">
              <a:lnSpc>
                <a:spcPct val="95000"/>
              </a:lnSpc>
              <a:spcBef>
                <a:spcPts val="349"/>
              </a:spcBef>
              <a:buClr>
                <a:srgbClr val="d0dade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0dade"/>
                </a:solidFill>
                <a:latin typeface="Arial Narrow"/>
              </a:rPr>
              <a:t>Total Coliform Ru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71680" indent="-228600">
              <a:lnSpc>
                <a:spcPct val="95000"/>
              </a:lnSpc>
              <a:spcBef>
                <a:spcPts val="349"/>
              </a:spcBef>
              <a:buClr>
                <a:srgbClr val="d0dade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0dade"/>
                </a:solidFill>
                <a:latin typeface="Arial Narrow"/>
              </a:rPr>
              <a:t>Nitrific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9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0dade"/>
                </a:solidFill>
                <a:latin typeface="Arial Narrow"/>
              </a:rPr>
              <a:t>Disinfection Byproduc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71680" indent="-228600">
              <a:lnSpc>
                <a:spcPct val="95000"/>
              </a:lnSpc>
              <a:spcBef>
                <a:spcPts val="349"/>
              </a:spcBef>
              <a:buClr>
                <a:srgbClr val="d0dade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0dade"/>
                </a:solidFill>
                <a:latin typeface="Arial Narrow"/>
              </a:rPr>
              <a:t>THM / HAA for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71680" indent="-228600">
              <a:lnSpc>
                <a:spcPct val="95000"/>
              </a:lnSpc>
              <a:spcBef>
                <a:spcPts val="349"/>
              </a:spcBef>
              <a:buClr>
                <a:srgbClr val="d0dade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0dade"/>
                </a:solidFill>
                <a:latin typeface="Arial Narrow"/>
              </a:rPr>
              <a:t>Enhanced coagul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71680" indent="-228600">
              <a:lnSpc>
                <a:spcPct val="95000"/>
              </a:lnSpc>
              <a:spcBef>
                <a:spcPts val="349"/>
              </a:spcBef>
              <a:buClr>
                <a:srgbClr val="d0dade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0dade"/>
                </a:solidFill>
                <a:latin typeface="Arial Narrow"/>
              </a:rPr>
              <a:t>NOM manage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9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0dade"/>
                </a:solidFill>
                <a:latin typeface="Arial Narrow"/>
              </a:rPr>
              <a:t>Corrosion Contro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71680" indent="-228600">
              <a:lnSpc>
                <a:spcPct val="95000"/>
              </a:lnSpc>
              <a:spcBef>
                <a:spcPts val="349"/>
              </a:spcBef>
              <a:buClr>
                <a:srgbClr val="d0dade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0dade"/>
                </a:solidFill>
                <a:latin typeface="Arial Narrow"/>
              </a:rPr>
              <a:t>LC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71680" indent="-228600">
              <a:lnSpc>
                <a:spcPct val="95000"/>
              </a:lnSpc>
              <a:spcBef>
                <a:spcPts val="349"/>
              </a:spcBef>
              <a:buClr>
                <a:srgbClr val="d0dade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0dade"/>
                </a:solidFill>
                <a:latin typeface="Arial Narrow"/>
              </a:rPr>
              <a:t>Red Wa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8686800" y="6400800"/>
            <a:ext cx="45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84BCD-9DB7-4B88-9C3B-4DAF6FC1B734}" type="slidenum">
              <a:rPr b="0" lang="en-US" sz="9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284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600200" y="22856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5bb3c"/>
                </a:solidFill>
                <a:latin typeface="Arial Narrow"/>
              </a:rPr>
              <a:t>The solutions to these challenges proceeded on a broad front.</a:t>
            </a:r>
            <a:endParaRPr b="1" lang="en-US" sz="3600" spc="-1" strike="noStrike">
              <a:solidFill>
                <a:srgbClr val="f5bb3c"/>
              </a:solidFill>
              <a:latin typeface="Arial Narrow"/>
            </a:endParaRPr>
          </a:p>
        </p:txBody>
      </p:sp>
      <p:sp>
        <p:nvSpPr>
          <p:cNvPr id="225" name=""/>
          <p:cNvSpPr/>
          <p:nvPr/>
        </p:nvSpPr>
        <p:spPr>
          <a:xfrm>
            <a:off x="8686800" y="6400800"/>
            <a:ext cx="45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63949-6A12-49C1-A4A1-27AA2F7FA6C5}" type="slidenum">
              <a:rPr b="0" lang="en-US" sz="9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284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rcRect l="2500" t="0" r="10000" b="0"/>
          <a:stretch/>
        </p:blipFill>
        <p:spPr>
          <a:xfrm>
            <a:off x="5062680" y="2062080"/>
            <a:ext cx="3776400" cy="318312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396800" y="151920"/>
            <a:ext cx="77468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dea0"/>
                </a:solidFill>
                <a:latin typeface="Arial Narrow"/>
              </a:rPr>
              <a:t>Solution: The Technical Expert Working Group</a:t>
            </a:r>
            <a:endParaRPr b="1" lang="en-US" sz="3200" spc="-1" strike="noStrike">
              <a:solidFill>
                <a:srgbClr val="f5bb3c"/>
              </a:solidFill>
              <a:latin typeface="Arial Narrow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294920" y="1142640"/>
            <a:ext cx="6991560" cy="400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173520" indent="-173520">
              <a:lnSpc>
                <a:spcPct val="95000"/>
              </a:lnSpc>
              <a:spcBef>
                <a:spcPts val="150"/>
              </a:spcBef>
              <a:buClr>
                <a:srgbClr val="ffff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 Narrow"/>
              </a:rPr>
              <a:t>Formed in early 2004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173520" indent="-173520">
              <a:lnSpc>
                <a:spcPct val="95000"/>
              </a:lnSpc>
              <a:spcBef>
                <a:spcPts val="150"/>
              </a:spcBef>
              <a:buClr>
                <a:srgbClr val="ffff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 Narrow"/>
              </a:rPr>
              <a:t>Cooperative effort among: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434160" indent="-173520">
              <a:lnSpc>
                <a:spcPct val="95000"/>
              </a:lnSpc>
              <a:spcBef>
                <a:spcPts val="150"/>
              </a:spcBef>
              <a:buClr>
                <a:srgbClr val="ff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 Narrow"/>
              </a:rPr>
              <a:t>DC WASA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434160" indent="-173520">
              <a:lnSpc>
                <a:spcPct val="95000"/>
              </a:lnSpc>
              <a:spcBef>
                <a:spcPts val="150"/>
              </a:spcBef>
              <a:buClr>
                <a:srgbClr val="ff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 Narrow"/>
              </a:rPr>
              <a:t>Washington Aqueduct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434160" indent="-173520">
              <a:lnSpc>
                <a:spcPct val="95000"/>
              </a:lnSpc>
              <a:spcBef>
                <a:spcPts val="150"/>
              </a:spcBef>
              <a:buClr>
                <a:srgbClr val="ff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 Narrow"/>
              </a:rPr>
              <a:t>EPA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434160" indent="-173520">
              <a:lnSpc>
                <a:spcPct val="95000"/>
              </a:lnSpc>
              <a:spcBef>
                <a:spcPts val="150"/>
              </a:spcBef>
              <a:buClr>
                <a:srgbClr val="ff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 Narrow"/>
              </a:rPr>
              <a:t>DC Department of Health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434160" indent="-173520">
              <a:lnSpc>
                <a:spcPct val="95000"/>
              </a:lnSpc>
              <a:spcBef>
                <a:spcPts val="150"/>
              </a:spcBef>
              <a:buClr>
                <a:srgbClr val="ff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 Narrow"/>
              </a:rPr>
              <a:t>CDC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434160" indent="-173520">
              <a:lnSpc>
                <a:spcPct val="95000"/>
              </a:lnSpc>
              <a:spcBef>
                <a:spcPts val="150"/>
              </a:spcBef>
              <a:buClr>
                <a:srgbClr val="ff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 Narrow"/>
              </a:rPr>
              <a:t>Arlington County DPW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434160" indent="-173520">
              <a:lnSpc>
                <a:spcPct val="95000"/>
              </a:lnSpc>
              <a:spcBef>
                <a:spcPts val="150"/>
              </a:spcBef>
              <a:buClr>
                <a:srgbClr val="ff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 Narrow"/>
              </a:rPr>
              <a:t>Falls Church DES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434160" indent="-173520">
              <a:lnSpc>
                <a:spcPct val="95000"/>
              </a:lnSpc>
              <a:spcBef>
                <a:spcPts val="150"/>
              </a:spcBef>
              <a:buClr>
                <a:srgbClr val="ff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 Narrow"/>
              </a:rPr>
              <a:t>outside consultants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434160" indent="0">
              <a:lnSpc>
                <a:spcPct val="9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173520" indent="-173520">
              <a:lnSpc>
                <a:spcPct val="95000"/>
              </a:lnSpc>
              <a:spcBef>
                <a:spcPts val="150"/>
              </a:spcBef>
              <a:buClr>
                <a:srgbClr val="ffff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 Narrow"/>
              </a:rPr>
              <a:t>Charge: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434160" indent="-173520">
              <a:lnSpc>
                <a:spcPct val="95000"/>
              </a:lnSpc>
              <a:spcBef>
                <a:spcPts val="150"/>
              </a:spcBef>
              <a:buClr>
                <a:srgbClr val="ff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 Narrow"/>
              </a:rPr>
              <a:t>Coordinate ongoing research efforts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434160" indent="-173520">
              <a:lnSpc>
                <a:spcPct val="95000"/>
              </a:lnSpc>
              <a:spcBef>
                <a:spcPts val="150"/>
              </a:spcBef>
              <a:buClr>
                <a:srgbClr val="ff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 Narrow"/>
              </a:rPr>
              <a:t>Develop a strategy to reduce lead in drinking water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9" name=""/>
          <p:cNvSpPr/>
          <p:nvPr/>
        </p:nvSpPr>
        <p:spPr>
          <a:xfrm>
            <a:off x="8686800" y="6400800"/>
            <a:ext cx="45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88838-98AD-4961-9642-D3307358A230}" type="slidenum">
              <a:rPr b="0" lang="en-US" sz="9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284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28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142560"/>
            <a:ext cx="7848720" cy="160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dea0"/>
                </a:solidFill>
                <a:latin typeface="Arial Narrow"/>
              </a:rPr>
              <a:t>Solution: redundant pilot and bench-scale studies all identify orthophosphate as an effective LSL passivating agent.</a:t>
            </a:r>
            <a:endParaRPr b="1" lang="en-US" sz="2800" spc="-1" strike="noStrike">
              <a:solidFill>
                <a:srgbClr val="f5bb3c"/>
              </a:solidFill>
              <a:latin typeface="Arial Narrow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80010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0dade"/>
                </a:solidFill>
                <a:latin typeface="Arial Narrow"/>
              </a:rPr>
              <a:t>Orthophosphate reduced lead leaching in three separate loop studies.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rcRect l="1054" t="0" r="0" b="0"/>
          <a:stretch/>
        </p:blipFill>
        <p:spPr>
          <a:xfrm>
            <a:off x="609480" y="2514600"/>
            <a:ext cx="7917120" cy="41958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4267080" y="3200400"/>
            <a:ext cx="22860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 Narrow"/>
              </a:rPr>
              <a:t>10 mg/L Orthophosphat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447920" y="2819520"/>
            <a:ext cx="83808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 Narrow"/>
              </a:rPr>
              <a:t>No trea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267080" y="3124080"/>
            <a:ext cx="22860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686800" y="6400800"/>
            <a:ext cx="45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085F3-1120-4851-B75D-E688016E0233}" type="slidenum">
              <a:rPr b="0" lang="en-US" sz="9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284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47920" y="837720"/>
            <a:ext cx="57909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5bb3c"/>
                </a:solidFill>
                <a:latin typeface="Arial Narrow"/>
              </a:rPr>
              <a:t>Purpose of this Presentation: </a:t>
            </a:r>
            <a:endParaRPr b="1" lang="en-US" sz="3600" spc="-1" strike="noStrike">
              <a:solidFill>
                <a:srgbClr val="f5bb3c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47920" y="2286000"/>
            <a:ext cx="6705360" cy="25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dea0"/>
                </a:solidFill>
                <a:latin typeface="Arial Narrow"/>
              </a:rPr>
              <a:t>to define the complexity of the problem and recognize the engineering research that identified a compatible system-wide mitigation strategy.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5" name=""/>
          <p:cNvSpPr/>
          <p:nvPr/>
        </p:nvSpPr>
        <p:spPr>
          <a:xfrm>
            <a:off x="8610480" y="6629400"/>
            <a:ext cx="304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1A7AD-150C-46E6-AD7E-2A1D966CA6AB}" type="slidenum">
              <a:rPr b="0" lang="en-US" sz="9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284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14040" y="306000"/>
            <a:ext cx="7620120" cy="88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dea0"/>
                </a:solidFill>
                <a:latin typeface="Arial Narrow"/>
              </a:rPr>
              <a:t>Solution: Orthophosphate Treatment Implementation</a:t>
            </a:r>
            <a:endParaRPr b="1" lang="en-US" sz="3200" spc="-1" strike="noStrike">
              <a:solidFill>
                <a:srgbClr val="f5bb3c"/>
              </a:solidFill>
              <a:latin typeface="Arial Narrow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1471680" y="2666880"/>
            <a:ext cx="6605640" cy="321948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1503360" y="5943600"/>
            <a:ext cx="6269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d0dade"/>
                </a:solidFill>
                <a:latin typeface="Arial"/>
              </a:rPr>
              <a:t>Provided by Rich Giani, DC WAS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32000" y="1295280"/>
            <a:ext cx="7431120" cy="12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spcBef>
                <a:spcPts val="601"/>
              </a:spcBef>
              <a:buClr>
                <a:srgbClr val="d0dade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0dade"/>
                </a:solidFill>
                <a:latin typeface="Arial Narrow"/>
              </a:rPr>
              <a:t>Over 7 months, 90</a:t>
            </a:r>
            <a:r>
              <a:rPr b="1" lang="en-US" sz="2400" spc="-1" strike="noStrike" baseline="30000">
                <a:solidFill>
                  <a:srgbClr val="d0dade"/>
                </a:solidFill>
                <a:latin typeface="Arial Narrow"/>
              </a:rPr>
              <a:t>th</a:t>
            </a:r>
            <a:r>
              <a:rPr b="1" lang="en-US" sz="2400" spc="-1" strike="noStrike">
                <a:solidFill>
                  <a:srgbClr val="d0dade"/>
                </a:solidFill>
                <a:latin typeface="Arial Narrow"/>
              </a:rPr>
              <a:t> percentile lead levels decreased</a:t>
            </a:r>
            <a:br>
              <a:rPr sz="2400"/>
            </a:br>
            <a:r>
              <a:rPr b="1" lang="en-US" sz="2400" spc="-1" strike="noStrike">
                <a:solidFill>
                  <a:srgbClr val="d0dade"/>
                </a:solidFill>
                <a:latin typeface="Arial Narrow"/>
              </a:rPr>
              <a:t>from over 100 ppb to under 15 ppb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01"/>
              </a:spcBef>
              <a:buClr>
                <a:srgbClr val="d0dade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0dade"/>
                </a:solidFill>
                <a:latin typeface="Arial Narrow"/>
              </a:rPr>
              <a:t>Partial system test followed by full-scale implementatio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590920" y="3352680"/>
            <a:ext cx="167616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28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844"/>
                </a:solidFill>
                <a:latin typeface="Arial Narrow"/>
              </a:rPr>
              <a:t>Phosphate ad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486400" y="4714920"/>
            <a:ext cx="129528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28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844"/>
                </a:solidFill>
                <a:latin typeface="Arial Narrow"/>
              </a:rPr>
              <a:t>Action Leve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8686800" y="6400800"/>
            <a:ext cx="45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A8564-634F-48AF-889B-3A738D979BE0}" type="slidenum">
              <a:rPr b="0" lang="en-US" sz="9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284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dea0"/>
                </a:solidFill>
                <a:latin typeface="Arial Narrow"/>
              </a:rPr>
              <a:t>Solution: Extensive system monitoring – including household lead profiles</a:t>
            </a:r>
            <a:endParaRPr b="1" lang="en-US" sz="3600" spc="-1" strike="noStrike">
              <a:solidFill>
                <a:srgbClr val="f5bb3c"/>
              </a:solidFill>
              <a:latin typeface="Arial Narrow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676520" y="2438280"/>
            <a:ext cx="6594480" cy="35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100000"/>
              </a:lnSpc>
              <a:spcBef>
                <a:spcPts val="1749"/>
              </a:spcBef>
              <a:buClr>
                <a:srgbClr val="d0dade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0dade"/>
                </a:solidFill>
                <a:latin typeface="Arial Narrow"/>
              </a:rPr>
              <a:t>Suspected that lead in water was coming from lead service lines, but could be coming from leaded brass fixtures, lead solder, etc.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228600" indent="-228600">
              <a:lnSpc>
                <a:spcPct val="100000"/>
              </a:lnSpc>
              <a:spcBef>
                <a:spcPts val="1749"/>
              </a:spcBef>
              <a:buClr>
                <a:srgbClr val="d0dade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0dade"/>
                </a:solidFill>
                <a:latin typeface="Arial Narrow"/>
              </a:rPr>
              <a:t>WASA conducted </a:t>
            </a:r>
            <a:r>
              <a:rPr b="1" lang="en-US" sz="2800" spc="-1" strike="noStrike">
                <a:solidFill>
                  <a:srgbClr val="fadea0"/>
                </a:solidFill>
                <a:latin typeface="Arial Narrow"/>
              </a:rPr>
              <a:t>Lead Profiling</a:t>
            </a:r>
            <a:r>
              <a:rPr b="1" lang="en-US" sz="2800" spc="-1" strike="noStrike">
                <a:solidFill>
                  <a:srgbClr val="d0dade"/>
                </a:solidFill>
                <a:latin typeface="Arial Narrow"/>
              </a:rPr>
              <a:t> of homes with lead service lines, going well beyond any EPA requirement.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47" name=""/>
          <p:cNvSpPr/>
          <p:nvPr/>
        </p:nvSpPr>
        <p:spPr>
          <a:xfrm>
            <a:off x="8686800" y="6400800"/>
            <a:ext cx="45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CF419-B268-4845-804B-924CFDBB0E7D}" type="slidenum">
              <a:rPr b="0" lang="en-US" sz="9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284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28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dea0"/>
                </a:solidFill>
                <a:latin typeface="Arial Narrow"/>
              </a:rPr>
              <a:t>Typical DC WASA residential lead profile following implementation of the orthophosphate inhibitor program</a:t>
            </a:r>
            <a:endParaRPr b="1" lang="en-US" sz="3000" spc="-1" strike="noStrike">
              <a:solidFill>
                <a:srgbClr val="f5bb3c"/>
              </a:solidFill>
              <a:latin typeface="Arial Narrow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rcRect l="0" t="12359" r="6323" b="4634"/>
          <a:stretch/>
        </p:blipFill>
        <p:spPr>
          <a:xfrm>
            <a:off x="581040" y="1681200"/>
            <a:ext cx="8029440" cy="487188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8686800" y="6400800"/>
            <a:ext cx="45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AD697-0C15-4557-A606-3AC919733E5B}" type="slidenum">
              <a:rPr b="0" lang="en-US" sz="9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284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28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581280" y="3308400"/>
            <a:ext cx="5562720" cy="312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000760" y="2687760"/>
            <a:ext cx="541080" cy="334800"/>
          </a:xfrm>
          <a:prstGeom prst="octagon">
            <a:avLst>
              <a:gd name="adj" fmla="val 2928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80880" y="1295280"/>
            <a:ext cx="3048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5bb3c"/>
                </a:solidFill>
                <a:latin typeface="Arial Narrow"/>
              </a:rPr>
              <a:t>Solution</a:t>
            </a:r>
            <a:r>
              <a:rPr b="1" lang="en-US" sz="2400" spc="-1" strike="noStrike">
                <a:solidFill>
                  <a:srgbClr val="fadea0"/>
                </a:solidFill>
                <a:latin typeface="Arial Narrow"/>
              </a:rPr>
              <a:t>: Improved understanding of lead chemistry and mineralogy helps explain the success of the mitigation program.</a:t>
            </a:r>
            <a:r>
              <a:rPr b="1" lang="en-US" sz="2800" spc="-1" strike="noStrike">
                <a:solidFill>
                  <a:srgbClr val="fadea0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80880" y="3429000"/>
            <a:ext cx="2590920" cy="28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0dade"/>
                </a:solidFill>
                <a:latin typeface="Arial Narrow"/>
              </a:rPr>
              <a:t>Findings:  Although Pb(II) compounds were thought to be controlling, the scale in the DC WASA system was a mix of both Pb(II) and Pb(IV) scal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3784680" y="3276720"/>
            <a:ext cx="4825800" cy="3034440"/>
            <a:chOff x="3784680" y="3276720"/>
            <a:chExt cx="4825800" cy="3034440"/>
          </a:xfrm>
        </p:grpSpPr>
        <p:grpSp>
          <p:nvGrpSpPr>
            <p:cNvPr id="258" name=""/>
            <p:cNvGrpSpPr/>
            <p:nvPr/>
          </p:nvGrpSpPr>
          <p:grpSpPr>
            <a:xfrm>
              <a:off x="5003640" y="3568680"/>
              <a:ext cx="3606840" cy="2742480"/>
              <a:chOff x="5003640" y="3568680"/>
              <a:chExt cx="3606840" cy="2742480"/>
            </a:xfrm>
          </p:grpSpPr>
          <p:pic>
            <p:nvPicPr>
              <p:cNvPr id="259" name="" descr=""/>
              <p:cNvPicPr/>
              <p:nvPr/>
            </p:nvPicPr>
            <p:blipFill>
              <a:blip r:embed="rId1"/>
              <a:srcRect l="1429" t="0" r="1429" b="0"/>
              <a:stretch/>
            </p:blipFill>
            <p:spPr>
              <a:xfrm>
                <a:off x="5118120" y="3706560"/>
                <a:ext cx="3492360" cy="26046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60" name=""/>
              <p:cNvGrpSpPr/>
              <p:nvPr/>
            </p:nvGrpSpPr>
            <p:grpSpPr>
              <a:xfrm>
                <a:off x="5003640" y="5283000"/>
                <a:ext cx="2629080" cy="113760"/>
                <a:chOff x="5003640" y="5283000"/>
                <a:chExt cx="2629080" cy="113760"/>
              </a:xfrm>
            </p:grpSpPr>
            <p:sp>
              <p:nvSpPr>
                <p:cNvPr id="261" name=""/>
                <p:cNvSpPr/>
                <p:nvPr/>
              </p:nvSpPr>
              <p:spPr>
                <a:xfrm flipV="1">
                  <a:off x="5003640" y="5283000"/>
                  <a:ext cx="1371600" cy="113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5003640" y="5396760"/>
                  <a:ext cx="26290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3" name=""/>
              <p:cNvGrpSpPr/>
              <p:nvPr/>
            </p:nvGrpSpPr>
            <p:grpSpPr>
              <a:xfrm>
                <a:off x="5003640" y="4140000"/>
                <a:ext cx="2743200" cy="456840"/>
                <a:chOff x="5003640" y="4140000"/>
                <a:chExt cx="2743200" cy="456840"/>
              </a:xfrm>
            </p:grpSpPr>
            <p:sp>
              <p:nvSpPr>
                <p:cNvPr id="264" name=""/>
                <p:cNvSpPr/>
                <p:nvPr/>
              </p:nvSpPr>
              <p:spPr>
                <a:xfrm flipV="1">
                  <a:off x="5003640" y="4140000"/>
                  <a:ext cx="1371600" cy="228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V="1">
                  <a:off x="5003640" y="4253760"/>
                  <a:ext cx="1714320" cy="114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5003640" y="4368240"/>
                  <a:ext cx="274320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7" name=""/>
              <p:cNvGrpSpPr/>
              <p:nvPr/>
            </p:nvGrpSpPr>
            <p:grpSpPr>
              <a:xfrm>
                <a:off x="5803560" y="3568680"/>
                <a:ext cx="2400480" cy="1142640"/>
                <a:chOff x="5803560" y="3568680"/>
                <a:chExt cx="2400480" cy="1142640"/>
              </a:xfrm>
            </p:grpSpPr>
            <p:sp>
              <p:nvSpPr>
                <p:cNvPr id="268" name=""/>
                <p:cNvSpPr/>
                <p:nvPr/>
              </p:nvSpPr>
              <p:spPr>
                <a:xfrm flipH="1">
                  <a:off x="7404120" y="3568680"/>
                  <a:ext cx="342720" cy="342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7746840" y="3568680"/>
                  <a:ext cx="457200" cy="1142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 flipH="1">
                  <a:off x="5803560" y="3568680"/>
                  <a:ext cx="1942920" cy="914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71" name=""/>
            <p:cNvSpPr/>
            <p:nvPr/>
          </p:nvSpPr>
          <p:spPr>
            <a:xfrm>
              <a:off x="7061040" y="3276720"/>
              <a:ext cx="1524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2844"/>
                  </a:solidFill>
                  <a:latin typeface="Arial Narrow"/>
                </a:rPr>
                <a:t>Hydrocerussit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784680" y="5213160"/>
              <a:ext cx="129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2844"/>
                  </a:solidFill>
                  <a:latin typeface="Arial Narrow"/>
                </a:rPr>
                <a:t>PbO Massico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784680" y="4178160"/>
              <a:ext cx="129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2844"/>
                  </a:solidFill>
                  <a:latin typeface="Arial Narrow"/>
                </a:rPr>
                <a:t>PbO Litharg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4" name=""/>
          <p:cNvSpPr/>
          <p:nvPr/>
        </p:nvSpPr>
        <p:spPr>
          <a:xfrm>
            <a:off x="3581280" y="457200"/>
            <a:ext cx="5562720" cy="2666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2"/>
          <a:srcRect l="2030" t="0" r="4061" b="0"/>
          <a:stretch/>
        </p:blipFill>
        <p:spPr>
          <a:xfrm>
            <a:off x="3621240" y="609480"/>
            <a:ext cx="5367240" cy="231948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8686800" y="6400800"/>
            <a:ext cx="45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D8426-9742-44FB-97F0-B1722BAF20ED}" type="slidenum">
              <a:rPr b="0" lang="en-US" sz="9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284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28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914040" y="228240"/>
            <a:ext cx="7924680" cy="105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dea0"/>
                </a:solidFill>
                <a:latin typeface="Arial Narrow"/>
              </a:rPr>
              <a:t>Solution: The most extensive service-line replacement program ever conducted </a:t>
            </a:r>
            <a:endParaRPr b="1" lang="en-US" sz="3200" spc="-1" strike="noStrike">
              <a:solidFill>
                <a:srgbClr val="f5bb3c"/>
              </a:solidFill>
              <a:latin typeface="Arial Narrow"/>
            </a:endParaRPr>
          </a:p>
        </p:txBody>
      </p:sp>
      <p:sp>
        <p:nvSpPr>
          <p:cNvPr id="279" name=""/>
          <p:cNvSpPr/>
          <p:nvPr/>
        </p:nvSpPr>
        <p:spPr>
          <a:xfrm>
            <a:off x="457200" y="1295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0dade"/>
                </a:solidFill>
                <a:latin typeface="Arial Narrow"/>
              </a:rPr>
              <a:t>More than 2000 replacements per year at a cost exceeding $8 mill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1"/>
          <a:srcRect l="0" t="0" r="0" b="2570"/>
          <a:stretch/>
        </p:blipFill>
        <p:spPr>
          <a:xfrm>
            <a:off x="1066680" y="1905120"/>
            <a:ext cx="7131240" cy="472428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0" y="0"/>
            <a:ext cx="7315200" cy="701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8686800" y="6400800"/>
            <a:ext cx="45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8B928-28A4-4A62-87BF-6A914DE03486}" type="slidenum">
              <a:rPr b="0" lang="en-US" sz="9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284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37720" y="228240"/>
            <a:ext cx="7008840" cy="80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5bb3c"/>
                </a:solidFill>
                <a:latin typeface="Arial Narrow"/>
              </a:rPr>
              <a:t>Lessons Learned</a:t>
            </a:r>
            <a:endParaRPr b="1" lang="en-US" sz="3600" spc="-1" strike="noStrike">
              <a:solidFill>
                <a:srgbClr val="f5bb3c"/>
              </a:solidFill>
              <a:latin typeface="Arial Narrow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414440" y="1371600"/>
            <a:ext cx="742464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fadea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dea0"/>
                </a:solidFill>
                <a:latin typeface="Arial Narrow"/>
              </a:rPr>
              <a:t>Conventional LCR monitoring may not be adequate to define all metal release scenarios.  Nonetheless, it remains a viable and useful corrosion-control tool.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fadea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dea0"/>
                </a:solidFill>
                <a:latin typeface="Arial Narrow"/>
              </a:rPr>
              <a:t>The chemistry of lead solubility, oxidation and mobility is more complicated than previously understood.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fadea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dea0"/>
                </a:solidFill>
                <a:latin typeface="Arial Narrow"/>
              </a:rPr>
              <a:t>The lead issues are tractable – phosphates are highly effective at passivating LSL surfaces in a chloraminated environment.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85" name=""/>
          <p:cNvSpPr/>
          <p:nvPr/>
        </p:nvSpPr>
        <p:spPr>
          <a:xfrm>
            <a:off x="8686800" y="6400800"/>
            <a:ext cx="45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1AAFA-2FFE-4480-BE8E-8B2F66E15281}" type="slidenum">
              <a:rPr b="0" lang="en-US" sz="9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284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52214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5bb3c"/>
                </a:solidFill>
                <a:latin typeface="Arial Narrow"/>
              </a:rPr>
              <a:t>Lessons Learned</a:t>
            </a:r>
            <a:endParaRPr b="1" lang="en-US" sz="3600" spc="-1" strike="noStrike">
              <a:solidFill>
                <a:srgbClr val="f5bb3c"/>
              </a:solidFill>
              <a:latin typeface="Arial Narrow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523520" y="1599840"/>
            <a:ext cx="7232760" cy="383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fadea0"/>
              </a:buClr>
              <a:buFont typeface="Arial Narrow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dea0"/>
                </a:solidFill>
                <a:latin typeface="Arial Narrow"/>
              </a:rPr>
              <a:t>Distribution system re-equilibration is always an issue.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fadea0"/>
              </a:buClr>
              <a:buFont typeface="Arial Narrow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dea0"/>
                </a:solidFill>
                <a:latin typeface="Arial Narrow"/>
              </a:rPr>
              <a:t>Lead release dynamics can be accurately assessed at the laboratory scale. 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fadea0"/>
              </a:buClr>
              <a:buFont typeface="Arial Narrow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dea0"/>
                </a:solidFill>
                <a:latin typeface="Arial Narrow"/>
              </a:rPr>
              <a:t>Microbial regrowth in the distribution system is a manageable concern – even in the presence of the orthophosphate inhibitor.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88" name=""/>
          <p:cNvSpPr/>
          <p:nvPr/>
        </p:nvSpPr>
        <p:spPr>
          <a:xfrm>
            <a:off x="8686800" y="6400800"/>
            <a:ext cx="45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1E2E8-5C41-4E23-8FDB-10B72B704E04}" type="slidenum">
              <a:rPr b="0" lang="en-US" sz="9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284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52214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5bb3c"/>
                </a:solidFill>
                <a:latin typeface="Arial Narrow"/>
              </a:rPr>
              <a:t>Lessons Learned</a:t>
            </a:r>
            <a:endParaRPr b="1" lang="en-US" sz="3600" spc="-1" strike="noStrike">
              <a:solidFill>
                <a:srgbClr val="f5bb3c"/>
              </a:solidFill>
              <a:latin typeface="Arial Narrow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523880" y="1143000"/>
            <a:ext cx="670104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fadea0"/>
              </a:buClr>
              <a:buFont typeface="Arial Narrow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dea0"/>
                </a:solidFill>
                <a:latin typeface="Arial Narrow"/>
              </a:rPr>
              <a:t>pH control and/or calcite deposition, as corrosion-control strategies, are not sufficiently rigorous for LSLs.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fadea0"/>
              </a:buClr>
              <a:buFont typeface="Arial Narrow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dea0"/>
                </a:solidFill>
                <a:latin typeface="Arial Narrow"/>
              </a:rPr>
              <a:t>Issues associated with partial LSL replacement are manageable.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91" name=""/>
          <p:cNvSpPr/>
          <p:nvPr/>
        </p:nvSpPr>
        <p:spPr>
          <a:xfrm>
            <a:off x="8686800" y="6400800"/>
            <a:ext cx="45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895B7-8A96-411F-A288-0D84154F46F1}" type="slidenum">
              <a:rPr b="0" lang="en-US" sz="9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284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28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1"/>
          <a:stretch/>
        </p:blipFill>
        <p:spPr>
          <a:xfrm>
            <a:off x="4724280" y="1066680"/>
            <a:ext cx="3654720" cy="2741760"/>
          </a:xfrm>
          <a:prstGeom prst="rect">
            <a:avLst/>
          </a:prstGeom>
          <a:ln w="0">
            <a:noFill/>
          </a:ln>
        </p:spPr>
      </p:pic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110880"/>
            <a:ext cx="496728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5bb3c"/>
                </a:solidFill>
                <a:latin typeface="Arial Narrow"/>
              </a:rPr>
              <a:t>Continuing Research</a:t>
            </a:r>
            <a:endParaRPr b="1" lang="en-US" sz="3200" spc="-1" strike="noStrike">
              <a:solidFill>
                <a:srgbClr val="f5bb3c"/>
              </a:solidFill>
              <a:latin typeface="Arial Narrow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52578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buClr>
                <a:srgbClr val="fadea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adea0"/>
                </a:solidFill>
                <a:latin typeface="Arial Narrow"/>
              </a:rPr>
              <a:t>Continuing studies using</a:t>
            </a:r>
            <a:br>
              <a:rPr sz="2100"/>
            </a:br>
            <a:r>
              <a:rPr b="1" lang="en-US" sz="2100" spc="-1" strike="noStrike">
                <a:solidFill>
                  <a:srgbClr val="fadea0"/>
                </a:solidFill>
                <a:latin typeface="Arial Narrow"/>
              </a:rPr>
              <a:t>recirculation pipe loops</a:t>
            </a:r>
            <a:endParaRPr b="0" lang="en-US" sz="2100" spc="-1" strike="noStrike">
              <a:solidFill>
                <a:srgbClr val="ffffff"/>
              </a:solidFill>
              <a:latin typeface="Arial Narrow"/>
            </a:endParaRPr>
          </a:p>
          <a:p>
            <a:pPr marL="22860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96" name=""/>
          <p:cNvSpPr/>
          <p:nvPr/>
        </p:nvSpPr>
        <p:spPr>
          <a:xfrm>
            <a:off x="685800" y="4038480"/>
            <a:ext cx="52578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buClr>
                <a:srgbClr val="fadea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adea0"/>
                </a:solidFill>
                <a:latin typeface="Arial Narrow"/>
              </a:rPr>
              <a:t>New studies to evaluate: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fadea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dea0"/>
                </a:solidFill>
                <a:latin typeface="Arial Narrow"/>
              </a:rPr>
              <a:t>Impact of galvanic corrosion on lead releas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fadea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dea0"/>
                </a:solidFill>
                <a:latin typeface="Arial Narrow"/>
              </a:rPr>
              <a:t>pH management strategi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fadea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dea0"/>
                </a:solidFill>
                <a:latin typeface="Arial Narrow"/>
              </a:rPr>
              <a:t>Comparison of orthophosphate and zinc orthophospha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fadea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dea0"/>
                </a:solidFill>
                <a:latin typeface="Arial Narrow"/>
              </a:rPr>
              <a:t>NOM effec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fadea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" y="2819520"/>
            <a:ext cx="312408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buClr>
                <a:srgbClr val="fadea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adea0"/>
                </a:solidFill>
                <a:latin typeface="Arial Narrow"/>
              </a:rPr>
              <a:t>Additional LSL scale work</a:t>
            </a:r>
            <a:br>
              <a:rPr sz="2100"/>
            </a:br>
            <a:r>
              <a:rPr b="1" lang="en-US" sz="2100" spc="-1" strike="noStrike">
                <a:solidFill>
                  <a:srgbClr val="fadea0"/>
                </a:solidFill>
                <a:latin typeface="Arial Narrow"/>
              </a:rPr>
              <a:t>using X-ray diffraction,</a:t>
            </a:r>
            <a:br>
              <a:rPr sz="2100"/>
            </a:br>
            <a:r>
              <a:rPr b="1" lang="en-US" sz="2100" spc="-1" strike="noStrike">
                <a:solidFill>
                  <a:srgbClr val="fadea0"/>
                </a:solidFill>
                <a:latin typeface="Arial Narrow"/>
              </a:rPr>
              <a:t>Raman-Spectroscopy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fadea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85800" y="1905120"/>
            <a:ext cx="31240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buClr>
                <a:srgbClr val="fadea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adea0"/>
                </a:solidFill>
                <a:latin typeface="Arial Narrow"/>
              </a:rPr>
              <a:t>New flow-through pipe loop</a:t>
            </a:r>
            <a:br>
              <a:rPr sz="2100"/>
            </a:br>
            <a:r>
              <a:rPr b="1" lang="en-US" sz="2100" spc="-1" strike="noStrike">
                <a:solidFill>
                  <a:srgbClr val="fadea0"/>
                </a:solidFill>
                <a:latin typeface="Arial Narrow"/>
              </a:rPr>
              <a:t>studies to refine treatment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fadea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8686800" y="6400800"/>
            <a:ext cx="45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65357-C31D-4BCC-868A-B9B14FB3EA1B}" type="slidenum">
              <a:rPr b="0" lang="en-US" sz="9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284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95280" y="457200"/>
            <a:ext cx="5067360" cy="900000"/>
          </a:xfrm>
          <a:prstGeom prst="rect">
            <a:avLst/>
          </a:prstGeom>
          <a:noFill/>
          <a:ln w="0">
            <a:noFill/>
          </a:ln>
        </p:spPr>
        <p:txBody>
          <a:bodyPr rIns="0" tIns="0" bIns="0" anchor="ctr">
            <a:noAutofit/>
          </a:bodyPr>
          <a:p>
            <a:pPr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5bb3c"/>
                </a:solidFill>
                <a:latin typeface="Arial Narrow"/>
              </a:rPr>
              <a:t>Acknowledgments</a:t>
            </a:r>
            <a:endParaRPr b="1" lang="en-US" sz="3600" spc="-1" strike="noStrike">
              <a:solidFill>
                <a:srgbClr val="f5bb3c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752120" y="2590560"/>
            <a:ext cx="6705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5000"/>
              </a:lnSpc>
              <a:spcBef>
                <a:spcPts val="1500"/>
              </a:spcBef>
              <a:buClr>
                <a:srgbClr val="fadea0"/>
              </a:buClr>
              <a:buFont typeface="Arial Narrow"/>
              <a:buChar char="•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dea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adea0"/>
                </a:solidFill>
                <a:latin typeface="Arial Narrow"/>
              </a:rPr>
              <a:t>Laura Dufresne, The CADMUS Group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95000"/>
              </a:lnSpc>
              <a:spcBef>
                <a:spcPts val="1500"/>
              </a:spcBef>
              <a:buClr>
                <a:srgbClr val="fadea0"/>
              </a:buClr>
              <a:buFont typeface="Arial Narrow"/>
              <a:buChar char="•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dea0"/>
                </a:solidFill>
                <a:latin typeface="Arial Narrow"/>
              </a:rPr>
              <a:t>    </a:t>
            </a:r>
            <a:r>
              <a:rPr b="1" lang="en-US" sz="2400" spc="-1" strike="noStrike">
                <a:solidFill>
                  <a:srgbClr val="fadea0"/>
                </a:solidFill>
                <a:latin typeface="Arial Narrow"/>
              </a:rPr>
              <a:t>Greg Kirmeyer, HDR Engineering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95000"/>
              </a:lnSpc>
              <a:spcBef>
                <a:spcPts val="1500"/>
              </a:spcBef>
              <a:buClr>
                <a:srgbClr val="fadea0"/>
              </a:buClr>
              <a:buFont typeface="Arial Narrow"/>
              <a:buChar char="•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dea0"/>
                </a:solidFill>
                <a:latin typeface="Arial Narrow"/>
              </a:rPr>
              <a:t>    </a:t>
            </a:r>
            <a:r>
              <a:rPr b="1" lang="en-US" sz="2400" spc="-1" strike="noStrike">
                <a:solidFill>
                  <a:srgbClr val="fadea0"/>
                </a:solidFill>
                <a:latin typeface="Arial Narrow"/>
              </a:rPr>
              <a:t>John Wujek, Hatch Mott MacDonald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95000"/>
              </a:lnSpc>
              <a:spcBef>
                <a:spcPts val="1500"/>
              </a:spcBef>
              <a:buClr>
                <a:srgbClr val="fadea0"/>
              </a:buClr>
              <a:buFont typeface="Arial Narrow"/>
              <a:buChar char="•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dea0"/>
                </a:solidFill>
                <a:latin typeface="Arial Narrow"/>
              </a:rPr>
              <a:t>    </a:t>
            </a:r>
            <a:r>
              <a:rPr b="1" lang="en-US" sz="2400" spc="-1" strike="noStrike">
                <a:solidFill>
                  <a:srgbClr val="fadea0"/>
                </a:solidFill>
                <a:latin typeface="Arial Narrow"/>
              </a:rPr>
              <a:t>John Civardi, Hatch Mott MacDonald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95000"/>
              </a:lnSpc>
              <a:spcBef>
                <a:spcPts val="1500"/>
              </a:spcBef>
              <a:buClr>
                <a:srgbClr val="fadea0"/>
              </a:buClr>
              <a:buFont typeface="Arial Narrow"/>
              <a:buChar char="•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dea0"/>
                </a:solidFill>
                <a:latin typeface="Arial Narrow"/>
              </a:rPr>
              <a:t>    </a:t>
            </a:r>
            <a:r>
              <a:rPr b="1" lang="en-US" sz="2400" spc="-1" strike="noStrike">
                <a:solidFill>
                  <a:srgbClr val="fadea0"/>
                </a:solidFill>
                <a:latin typeface="Arial Narrow"/>
              </a:rPr>
              <a:t>Gregory Korshin, University of Washington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95000"/>
              </a:lnSpc>
              <a:spcBef>
                <a:spcPts val="1500"/>
              </a:spcBef>
              <a:buClr>
                <a:srgbClr val="fadea0"/>
              </a:buClr>
              <a:buFont typeface="Arial Narrow"/>
              <a:buChar char="•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dea0"/>
                </a:solidFill>
                <a:latin typeface="Arial Narrow"/>
              </a:rPr>
              <a:t>    </a:t>
            </a:r>
            <a:r>
              <a:rPr b="1" lang="en-US" sz="2400" spc="-1" strike="noStrike">
                <a:solidFill>
                  <a:srgbClr val="fadea0"/>
                </a:solidFill>
                <a:latin typeface="Arial Narrow"/>
              </a:rPr>
              <a:t>Mike Schock, EPA Office of Research and</a:t>
            </a:r>
            <a:br>
              <a:rPr sz="2400"/>
            </a:br>
            <a:r>
              <a:rPr b="1" lang="en-US" sz="2400" spc="-1" strike="noStrike">
                <a:solidFill>
                  <a:srgbClr val="fadea0"/>
                </a:solidFill>
                <a:latin typeface="Arial Narrow"/>
              </a:rPr>
              <a:t>     Development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8" name=""/>
          <p:cNvSpPr/>
          <p:nvPr/>
        </p:nvSpPr>
        <p:spPr>
          <a:xfrm>
            <a:off x="1371600" y="1447920"/>
            <a:ext cx="670572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ctr">
            <a:noAutofit/>
          </a:bodyPr>
          <a:p>
            <a:pPr>
              <a:lnSpc>
                <a:spcPct val="9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dea0"/>
                </a:solidFill>
                <a:latin typeface="Arial Narrow"/>
              </a:rPr>
              <a:t>This paper was prepared with substantial contributions from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610480" y="6629400"/>
            <a:ext cx="304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3E4EA-08F8-4E1D-A958-ED69D998AE32}" type="slidenum">
              <a:rPr b="0" lang="en-US" sz="9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284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447920" y="457200"/>
            <a:ext cx="7772400" cy="14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5bb3c"/>
                </a:solidFill>
                <a:latin typeface="Arial Narrow"/>
              </a:rPr>
              <a:t>The DC Lead experience has helped change corrosion science (as regards distribution systems) in several meaningful ways:</a:t>
            </a:r>
            <a:endParaRPr b="1" lang="en-US" sz="3200" spc="-1" strike="noStrike">
              <a:solidFill>
                <a:srgbClr val="f5bb3c"/>
              </a:solidFill>
              <a:latin typeface="Arial Narrow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905120" y="2666880"/>
            <a:ext cx="6248160" cy="32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80000"/>
              </a:lnSpc>
              <a:spcBef>
                <a:spcPts val="1400"/>
              </a:spcBef>
              <a:buClr>
                <a:srgbClr val="fadea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dea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fadea0"/>
                </a:solidFill>
                <a:latin typeface="Arial Narrow"/>
              </a:rPr>
              <a:t>Issues of magnitude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80000"/>
              </a:lnSpc>
              <a:spcBef>
                <a:spcPts val="1400"/>
              </a:spcBef>
              <a:buClr>
                <a:srgbClr val="fadea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dea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fadea0"/>
                </a:solidFill>
                <a:latin typeface="Arial Narrow"/>
              </a:rPr>
              <a:t>Interactions of material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80000"/>
              </a:lnSpc>
              <a:spcBef>
                <a:spcPts val="1400"/>
              </a:spcBef>
              <a:buClr>
                <a:srgbClr val="fadea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dea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fadea0"/>
                </a:solidFill>
                <a:latin typeface="Arial Narrow"/>
              </a:rPr>
              <a:t>Questions of measurement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80000"/>
              </a:lnSpc>
              <a:spcBef>
                <a:spcPts val="1400"/>
              </a:spcBef>
              <a:buClr>
                <a:srgbClr val="fadea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dea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fadea0"/>
                </a:solidFill>
                <a:latin typeface="Arial Narrow"/>
              </a:rPr>
              <a:t>Corrosion Indice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80000"/>
              </a:lnSpc>
              <a:spcBef>
                <a:spcPts val="1400"/>
              </a:spcBef>
              <a:buClr>
                <a:srgbClr val="fadea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dea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fadea0"/>
                </a:solidFill>
                <a:latin typeface="Arial Narrow"/>
              </a:rPr>
              <a:t>Redox stability of corrosion scale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2" name=""/>
          <p:cNvSpPr/>
          <p:nvPr/>
        </p:nvSpPr>
        <p:spPr>
          <a:xfrm>
            <a:off x="8610480" y="6629400"/>
            <a:ext cx="304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99477-AB1B-4C96-A6EA-26CC53CDE85A}" type="slidenum">
              <a:rPr b="0" lang="en-US" sz="9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bg>
      <p:bgPr>
        <a:solidFill>
          <a:srgbClr val="00284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28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457200"/>
            <a:ext cx="6019920" cy="601992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6019920" y="533520"/>
            <a:ext cx="2869920" cy="46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46800" bIns="46800" anchor="t">
            <a:spAutoFit/>
          </a:bodyPr>
          <a:p>
            <a:pPr>
              <a:lnSpc>
                <a:spcPct val="10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dea0"/>
                </a:solidFill>
                <a:latin typeface="Arial Narrow"/>
              </a:rPr>
              <a:t>The District of Columbia Water and Sewer Authority (DC WASA) is just one entity in a consecutive system supplied treated water from the Potomac by the U.S. Army Corps of Engineers (Aqueduct Authority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610480" y="6629400"/>
            <a:ext cx="304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A5303-E402-4C3F-BCDC-CB1E554C4C65}" type="slidenum">
              <a:rPr b="0" lang="en-US" sz="9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284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68580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5bb3c"/>
                </a:solidFill>
                <a:latin typeface="Arial Narrow"/>
              </a:rPr>
              <a:t>To ensure compliance with Stage II of the DBP Rule, the Aqueduct converted to chloramination (2001).</a:t>
            </a:r>
            <a:endParaRPr b="1" lang="en-US" sz="3200" spc="-1" strike="noStrike">
              <a:solidFill>
                <a:srgbClr val="f5bb3c"/>
              </a:solidFill>
              <a:latin typeface="Arial Narrow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0" y="1828800"/>
            <a:ext cx="9144000" cy="3276360"/>
            <a:chOff x="0" y="1828800"/>
            <a:chExt cx="9144000" cy="3276360"/>
          </a:xfrm>
        </p:grpSpPr>
        <p:grpSp>
          <p:nvGrpSpPr>
            <p:cNvPr id="109" name=""/>
            <p:cNvGrpSpPr/>
            <p:nvPr/>
          </p:nvGrpSpPr>
          <p:grpSpPr>
            <a:xfrm>
              <a:off x="0" y="1828800"/>
              <a:ext cx="9144000" cy="3276360"/>
              <a:chOff x="0" y="1828800"/>
              <a:chExt cx="9144000" cy="3276360"/>
            </a:xfrm>
          </p:grpSpPr>
          <p:sp>
            <p:nvSpPr>
              <p:cNvPr id="110" name=""/>
              <p:cNvSpPr/>
              <p:nvPr/>
            </p:nvSpPr>
            <p:spPr>
              <a:xfrm>
                <a:off x="0" y="1828800"/>
                <a:ext cx="9144000" cy="3276360"/>
              </a:xfrm>
              <a:prstGeom prst="rect">
                <a:avLst/>
              </a:prstGeom>
              <a:solidFill>
                <a:srgbClr val="fade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11" name=""/>
              <p:cNvGrpSpPr/>
              <p:nvPr/>
            </p:nvGrpSpPr>
            <p:grpSpPr>
              <a:xfrm>
                <a:off x="1066680" y="1981080"/>
                <a:ext cx="6858000" cy="533520"/>
                <a:chOff x="1066680" y="1981080"/>
                <a:chExt cx="6858000" cy="533520"/>
              </a:xfrm>
            </p:grpSpPr>
            <p:sp>
              <p:nvSpPr>
                <p:cNvPr id="112" name=""/>
                <p:cNvSpPr/>
                <p:nvPr/>
              </p:nvSpPr>
              <p:spPr>
                <a:xfrm>
                  <a:off x="1066680" y="1981080"/>
                  <a:ext cx="0" cy="533520"/>
                </a:xfrm>
                <a:prstGeom prst="line">
                  <a:avLst/>
                </a:prstGeom>
                <a:ln w="38160">
                  <a:solidFill>
                    <a:srgbClr val="00284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1523880" y="1981080"/>
                  <a:ext cx="0" cy="533520"/>
                </a:xfrm>
                <a:prstGeom prst="line">
                  <a:avLst/>
                </a:prstGeom>
                <a:ln w="25560">
                  <a:solidFill>
                    <a:srgbClr val="00284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1981080" y="1981080"/>
                  <a:ext cx="0" cy="533520"/>
                </a:xfrm>
                <a:prstGeom prst="line">
                  <a:avLst/>
                </a:prstGeom>
                <a:ln w="25560">
                  <a:solidFill>
                    <a:srgbClr val="00284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2438280" y="1981080"/>
                  <a:ext cx="0" cy="533520"/>
                </a:xfrm>
                <a:prstGeom prst="line">
                  <a:avLst/>
                </a:prstGeom>
                <a:ln w="25560">
                  <a:solidFill>
                    <a:srgbClr val="00284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2895480" y="1981080"/>
                  <a:ext cx="0" cy="533520"/>
                </a:xfrm>
                <a:prstGeom prst="line">
                  <a:avLst/>
                </a:prstGeom>
                <a:ln w="25560">
                  <a:solidFill>
                    <a:srgbClr val="00284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3352680" y="1981080"/>
                  <a:ext cx="0" cy="533520"/>
                </a:xfrm>
                <a:prstGeom prst="line">
                  <a:avLst/>
                </a:prstGeom>
                <a:ln w="25560">
                  <a:solidFill>
                    <a:srgbClr val="00284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3809880" y="1981080"/>
                  <a:ext cx="0" cy="533520"/>
                </a:xfrm>
                <a:prstGeom prst="line">
                  <a:avLst/>
                </a:prstGeom>
                <a:ln w="25560">
                  <a:solidFill>
                    <a:srgbClr val="00284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4267080" y="1981080"/>
                  <a:ext cx="0" cy="533520"/>
                </a:xfrm>
                <a:prstGeom prst="line">
                  <a:avLst/>
                </a:prstGeom>
                <a:ln w="25560">
                  <a:solidFill>
                    <a:srgbClr val="00284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724280" y="1981080"/>
                  <a:ext cx="0" cy="533520"/>
                </a:xfrm>
                <a:prstGeom prst="line">
                  <a:avLst/>
                </a:prstGeom>
                <a:ln w="25560">
                  <a:solidFill>
                    <a:srgbClr val="00284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5181480" y="1981080"/>
                  <a:ext cx="0" cy="533520"/>
                </a:xfrm>
                <a:prstGeom prst="line">
                  <a:avLst/>
                </a:prstGeom>
                <a:ln w="25560">
                  <a:solidFill>
                    <a:srgbClr val="00284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638680" y="1981080"/>
                  <a:ext cx="0" cy="533520"/>
                </a:xfrm>
                <a:prstGeom prst="line">
                  <a:avLst/>
                </a:prstGeom>
                <a:ln w="38160">
                  <a:solidFill>
                    <a:srgbClr val="00284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6095880" y="1981080"/>
                  <a:ext cx="0" cy="533520"/>
                </a:xfrm>
                <a:prstGeom prst="line">
                  <a:avLst/>
                </a:prstGeom>
                <a:ln w="25560">
                  <a:solidFill>
                    <a:srgbClr val="00284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6553080" y="1981080"/>
                  <a:ext cx="0" cy="533520"/>
                </a:xfrm>
                <a:prstGeom prst="line">
                  <a:avLst/>
                </a:prstGeom>
                <a:ln w="25560">
                  <a:solidFill>
                    <a:srgbClr val="00284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7010280" y="1981080"/>
                  <a:ext cx="0" cy="533520"/>
                </a:xfrm>
                <a:prstGeom prst="line">
                  <a:avLst/>
                </a:prstGeom>
                <a:ln w="25560">
                  <a:solidFill>
                    <a:srgbClr val="00284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7467480" y="1981080"/>
                  <a:ext cx="0" cy="533520"/>
                </a:xfrm>
                <a:prstGeom prst="line">
                  <a:avLst/>
                </a:prstGeom>
                <a:ln w="25560">
                  <a:solidFill>
                    <a:srgbClr val="00284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7924680" y="1981080"/>
                  <a:ext cx="0" cy="533520"/>
                </a:xfrm>
                <a:prstGeom prst="line">
                  <a:avLst/>
                </a:prstGeom>
                <a:ln w="25560">
                  <a:solidFill>
                    <a:srgbClr val="00284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8" name=""/>
              <p:cNvSpPr/>
              <p:nvPr/>
            </p:nvSpPr>
            <p:spPr>
              <a:xfrm>
                <a:off x="609480" y="2666880"/>
                <a:ext cx="838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2844"/>
                    </a:solidFill>
                    <a:latin typeface="Arial"/>
                  </a:rPr>
                  <a:t>1990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181480" y="2666880"/>
                <a:ext cx="838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2844"/>
                    </a:solidFill>
                    <a:latin typeface="Arial"/>
                  </a:rPr>
                  <a:t>2000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1066680" y="3676680"/>
                <a:ext cx="5334120" cy="533160"/>
              </a:xfrm>
              <a:prstGeom prst="rightArrow">
                <a:avLst>
                  <a:gd name="adj1" fmla="val 50000"/>
                  <a:gd name="adj2" fmla="val 250118"/>
                </a:avLst>
              </a:prstGeom>
              <a:solidFill>
                <a:srgbClr val="002844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6400800" y="3676680"/>
                <a:ext cx="1676520" cy="533160"/>
              </a:xfrm>
              <a:prstGeom prst="rightArrow">
                <a:avLst>
                  <a:gd name="adj1" fmla="val 50000"/>
                  <a:gd name="adj2" fmla="val 78612"/>
                </a:avLst>
              </a:prstGeom>
              <a:solidFill>
                <a:srgbClr val="002844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1752480" y="4228920"/>
                <a:ext cx="2819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2844"/>
                    </a:solidFill>
                    <a:latin typeface="Arial"/>
                  </a:rPr>
                  <a:t>Free Chlorination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5791320" y="4228920"/>
                <a:ext cx="2819160" cy="76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6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2844"/>
                    </a:solidFill>
                    <a:latin typeface="Arial"/>
                  </a:rPr>
                  <a:t>Chloramination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6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2844"/>
                    </a:solidFill>
                    <a:latin typeface="Arial"/>
                  </a:rPr>
                  <a:t>NH</a:t>
                </a:r>
                <a:r>
                  <a:rPr b="1" lang="en-US" sz="1800" spc="-1" strike="noStrike" baseline="-25000">
                    <a:solidFill>
                      <a:srgbClr val="002844"/>
                    </a:solidFill>
                    <a:latin typeface="Arial"/>
                  </a:rPr>
                  <a:t>2</a:t>
                </a:r>
                <a:r>
                  <a:rPr b="1" lang="en-US" sz="1800" spc="-1" strike="noStrike">
                    <a:solidFill>
                      <a:srgbClr val="002844"/>
                    </a:solidFill>
                    <a:latin typeface="Arial"/>
                  </a:rPr>
                  <a:t>Cl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1066680" y="3124080"/>
                <a:ext cx="3429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2844"/>
                    </a:solidFill>
                    <a:latin typeface="Arial"/>
                  </a:rPr>
                  <a:t>Secondary Disinfectant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5" name=""/>
            <p:cNvSpPr/>
            <p:nvPr/>
          </p:nvSpPr>
          <p:spPr>
            <a:xfrm>
              <a:off x="457200" y="2209680"/>
              <a:ext cx="8077320" cy="76320"/>
            </a:xfrm>
            <a:prstGeom prst="rect">
              <a:avLst/>
            </a:prstGeom>
            <a:solidFill>
              <a:srgbClr val="00284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6" name=""/>
          <p:cNvSpPr/>
          <p:nvPr/>
        </p:nvSpPr>
        <p:spPr>
          <a:xfrm>
            <a:off x="1143000" y="5257800"/>
            <a:ext cx="7315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5bb3c"/>
                </a:solidFill>
                <a:latin typeface="Arial Narrow"/>
              </a:rPr>
              <a:t>No good deed goes unpunished.  </a:t>
            </a:r>
            <a:r>
              <a:rPr b="1" lang="en-US" sz="1800" spc="-1" strike="noStrike">
                <a:solidFill>
                  <a:srgbClr val="fadea0"/>
                </a:solidFill>
                <a:latin typeface="Arial Narrow"/>
              </a:rPr>
              <a:t>Chloramination was an appropriate response to a public health issue (DBPs).  There was little (none) case-history literature to suggest the importance of lead-oxide re-equilibration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610480" y="6629400"/>
            <a:ext cx="304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FB2A7-D04E-4DB1-AD1B-48A94A2B28CC}" type="slidenum">
              <a:rPr b="0" lang="en-US" sz="9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284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7132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5bb3c"/>
                </a:solidFill>
                <a:latin typeface="Arial Narrow"/>
              </a:rPr>
              <a:t>Redox potential influences the mineral forms of oxidized lead.</a:t>
            </a:r>
            <a:endParaRPr b="1" lang="en-US" sz="3600" spc="-1" strike="noStrike">
              <a:solidFill>
                <a:srgbClr val="f5bb3c"/>
              </a:solidFill>
              <a:latin typeface="Arial Narrow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13513" b="2674"/>
          <a:stretch/>
        </p:blipFill>
        <p:spPr>
          <a:xfrm>
            <a:off x="1562040" y="2198520"/>
            <a:ext cx="6019920" cy="4281480"/>
          </a:xfrm>
          <a:prstGeom prst="rect">
            <a:avLst/>
          </a:prstGeom>
          <a:ln w="15840">
            <a:solidFill>
              <a:srgbClr val="ffffff"/>
            </a:solidFill>
            <a:miter/>
          </a:ln>
        </p:spPr>
      </p:pic>
      <p:sp>
        <p:nvSpPr>
          <p:cNvPr id="140" name=""/>
          <p:cNvSpPr/>
          <p:nvPr/>
        </p:nvSpPr>
        <p:spPr>
          <a:xfrm>
            <a:off x="5715000" y="2286000"/>
            <a:ext cx="297180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28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e392e"/>
                </a:solidFill>
                <a:latin typeface="Arial"/>
              </a:rPr>
              <a:t>Free chlorine conditio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52480" y="4952880"/>
            <a:ext cx="160020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28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e392e"/>
                </a:solidFill>
                <a:latin typeface="Arial"/>
              </a:rPr>
              <a:t>Chloramine conditio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838080" y="152388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b(II) mineral solubility  &gt;&gt;  Pb(IV) mineral oxid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3352680" y="4266720"/>
            <a:ext cx="1600200" cy="762120"/>
          </a:xfrm>
          <a:prstGeom prst="line">
            <a:avLst/>
          </a:prstGeom>
          <a:ln w="9360">
            <a:solidFill>
              <a:srgbClr val="00284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029200" y="3352680"/>
            <a:ext cx="152280" cy="152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28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952880" y="4191120"/>
            <a:ext cx="152640" cy="152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28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5181120" y="2666880"/>
            <a:ext cx="1143000" cy="685800"/>
          </a:xfrm>
          <a:prstGeom prst="line">
            <a:avLst/>
          </a:prstGeom>
          <a:ln w="9360">
            <a:solidFill>
              <a:srgbClr val="00284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8534520" y="6324480"/>
            <a:ext cx="609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6B583-5B77-46B3-B49B-71F23A7FC439}" type="slidenum">
              <a:rPr b="0" lang="en-US" sz="9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284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23520" y="2286000"/>
            <a:ext cx="6629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5bb3c"/>
                </a:solidFill>
                <a:latin typeface="Arial Narrow"/>
              </a:rPr>
              <a:t>The engineering challenges were many and varied, but generally fell into one of seven categories. </a:t>
            </a:r>
            <a:endParaRPr b="1" lang="en-US" sz="3600" spc="-1" strike="noStrike">
              <a:solidFill>
                <a:srgbClr val="f5bb3c"/>
              </a:solidFill>
              <a:latin typeface="Arial Narrow"/>
            </a:endParaRPr>
          </a:p>
        </p:txBody>
      </p:sp>
      <p:sp>
        <p:nvSpPr>
          <p:cNvPr id="149" name=""/>
          <p:cNvSpPr/>
          <p:nvPr/>
        </p:nvSpPr>
        <p:spPr>
          <a:xfrm>
            <a:off x="5029200" y="3997440"/>
            <a:ext cx="3446640" cy="19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8610480" y="6629400"/>
            <a:ext cx="304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FB9B9-CBA4-4083-A226-6CF818B0ED67}" type="slidenum">
              <a:rPr b="0" lang="en-US" sz="9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284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28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adea0"/>
                </a:solidFill>
                <a:uFillTx/>
                <a:latin typeface="Arial Narrow"/>
              </a:rPr>
              <a:t>Challenge:</a:t>
            </a:r>
            <a:r>
              <a:rPr b="1" lang="en-US" sz="3200" spc="-1" strike="noStrike">
                <a:solidFill>
                  <a:srgbClr val="fadea0"/>
                </a:solidFill>
                <a:latin typeface="Arial Narrow"/>
              </a:rPr>
              <a:t>  Identify the source and nature of the metals release!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3" name=""/>
          <p:cNvSpPr/>
          <p:nvPr/>
        </p:nvSpPr>
        <p:spPr>
          <a:xfrm>
            <a:off x="4336920" y="3962520"/>
            <a:ext cx="41277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029200" y="3997440"/>
            <a:ext cx="3446640" cy="19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304920" y="3657600"/>
          <a:ext cx="4663800" cy="304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3657600"/>
                    <a:ext cx="4663800" cy="3041640"/>
                  </a:xfrm>
                  <a:prstGeom prst="rect">
                    <a:avLst/>
                  </a:prstGeom>
                  <a:ln w="9360">
                    <a:solidFill>
                      <a:srgbClr val="002844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157" name="" descr=""/>
          <p:cNvPicPr/>
          <p:nvPr/>
        </p:nvPicPr>
        <p:blipFill>
          <a:blip r:embed="rId3"/>
          <a:srcRect l="1054" t="0" r="1054" b="0"/>
          <a:stretch/>
        </p:blipFill>
        <p:spPr>
          <a:xfrm>
            <a:off x="4038480" y="1219320"/>
            <a:ext cx="4800600" cy="2970000"/>
          </a:xfrm>
          <a:prstGeom prst="rect">
            <a:avLst/>
          </a:prstGeom>
          <a:ln w="25560">
            <a:solidFill>
              <a:srgbClr val="002844"/>
            </a:solidFill>
            <a:miter/>
          </a:ln>
        </p:spPr>
      </p:pic>
      <p:sp>
        <p:nvSpPr>
          <p:cNvPr id="158" name=""/>
          <p:cNvSpPr/>
          <p:nvPr/>
        </p:nvSpPr>
        <p:spPr>
          <a:xfrm>
            <a:off x="304920" y="31240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dea0"/>
                </a:solidFill>
                <a:latin typeface="Arial Narrow"/>
              </a:rPr>
              <a:t>Household Lead Prof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990720" y="160020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0dade"/>
                </a:solidFill>
                <a:latin typeface="Arial Narrow"/>
              </a:rPr>
              <a:t>LCR Compliance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334120" y="1905120"/>
            <a:ext cx="144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 Narrow"/>
              </a:rPr>
              <a:t>Chloramination implemente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629400" y="2590920"/>
            <a:ext cx="380880" cy="457200"/>
          </a:xfrm>
          <a:prstGeom prst="line">
            <a:avLst/>
          </a:prstGeom>
          <a:ln w="9360">
            <a:solidFill>
              <a:srgbClr val="00284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610480" y="6629400"/>
            <a:ext cx="304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1B2DF-BB54-4F9F-BF70-C73F12C76B8D}" type="slidenum">
              <a:rPr b="0" lang="en-US" sz="9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4T16:42:39Z</dcterms:created>
  <dc:creator>HDR Engineering</dc:creator>
  <dc:description/>
  <dc:language>en-US</dc:language>
  <cp:lastModifiedBy>AMSA</cp:lastModifiedBy>
  <dcterms:modified xsi:type="dcterms:W3CDTF">2006-07-19T20:14:22Z</dcterms:modified>
  <cp:revision>62</cp:revision>
  <dc:subject/>
  <dc:title>Slide 1</dc:title>
</cp:coreProperties>
</file>