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4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2.png"/><Relationship Id="rId6" Type="http://schemas.openxmlformats.org/officeDocument/2006/relationships/image" Target="../media/image4.jpeg"/><Relationship Id="rId7" Type="http://schemas.openxmlformats.org/officeDocument/2006/relationships/image" Target="../media/image2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rcRect l="9091" t="0" r="0" b="11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 flipH="1">
            <a:off x="0" y="6478560"/>
            <a:ext cx="9144000" cy="379440"/>
          </a:xfrm>
          <a:prstGeom prst="rect">
            <a:avLst/>
          </a:prstGeom>
          <a:gradFill rotWithShape="0">
            <a:gsLst>
              <a:gs pos="0">
                <a:srgbClr val="38c9e4"/>
              </a:gs>
              <a:gs pos="100000">
                <a:srgbClr val="024076">
                  <a:alpha val="3137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75320"/>
            <a:ext cx="612468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0" t="-3466" r="0" b="-1609"/>
          <a:stretch/>
        </p:blipFill>
        <p:spPr>
          <a:xfrm>
            <a:off x="5265720" y="5678640"/>
            <a:ext cx="1089000" cy="133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1004760"/>
          </a:xfrm>
          <a:prstGeom prst="rect">
            <a:avLst/>
          </a:prstGeom>
          <a:gradFill rotWithShape="0">
            <a:gsLst>
              <a:gs pos="0">
                <a:srgbClr val="38c9e4"/>
              </a:gs>
              <a:gs pos="100000">
                <a:srgbClr val="024076">
                  <a:alpha val="6313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rcRect l="0" t="6703" r="0" b="10449"/>
          <a:stretch/>
        </p:blipFill>
        <p:spPr>
          <a:xfrm>
            <a:off x="5383080" y="5910120"/>
            <a:ext cx="800280" cy="7876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rcRect l="0" t="-3466" r="0" b="-1609"/>
          <a:stretch/>
        </p:blipFill>
        <p:spPr>
          <a:xfrm>
            <a:off x="4375080" y="5692680"/>
            <a:ext cx="993960" cy="1305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>
            <a:lum bright="12000"/>
          </a:blip>
          <a:srcRect l="0" t="0" r="31916" b="0"/>
          <a:stretch/>
        </p:blipFill>
        <p:spPr>
          <a:xfrm>
            <a:off x="4414680" y="5916600"/>
            <a:ext cx="798840" cy="78588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rcRect l="0" t="-3466" r="0" b="-1609"/>
          <a:stretch/>
        </p:blipFill>
        <p:spPr>
          <a:xfrm>
            <a:off x="3351240" y="5673600"/>
            <a:ext cx="1089000" cy="13338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rcRect l="23625" t="10664" r="13991" b="0"/>
          <a:stretch/>
        </p:blipFill>
        <p:spPr>
          <a:xfrm>
            <a:off x="3441600" y="5913360"/>
            <a:ext cx="830520" cy="78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969840"/>
            <a:ext cx="761976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merging Contaminant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 they be regulated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if so, how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90280" y="3208320"/>
            <a:ext cx="7172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y Woodis, Metro Waste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 Nelson, CH2M H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CWA Summer Confer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 20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Why is EPA not Ready to Develop Criteria for ECs in the Near Term?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 many compounds to study, much less to develop crite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compounds are developed that enter the market all th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A needs to develop the methods to measure toxicity of compou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enough money for the need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agreed upon detection lev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How Could the States or EPA be Pushed to Regulate ECs?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party law su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public demands 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stream water provider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tory agencies out to “save the environment”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re to “do something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rst Step Would be to Apply Existing Standard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32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tions under the SDWA and the CWA already limit some ECs, specifically endocrine disrupto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estic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atrazine, chlordane, DDT, endrin, lindane, methoxychlor, simazine, and toxaphe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onpesticide organ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benzo(a)pyrene, bis(2-ethyhexyl) phthalate, dioxin, and PCB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organic chemica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cadmium, lead, and mercu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Human Health Standards Exist for Some ECs (SDWA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11040" y="1171440"/>
          <a:ext cx="8529840" cy="4367520"/>
        </p:xfrm>
        <a:graphic>
          <a:graphicData uri="http://schemas.openxmlformats.org/drawingml/2006/table">
            <a:tbl>
              <a:tblPr/>
              <a:tblGrid>
                <a:gridCol w="2403720"/>
                <a:gridCol w="1993680"/>
                <a:gridCol w="1204920"/>
                <a:gridCol w="1474920"/>
                <a:gridCol w="145260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amet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CLG ug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CL ug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fetime Health Advisory, ug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E-6 Cancer R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Atraz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Benzo(a)pyrene (PA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Chlord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DD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Dioxin (2,3,7,8 TCD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00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End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Ethylhexyl phthalate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(BIS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Lind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Methoxych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PCB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Simaz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Toxaph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riteria Already Exist for Some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Cs (CWA)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77720" y="1216080"/>
          <a:ext cx="8399520" cy="4157640"/>
        </p:xfrm>
        <a:graphic>
          <a:graphicData uri="http://schemas.openxmlformats.org/drawingml/2006/table">
            <a:tbl>
              <a:tblPr/>
              <a:tblGrid>
                <a:gridCol w="3409920"/>
                <a:gridCol w="2295720"/>
                <a:gridCol w="2693880"/>
              </a:tblGrid>
              <a:tr h="433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amet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PA Water + Fish, ug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PA Fish Ingestion, ug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Atraz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Stand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Stand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Benzo(a)pyrene (PA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Chlord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DD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Dioxin (2,3,7,8 TCD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E-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10E-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Endr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Ethylhexyl phthalate (BIS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Lind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Methoxych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Stand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PCB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00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00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Simaz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Stand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Stand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Toxaph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0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0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mplementation of existing criteria could present challenges to discharger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772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ado Wastewater Utility Council initiated a study on organics and wastewater treatment plant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growth of the water quality standards hearing on organi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El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gathered from several WWTPs detected several organic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levels in possible sources to the stream based on existing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e what addition data will be necessar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ed on ethylhexyl phthalate (Bis-2)– an endocrine disrupter.  All WWTPs had some lev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Results of Study Industrial Wastewater Discharges - Bis 2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62080" y="1120680"/>
          <a:ext cx="8458200" cy="4386240"/>
        </p:xfrm>
        <a:graphic>
          <a:graphicData uri="http://schemas.openxmlformats.org/drawingml/2006/table">
            <a:tbl>
              <a:tblPr/>
              <a:tblGrid>
                <a:gridCol w="2114280"/>
                <a:gridCol w="1162080"/>
                <a:gridCol w="1322640"/>
                <a:gridCol w="914400"/>
                <a:gridCol w="1012680"/>
                <a:gridCol w="1017720"/>
                <a:gridCol w="9144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Samp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f Det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Det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imum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ug/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im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ug/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ug/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Aluminum Form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13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Foundr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Coal M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Rubber Proces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4,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8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Auto and other laundr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Nonferrous Metals Manufactur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Timber Products Proces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Textile Mil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Ore Mining and Dres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Pulp and Paperboard Mil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Paint and Ink Formul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Coil Coa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Photographic Equipment/Suppl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ormation represents data from the USEPA verification program, table provided by Metro Distric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Results of Study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Bis 2 Storm Water Concentration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04640" y="1212840"/>
          <a:ext cx="8423280" cy="4457880"/>
        </p:xfrm>
        <a:graphic>
          <a:graphicData uri="http://schemas.openxmlformats.org/drawingml/2006/table">
            <a:tbl>
              <a:tblPr/>
              <a:tblGrid>
                <a:gridCol w="3353040"/>
                <a:gridCol w="1144440"/>
                <a:gridCol w="981000"/>
                <a:gridCol w="1063800"/>
                <a:gridCol w="1003320"/>
                <a:gridCol w="877680"/>
              </a:tblGrid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d 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mpl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mpl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mple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Sand Creek Tributary at 34th Avenue and Hav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ustr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South Platte River Storm Drain at 7th Ave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ustr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South Platte River Storm Drain at 54th and Stee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ustr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Villa Italia Storm Drain at Newland Str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r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Cherry Creek Storm Drain at Colfax Ave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r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Cherry Creek Storm Drain at University Blv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r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North Sanderson Gulch Tribut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dent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Shop Creek at Parker Ro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dent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The mean is of all samples including non-detects.  Non-detects were considered zero for calculating the mea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Wastewater Discharge Concentrations of Bis 2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219320"/>
          <a:ext cx="8229600" cy="2336760"/>
        </p:xfrm>
        <a:graphic>
          <a:graphicData uri="http://schemas.openxmlformats.org/drawingml/2006/table">
            <a:tbl>
              <a:tblPr/>
              <a:tblGrid>
                <a:gridCol w="1819440"/>
                <a:gridCol w="1187280"/>
                <a:gridCol w="1108080"/>
                <a:gridCol w="1266840"/>
                <a:gridCol w="1581120"/>
                <a:gridCol w="126684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ame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o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t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of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 of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tect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 o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tect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 of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tect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Metro 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Colorado Spr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Centennial WS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776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ennial has not industrial us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le Lim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L = 6 ug/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cer Risk = 3 ug/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+ Fish = 1.2 ug/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sh Ingestion = 2.2 ug/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nclusions of WWUC Study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detectable levels of endocrine disrupting compounds in wastewater, stormwater and industrial discharg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ufficient data available in Colorado on water quality levels in the strea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ggestion is for additional study including data collection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What are Considered to be Emerging Contaminants?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Endocrine disrupt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mimic natural hormon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Pharmaceuticals and Personal Care Produ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human &amp; veterinary drugs, fragrances, sunscreens, supplements, etc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Industrial and Household Chemica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flame retardants, plasticizers, etc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WWUC Study for BIS-2 and Nonylphenol 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s is to measure the fate and transport of Bis-2 and Nonyphenol in urban semi arid environments including influent, effluent, and receiving strea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ers of the CWWUC will sample their own effluent and receiving strea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EC to perform interpretation of d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possible biological, chemical and physical processes controlling the occurrence and distribution of these compoun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on the study result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WWUC Study for BIS-2 and Nonylphenol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initiated in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eld and laboratory work in 2007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 report completed in 2008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ll waiting approval from CWWU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ity of Omaha CSO Study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of the City’s monitoring of CSOs and their impa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GS performing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period is from July 2006 to Septem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ce monthly sampling – once during dry weather and once during wet wea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onitor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ocat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535040"/>
            <a:ext cx="372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ing sites includ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 streams locat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on Papillion Cr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on Missouri 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SO Points (1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mwater (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36920" y="-274680"/>
            <a:ext cx="5692680" cy="73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Omaha CSO Monitoring Pla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4 different organic compounds being analyz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s(2-Ethylhexyl) phthalat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ffe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tin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Nonylphenol, diethoxyl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ylphenol, monoethoxylat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ty Cont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ty Gr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mail: mgrate@ci.omaha.ne.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GS Cont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son Vogel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Lincoln, N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hone (402) 328-413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mail: jrvogel@usgs.go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What other ways could ECs be controlled? 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 limits as “Less than detection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re is no known safe limit, make sure that it is not detectable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literature 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assumptions based on small amount of resear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 a minimum level of treat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tiary Treat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 Osmo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 discharger to perform research to establish li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What regulatory controls are in place? 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luent guidelin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state of the art treatment based lim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ial Pretreatment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 focused influent samp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t Management Pract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ld be treatment rel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solid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ify to require types of treat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new stand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-3466" r="0" b="-1609"/>
          <a:stretch/>
        </p:blipFill>
        <p:spPr>
          <a:xfrm>
            <a:off x="4788000" y="860400"/>
            <a:ext cx="4633920" cy="37353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What You Can Do?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7720" y="1164960"/>
            <a:ext cx="4778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education on the issu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e that effective organic removal in WWTPs generally results in effective EC removal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ipate in monitoring studies to develop more information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urage pollution prevention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>
            <a:lum bright="6000"/>
          </a:blip>
          <a:srcRect l="0" t="0" r="0" b="11475"/>
          <a:stretch/>
        </p:blipFill>
        <p:spPr>
          <a:xfrm>
            <a:off x="5191200" y="1384200"/>
            <a:ext cx="347976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Why does Metro care about this?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66760" y="223920"/>
            <a:ext cx="8877240" cy="6491160"/>
            <a:chOff x="266760" y="223920"/>
            <a:chExt cx="8877240" cy="6491160"/>
          </a:xfrm>
        </p:grpSpPr>
        <p:pic>
          <p:nvPicPr>
            <p:cNvPr id="54" name="" descr=""/>
            <p:cNvPicPr/>
            <p:nvPr/>
          </p:nvPicPr>
          <p:blipFill>
            <a:blip r:embed="rId1"/>
            <a:srcRect l="0" t="-3466" r="0" b="-1609"/>
            <a:stretch/>
          </p:blipFill>
          <p:spPr>
            <a:xfrm>
              <a:off x="266760" y="223920"/>
              <a:ext cx="8877240" cy="64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rcRect l="9805" t="8338" r="40199" b="65131"/>
            <a:stretch/>
          </p:blipFill>
          <p:spPr>
            <a:xfrm>
              <a:off x="1044720" y="1246320"/>
              <a:ext cx="6835680" cy="4016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etro &amp; Front Range Consideration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 perception is: “There may be problem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ro is the largest wastewater facility in the state of Colora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ro is located on the edge of the plains, at the “bottom” of significant topographic ch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nt Range cities are water-limi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development projects in the South Platte basin are under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reuse is common (reclaimed water and reu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ossible Regulatory Approaches for Emerging Contaminan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17560" y="1636200"/>
            <a:ext cx="7848720" cy="40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 Safe Drinking Water A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 health-based consid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 Clean Water A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quatic life-based criter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ion of drinking water suppl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stablishment of Drinking Water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riteria by EPA (SDWA)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er-reviewed epidemiological studies regarding human heal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rence in the environm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 exposu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s of adverse health effects in the general population and sensitive subpopulat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tical methods of detec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ical feasibility, i.e., can the limits be me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acts of regulation on water systems, the economy, and public heal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-3466" r="0" b="-1609"/>
          <a:stretch/>
        </p:blipFill>
        <p:spPr>
          <a:xfrm>
            <a:off x="5280120" y="1063800"/>
            <a:ext cx="4048200" cy="2760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-3466" r="0" b="-1609"/>
          <a:stretch/>
        </p:blipFill>
        <p:spPr>
          <a:xfrm>
            <a:off x="6473880" y="2330280"/>
            <a:ext cx="2506680" cy="32832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stablishment of Water Quality Criteria by EPA (CWA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2040" y="1400040"/>
            <a:ext cx="5641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tection of designated us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Human health impacts, e.g., bioaccumulation in people and epidemiological studi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egree of environmental attenuation of compounds over tim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egree of removal in wastewater treatmen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mpacts on aquatic speci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numeric or narra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Mullet/white Sucker"/>
          <p:cNvPicPr/>
          <p:nvPr/>
        </p:nvPicPr>
        <p:blipFill>
          <a:blip r:embed="rId3"/>
          <a:stretch/>
        </p:blipFill>
        <p:spPr>
          <a:xfrm>
            <a:off x="5567400" y="1536840"/>
            <a:ext cx="313992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>
            <a:lum bright="6000"/>
          </a:blip>
          <a:srcRect l="6480" t="7689" r="8473" b="14906"/>
          <a:stretch/>
        </p:blipFill>
        <p:spPr>
          <a:xfrm>
            <a:off x="6696000" y="2863800"/>
            <a:ext cx="181764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Development of State Water Quality Standard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7720" y="136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EPA criteria (must be as stringent as EP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be based on site specific information or a different interpretation of study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use Best Professional Judgment for Permit Lim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d on a review of litera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d on evaluation of 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regulations that apply to development of BP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-3466" r="0" b="-1609"/>
          <a:stretch/>
        </p:blipFill>
        <p:spPr>
          <a:xfrm>
            <a:off x="5916600" y="774720"/>
            <a:ext cx="3227400" cy="53071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Are There Plans for Regulation of ECs by EPA?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1760" y="1599840"/>
            <a:ext cx="599904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s could show up on the 2008 drinking water Contaminant Candidate List; next one due 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e out in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A is not actively developing any water quality criteria for E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A needs additional funding to perform needed research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A must develop meaningful biological endpoints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0" t="8998" r="0" b="0"/>
          <a:stretch/>
        </p:blipFill>
        <p:spPr>
          <a:xfrm>
            <a:off x="6383160" y="1476360"/>
            <a:ext cx="23385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21:07:01Z</dcterms:created>
  <dc:creator>Amy Woodis</dc:creator>
  <dc:description/>
  <dc:language>en-US</dc:language>
  <cp:lastModifiedBy>pnelson</cp:lastModifiedBy>
  <dcterms:modified xsi:type="dcterms:W3CDTF">2006-07-05T13:59:28Z</dcterms:modified>
  <cp:revision>74</cp:revision>
  <dc:subject/>
  <dc:title>Emerging Contaminants: Will they be regulated,  and if so, how?</dc:title>
</cp:coreProperties>
</file>