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2006 NACWA Summer Conference</a:t>
            </a:r>
            <a:br>
              <a:rPr sz="2800"/>
            </a:b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Cross-Cutting Clean Water and Drinking Water Issue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urce Water Protection and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atershed Management Solution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ew York City’s Water Supply System: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Case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5714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ilary Meltzer, Senior Counse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ew York City Law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147680" y="1566720"/>
            <a:ext cx="6846840" cy="529128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4809960" y="2571840"/>
            <a:ext cx="2332080" cy="3070080"/>
            <a:chOff x="4809960" y="2571840"/>
            <a:chExt cx="2332080" cy="3070080"/>
          </a:xfrm>
        </p:grpSpPr>
        <p:sp>
          <p:nvSpPr>
            <p:cNvPr id="57" name=""/>
            <p:cNvSpPr/>
            <p:nvPr/>
          </p:nvSpPr>
          <p:spPr>
            <a:xfrm>
              <a:off x="4809960" y="3772080"/>
              <a:ext cx="88920" cy="88560"/>
            </a:xfrm>
            <a:prstGeom prst="hexagon">
              <a:avLst>
                <a:gd name="adj" fmla="val 25102"/>
                <a:gd name="vf" fmla="val 115470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8680" y="4033800"/>
              <a:ext cx="88920" cy="8892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253120" y="5553000"/>
              <a:ext cx="88920" cy="8892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053120" y="3614760"/>
              <a:ext cx="88920" cy="8892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43560" y="2571840"/>
              <a:ext cx="88920" cy="8892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1733400" y="4849920"/>
            <a:ext cx="1857600" cy="276480"/>
            <a:chOff x="1733400" y="4849920"/>
            <a:chExt cx="1857600" cy="276480"/>
          </a:xfrm>
        </p:grpSpPr>
        <p:sp>
          <p:nvSpPr>
            <p:cNvPr id="63" name=""/>
            <p:cNvSpPr/>
            <p:nvPr/>
          </p:nvSpPr>
          <p:spPr>
            <a:xfrm>
              <a:off x="1733400" y="4930920"/>
              <a:ext cx="88920" cy="8892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47880" y="4849920"/>
              <a:ext cx="174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City WWT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52440"/>
            <a:ext cx="822960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Black"/>
              </a:rPr>
              <a:t>NYC WWTPs in Cat/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94080" y="6521400"/>
            <a:ext cx="415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 Black"/>
              </a:rPr>
              <a:t>Total permitted flow: 2.38 mg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387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Black"/>
              </a:rPr>
              <a:t>NYS Public Health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1254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tute that authorizes City to regulate also requires City to p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hen regulations require sewage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hen regulations require removal of build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917 Regulations established requirements for treating sew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wage disposal systems in the watershed required City appr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o disposal into watercourses or mars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o disposal on the ground within 130 feet of watercourses or mars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imited disposal within 250 feet of watercourses or mars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38708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 Black"/>
              </a:rPr>
              <a:t>Current Legal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1240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ederal Clean Water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 discharges of pollutants w/o per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NY State Environmental Conservation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mplements NPDES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NY State Public Health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andards for septic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NYC Watershed Reg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ity approval required for WWTPs and septic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dditional siting requirements and treatment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1840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Black"/>
              </a:rPr>
              <a:t>Requirements for WWTPs:</a:t>
            </a:r>
            <a:br>
              <a:rPr sz="3600"/>
            </a:br>
            <a:r>
              <a:rPr b="1" lang="en-US" sz="2400" spc="-1" strike="noStrike">
                <a:solidFill>
                  <a:srgbClr val="000066"/>
                </a:solidFill>
                <a:latin typeface="Arial Black"/>
              </a:rPr>
              <a:t>1997 Watershed Reg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0192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ll WWTPs (new or exis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hosphorus rem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and fil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sinfection if &gt;30,000 gp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ll surface-discharging WWTPs (new or exis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sinf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99.9% removal and/or inactivation of Giardia (SWT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99.99% removal and/or inactivation of enteric vir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icrofiltration or approved equival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 new or expanded surface-discharging WWTPs within “60-day travel tim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imitations on new or expanded WWTPs in “phosphorus restricted basin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1840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Black"/>
              </a:rPr>
              <a:t>NYC Pays Incremental Co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6372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eclaratory Ruling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: City pays all costs of complying with City regulations that exceed requirements of State and federal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ublic” WWT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&amp;M as well as capital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997 Watershed MO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: City will pay upgrade costs and O&amp;M for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all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existing WWT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ver 100 WWTPs – including 70 in Croton water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pproximately 40% not “public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urrent budget -- $270M; estimated shortfall $11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New or expanded WWT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ity pays only if “public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147680" y="1566720"/>
            <a:ext cx="6846840" cy="5291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68360" y="1281240"/>
            <a:ext cx="820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Pre-MOA WWTPs in Cat/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65200" y="6521400"/>
            <a:ext cx="801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 Black"/>
              </a:rPr>
              <a:t>Total permitted flow: 5.68 mgd in Cat/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981680" y="3792600"/>
            <a:ext cx="88920" cy="88920"/>
          </a:xfrm>
          <a:prstGeom prst="triangle">
            <a:avLst>
              <a:gd name="adj" fmla="val 50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95920" y="3384720"/>
            <a:ext cx="88920" cy="88560"/>
          </a:xfrm>
          <a:prstGeom prst="triangle">
            <a:avLst>
              <a:gd name="adj" fmla="val 50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96000" y="3429000"/>
            <a:ext cx="88920" cy="88920"/>
          </a:xfrm>
          <a:prstGeom prst="triangle">
            <a:avLst>
              <a:gd name="adj" fmla="val 50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81680" y="3429000"/>
            <a:ext cx="114480" cy="66600"/>
          </a:xfrm>
          <a:prstGeom prst="ellipse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24520" y="3486240"/>
            <a:ext cx="114480" cy="66600"/>
          </a:xfrm>
          <a:prstGeom prst="ellipse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686640" y="3533760"/>
            <a:ext cx="114120" cy="66600"/>
          </a:xfrm>
          <a:prstGeom prst="ellipse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05720" y="2882880"/>
            <a:ext cx="88920" cy="88920"/>
          </a:xfrm>
          <a:prstGeom prst="triangle">
            <a:avLst>
              <a:gd name="adj" fmla="val 50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591240" y="3486240"/>
            <a:ext cx="114480" cy="66600"/>
          </a:xfrm>
          <a:prstGeom prst="ellipse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24800" y="2935440"/>
            <a:ext cx="88920" cy="88920"/>
          </a:xfrm>
          <a:prstGeom prst="triangle">
            <a:avLst>
              <a:gd name="adj" fmla="val 50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53240" y="2859120"/>
            <a:ext cx="88920" cy="88920"/>
          </a:xfrm>
          <a:prstGeom prst="triangle">
            <a:avLst>
              <a:gd name="adj" fmla="val 50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15000" y="2919240"/>
            <a:ext cx="114480" cy="66960"/>
          </a:xfrm>
          <a:prstGeom prst="ellipse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986120" y="2286000"/>
            <a:ext cx="5214960" cy="3355920"/>
            <a:chOff x="1986120" y="2286000"/>
            <a:chExt cx="5214960" cy="3355920"/>
          </a:xfrm>
        </p:grpSpPr>
        <p:sp>
          <p:nvSpPr>
            <p:cNvPr id="90" name=""/>
            <p:cNvSpPr/>
            <p:nvPr/>
          </p:nvSpPr>
          <p:spPr>
            <a:xfrm>
              <a:off x="1986120" y="3340080"/>
              <a:ext cx="88920" cy="88920"/>
            </a:xfrm>
            <a:prstGeom prst="triangle">
              <a:avLst>
                <a:gd name="adj" fmla="val 50000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948120" y="3654360"/>
              <a:ext cx="88920" cy="88920"/>
            </a:xfrm>
            <a:prstGeom prst="triangle">
              <a:avLst>
                <a:gd name="adj" fmla="val 50000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67160" y="3638520"/>
              <a:ext cx="114120" cy="66600"/>
            </a:xfrm>
            <a:prstGeom prst="ellipse">
              <a:avLst/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71840" y="3086280"/>
              <a:ext cx="114480" cy="66600"/>
            </a:xfrm>
            <a:prstGeom prst="ellipse">
              <a:avLst/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00640" y="2733840"/>
              <a:ext cx="114120" cy="66600"/>
            </a:xfrm>
            <a:prstGeom prst="ellipse">
              <a:avLst/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338720" y="2568600"/>
              <a:ext cx="88920" cy="88920"/>
            </a:xfrm>
            <a:prstGeom prst="triangle">
              <a:avLst>
                <a:gd name="adj" fmla="val 50000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76760" y="2476440"/>
              <a:ext cx="114480" cy="66600"/>
            </a:xfrm>
            <a:prstGeom prst="ellipse">
              <a:avLst/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19760" y="2286000"/>
              <a:ext cx="114120" cy="66600"/>
            </a:xfrm>
            <a:prstGeom prst="ellipse">
              <a:avLst/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067280" y="4002120"/>
              <a:ext cx="88920" cy="88920"/>
            </a:xfrm>
            <a:prstGeom prst="triangle">
              <a:avLst>
                <a:gd name="adj" fmla="val 50000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38840" y="3029040"/>
              <a:ext cx="114120" cy="66600"/>
            </a:xfrm>
            <a:prstGeom prst="ellipse">
              <a:avLst/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77040" y="3886200"/>
              <a:ext cx="114120" cy="66600"/>
            </a:xfrm>
            <a:prstGeom prst="ellipse">
              <a:avLst/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58080" y="3506760"/>
              <a:ext cx="88560" cy="88920"/>
            </a:xfrm>
            <a:prstGeom prst="triangle">
              <a:avLst>
                <a:gd name="adj" fmla="val 50000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72280" y="4653000"/>
              <a:ext cx="114120" cy="66600"/>
            </a:xfrm>
            <a:prstGeom prst="ellipse">
              <a:avLst/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86600" y="3271680"/>
              <a:ext cx="114480" cy="66960"/>
            </a:xfrm>
            <a:prstGeom prst="ellipse">
              <a:avLst/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86720" y="3133800"/>
              <a:ext cx="114120" cy="66600"/>
            </a:xfrm>
            <a:prstGeom prst="ellipse">
              <a:avLst/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62720" y="2406600"/>
              <a:ext cx="88920" cy="88920"/>
            </a:xfrm>
            <a:prstGeom prst="triangle">
              <a:avLst>
                <a:gd name="adj" fmla="val 50000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62640" y="2425680"/>
              <a:ext cx="84240" cy="88920"/>
            </a:xfrm>
            <a:prstGeom prst="triangle">
              <a:avLst>
                <a:gd name="adj" fmla="val 50000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809960" y="2571840"/>
              <a:ext cx="2332080" cy="3070080"/>
              <a:chOff x="4809960" y="2571840"/>
              <a:chExt cx="2332080" cy="3070080"/>
            </a:xfrm>
          </p:grpSpPr>
          <p:sp>
            <p:nvSpPr>
              <p:cNvPr id="108" name=""/>
              <p:cNvSpPr/>
              <p:nvPr/>
            </p:nvSpPr>
            <p:spPr>
              <a:xfrm>
                <a:off x="4809960" y="3772080"/>
                <a:ext cx="88920" cy="88560"/>
              </a:xfrm>
              <a:prstGeom prst="hexagon">
                <a:avLst>
                  <a:gd name="adj" fmla="val 25102"/>
                  <a:gd name="vf" fmla="val 115470"/>
                </a:avLst>
              </a:prstGeom>
              <a:solidFill>
                <a:srgbClr val="fbdf5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638680" y="4033800"/>
                <a:ext cx="88920" cy="8892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bdf5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253120" y="5553000"/>
                <a:ext cx="88920" cy="8892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bdf5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053120" y="3614760"/>
                <a:ext cx="88920" cy="8892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bdf5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443560" y="2571840"/>
                <a:ext cx="88920" cy="8892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bdf5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6738840" y="4716360"/>
              <a:ext cx="88920" cy="88920"/>
            </a:xfrm>
            <a:prstGeom prst="triangle">
              <a:avLst>
                <a:gd name="adj" fmla="val 50000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29280" y="4606920"/>
              <a:ext cx="88920" cy="88920"/>
            </a:xfrm>
            <a:prstGeom prst="triangle">
              <a:avLst>
                <a:gd name="adj" fmla="val 50000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6791400" y="2938320"/>
            <a:ext cx="114120" cy="66960"/>
          </a:xfrm>
          <a:prstGeom prst="ellipse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86640" y="2824200"/>
            <a:ext cx="114120" cy="66600"/>
          </a:xfrm>
          <a:prstGeom prst="ellipse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3543480"/>
            <a:ext cx="114480" cy="66600"/>
          </a:xfrm>
          <a:prstGeom prst="ellipse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709640" y="4516560"/>
            <a:ext cx="2090880" cy="609840"/>
            <a:chOff x="1709640" y="4516560"/>
            <a:chExt cx="2090880" cy="609840"/>
          </a:xfrm>
        </p:grpSpPr>
        <p:sp>
          <p:nvSpPr>
            <p:cNvPr id="119" name=""/>
            <p:cNvSpPr/>
            <p:nvPr/>
          </p:nvSpPr>
          <p:spPr>
            <a:xfrm>
              <a:off x="1828800" y="4849920"/>
              <a:ext cx="174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Non-Public WWT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1709640" y="4516560"/>
              <a:ext cx="1857600" cy="276480"/>
              <a:chOff x="1709640" y="4516560"/>
              <a:chExt cx="1857600" cy="276480"/>
            </a:xfrm>
          </p:grpSpPr>
          <p:sp>
            <p:nvSpPr>
              <p:cNvPr id="121" name=""/>
              <p:cNvSpPr/>
              <p:nvPr/>
            </p:nvSpPr>
            <p:spPr>
              <a:xfrm>
                <a:off x="1709640" y="4597560"/>
                <a:ext cx="88920" cy="8892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bdf5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824120" y="4516560"/>
                <a:ext cx="174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City WWT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1816200" y="4681440"/>
              <a:ext cx="198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Other Public WWT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09640" y="4772160"/>
              <a:ext cx="114480" cy="66600"/>
            </a:xfrm>
            <a:prstGeom prst="ellipse">
              <a:avLst/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709640" y="4930920"/>
              <a:ext cx="88920" cy="88920"/>
            </a:xfrm>
            <a:prstGeom prst="triangle">
              <a:avLst>
                <a:gd name="adj" fmla="val 50000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9600" y="1184040"/>
            <a:ext cx="8618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Black"/>
              </a:rPr>
              <a:t>Additional Wastewater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6372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wer Extension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tensions of the sewer system at 5 NYC WWTPs in Catskill/Delaware ($11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ptic 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ity funds repair/replacement of failing or inadequate septic systems (~$3M/y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ew Sewage Treatment Infrastructur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7 new WWTPs in Catskill/Dela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ity pays total capital costs ($90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ity pays “incremental” O&amp;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ity pays “household subsidy” for O&amp;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ity pays “business supplement” for O&amp;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p to 15 additional projects, may be community septics or septic maintenance districts (~$40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ity pays “household subsidy” for O&amp;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1147680" y="1363680"/>
            <a:ext cx="6846840" cy="5291280"/>
            <a:chOff x="1147680" y="1363680"/>
            <a:chExt cx="6846840" cy="5291280"/>
          </a:xfrm>
        </p:grpSpPr>
        <p:pic>
          <p:nvPicPr>
            <p:cNvPr id="129" name="" descr=""/>
            <p:cNvPicPr/>
            <p:nvPr/>
          </p:nvPicPr>
          <p:blipFill>
            <a:blip r:embed="rId2"/>
            <a:stretch/>
          </p:blipFill>
          <p:spPr>
            <a:xfrm>
              <a:off x="1147680" y="1363680"/>
              <a:ext cx="6846840" cy="529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4253040" y="3468960"/>
              <a:ext cx="88920" cy="88920"/>
            </a:xfrm>
            <a:prstGeom prst="star5">
              <a:avLst/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153040" y="2973600"/>
              <a:ext cx="88920" cy="88920"/>
            </a:xfrm>
            <a:prstGeom prst="star5">
              <a:avLst/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62520" y="2563920"/>
              <a:ext cx="88920" cy="88920"/>
            </a:xfrm>
            <a:prstGeom prst="star5">
              <a:avLst/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19880" y="2664000"/>
              <a:ext cx="88920" cy="88920"/>
            </a:xfrm>
            <a:prstGeom prst="star5">
              <a:avLst/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615000" y="3316320"/>
              <a:ext cx="88920" cy="88920"/>
            </a:xfrm>
            <a:prstGeom prst="star5">
              <a:avLst/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43520" y="3854520"/>
              <a:ext cx="88920" cy="88920"/>
            </a:xfrm>
            <a:prstGeom prst="star5">
              <a:avLst/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105520" y="3559320"/>
              <a:ext cx="88920" cy="88920"/>
            </a:xfrm>
            <a:prstGeom prst="star5">
              <a:avLst/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171880" y="11970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Post-MOA WWT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9600" y="6330960"/>
            <a:ext cx="852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 Black"/>
              </a:rPr>
              <a:t>Total NIP flow: 0.77M; New total Cat/Del: 6.45M; East of Hudson: 6.51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Black"/>
              </a:rPr>
              <a:t>TOTAL NYC Watershed permitted flow: 12.96 mg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714680" y="4665600"/>
            <a:ext cx="1855080" cy="276480"/>
            <a:chOff x="1714680" y="4665600"/>
            <a:chExt cx="1855080" cy="276480"/>
          </a:xfrm>
        </p:grpSpPr>
        <p:sp>
          <p:nvSpPr>
            <p:cNvPr id="140" name=""/>
            <p:cNvSpPr/>
            <p:nvPr/>
          </p:nvSpPr>
          <p:spPr>
            <a:xfrm>
              <a:off x="1714680" y="4763880"/>
              <a:ext cx="88560" cy="88920"/>
            </a:xfrm>
            <a:prstGeom prst="star5">
              <a:avLst/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827000" y="4665600"/>
              <a:ext cx="1742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NIP WWT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986120" y="2082960"/>
            <a:ext cx="5214960" cy="3355920"/>
            <a:chOff x="1986120" y="2082960"/>
            <a:chExt cx="5214960" cy="3355920"/>
          </a:xfrm>
        </p:grpSpPr>
        <p:sp>
          <p:nvSpPr>
            <p:cNvPr id="143" name=""/>
            <p:cNvSpPr/>
            <p:nvPr/>
          </p:nvSpPr>
          <p:spPr>
            <a:xfrm>
              <a:off x="1986120" y="3137040"/>
              <a:ext cx="88920" cy="88920"/>
            </a:xfrm>
            <a:prstGeom prst="triangle">
              <a:avLst>
                <a:gd name="adj" fmla="val 50000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948120" y="3451320"/>
              <a:ext cx="88920" cy="88920"/>
            </a:xfrm>
            <a:prstGeom prst="triangle">
              <a:avLst>
                <a:gd name="adj" fmla="val 50000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567160" y="3435480"/>
              <a:ext cx="114120" cy="66600"/>
            </a:xfrm>
            <a:prstGeom prst="ellipse">
              <a:avLst/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71840" y="2883240"/>
              <a:ext cx="114480" cy="66600"/>
            </a:xfrm>
            <a:prstGeom prst="ellipse">
              <a:avLst/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400640" y="2530800"/>
              <a:ext cx="114120" cy="66600"/>
            </a:xfrm>
            <a:prstGeom prst="ellipse">
              <a:avLst/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38720" y="2365560"/>
              <a:ext cx="88920" cy="88920"/>
            </a:xfrm>
            <a:prstGeom prst="triangle">
              <a:avLst>
                <a:gd name="adj" fmla="val 50000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76760" y="2273400"/>
              <a:ext cx="114480" cy="66600"/>
            </a:xfrm>
            <a:prstGeom prst="ellipse">
              <a:avLst/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19760" y="2082960"/>
              <a:ext cx="114120" cy="66600"/>
            </a:xfrm>
            <a:prstGeom prst="ellipse">
              <a:avLst/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67280" y="3799080"/>
              <a:ext cx="88920" cy="88920"/>
            </a:xfrm>
            <a:prstGeom prst="triangle">
              <a:avLst>
                <a:gd name="adj" fmla="val 50000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938840" y="2826000"/>
              <a:ext cx="114120" cy="66600"/>
            </a:xfrm>
            <a:prstGeom prst="ellipse">
              <a:avLst/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77040" y="3683160"/>
              <a:ext cx="114120" cy="66600"/>
            </a:xfrm>
            <a:prstGeom prst="ellipse">
              <a:avLst/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58080" y="3303720"/>
              <a:ext cx="88560" cy="88920"/>
            </a:xfrm>
            <a:prstGeom prst="triangle">
              <a:avLst>
                <a:gd name="adj" fmla="val 50000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72280" y="4449960"/>
              <a:ext cx="114120" cy="66600"/>
            </a:xfrm>
            <a:prstGeom prst="ellipse">
              <a:avLst/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86600" y="3068640"/>
              <a:ext cx="114480" cy="66960"/>
            </a:xfrm>
            <a:prstGeom prst="ellipse">
              <a:avLst/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86720" y="2930760"/>
              <a:ext cx="114120" cy="66600"/>
            </a:xfrm>
            <a:prstGeom prst="ellipse">
              <a:avLst/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62720" y="2203560"/>
              <a:ext cx="88920" cy="88920"/>
            </a:xfrm>
            <a:prstGeom prst="triangle">
              <a:avLst>
                <a:gd name="adj" fmla="val 50000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62640" y="2222640"/>
              <a:ext cx="84240" cy="88920"/>
            </a:xfrm>
            <a:prstGeom prst="triangle">
              <a:avLst>
                <a:gd name="adj" fmla="val 50000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4809960" y="2368800"/>
              <a:ext cx="2332080" cy="3070080"/>
              <a:chOff x="4809960" y="2368800"/>
              <a:chExt cx="2332080" cy="3070080"/>
            </a:xfrm>
          </p:grpSpPr>
          <p:sp>
            <p:nvSpPr>
              <p:cNvPr id="161" name=""/>
              <p:cNvSpPr/>
              <p:nvPr/>
            </p:nvSpPr>
            <p:spPr>
              <a:xfrm>
                <a:off x="4809960" y="3569040"/>
                <a:ext cx="88920" cy="88560"/>
              </a:xfrm>
              <a:prstGeom prst="hexagon">
                <a:avLst>
                  <a:gd name="adj" fmla="val 25102"/>
                  <a:gd name="vf" fmla="val 115470"/>
                </a:avLst>
              </a:prstGeom>
              <a:solidFill>
                <a:srgbClr val="fbdf5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638680" y="3830760"/>
                <a:ext cx="88920" cy="8892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bdf5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253120" y="5349960"/>
                <a:ext cx="88920" cy="8892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bdf5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053120" y="3411720"/>
                <a:ext cx="88920" cy="8892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bdf5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443560" y="2368800"/>
                <a:ext cx="88920" cy="8892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bdf5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738840" y="4513320"/>
              <a:ext cx="88920" cy="88920"/>
            </a:xfrm>
            <a:prstGeom prst="triangle">
              <a:avLst>
                <a:gd name="adj" fmla="val 50000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929280" y="4403880"/>
              <a:ext cx="88920" cy="88920"/>
            </a:xfrm>
            <a:prstGeom prst="triangle">
              <a:avLst>
                <a:gd name="adj" fmla="val 50000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09640" y="4160880"/>
            <a:ext cx="2090880" cy="609840"/>
            <a:chOff x="1709640" y="4160880"/>
            <a:chExt cx="2090880" cy="609840"/>
          </a:xfrm>
        </p:grpSpPr>
        <p:sp>
          <p:nvSpPr>
            <p:cNvPr id="169" name=""/>
            <p:cNvSpPr/>
            <p:nvPr/>
          </p:nvSpPr>
          <p:spPr>
            <a:xfrm>
              <a:off x="1828800" y="4494240"/>
              <a:ext cx="174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Non-Public WWT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1709640" y="4160880"/>
              <a:ext cx="1857600" cy="276480"/>
              <a:chOff x="1709640" y="4160880"/>
              <a:chExt cx="1857600" cy="276480"/>
            </a:xfrm>
          </p:grpSpPr>
          <p:sp>
            <p:nvSpPr>
              <p:cNvPr id="171" name=""/>
              <p:cNvSpPr/>
              <p:nvPr/>
            </p:nvSpPr>
            <p:spPr>
              <a:xfrm>
                <a:off x="1709640" y="4241880"/>
                <a:ext cx="88920" cy="8892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bdf5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824120" y="4160880"/>
                <a:ext cx="174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City WWT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1816200" y="4325760"/>
              <a:ext cx="198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Other Public WWT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09640" y="4416480"/>
              <a:ext cx="114480" cy="66600"/>
            </a:xfrm>
            <a:prstGeom prst="ellipse">
              <a:avLst/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709640" y="4575240"/>
              <a:ext cx="88920" cy="88920"/>
            </a:xfrm>
            <a:prstGeom prst="triangle">
              <a:avLst>
                <a:gd name="adj" fmla="val 50000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085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Black"/>
              </a:rPr>
              <a:t>Other Protection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1840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Land Acquisition ($270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86372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No condem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ee and conservation eas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ommercial areas/population centers off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ity pays ta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olicitatio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355,000 acres solic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f owner accepts, City will bu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Land held in perpetuity for water quality pro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387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Black"/>
              </a:rPr>
              <a:t>Source Water Protection</a:t>
            </a:r>
            <a:br>
              <a:rPr sz="3600"/>
            </a:br>
            <a:r>
              <a:rPr b="1" i="1" lang="en-US" sz="3600" spc="-1" strike="noStrike">
                <a:solidFill>
                  <a:srgbClr val="000066"/>
                </a:solidFill>
                <a:latin typeface="Arial Black"/>
              </a:rPr>
              <a:t> from wh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689200"/>
            <a:ext cx="822960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hospho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reated waste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adequate septic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gricultural and urban runoff (including new develop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tho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aterfowl and other wild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gri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OT treated wastewater; no combined sew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urbi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aturally occur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1840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Land Acquisition to d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454040" y="1809720"/>
            <a:ext cx="6234120" cy="481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840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Agricultural Programs (~$7M/yea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441160"/>
            <a:ext cx="822960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Voluntary program/partnership with farmers (~95% enroll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unds for designing and implementing BMPs to manage nonpoint pol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atho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utr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d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1840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Waterfowl Program (~$2M/yea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69560"/>
            <a:ext cx="822960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onitor and curtail local and migratory waterbird populations at potential source-water reservo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ctive bird harassment on reservoirs (August through Mar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vian deterrent measures (year rou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igh gr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gg de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ritical to maintaining compliance with pathogen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LT2 – requires unfiltered water suppliers to cover finished water storage reservo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840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Black"/>
              </a:rPr>
              <a:t>Catskill Turbidity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6372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840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Black"/>
              </a:rPr>
              <a:t>Schoharie Reservoir after Hurricane Floy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641600" y="2286000"/>
            <a:ext cx="5859360" cy="439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1840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Black"/>
              </a:rPr>
              <a:t>Ashokan Dividing Weir after Spring 2006 sto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687680" y="2368440"/>
            <a:ext cx="5767200" cy="432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840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Black"/>
              </a:rPr>
              <a:t>Kensico Reservo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714680" y="1914480"/>
            <a:ext cx="5715000" cy="42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18960" y="2438280"/>
            <a:ext cx="6629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Hilary Meltzer, Senior Counse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Environmental Law Division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New York City Law Department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100 Church Street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New York, NY 10007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212-788-1585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hmeltzer@law.nyc.gov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212840"/>
            <a:ext cx="822960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Black"/>
              </a:rPr>
              <a:t>Overview of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082960"/>
            <a:ext cx="8229600" cy="47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NYC supplies approximately 9 million people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alf the population of New York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8 million NYC resi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 million residents of four upstate coun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Average demand: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1.2 billion gallons/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urrent water rate for NYC consumers: $1.65/100 ft</a:t>
            </a:r>
            <a:r>
              <a:rPr b="0" lang="en-US" sz="2400" spc="-1" strike="noStrike" baseline="30000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Total System storage: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580 billion gall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225080"/>
            <a:ext cx="822960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Black"/>
              </a:rPr>
              <a:t>Development of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082960"/>
            <a:ext cx="8229600" cy="47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roton System – mid 180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airly densely popul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ypical urban contamin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an provide 10-25% of NYC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YC under consent decree to filter Croton by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atskill System – early 190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enerally provides about 40% of NYC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ostly for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one to turbidity because of geology and top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elaware System – mid 190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enerally provides about 50% of NYC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argely agricul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2352" t="1817" r="2352" b="4543"/>
          <a:stretch/>
        </p:blipFill>
        <p:spPr>
          <a:xfrm>
            <a:off x="2419200" y="1328760"/>
            <a:ext cx="430380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306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Black"/>
              </a:rPr>
              <a:t>Long Term Filtration Avoidance for Cat/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607840"/>
            <a:ext cx="8229600" cy="39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Largest unfiltered water supply in the 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WTR Filtration Avoidance Criter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eatment requirements (disinfe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taminant limits (coliform, turbidity, DB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atershed Control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perating under FADs since 19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2007 FAD currently under negot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387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Black"/>
              </a:rPr>
              <a:t>Watershed Control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084400"/>
            <a:ext cx="822960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The public water system must demonstrate through ownership and/or written agreements with landowners within the watershed that it can control all human activities which may have an adverse impact on the microbiological quality of the source water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.”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est of Hudson watershed is 1600 square m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pproximately 130,000 res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posed solution in 19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tensive Land Acqui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creased Regulatory Control by NY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 met with enthusi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387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Black"/>
              </a:rPr>
              <a:t>NYC Watershed MO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084400"/>
            <a:ext cx="822960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997 Agre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Sign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S E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ew York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ew York 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Over 100 watershed municip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ral environmental/land preservation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Major Prov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ong Term Filtration Avoid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and Acquisition (with restric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atershed Regulations (with compromi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atershed Protection &amp; Partnership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1600" y="1387080"/>
            <a:ext cx="875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Black"/>
              </a:rPr>
              <a:t>Brief History of Legal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1240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830s: City authorized to build Croto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oor water quality in C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adequate quantity for fire pro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896: Process for City to create new water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911: City authorized to regulate land use in watershed to protect water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gulations promulgated in 1917, minor revisions in 19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ew Watershed Regulations adopted in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920s: City authorized to construct WWTPs in water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ity built seven WWTPs in the watershed in 1920s/30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ity operates and maintains them without charge to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15:53:12Z</dcterms:created>
  <dc:creator>FirstName LastName</dc:creator>
  <dc:description/>
  <dc:language>en-US</dc:language>
  <cp:lastModifiedBy>Hilary Meltzer</cp:lastModifiedBy>
  <dcterms:modified xsi:type="dcterms:W3CDTF">2006-07-17T14:15:36Z</dcterms:modified>
  <cp:revision>51</cp:revision>
  <dc:subject/>
  <dc:title>2006 NACWA Summer Conference Cross-Cutting Clean Water and Drinking Water Issues... Challenging Traditional Boundaries July 19, 2006 Source: Water Protection and  Watershed Management Solutions</dc:title>
</cp:coreProperties>
</file>