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4D44C-7501-42B7-B0C8-D7A0A9777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A304-66D4-4483-AF15-22C1978D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332C-49D3-4336-9743-8D6EB1BED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82A79-77C7-4CAC-8EB4-4EACC8C65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D0A04-0474-4485-9ADA-A6AE9E1DD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28409-AD64-473D-B273-9966C34E0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9234C-13D8-40B3-A4C9-74D3AAB49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8285F-E0C0-478A-91EC-5CF5C8B15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95834-F6D3-4607-81C0-825A8E9AB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542F2-992B-4A8B-8395-8648F321A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1A5AB-3C16-478B-AFD1-AB5F64C3A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FD8A-1819-417C-870E-1405F2AF0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360AA-83CE-4174-9025-B12534259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E57B-E275-44A0-8DC4-20F835C63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D9CB4-FEF9-4769-A321-2FBE19AFF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C4294-D6F9-4D8B-9DFF-53094DD55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E3716-67D6-483A-810C-0B6083326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7A8C-AE9D-4FEE-A049-A0B29851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FD55-D636-4482-BCBB-0912FDE3D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5D49-0C42-4BAF-A209-E30A0E2D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5A11-DC64-480D-822E-4A97E63C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3DA9B-AAD2-4CA4-AA1F-6CD8D19DA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C8C9-C12B-4CE7-945F-69E4504B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32C5-CD74-4F25-9782-44498560B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0105-A106-455D-985C-77A8D49F89E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1828-C459-4C0D-9BA4-CD32EAB1C72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4.jpeg"/><Relationship Id="rId8" Type="http://schemas.openxmlformats.org/officeDocument/2006/relationships/image" Target="../media/image3.jpeg"/><Relationship Id="rId9" Type="http://schemas.openxmlformats.org/officeDocument/2006/relationships/image" Target="../media/image6.jpeg"/><Relationship Id="rId10" Type="http://schemas.openxmlformats.org/officeDocument/2006/relationships/image" Target="../media/image8.jpeg"/><Relationship Id="rId11"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Pathogen War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isk, Fear and the Cost of Clean Water</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rdon Garner</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ACWA</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July 12,2006</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OTW statement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can’t afford…(whatever).”</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re isn’t any real risk from…(whatever)”</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real problem is non-point source stuff from…(anybody who isn’t a POTW)”</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can eliminate all of the CSO’s and SSO’s (even though we can’t) and it won’t make any differenc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A little bit of (name substance) presents </a:t>
            </a:r>
            <a:r>
              <a:rPr b="0" i="1" lang="en-US" sz="2800" spc="-1" strike="noStrike">
                <a:solidFill>
                  <a:srgbClr val="eaeaea"/>
                </a:solidFill>
                <a:latin typeface="Verdana"/>
              </a:rPr>
              <a:t>no significant risk</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gulator statements</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agree we need…(wet weather standards; new models; more consistent interpretation, enforcement and guidance from EPA and regions, NPS authority, UUA policy guidance) but…(fill in blank)”</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t is not our problem how much it cos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Secondary treatment is required for all wat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Resistance is futile”</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inking water utility statements</a:t>
            </a: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Our water is (great; wonderful; best tasting; safe; meets all standards) and a little bit of (arsenic; atrazine; disinfection byproducts; other to be named) is no problem and or presents </a:t>
            </a:r>
            <a:r>
              <a:rPr b="0" i="1" lang="en-US" sz="2800" spc="-1" strike="noStrike">
                <a:solidFill>
                  <a:srgbClr val="eaeaea"/>
                </a:solidFill>
                <a:latin typeface="Verdana"/>
              </a:rPr>
              <a:t>no significant risk</a:t>
            </a:r>
            <a:r>
              <a:rPr b="0" lang="en-US" sz="2800" spc="-1" strike="noStrike">
                <a:solidFill>
                  <a:srgbClr val="eaeaea"/>
                </a:solidFill>
                <a:latin typeface="Verdana"/>
              </a:rPr>
              <a: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t costs too much to remove…(see abov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favor any source water protection action that is paid for by other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lected Official statements</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in favor of clean wat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against rate increas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We are against any more regulation of (fill in blank)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
            </a:r>
            <a:r>
              <a:rPr b="0" lang="en-US" sz="3200" spc="-1" strike="noStrike">
                <a:solidFill>
                  <a:srgbClr val="eaeaea"/>
                </a:solidFill>
                <a:latin typeface="Verdana"/>
              </a:rPr>
              <a:t>EPA is the bad guy. What kind of problems have you ha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ean water discussion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become increasingly adversarial</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funding has disappeare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science identifies new potential threa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at EPA cannot translate to standards or risk criteria</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environmental leaders have all but disappear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 of CWA vs SDWA</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WA was embraced or at least accepted by POTW’s because of funding incentives and was mostly opposed by black hat industries</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ngress passed CWA and overcame Presidential veto</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DWA was not embraced by drinking water utilities because there was no funding and filtration was not (and still isn’t!) a universally accepted practice-much concern about regulation (Most utilities still didn’t meet 1960’s USPHS standards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DWA much slower to evolve/ Source water protection requirements changing the math quickly</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bel Wolman might say</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filtr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ertiary Treat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know it works and the risks are too unknown to do otherwis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lessons here include </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mattered then “who p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it still matters now!</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ards issues still controversi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know more than we are able to do anything abou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tional leadership was very important and is even more important today if we are to advanc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CIENCE TECHNOLOGY and STANDARDS</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dentification of and adoption of standards is lagging behind the science and the gaps are getting bigger and of more concern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mpossible to adopt new standards for any water issues under CWA and SDWA</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body is part of the problem (and solution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ce of detection exceeds science of solution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CE and STANDARDS</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science were driving the train some CWA/SDWA conflicts would go away and others would become more acut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shed approaches would take on new meaning</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st approaches would be developed that would recognize proportionate accountability, risk, and benefit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servations from the Peanut Gallery</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ckgroun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tor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ce and standard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nd Ha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 is water and the table needs to be roun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cience in the news and why the public may be confused</a:t>
            </a:r>
            <a:endParaRPr b="0" lang="en-US" sz="40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ford/UCLA beach stu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627,000-1,479,000 “excess cas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alth costs-$21-414,000,000</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sychic costs include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 WQ bd-$1.5-3.0 million to clean up Santa Monica Ba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vent 394,000-804,000 cas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save $13-28,000,000/y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hio River example</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hio River fully meets existing drinking water source standards for pathoge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oss river controversy based on risk and fears issues (with who pay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ublic mostly confused by rhetoric, lies and distortion and lack of understanding of what standards are and risks</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nd Hats</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tend to favor solutions that the guys in the other hats pay for.</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r the people upriver; downriver; or across the river;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d yet we ALL want CLEAN WATER</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und Tables needed as well a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tershed approach, reall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ational funding to offset geographic inequities and overcome “who pays “ limitations (Support CW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ring science and standards in closer align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nd $$ on what works not what you can make somebody do</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d he said in 1965</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000" spc="-1" strike="noStrike">
                <a:solidFill>
                  <a:srgbClr val="eaeaea"/>
                </a:solidFill>
                <a:latin typeface="Verdana"/>
              </a:rPr>
              <a:t>The metabolic requirements of a city can be defined as the materials and commodities needed to sustain the city’s inhabitants at home, at work, and at play….The metabolic cycle is not completed until the wastes and residues of daily life have been removed and disposed of with a minimum of nuisance hazard.”</a:t>
            </a:r>
            <a:endParaRPr b="0" lang="en-US" sz="2000" spc="-1" strike="noStrike">
              <a:solidFill>
                <a:srgbClr val="eaeaea"/>
              </a:solidFill>
              <a:latin typeface="Verdana"/>
            </a:endParaRPr>
          </a:p>
        </p:txBody>
      </p:sp>
      <p:pic>
        <p:nvPicPr>
          <p:cNvPr id="174" name="" descr=""/>
          <p:cNvPicPr/>
          <p:nvPr/>
        </p:nvPicPr>
        <p:blipFill>
          <a:blip r:embed="rId1"/>
          <a:stretch/>
        </p:blipFill>
        <p:spPr>
          <a:xfrm>
            <a:off x="5124600" y="2176560"/>
            <a:ext cx="3085920" cy="337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D/FU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gineer/clean and dirty and stor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ichar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entucky Environmental Quality Commiss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Kentucky Waterways Allian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erra and “no nam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hio River controversi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hio River Pathogen War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ross river conflict between CWA and SDWA? or need for better and clearer standards that address risks fairly?</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ew treatment plant sites and antidegradat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creational standards issues between enviros and ANY wet weather solutions (the zero thing)</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itigation = slow progres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SANCO/states/EPA regions being pushed to new roles in conflict resolution (or not!)</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t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ats we wear to the table usually limit the quality and content of any discuss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re are a few examples of hats and “in effect” statements made by people wearing them</a:t>
            </a:r>
            <a:endParaRPr b="0" lang="en-US" sz="3200" spc="-1" strike="noStrike">
              <a:solidFill>
                <a:srgbClr val="eaeaea"/>
              </a:solidFill>
              <a:latin typeface="Verdana"/>
            </a:endParaRPr>
          </a:p>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Not intended to reflect inaccurately on any person organization or watershed</a:t>
            </a:r>
            <a:endParaRPr b="0" lang="en-US" sz="1400" spc="-1" strike="noStrike">
              <a:solidFill>
                <a:srgbClr val="eaeaea"/>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57200" y="304920"/>
            <a:ext cx="3665520" cy="5499000"/>
          </a:xfrm>
          <a:prstGeom prst="rect">
            <a:avLst/>
          </a:prstGeom>
          <a:ln w="0">
            <a:noFill/>
          </a:ln>
        </p:spPr>
      </p:pic>
      <p:pic>
        <p:nvPicPr>
          <p:cNvPr id="125" name="" descr=""/>
          <p:cNvPicPr/>
          <p:nvPr/>
        </p:nvPicPr>
        <p:blipFill>
          <a:blip r:embed="rId2"/>
          <a:stretch/>
        </p:blipFill>
        <p:spPr>
          <a:xfrm>
            <a:off x="4800600" y="205740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TS</a:t>
            </a:r>
            <a:endParaRPr b="0" lang="en-US" sz="4400" spc="-1" strike="noStrike">
              <a:solidFill>
                <a:srgbClr val="ffffcc"/>
              </a:solidFill>
              <a:latin typeface="Arial"/>
            </a:endParaRPr>
          </a:p>
        </p:txBody>
      </p:sp>
      <p:pic>
        <p:nvPicPr>
          <p:cNvPr id="127" name="" descr=""/>
          <p:cNvPicPr/>
          <p:nvPr/>
        </p:nvPicPr>
        <p:blipFill>
          <a:blip r:embed="rId1"/>
          <a:stretch/>
        </p:blipFill>
        <p:spPr>
          <a:xfrm>
            <a:off x="1138320" y="1600200"/>
            <a:ext cx="2674800" cy="2189160"/>
          </a:xfrm>
          <a:prstGeom prst="rect">
            <a:avLst/>
          </a:prstGeom>
          <a:ln w="0">
            <a:noFill/>
          </a:ln>
        </p:spPr>
      </p:pic>
      <p:pic>
        <p:nvPicPr>
          <p:cNvPr id="128" name="" descr=""/>
          <p:cNvPicPr/>
          <p:nvPr/>
        </p:nvPicPr>
        <p:blipFill>
          <a:blip r:embed="rId2"/>
          <a:stretch/>
        </p:blipFill>
        <p:spPr>
          <a:xfrm>
            <a:off x="5329080" y="1600200"/>
            <a:ext cx="2675160" cy="2189160"/>
          </a:xfrm>
          <a:prstGeom prst="rect">
            <a:avLst/>
          </a:prstGeom>
          <a:ln w="0">
            <a:noFill/>
          </a:ln>
        </p:spPr>
      </p:pic>
      <p:pic>
        <p:nvPicPr>
          <p:cNvPr id="129" name="" descr=""/>
          <p:cNvPicPr/>
          <p:nvPr/>
        </p:nvPicPr>
        <p:blipFill>
          <a:blip r:embed="rId3"/>
          <a:stretch/>
        </p:blipFill>
        <p:spPr>
          <a:xfrm>
            <a:off x="1138320" y="3941640"/>
            <a:ext cx="2674800" cy="2189160"/>
          </a:xfrm>
          <a:prstGeom prst="rect">
            <a:avLst/>
          </a:prstGeom>
          <a:ln w="0">
            <a:noFill/>
          </a:ln>
        </p:spPr>
      </p:pic>
      <p:pic>
        <p:nvPicPr>
          <p:cNvPr id="130" name="" descr=""/>
          <p:cNvPicPr/>
          <p:nvPr/>
        </p:nvPicPr>
        <p:blipFill>
          <a:blip r:embed="rId4"/>
          <a:stretch/>
        </p:blipFill>
        <p:spPr>
          <a:xfrm>
            <a:off x="5329080" y="3941640"/>
            <a:ext cx="2675160" cy="2189160"/>
          </a:xfrm>
          <a:prstGeom prst="rect">
            <a:avLst/>
          </a:prstGeom>
          <a:ln w="0">
            <a:noFill/>
          </a:ln>
        </p:spPr>
      </p:pic>
      <p:pic>
        <p:nvPicPr>
          <p:cNvPr id="131" name="" descr=""/>
          <p:cNvPicPr/>
          <p:nvPr/>
        </p:nvPicPr>
        <p:blipFill>
          <a:blip r:embed="rId5"/>
          <a:stretch/>
        </p:blipFill>
        <p:spPr>
          <a:xfrm>
            <a:off x="2895480" y="2057400"/>
            <a:ext cx="3353040" cy="2743200"/>
          </a:xfrm>
          <a:prstGeom prst="rect">
            <a:avLst/>
          </a:prstGeom>
          <a:ln w="0">
            <a:noFill/>
          </a:ln>
        </p:spPr>
      </p:pic>
      <p:pic>
        <p:nvPicPr>
          <p:cNvPr id="132" name="" descr=""/>
          <p:cNvPicPr/>
          <p:nvPr/>
        </p:nvPicPr>
        <p:blipFill>
          <a:blip r:embed="rId6"/>
          <a:stretch/>
        </p:blipFill>
        <p:spPr>
          <a:xfrm>
            <a:off x="2895480" y="2057400"/>
            <a:ext cx="3353040" cy="2743200"/>
          </a:xfrm>
          <a:prstGeom prst="rect">
            <a:avLst/>
          </a:prstGeom>
          <a:ln w="0">
            <a:noFill/>
          </a:ln>
        </p:spPr>
      </p:pic>
      <p:pic>
        <p:nvPicPr>
          <p:cNvPr id="133" name="" descr=""/>
          <p:cNvPicPr/>
          <p:nvPr/>
        </p:nvPicPr>
        <p:blipFill>
          <a:blip r:embed="rId7"/>
          <a:stretch/>
        </p:blipFill>
        <p:spPr>
          <a:xfrm>
            <a:off x="2895480" y="2057400"/>
            <a:ext cx="3353040" cy="2743200"/>
          </a:xfrm>
          <a:prstGeom prst="rect">
            <a:avLst/>
          </a:prstGeom>
          <a:ln w="0">
            <a:noFill/>
          </a:ln>
        </p:spPr>
      </p:pic>
      <p:pic>
        <p:nvPicPr>
          <p:cNvPr id="134" name="" descr=""/>
          <p:cNvPicPr/>
          <p:nvPr/>
        </p:nvPicPr>
        <p:blipFill>
          <a:blip r:embed="rId8"/>
          <a:stretch/>
        </p:blipFill>
        <p:spPr>
          <a:xfrm>
            <a:off x="2895480" y="2057400"/>
            <a:ext cx="3353040" cy="2743200"/>
          </a:xfrm>
          <a:prstGeom prst="rect">
            <a:avLst/>
          </a:prstGeom>
          <a:ln w="0">
            <a:noFill/>
          </a:ln>
        </p:spPr>
      </p:pic>
      <p:pic>
        <p:nvPicPr>
          <p:cNvPr id="135" name="" descr=""/>
          <p:cNvPicPr/>
          <p:nvPr/>
        </p:nvPicPr>
        <p:blipFill>
          <a:blip r:embed="rId9"/>
          <a:stretch/>
        </p:blipFill>
        <p:spPr>
          <a:xfrm>
            <a:off x="2895480" y="2057400"/>
            <a:ext cx="3353040" cy="2743200"/>
          </a:xfrm>
          <a:prstGeom prst="rect">
            <a:avLst/>
          </a:prstGeom>
          <a:ln w="0">
            <a:noFill/>
          </a:ln>
        </p:spPr>
      </p:pic>
      <p:pic>
        <p:nvPicPr>
          <p:cNvPr id="136" name="" descr=""/>
          <p:cNvPicPr/>
          <p:nvPr/>
        </p:nvPicPr>
        <p:blipFill>
          <a:blip r:embed="rId10"/>
          <a:stretch/>
        </p:blipFill>
        <p:spPr>
          <a:xfrm>
            <a:off x="2895480" y="20574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otos</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vir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TW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gulato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rinking water util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ed officia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o time for other hats</a:t>
            </a:r>
            <a:endParaRPr b="0" lang="en-US" sz="3200" spc="-1" strike="noStrike">
              <a:solidFill>
                <a:srgbClr val="eaeaea"/>
              </a:solidFill>
              <a:latin typeface="Verdana"/>
            </a:endParaRPr>
          </a:p>
        </p:txBody>
      </p:sp>
      <p:pic>
        <p:nvPicPr>
          <p:cNvPr id="139" name="" descr=""/>
          <p:cNvPicPr/>
          <p:nvPr/>
        </p:nvPicPr>
        <p:blipFill>
          <a:blip r:embed="rId1"/>
          <a:stretch/>
        </p:blipFill>
        <p:spPr>
          <a:xfrm>
            <a:off x="5638680" y="1371600"/>
            <a:ext cx="3353040" cy="2743200"/>
          </a:xfrm>
          <a:prstGeom prst="rect">
            <a:avLst/>
          </a:prstGeom>
          <a:ln w="0">
            <a:noFill/>
          </a:ln>
        </p:spPr>
      </p:pic>
      <p:pic>
        <p:nvPicPr>
          <p:cNvPr id="140" name="" descr=""/>
          <p:cNvPicPr/>
          <p:nvPr/>
        </p:nvPicPr>
        <p:blipFill>
          <a:blip r:embed="rId2"/>
          <a:stretch/>
        </p:blipFill>
        <p:spPr>
          <a:xfrm>
            <a:off x="5791320" y="4114800"/>
            <a:ext cx="3352680" cy="2743200"/>
          </a:xfrm>
          <a:prstGeom prst="rect">
            <a:avLst/>
          </a:prstGeom>
          <a:ln w="0">
            <a:noFill/>
          </a:ln>
        </p:spPr>
      </p:pic>
      <p:pic>
        <p:nvPicPr>
          <p:cNvPr id="141" name="" descr=""/>
          <p:cNvPicPr/>
          <p:nvPr/>
        </p:nvPicPr>
        <p:blipFill>
          <a:blip r:embed="rId3"/>
          <a:stretch/>
        </p:blipFill>
        <p:spPr>
          <a:xfrm>
            <a:off x="3048120" y="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nvironmentalist statement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hat part of zero is it that you don’t understand”</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The Clean Water Act requires…(fill in blank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We understand the need for wet weather standards …we just don’t want to talk about it!”</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 choose the no risk alternative for…(whatever).”</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I want to be able to recreate whenever and however I want (even if it makes no sense)”</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4:57:40Z</dcterms:created>
  <dc:creator>CH2M HILL</dc:creator>
  <dc:description/>
  <dc:language>en-US</dc:language>
  <cp:lastModifiedBy>CH2M HILL</cp:lastModifiedBy>
  <dcterms:modified xsi:type="dcterms:W3CDTF">2006-07-19T14:57:40Z</dcterms:modified>
  <cp:revision>5</cp:revision>
  <dc:subject/>
  <dc:title>Pathogen Wars</dc:title>
</cp:coreProperties>
</file>