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904E-7092-4C37-B39C-49AE7DD1C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2675-76C9-42A8-BCBD-0AA06C107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27AF-CAC7-444D-84BD-C4D97BD3D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0D6D-E4F5-4D26-AE99-2D4BC7FD6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6A12-C22C-4BAB-B9CB-7B0B77046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19A8-1137-4ADC-9D78-EE356CDB5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73ED-8256-4B57-9E3B-B5FE28B37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B547-940C-48E4-90F3-06E87D8D8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0328-51CA-480D-AD35-873A99623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CD3E-D4BA-454E-86F8-3CA09EC9C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EE1B-8926-45AA-B436-F5684DA08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A3FF-1853-4A22-B846-93EA269C5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28600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920" y="647712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9F25-1595-45F5-B354-531FA4931697}" type="slidenum">
              <a:rPr b="1" lang="en-US" sz="14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523880"/>
            <a:ext cx="8686800" cy="15264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20600" algn="ctr">
              <a:spcBef>
                <a:spcPts val="4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48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ENVIRONMENT RESEARCH FOUNDATION</a:t>
            </a:r>
            <a:br>
              <a:rPr sz="2000"/>
            </a:br>
            <a:br>
              <a:rPr sz="1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Weather Effluent Blending Project</a:t>
            </a:r>
            <a:br>
              <a:rPr sz="2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F Project No. 03-CTS-12PP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R. Willi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 of Waste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t Bay Municipal Utility Distri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hogen Management Panel Discu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 NACWA Summ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21, 200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400800"/>
            <a:ext cx="8686800" cy="15228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0" t="19019" r="0" b="19019"/>
          <a:stretch/>
        </p:blipFill>
        <p:spPr>
          <a:xfrm>
            <a:off x="533520" y="5257800"/>
            <a:ext cx="187308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eld Sampling Locations and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effluent (prior to disinfection during blending)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effluent (after disinfection) – single grab s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iar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28600">
              <a:spcBef>
                <a:spcPts val="6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umeration, characterization (FE only) – estimate of intact c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yptosporid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28600">
              <a:spcBef>
                <a:spcPts val="6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umeration, infectivity (FE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novirus, Enterovi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cal coliform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nterococcus, male specific coliph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OD5, TSS, VOCs, met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Francisco Bay (3 loc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cal coliform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nterococcus, male specific coliph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Giard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yptosporid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sting (4 of 16 ev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F7EA-CE26-467A-BFDF-7B11A2DFD4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794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F Bay Field Sampling Lo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10000"/>
          </a:blip>
          <a:srcRect l="13342" t="7013" r="7624" b="2805"/>
          <a:stretch/>
        </p:blipFill>
        <p:spPr>
          <a:xfrm>
            <a:off x="4246560" y="1828800"/>
            <a:ext cx="4446720" cy="4600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064360" y="22320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55846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30800" y="58132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SF SEWP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02600" y="24606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MUD MWW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3200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ak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4880" y="3832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m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3051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63960" y="1927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e I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6560" y="5400720"/>
            <a:ext cx="152280" cy="0"/>
          </a:xfrm>
          <a:prstGeom prst="line">
            <a:avLst/>
          </a:prstGeom>
          <a:ln w="3168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585120" y="2460240"/>
            <a:ext cx="457200" cy="120600"/>
          </a:xfrm>
          <a:prstGeom prst="line">
            <a:avLst/>
          </a:prstGeom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178680" y="2574720"/>
            <a:ext cx="431640" cy="114120"/>
          </a:xfrm>
          <a:prstGeom prst="line">
            <a:avLst/>
          </a:prstGeom>
          <a:ln w="3168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51814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n Francisco B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30960" y="25653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21320" y="5318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02520" y="2013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40320" y="287964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80080" y="560376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49960" y="478476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59320" y="469440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Up-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7680" y="259884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Outf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5069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Down-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69040" y="202104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Up-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8360" y="2990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Down-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80120" y="3567240"/>
            <a:ext cx="10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od T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62760" y="3343320"/>
            <a:ext cx="336600" cy="95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26200" y="522288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Outf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fall (midpoint of diffuser sec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nautical mi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Up-curr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 nautical mi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Down-curr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grab sample at each location during each ev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- and down-current locations are dependent on tide dir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99B3-34B5-497F-B8D0-0AF7577927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Project Backg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Regulatory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Project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eliminary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rcRect l="5993" t="0" r="14981" b="15309"/>
          <a:stretch/>
        </p:blipFill>
        <p:spPr>
          <a:xfrm>
            <a:off x="4724280" y="3352680"/>
            <a:ext cx="3848400" cy="27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852C-89E0-4E5C-A0E0-17A2A9663C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Final Effluent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iard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yptosporid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ar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during W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D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act” cysts 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–48% of 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yp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during W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ending than b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nfectivity results below MDL (1 oocyst/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038480" y="1905120"/>
            <a:ext cx="4788000" cy="43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2691-DF90-4F83-8520-4C0D9C68D0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Primary and Final Efflu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novirus and Enterovirus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3581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enovir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effluent values significantly higher during b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erovir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10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final effluent values at or below MDL (1 PFU/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038480" y="1828800"/>
            <a:ext cx="4788000" cy="433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3F97-3DFB-430B-8245-85222A6381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In-plant and Receiving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cal Coliform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final effluent result during D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outfall and down-current results measured during blending; still low and higher than F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results fo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038480" y="1828800"/>
            <a:ext cx="4788000" cy="4330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629400" y="4495680"/>
            <a:ext cx="209556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657600"/>
            <a:ext cx="2971800" cy="733320"/>
          </a:xfrm>
          <a:prstGeom prst="rect">
            <a:avLst/>
          </a:prstGeom>
          <a:solidFill>
            <a:srgbClr val="d8f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1986 EPA Recommended Limit for Beache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MPN/100 mL (geo. me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9587-9C13-45F7-B00A-753749B8F5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In-plant and Receiving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ococcus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effluent results slightly higher during WW non-blending vs. bl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receiving water results measured during blending; similar to WW non-bl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114800" y="1828800"/>
            <a:ext cx="4788000" cy="4330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73960" y="39736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97600" y="3135240"/>
            <a:ext cx="2654280" cy="733320"/>
          </a:xfrm>
          <a:prstGeom prst="rect">
            <a:avLst/>
          </a:prstGeom>
          <a:solidFill>
            <a:srgbClr val="d8f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A Recommended Limit for Beaches = 104 CFU/100 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ingle samp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373B-357B-409D-B3A3-026F1D8489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MUD In-plant and Receiving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e Specific Coliphage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3581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effluent results were lower during blending vs. W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blending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ing water results were also lower during blending vs. WW non-blending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33680" y="6124680"/>
            <a:ext cx="465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bars represent maximum and minimum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886200" y="1828800"/>
            <a:ext cx="5016600" cy="4330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248520" y="320040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L during DW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3080" y="3581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3581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3581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53280" y="35812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315200" y="350496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A86E-11AB-489C-895C-B5AFBAA5F9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2 Field Sampling (Sep 06–Apr 0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 in-plant sampling at EBMUD/CCSF to include influent, secondary effluent, and downstream of blending point locations (additional funding provided by US EP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5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Milwaukee Metropolitan Sewerage District Jones Island WWTP and Eugene/Springfield WPCF (Oregon) as field test sites (field sampling on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ater quality transport and hydrodynamic computer modeling to estimate pathogen and indicator organism concentrations in SF B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risk assessment and develop blending alterna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B725-5713-438B-BBA0-DD565A240A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F Wet Weather Effluent Blending Project</a:t>
            </a:r>
            <a:br>
              <a:rPr sz="2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R. Willi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 of Waste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t Bay Municipal Utility Distri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400800"/>
            <a:ext cx="8686800" cy="15228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0" t="19019" r="0" b="19019"/>
          <a:stretch/>
        </p:blipFill>
        <p:spPr>
          <a:xfrm>
            <a:off x="3581280" y="5410080"/>
            <a:ext cx="1873440" cy="5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Backgr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ory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y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rcRect l="5993" t="0" r="14981" b="15309"/>
          <a:stretch/>
        </p:blipFill>
        <p:spPr>
          <a:xfrm>
            <a:off x="4724280" y="3352680"/>
            <a:ext cx="3848400" cy="27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FF90-E9C7-4681-8C45-DC81BA46C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Blend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818208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0040" y="3657600"/>
            <a:ext cx="67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MUD Main WWTP Blending at Peak Flow = 415 M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057400"/>
            <a:ext cx="752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practice of diverting a part of peak wet weather flows to WWTPs around biological treatment units and combining effluent from all processes prior to discharge from a permitted outf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BBCE-9294-4320-8F31-7766D172DD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250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MUD awarded $585,000 under research agreement with WERF; $400,000 awarded under original agreement (December 200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MUD directing work of nine subcontractors and participating as field test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lot project under WERF’s Public Participation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ded WERF Project Sub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499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keholder involvement in project overs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283A-C3C9-4884-A54B-E90F6EF9A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F Project Subcommittee 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Sweeney,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SC Chair, Research Council Liaison (EM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l Boon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ADS Environmental Ser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 Brueckne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Narragansett Bay Commiss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Conno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San Francisco Estuary Institu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fred Dufou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US EP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les Gerb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University of Arizon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ol Hufnagel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Tetra Te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hele Pl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Bay Area Clean Water Agen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llogg Schwab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Johns Hopkins Univers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 Stewar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Metropolitan Water District of Southern C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71BF-F4CB-4380-8297-488D86D568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ulatory Persp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2"/>
              </a:buBlip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ovember 2003, EPA issued draft guidance regarding blending practices at municipal WWTPs serving sanitary sewe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3"/>
              </a:buBlip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A received over 98,000 public comments and opposition from Congress; draft guidance shelved in May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4"/>
              </a:buBlip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ctober 2005, the Natural Resources Defense Council (NRDC) and the National Association of Clean Water Agencies (NACWA) submitted joint policy recommendations to E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2792"/>
              <a:buBlip>
                <a:blip r:embed="rId5"/>
              </a:buBlip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ecember 2005, EPA issued draft policy on permit requirements for peak wet weather discharges from WWTPs serving sanitary sewe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01"/>
              </a:spcAft>
              <a:buNone/>
              <a:tabLst>
                <a:tab algn="l" pos="1257480"/>
                <a:tab algn="l" pos="5143680"/>
                <a:tab algn="l" pos="554976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F07E-C884-452A-AAA1-3A4EB47A76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51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final effluent and receiving water quality during blending to baseline conditions—dry weather and wet weather non-bl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MUD Main Wastewater Treatment Plant (MWWTP) –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and County of San Francisco (CCSF) Southeast Water Pollution Control Plant (SEWPCP) –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675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Health Focus:  Pathogens and indicator organisms in final effluent; primarily indicator organisms in SF Bay (some limited pathogen tes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2-D hydrodynamic, water quality transport model to estimate pathogen and indicator organism concentrations in SF Bay under each scena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A17D-E9D3-4CC0-9DB3-C77AD3A4A6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Approach (cont’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001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 incremental risk to public health, if any, attributable to blending practi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spcBef>
                <a:spcPts val="901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model using Monte Carlo simulation to conduct comparative screening level risk character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lternatives to blending practices and estimate incremental benefits to public heal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4501-94DD-448F-A498-6041B4D10D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ned Field Sampling Ev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MUD/CCSF:  7 of 16 field sampling events planned for 2005-06 (Year 1) and 2006-07 (Year 2) wet weather seasons have been comple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3124080"/>
          <a:ext cx="7543800" cy="292428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838440"/>
                <a:gridCol w="1066680"/>
                <a:gridCol w="838080"/>
                <a:gridCol w="1067040"/>
                <a:gridCol w="838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M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M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M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We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 Weather Non-ble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t Weather Ble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cc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EA87-0784-4052-8F3C-5317829FB5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9:57:55Z</dcterms:created>
  <dc:creator>Mary Orr</dc:creator>
  <dc:description/>
  <dc:language>en-US</dc:language>
  <cp:lastModifiedBy>agarrett</cp:lastModifiedBy>
  <cp:lastPrinted>2002-01-07T18:21:09Z</cp:lastPrinted>
  <dcterms:modified xsi:type="dcterms:W3CDTF">2006-07-14T17:14:56Z</dcterms:modified>
  <cp:revision>77</cp:revision>
  <dc:subject/>
  <dc:title>EBMUD PowerPoint Template 11- 01</dc:title>
</cp:coreProperties>
</file>