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F056-5ACE-4D49-86A9-C81B075C2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925E-25FB-4125-A653-2626B4E66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301-2633-482A-91D7-50A3A1DD0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4883-D19A-48D0-8CE9-CFE51172B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F0B8-ADA9-453B-A945-B2867C5E0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8D99-306B-42E5-8BB7-2FD697A78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D61F-64DD-4697-84AB-AD2AF9F70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34EB-49B9-434B-8BBE-9502779F3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0131-3381-4C1F-8434-C4841DEE0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0C5A-23F0-41E3-A194-8168904A6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9F6A-219C-4E80-A3E8-BDBFED28E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54C4-4FC2-4D23-9463-CE4D54CF3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92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1F2C-1F4C-4FE9-B19F-DF182592F16C}" type="slidenum">
              <a:rPr b="1" lang="en-US" sz="14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523880"/>
            <a:ext cx="8686800" cy="15264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206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ENVIRONMENT RESEARCH FOUNDATION</a:t>
            </a:r>
            <a:br>
              <a:rPr sz="2000"/>
            </a:b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Weather Effluent Blending Project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F Project No. 03-CTS-12P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. Willi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 of Waste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Bay Municipal Utility Distri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ogen Management Panel Discu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 NACWA Summ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21, 20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00800"/>
            <a:ext cx="8686800" cy="1522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19019" r="0" b="19019"/>
          <a:stretch/>
        </p:blipFill>
        <p:spPr>
          <a:xfrm>
            <a:off x="533520" y="5257800"/>
            <a:ext cx="187308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 Sampling Locations and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effluent (prior to disinfection during blending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ffluent (after disinfection) – single grab s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, characterization (FE only) – estimate of intact c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, infectivity (FE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novirus, Entero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al coliform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terococcus, male specific coliph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OD5, TSS, VOCs, met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Francisco Bay (3 lo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al coliform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terococcus, male specific coliph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Giar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sting (4 of 16 ev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851E-47E5-47C7-AE42-03055F06F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794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F Bay Field Sampling Lo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10000"/>
          </a:blip>
          <a:srcRect l="13342" t="7013" r="7624" b="2805"/>
          <a:stretch/>
        </p:blipFill>
        <p:spPr>
          <a:xfrm>
            <a:off x="4246560" y="1828800"/>
            <a:ext cx="4446720" cy="460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064360" y="22320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55846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30800" y="58132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SF SEWP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2600" y="2460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MUD MWW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3200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4880" y="383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m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3051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3960" y="1927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e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6560" y="540072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585120" y="2460240"/>
            <a:ext cx="457200" cy="1206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178680" y="2574720"/>
            <a:ext cx="431640" cy="114120"/>
          </a:xfrm>
          <a:prstGeom prst="line">
            <a:avLst/>
          </a:prstGeom>
          <a:ln w="3168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 Francisco B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30960" y="2565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1320" y="5318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02520" y="201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0320" y="287964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80080" y="56037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49960" y="478476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59320" y="469440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p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7680" y="259884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Out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5069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Down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69040" y="202104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p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360" y="2990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Down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80120" y="3567240"/>
            <a:ext cx="10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od T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62760" y="3343320"/>
            <a:ext cx="336600" cy="95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6200" y="52228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Out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fall (midpoint of diffuser s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nautical m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Up-curr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nautical m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Down-curr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grab sample at each location during each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- and down-current locations are dependent on tide di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A8A2-36AF-428A-93AE-242F959A4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ject 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egulatory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ject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liminar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rcRect l="5993" t="0" r="14981" b="15309"/>
          <a:stretch/>
        </p:blipFill>
        <p:spPr>
          <a:xfrm>
            <a:off x="4724280" y="3352680"/>
            <a:ext cx="3848400" cy="27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DDEE-02A9-4D1F-A1DB-C4232B3712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Final Effluent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iard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ar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during W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D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ct” cysts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–48% of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yp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during W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ending than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nfectivity results below MDL (1 oocyst/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038480" y="1905120"/>
            <a:ext cx="4788000" cy="43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43E0-4E0F-4189-96B5-F39005D98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Primary and Final Efflu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novirus and Enterovirus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enovir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ffluent values significantly higher during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erovir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final effluent values at or below MDL (1 PFU/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03848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9B30-9A00-45C7-9677-9C5098980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al Coliform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final effluent result during D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outfall and down-current results measured during blending; still low and higher than F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results fo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03848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629400" y="4495680"/>
            <a:ext cx="209556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657600"/>
            <a:ext cx="2971800" cy="733320"/>
          </a:xfrm>
          <a:prstGeom prst="rect">
            <a:avLst/>
          </a:prstGeom>
          <a:solidFill>
            <a:srgbClr val="d8f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1986 EPA Recommended Limit for Beache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MPN/100 mL (geo. me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59FD-9280-4DC2-89E8-D790928E4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ococcus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ffluent results slightly higher during WW non-blending vs. bl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receiving water results measured during blending; similar to WW non-bl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11480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73960" y="3973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7600" y="3135240"/>
            <a:ext cx="2654280" cy="733320"/>
          </a:xfrm>
          <a:prstGeom prst="rect">
            <a:avLst/>
          </a:prstGeom>
          <a:solidFill>
            <a:srgbClr val="d8f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Recommended Limit for Beaches = 104 CFU/100 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a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C169-54CE-4599-8D71-97DE4F13A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e Specific Coliphag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ffluent results were lower during blending vs. W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blending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ing water results were also lower during blending vs. WW non-blending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886200" y="1828800"/>
            <a:ext cx="5016600" cy="4330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248520" y="32004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L during DW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581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15200" y="350496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5790-A886-498C-83F9-ADF7C40678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2 Field Sampling (Sep 06–Apr 0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in-plant sampling at EBMUD/CCSF to include influent, secondary effluent, and downstream of blending point locations (additional funding provided by US E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Milwaukee Metropolitan Sewerage District Jones Island WWTP and Eugene/Springfield WPCF (Oregon) as field test sites (field sampling on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ater quality transport and hydrodynamic computer modeling to estimate pathogen and indicator organism concentrations in SF B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risk assessment and develop blending alterna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5A6B-F9F5-4E48-A253-B4F83D7286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F Wet Weather Effluent Blending Project</a:t>
            </a:r>
            <a:br>
              <a:rPr sz="2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. Willi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 of Waste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Bay Municipal Utility Distri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400800"/>
            <a:ext cx="8686800" cy="1522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0" t="19019" r="0" b="19019"/>
          <a:stretch/>
        </p:blipFill>
        <p:spPr>
          <a:xfrm>
            <a:off x="3581280" y="5410080"/>
            <a:ext cx="187344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ory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rcRect l="5993" t="0" r="14981" b="15309"/>
          <a:stretch/>
        </p:blipFill>
        <p:spPr>
          <a:xfrm>
            <a:off x="4724280" y="3352680"/>
            <a:ext cx="3848400" cy="27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20BB-1E3C-43A0-8774-3BBC20EC7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Blend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81820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040" y="365760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Main WWTP Blending at Peak Flow = 415 M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057400"/>
            <a:ext cx="75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practice of diverting a part of peak wet weather flows to WWTPs around biological treatment units and combining effluent from all processes prior to discharge from a permitted outf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18BA-13B0-4FD2-9923-E4FFFE9D8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25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awarded $585,000 under research agreement with WERF; $400,000 awarded under original agreement (December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directing work of nine subcontractors and participating as field tes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project under WERF’s Public Participation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ed WERF Project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 involvement in project overs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314B-965E-47BA-B375-0B3F89A8D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F Project Subcommittee 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weeney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SC Chair, Research Council Liaison (EM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l Boon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ADS Environmental Ser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 Brueckn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Narragansett Bay Commiss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Conno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San Francisco Estuary Instit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fred Dufou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US EP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es Gerb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University of Arizon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 Hufnagel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Tetra Te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ele Pl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Bay Area Clean Water Agen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logg Schwab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Johns Hopkins Univers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 Stewar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Metropolitan Water District of Southern C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D875-1498-4433-94C5-831D20B87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tory Persp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ovember 2003, EPA issued draft guidance regarding blending practices at municipal WWTPs serving sanitary sewe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A received over 98,000 public comments and opposition from Congress; draft guidance shelved in May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ctober 2005, the Natural Resources Defense Council (NRDC) and the National Association of Clean Water Agencies (NACWA) submitted joint policy recommendations to E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ecember 2005, EPA issued draft policy on permit requirements for peak wet weather discharges from WWTPs serving sanitary sewe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EFB0-1946-4C43-90F5-F9A6CF4CAF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5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final effluent and receiving water quality during blending to baseline conditions—dry weather and wet weather non-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MUD Main Wastewater Treatment Plant (MWWTP) –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and County of San Francisco (CCSF) Southeast Water Pollution Control Plant (SEWPCP) –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Health Focus:  Pathogens and indicator organisms in final effluent; primarily indicator organisms in SF Bay (some limited pathogen tes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2-D hydrodynamic, water quality transport model to estimate pathogen and indicator organism concentrations in SF Bay under each scen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B20F-9765-4B3D-B47D-6F4B3B583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pproach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00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 incremental risk to public health, if any, attributable to blending practi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9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model using Monte Carlo simulation to conduct comparative screening level risk character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lternatives to blending practices and estimate incremental benefits to public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3C83-EE79-42FB-88CE-46AAC6A40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ed Field Sampling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/CCSF:  7 of 16 field sampling events planned for 2005-06 (Year 1) and 2006-07 (Year 2) wet weather seasons have been compl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3124080"/>
          <a:ext cx="7543800" cy="292428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838440"/>
                <a:gridCol w="1066680"/>
                <a:gridCol w="838080"/>
                <a:gridCol w="1067040"/>
                <a:gridCol w="83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We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 Weather Non-ble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 Weather Ble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65CA-1073-4D72-BBEA-4D6C16917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agarrett</cp:lastModifiedBy>
  <cp:lastPrinted>2002-01-07T18:21:09Z</cp:lastPrinted>
  <dcterms:modified xsi:type="dcterms:W3CDTF">2006-07-14T17:14:56Z</dcterms:modified>
  <cp:revision>77</cp:revision>
  <dc:subject/>
  <dc:title>EBMUD PowerPoint Template 11- 01</dc:title>
</cp:coreProperties>
</file>