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937D-655A-4559-8D30-8A6F3CE69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D175-C16E-4027-9BB8-080C6C15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C68B-09E4-4DD3-8ED0-EE6891AB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F58F-CEC9-48FB-8C63-F510B0D4B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7DF8-CBD8-4855-87A3-FE390D271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7D2B-5198-4AA6-8768-CB017E65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8EE6-7892-4216-A49E-53325038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6603-F2B5-41CB-A461-3F4B30CF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7438-335F-4C4B-A4ED-67FDB18A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0482-D97B-4C87-BCBE-5AF83BB5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9C55-B682-4D92-B6DA-BBD930CC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0E16-B57B-4E09-92EC-7F6661FC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A866-658C-4F0B-A8E2-1C379DD0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796F-6145-4F93-9256-23082438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A03E-6B8B-4EF9-8690-78F024AE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A553-3420-4AF2-8485-47F84AFEF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DB20-58C1-4A2E-AA30-504C8B4A9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CD3E-2287-4CC5-A457-F2C70437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F270-C0DE-4999-81B3-80A1789D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F1AB-BB17-4155-85BC-A3139E5B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4308-A09E-47E6-BC3E-D075FF64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D037-8F35-40F2-ADD3-1D76946B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F7B6-FD17-4DA5-98E4-3F0E0DB9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2A1F-F3F6-46E9-A0BC-A0A3B21B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E8DC-3066-4D29-A198-30336A28E95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F641-A2AF-41B1-B40D-583F7A5DBC0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CSO Legal Developments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b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WA Legal Affairs Semi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mber 11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B975-8E8C-4560-9F72-B3814C15161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mpliance “Assurance”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19200" indent="-6192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SO Compliance Inspections ongoing by States and Regional Offi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PDES Compliance Inspection Manual, C.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0920" indent="-53640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 Minimum Contr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80920" indent="-53640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ess towards/ elements of the LTCP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SO Evaluation Check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0920" indent="-53640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tion of C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80920" indent="-53640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y Weather Overflo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80920" indent="-53640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80920" indent="-53640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tion and Mainte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80920" indent="-53640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iance Sched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A8BA-D03B-4548-9C59-A863C22198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nforcement -1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A using enforcement discre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 EPA CSO Control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A Chapter X of the Enforcement Management System (EMS) entitled “Enforcement Management System Guidance on Setting Priorities for Addressing Discharges from Sanitary Sewers”  March 7, 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iance and Enforcement Strategy Addressing CSOs and SSOs. April 27,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A/ DOJ Memo: Negotiation of CSO Consent Decrees September 16,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A/ECOS “Guidelines for Federal Enforcement of CSO/SSO Cases, April 10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less list of targets’ – 800+ CSO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C7E0-42B1-4633-B9AC-8877560CCF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nforcement -2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12720" indent="-61272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ECA, DOJ view of NPDES Permit violations 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71920" indent="-5310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ilure to comply with WQSs – General Cond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3840" indent="-449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3840" indent="-449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eria - floatables and color if nothing el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1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orthwest Environmental Advocates and Nina Bell v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1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ortla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“But nowhere does Congress evidence an intent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1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clude the enforcement of water quality standards that ha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1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been translated into effluent discharge limitations.” 11F.3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1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00 (9th Cir.1993) (certiorari denied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1920" indent="-5310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 Minimum Contr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1920" indent="-5310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ilure to develop/commence LTC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7C87-07E5-4DC5-97A2-78CCE8CF0C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nforcement - 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19200" indent="-619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 II NPDES permit separately negotiated to implement LTC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nt Decre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ACWA CD libra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0920" indent="-53640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PA open to different approaches.’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PA/ ECOS Guide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0920" indent="-53640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s to the norm: state developed CD entered in U.S. District Cour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25360" indent="-4539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U.S. v. Louisvil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25360" indent="-453960"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U.S. v. Sanitary District No.1, Northern Kentucky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E882-2901-4897-B992-DDC4DB28C6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33"/>
                </a:solidFill>
                <a:latin typeface="Garamond"/>
              </a:rPr>
              <a:t>U.S. v. Sanitary District No.1of Northern Kentucky 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-1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lement - CSOs, SS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Minimum Controls – status report, 24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OM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t in 6 months with specific 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Watershed Projects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ous durations to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mp stations --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1804-699B-46EE-8A05-D79E751137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33"/>
                </a:solidFill>
                <a:latin typeface="Garamond"/>
              </a:rPr>
              <a:t>U.S. v. Sanitary District No.1of Northern Kentucky - 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shed Plans – 4,  by December 31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for CSO LTCP &amp; S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s, dead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in conjunction with a watershed based approach -  coordination with other permitted point sources and nonpoint source control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d Plans; public participation, repor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l penalt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476,400:  $338,200 to state, $138,200 to U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s, state environmental, public education projects, Split Rock Conservation Park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pulated pena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AC6F-6159-42B9-ADAE-BDC2A752FF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nforcement - 4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 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erently system spec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itiz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action projects can buy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itive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du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0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8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1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ECA, DOJ - regulation by lit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cal elected officials cannot be certain (trusted) to follow through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1E59-396D-4269-ABB3-9F78F663B8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gisl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19200" indent="-6192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ension of grant authority under Wet Weather Water Quality Act of 2000, $750 million/ye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n Water Infrastructure Financing Legis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0920" indent="-536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. 1400 includes SRF reauthorization and new grant funding author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80920" indent="-536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use bill under development paralleling H.R. 1560 extending SRF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CWA Clean Water Trust Act - new dedicated revenue for construction grants and SRF loa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C24A-6684-489A-A649-1EBC737395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3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Robert C. Weaver</a:t>
            </a:r>
            <a:br>
              <a:rPr sz="2400"/>
            </a:b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Kelly &amp; Weaver P.C.</a:t>
            </a:r>
            <a:br>
              <a:rPr sz="2400"/>
            </a:b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Suite 700, 11 Dupont Circle N.W.</a:t>
            </a:r>
            <a:br>
              <a:rPr sz="2400"/>
            </a:b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Washington, D.C. 20036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202 797-7100, fax 202 939-6969</a:t>
            </a:r>
            <a:br>
              <a:rPr sz="2400"/>
            </a:b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weaver@kellyweaver.com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4BD2-AF0E-4E16-81DE-1444D5B60B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ackgrou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980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Montgomery Environmental Coalition v. Costl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held that CSOs are not POTWs subject to secondary treatment, left control requirements undefined for CSOs until 1994 and 2001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994 EPA CSO Control Policy issued with notice and comment like a rule, combined Clean Water Act programs: WQSs and NPDES permitting, and enforceme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997 Phase I Permits 9 Minimum Controls &amp; initiate LTC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et Weather Water Quality Act of 2000 requires CSO compliance and implementation “in conformance with” the 1994 Policy and authorizes grants.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1 EPA Guidanc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ordinating Combined Sewer Overflow (CSO) Long-Term Planning with Water Quality Standards Review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4 EPA Designated Use Pla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A436-F409-4265-B269-A971416C20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1994 EPA CSO Control Polic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QS re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DES Per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i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or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13F1-A445-4DAC-A061-7D70DA09EE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QS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ated 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eria: narrative,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ve/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schedu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mporary WQ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ia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degradation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B703-CDB3-465E-9CCD-A178F3FF9E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et Weather WQS Review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19200" indent="-6192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04 EPA Headquarter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lan for Supporting States and Tribes on Designated Use Issu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cuses on UAA case stud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reviews in prog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0920" indent="-536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of wet weather WQS uses and criteria based on magnitude, frequency and duration of expos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80920" indent="-536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ng-term compliance schedules for post July 1977 WQS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80920" indent="-53640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of WQS varianc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9FF3-4B22-46B4-B06E-B9763DAEDE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WQS: Indiana SEA 620</a:t>
            </a:r>
            <a:r>
              <a:rPr b="0" lang="en-US" sz="41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iance for term of permit &amp; renew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AAs mee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0 CFR 131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for CSO wet weather limited use sub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ed concurrently with L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TCP with appropriate information to satisfy UA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M to conduct public hea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SO controls to be cost effective/afford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SO Wet Weather Limited Use Subcateg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 determined by L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in in effect for 4 days after CSO discharge 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iance schedules may exceed permit ter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07BF-5D2B-4CB4-81A8-61C443FD80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PDES Permitting - 1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19200" indent="-619200">
              <a:spcBef>
                <a:spcPts val="6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allenge to implement Phase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mits and complete Phase II permitting. --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nforceable Mechanism” for LTC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PA “in conformance with” guid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der development - Wet Weather Water Quality Act of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0920" indent="-536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of permitted long-term compliance schedules for implementing LTCP and when appropria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25360" indent="-4539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r-Kist Carib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gnizes that only states have authority for such long-term schedules through their WQSs or other “organic” autho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25360" indent="-4539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d TMD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D7A6-099C-4F6D-B1A7-BAFEFB76AD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PDES Permitting - 2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Y’05 House Appropriations Repor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. . NPDES permits should be used to impose LTCP obligations whenever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uthorized states, state administrative orders or state judicial orders should be the primary alternative implementation mechanism to NPDES permits for imposing LTCP obligations. This clarification does not preclude state and/or federal enforcement actions where appropriat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ase II CSO permits and proper effluent lim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of administrative and judicial orde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A is divided on guidance with OW wanting to define what “in conformance means” and OECA believing that the statute is 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F21C-8B3C-4C30-A152-2AEFCEEF52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PDES Permitting - 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PA developing general guid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implement Matter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r-Kist Ca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PDES Permit appeal – OST, OWM, O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states have authority to authorize schedules under WQS, organic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tated limit on d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A  “as soon as possi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ska Rule – EPA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d TMDLs include additional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72D1-A488-44FF-AF25-B391B950EA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14:19:15Z</dcterms:created>
  <dc:creator>Bob Weaver</dc:creator>
  <dc:description/>
  <dc:language>en-US</dc:language>
  <cp:lastModifiedBy>Bob Weaver</cp:lastModifiedBy>
  <dcterms:modified xsi:type="dcterms:W3CDTF">2005-10-26T20:15:30Z</dcterms:modified>
  <cp:revision>20</cp:revision>
  <dc:subject/>
  <dc:title>CSO Legal Developments</dc:title>
</cp:coreProperties>
</file>