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118-486F-418F-B411-AB5A3F05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CE0-8695-4FA6-8F79-C7BF82B4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31A-7491-4BA3-80FE-DF72671B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C14-7E72-4FF8-B414-562F2FA1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7D34-84ED-47B5-83B9-145AF82E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3432-1898-42B9-826F-9E6AF6E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45F7-C796-4855-99B1-77CF04FA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BD67-A95E-4CCA-854C-E4D051D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493F-869D-4185-9903-96416C0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6066-7DEF-4402-9373-44E45EAC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9C18-F096-4228-B68B-FC215683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227-F62F-4647-91DB-156B28C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6EB-C35B-493E-9F56-528D45A2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B7A7-3040-4663-8CE7-3E8962E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9E8E-C334-47D6-89CC-98A083EF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D794-F669-4B62-B1D8-60E3E735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BBC8-939E-49BD-A4B0-490F0C10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A0E-3738-4FF4-AE9D-01E14F2D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D04-31C3-4963-811E-E9CE082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8E0-A28C-4F2F-96A0-F91B9C5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732-6B62-4FDF-B5A3-EFDAF88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DCE-D3C6-482E-9FF7-9F6C773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42F-0E30-4657-BBB8-726BB56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FC2-39EA-4688-8705-BEA18467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43E4-F06F-41CF-BD84-3532CF307F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ECEF-D183-4D87-9C94-86F31A46B0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SO Legal Development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WA Legal Affairs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11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2E71-467B-4C06-8053-D596C50A06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liance “Assurance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Compliance Inspections ongoing by States and Regional Off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DES Compliance Inspection Manual, C.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Minimum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ess towards/ elements of the LTCP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Evaluation Check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 of C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y Weather Over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 and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ance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745-BD18-4239-B2F1-BAB687EABA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using enforcement discre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EPA CSO Contro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Chapter X of the Enforcement Management System (EMS) entitled “Enforcement Management System Guidance on Setting Priorities for Addressing Discharges from Sanitary Sewers”  March 7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ce and Enforcement Strategy Addressing CSOs and SSOs. April 27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/ DOJ Memo: Negotiation of CSO Consent Decrees September 16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/ECOS “Guidelines for Federal Enforcement of CSO/SSO Cases, April 10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less list of targets’ – 800+ CSO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722-18D9-4C2B-BEEF-4FB46D5CE0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2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2720" indent="-61272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ECA, DOJ view of NPDES Permit violations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-5310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comply with WQSs – Gener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449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449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- floatables and color if nothing e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rthwest Environmental Advocates and Nina Bell 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ortl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“But nowhere does Congress evidence an intent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lude the enforcement of water quality standards that h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been translated into effluent discharge limitations.” 11F.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0 (9th Cir.1993) (certiorari denie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-5310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Minimum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1920" indent="-5310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develop/commence L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018-FCBC-4F8A-908B-E03E3E0B5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NPDES permit separately negotiated to implement L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Decre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CWA CD libr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PA open to different approaches.’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PA/ ECO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s to the norm: state developed CD entered in U.S. District Cou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.S. v. Louisvil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.S. v. Sanitary District No.1, Northern Kentucky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65E-FA31-4366-9011-BC393568B7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U.S. v. Sanitary District No.1of Northern Kentucky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- CSOs, S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Minimum Controls – status report, 2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M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in 6 months with specific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Watershed Projects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durations to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 stations --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6F8-9852-44A7-8A2A-E911B3BBF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Garamond"/>
              </a:rPr>
              <a:t>U.S. v. Sanitary District No.1of Northern Kentucky 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 Plans – 4,  by December 31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for CSO LTCP &amp; 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s,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conjunction with a watershed based approach -  coordination with other permitted point sources and nonpoint source control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Plans; public participation, repor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penal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76,400:  $338,200 to state, $138,200 to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, state environmental, public education projects, Split Rock Conservation Park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pulated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C49-10AA-4963-BA60-DD91CEDA2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forcement - 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ly system spe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itiz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ction projects can bu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d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1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ECA, DOJ - regulation by l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cal elected officials cannot be certain (trusted) to follow through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76D-964D-42DD-842D-8A5970B561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gisl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on of grant authority under Wet Weather Water Quality Act of 2000, $750 million/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 Water Infrastructure Financing Legis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. 1400 includes SRF reauthorization and new grant funding autho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se bill under development paralleling H.R. 1560 extending SR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CWA Clean Water Trust Act - new dedicated revenue for construction grants and SRF loa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75F-545F-43F7-8EFC-9FBF9AFCB8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Robert C. Weaver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Kelly &amp; Weaver P.C.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Suite 700, 11 Dupont Circle N.W.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Washington, D.C. 20036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202 797-7100, fax 202 939-6969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weaver@kellyweaver.com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49B-5A0C-4424-99E8-0AA631C0D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ckgrou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Montgomery Environmental Coalition v. Cost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held that CSOs are not POTWs subject to secondary treatment, left control requirements undefined for CSOs until 1994 and 200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4 EPA CSO Control Policy issued with notice and comment like a rule, combined Clean Water Act programs: WQSs and NPDES permitting, and enforc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97 Phase I Permits 9 Minimum Controls &amp; initiate LTC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t Weather Water Quality Act of 2000 requires CSO compliance and implementation “in conformance with” the 1994 Policy and authorizes grants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EPA Guidanc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ordinating Combined Sewer Overflow (CSO) Long-Term Planning with Water Quality Standards Re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EPA Designated Use Pla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A8F-9822-487E-9B46-50BB5BA03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994 EPA CSO Control Poli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QS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DES Per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278-4CD5-4C9C-88E5-323B1265F8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Q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ed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: narrative,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/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sche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orary WQ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grad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F36-466B-4AF3-9F93-1D291D7656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t Weather WQS Review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04 EPA Headquarter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an for Supporting States and Tribes on Designated Use Iss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cuses on UAA case stud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views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of wet weather WQS uses and criteria based on magnitude, frequency and duration of expo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compliance schedules for post July 1977 WQ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WQS varia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907-3A9B-4312-BEBF-8B6E8CA29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WQS: Indiana SEA 620</a:t>
            </a:r>
            <a:r>
              <a:rPr b="0" lang="en-US" sz="4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nce for term of permit &amp; renew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AAs me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 CFR 13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for CSO wet weather limited use sub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concurrently with L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TCP with appropriate information to satisfy U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 to conduct public he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controls to be cost effective/afford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O Wet Weather Limited Use Sub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determined by L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in effect for 4 days after CSO discharge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iance schedules may exceed permit ter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11B-3DF4-4F46-9BF5-9FE5B71CD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DES Permitting -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9200" indent="-619200">
              <a:spcBef>
                <a:spcPts val="6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e to implement Phas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complete Phase II permitting. -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forceable Mechanism” for LT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A “in conformance with” guid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development - Wet Weather Water Quality Act of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permitted long-term compliance schedules for implementing LTCP and when appropria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-Kist Carib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s that only states have authority for such long-term schedules through their WQSs or other “organic”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5360" indent="-4539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TMD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668-1681-4F89-A62A-C1510C1FD5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DES Permitting -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Y’05 House Appropriations Repor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 NPDES permits should be used to impose LTCP obligations whenever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uthorized states, state administrative orders or state judicial orders should be the primary alternative implementation mechanism to NPDES permits for imposing LTCP obligations. This clarification does not preclude state and/or federal enforcement actions where appropri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II CSO permits and proper effluent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administrative and judicial ord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is divided on guidance with OW wanting to define what “in conformance means” and OECA believing that the statute is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B72-59C3-4414-81D7-417E4B475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DES Permitting -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A developing general guid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lement Matt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-Kist Ca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PDES Permit appeal – OST, OWM, O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tates have authority to authorize schedules under WQS, organic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ted limit on d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 “as soon as poss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ska Rule – EPA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TMDLs include additional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F93-B73D-48F7-AF23-73EDCCFD98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4:19:15Z</dcterms:created>
  <dc:creator>Bob Weaver</dc:creator>
  <dc:description/>
  <dc:language>en-US</dc:language>
  <cp:lastModifiedBy>Bob Weaver</cp:lastModifiedBy>
  <dcterms:modified xsi:type="dcterms:W3CDTF">2005-10-26T20:15:30Z</dcterms:modified>
  <cp:revision>20</cp:revision>
  <dc:subject/>
  <dc:title>CSO Legal Developments</dc:title>
</cp:coreProperties>
</file>