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1C0-4602-451E-8703-29828642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E78-8E76-4EA9-AC85-F26E2AE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D38-5AD8-4177-80F7-FCD61261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5C0-3126-4C9F-A2A7-606B942B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D0F8-D578-4D8F-A4A4-FA154225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3409-E5FD-4C5E-B972-CA6EFAF8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8921-A60E-4142-9369-6154ED4C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3E5A-8E4C-44FA-960A-227BDCFE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086D-0599-403C-A085-BF09CD44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0E25-DF25-4EF9-8A39-C6331A6F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2701-909A-44B2-B9AB-F7AB44C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684-3831-4014-B05A-F6337BE6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361-A8B6-432F-9C96-AF1F6742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9FFC-85E5-4561-90FF-4BC7ED11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C19D-9A4B-4A37-8141-FD013779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BA96-0CF8-476F-925B-E4636A47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7604-3270-4CE9-905D-54B48974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543-B9C4-46D2-A41C-A74D9037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E22-2F87-4231-A587-7D38D1E8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FF8-72AF-4F40-9B45-43B41EE7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695-40C2-4874-9321-0791BC75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BC1-E24E-4380-B939-D1799640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41B-F86C-4410-99C9-568796A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9FE-798B-45FC-8BDC-A13AC8DC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8CBE-BC7C-4AA5-AE7E-FA94D40AC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114800" y="579132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3E25-A15E-48E7-B45D-F2772020D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14800" y="5791320"/>
            <a:ext cx="86832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NACWA 2005 Law Seminar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Use Attainability Analyses in the Real World:  Legal Issu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ri A. Ter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ster Pepper &amp; Shefelman PLL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111 Third Aven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attle, WA 98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206) 447-890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rrl@foster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Overview: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Legal Issues = Strategy + Legal + Technical + Politic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plex process, often driven by emotion, and fueled by poli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ct the unexpected and build a strategy that gives your clients multiple ways to “w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law” is a moving target; strategy and strong science is equally impor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age is half the game:  wear the white h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First Step:  What are the client’s ultimate objectiv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ually clients call when there is a TMDL already underway – or l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es your client really want a UAA or something el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TMDL and the UAA are necessarily linked and create leverage/opportun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do you get in the gam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econd Step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valuate legal options using worst case sce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ample:  Assume state DEQ denial of a UAA rulemaking peti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MDL Legal Challen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ilure to follow rulemaking proced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ilure to follow any state rules with regard to environmental revie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llenge based on adoption by a ru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28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llenges based on timing of the TMD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tive challeng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ther fact specific challenges (violation of constitutional rights; impairment of contrac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UAA Legal Challenges (assuming rulemaking required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llenge to agency denial of petition for rulemaking (primarily substantiv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Possible common law claims:  equitable estoppel; tortious interfer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ractice Tips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re is significant overlap between the evidence to support a challenge to a TMDL and the evidence to support a UAA pet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tch for guidance that can undercut your 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valuate whether/when to use alternate dispute res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ird Step:  Building your team and your recor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 you need a coali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dentify and retain experts who will create data/sci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is on the water quality horizon?  303(d); TMDLs; cas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rmine what is needed “for the record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Fourth Step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age expectations (it’s a marathon not a sprin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visit strategy early and often and update with new fact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23:47:15Z</dcterms:created>
  <dc:creator>Michelle Asay</dc:creator>
  <dc:description/>
  <dc:language>en-US</dc:language>
  <cp:lastModifiedBy>Foster Pepper &amp; Shefelman</cp:lastModifiedBy>
  <dcterms:modified xsi:type="dcterms:W3CDTF">2005-10-20T21:26:51Z</dcterms:modified>
  <cp:revision>18</cp:revision>
  <dc:subject/>
  <dc:title>Slide 1</dc:title>
</cp:coreProperties>
</file>