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0256-0F85-448C-97E7-F4426A2B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98B7-29C0-481C-9AFF-F9811B57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EF43-21FE-40C0-9389-1115D959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E2B9-FC4F-4C6B-A308-A6AE6669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5241-D826-4B54-ACA6-B8B883FD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5787-ABD6-4C92-B203-4A01A96F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CDCC-C000-47A7-846D-51826028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F1AF-5633-4CDA-8F74-4B771A2E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5CCE-3BF6-43A0-B0F4-BB22151D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209E-F82D-42DE-9F03-61F66DA6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B22D-FAEA-460D-ABAE-7D2AED60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4C09-7D43-45FC-9A0A-376152EC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4AA9-C578-492D-B442-54F59F8B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9882-57FE-46DF-927F-01420D6E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6565-2F53-4CBF-9762-4826D4C9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3375-D52B-429B-B3CD-B00AF839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D6CB-8C77-426F-B958-9D3DAAB5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B3F1-C411-4B71-8D07-8EB8BA6F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89A9-7E33-442B-B160-A63B65A1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4BD3-FEF1-4A8B-9DA7-9735AF0D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C27F-D964-47B8-95A4-A47DCA9C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119A-10A8-41BB-B587-BEB2BA0D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BEA8-6A73-4472-9AB5-732FA16F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0033-495C-467E-8129-D0B5B42C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F11F-8409-4733-9140-18D821C520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114800" y="5791320"/>
            <a:ext cx="86832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E221-6AD3-4AD9-8D09-589565278E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114800" y="5791320"/>
            <a:ext cx="868320" cy="868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NACWA 2005 Law Seminar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Use Attainability Analyses in the Real World:  Legal Issu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ori A. Ter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oster Pepper &amp; Shefelman PLL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111 Third Avenu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attle, WA 981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206) 447-8902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errl@foster.c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Overview: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Legal Issues = Strategy + Legal + Technical + Politic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mplex process, often driven by emotion, and fueled by politic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pect the unexpected and build a strategy that gives your clients multiple ways to “win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law” is a moving target; strategy and strong science is equally importa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mage is half the game:  wear the white ha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First Step:  What are the client’s ultimate objective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sually clients call when there is a TMDL already underway – or l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oes your client really want a UAA or something els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TMDL and the UAA are necessarily linked and create leverage/opportuni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w do you get in the gam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Second Step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valuate legal options using worst case sce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ample:  Assume state DEQ denial of a UAA rulemaking peti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TMDL Legal Challeng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ailure to follow rulemaking proced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ailure to follow any state rules with regard to environmental review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hallenge based on adoption by a ru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428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hallenges based on timing of the TMD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bstantive challeng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ther fact specific challenges (violation of constitutional rights; impairment of contrac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UAA Legal Challenges (assuming rulemaking required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hallenge to agency denial of petition for rulemaking (primarily substantive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Possible common law claims:  equitable estoppel; tortious interfer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Practice Tips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re is significant overlap between the evidence to support a challenge to a TMDL and the evidence to support a UAA peti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atch for guidance that can undercut your posi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valuate whether/when to use alternate dispute resolu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Third Step:  Building your team and your recor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o you need a coali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dentify and retain experts who will create data/scie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at is on the water quality horizon?  303(d); TMDLs; case la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termine what is needed “for the record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Fourth Step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nage expectations (it’s a marathon not a sprin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visit strategy early and often and update with new facts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23:47:15Z</dcterms:created>
  <dc:creator>Michelle Asay</dc:creator>
  <dc:description/>
  <dc:language>en-US</dc:language>
  <cp:lastModifiedBy>Foster Pepper &amp; Shefelman</cp:lastModifiedBy>
  <dcterms:modified xsi:type="dcterms:W3CDTF">2005-10-20T21:26:51Z</dcterms:modified>
  <cp:revision>18</cp:revision>
  <dc:subject/>
  <dc:title>Slide 1</dc:title>
</cp:coreProperties>
</file>