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F3BF-6A01-4C93-A94A-0859541C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EDEC-D400-4A8F-B441-E4231DB0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5E75-FD65-4AC6-A1B0-A91814A4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2E15-C5AC-479C-A364-ECBF95CCF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69F1-3730-497C-B69D-3203661C1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5FDF-446E-404D-AB68-1FA7980D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4974-55EC-481A-A2F8-3787D1C4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1BD7-5E8B-4ECE-8D3D-87B44537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B9B7-3BDB-466D-B69C-536C5BA6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A541-3907-41DA-A4AF-89B4A1A1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6918-465E-4BB4-B160-05A9CC0A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8D18-692F-4301-B2A4-62AAE8E4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6274-3406-4DB6-AEBB-5C131EF0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83A9-EEA7-4CC1-BF17-093066BD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7944-0D7F-4294-ABD3-14CC7AA8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269D-5264-4445-8352-B8C647115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F259-F7A1-40A9-9400-474E495B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5E00-4CC3-42BA-B1D8-041C4012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FE43-4F8F-4354-8B59-696EB31E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8E44-149F-468D-9BB7-C8EF6307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B3F3-3CC2-4F8F-986A-2B8A943F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D59D-BF26-47AE-9E46-A584E340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B6D4-2D77-4E5E-9AD8-7169B422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9C93-2311-4B8A-BD2B-6DA1E099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E552-8154-4484-ABED-3FE36DBA54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8DFE-70B3-4D6C-BF8E-9E3B11671C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WHOLE EFFLUENT TOXICITY PERMITTING</a:t>
            </a:r>
            <a:br>
              <a:rPr sz="28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CW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ments in Clean Water Law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v. 9-11, 2005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nta Fe, New Mexic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chard H. Sedgle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quaLaw PL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chmond, Virgini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WET Testing Issues (continued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does the permit requi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ito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E / T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eric WET lim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D.C. Circuit Court WET Decisio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cember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pholding EPA repromulgation of WET test metho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D.C. Circuit Court WET Decision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 (continued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sitive Po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of single WET fail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times a WET result will be wro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idity of a WET result may be challenged in defense of enforc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 discretion to set toxicity thresholds to account for local cond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PA must establish representative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mits may be challenged if limits address a minimal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mits must account for the imprecision of WET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NPDES Wet Permitt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lternate Test End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C50 / NOA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on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C25 / NO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NPDES WET Permitting (continued)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stream Di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st Method Flexi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mo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d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ata Quality Objec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se -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NPDES WET Permitting (continued)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presentativ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lly, there are no criteria / standards for W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fore, WET data must relate to the narrative water quality stand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asonable Potent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the WET data demonstrate that instream water quality will be impair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Constitutes a Violati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(IN DEVELOPMENT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0000" y="15235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NACWA White Pap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le Effluent Toxicity (WET) NPDES Permit Testing and Limitations for Public Agenc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What is Whole Effluent Toxicity (WET)?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est Organis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n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 Fle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ri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n Alg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iological Impa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t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w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NPDES Permitting (WET Parameters)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nito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ut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ron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xicity Ident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xicity Identification Evaluation (TI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xicity Reduction Evaluation (T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mit Lim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WET Testing Issues</a:t>
            </a:r>
            <a:br>
              <a:rPr sz="4400"/>
            </a:b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nalytical Variability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igur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fig1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472428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WET Testing Issues (continued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presentative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a laboratory WET result identify instream toxic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resentativeness is endpoint-specif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WET Testing Issues (continued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ET Test End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t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w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, different approaches to expressing ea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WET Testing Issues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(continued)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5904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90720" y="172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590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066680" y="1676520"/>
          <a:ext cx="807732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6520"/>
                    <a:ext cx="80773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WET Testing Issues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5904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90720" y="172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90720" y="172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890720" y="1725480"/>
          <a:ext cx="7253280" cy="498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0720" y="1725480"/>
                    <a:ext cx="7253280" cy="498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6:57:22Z</dcterms:created>
  <dc:creator>kwhite</dc:creator>
  <dc:description/>
  <dc:language>en-US</dc:language>
  <cp:lastModifiedBy>dsedgley</cp:lastModifiedBy>
  <dcterms:modified xsi:type="dcterms:W3CDTF">2005-10-24T16:20:59Z</dcterms:modified>
  <cp:revision>30</cp:revision>
  <dc:subject/>
  <dc:title>WHOLE EFFLUENT TOXICITY PERMITTING  NACWA Developments in Clean Water Law Nov. 9-11, 2005 Santa Fe, New Mexico  Richard H. Sedgley AquaLaw PLC Richmond, Virginia</dc:title>
</cp:coreProperties>
</file>