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9A4-EBE3-44B8-9713-5768A4F6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8DA-8DD6-452F-9C59-6EEBC570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C43-B129-4595-8BC6-5755A9FA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D7A-6C91-4B23-8C93-84668296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BD5-912C-4843-B073-7C505E69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5436-6AAE-4D8B-8965-0DD805B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8FC-853A-400C-9955-E719D2D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9A18-D8D8-437C-BEA4-BE3255B2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C6D-640A-40AF-950F-E531216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3CD7-B8DA-4314-963E-459828C9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D63F-F486-43BC-AB22-22F3CEF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17B-5A7C-4528-9C21-EA967F8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6020-35A4-43CE-827C-3B01D351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D991-5013-4B83-AB51-CD45D65B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03F1-C26A-45A7-B18B-C4CA30C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3D62-4D1E-4CA0-B9E4-CA1B36A2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14AF-13D4-43F8-B039-4D3E1F29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74D-95F9-4A93-8F0E-24C7B8C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BE0-869A-425E-BDDA-80C092EA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83F-D843-4AAE-9A87-54196F1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F4C-8915-4303-9B98-4D0946F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5AD-A817-4C5E-81E5-E782D05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DFA-0E7F-4460-8259-B3A2904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D0D-4493-4938-B520-A5CBD91D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43F7-2395-4A8E-906B-61CFF4905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7F47-C6E6-448F-A7F1-75758BB2C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OLE EFFLUENT TOXICITY PERMITTING</a:t>
            </a:r>
            <a:br>
              <a:rPr sz="28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CW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s in Clean Water La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. 9-11, 2005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ta Fe, New Mexic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H. Sedgl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quaLaw PL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mond, Virgin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ET Testing Issues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does the permit requi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 / 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ic WET li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D.C. Circuit Court WET Decis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holding EPA repromulgation of WET test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D.C. Circuit Court WET Decision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itiv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single WET fail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a WET result will be w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ity of a WET result may be challenged in defense of enfor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discretion to set toxicity thresholds to account for local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A must establish representat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ts may be challenged if limits address a minimal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ts must account for the imprecision of WE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NPDES Wet Permit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e Test End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C50 / NOA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25 / NO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PDES WET Permitting (continued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ream Di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st Method Flex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Quality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e -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PDES WET Permitting (continued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resenta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, there are no criteria / standards for W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WET data must relate to the narrative water quality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sonable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WET data demonstrate that instream water quality will be impair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Constitutes a Viol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(IN DEVELOPMENT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ACWA White Pap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le Effluent Toxicity (WET) NPDES Permit Testing and Limitations for Public Ag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What is Whole Effluent Toxicity (WET)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st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n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Fl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Al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ological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t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PDES Permitting (WET Parameters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u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xicity Iden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Identification Evaluation (T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xicity Reduction Evaluation (T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mit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WET Testing Issues</a:t>
            </a:r>
            <a:br>
              <a:rPr sz="4400"/>
            </a:b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nalytical Variability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gu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fig1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72428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ET Testing Issues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resentat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a laboratory WET result identify instream tox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ativeness is endpoint-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ET Testing Issues (continued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T Test End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t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different approaches to expressing ea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ET Testing Issue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(continued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5904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907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590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1676520"/>
          <a:ext cx="807732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8077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ET Testing Issue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5904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907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907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90720" y="1725480"/>
          <a:ext cx="7253280" cy="498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720" y="1725480"/>
                    <a:ext cx="7253280" cy="49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6:57:22Z</dcterms:created>
  <dc:creator>kwhite</dc:creator>
  <dc:description/>
  <dc:language>en-US</dc:language>
  <cp:lastModifiedBy>dsedgley</cp:lastModifiedBy>
  <dcterms:modified xsi:type="dcterms:W3CDTF">2005-10-24T16:20:59Z</dcterms:modified>
  <cp:revision>30</cp:revision>
  <dc:subject/>
  <dc:title>WHOLE EFFLUENT TOXICITY PERMITTING  NACWA Developments in Clean Water Law Nov. 9-11, 2005 Santa Fe, New Mexico  Richard H. Sedgley AquaLaw PLC Richmond, Virginia</dc:title>
</cp:coreProperties>
</file>