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3BB-C500-4F61-BF3D-4171DAA0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812-95A7-4321-A850-B6EFEB6F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790-AD06-4A65-9C7F-718A29CC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F85-F83A-46C9-A5AC-CA3E2FC5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2B7-800E-4894-9106-322229D0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F93-6CBF-4A0A-8B21-3AF166A4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EE6-29BB-4F6D-8A2E-7A4C1881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992-A765-4275-A900-33C4315D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F41-206D-480B-AE7F-ADEF1708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1C6-CC43-4A6D-870A-2BB9F5FA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0F1-7532-4ACC-ABB3-6E268BCB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C4E-0A63-45A8-BED2-3A18CFA9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EAC6-428D-4505-9BFD-3EF4B45E7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MDLs and Stormwater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b Scout M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L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 Water Services (Hillsboro, Oreg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at NACWA Legal Con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ta Fe, N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9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B21-803B-450A-8353-112A393447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Model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254-B4A9-4672-9E98-CE57FFFE4F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credit for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ample – 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988-3132-4A82-A866-54E45F5CC6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erage Percent by Sour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27160" y="1260360"/>
          <a:ext cx="7407360" cy="486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60360"/>
                    <a:ext cx="740736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4D0-AB20-429B-92C3-F873E9F441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851-1A0A-474D-AAD5-2BC1E14A7D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e the Right to be Smarter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E81-A790-46CD-8470-25A23797D4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r Be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A Guidance Document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22, 200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, adaptive management BM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variable storm events (frequency, du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useful or predic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A81-C7EA-4278-9C76-975780F62C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 Water Services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alatin 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TMDL Allocation process in 1995-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imits (all discharge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imits (representative discharge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lans to achieve TMDL 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lans to achieve reductions of specified parameters in specific a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lans to reduce pollutants to the M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E77-384A-4725-A65C-33FEDC4192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ility/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/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assurance that WLA will b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anagement/benchmarks/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46D-4182-482F-823D-880D11CDCC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LAs for MS4 Dis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676520"/>
          <a:ext cx="8458200" cy="1179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458200" cy="1179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B1E-A722-4D66-9F83-2AB3576FFB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LAs for MS4 Dis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600200"/>
          <a:ext cx="7543800" cy="1148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543800" cy="114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3AD-9EC2-4C25-BA35-820C3FE84F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All Super Models are Skin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downloaded from The Free Dictionary by Farlex on October 24, 2005.  http://encyclopedia.thefreedictionary.com/_/viewer.aspx?path=7/7f/&amp;name=Miss_Piggy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98800" y="2057400"/>
            <a:ext cx="1344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B29-B1DD-4590-B65B-50A143FE9B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DL Waste Load Allocations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0" spc="-1" strike="noStrike">
                <a:solidFill>
                  <a:srgbClr val="333399"/>
                </a:solidFill>
                <a:latin typeface="Curlz MT"/>
              </a:rPr>
              <a:t>g</a:t>
            </a:r>
            <a:r>
              <a:rPr b="1" lang="en-US" sz="8000" spc="-1" strike="noStrike">
                <a:solidFill>
                  <a:srgbClr val="99cc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3300"/>
                </a:solidFill>
                <a:latin typeface="Curlz MT"/>
              </a:rPr>
              <a:t>n</a:t>
            </a:r>
            <a:r>
              <a:rPr b="1" lang="en-US" sz="8000" spc="-1" strike="noStrike">
                <a:solidFill>
                  <a:srgbClr val="000000"/>
                </a:solidFill>
                <a:latin typeface="Curlz MT"/>
              </a:rPr>
              <a:t>e w</a:t>
            </a:r>
            <a:r>
              <a:rPr b="1" lang="en-US" sz="8000" spc="-1" strike="noStrike">
                <a:solidFill>
                  <a:srgbClr val="ff3300"/>
                </a:solidFill>
                <a:latin typeface="Curlz MT"/>
              </a:rPr>
              <a:t>i</a:t>
            </a:r>
            <a:r>
              <a:rPr b="1" lang="en-US" sz="8000" spc="-1" strike="noStrike">
                <a:solidFill>
                  <a:srgbClr val="6600ff"/>
                </a:solidFill>
                <a:latin typeface="Curlz MT"/>
              </a:rPr>
              <a:t>l</a:t>
            </a:r>
            <a:r>
              <a:rPr b="1" lang="en-US" sz="8000" spc="-1" strike="noStrike">
                <a:solidFill>
                  <a:srgbClr val="99cc00"/>
                </a:solidFill>
                <a:latin typeface="Curlz MT"/>
              </a:rPr>
              <a:t>d</a:t>
            </a:r>
            <a:r>
              <a:rPr b="1" lang="en-US" sz="8000" spc="-1" strike="noStrike">
                <a:solidFill>
                  <a:srgbClr val="000000"/>
                </a:solidFill>
                <a:latin typeface="Curlz MT"/>
              </a:rPr>
              <a:t>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74A-592B-4152-97CE-42819E85BF71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50"/>
                            </p:stCondLst>
                            <p:childTnLst>
                              <p:par>
                                <p:cTn id="12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450"/>
                            </p:stCondLst>
                            <p:childTnLst>
                              <p:par>
                                <p:cTn id="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6720" y="0"/>
            <a:ext cx="8213760" cy="674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589-F331-487C-B46C-704750A957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46:17Z</dcterms:created>
  <dc:creator>Christina Gangle</dc:creator>
  <dc:description/>
  <dc:language>en-US</dc:language>
  <cp:lastModifiedBy>Christina Gangle</cp:lastModifiedBy>
  <dcterms:modified xsi:type="dcterms:W3CDTF">2005-11-01T23:37:57Z</dcterms:modified>
  <cp:revision>23</cp:revision>
  <dc:subject/>
  <dc:title>TMDLs and Stormwater –  The Scout Motto</dc:title>
</cp:coreProperties>
</file>