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3E86-F0A0-4406-B256-07B84495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5A5-4FB6-42E7-B6EB-1C7C154E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FD5-045A-4A34-9944-F78318BC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23D-631B-4AB9-B837-49D3B5D7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77C-48B8-4F0C-ABE4-7E24534C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649-15B0-419D-9924-513E754D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4908-A273-44D2-A146-6D419ECA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EB0-A16E-49CF-B532-3A7AB941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C4A-F080-42D9-86CC-372430DC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D70-7A82-4A11-93E4-758FB99F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40B-2BDF-4259-9FC9-2C7C84FD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4F8-F057-441E-BB73-E7730F79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D89F-411F-4722-86A4-DF6354BD9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MDLs and Stormwater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ub Scout Mo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8862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L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 Water Services (Hillsboro, Oreg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at NACWA Legal Con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ta Fe, N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9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781-D7FB-401F-92B3-1246C527F3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 Model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048-636B-40B8-B635-C1E620C670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credit for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ample – bacte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96BA-6D9C-440D-B372-2BCF9A35EB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erage Percent by Sour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27160" y="1260360"/>
          <a:ext cx="7407360" cy="486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60360"/>
                    <a:ext cx="740736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E7B-D153-4E5B-81F9-CC1EA76C05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EB5-1811-4384-8218-45F62BFFCA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e the Right to be Smarter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F30-5AE6-4B33-9348-2498C33F21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r Be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A Guidance Document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22, 200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, adaptive management BM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variable storm events (frequency, du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useful or predic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7D8-55F3-48A7-B47A-B50427310E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n Water Services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alatin Ri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TMDL Allocation process in 1995-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 limits (all discharge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 limits (representative discharge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plans to achieve TMDL al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plans to achieve reductions of specified parameters in specific a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plans to reduce pollutants to the M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1E8-1C2C-47BE-A74E-A28553DA30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ility/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ance/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able assurance that WLA will be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anagement/benchmarks/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0BFC-A7AC-4986-8561-2E441E0152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LAs for MS4 Dis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676520"/>
          <a:ext cx="8458200" cy="1179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458200" cy="1179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C92-2928-45C5-A7E3-E7D007FB11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n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LAs for MS4 Dis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600200"/>
          <a:ext cx="7543800" cy="1148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543800" cy="114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7D8-3376-4392-9260-B32FC0D75C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All Super Models are Skin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downloaded from The Free Dictionary by Farlex on October 24, 2005.  http://encyclopedia.thefreedictionary.com/_/viewer.aspx?path=7/7f/&amp;name=Miss_Piggy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98800" y="2057400"/>
            <a:ext cx="1344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E9A-AC4F-4E32-815B-F02DBF878F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DL Waste Load Allocations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0" spc="-1" strike="noStrike">
                <a:solidFill>
                  <a:srgbClr val="333399"/>
                </a:solidFill>
                <a:latin typeface="Curlz MT"/>
              </a:rPr>
              <a:t>g</a:t>
            </a:r>
            <a:r>
              <a:rPr b="1" lang="en-US" sz="8000" spc="-1" strike="noStrike">
                <a:solidFill>
                  <a:srgbClr val="99cc00"/>
                </a:solidFill>
                <a:latin typeface="Curlz MT"/>
              </a:rPr>
              <a:t>o</a:t>
            </a:r>
            <a:r>
              <a:rPr b="1" lang="en-US" sz="8000" spc="-1" strike="noStrike">
                <a:solidFill>
                  <a:srgbClr val="ff3300"/>
                </a:solidFill>
                <a:latin typeface="Curlz MT"/>
              </a:rPr>
              <a:t>n</a:t>
            </a:r>
            <a:r>
              <a:rPr b="1" lang="en-US" sz="8000" spc="-1" strike="noStrike">
                <a:solidFill>
                  <a:srgbClr val="000000"/>
                </a:solidFill>
                <a:latin typeface="Curlz MT"/>
              </a:rPr>
              <a:t>e w</a:t>
            </a:r>
            <a:r>
              <a:rPr b="1" lang="en-US" sz="8000" spc="-1" strike="noStrike">
                <a:solidFill>
                  <a:srgbClr val="ff3300"/>
                </a:solidFill>
                <a:latin typeface="Curlz MT"/>
              </a:rPr>
              <a:t>i</a:t>
            </a:r>
            <a:r>
              <a:rPr b="1" lang="en-US" sz="8000" spc="-1" strike="noStrike">
                <a:solidFill>
                  <a:srgbClr val="6600ff"/>
                </a:solidFill>
                <a:latin typeface="Curlz MT"/>
              </a:rPr>
              <a:t>l</a:t>
            </a:r>
            <a:r>
              <a:rPr b="1" lang="en-US" sz="8000" spc="-1" strike="noStrike">
                <a:solidFill>
                  <a:srgbClr val="99cc00"/>
                </a:solidFill>
                <a:latin typeface="Curlz MT"/>
              </a:rPr>
              <a:t>d</a:t>
            </a:r>
            <a:r>
              <a:rPr b="1" lang="en-US" sz="8000" spc="-1" strike="noStrike">
                <a:solidFill>
                  <a:srgbClr val="000000"/>
                </a:solidFill>
                <a:latin typeface="Curlz MT"/>
              </a:rPr>
              <a:t>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983-0D74-4BB0-A7E2-5714E212B182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450"/>
                            </p:stCondLst>
                            <p:childTnLst>
                              <p:par>
                                <p:cTn id="12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450"/>
                            </p:stCondLst>
                            <p:childTnLst>
                              <p:par>
                                <p:cTn id="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6720" y="0"/>
            <a:ext cx="8213760" cy="674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DAAE-B094-4FF6-A3C9-E2DE11ACAF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1:46:17Z</dcterms:created>
  <dc:creator>Christina Gangle</dc:creator>
  <dc:description/>
  <dc:language>en-US</dc:language>
  <cp:lastModifiedBy>Christina Gangle</cp:lastModifiedBy>
  <dcterms:modified xsi:type="dcterms:W3CDTF">2005-11-01T23:37:57Z</dcterms:modified>
  <cp:revision>23</cp:revision>
  <dc:subject/>
  <dc:title>TMDLs and Stormwater –  The Scout Motto</dc:title>
</cp:coreProperties>
</file>