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348-EC79-4E99-BFD6-6E65954C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964-F37C-4D22-96CA-4FEBC5CE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AF6-6018-4599-8105-3B7FE234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493-E22D-4155-A475-54823D7A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3083-B425-4CB5-928A-D0EB4D3E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61A5-86FC-4D89-9B87-1416CD1B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796-3EB4-4DF1-BD52-815E48DC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6895-A5ED-4F6B-AC88-C4615E1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4072-068C-4CCE-BCEA-65C009C6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19E3-A9C6-43CB-B6B7-44CD679A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F9B-89D0-4733-B904-374F1CD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96D-D370-487A-97A5-56CD4D5F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7A58-42E0-45D1-AC47-2EFC9E7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58B7-2D54-4032-B02B-0324D364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C9D2-A17D-4C18-81EC-18065021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D32C-F4DA-47F9-9862-D5CB0C57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9795-EBEB-4D3B-95D4-D83B2B38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C20-6E43-4DFE-BC06-6526EDE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7E4-5BF3-4383-AECC-FBADA2C2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B18-4267-476A-838D-06BFDABD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B05-D5CF-4CFC-8FB9-B2D6668E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BB9-C92F-46B7-A6B3-30359D13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A03-0C5D-4415-B232-3618C47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B23-1042-438C-8765-D2EA639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74CF-3314-4746-9948-DD1FE8F3ED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EEC8-F857-4428-BC8C-DED014057E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alifornia’s Proposed SSO Reduction Program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a La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WA Law Semi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9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ta Fe,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NGO Perspect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ffirmative defense is contrary to law and bad public poli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WA provides for strict liability-- affirmative defense would transform the standard to one of neglig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defense would have the effect of limiting enforcement.  The result would be fewer citizen sui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rrent Statu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Board resolution calls for action in November 2005; now postponed to January 200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ed draft state permit will be issued mid-Nov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(we think) is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line Reporting of all S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ed requirements and schedules for SS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orcement discretion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rrent Statu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(we think) is O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ility for private lat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Party certification of SS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rrent Statu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nswered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ill be  covered and who will no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 of the enforcement discretion langua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uch will it cost to impl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re be adequate time to train all 2,000 collection systems regarding on-line report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NGOs mount an 11th hour attack on the permit?  If so, what will the State Board do in respon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Setting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focus on beach closure issues in Southern Califor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ed in greater SSO enforc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ctured regional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Regions (out of 9) have issued regional non-NPDES (State) per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thers are including SSO/SSMP language in POTW NPDES per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forcement action by State “generally” only on high-profile sp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A Region 9 taking “random” enforcement action on S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A 3rd-party lawsuits incre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ases have been settled…. so far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Response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regulators formed a Sanitary Sewer Overflow Guidance Committee.  Membership included collection system operators, health officers, regulators and N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 WDR (non-NPDES) in June 2005-- Revised August 1, 200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Draft anticipated mid-November; scheduled for State Board adoption in January 20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nitial Statewide SSO Initiat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considered one of the regional permits as a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ed by collection system operators and POT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 did not account for design st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hibition did not provide for consideration of containment and pump-back from storm drain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flexibility to address regional cond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affirmative def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raft State WDRs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Key Provisions/Issue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hibit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DES Permit v. State Per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ed Sewer System Management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Sched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ey Issue - Prohibi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scharge of untreated sewage to any surface water stream, natural or man-made, or to any drainage system intended to convey storm water runoff to surface water streams, is prohibi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SSO is not a violation of Prohibition B.1, if the SSO is fully contained within a storm drain, is pumped back into the sanitary sewer system, and the storm drain that came into contact with sewage is adequately disinfected to prevent environmental or public health ri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Key Issue: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ffirmative Defense –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that some limited subset of SSOs are not subject to enforcement--by the State or third pa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ncluded in a state-issued non-NPDES permit, affirmative defense does not provide true protection from citizen su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does provi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gumen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Key Issue: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ype of Permit 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Os want an NPDES permit with a prohibition and without an affirmative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llection system agencies want an NPDES perm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it has meaningful affirmative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RCB attorneys say it can’t be an NPDES permi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Region 9 says if NPDES permit is the vehicle, the affirmative defense cannot be inclu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NGO Perspect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Os are causing public health risks, property damage and environmental h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ory agencies are not addressing the SSO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rts are the only forum in which NGOs are taken seriou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s cannot participate meaningfully in the regulatory process due to a lack of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8:58:17Z</dcterms:created>
  <dc:creator>Roberta Larson</dc:creator>
  <dc:description/>
  <dc:language>en-US</dc:language>
  <cp:lastModifiedBy>Roberta Larson</cp:lastModifiedBy>
  <dcterms:modified xsi:type="dcterms:W3CDTF">2005-11-09T05:26:40Z</dcterms:modified>
  <cp:revision>10</cp:revision>
  <dc:subject/>
  <dc:title>Reducing SSOs:  Perspectives on the Proposed SSO Reduction Program</dc:title>
</cp:coreProperties>
</file>