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90E-D742-4F8A-9023-02517D2B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1D-C24B-4B4B-B00A-2438D318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2F0-9F2A-44DF-8FB1-4AD2C632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E0D-F56C-4FC5-B617-38757913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BDB1-E0E4-43EA-9E10-D3217491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4B3-7839-4BE8-A8A8-9E50815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F8B-0113-4AED-8126-DF86C34C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24B3-D3CC-4F54-B0B5-7640B53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B09-2850-4061-834A-E416535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08A-B372-4911-8ABB-E34456B5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037-3EC7-4F5E-B35A-6B964FC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84A-B7DC-4A54-BE40-4FF4413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02F8-F74D-4875-9983-4F34861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5BE-3250-42F8-BBFA-C50559B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00D6-6DC0-4F8D-939A-AA401EA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DAD1-B404-425D-8B8A-6457801C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53CD-E93C-4403-9AC6-210CE11F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F59-5679-4077-9DF8-2A766FA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15A-5E9D-4F1E-BEDC-7FA19941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BF8-FE24-479A-923D-80B32D7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9E3-CE69-4BC0-8A46-55F7610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E39-9610-4475-9240-8BC553AD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2AB-6E34-4B41-B948-30D8365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628-1AE6-4738-99FF-2C7BC20B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1EBF-ECDD-4FD4-AFE5-E5125095E7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EDE4-D1ED-4AD8-9905-27CB07E643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alifornia’s Proposed SSO Reduction Program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a La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WA Law Sem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9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ta Fe,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GO Perspec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ffirmative defense is contrary to law and bad public poli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WA provides for strict liability-- affirmative defense would transform the standard to one of neglig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defense would have the effect of limiting enforcement.  The result would be fewer citizen sui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Board resolution calls for action in November 2005; now postponed to January 200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draft state permit will be issued mid-Nov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(we think) is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line Reporting of all S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ed requirements and schedules for SS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orcement discretion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(we think) is 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bility for private later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Party certification of SS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rrent Statu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nswered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ill be  covered and who will no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 of the enforcement discretion langua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will it cost to impl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re be adequate time to train all 2,000 collection systems regarding on-line report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NGOs mount an 11th hour attack on the permit?  If so, what will the State Board do in respon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tting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focus on beach closure issues in Southern Califor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ed in greater SSO enforc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ctured regional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Regions (out of 9) have issued regional non-NPDES (State)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thers are including SSO/SSMP language in POTW NPDES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ment action by State “generally” only on high-profile sp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A Region 9 taking “random” enforcement action on S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A 3rd-party lawsuits incre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ases have been settled…. so far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he Response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regulators formed a Sanitary Sewer Overflow Guidance Committee.  Membership included collection system operators, health officers, regulators and N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WDR (non-NPDES) in June 2005-- Revised August 1, 200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Draft anticipated mid-November; scheduled for State Board adoption in January 20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nitial Statewide SSO Initia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considered one of the regional permits as a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ed by collection system operators and POT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 did not account for design st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hibition did not provide for consideration of containment and pump-back from storm drain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flexibility to address regional cond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affirmative def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raft State WDRs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Key Provisions/Issue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hibitio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DES Permit v. State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ed Sewer System Managemen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Respon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Sche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Key Issue - Prohibi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scharge of untreated sewage to any surface water stream, natural or man-made, or to any drainage system intended to convey storm water runoff to surface water streams, is prohibi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SSO is not a violation of Prohibition B.1, if the SSO is fully contained within a storm drain, is pumped back into the sanitary sewer system, and the storm drain that came into contact with sewage is adequately disinfected to prevent environmental or public health ri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Key Issue: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ffirmative Defense –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that some limited subset of SSOs are not subject to enforcement--by the State or third par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ncluded in a state-issued non-NPDES permit, affirmative defense does not provide true protection from citizen su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does 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gumen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Key Issue: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Type of Permit 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Os want an NPDES permit with a prohibition and without an 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llection system agencies want an NPDES perm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it has meaningful affirmative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RCB attorneys say it can’t be an NPDES permi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Region 9 says if NPDES permit is the vehicle, the affirmative defense cannot be inclu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NGO Perspect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Os are causing public health risks, property damage and environmental ha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y agencies are not addressing the SSO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rts are the only forum in which NGOs are taken serious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 cannot participate meaningfully in the regulatory process due to a lack of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8:58:17Z</dcterms:created>
  <dc:creator>Roberta Larson</dc:creator>
  <dc:description/>
  <dc:language>en-US</dc:language>
  <cp:lastModifiedBy>Roberta Larson</cp:lastModifiedBy>
  <dcterms:modified xsi:type="dcterms:W3CDTF">2005-11-09T05:26:40Z</dcterms:modified>
  <cp:revision>10</cp:revision>
  <dc:subject/>
  <dc:title>Reducing SSOs:  Perspectives on the Proposed SSO Reduction Program</dc:title>
</cp:coreProperties>
</file>