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325-5ECB-424A-B54E-CD812615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WC '26.039(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stablishes reporting requirements for accidental discharges and sp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Requires 24-hour notification to the TCEQ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WC'26.039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stablishes public notification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We will choose facilities base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elf-repor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SO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evious NO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end letter requesting participation which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articipation is 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ust agree to evaluate the wastewater system and develop plan and schedu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rrective action must require longer than six months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Facility cannot be under formal 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Facilities located in impaired watersh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SOs that have had a documented imp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Repeated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360" y="180720"/>
            <a:ext cx="825984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of Texas Commission on Environmental Quality’s   Sanitary Sewer Overflow (SSO)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5480"/>
            <a:ext cx="867420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3429000"/>
          <a:ext cx="3870360" cy="290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429000"/>
                    <a:ext cx="3870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880" y="437760"/>
            <a:ext cx="82584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y an SSO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160" y="132084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81080"/>
            <a:ext cx="8329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rease in SSOs due to ag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rrective action often de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90920" y="3124080"/>
            <a:ext cx="4176720" cy="3287880"/>
            <a:chOff x="2590920" y="3124080"/>
            <a:chExt cx="4176720" cy="32878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2003" t="0" r="2751" b="0"/>
            <a:stretch/>
          </p:blipFill>
          <p:spPr>
            <a:xfrm>
              <a:off x="2590920" y="3124080"/>
              <a:ext cx="4176720" cy="32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2590920" y="3124080"/>
              <a:ext cx="4176720" cy="32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67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y an SSO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8120" y="1351080"/>
            <a:ext cx="8545680" cy="6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0520" y="2192040"/>
            <a:ext cx="8329680" cy="23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uthority: Texas Water Code </a:t>
            </a:r>
            <a:r>
              <a:rPr b="1" i="1" lang="en-US" sz="3200" spc="-1" strike="noStrike">
                <a:solidFill>
                  <a:srgbClr val="ffffff"/>
                </a:solidFill>
                <a:latin typeface="WP TypographicSymbols"/>
              </a:rPr>
              <a:t>'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26.121(a)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NAUTHORIZE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DISCHARGES PROHIBITED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.               </a:t>
            </a:r>
            <a:br>
              <a:rPr sz="3000"/>
            </a:b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600" y="3251160"/>
            <a:ext cx="83296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xcept as authorized by the commission, no person may dischar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wage, municipal was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aste, agricultural waste, or industrial waste into o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jacent to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ny water in the state;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360" y="150840"/>
            <a:ext cx="825984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i="1" lang="en-US" sz="4800" spc="-1" strike="noStrike">
                <a:solidFill>
                  <a:srgbClr val="ffffff"/>
                </a:solidFill>
                <a:latin typeface="WP TypographicSymbols"/>
              </a:rPr>
              <a:t>=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 the Goal of the  Initiat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520" y="2836800"/>
            <a:ext cx="83296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457200"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 encourage municipalities to develop and implement a corrective action plan before recurrent 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57200">
              <a:lnSpc>
                <a:spcPct val="100000"/>
              </a:lnSpc>
              <a:buClr>
                <a:srgbClr val="ff0000"/>
              </a:buClr>
              <a:buFont typeface="WP MathA" charset="2"/>
              <a:buChar char="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mpact human health, safety o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457200">
              <a:lnSpc>
                <a:spcPct val="100000"/>
              </a:lnSpc>
              <a:buClr>
                <a:srgbClr val="ff0000"/>
              </a:buClr>
              <a:buFont typeface="WP MathA" charset="2"/>
              <a:buChar char="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come major enforce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598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ow Will We Accomplish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14600"/>
            <a:ext cx="8329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457200" algn="ctr">
              <a:lnSpc>
                <a:spcPct val="100000"/>
              </a:lnSpc>
              <a:buClr>
                <a:srgbClr val="ff0000"/>
              </a:buClr>
              <a:buFont typeface="WP MathA" charset="2"/>
              <a:buChar char="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ffer municipalities with recurrent  SSOs an opportunity to enter into a Compliance Agreement (CA) to address SS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1360" y="150480"/>
            <a:ext cx="825984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ow will This Benefit the Municipality?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1520" y="2836800"/>
            <a:ext cx="83296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 penalties associated with the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cilitate funding of the projec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re likely to comply with a more formal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4160" y="304560"/>
            <a:ext cx="825984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aluation of the Compliance Pl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1676520"/>
            <a:ext cx="86742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71520" y="1849320"/>
            <a:ext cx="832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0"/>
            <a:ext cx="8329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cause and interim measures to mitigat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ludes comprehensive evaluation of the sew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corrective measures, including milestones for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360" y="593640"/>
            <a:ext cx="825984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valuation of the Compliance Plan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81080"/>
            <a:ext cx="8674200" cy="1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71520" y="1849320"/>
            <a:ext cx="832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590920"/>
            <a:ext cx="8329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ovisions to develop or improve O&amp;M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cribes source(s) of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cludes provisions for evaluating     effectiveness of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P MathA"/>
                <a:ea typeface="WP MathA"/>
              </a:rPr>
              <a:t>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nnot exceed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ton H. Johnson, R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Suppor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Operations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Commission on Environmental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512)239-0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johnso@tceq.state.tx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1847880"/>
            <a:ext cx="8673840" cy="103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EQ</cp:lastModifiedBy>
  <dcterms:modified xsi:type="dcterms:W3CDTF">2005-11-09T15:10:46Z</dcterms:modified>
  <cp:revision>16</cp:revision>
  <dc:subject/>
  <dc:title>Overview of The  Sanitary Sewer Overflow (SSO) Initiative</dc:title>
</cp:coreProperties>
</file>