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B8E7-FE11-4D97-98DE-788456F9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amend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s should not be administratively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CFR 133.103(d):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concentrated influent wastewater for separate se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reatment requirements to be met at all tim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ing during peak wet weather diversion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2BC-8E22-43CF-8B07-0ECA6A92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4EE-7555-4E7B-BDA8-B4A9494B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A4E-A38F-4383-B98B-CFA94E7D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1FF-4C10-4681-90BF-20BB18EC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8EB-6FFF-49DE-A921-1831FCDE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A953-F488-47F7-A56B-AB4E4B6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0994-2E88-476C-AC35-DFBBBF01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C457-A65C-4D57-A2E8-BE3A4E9D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8FE-0BDE-462B-82C6-BAEFE96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D0F6-7A15-449F-8751-F70BAC2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14DD-D7E4-4974-9EC4-9BA62504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79F-6C55-4EFB-A475-A2E6F82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9442-7044-40D5-87A5-3E15C73E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AC91-393A-4045-BBC2-D3AA75C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7EC9-543A-43CD-B686-3049D9E4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AF77-BB47-4F15-86C5-BB5DA492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B70F-8F7B-4CCB-A76C-303EEAEB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FE1-9D7B-41C3-95CD-87DC682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F28-F86D-41F2-8A38-906E0B5A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5B6-ECF4-4426-BEBB-27BC4365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01D-10DD-44B1-A51D-5FC44273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64A-619C-498C-8DBE-AA84337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728-13A4-4BCB-A755-FDEA594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BD0-7A6D-472A-981E-E6BF95FB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E335-BEBE-4707-A81B-37C6FCC6C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A3BD-1267-4703-9A2F-7B97013F3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Blending:</a:t>
            </a:r>
            <a:br>
              <a:rPr sz="6600"/>
            </a:b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A Compromise</a:t>
            </a:r>
            <a:r>
              <a:rPr b="1" lang="en-US" sz="6600" spc="-1" strike="noStrike">
                <a:solidFill>
                  <a:srgbClr val="cc99ff"/>
                </a:solidFill>
                <a:latin typeface="Tahoma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Lisa E. Hollan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Northeast Ohio Regional Sewer Distric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ACWA Developments in Clean Water  La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ovember 11, 200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ermitting Authority Responsibili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nalysis publicly available with other draft permit in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the analysis to determine what efforts can be undertaken by the utility using “full range of economic, environmental, public health, and engineering consideratio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ly state in the permit the conditions under which the utility is authorized to divert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peak flow diversion in the permit Fact 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ermitting Authority Responsibilities (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provisions for public notification of the diversion (e.g., websi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provisions for review and revision (if necessary) of local pretreatment limits to account for peak wet weather diversions (e.g., significant industries that batch dis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impacts on sensitive waters are consi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permit renewals to ensure that peak wet weather diversions are still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EPA Responsibilities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is guidance in non-delega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permits in NPDES delegated states for all POTWs seeking authority for diversions pursuant to this guidance to ensure that they are consistent with the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at appropriate enforcement is taken against POTWs that fail to move forward expeditiously to implement their responsibilities under the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at monitoring data is available to the public on EPA’s website in a searchable, correctable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85800" y="609480"/>
          <a:ext cx="78487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8487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Blending:</a:t>
            </a:r>
            <a:br>
              <a:rPr sz="6600"/>
            </a:br>
            <a:r>
              <a:rPr b="1" lang="en-US" sz="6600" spc="-1" strike="noStrike">
                <a:solidFill>
                  <a:srgbClr val="ccffff"/>
                </a:solidFill>
                <a:latin typeface="Tahoma"/>
              </a:rPr>
              <a:t>A Compromise</a:t>
            </a:r>
            <a:r>
              <a:rPr b="1" lang="en-US" sz="6600" spc="-1" strike="noStrike">
                <a:solidFill>
                  <a:srgbClr val="cc99ff"/>
                </a:solidFill>
                <a:latin typeface="Tahoma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38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Lisa E. Hollan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Tahoma"/>
              </a:rPr>
              <a:t>Northeast Ohio Regional Sewer Distric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ACWA Developments in Clean Water  La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Tahoma"/>
              </a:rPr>
              <a:t>November 11, 200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May &amp; June 2005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blending EPA FY 2006 budget amendment passes House (5/19/20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A pulls 11/2003 guidance as proposed; looking at other options (5/19/20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/19/2005 oral argument in DC Circuit on legal challenge to EPA Regions 3, 4, &amp; 6’s anti-blending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/3/2005 Court rules regional actions are not “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R 1126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ave our Waters from Sewage A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tupak, D-MI; Kirk, R-IL) gathers over 100 co-spons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A says “blending is not a long-term solutio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286000" y="380880"/>
          <a:ext cx="47242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47242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Spring-Fall 2005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WA and NRDC discuss possibility of a “compromise” with E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encourages groups to work it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May discussions derailed by Hil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ions resume in late-M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er-Fall 2005: Drafts exchanged in confidential process by small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WA Board endor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to initiate review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The Pream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on the 98,000 comments recei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nding can be permitted by permitting authority as an “anticipated bypass” under 40 CFR 122.4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knowledges past regulatory conf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separate sewer systems only (CSO Policy addresses as “anticipated bypass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gnizes that there will be situations where a POTW has “no feasible alternatives” to the bypa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-specific, local deter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ahoma"/>
              </a:rPr>
              <a:t>The Preamble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nce on peak flow diversions should be minim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-analysis required on permit renew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s authorizing peak wet weather diversions should be timely renew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s advanced treatment scenarios, promotes additional treatment for diverted fl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luent limits, 85% removal (or 40 CFR 133.103(d)), and secondary treatment requirements met at all ti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OTW Responsibili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5120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form Utility Analysis at time of new/permit renewa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rrent treatment capacity/feasibility of increasing and cos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rrent peak flow diversions/alternatives to reduce  and co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stimate of future diversions based on population growth, weather patterns, system changes/ upgrades/deterior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isting storage/feasibility of increasing and co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lternatives to reduce peak flow volumes (e.g., limiting collection system extensions, slug loading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-217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chnologies to enhance treatment of peak flow volume and co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ahoma"/>
              </a:rPr>
              <a:t>POTW Responsibilities (2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/I efforts and potential legal authorities to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ak flow reductions possible through C-MOM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monitoring protocol for diversion events (permit parameters, total volume, durati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cted benefits if evaluated measures are put in 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fund improvements based 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rent 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ed incr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e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ed impacts to the community of planned water &amp; wastewater expendi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219320" y="1295280"/>
          <a:ext cx="678168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8168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17:36Z</dcterms:created>
  <dc:creator>Alex</dc:creator>
  <dc:description/>
  <dc:language>en-US</dc:language>
  <cp:lastModifiedBy>hollanderl</cp:lastModifiedBy>
  <dcterms:modified xsi:type="dcterms:W3CDTF">2005-11-07T16:54:24Z</dcterms:modified>
  <cp:revision>12</cp:revision>
  <dc:subject/>
  <dc:title>Blending: A Compromise by NRDC &amp; NACWA</dc:title>
</cp:coreProperties>
</file>