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6C7F-0860-41AC-B54D-3E7C69C5B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 amend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s should not be administratively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CFR 133.103(d):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concentrated influent wastewater for separate se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reatment requirements to be met at all tim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ing during peak wet weather diversion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ED8-8265-42AC-B732-F59A991C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251-5894-46DD-BA67-09DA0FB1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E9F-0954-4B48-8314-AAF6CB2D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8CA-543D-4BED-B46C-DD5E3DE1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D2B4-6223-4ABA-B344-77363F9C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1A8B-A3CC-40C5-A6C3-A668343A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D717-0D3E-4655-A058-A32FCC4A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EBD1-48C9-4FDC-9A4A-E63A914A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3B56-C779-40B5-9353-45A29C03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09C3-A6A1-4B85-BD3F-D028D988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AA4B-8ED8-4CEF-97E8-E60177EA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CC3-2E1A-4EDF-9022-D53A75BE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2EB9-AB1A-4D15-A209-E08D1BA0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DA2A-7521-4C81-9BC7-BF9CB54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11DB-4D30-4E32-883C-8AC76C26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1952-C35F-4C72-A59F-E93993B5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64F2-3A96-437F-A07D-C901A0B1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907-0F9B-44CC-B5C0-1CEDD7A5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4F1-A27B-4184-A26E-A315613E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141-B7C3-4BCF-BA41-8BF9A7A1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C50-B59C-433E-90D9-D5D276A7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D9B-C498-49C7-884E-8FF159E2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92F-5262-44C3-891D-AA737496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5FB-9C86-4A6C-91B0-48A9B36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CB6B-0234-409D-8288-BE8AF9116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D25E-9BBD-4EAC-AE7B-F7C81DFDA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ffff"/>
                </a:solidFill>
                <a:latin typeface="Tahoma"/>
              </a:rPr>
              <a:t>Blending:</a:t>
            </a:r>
            <a:br>
              <a:rPr sz="6600"/>
            </a:br>
            <a:r>
              <a:rPr b="1" lang="en-US" sz="6600" spc="-1" strike="noStrike">
                <a:solidFill>
                  <a:srgbClr val="ccffff"/>
                </a:solidFill>
                <a:latin typeface="Tahoma"/>
              </a:rPr>
              <a:t>A Compromise</a:t>
            </a:r>
            <a:r>
              <a:rPr b="1" lang="en-US" sz="6600" spc="-1" strike="noStrike">
                <a:solidFill>
                  <a:srgbClr val="cc99ff"/>
                </a:solidFill>
                <a:latin typeface="Tahoma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Tahoma"/>
              </a:rPr>
              <a:t>Lisa E. Holland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Tahoma"/>
              </a:rPr>
              <a:t>Northeast Ohio Regional Sewer Distric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ahoma"/>
              </a:rPr>
              <a:t>NACWA Developments in Clean Water  La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ahoma"/>
              </a:rPr>
              <a:t>November 11, 2005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Permitting Authority Responsibiliti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nalysis publicly available with other draft permit inf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the analysis to determine what efforts can be undertaken by the utility using “full range of economic, environmental, public health, and engineering consideratio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ly state in the permit the conditions under which the utility is authorized to divert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peak flow diversion in the permit Fact Sh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Permitting Authority Responsibilities (2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provisions for public notification of the diversion (e.g., websi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provisions for review and revision (if necessary) of local pretreatment limits to account for peak wet weather diversions (e.g., significant industries that batch dis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impacts on sensitive waters are consid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permit renewals to ensure that peak wet weather diversions are still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EPA Responsibilities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is guidance in non-delega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permits in NPDES delegated states for all POTWs seeking authority for diversions pursuant to this guidance to ensure that they are consistent with the gui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that appropriate enforcement is taken against POTWs that fail to move forward expeditiously to implement their responsibilities under the gui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that monitoring data is available to the public on EPA’s website in a searchable, correctable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85800" y="609480"/>
          <a:ext cx="78487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8487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ffff"/>
                </a:solidFill>
                <a:latin typeface="Tahoma"/>
              </a:rPr>
              <a:t>Blending:</a:t>
            </a:r>
            <a:br>
              <a:rPr sz="6600"/>
            </a:br>
            <a:r>
              <a:rPr b="1" lang="en-US" sz="6600" spc="-1" strike="noStrike">
                <a:solidFill>
                  <a:srgbClr val="ccffff"/>
                </a:solidFill>
                <a:latin typeface="Tahoma"/>
              </a:rPr>
              <a:t>A Compromise</a:t>
            </a:r>
            <a:r>
              <a:rPr b="1" lang="en-US" sz="6600" spc="-1" strike="noStrike">
                <a:solidFill>
                  <a:srgbClr val="cc99ff"/>
                </a:solidFill>
                <a:latin typeface="Tahoma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38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Tahoma"/>
              </a:rPr>
              <a:t>Lisa E. Holland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Tahoma"/>
              </a:rPr>
              <a:t>Northeast Ohio Regional Sewer Distric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ahoma"/>
              </a:rPr>
              <a:t>NACWA Developments in Clean Water  La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ahoma"/>
              </a:rPr>
              <a:t>November 11, 2005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May &amp; June 2005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blending EPA FY 2006 budget amendment passes House (5/19/200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A pulls 11/2003 guidance as proposed; looking at other options (5/19/200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/19/2005 oral argument in DC Circuit on legal challenge to EPA Regions 3, 4, &amp; 6’s anti-blending poli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/3/2005 Court rules regional actions are not “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R 1126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ave our Waters from Sewage Ac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tupak, D-MI; Kirk, R-IL) gathers over 100 co-spons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A says “blending is not a long-term solut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286000" y="380880"/>
          <a:ext cx="47242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47242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Spring-Fall 2005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WA and NRDC discuss possibility of a “compromise” with E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 encourages groups to work it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May discussions derailed by Hil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ions resume in late-M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mer-Fall 2005: Drafts exchanged in confidential process by small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WA Board endor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 to initiate review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The Pream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s on the 98,000 comments recei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nding can be permitted by permitting authority as an “anticipated bypass” under 40 CFR 122.4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knowledges past regulatory conf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separate sewer systems only (CSO Policy addresses as “anticipated bypass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gnizes that there will be situations where a POTW has “no feasible alternatives” to the bypa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e-specific, local deter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The Preamble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nce on peak flow diversions should be minim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-analysis required on permit renew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s authorizing peak wet weather diversions should be timely renew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s advanced treatment scenarios, promotes additional treatment for diverted fl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luent limits, 85% removal (or 40 CFR 133.103(d)), and secondary treatment requirements met at all 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POTW Responsibiliti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5120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form Utility Analysis at time of new/permit renewal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urrent treatment capacity/feasibility of increasing and cost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urrent peak flow diversions/alternatives to reduce  and co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stimate of future diversions based on population growth, weather patterns, system changes/ upgrades/deterior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isting storage/feasibility of increasing and co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lternatives to reduce peak flow volumes (e.g., limiting collection system extensions, slug loading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chnologies to enhance treatment of peak flow volume and co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POTW Responsibilities (2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/I efforts and potential legal authorities to add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ak flow reductions possible through C-MOM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monitoring protocol for diversion events (permit parameters, total volume, durati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cted benefits if evaluated measures are put in 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fund improvements based 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rent 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ned incr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e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cipated impacts to the community of planned water &amp; wastewater expendi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219320" y="1295280"/>
          <a:ext cx="678168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78168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17:36Z</dcterms:created>
  <dc:creator>Alex</dc:creator>
  <dc:description/>
  <dc:language>en-US</dc:language>
  <cp:lastModifiedBy>hollanderl</cp:lastModifiedBy>
  <dcterms:modified xsi:type="dcterms:W3CDTF">2005-11-07T16:54:24Z</dcterms:modified>
  <cp:revision>12</cp:revision>
  <dc:subject/>
  <dc:title>Blending: A Compromise by NRDC &amp; NACWA</dc:title>
</cp:coreProperties>
</file>