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F488-0EAA-48DA-A588-C04D305BD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52908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6A27-C609-488B-8B28-3CF70A710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C11A-3630-472C-B8C7-49E7FB9A6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2260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2260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52908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52908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52908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033D-8BF7-43AB-95DC-E61BB148E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4330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9DE5-1A96-440A-8B2B-E1AD72740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2908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52908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72260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72260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52908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52908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529080"/>
            <a:ext cx="250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C6A0-3E78-4A47-BAF5-F6F24C841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25EE-FCC4-466C-A129-2422E256C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1F526-3180-461D-A085-88A3E4141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330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764A-64B0-4599-B184-366AD8CCB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9E22-BE36-418D-B99F-3645BC97E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52908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C9CE-5FED-452C-A3C4-4F905E713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22600"/>
            <a:ext cx="37926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52908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211E-BAAF-4664-A34B-9C36CE5F3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5965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2" marL="9943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3" marL="13921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a606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4" marL="17899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a606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5" marL="17899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6" marL="1789920" indent="-19872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46920" y="6272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DF73-584A-4A4F-9282-2E71FA037455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649"/>
              </a:spcBef>
              <a:spcAft>
                <a:spcPts val="488"/>
              </a:spcAft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a6063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a6063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464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Arial"/>
              </a:rPr>
              <a:t>UAAs in the Real World:</a:t>
            </a:r>
            <a:br>
              <a:rPr sz="4200"/>
            </a:br>
            <a:br>
              <a:rPr sz="4200"/>
            </a:br>
            <a:r>
              <a:rPr b="1" lang="en-US" sz="4200" spc="-1" strike="noStrike">
                <a:solidFill>
                  <a:srgbClr val="ff3300"/>
                </a:solidFill>
                <a:latin typeface="Arial"/>
              </a:rPr>
              <a:t>Information Needs and Processes</a:t>
            </a:r>
            <a:endParaRPr b="1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44484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NACWA 2005 Law Semina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anta Fe, New Mexico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November 9, 2005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om Dupuis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556080" y="5726160"/>
            <a:ext cx="2025720" cy="72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55800" y="3301920"/>
            <a:ext cx="72324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82800" y="768240"/>
            <a:ext cx="72324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57680" y="4748040"/>
            <a:ext cx="33699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Examples of Key Issues and Solutions for Aquatic Life UAA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722600"/>
          <a:ext cx="7772400" cy="4000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Issu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olutio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ffluent-dependent strea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buClr>
                          <a:srgbClr val="000066"/>
                        </a:buClr>
                        <a:buSzPct val="5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ew subcatego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buClr>
                          <a:srgbClr val="000066"/>
                        </a:buClr>
                        <a:buSzPct val="5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et ecological benefi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aged flows, water righ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fine highest attainable conditions/u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rban imperviousness and concrete flood channe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uman-caused conditions fact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FB91-6D94-43D5-A7DE-288EB5AF52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Irreversible Urbanization Impact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1722600"/>
          <a:ext cx="7772400" cy="4360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Imperviousne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Descrip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 – 2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gnificant impairm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 – 1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tremely difficult to return to predevelopment water qua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&gt;2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nnot support diverse benthic habita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&gt;7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49"/>
                        </a:spcBef>
                        <a:spcAft>
                          <a:spcPts val="6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y urban, CSO are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B3751-BAEA-49DF-AE58-F7493F4992B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hesapeake Bay UAA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520" y="1936440"/>
            <a:ext cx="399744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Multi-state, multi-EPA reg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Established new sub-categories of us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Established separate dissolved oxygen criteria applicable to each sub-categor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280" y="1405080"/>
            <a:ext cx="83437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4401" t="37829" r="12295" b="7535"/>
          <a:stretch/>
        </p:blipFill>
        <p:spPr>
          <a:xfrm>
            <a:off x="4270320" y="1978200"/>
            <a:ext cx="4070520" cy="448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D9AD-4A81-44B2-9C08-6EC485B4AF8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1000" y="43920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Example Information Needs  for Recreation  UAA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2880" y="1568160"/>
            <a:ext cx="431352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Flow condi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High and low flow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hannel morpholog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Access restri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65000"/>
              </a:lnSpc>
              <a:spcBef>
                <a:spcPts val="1375"/>
              </a:spcBef>
              <a:spcAft>
                <a:spcPts val="68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Flood channels and private property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easonal temperat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Ambient background water qualit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Actual level of recreational activit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65000"/>
              </a:lnSpc>
              <a:spcBef>
                <a:spcPts val="1500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ystem and WQ mode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59840" indent="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79960" y="2119320"/>
            <a:ext cx="4551120" cy="30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B629-39AB-4EA6-BFEA-41C722C1792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4240" y="84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Los Angeles’  Wet </a:t>
            </a: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Weather</a:t>
            </a:r>
            <a:r>
              <a:rPr b="1" lang="en-US" sz="3400" spc="-1" strike="noStrike">
                <a:solidFill>
                  <a:srgbClr val="ff6600"/>
                </a:solidFill>
                <a:latin typeface="Arial"/>
              </a:rPr>
              <a:t> Recreation  Use  Suspension</a:t>
            </a:r>
            <a:endParaRPr b="1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65160" y="2661840"/>
            <a:ext cx="747720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Engineered flood control channels”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228600" indent="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8600" indent="-22860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Restricted access”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228600" indent="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28600" indent="-22860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Swiftwater conditions”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7D73-C8F8-4524-BD2C-38D13594D0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4720" y="64908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Kansas Recreation UAA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4600" y="1620360"/>
            <a:ext cx="703404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180360" indent="0">
              <a:lnSpc>
                <a:spcPct val="6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2001 legislature directs KDHE to conduct UAAs for 500 streams by Oct. 2005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8036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KDHE develops expedited UAA protocol for use on priority stream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8036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80360" indent="-18036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Kansas’ stream classification system and related water quality criteria distinguish between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8036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41440" indent="-18036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rimary and Secondary Contac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41440" indent="-18036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ason of Year  (warm vs. cold weathe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41440" indent="-18036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ccessibility to Public and Level of Us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7191-B7EC-4910-9A92-B02A2889ACA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1000" y="363240"/>
            <a:ext cx="80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Chicago Area Waterways UAA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6920" y="1579320"/>
            <a:ext cx="31716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-19404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Establish new sub-categories of recreational use: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  <a:p>
            <a:pPr lvl="1" marL="582840" indent="-1940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Limited Contact Recrea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82840" indent="-1940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creational Naviga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82840" indent="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94040" indent="-19404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99"/>
                </a:solidFill>
                <a:latin typeface="Arial"/>
              </a:rPr>
              <a:t>Establish separate bacteria criteria for each sub-categor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32240" y="1674720"/>
            <a:ext cx="5452920" cy="40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6409-0594-4953-8350-E453AAED7A0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Role of Water Quality Model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Help determine what is attainab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Usually also needed for TMDL, NPDES, and CSO LTCP purpose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Use agency’s model if possib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Model complexity varies depending on scope and impacts of regulatory proces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A217-DD7D-4D63-B017-775EDB147A3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5080" y="-36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Attainability Demonstration Via Modeling</a:t>
            </a:r>
            <a:endParaRPr b="1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68640" y="3732120"/>
            <a:ext cx="5268960" cy="2921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90560" y="790560"/>
            <a:ext cx="5576760" cy="29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72D2-E1F5-4C8B-9C46-5D3ECC7DAC0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EPA’s “Interim Economic Guidance for Water Quality Standards” (1995)</a:t>
            </a:r>
            <a:endParaRPr b="1" lang="en-US" sz="3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0640" y="1731960"/>
            <a:ext cx="514368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75000"/>
              </a:lnSpc>
              <a:spcBef>
                <a:spcPts val="1049"/>
              </a:spcBef>
              <a:spcAft>
                <a:spcPts val="1049"/>
              </a:spcAft>
              <a:buClr>
                <a:srgbClr val="0000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ot a formal cost-benefit analysis, more of an “affordability” assess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03360" indent="-20088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cro-economic analysis for POTW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005840" indent="-20088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dian household income trigger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03360" indent="-20088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cro-economic analysis for industr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00880" indent="-200880">
              <a:lnSpc>
                <a:spcPct val="75000"/>
              </a:lnSpc>
              <a:spcBef>
                <a:spcPts val="975"/>
              </a:spcBef>
              <a:spcAft>
                <a:spcPts val="975"/>
              </a:spcAft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Does not address large/federal dams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11795" t="11119" r="6505" b="16543"/>
          <a:stretch/>
        </p:blipFill>
        <p:spPr>
          <a:xfrm>
            <a:off x="5832360" y="2565360"/>
            <a:ext cx="3044880" cy="366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5DCC-1F84-48FF-ABBA-02465DE539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lean Water Act and UAA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Goal: Meet fishable/swimmable uses “where attainable”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Definition: "…a structured scientific assessment of the factors affecting the attainment of a use which may include physical, chemical, biological, and economic factors.”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194040" indent="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007E-1345-46C1-BADC-0ABB206F3EA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Stakeholder Involvement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75000"/>
              </a:lnSpc>
              <a:spcBef>
                <a:spcPts val="924"/>
              </a:spcBef>
              <a:spcAft>
                <a:spcPts val="9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99"/>
                </a:solidFill>
                <a:latin typeface="Arial"/>
              </a:rPr>
              <a:t>Identify, understand, and learn from your stakeholders</a:t>
            </a:r>
            <a:endParaRPr b="1" lang="en-US" sz="3700" spc="-1" strike="noStrike">
              <a:solidFill>
                <a:srgbClr val="000099"/>
              </a:solidFill>
              <a:latin typeface="Arial"/>
            </a:endParaRPr>
          </a:p>
          <a:p>
            <a:pPr marL="210240" indent="-210240">
              <a:lnSpc>
                <a:spcPct val="75000"/>
              </a:lnSpc>
              <a:spcBef>
                <a:spcPts val="924"/>
              </a:spcBef>
              <a:spcAft>
                <a:spcPts val="9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99"/>
                </a:solidFill>
                <a:latin typeface="Arial"/>
              </a:rPr>
              <a:t>Apply readiness decision tools</a:t>
            </a:r>
            <a:endParaRPr b="1" lang="en-US" sz="3700" spc="-1" strike="noStrike">
              <a:solidFill>
                <a:srgbClr val="000099"/>
              </a:solidFill>
              <a:latin typeface="Arial"/>
            </a:endParaRPr>
          </a:p>
          <a:p>
            <a:pPr marL="210240" indent="-210240">
              <a:lnSpc>
                <a:spcPct val="75000"/>
              </a:lnSpc>
              <a:spcBef>
                <a:spcPts val="924"/>
              </a:spcBef>
              <a:spcAft>
                <a:spcPts val="9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99"/>
                </a:solidFill>
                <a:latin typeface="Arial"/>
              </a:rPr>
              <a:t>Identify areas for stakeholder education</a:t>
            </a:r>
            <a:endParaRPr b="1" lang="en-US" sz="3700" spc="-1" strike="noStrike">
              <a:solidFill>
                <a:srgbClr val="000099"/>
              </a:solidFill>
              <a:latin typeface="Arial"/>
            </a:endParaRPr>
          </a:p>
          <a:p>
            <a:pPr marL="210240" indent="-210240">
              <a:lnSpc>
                <a:spcPct val="75000"/>
              </a:lnSpc>
              <a:spcBef>
                <a:spcPts val="924"/>
              </a:spcBef>
              <a:spcAft>
                <a:spcPts val="924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0099"/>
                </a:solidFill>
                <a:latin typeface="Arial"/>
              </a:rPr>
              <a:t>Use appropriate vocabulary and project descriptions</a:t>
            </a:r>
            <a:endParaRPr b="1" lang="en-US" sz="3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63C2-5039-4E09-A1EE-2FEB3DE1C94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349360" y="152280"/>
            <a:ext cx="4737240" cy="77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ECF3C-9952-4CE9-BD94-40F16B4B0D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133720" y="304920"/>
            <a:ext cx="5267160" cy="629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271F6-5D0F-4F1E-84FF-B00F1F6C89B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5260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Strategies for a Successful UAA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1240" y="134424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8504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Establish a defensible rationale and record of decision when adopting a new or revised water quality standard for a waterbody (Tom Gardner, EPA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8504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Understand relationships Between Uses and Criteri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5548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hanging a use designation may not solve the problem if associated criteria still can’t be me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8504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ntegrate with other regulatory program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5548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NPDES: New emphasis on water quality-based effluent limi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5548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SO: EPA guidance encourages early consideration of standard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5548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MDLs: NAS 2001 – refine uses in advan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85040" indent="-18504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nvolve all stakeholders early and ofte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85040" indent="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DF38-FE4F-4651-B39E-B297F768DAC3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0" t="0" r="0" b="4317"/>
          <a:stretch/>
        </p:blipFill>
        <p:spPr>
          <a:xfrm>
            <a:off x="2362320" y="152280"/>
            <a:ext cx="4670280" cy="647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99E0-A997-4F05-9D34-FA4DC66D16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ommon UAA Task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1256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volve stakeholders in understanding the water quality standards and UAA proc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mpile scientific data on existing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ater qual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dentify critical data gap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ek agreement on study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ther new data (as needed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view and analyze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-16452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termine the basis for attainable uses and applicable water quality criteri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6452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21C1-C212-4EF5-9B6A-4644C5F3FB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6600" y="43308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Key Questions for Information Needs</a:t>
            </a:r>
            <a:endParaRPr b="1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7568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ich 131.10(g) factors may apply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7568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at is geographic scope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7568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at are the existing us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2776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2776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istoric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7568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at are the attainable us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7568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at type of use is in question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2776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quatic lif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2776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uman health: recreation and water suppl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75680" indent="-17568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much stakeholder involvement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75680" indent="0">
              <a:lnSpc>
                <a:spcPct val="6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994A-8E84-423F-B8C4-3649294557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60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Arial"/>
              </a:rPr>
              <a:t>40 CFR 131.10(g) Factors: Designated Use Can Be Removed If Not Feasible Because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19807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6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Arial"/>
              </a:rPr>
              <a:t>Natural (background) concentrations, </a:t>
            </a:r>
            <a:r>
              <a:rPr b="1" i="1" lang="en-US" sz="29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464040" indent="-464040">
              <a:lnSpc>
                <a:spcPct val="6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Arial"/>
              </a:rPr>
              <a:t>Natural, ephemeral, intermittent, or low flow conditions, </a:t>
            </a:r>
            <a:r>
              <a:rPr b="1" i="1" lang="en-US" sz="29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464040" indent="-464040">
              <a:lnSpc>
                <a:spcPct val="6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Arial"/>
              </a:rPr>
              <a:t>Human caused conditions that cannot be remedied or would cause more harm to fix, </a:t>
            </a:r>
            <a:r>
              <a:rPr b="1" i="1" lang="en-US" sz="29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464040" indent="-464040">
              <a:lnSpc>
                <a:spcPct val="6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Arial"/>
              </a:rPr>
              <a:t>Dams, diversions, hydromodifications where not feasible to remedy, </a:t>
            </a:r>
            <a:r>
              <a:rPr b="1" i="1" lang="en-US" sz="29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464040" indent="-464040">
              <a:lnSpc>
                <a:spcPct val="6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Arial"/>
              </a:rPr>
              <a:t>Physical conditions (poor habitat), </a:t>
            </a:r>
            <a:r>
              <a:rPr b="1" i="1" lang="en-US" sz="29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464040" indent="-464040">
              <a:lnSpc>
                <a:spcPct val="6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99"/>
                </a:solidFill>
                <a:latin typeface="Arial"/>
              </a:rPr>
              <a:t>Controls would cause substantial and widespread economic and social impac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5A94-EF07-4638-A394-D39FAD083E3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280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Define Geographic Scope Early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4440" y="1490400"/>
            <a:ext cx="380988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Timing and integration with other programs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205560" indent="-20556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Scope of information needs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205560" indent="-20556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ho are the relevant stakeholders and public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205560" indent="-20556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hich regulators need to be involved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205560" indent="-20556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Arial"/>
              </a:rPr>
              <a:t>Who provides fundin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205560" indent="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86280" y="1125360"/>
            <a:ext cx="3784680" cy="2756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0" t="13642" r="5573" b="0"/>
          <a:stretch/>
        </p:blipFill>
        <p:spPr>
          <a:xfrm>
            <a:off x="4297320" y="3971880"/>
            <a:ext cx="4297320" cy="28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4C59-B110-48EB-8404-41EBC4D26D6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UAAs Need to Document Both Existing and Attainable Use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isting us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96520" indent="-198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ose uses that exist in a given water body (any time on or after November 28, 1975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94320" indent="-19872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ed to collect historical stud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198720" indent="-198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ttainable us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96520" indent="-198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would be the attainable uses IF anthropogenic point and nonpoint sources were controlled?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96520" indent="-198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ten based on results of water quality models, the answer to this question often varies based on loc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96520" indent="-198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oes not have to be natural condi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C9E8-DF41-47E5-8411-0B44DC848E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Example Information Needs for Aquatic Life Uses</a:t>
            </a:r>
            <a:endParaRPr b="1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77724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15984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hysic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low, temperature, slope, stratific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hemic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O, toxic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ologic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gae and pla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croinvertebra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is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79880" indent="-15984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abitat constrai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159840" indent="-159840">
              <a:lnSpc>
                <a:spcPct val="75000"/>
              </a:lnSpc>
              <a:spcBef>
                <a:spcPts val="726"/>
              </a:spcBef>
              <a:spcAft>
                <a:spcPts val="726"/>
              </a:spcAft>
              <a:buClr>
                <a:srgbClr val="00006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Water quality/ecosystem model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40280" y="2813040"/>
            <a:ext cx="4203720" cy="31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1D76A-3670-4DD6-B958-674938DA337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1T21:30:53Z</dcterms:created>
  <dc:creator>Tom Dupuis</dc:creator>
  <dc:description/>
  <dc:language>en-US</dc:language>
  <cp:lastModifiedBy>Tom Dupuis</cp:lastModifiedBy>
  <cp:lastPrinted>2004-03-09T20:57:48Z</cp:lastPrinted>
  <dcterms:modified xsi:type="dcterms:W3CDTF">2005-10-24T19:44:03Z</dcterms:modified>
  <cp:revision>3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