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89224-688B-4DCE-B7FA-843962EFD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77724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529080"/>
            <a:ext cx="77724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1CBC6-EBA1-49E7-B289-1498DD877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2260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52908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52908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D40F7-F52B-400F-9729-45DE7A680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250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722600"/>
            <a:ext cx="250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722600"/>
            <a:ext cx="250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529080"/>
            <a:ext cx="250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529080"/>
            <a:ext cx="250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529080"/>
            <a:ext cx="250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1B43B-B648-4451-ACD9-CF85C5FD3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722600"/>
            <a:ext cx="777240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77724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3792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22600"/>
            <a:ext cx="3792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4330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22600"/>
            <a:ext cx="3792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52908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22600"/>
            <a:ext cx="777240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96279-00D9-4385-96A7-D60E4464D1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3792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72260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52908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72260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29080"/>
            <a:ext cx="77724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77724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529080"/>
            <a:ext cx="77724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72260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52908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52908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250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722600"/>
            <a:ext cx="250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722600"/>
            <a:ext cx="250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529080"/>
            <a:ext cx="250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529080"/>
            <a:ext cx="250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529080"/>
            <a:ext cx="250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77724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B884E-0ECD-4005-9AF8-1C461F10D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3792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722600"/>
            <a:ext cx="3792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7EB8B-9AF1-4AE8-BA34-706B4FC2F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2FAA2-2C88-4A30-8479-EFFF09CB1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330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17E54-A326-4B10-B901-AA0D55C53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22600"/>
            <a:ext cx="3792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52908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C9FED-46AD-4694-9B53-4DC2E7C4C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3792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2260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52908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3819B-FC59-4BC1-A98B-2CC985535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2260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529080"/>
            <a:ext cx="77724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EC687-7061-4269-B9E6-A68201827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22600"/>
            <a:ext cx="77724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lvl="1" marL="596520" indent="-19872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lvl="2" marL="994320" indent="-19872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lvl="3" marL="1392120" indent="-19872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a606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lvl="4" marL="1789920" indent="-19872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a606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lvl="5" marL="1789920" indent="-19872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lvl="6" marL="1789920" indent="-19872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46920" y="627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7557-D02B-45EB-8948-D7D50BB04980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649"/>
              </a:spcBef>
              <a:spcAft>
                <a:spcPts val="488"/>
              </a:spcAft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Clr>
                <a:srgbClr val="a6063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Clr>
                <a:srgbClr val="a6063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464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300"/>
                </a:solidFill>
                <a:latin typeface="Arial"/>
              </a:rPr>
              <a:t>UAAs in the Real World:</a:t>
            </a:r>
            <a:br>
              <a:rPr sz="4200"/>
            </a:br>
            <a:br>
              <a:rPr sz="4200"/>
            </a:br>
            <a:r>
              <a:rPr b="1" lang="en-US" sz="4200" spc="-1" strike="noStrike">
                <a:solidFill>
                  <a:srgbClr val="ff3300"/>
                </a:solidFill>
                <a:latin typeface="Arial"/>
              </a:rPr>
              <a:t>Information Needs and Processes</a:t>
            </a:r>
            <a:endParaRPr b="1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44484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NACWA 2005 Law Semina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anta Fe, New Mexico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November 9, 2005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om Dupuis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556080" y="5726160"/>
            <a:ext cx="2025720" cy="727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55800" y="3301920"/>
            <a:ext cx="72324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82800" y="768240"/>
            <a:ext cx="72324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57680" y="4748040"/>
            <a:ext cx="33699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Examples of Key Issues and Solutions for Aquatic Life UAAs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1722600"/>
          <a:ext cx="7772400" cy="40003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Issu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Solutio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ffluent-dependent stream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buClr>
                          <a:srgbClr val="000066"/>
                        </a:buClr>
                        <a:buSzPct val="5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ew subcategor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buClr>
                          <a:srgbClr val="000066"/>
                        </a:buClr>
                        <a:buSzPct val="5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et ecological benefi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naged flows, water righ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fine highest attainable conditions/us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rban imperviousness and concrete flood channel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uman-caused conditions fact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E34AB-989F-4D91-8B5C-F8AB4D8936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Irreversible Urbanization Impact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5800" y="1722600"/>
          <a:ext cx="7772400" cy="43606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Imperviousnes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Descrip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 – 2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ignificant impairm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 – 15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tremely difficult to return to predevelopment water qua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&gt;25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nnot support diverse benthic habita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&gt;7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ny urban, CSO area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B943C-3386-4095-A4BE-0E32FEE9B9A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Chesapeake Bay UAA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520" y="1936440"/>
            <a:ext cx="399744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99"/>
                </a:solidFill>
                <a:latin typeface="Arial"/>
              </a:rPr>
              <a:t>Multi-state, multi-EPA region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99"/>
                </a:solidFill>
                <a:latin typeface="Arial"/>
              </a:rPr>
              <a:t>Established new sub-categories of use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99"/>
                </a:solidFill>
                <a:latin typeface="Arial"/>
              </a:rPr>
              <a:t>Established separate dissolved oxygen criteria applicable to each sub-category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280" y="1405080"/>
            <a:ext cx="83437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4401" t="37829" r="12295" b="7535"/>
          <a:stretch/>
        </p:blipFill>
        <p:spPr>
          <a:xfrm>
            <a:off x="4270320" y="1978200"/>
            <a:ext cx="4070520" cy="448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79E8A-9200-4D50-839B-7C9998A0BFE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1000" y="43920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Example Information Needs  for Recreation  UAAs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2880" y="1568160"/>
            <a:ext cx="431352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159840" indent="-159840">
              <a:lnSpc>
                <a:spcPct val="65000"/>
              </a:lnSpc>
              <a:spcBef>
                <a:spcPts val="1500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Flow condi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79880" indent="-159840">
              <a:lnSpc>
                <a:spcPct val="65000"/>
              </a:lnSpc>
              <a:spcBef>
                <a:spcPts val="1500"/>
              </a:spcBef>
              <a:spcAft>
                <a:spcPts val="75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High and low flow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159840" indent="-159840">
              <a:lnSpc>
                <a:spcPct val="65000"/>
              </a:lnSpc>
              <a:spcBef>
                <a:spcPts val="1500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Channel morpholog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159840" indent="-159840">
              <a:lnSpc>
                <a:spcPct val="65000"/>
              </a:lnSpc>
              <a:spcBef>
                <a:spcPts val="1500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Access restri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79880" indent="-159840">
              <a:lnSpc>
                <a:spcPct val="65000"/>
              </a:lnSpc>
              <a:spcBef>
                <a:spcPts val="1375"/>
              </a:spcBef>
              <a:spcAft>
                <a:spcPts val="68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99"/>
                </a:solidFill>
                <a:latin typeface="Arial"/>
              </a:rPr>
              <a:t>Flood channels and private property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159840" indent="-159840">
              <a:lnSpc>
                <a:spcPct val="65000"/>
              </a:lnSpc>
              <a:spcBef>
                <a:spcPts val="1500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Seasonal temperatur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159840" indent="-159840">
              <a:lnSpc>
                <a:spcPct val="65000"/>
              </a:lnSpc>
              <a:spcBef>
                <a:spcPts val="1500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Ambient background water qualit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159840" indent="-159840">
              <a:lnSpc>
                <a:spcPct val="65000"/>
              </a:lnSpc>
              <a:spcBef>
                <a:spcPts val="1500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Actual level of recreational activit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159840" indent="-159840">
              <a:lnSpc>
                <a:spcPct val="65000"/>
              </a:lnSpc>
              <a:spcBef>
                <a:spcPts val="1500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System and WQ model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159840" indent="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179960" y="2119320"/>
            <a:ext cx="4551120" cy="30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1D602-1114-4BAC-89D5-5D81C89A98B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4240" y="84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Los Angeles’  Wet </a:t>
            </a: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Weather</a:t>
            </a: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 Recreation  Use  Suspension</a:t>
            </a:r>
            <a:endParaRPr b="1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65160" y="2661840"/>
            <a:ext cx="747720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65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Engineered flood control channels”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228600" indent="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8600" indent="-228600">
              <a:lnSpc>
                <a:spcPct val="65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Restricted access”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228600" indent="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8600" indent="-228600">
              <a:lnSpc>
                <a:spcPct val="65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Swiftwater conditions”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9502F-A9BD-435B-B437-D28761F9DFA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4720" y="649080"/>
            <a:ext cx="848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Kansas Recreation UAAs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04600" y="1620360"/>
            <a:ext cx="703404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180360" indent="0">
              <a:lnSpc>
                <a:spcPct val="6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2001 legislature directs KDHE to conduct UAAs for 500 streams by Oct. 2005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18036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KDHE develops expedited UAA protocol for use on priority stream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18036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Kansas’ stream classification system and related water quality criteria distinguish between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18036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41440" indent="-18036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Primary and Secondary Contac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41440" indent="-18036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eason of Year  (warm vs. cold weathe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41440" indent="-18036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Accessibility to Public and Level of Us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6B06E-D86D-42F1-9DC7-FF6F65DFACF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1000" y="36324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Chicago Area Waterways UAA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6920" y="1579320"/>
            <a:ext cx="317160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-19404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99"/>
                </a:solidFill>
                <a:latin typeface="Arial"/>
              </a:rPr>
              <a:t>Establish new sub-categories of recreational use: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lvl="1" marL="582840" indent="-19404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Limited Contact Recrea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82840" indent="-19404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Recreational Naviga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82840" indent="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194040" indent="-19404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99"/>
                </a:solidFill>
                <a:latin typeface="Arial"/>
              </a:rPr>
              <a:t>Establish separate bacteria criteria for each sub-category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432240" y="1674720"/>
            <a:ext cx="5452920" cy="40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DAD2E-0D73-475A-8A1E-F24E00C9EBC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Role of Water Quality Models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77724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Help determine what is attainab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Usually also needed for TMDL, NPDES, and CSO LTCP purpose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Use agency’s model if possib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Model complexity varies depending on scope and impacts of regulatory proces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A1F28-6688-4F34-A71D-C82FA911CD4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5080" y="-36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Attainability Demonstration Via Modeling</a:t>
            </a:r>
            <a:endParaRPr b="1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68640" y="3732120"/>
            <a:ext cx="5268960" cy="2921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90560" y="790560"/>
            <a:ext cx="5576760" cy="292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8283F-C364-495B-AD5A-E097623EBBB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Arial"/>
              </a:rPr>
              <a:t>EPA’s “Interim Economic Guidance for Water Quality Standards” (1995)</a:t>
            </a:r>
            <a:endParaRPr b="1" lang="en-US" sz="3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0640" y="1731960"/>
            <a:ext cx="514368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75000"/>
              </a:lnSpc>
              <a:spcBef>
                <a:spcPts val="1049"/>
              </a:spcBef>
              <a:spcAft>
                <a:spcPts val="1049"/>
              </a:spcAft>
              <a:buClr>
                <a:srgbClr val="000066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ot a formal cost-benefit analysis, more of an “affordability” assess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03360" indent="-200880">
              <a:lnSpc>
                <a:spcPct val="75000"/>
              </a:lnSpc>
              <a:spcBef>
                <a:spcPts val="901"/>
              </a:spcBef>
              <a:spcAft>
                <a:spcPts val="901"/>
              </a:spcAft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cro-economic analysis for POTW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005840" indent="-200880">
              <a:lnSpc>
                <a:spcPct val="75000"/>
              </a:lnSpc>
              <a:spcBef>
                <a:spcPts val="901"/>
              </a:spcBef>
              <a:spcAft>
                <a:spcPts val="901"/>
              </a:spcAft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edian household income trigger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03360" indent="-200880">
              <a:lnSpc>
                <a:spcPct val="75000"/>
              </a:lnSpc>
              <a:spcBef>
                <a:spcPts val="901"/>
              </a:spcBef>
              <a:spcAft>
                <a:spcPts val="901"/>
              </a:spcAft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cro-economic analysis for industr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00880" indent="-200880">
              <a:lnSpc>
                <a:spcPct val="75000"/>
              </a:lnSpc>
              <a:spcBef>
                <a:spcPts val="975"/>
              </a:spcBef>
              <a:spcAft>
                <a:spcPts val="975"/>
              </a:spcAft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Does not address large/federal dams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11795" t="11119" r="6505" b="16543"/>
          <a:stretch/>
        </p:blipFill>
        <p:spPr>
          <a:xfrm>
            <a:off x="5832360" y="2565360"/>
            <a:ext cx="3044880" cy="366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EE99D-0896-41E9-B6FC-5BD9CA026E3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Clean Water Act and UAAs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77724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Goal: Meet fishable/swimmable uses “where attainable”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Definition: "…a structured scientific assessment of the factors affecting the attainment of a use which may include physical, chemical, biological, and economic factors.”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194040" indent="0">
              <a:lnSpc>
                <a:spcPct val="6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695C0-3B06-452F-B2CE-B6A9828C20A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Stakeholder Involvement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77724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75000"/>
              </a:lnSpc>
              <a:spcBef>
                <a:spcPts val="924"/>
              </a:spcBef>
              <a:spcAft>
                <a:spcPts val="924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000099"/>
                </a:solidFill>
                <a:latin typeface="Arial"/>
              </a:rPr>
              <a:t>Identify, understand, and learn from your stakeholders</a:t>
            </a:r>
            <a:endParaRPr b="1" lang="en-US" sz="3700" spc="-1" strike="noStrike">
              <a:solidFill>
                <a:srgbClr val="000099"/>
              </a:solidFill>
              <a:latin typeface="Arial"/>
            </a:endParaRPr>
          </a:p>
          <a:p>
            <a:pPr marL="210240" indent="-210240">
              <a:lnSpc>
                <a:spcPct val="75000"/>
              </a:lnSpc>
              <a:spcBef>
                <a:spcPts val="924"/>
              </a:spcBef>
              <a:spcAft>
                <a:spcPts val="924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000099"/>
                </a:solidFill>
                <a:latin typeface="Arial"/>
              </a:rPr>
              <a:t>Apply readiness decision tools</a:t>
            </a:r>
            <a:endParaRPr b="1" lang="en-US" sz="3700" spc="-1" strike="noStrike">
              <a:solidFill>
                <a:srgbClr val="000099"/>
              </a:solidFill>
              <a:latin typeface="Arial"/>
            </a:endParaRPr>
          </a:p>
          <a:p>
            <a:pPr marL="210240" indent="-210240">
              <a:lnSpc>
                <a:spcPct val="75000"/>
              </a:lnSpc>
              <a:spcBef>
                <a:spcPts val="924"/>
              </a:spcBef>
              <a:spcAft>
                <a:spcPts val="924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000099"/>
                </a:solidFill>
                <a:latin typeface="Arial"/>
              </a:rPr>
              <a:t>Identify areas for stakeholder education</a:t>
            </a:r>
            <a:endParaRPr b="1" lang="en-US" sz="3700" spc="-1" strike="noStrike">
              <a:solidFill>
                <a:srgbClr val="000099"/>
              </a:solidFill>
              <a:latin typeface="Arial"/>
            </a:endParaRPr>
          </a:p>
          <a:p>
            <a:pPr marL="210240" indent="-210240">
              <a:lnSpc>
                <a:spcPct val="75000"/>
              </a:lnSpc>
              <a:spcBef>
                <a:spcPts val="924"/>
              </a:spcBef>
              <a:spcAft>
                <a:spcPts val="924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000099"/>
                </a:solidFill>
                <a:latin typeface="Arial"/>
              </a:rPr>
              <a:t>Use appropriate vocabulary and project descriptions</a:t>
            </a:r>
            <a:endParaRPr b="1" lang="en-US" sz="3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F33A3-CE92-442B-8539-DEC72A96203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349360" y="152280"/>
            <a:ext cx="4737240" cy="777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6B00B-08B1-4478-9BC2-AE9B7217705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133720" y="304920"/>
            <a:ext cx="5267160" cy="629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36654-2D51-4F54-9A89-D5EFBC40326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5260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Strategies for a Successful UAA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1240" y="134424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185040" indent="-18504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Establish a defensible rationale and record of decision when adopting a new or revised water quality standard for a waterbody (Tom Gardner, EPA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185040" indent="-18504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Understand relationships Between Uses and Criteri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55480" indent="-18504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Changing a use designation may not solve the problem if associated criteria still can’t be me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185040" indent="-18504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Integrate with other regulatory program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55480" indent="-18504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NPDES: New emphasis on water quality-based effluent limi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55480" indent="-18504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CSO: EPA guidance encourages early consideration of standard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55480" indent="-18504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TMDLs: NAS 2001 – refine uses in advanc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185040" indent="-18504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Involve all stakeholders early and ofte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185040" indent="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781A5-3FD6-4C58-8813-3B4B44815F3D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rcRect l="0" t="0" r="0" b="4317"/>
          <a:stretch/>
        </p:blipFill>
        <p:spPr>
          <a:xfrm>
            <a:off x="2362320" y="152280"/>
            <a:ext cx="4670280" cy="647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6D803-63BD-4FE7-B0BA-40140D3BFEB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Common UAA Tasks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1256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164520" indent="-16452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volve stakeholders in understanding the water quality standards and UAA proc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64520" indent="-16452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mpile scientific data on existing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ater qual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64520" indent="-16452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dentify critical data gap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64520" indent="-16452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eek agreement on study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64520" indent="-16452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ather new data (as needed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64520" indent="-16452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view and analyze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64520" indent="-16452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etermine the basis for attainable uses and applicable water quality criteri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6452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7363C-CD93-4E6A-B43D-4A9CDA6080C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6600" y="43308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Key Questions for Information Needs</a:t>
            </a:r>
            <a:endParaRPr b="1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77724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75680" indent="-175680">
              <a:lnSpc>
                <a:spcPct val="6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ich 131.10(g) factors may apply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75680" indent="-175680">
              <a:lnSpc>
                <a:spcPct val="6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at is geographic scope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75680" indent="-175680">
              <a:lnSpc>
                <a:spcPct val="6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at are the existing uses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27760" indent="-175680">
              <a:lnSpc>
                <a:spcPct val="6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27760" indent="-175680">
              <a:lnSpc>
                <a:spcPct val="6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istoric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75680" indent="-175680">
              <a:lnSpc>
                <a:spcPct val="6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at are the attainable uses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75680" indent="-175680">
              <a:lnSpc>
                <a:spcPct val="6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at type of use is in question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27760" indent="-175680">
              <a:lnSpc>
                <a:spcPct val="6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quatic lif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27760" indent="-175680">
              <a:lnSpc>
                <a:spcPct val="6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uman health: recreation and water suppl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75680" indent="-175680">
              <a:lnSpc>
                <a:spcPct val="6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ow much stakeholder involvement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75680" indent="0">
              <a:lnSpc>
                <a:spcPct val="6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562BD-522D-470F-81C6-F9B5FF21F36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460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40 CFR 131.10(g) Factors: Designated Use Can Be Removed If Not Feasible Because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19807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-464040">
              <a:lnSpc>
                <a:spcPct val="65000"/>
              </a:lnSpc>
              <a:spcBef>
                <a:spcPts val="726"/>
              </a:spcBef>
              <a:spcAft>
                <a:spcPts val="726"/>
              </a:spcAft>
              <a:buClr>
                <a:srgbClr val="000066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99"/>
                </a:solidFill>
                <a:latin typeface="Arial"/>
              </a:rPr>
              <a:t>Natural (background) concentrations, </a:t>
            </a:r>
            <a:r>
              <a:rPr b="1" i="1" lang="en-US" sz="2900" spc="-1" strike="noStrike">
                <a:solidFill>
                  <a:srgbClr val="ff3300"/>
                </a:solidFill>
                <a:latin typeface="Arial"/>
              </a:rPr>
              <a:t>or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marL="464040" indent="-464040">
              <a:lnSpc>
                <a:spcPct val="65000"/>
              </a:lnSpc>
              <a:spcBef>
                <a:spcPts val="726"/>
              </a:spcBef>
              <a:spcAft>
                <a:spcPts val="726"/>
              </a:spcAft>
              <a:buClr>
                <a:srgbClr val="000066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99"/>
                </a:solidFill>
                <a:latin typeface="Arial"/>
              </a:rPr>
              <a:t>Natural, ephemeral, intermittent, or low flow conditions, </a:t>
            </a:r>
            <a:r>
              <a:rPr b="1" i="1" lang="en-US" sz="2900" spc="-1" strike="noStrike">
                <a:solidFill>
                  <a:srgbClr val="ff3300"/>
                </a:solidFill>
                <a:latin typeface="Arial"/>
              </a:rPr>
              <a:t>or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marL="464040" indent="-464040">
              <a:lnSpc>
                <a:spcPct val="65000"/>
              </a:lnSpc>
              <a:spcBef>
                <a:spcPts val="726"/>
              </a:spcBef>
              <a:spcAft>
                <a:spcPts val="726"/>
              </a:spcAft>
              <a:buClr>
                <a:srgbClr val="000066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99"/>
                </a:solidFill>
                <a:latin typeface="Arial"/>
              </a:rPr>
              <a:t>Human caused conditions that cannot be remedied or would cause more harm to fix, </a:t>
            </a:r>
            <a:r>
              <a:rPr b="1" i="1" lang="en-US" sz="2900" spc="-1" strike="noStrike">
                <a:solidFill>
                  <a:srgbClr val="ff3300"/>
                </a:solidFill>
                <a:latin typeface="Arial"/>
              </a:rPr>
              <a:t>or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marL="464040" indent="-464040">
              <a:lnSpc>
                <a:spcPct val="65000"/>
              </a:lnSpc>
              <a:spcBef>
                <a:spcPts val="726"/>
              </a:spcBef>
              <a:spcAft>
                <a:spcPts val="726"/>
              </a:spcAft>
              <a:buClr>
                <a:srgbClr val="000066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99"/>
                </a:solidFill>
                <a:latin typeface="Arial"/>
              </a:rPr>
              <a:t>Dams, diversions, hydromodifications where not feasible to remedy, </a:t>
            </a:r>
            <a:r>
              <a:rPr b="1" i="1" lang="en-US" sz="2900" spc="-1" strike="noStrike">
                <a:solidFill>
                  <a:srgbClr val="ff3300"/>
                </a:solidFill>
                <a:latin typeface="Arial"/>
              </a:rPr>
              <a:t>or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marL="464040" indent="-464040">
              <a:lnSpc>
                <a:spcPct val="65000"/>
              </a:lnSpc>
              <a:spcBef>
                <a:spcPts val="726"/>
              </a:spcBef>
              <a:spcAft>
                <a:spcPts val="726"/>
              </a:spcAft>
              <a:buClr>
                <a:srgbClr val="000066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99"/>
                </a:solidFill>
                <a:latin typeface="Arial"/>
              </a:rPr>
              <a:t>Physical conditions (poor habitat), </a:t>
            </a:r>
            <a:r>
              <a:rPr b="1" i="1" lang="en-US" sz="2900" spc="-1" strike="noStrike">
                <a:solidFill>
                  <a:srgbClr val="ff3300"/>
                </a:solidFill>
                <a:latin typeface="Arial"/>
              </a:rPr>
              <a:t>or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marL="464040" indent="-464040">
              <a:lnSpc>
                <a:spcPct val="65000"/>
              </a:lnSpc>
              <a:spcBef>
                <a:spcPts val="726"/>
              </a:spcBef>
              <a:spcAft>
                <a:spcPts val="726"/>
              </a:spcAft>
              <a:buClr>
                <a:srgbClr val="000066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99"/>
                </a:solidFill>
                <a:latin typeface="Arial"/>
              </a:rPr>
              <a:t>Controls would cause substantial and widespread economic and social impact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ED4FE-CE21-4ACE-A07F-980EEFDDBCF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280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Define Geographic Scope Early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4440" y="1490400"/>
            <a:ext cx="380988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85000"/>
              </a:lnSpc>
              <a:spcBef>
                <a:spcPts val="649"/>
              </a:spcBef>
              <a:spcAft>
                <a:spcPts val="649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Timing and integration with other programs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205560" indent="-205560">
              <a:lnSpc>
                <a:spcPct val="85000"/>
              </a:lnSpc>
              <a:spcBef>
                <a:spcPts val="649"/>
              </a:spcBef>
              <a:spcAft>
                <a:spcPts val="649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Scope of information needs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205560" indent="-205560">
              <a:lnSpc>
                <a:spcPct val="85000"/>
              </a:lnSpc>
              <a:spcBef>
                <a:spcPts val="649"/>
              </a:spcBef>
              <a:spcAft>
                <a:spcPts val="649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Who are the relevant stakeholders and public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205560" indent="-205560">
              <a:lnSpc>
                <a:spcPct val="85000"/>
              </a:lnSpc>
              <a:spcBef>
                <a:spcPts val="649"/>
              </a:spcBef>
              <a:spcAft>
                <a:spcPts val="649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Which regulators need to be involved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205560" indent="-205560">
              <a:lnSpc>
                <a:spcPct val="85000"/>
              </a:lnSpc>
              <a:spcBef>
                <a:spcPts val="649"/>
              </a:spcBef>
              <a:spcAft>
                <a:spcPts val="649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Who provides fundin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205560" indent="0">
              <a:lnSpc>
                <a:spcPct val="85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86280" y="1125360"/>
            <a:ext cx="3784680" cy="2756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rcRect l="0" t="13642" r="5573" b="0"/>
          <a:stretch/>
        </p:blipFill>
        <p:spPr>
          <a:xfrm>
            <a:off x="4297320" y="3971880"/>
            <a:ext cx="4297320" cy="28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CE52C-7617-44D5-B5D0-B897A5A4CD7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UAAs Need to Document Both Existing and Attainable Uses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77724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isting us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96520" indent="-19872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ose uses that exist in a given water body (any time on or after November 28, 1975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94320" indent="-19872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ed to collect historical studi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198720" indent="-19872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ttainable us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96520" indent="-19872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would be the attainable uses IF anthropogenic point and nonpoint sources were controlled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96520" indent="-19872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ten based on results of water quality models, the answer to this question often varies based on loc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96520" indent="-19872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oes not have to be natural condi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719CA-FB56-45C9-AA6D-C3AB5E69F1A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Example Information Needs for Aquatic Life Uses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77724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159840" indent="-15984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hysic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79880" indent="-15984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low, temperature, slope, stratific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59840" indent="-15984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hemic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79880" indent="-15984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O, toxic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59840" indent="-15984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ologic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79880" indent="-15984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lgae and pla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79880" indent="-15984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croinvertebra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79880" indent="-15984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is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79880" indent="-15984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abitat constrai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59840" indent="-159840">
              <a:lnSpc>
                <a:spcPct val="75000"/>
              </a:lnSpc>
              <a:spcBef>
                <a:spcPts val="726"/>
              </a:spcBef>
              <a:spcAft>
                <a:spcPts val="726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Water quality/ecosystem model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40280" y="2813040"/>
            <a:ext cx="4203720" cy="311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F5F3C-7C54-4E35-A7F5-558759814EB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1T21:30:53Z</dcterms:created>
  <dc:creator>Tom Dupuis</dc:creator>
  <dc:description/>
  <dc:language>en-US</dc:language>
  <cp:lastModifiedBy>Tom Dupuis</cp:lastModifiedBy>
  <cp:lastPrinted>2004-03-09T20:57:48Z</cp:lastPrinted>
  <dcterms:modified xsi:type="dcterms:W3CDTF">2005-10-24T19:44:03Z</dcterms:modified>
  <cp:revision>3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