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B7E57-B6F1-40AD-B9E1-17408A984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D546-9599-43F5-BC51-76BA15E4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8FB1B-24AC-4EA9-9EC8-95ECCC399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EBA22-5244-44AC-B9A9-67EE7075E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B39815-A33A-49B0-B043-2C435D993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3EDA0D-5C4E-44E6-BEAC-BFC4187D8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CA25F2-F06B-447B-B857-1DFF8A4C1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052ACC-B856-494E-B86E-CFB7AD2A3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C6D683-7816-4A46-A89C-58021254C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C0A97B-55AD-4999-BAAA-A8636E82B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8F90F1-D215-45D2-8FFB-364A905B0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D359-5C0D-4A43-9466-8A62EB3E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F3B8BC-5031-422D-9705-A0AF5E1E9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7D05B6-9157-4CB5-8209-7CFE91FA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AD1220-920D-42A3-9E71-138E44AAB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5EBC57-73A3-46CD-88B0-89CBB4747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3DCDD8-B4A5-4C8C-B4E1-AF28C7983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337A-E845-4710-988D-57F534D53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F1AA4-AD25-4F46-843C-A5FF84F1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C952C-30FE-417E-834C-867AF4A6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FB7B-A7D2-4A29-BAAB-156BBB0A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0B2FC-E4E1-48BB-8947-1C80FCBB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EFC15-A4A6-4779-9E22-8D400937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9DD8A-D94C-4D80-8BEE-3011D2E2B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3CE9-8097-4525-A78A-A3758356ED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0810-01B2-4E07-B12C-1CB0F58359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eb2.westlaw.com/find/default.wl?SerialNum=2003538808&amp;FindType=Y&amp;AP=&amp;mt=Environmental&amp;fn=_top&amp;sv=Split&amp;vr=2.0&amp;rs=WLW5.10"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eb2.westlaw.com/find/default.wl?SerialNum=2001047585&amp;FindType=Y&amp;AP=&amp;mt=Environmental&amp;fn=_top&amp;sv=Split&amp;vr=2.0&amp;rs=WLW5.10" TargetMode="External"/><Relationship Id="rId2" Type="http://schemas.openxmlformats.org/officeDocument/2006/relationships/hyperlink" Target="http://web2.westlaw.com/find/default.wl?SerialNum=1985158798&amp;FindType=Y&amp;AP=&amp;mt=Environmental&amp;fn=_top&amp;sv=Split&amp;vr=2.0&amp;rs=WLW5.10" TargetMode="External"/><Relationship Id="rId3" Type="http://schemas.openxmlformats.org/officeDocument/2006/relationships/hyperlink" Target="http://web2.westlaw.com/find/default.wl?DB=506&amp;SerialNum=2005632021&amp;FindType=Y&amp;AP=&amp;mt=Environmental&amp;fn=_top&amp;sv=Split&amp;vr=2.0&amp;rs=WLW5.10" TargetMode="External"/><Relationship Id="rId4" Type="http://schemas.openxmlformats.org/officeDocument/2006/relationships/hyperlink" Target="http://web2.westlaw.com/find/default.wl?DB=506&amp;SerialNum=2005632021&amp;FindType=Y&amp;AP=&amp;mt=Environmental&amp;fn=_top&amp;sv=Split&amp;vr=2.0&amp;rs=WLW5.10" TargetMode="External"/><Relationship Id="rId5" Type="http://schemas.openxmlformats.org/officeDocument/2006/relationships/hyperlink" Target="http://web2.westlaw.com/find/default.wl?DB=506&amp;SerialNum=2005632021&amp;FindType=Y&amp;AP=&amp;mt=Environmental&amp;fn=_top&amp;sv=Split&amp;vr=2.0&amp;rs=WLW5.10" TargetMode="External"/><Relationship Id="rId6" Type="http://schemas.openxmlformats.org/officeDocument/2006/relationships/hyperlink" Target="http://web2.westlaw.com/find/default.wl?DB=506&amp;SerialNum=2005632021&amp;FindType=Y&amp;AP=&amp;mt=Environmental&amp;fn=_top&amp;sv=Split&amp;vr=2.0&amp;rs=WLW5.10" TargetMode="External"/><Relationship Id="rId7" Type="http://schemas.openxmlformats.org/officeDocument/2006/relationships/hyperlink" Target="http://web2.westlaw.com/find/default.wl?SerialNum=2005632021&amp;FindType=Y&amp;AP=&amp;mt=Environmental&amp;fn=_top&amp;sv=Split&amp;vr=2.0&amp;rs=WLW5.10" TargetMode="External"/><Relationship Id="rId8" Type="http://schemas.openxmlformats.org/officeDocument/2006/relationships/hyperlink" Target="http://web2.westlaw.com/find/default.wl?DB=1000547&amp;DocName=33CFRS328%2E3&amp;FindType=L&amp;AP=&amp;mt=Environmental&amp;fn=_top&amp;sv=Split&amp;vr=2.0&amp;rs=WLW5.10" TargetMode="External"/><Relationship Id="rId9" Type="http://schemas.openxmlformats.org/officeDocument/2006/relationships/hyperlink" Target="http://web2.westlaw.com/find/default.wl?SerialNum=2005632021&amp;FindType=Y&amp;AP=&amp;mt=Environmental&amp;fn=_top&amp;sv=Split&amp;vr=2.0&amp;rs=WLW5.10" TargetMode="External"/><Relationship Id="rId10" Type="http://schemas.openxmlformats.org/officeDocument/2006/relationships/hyperlink" Target="http://web2.westlaw.com/find/default.wl?SerialNum=2005632021&amp;FindType=Y&amp;AP=&amp;mt=Environmental&amp;fn=_top&amp;sv=Split&amp;vr=2.0&amp;rs=WLW5.10" TargetMode="External"/><Relationship Id="rId11" Type="http://schemas.openxmlformats.org/officeDocument/2006/relationships/hyperlink" Target="http://web2.westlaw.com/find/default.wl?SerialNum=2001047585&amp;FindType=Y&amp;AP=&amp;mt=Environmental&amp;fn=_top&amp;sv=Split&amp;vr=2.0&amp;rs=WLW5.10" TargetMode="External"/><Relationship Id="rId12" Type="http://schemas.openxmlformats.org/officeDocument/2006/relationships/hyperlink" Target="http://web2.westlaw.com/find/default.wl?SerialNum=1985158798&amp;FindType=Y&amp;AP=&amp;mt=Environmental&amp;fn=_top&amp;sv=Split&amp;vr=2.0&amp;rs=WLW5.10" TargetMode="External"/><Relationship Id="rId13" Type="http://schemas.openxmlformats.org/officeDocument/2006/relationships/hyperlink" Target="http://web2.westlaw.com/find/default.wl?SerialNum=2001047585&amp;FindType=Y&amp;AP=&amp;mt=Environmental&amp;fn=_top&amp;sv=Split&amp;vr=2.0&amp;rs=WLW5.10" TargetMode="External"/><Relationship Id="rId14" Type="http://schemas.openxmlformats.org/officeDocument/2006/relationships/hyperlink" Target="http://web2.westlaw.com/find/default.wl?SerialNum=1985158798&amp;FindType=Y&amp;AP=&amp;mt=Environmental&amp;fn=_top&amp;sv=Split&amp;vr=2.0&amp;rs=WLW5.10" TargetMode="External"/><Relationship Id="rId15" Type="http://schemas.openxmlformats.org/officeDocument/2006/relationships/hyperlink" Target="http://web2.westlaw.com/find/default.wl?SerialNum=2001047585&amp;FindType=Y&amp;AP=&amp;mt=Environmental&amp;fn=_top&amp;sv=Split&amp;vr=2.0&amp;rs=WLW5.10" TargetMode="External"/><Relationship Id="rId16" Type="http://schemas.openxmlformats.org/officeDocument/2006/relationships/hyperlink" Target="http://web2.westlaw.com/find/default.wl?DB=1000547&amp;DocName=33CFRS328%2E3&amp;FindType=L&amp;AP=&amp;mt=Environmental&amp;fn=_top&amp;sv=Split&amp;vr=2.0&amp;rs=WLW5.10" TargetMode="External"/><Relationship Id="rId17" Type="http://schemas.openxmlformats.org/officeDocument/2006/relationships/hyperlink" Target="http://web2.westlaw.com/find/default.wl?DB=506&amp;SerialNum=2005632021&amp;FindType=Y&amp;ReferencePositionType=S&amp;ReferencePosition=709&amp;AP=&amp;mt=Environmental&amp;fn=_top&amp;sv=Split&amp;vr=2.0&amp;rs=WLW5.10" TargetMode="External"/><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Developments in Clean Water Law</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a:t>
            </a:r>
            <a:r>
              <a:rPr b="0" i="1" lang="en-US" sz="2400" spc="-1" strike="noStrike">
                <a:solidFill>
                  <a:srgbClr val="ffffff"/>
                </a:solidFill>
                <a:latin typeface="Arial"/>
              </a:rPr>
              <a:t>Aviall </a:t>
            </a:r>
            <a:r>
              <a:rPr b="0" lang="en-US" sz="2400" spc="-1" strike="noStrike">
                <a:solidFill>
                  <a:srgbClr val="ffffff"/>
                </a:solidFill>
                <a:latin typeface="Arial"/>
              </a:rPr>
              <a:t>to </a:t>
            </a:r>
            <a:r>
              <a:rPr b="0" i="1" lang="en-US" sz="2400" spc="-1" strike="noStrike">
                <a:solidFill>
                  <a:srgbClr val="ffffff"/>
                </a:solidFill>
                <a:latin typeface="Arial"/>
              </a:rPr>
              <a:t>Kelo</a:t>
            </a:r>
            <a:r>
              <a:rPr b="0" lang="en-US" sz="2400" spc="-1" strike="noStrike">
                <a:solidFill>
                  <a:srgbClr val="ffffff"/>
                </a:solidFill>
                <a:latin typeface="Arial"/>
              </a:rPr>
              <a:t>: Recent Legal Precedents Impact Clean Water Lawyers</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by Lee A. DeHihns, III</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ton &amp; Bird, LL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e3e3ff"/>
                </a:solidFill>
                <a:latin typeface="Arial"/>
              </a:rPr>
              <a:t>Rapanos, et al. v. United States, US Supreme Court No. 04-1034, 376 F.3d 629 (6th Cir. 2004), Cert. Granted Oct. 11, 2005</a:t>
            </a:r>
            <a:br>
              <a:rPr sz="2800"/>
            </a:br>
            <a:br>
              <a:rPr sz="2800"/>
            </a:br>
            <a:endParaRPr b="0" lang="en-US" sz="28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se may seem familiar because a CWA criminal case against Mr. Rapanos was affirmed in 339 F.3d 447 (2003) and the US Supreme Court denied cert. in 200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he criminal conviction findings of CWA jurisdiction, the civil case came out the same way.  Why cert now is the unanswered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arabell et al. v. U.S. Army Corps of Engineers, et al., </a:t>
            </a:r>
            <a:r>
              <a:rPr b="1" lang="en-US" sz="2800" spc="-1" strike="noStrike">
                <a:solidFill>
                  <a:srgbClr val="e3e3ff"/>
                </a:solidFill>
                <a:latin typeface="Arial"/>
              </a:rPr>
              <a:t>391 F.3d 704 (6th Cir. 2004), Cert. Granted (No. 04-1034, Oct. 11, 2005)</a:t>
            </a:r>
            <a:endParaRPr b="0" lang="en-US" sz="28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S PRESENTED</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oes the Clean Water Act extend to wetlands that are hydrologically isolated from any of the "waters of the United Stat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o the limits on Congress' authority to regulate interstate commerce preclude an interpretation of the Clean Water Act that would extend federal authority to wetlands that are hydrologically isolated from any of the "waters o</a:t>
            </a:r>
            <a:r>
              <a:rPr b="0" lang="en-US" sz="2000" spc="-1" strike="noStrike">
                <a:solidFill>
                  <a:srgbClr val="ffffff"/>
                </a:solidFill>
                <a:latin typeface="Arial"/>
                <a:ea typeface="ＭＳ Ｐゴシック"/>
              </a:rPr>
              <a:t>f the United Stat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The facts as decided by the 6</a:t>
            </a:r>
            <a:r>
              <a:rPr b="0" lang="en-US" sz="2000" spc="-1" strike="noStrike" baseline="30000">
                <a:solidFill>
                  <a:srgbClr val="ffffff"/>
                </a:solidFill>
                <a:latin typeface="Arial"/>
                <a:ea typeface="ＭＳ Ｐゴシック"/>
              </a:rPr>
              <a:t>th</a:t>
            </a:r>
            <a:r>
              <a:rPr b="0" lang="en-US" sz="2000" spc="-1" strike="noStrike">
                <a:solidFill>
                  <a:srgbClr val="ffffff"/>
                </a:solidFill>
                <a:latin typeface="Arial"/>
                <a:ea typeface="ＭＳ Ｐゴシック"/>
              </a:rPr>
              <a:t> Circuit: “Consistent with both </a:t>
            </a:r>
            <a:r>
              <a:rPr b="0" lang="en-US" sz="2000" spc="-1" strike="noStrike" u="sng">
                <a:solidFill>
                  <a:srgbClr val="00ffcc"/>
                </a:solidFill>
                <a:uFillTx/>
                <a:latin typeface="Arial"/>
                <a:ea typeface="ＭＳ Ｐゴシック"/>
                <a:hlinkClick r:id="rId1"/>
              </a:rPr>
              <a:t>Rapanos</a:t>
            </a:r>
            <a:r>
              <a:rPr b="0" lang="en-US" sz="2000" spc="-1" strike="noStrike">
                <a:solidFill>
                  <a:srgbClr val="ffffff"/>
                </a:solidFill>
                <a:latin typeface="Arial"/>
                <a:ea typeface="ＭＳ Ｐゴシック"/>
              </a:rPr>
              <a:t> cases, the district court in this case determined that there is a "significant nexus" between the wetlands on the Carabells' property and the adjacent non-navigable ditch abutting their property, a ditch that flows one way or another into other tributaries of navigable waters of the United Sta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3e3ff"/>
                </a:solidFill>
                <a:latin typeface="Arial"/>
              </a:rPr>
              <a:t>S.D. Warren Company v. Board of Environmental Protection</a:t>
            </a:r>
            <a:r>
              <a:rPr b="0" lang="en-US" sz="2800" spc="-1" strike="noStrike">
                <a:solidFill>
                  <a:srgbClr val="e3e3ff"/>
                </a:solidFill>
                <a:latin typeface="Arial"/>
              </a:rPr>
              <a:t>, 868 A.2d 210 2005, cert. granted, No. 04-1527 (Oct. 11,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D. Warren Company owns and operates five hydroelectric dam projects on a Maine river.  The projects are licensed by the Federal Energy Regulatory Commission (FERC).  The issue before the Maine Supreme Court was whether the certifications by the State of Maine under Section 401 of the Clean Water Act classifying the discharges from the dams as being subject to NPDES permits was vali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e Supreme Court held that a discharge subject to the CWA occurs because “Warren’s dams remove the water of the river from its natural course, exercise private control of the water and then add the water back into the river.  This is a discharge pursuant to Section 401(a)(1).”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preme Court granted cert. with the following question presented for review:  “Does the mere flow of water through an existing dam constitute a “discharge” under Section 401, 33 U.S.C. § 1341, of the Clean Water Act, despite this court’s holding last year in </a:t>
            </a:r>
            <a:r>
              <a:rPr b="0" i="1" lang="en-US" sz="1800" spc="-1" strike="noStrike">
                <a:solidFill>
                  <a:srgbClr val="ffffff"/>
                </a:solidFill>
                <a:latin typeface="Arial"/>
              </a:rPr>
              <a:t>Miccosukee</a:t>
            </a:r>
            <a:r>
              <a:rPr b="0" lang="en-US" sz="1800" spc="-1" strike="noStrike">
                <a:solidFill>
                  <a:srgbClr val="ffffff"/>
                </a:solidFill>
                <a:latin typeface="Arial"/>
              </a:rPr>
              <a:t> that a discharge required the addition of water from a distinct body of wat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se raises the issue of whether permits are required for water management facilities that transfer water from one portion of a system to another.  Specifically, there are three pump stations that occasionally convey water from four canals into Lake Okeechobe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ssue before the court is the applicability of NPDES permits to water transfers after </a:t>
            </a:r>
            <a:r>
              <a:rPr b="0" i="1" lang="en-US" sz="2000" spc="-1" strike="noStrike">
                <a:solidFill>
                  <a:srgbClr val="ffffff"/>
                </a:solidFill>
                <a:latin typeface="Arial"/>
              </a:rPr>
              <a:t>South Florida Water Management District v. Miccosukee Tribe</a:t>
            </a:r>
            <a:r>
              <a:rPr b="0" lang="en-US" sz="2000" spc="-1" strike="noStrike">
                <a:solidFill>
                  <a:srgbClr val="ffffff"/>
                </a:solidFill>
                <a:latin typeface="Arial"/>
              </a:rPr>
              <a:t>, 541 U.S. 95 (2004).  The critical factual issue left open in </a:t>
            </a:r>
            <a:r>
              <a:rPr b="0" i="1" lang="en-US" sz="2000" spc="-1" strike="noStrike">
                <a:solidFill>
                  <a:srgbClr val="ffffff"/>
                </a:solidFill>
                <a:latin typeface="Arial"/>
              </a:rPr>
              <a:t>Miccosukee</a:t>
            </a:r>
            <a:r>
              <a:rPr b="0" lang="en-US" sz="2000" spc="-1" strike="noStrike">
                <a:solidFill>
                  <a:srgbClr val="ffffff"/>
                </a:solidFill>
                <a:latin typeface="Arial"/>
              </a:rPr>
              <a:t> was whether the donating and receiving water bodies are meaningfully distinct from one another so as to fall within or without the definition of “addition” in Section 502 of the CW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endParaRPr b="0" lang="en-US" sz="32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J/EPA are arguing that at the time of the </a:t>
            </a:r>
            <a:r>
              <a:rPr b="0" i="1" lang="en-US" sz="2000" spc="-1" strike="noStrike">
                <a:solidFill>
                  <a:srgbClr val="ffffff"/>
                </a:solidFill>
                <a:latin typeface="Arial"/>
              </a:rPr>
              <a:t>Miccosukee</a:t>
            </a:r>
            <a:r>
              <a:rPr b="0" lang="en-US" sz="2000" spc="-1" strike="noStrike">
                <a:solidFill>
                  <a:srgbClr val="ffffff"/>
                </a:solidFill>
                <a:latin typeface="Arial"/>
              </a:rPr>
              <a:t> decision, EPA had not issued a determination of how the NPDES program applied to water transfers, whereas in its motion for summary judgment in this case the U.S. brief in this case included an August 5, 2005 memorandum jointly signed by the General Counsel and Assistant Administrator for Water of EPA entitled “Agency Interpretation on Applicability of Section 402 of the Clean Water Act to Water Transfer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ssential finding of the EPA’s memorandum is summarized in the following quote: “We confirm the agency’s longstanding practice and conclude that Congress intended for water transfers to be subject to oversight by water resource management agencies and state non-NPDES authorities, rather than the permitting program under Section 402 of the CW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Friends of the Everglades v. South Florida Water Management District and the U.S., Case No. 02-CV-80309 (S.D. FL)</a:t>
            </a:r>
            <a:endParaRPr b="0" lang="en-US" sz="32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PA memo “only addresses only water transfers – that is, activities that convey or connect navigable waters without subjecting the water to intervening industrial, municipal or commercial use.  It does not address any other activities, or any jurisdictional terms under the statute other than ‘addi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U.S. view is that “the record shows that the water district is engaged in mere water transfers.  Specifically, the undisputed facts in this case are that S-2, S-3, and S-4 pump stations convey (as infrequently as possible) navigable waters to navigable water, and there is no evidence existing that any of the pump stations themselves generate a pollutant (e.g., oil or grease).”  Oral argument on the cross motions for summary judgment in the case is scheduled for November 3, 2005.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e3e3ff"/>
                </a:solidFill>
                <a:latin typeface="Arial"/>
              </a:rPr>
              <a:t>NPDES Permit Program Issues</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9</a:t>
            </a:r>
            <a:r>
              <a:rPr b="0" lang="en-US" sz="2400" spc="-1" strike="noStrike" baseline="30000">
                <a:solidFill>
                  <a:srgbClr val="ffffff"/>
                </a:solidFill>
                <a:latin typeface="Arial"/>
              </a:rPr>
              <a:t>th</a:t>
            </a:r>
            <a:r>
              <a:rPr b="0" lang="en-US" sz="2400" spc="-1" strike="noStrike">
                <a:solidFill>
                  <a:srgbClr val="ffffff"/>
                </a:solidFill>
                <a:latin typeface="Arial"/>
              </a:rPr>
              <a:t> Circuit found that EPA was required to consider jeopardy to listed species under the Endangered Species Act (ESA) when transferring NPDES authority to the State of Arizon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s transfer was done under an MOA with USFWS which required EPA to “communicate” ESA concerns to the NPDES transferee.</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s position was nevertheless that it lacked authority to regulate the non-water quality related impacts to endangered species under the NPDES program.  USFWS essentially concurred in a Biological Opinion.  </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Circuit in AF&amp;PA v. EPA (137 F.3d 291 1998) had previously limited the scope of the ESA under the CWA in reviewing permits issued by LDEQ “We agree that the ESA serves not as a font of new authority, but as something far more modest:  a directive to agencies to channel their </a:t>
            </a:r>
            <a:r>
              <a:rPr b="0" i="1" lang="en-US" sz="2800" spc="-1" strike="noStrike">
                <a:solidFill>
                  <a:srgbClr val="ffffff"/>
                </a:solidFill>
                <a:latin typeface="Arial"/>
              </a:rPr>
              <a:t>existing</a:t>
            </a:r>
            <a:r>
              <a:rPr b="0" lang="en-US" sz="2800" spc="-1" strike="noStrike">
                <a:solidFill>
                  <a:srgbClr val="ffffff"/>
                </a:solidFill>
                <a:latin typeface="Arial"/>
              </a:rPr>
              <a:t> authority in a particular direction.   The upshot is that EPA cannot invoke the ESA as a means of creating and imposing requirements that are not authorized by the CW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al flaw for EPA was best seen in the following quote from the opinion: “By relying on this line of reasoning after determining that it did have a consultation obligation, the EPA decided that it had to consult but had no authority to do anything concerning the matter about which it had to consult.  One would not expect that Congress would set up such a nonsensical regime.  Not surprisingly, it did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e3e3ff"/>
                </a:solidFill>
                <a:latin typeface="Arial"/>
              </a:rPr>
              <a:t>	</a:t>
            </a:r>
            <a:r>
              <a:rPr b="0" lang="en-US" sz="4000" spc="-1" strike="noStrike">
                <a:solidFill>
                  <a:srgbClr val="e3e3ff"/>
                </a:solidFill>
                <a:latin typeface="Arial"/>
              </a:rPr>
              <a:t>U.S. Supreme Court Cases</a:t>
            </a:r>
            <a:endParaRPr b="0" lang="en-US" sz="4000" spc="-1" strike="noStrike">
              <a:solidFill>
                <a:srgbClr val="e3e3ff"/>
              </a:solidFill>
              <a:latin typeface="Arial"/>
            </a:endParaRPr>
          </a:p>
        </p:txBody>
      </p:sp>
      <p:sp>
        <p:nvSpPr>
          <p:cNvPr id="125"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fenders of Wildlife v. US EPA</a:t>
            </a:r>
            <a:br>
              <a:rPr sz="4000"/>
            </a:br>
            <a:r>
              <a:rPr b="0" lang="en-US" sz="4000" spc="-1" strike="noStrike">
                <a:solidFill>
                  <a:srgbClr val="e3e3ff"/>
                </a:solidFill>
                <a:latin typeface="Arial"/>
              </a:rPr>
              <a:t>	</a:t>
            </a:r>
            <a:r>
              <a:rPr b="0" lang="en-US" sz="3200" spc="-1" strike="noStrike">
                <a:solidFill>
                  <a:srgbClr val="e3e3ff"/>
                </a:solidFill>
                <a:latin typeface="Arial"/>
              </a:rPr>
              <a:t>420 F.3d 946 (9</a:t>
            </a:r>
            <a:r>
              <a:rPr b="0" lang="en-US" sz="3200" spc="-1" strike="noStrike" baseline="30000">
                <a:solidFill>
                  <a:srgbClr val="e3e3ff"/>
                </a:solidFill>
                <a:latin typeface="Arial"/>
              </a:rPr>
              <a:t>th</a:t>
            </a:r>
            <a:r>
              <a:rPr b="0" lang="en-US" sz="3200" spc="-1" strike="noStrike">
                <a:solidFill>
                  <a:srgbClr val="e3e3ff"/>
                </a:solidFill>
                <a:latin typeface="Arial"/>
              </a:rPr>
              <a:t> Cir. 2005)</a:t>
            </a:r>
            <a:endParaRPr b="0" lang="en-US" sz="32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 was vacation of EPA’s approval of Arizona’s permit program.  The concern is the potential for ESA issues to be raised in NPDES permit decisions in the future.  It is difficult to tell what EPA’s position is regarding the ESA/NPDES interface in light of this opinion.  The parties have asked for rehearing </a:t>
            </a:r>
            <a:r>
              <a:rPr b="0" i="1" lang="en-US" sz="3200" spc="-1" strike="noStrike">
                <a:solidFill>
                  <a:srgbClr val="ffffff"/>
                </a:solidFill>
                <a:latin typeface="Arial"/>
              </a:rPr>
              <a:t>en banc</a:t>
            </a:r>
            <a:r>
              <a:rPr b="0" lang="en-US" sz="3200" spc="-1" strike="noStrike">
                <a:solidFill>
                  <a:srgbClr val="ffffff"/>
                </a:solidFill>
                <a:latin typeface="Arial"/>
              </a:rPr>
              <a:t>, so more to 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e3e3ff"/>
                </a:solidFill>
                <a:latin typeface="Arial"/>
              </a:rPr>
              <a:t>Cactus ferruginous pygmy-owl</a:t>
            </a:r>
            <a:endParaRPr b="0" lang="en-US" sz="4400" spc="-1" strike="noStrike">
              <a:solidFill>
                <a:srgbClr val="e3e3ff"/>
              </a:solidFill>
              <a:latin typeface="Arial"/>
            </a:endParaRPr>
          </a:p>
        </p:txBody>
      </p:sp>
      <p:pic>
        <p:nvPicPr>
          <p:cNvPr id="163" name="" descr=""/>
          <p:cNvPicPr/>
          <p:nvPr/>
        </p:nvPicPr>
        <p:blipFill>
          <a:blip r:embed="rId1"/>
          <a:stretch/>
        </p:blipFill>
        <p:spPr>
          <a:xfrm>
            <a:off x="3251160" y="1898640"/>
            <a:ext cx="2641680" cy="389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hurst v. Hagener, 422 F.3d 1146 9</a:t>
            </a:r>
            <a:r>
              <a:rPr b="0" lang="en-US" sz="4000" spc="-1" strike="noStrike" baseline="30000">
                <a:solidFill>
                  <a:srgbClr val="e3e3ff"/>
                </a:solidFill>
                <a:latin typeface="Arial"/>
              </a:rPr>
              <a:t>th</a:t>
            </a:r>
            <a:r>
              <a:rPr b="0" lang="en-US" sz="4000" spc="-1" strike="noStrike">
                <a:solidFill>
                  <a:srgbClr val="e3e3ff"/>
                </a:solidFill>
                <a:latin typeface="Arial"/>
              </a:rPr>
              <a:t> Cir. 2005)</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of Appeals held that a pesticide applied under its FIFRA label and aimed solely at eliminating a pestilent fish species, was not a "waste" and thus not a "pollutant" for the purposes of the CWA and not subject to the CWA's permit requirement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itical difference between this case and the Headwaters v. Talent Irrigation Dist., 243 F.3d 526 (9</a:t>
            </a:r>
            <a:r>
              <a:rPr b="0" lang="en-US" sz="2400" spc="-1" strike="noStrike" baseline="30000">
                <a:solidFill>
                  <a:srgbClr val="ffffff"/>
                </a:solidFill>
                <a:latin typeface="Arial"/>
              </a:rPr>
              <a:t>th</a:t>
            </a:r>
            <a:r>
              <a:rPr b="0" lang="en-US" sz="2400" spc="-1" strike="noStrike">
                <a:solidFill>
                  <a:srgbClr val="ffffff"/>
                </a:solidFill>
                <a:latin typeface="Arial"/>
              </a:rPr>
              <a:t> Cir. 2001), case is that the herbicide used there had effects beyond its intended use,  whereas the pesticide after killing the fish had no effect on other fish or aquatic vege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t found that an NPDES permit was needed for discharges from a pond formed from an old gravel pit and adjacent wetlands alongside the Russian River, are within the jurisdiction of the Clean Water Act. The City of Healdsburg had been discharging all of its treated sewage (450 million gallons @ year) into the pond, which then drains via an aquifer into the Russian River without an NPDES perm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no evidentiary dispute that the pond’s wastewater contents do reach the river via the aquifer.  On the basis of the facts the court found that the pond was adjacent to waters of the US, noting also that the pond is connected to the Russian River via the aquif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has been appealed to the 9</a:t>
            </a:r>
            <a:r>
              <a:rPr b="0" lang="en-US" sz="2800" spc="-1" strike="noStrike" baseline="30000">
                <a:solidFill>
                  <a:srgbClr val="ffffff"/>
                </a:solidFill>
                <a:latin typeface="Arial"/>
              </a:rPr>
              <a:t>th</a:t>
            </a:r>
            <a:r>
              <a:rPr b="0" lang="en-US" sz="2800" spc="-1" strike="noStrike">
                <a:solidFill>
                  <a:srgbClr val="ffffff"/>
                </a:solidFill>
                <a:latin typeface="Arial"/>
              </a:rPr>
              <a:t> Circuit and oral argument is scheduled for November 16, 2005 in Case N0. 04-1544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 Watch v. City of Healdsburg, 2004 WL 201502 (N.D. Cal. 2004)</a:t>
            </a:r>
            <a:endParaRPr b="0" lang="en-US" sz="40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rejected the City’s reliance on 40 CFR 123.11(m) which says that the definition of "waters of the United States" excludes:  “Waste treatment systems, including treatment ponds or lagoons designed to meet the requirements of CWA.”   The Court reasoned that the “Pond itself was not designed to meet the requirements of the Clean Water Act or designed to be part of the waste-treatment system.  The pond pre-existed the plant.  It pre-existed the Clean Water Act.  The pond was not designed with sewage disposal in mind. The pond was simply the result of digging a pit in the earth that filled with groundwater.  No doubt, the actual plant was designed to take advantage of abandoned mining pits like Basalt Pond, but the pits themselves were not so designe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Court held that disposal of dredged material didn’t fall within Section 404 (f)(1)(b) due to Defendant’s admiss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e was the subject of prior appeal in Greenfield Mills v. Macklin, 361 F.3d 934 (7th Cir. 2004).</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cession by Defendant’s counsel came not in a brief or at oral argument, but during an amazing exchange between the Judge and counsel in a conference c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 </a:t>
            </a:r>
            <a:r>
              <a:rPr b="0" lang="en-US" sz="1800" spc="-1" strike="noStrike">
                <a:solidFill>
                  <a:srgbClr val="ffffff"/>
                </a:solidFill>
                <a:latin typeface="Arial"/>
              </a:rPr>
              <a:t>The plaintiffs cite it in the record some testimony from th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fendant’s witnesses that seem to say that the discharge of sedi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s not reasonably necessary to perform the maintenance. What’s the defendant’s position on that?</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As to the reasonableness of the discharg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Yes, was it reasonably necessary to perform the maintenanc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Well, we would have to state that it </a:t>
            </a:r>
            <a:r>
              <a:rPr b="1" lang="en-US" sz="1800" spc="-1" strike="noStrike">
                <a:solidFill>
                  <a:srgbClr val="ffffff"/>
                </a:solidFill>
                <a:latin typeface="Arial"/>
              </a:rPr>
              <a:t>wasn’t</a:t>
            </a:r>
            <a:r>
              <a:rPr b="0" lang="en-US" sz="1800" spc="-1" strike="noStrike">
                <a:solidFill>
                  <a:srgbClr val="ffffff"/>
                </a:solidFill>
                <a:latin typeface="Arial"/>
              </a:rPr>
              <a:t> necessary to perform the maintenanc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Okay. So that’s clear?</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Ye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rt</a:t>
            </a:r>
            <a:r>
              <a:rPr b="0" lang="en-US" sz="1800" spc="-1" strike="noStrike">
                <a:solidFill>
                  <a:srgbClr val="ffffff"/>
                </a:solidFill>
                <a:latin typeface="Arial"/>
              </a:rPr>
              <a:t>: All right. Okay.   If you admit that, doesn’t that cook your goose on liability?</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unsel</a:t>
            </a:r>
            <a:r>
              <a:rPr b="0" lang="en-US" sz="1800" spc="-1" strike="noStrike">
                <a:solidFill>
                  <a:srgbClr val="ffffff"/>
                </a:solidFill>
                <a:latin typeface="Arial"/>
              </a:rPr>
              <a:t>: Well, potential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key issue in the case is the holding as to an “ongoing” violation.  The Court found that the continued existence of 180 cubic yards of fill material in the river was an ongoing violation.  The material was sediment from draining and flushing a hatchery supply pond into a river in 1998 by the Indiana Department of Natural Resour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enfield Mills v. John Goss, 2005 WL 1563433 (N.D. Ind. Jun 28, 2005) </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following North Carolina Wildlife Federation v. Woodbury, 1989 WL 106517 (E.D. NC 1989), the Court held that  “[T]o hold that no continuing violation exists when the very consequence of an illegal discharge is the harm, would provide no remedy to plaintiffs such as the ones in this case, where the relief sought is remediation of discharge materials from illegal dredging activities. Surely, Congress would not have meant such an outcom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e Supreme Court interpreted CERCLA to limit contribution actions brought by private parties who undertake voluntary cleanups at contaminated sites.  Absent an action under the Comprehensive Environmental Response, Compensation, and Liability Act of 1980 (CERCLA) § 106 administrative abatement action or § 107(a) cost recovery action by the government, private parties who perform cleanup actions may not be able to bring § 113(f)(1) contribution claims against other PRPs for costs incurred at contaminated sites. The Court’s decision alters a nearly universal understanding about how CERCLA operates with respect to private party cost recovery ac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ennsylvania Municipal Authorities Association v. EPA, 2005 WL 2491482 (D.C. Circuit 2005)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June 3, 2005 the D.C. Circuit upheld the November 2003 decision of the U.S. District Court for the District of Columbia that the anti-blending policies of EPA Regions 3, 4 and 6 are not “final agency actions” reviewable in court. The court held that the Regions’ policies must culminate in the </a:t>
            </a:r>
            <a:r>
              <a:rPr b="0" i="1" lang="en-US" sz="2000" spc="-1" strike="noStrike">
                <a:solidFill>
                  <a:srgbClr val="ffffff"/>
                </a:solidFill>
                <a:latin typeface="Arial"/>
              </a:rPr>
              <a:t>denial</a:t>
            </a:r>
            <a:r>
              <a:rPr b="0" lang="en-US" sz="2000" spc="-1" strike="noStrike">
                <a:solidFill>
                  <a:srgbClr val="ffffff"/>
                </a:solidFill>
                <a:latin typeface="Arial"/>
              </a:rPr>
              <a:t> of a National Pollutant Discharge Elimination System (NPDES) permit to rise to the level of court reviewable “final agency action.”   The D.C. Circuit denied a rehearing request on September 19, 200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A separately announced in May 2005 that it was not going to pursue the proposed blending policy and would look elsewhere within the NPDES program to address the issu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e3e3ff"/>
                </a:solidFill>
                <a:latin typeface="Arial"/>
              </a:rPr>
              <a:t>Rosemere Neighborhood Association v. City of Vancouver, Case No. C04-5667 (W.D. WA October 18, 2005)</a:t>
            </a:r>
            <a:r>
              <a:rPr b="0" lang="en-US" sz="4000" spc="-1" strike="noStrike">
                <a:solidFill>
                  <a:srgbClr val="e3e3ff"/>
                </a:solidFill>
                <a:latin typeface="Arial"/>
              </a:rPr>
              <a:t> </a:t>
            </a:r>
            <a:br>
              <a:rPr sz="32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the City of Vancouver had applied for its MS4 Storm Water Permit and will continue to discharge storm water until its Phase II Storm Water Permit is issue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held that the City’s continuing discharge of storm water without its Phase II Storm Water Permit was not a violation of the CW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urt held that the City’s discharge was regulated storm water even though it is composed of storm water that picks up pollutants, as long as those pollutants are not separately added to the system by the Cit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long as the City properly applied under the Phase II rules, it is in compliance with the CWA until such time as the permit is issu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rthern California Riverwatch v. Mercer Fraser, 2005 WL 2122052 (N.D. Cal. 2005)</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tember 1, 2005 decision where Defendant processes aggregate in support of asphalt and concrete produ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held, relying on Healdsburg (same plaintiff as here) and two other District Court cases, that settling basins used for wastewater treatment that seep into groundwater and then into undisputed waters of the US are subject to NPDES permit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 also relied on Leslie Salt v. US, 896 F.2d 354 (9</a:t>
            </a:r>
            <a:r>
              <a:rPr b="0" lang="en-US" sz="2000" spc="-1" strike="noStrike" baseline="30000">
                <a:solidFill>
                  <a:srgbClr val="ffffff"/>
                </a:solidFill>
                <a:latin typeface="Arial"/>
              </a:rPr>
              <a:t>th</a:t>
            </a:r>
            <a:r>
              <a:rPr b="0" lang="en-US" sz="2000" spc="-1" strike="noStrike">
                <a:solidFill>
                  <a:srgbClr val="ffffff"/>
                </a:solidFill>
                <a:latin typeface="Arial"/>
              </a:rPr>
              <a:t> Cir. 1990) for premise that the ponds are waters in commercial use subject to the commerce clau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lement conference set for November 17, 2005 the day after the Healdsburg oral argument in the 9</a:t>
            </a:r>
            <a:r>
              <a:rPr b="0" lang="en-US" sz="2000" spc="-1" strike="noStrike" baseline="30000">
                <a:solidFill>
                  <a:srgbClr val="ffffff"/>
                </a:solidFill>
                <a:latin typeface="Arial"/>
              </a:rPr>
              <a:t>th</a:t>
            </a:r>
            <a:r>
              <a:rPr b="0" lang="en-US" sz="2000" spc="-1" strike="noStrike">
                <a:solidFill>
                  <a:srgbClr val="ffffff"/>
                </a:solidFill>
                <a:latin typeface="Arial"/>
              </a:rPr>
              <a:t> Circui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e3e3ff"/>
                </a:solidFill>
                <a:latin typeface="Arial"/>
              </a:rPr>
              <a:t>Friends of Milwaukee's Rivers v. Milwaukee Metro Sewerage District, 382 F.3d 743 (7</a:t>
            </a:r>
            <a:r>
              <a:rPr b="0" lang="en-US" sz="3600" spc="-1" strike="noStrike" baseline="30000">
                <a:solidFill>
                  <a:srgbClr val="e3e3ff"/>
                </a:solidFill>
                <a:latin typeface="Arial"/>
              </a:rPr>
              <a:t>th</a:t>
            </a:r>
            <a:r>
              <a:rPr b="0" lang="en-US" sz="3600" spc="-1" strike="noStrike">
                <a:solidFill>
                  <a:srgbClr val="e3e3ff"/>
                </a:solidFill>
                <a:latin typeface="Arial"/>
              </a:rPr>
              <a:t> Cir. 2004)</a:t>
            </a:r>
            <a:br>
              <a:rPr sz="3600"/>
            </a:br>
            <a:endParaRPr b="0" lang="en-US" sz="36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venth Circuit allowed a citizen suit to proceed in federal court although MMSD had lodged in state court a stipulation with Wisconsin to remedy the SSOs at issue. The decision allows citizen groups to second guess – in federal court – remedial measures carefully negotiated by cities with their states, and has the potential to discourage settlement discussions with state regulatory agenci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WA’s motion to file an amicus brief in the Supreme was granted, but cert. was denied March 7, 20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Edison Electric Institute v. EPA, 391 F.3d 1267 (D.C. Cir. 2004) </a:t>
            </a:r>
            <a:br>
              <a:rPr sz="4000"/>
            </a:b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ember 10, 2004 U.S. Court of Appeals for the District of Columbia Circuit decision upheld EPA’s chronic whole effluent toxicity (WET) test methods.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est for rehearing was denied on April 14, 2005.</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CWA and other members of the municipal coalition will not participate in the rehearing in. Rather, NACWA is directing efforts towards reviewing and commenting on EPA’s December 29, 2004 draft WET implementation guid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3e3ff"/>
                </a:solidFill>
                <a:latin typeface="Arial"/>
              </a:rPr>
              <a:t>American Canoe Association v. D.C. Water and Sewer Authority , 306 F. Supp. 2d 30 (D. D.C. 2004) </a:t>
            </a:r>
            <a:br>
              <a:rPr sz="3200"/>
            </a:br>
            <a:endParaRPr b="0" lang="en-US" sz="32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ean Water Act’s citizen suit provisions cannot be used to enforce complaints about odor, noise, or other non-water issues through the maintenance requirements in an NPDES permi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ushes these non-water pollution into being brought as state law nuisance claims and not as CWA citizen suit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bsequent appeal was later dismissed at ACA’s requ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exas Independent Producers and Royalty Owners Assn., et al. v. EPA</a:t>
            </a:r>
            <a:r>
              <a:rPr b="0" lang="en-US" sz="3600" spc="-1" strike="noStrike">
                <a:solidFill>
                  <a:srgbClr val="e3e3ff"/>
                </a:solidFill>
                <a:latin typeface="Arial"/>
                <a:ea typeface="ＭＳ Ｐゴシック"/>
              </a:rPr>
              <a:t>, 410 F.3d 964 (7</a:t>
            </a:r>
            <a:r>
              <a:rPr b="0" lang="en-US" sz="3600" spc="-1" strike="noStrike" baseline="30000">
                <a:solidFill>
                  <a:srgbClr val="e3e3ff"/>
                </a:solidFill>
                <a:latin typeface="Arial"/>
                <a:ea typeface="ＭＳ Ｐゴシック"/>
              </a:rPr>
              <a:t>th</a:t>
            </a:r>
            <a:r>
              <a:rPr b="0" lang="en-US" sz="3600" spc="-1" strike="noStrike">
                <a:solidFill>
                  <a:srgbClr val="e3e3ff"/>
                </a:solidFill>
                <a:latin typeface="Arial"/>
                <a:ea typeface="ＭＳ Ｐゴシック"/>
              </a:rPr>
              <a:t> Cir. 2005)</a:t>
            </a:r>
            <a:endParaRPr b="0" lang="en-US" sz="36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The Court held that the General Permit for Storm Water from Construction Activities does not violate the Clean Water Act's requirements for public notice and public hearing.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etitioner Natural Resources Defense Council lacked standing to challenge other aspects of the General Permit and the remainder of the petition was dismisse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said “</a:t>
            </a:r>
            <a:r>
              <a:rPr b="0" lang="en-US" sz="2000" spc="-1" strike="noStrike">
                <a:solidFill>
                  <a:srgbClr val="ffffff"/>
                </a:solidFill>
                <a:latin typeface="Arial"/>
                <a:ea typeface="ＭＳ Ｐゴシック"/>
              </a:rPr>
              <a:t>NRDC must show that the discharge caused the complained-of legally cognizable aesthetic or recreational injury.  Establishing a discharge does not also establish an injury.”  And “It would be illogical to hold that a petitioner has standing to challenge a General Permit </a:t>
            </a:r>
            <a:r>
              <a:rPr b="0" i="1" lang="en-US" sz="2000" spc="-1" strike="noStrike">
                <a:solidFill>
                  <a:srgbClr val="ffffff"/>
                </a:solidFill>
                <a:latin typeface="Arial"/>
                <a:ea typeface="ＭＳ Ｐゴシック"/>
              </a:rPr>
              <a:t>scheme</a:t>
            </a:r>
            <a:r>
              <a:rPr b="0" lang="en-US" sz="2000" spc="-1" strike="noStrike">
                <a:solidFill>
                  <a:srgbClr val="ffffff"/>
                </a:solidFill>
                <a:latin typeface="Arial"/>
                <a:ea typeface="ＭＳ Ｐゴシック"/>
              </a:rPr>
              <a:t> because a discharger </a:t>
            </a:r>
            <a:r>
              <a:rPr b="0" i="1" lang="en-US" sz="2000" spc="-1" strike="noStrike">
                <a:solidFill>
                  <a:srgbClr val="ffffff"/>
                </a:solidFill>
                <a:latin typeface="Arial"/>
                <a:ea typeface="ＭＳ Ｐゴシック"/>
              </a:rPr>
              <a:t>may</a:t>
            </a:r>
            <a:r>
              <a:rPr b="0" lang="en-US" sz="2000" spc="-1" strike="noStrike">
                <a:solidFill>
                  <a:srgbClr val="ffffff"/>
                </a:solidFill>
                <a:latin typeface="Arial"/>
                <a:ea typeface="ＭＳ Ｐゴシック"/>
              </a:rPr>
              <a:t> in the future violate the terms of the permit, where the Supreme Court has held that a citizen lacks standing to sue for </a:t>
            </a:r>
            <a:r>
              <a:rPr b="0" i="1" lang="en-US" sz="2000" spc="-1" strike="noStrike">
                <a:solidFill>
                  <a:srgbClr val="ffffff"/>
                </a:solidFill>
                <a:latin typeface="Arial"/>
                <a:ea typeface="ＭＳ Ｐゴシック"/>
              </a:rPr>
              <a:t>actual</a:t>
            </a:r>
            <a:r>
              <a:rPr b="0" lang="en-US" sz="2000" spc="-1" strike="noStrike">
                <a:solidFill>
                  <a:srgbClr val="ffffff"/>
                </a:solidFill>
                <a:latin typeface="Arial"/>
                <a:ea typeface="ＭＳ Ｐゴシック"/>
              </a:rPr>
              <a:t> violations of a permit where the discharger corrects the violation within the sixty-day notice peri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exas Independent Producers and Royalty Owners Assn., et al. v. EPA</a:t>
            </a:r>
            <a:r>
              <a:rPr b="0" lang="en-US" sz="3600" spc="-1" strike="noStrike">
                <a:solidFill>
                  <a:srgbClr val="e3e3ff"/>
                </a:solidFill>
                <a:latin typeface="Arial"/>
                <a:ea typeface="ＭＳ Ｐゴシック"/>
              </a:rPr>
              <a:t>, 410 F.3d 964 (7</a:t>
            </a:r>
            <a:r>
              <a:rPr b="0" lang="en-US" sz="3600" spc="-1" strike="noStrike" baseline="30000">
                <a:solidFill>
                  <a:srgbClr val="e3e3ff"/>
                </a:solidFill>
                <a:latin typeface="Arial"/>
                <a:ea typeface="ＭＳ Ｐゴシック"/>
              </a:rPr>
              <a:t>th</a:t>
            </a:r>
            <a:r>
              <a:rPr b="0" lang="en-US" sz="3600" spc="-1" strike="noStrike">
                <a:solidFill>
                  <a:srgbClr val="e3e3ff"/>
                </a:solidFill>
                <a:latin typeface="Arial"/>
                <a:ea typeface="ＭＳ Ｐゴシック"/>
              </a:rPr>
              <a:t> Cir. 2005)</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In issuing the General Permit, EPA complied with the requirements of the Endangered Species Act, because EPA had consulted with USFWS on the issuance of the General Permit.  On the separate issue of the discharges under the permit the Court held that “A private actor, however, files an NOI and creates a SWPPP, and neither the filing of an NOI nor the creation of a SWPPP by a private contractor requires any federal action. Without a federal action, the consultation requirements of Section 7 are not triggered.”</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is decision contrasts with the 9</a:t>
            </a:r>
            <a:r>
              <a:rPr b="0" lang="en-US" sz="2400" spc="-1" strike="noStrike" baseline="30000">
                <a:solidFill>
                  <a:srgbClr val="ffffff"/>
                </a:solidFill>
                <a:latin typeface="Arial"/>
                <a:ea typeface="ＭＳ Ｐゴシック"/>
              </a:rPr>
              <a:t>th</a:t>
            </a:r>
            <a:r>
              <a:rPr b="0" lang="en-US" sz="2400" spc="-1" strike="noStrike">
                <a:solidFill>
                  <a:srgbClr val="ffffff"/>
                </a:solidFill>
                <a:latin typeface="Arial"/>
                <a:ea typeface="ＭＳ Ｐゴシック"/>
              </a:rPr>
              <a:t> Circuit in Defen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e3e3ff"/>
                </a:solidFill>
                <a:latin typeface="Arial"/>
              </a:rPr>
              <a:t>Section 404 Permits</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ational Association of Homebuilders v. U.S. Army Corps of Engineers, 417 F. 3d 1272 D.C. Cir. 2005</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C. Circuit reversed the D.C. District Court and allowed the NAHB and other trade associations to challenge the certain Corps nationwide permits and held that the decisions on the nationwide permits were final action subject to judicial review.  The concern had been that the Corps decision to funnel more activities toward individual permits would cost money and ti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found that the trade associations could obtain judicial review of their claims against the Corps under the Regulatory Flexibility Ac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did find that the trade associations lacked standing to pursue their NEPA claims against the Corps because their allegation of injury to monetary interests alone were not sufficient to support stand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oper contaminated several Texas properties with petroleum and other hazardous substances.   In 1981, Aviall purchased Cooper’s maintenance business, along with the contaminated properties.  In 1984 Aviall “voluntarily” initiated a cleanup of the contaminated properties.  Aviall ultimately sold the properties, but retained contractual responsibility for the cleanup.  The Supreme Court ruled that Aviall could not seek contribution from Cooper under § 113(f)(1) for costs incurred in cleaning the contaminated sites because Aviall was not the subject of a prior or pending § 106 or § 107 action brought by the government.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viall </a:t>
            </a:r>
            <a:r>
              <a:rPr b="0" lang="en-US" sz="1800" spc="-1" strike="noStrike">
                <a:solidFill>
                  <a:srgbClr val="ffffff"/>
                </a:solidFill>
                <a:latin typeface="Arial"/>
              </a:rPr>
              <a:t>significantly alters the nearly universal prior understanding about how CERCLA operates with respect to private party cost recovery actions. Prior to the Aviall decision, most federal courts agreed that private parties who voluntarily clean up contaminated sites are entitled to bring contribution suits under § 113(f)(1) against other PRPs to recover their response costs. Although parties may still have a cause of action under state law for voluntary cleanups, the Supreme Court’s decision discourages voluntary cleanups under CERCLA.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ational Association of Homebuilders v. U.S. Army Corps of Engineers, 417 F. 3d 1272 D.C. Cir. 2005</a:t>
            </a:r>
            <a:endParaRPr b="0" lang="en-US" sz="36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lated case </a:t>
            </a:r>
            <a:r>
              <a:rPr b="0" i="1" lang="en-US" sz="2800" spc="-1" strike="noStrike">
                <a:solidFill>
                  <a:srgbClr val="ffffff"/>
                </a:solidFill>
                <a:latin typeface="Arial"/>
              </a:rPr>
              <a:t>NAHB v. Corps</a:t>
            </a:r>
            <a:r>
              <a:rPr b="0" lang="en-US" sz="2800" spc="-1" strike="noStrike">
                <a:solidFill>
                  <a:srgbClr val="ffffff"/>
                </a:solidFill>
                <a:latin typeface="Arial"/>
              </a:rPr>
              <a:t>, 311 F. Supp. 2d 91 (D. D.C. 2004) in which oral argument took place on October 14, 2005 in the D.C. Court of Appeals could be affected by the above NAHB decision.  In this case D.C. District Court had found that the so-called “Tulloch Rule” in defining what is a “discharge of dredged material” was not final reviewable action until applied in a concrete permitting setti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e3e3ff"/>
                </a:solidFill>
                <a:latin typeface="Arial"/>
              </a:rPr>
              <a:t>EPA Regulatio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r Children’s Earth Foundation v. EPA, No. C 04-2132 PJH (N.D. Cal. May 20, 2005)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 case where NACWA was an intervenor, the court found that EPA met all the requirements for the annual effluent limitations guidelines (ELG) review, the ELG biennial report, and five-year ELG reviews, and that EPA has broad discretion in how it conducts these reviews. The court also held that the CWA does not require EPA to perform a technical review of all 450 categories and subcategories of ELGs in its biennial report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is required to establish a schedule for its annual review, to identify new categories, and to propose schedules for new rule development.  The decision was appealed to the 9</a:t>
            </a:r>
            <a:r>
              <a:rPr b="0" lang="en-US" sz="2400" spc="-1" strike="noStrike" baseline="30000">
                <a:solidFill>
                  <a:srgbClr val="ffffff"/>
                </a:solidFill>
                <a:latin typeface="Arial"/>
              </a:rPr>
              <a:t>th</a:t>
            </a:r>
            <a:r>
              <a:rPr b="0" lang="en-US" sz="2400" spc="-1" strike="noStrike">
                <a:solidFill>
                  <a:srgbClr val="ffffff"/>
                </a:solidFill>
                <a:latin typeface="Arial"/>
              </a:rPr>
              <a:t> Circuit.  NACWA’s brief was filed on November 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ierra Club, Hawaii Chapter, et al. v. City of Honolulu, No. CV 04-00463  (Sept. 30, 2005)</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held that federal NPDES regulations allow Honolulu to operate under an expired permit, as long as a "timely, complete application is submitted and the reason for the delay in issuing the new permit does not lie with the permittee." See 40 CFR 122.6(a)(1)-(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terkeeper Alliance, Inc. v. EPA, 399 F. 3d 486 (2nd Cir. 2005) </a:t>
            </a:r>
            <a:endParaRPr b="0" lang="en-US" sz="40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cision reviewed various aspects of EPA’s concentrated animal feeding operations (CAFO) effluent guidelines regulations, both upholding some and rejecting others.   CAFOs are the nation’s largest animal feeding operations with some 238,000 of such operations in the U.S., the majority of which are subject to NPDES permits and effluent guidelin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se involved three categories of challenges to the: (1) permitting scheme; (2)  type of discharges subject to the rule; and (3) specific effluent guideli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aterkeeper Alliance, Inc. v. EPA, 399 F. 3d 486 (2nd Cir. 2005)</a:t>
            </a:r>
            <a:endParaRPr b="0" lang="en-US" sz="40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struck down the reliance on nutrient management plans required to be developed but which were not included in the permits and were thus never reviewed by EPA, the states or the public.  The court relied on </a:t>
            </a:r>
            <a:r>
              <a:rPr b="0" i="1" lang="en-US" sz="2000" spc="-1" strike="noStrike">
                <a:solidFill>
                  <a:srgbClr val="ffffff"/>
                </a:solidFill>
                <a:latin typeface="Arial"/>
              </a:rPr>
              <a:t>Environmental Defense Center, Inc. v. EPA</a:t>
            </a:r>
            <a:r>
              <a:rPr b="0" lang="en-US" sz="2000" spc="-1" strike="noStrike">
                <a:solidFill>
                  <a:srgbClr val="ffffff"/>
                </a:solidFill>
                <a:latin typeface="Arial"/>
              </a:rPr>
              <a:t>, 344 F.3d 832 (9th Cir. 2003, cert. denied, </a:t>
            </a:r>
            <a:r>
              <a:rPr b="0" i="1" lang="en-US" sz="2000" spc="-1" strike="noStrike">
                <a:solidFill>
                  <a:srgbClr val="ffffff"/>
                </a:solidFill>
                <a:latin typeface="Arial"/>
              </a:rPr>
              <a:t>Texas Cities Coalition on Storm Water v. EPA</a:t>
            </a:r>
            <a:r>
              <a:rPr b="0" lang="en-US" sz="2000" spc="-1" strike="noStrike">
                <a:solidFill>
                  <a:srgbClr val="ffffff"/>
                </a:solidFill>
                <a:latin typeface="Arial"/>
              </a:rPr>
              <a:t>, 541 U.S. 1085 (2004)).  In that case, the Ninth Circuit threw out EPA’s Phase II storm water rule because it did not require NPDES authorities to review the storm water management plans included with the municipal storm water permi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rt did uphold the exemption for “agricultural storm water” discharges as valid as long as the discharge was agricultural storm water from land controlled by the CAFO and where the animal waste had been properly applied to the land.  Where the storm water captured animal waste pollutants not properly applied those pollutants were not considered exempt from permitt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e3e3ff"/>
                </a:solidFill>
                <a:latin typeface="Arial"/>
              </a:rPr>
              <a:t>Waters of the U.S. </a:t>
            </a:r>
            <a:endParaRPr b="0" lang="en-US" sz="40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 v. Gerke Excavating, Inc., 412 F.3d 804 (7</a:t>
            </a:r>
            <a:r>
              <a:rPr b="0" lang="en-US" sz="4000" spc="-1" strike="noStrike" baseline="30000">
                <a:solidFill>
                  <a:srgbClr val="e3e3ff"/>
                </a:solidFill>
                <a:latin typeface="Arial"/>
              </a:rPr>
              <a:t>th</a:t>
            </a:r>
            <a:r>
              <a:rPr b="0" lang="en-US" sz="4000" spc="-1" strike="noStrike">
                <a:solidFill>
                  <a:srgbClr val="e3e3ff"/>
                </a:solidFill>
                <a:latin typeface="Arial"/>
              </a:rPr>
              <a:t> Cir. 2005)</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tlands drained by ditch that ran into non-navigable creek that ran into non-navigable river, which in turn ran into navigable river, were "waters of the United States," for purposes of CWA and thus needed a permit from the Army Corps of Engineer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ng </a:t>
            </a:r>
            <a:r>
              <a:rPr b="0" i="1" lang="en-US" sz="2000" spc="-1" strike="noStrike">
                <a:solidFill>
                  <a:srgbClr val="ffffff"/>
                </a:solidFill>
                <a:latin typeface="Arial"/>
              </a:rPr>
              <a:t>Rapanos</a:t>
            </a:r>
            <a:r>
              <a:rPr b="0" lang="en-US" sz="2000" spc="-1" strike="noStrike">
                <a:solidFill>
                  <a:srgbClr val="ffffff"/>
                </a:solidFill>
                <a:latin typeface="Arial"/>
              </a:rPr>
              <a:t> I and </a:t>
            </a:r>
            <a:r>
              <a:rPr b="0" i="1" lang="en-US" sz="2000" spc="-1" strike="noStrike">
                <a:solidFill>
                  <a:srgbClr val="ffffff"/>
                </a:solidFill>
                <a:latin typeface="Arial"/>
              </a:rPr>
              <a:t>Deaton</a:t>
            </a:r>
            <a:r>
              <a:rPr b="0" lang="en-US" sz="2000" spc="-1" strike="noStrike">
                <a:solidFill>
                  <a:srgbClr val="ffffff"/>
                </a:solidFill>
                <a:latin typeface="Arial"/>
              </a:rPr>
              <a:t>, the court found that “Nothing in the Constitution forbids interpreting the Clean Water Act to cover any wetlands that are connected to navigable waters.  Whether the wetlands are 100 miles from a navigable waterway or 6 feet, if water from the wetlands enters a stream that flows into the navigable waterway, the wetlands are ‘waters of the United States’ within the meaning of the Ac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inion mixes CWA statutory and commerce clause together support for its conclusion, which is rare since SWANC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ea typeface="ＭＳ Ｐゴシック"/>
              </a:rPr>
              <a:t>Baccarat Fremont Developers, LLC v. U.S. Army Corps of Engineers</a:t>
            </a:r>
            <a:br>
              <a:rPr sz="4000"/>
            </a:br>
            <a:r>
              <a:rPr b="0" lang="en-US" sz="4000" spc="-1" strike="noStrike">
                <a:solidFill>
                  <a:srgbClr val="e3e3ff"/>
                </a:solidFill>
                <a:latin typeface="Arial"/>
                <a:ea typeface="ＭＳ Ｐゴシック"/>
              </a:rPr>
              <a:t>2005 WL 2592699 (9th Cir. 2005) </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urt found that a significant hydrological or ecological connection is not required to support the Corps' jurisdiction over particular adjacent wetlands under the CWA.  “We hold that no such connection is required, and that the district court appropriately granted the Corps' motion for summary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ea typeface="ＭＳ Ｐゴシック"/>
              </a:rPr>
              <a:t>Baccarat Fremont Developers, LLC v. U.S. Army Corps of Engineers</a:t>
            </a:r>
            <a:br>
              <a:rPr sz="4000"/>
            </a:br>
            <a:r>
              <a:rPr b="0" lang="en-US" sz="4000" spc="-1" strike="noStrike">
                <a:solidFill>
                  <a:srgbClr val="e3e3ff"/>
                </a:solidFill>
                <a:latin typeface="Arial"/>
                <a:ea typeface="ＭＳ Ｐゴシック"/>
              </a:rPr>
              <a:t>2005 WL 2592699 (9th Cir. 2005)</a:t>
            </a:r>
            <a:endParaRPr b="0" lang="en-US" sz="40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light of the recent decision by the Supreme Court to grant cert. in </a:t>
            </a:r>
            <a:r>
              <a:rPr b="0" i="1" lang="en-US" sz="1600" spc="-1" strike="noStrike">
                <a:solidFill>
                  <a:srgbClr val="ffffff"/>
                </a:solidFill>
                <a:latin typeface="Arial"/>
              </a:rPr>
              <a:t>Carabell</a:t>
            </a:r>
            <a:r>
              <a:rPr b="0" lang="en-US" sz="1600" spc="-1" strike="noStrike">
                <a:solidFill>
                  <a:srgbClr val="ffffff"/>
                </a:solidFill>
                <a:latin typeface="Arial"/>
              </a:rPr>
              <a:t>, the following quote from this case may be revisited: “</a:t>
            </a:r>
            <a:r>
              <a:rPr b="0" lang="en-US" sz="1600" spc="-1" strike="noStrike">
                <a:solidFill>
                  <a:srgbClr val="ffffff"/>
                </a:solidFill>
                <a:latin typeface="Arial"/>
                <a:ea typeface="ＭＳ Ｐゴシック"/>
              </a:rPr>
              <a:t>In so holding, we join the Sixth Circuit in rejecting the idea that </a:t>
            </a:r>
            <a:r>
              <a:rPr b="0" lang="en-US" sz="1600" spc="-1" strike="noStrike" u="sng">
                <a:solidFill>
                  <a:srgbClr val="00ffcc"/>
                </a:solidFill>
                <a:uFillTx/>
                <a:latin typeface="Arial"/>
                <a:ea typeface="ＭＳ Ｐゴシック"/>
                <a:hlinkClick r:id="rId1"/>
              </a:rPr>
              <a:t>SWANCC</a:t>
            </a:r>
            <a:r>
              <a:rPr b="0" lang="en-US" sz="1600" spc="-1" strike="noStrike">
                <a:solidFill>
                  <a:srgbClr val="ffffff"/>
                </a:solidFill>
                <a:latin typeface="Arial"/>
                <a:ea typeface="ＭＳ Ｐゴシック"/>
              </a:rPr>
              <a:t> modified the holding of </a:t>
            </a:r>
            <a:r>
              <a:rPr b="0" lang="en-US" sz="1600" spc="-1" strike="noStrike" u="sng">
                <a:solidFill>
                  <a:srgbClr val="00ffcc"/>
                </a:solidFill>
                <a:uFillTx/>
                <a:latin typeface="Arial"/>
                <a:ea typeface="ＭＳ Ｐゴシック"/>
                <a:hlinkClick r:id="rId2"/>
              </a:rPr>
              <a:t>Riverside Bayview Homes.</a:t>
            </a:r>
            <a:r>
              <a:rPr b="0" i="1" lang="en-US" sz="1600" spc="-1" strike="noStrike">
                <a:solidFill>
                  <a:srgbClr val="ffffff"/>
                </a:solidFill>
                <a:latin typeface="Arial"/>
                <a:ea typeface="ＭＳ Ｐゴシック"/>
              </a:rPr>
              <a:t> See </a:t>
            </a:r>
            <a:r>
              <a:rPr b="0" lang="en-US" sz="1600" spc="-1" strike="noStrike" u="sng">
                <a:solidFill>
                  <a:srgbClr val="00ffcc"/>
                </a:solidFill>
                <a:uFillTx/>
                <a:latin typeface="Arial"/>
                <a:ea typeface="ＭＳ Ｐゴシック"/>
                <a:hlinkClick r:id="rId3"/>
              </a:rPr>
              <a:t>Carabell v. U.S. Army Corps of Engineers,</a:t>
            </a:r>
            <a:r>
              <a:rPr b="0" lang="en-US" sz="1600" spc="-1" strike="noStrike" u="sng">
                <a:solidFill>
                  <a:srgbClr val="00ffcc"/>
                </a:solidFill>
                <a:uFillTx/>
                <a:latin typeface="Arial"/>
                <a:ea typeface="ＭＳ Ｐゴシック"/>
                <a:hlinkClick r:id="rId4"/>
              </a:rPr>
              <a:t> 391 F.3d 704 (6th </a:t>
            </a:r>
            <a:r>
              <a:rPr b="0" lang="en-US" sz="1600" spc="-1" strike="noStrike" u="sng">
                <a:solidFill>
                  <a:srgbClr val="00ffcc"/>
                </a:solidFill>
                <a:uFillTx/>
                <a:latin typeface="Arial"/>
                <a:ea typeface="ＭＳ Ｐゴシック"/>
                <a:hlinkClick r:id="rId5"/>
              </a:rPr>
              <a:t>Cir.2004</a:t>
            </a:r>
            <a:r>
              <a:rPr b="0" lang="en-US" sz="1600" spc="-1" strike="noStrike" u="sng">
                <a:solidFill>
                  <a:srgbClr val="00ffcc"/>
                </a:solidFill>
                <a:uFillTx/>
                <a:latin typeface="Arial"/>
                <a:ea typeface="ＭＳ Ｐゴシック"/>
                <a:hlinkClick r:id="rId6"/>
              </a:rPr>
              <a:t>)</a:t>
            </a:r>
            <a:r>
              <a:rPr b="0" lang="en-US" sz="1600" spc="-1" strike="noStrike">
                <a:solidFill>
                  <a:srgbClr val="ffffff"/>
                </a:solidFill>
                <a:latin typeface="Arial"/>
                <a:ea typeface="ＭＳ Ｐゴシック"/>
              </a:rPr>
              <a:t> </a:t>
            </a:r>
            <a:r>
              <a:rPr b="0" i="1" lang="en-US" sz="1600" spc="-1" strike="noStrike">
                <a:solidFill>
                  <a:srgbClr val="ffffff"/>
                </a:solidFill>
                <a:latin typeface="Arial"/>
                <a:ea typeface="ＭＳ Ｐゴシック"/>
              </a:rPr>
              <a:t>cert. granted,</a:t>
            </a:r>
            <a:r>
              <a:rPr b="0" lang="en-US" sz="1600" spc="-1" strike="noStrike">
                <a:solidFill>
                  <a:srgbClr val="ffffff"/>
                </a:solidFill>
                <a:latin typeface="Arial"/>
                <a:ea typeface="ＭＳ Ｐゴシック"/>
              </a:rPr>
              <a:t> 73 U.S.L.W. 3632 (U.S. Oct. 11, 2005)(No. 04-1384). The facts in </a:t>
            </a:r>
            <a:r>
              <a:rPr b="0" lang="en-US" sz="1600" spc="-1" strike="noStrike" u="sng">
                <a:solidFill>
                  <a:srgbClr val="00ffcc"/>
                </a:solidFill>
                <a:uFillTx/>
                <a:latin typeface="Arial"/>
                <a:ea typeface="ＭＳ Ｐゴシック"/>
                <a:hlinkClick r:id="rId7"/>
              </a:rPr>
              <a:t>Carabell</a:t>
            </a:r>
            <a:r>
              <a:rPr b="0" lang="en-US" sz="1600" spc="-1" strike="noStrike">
                <a:solidFill>
                  <a:srgbClr val="ffffff"/>
                </a:solidFill>
                <a:latin typeface="Arial"/>
                <a:ea typeface="ＭＳ Ｐゴシック"/>
              </a:rPr>
              <a:t> are remarkably similar to the facts here. The Carabells sought permission to fill 15.9 acres of wetland. The Corps declined to issue a permit. The Carabells then brought suit in federal court, arguing that the Corps lacked jurisdiction over the wetlands. The Sixth Circuit concluded that because the wetlands on the Carabells' property are separated from a tributary of "waters of the United States" only by a man-made berm or barrier, they are considered "adjacent wetlands" under </a:t>
            </a:r>
            <a:r>
              <a:rPr b="0" lang="en-US" sz="1600" spc="-1" strike="noStrike" u="sng">
                <a:solidFill>
                  <a:srgbClr val="00ffcc"/>
                </a:solidFill>
                <a:uFillTx/>
                <a:latin typeface="Arial"/>
                <a:ea typeface="ＭＳ Ｐゴシック"/>
                <a:hlinkClick r:id="rId8"/>
              </a:rPr>
              <a:t>§ 328.3(a)(7)</a:t>
            </a:r>
            <a:r>
              <a:rPr b="0" lang="en-US" sz="1600" spc="-1" strike="noStrike">
                <a:solidFill>
                  <a:srgbClr val="ffffff"/>
                </a:solidFill>
                <a:latin typeface="Arial"/>
                <a:ea typeface="ＭＳ Ｐゴシック"/>
              </a:rPr>
              <a:t>.   As such, the wetlands at issue fall within the jurisdiction of the Corps for purposes of the CWA. </a:t>
            </a:r>
            <a:r>
              <a:rPr b="0" lang="en-US" sz="1600" spc="-1" strike="noStrike" u="sng">
                <a:solidFill>
                  <a:srgbClr val="00ffcc"/>
                </a:solidFill>
                <a:uFillTx/>
                <a:latin typeface="Arial"/>
                <a:ea typeface="ＭＳ Ｐゴシック"/>
                <a:hlinkClick r:id="rId9"/>
              </a:rPr>
              <a:t>Id.</a:t>
            </a:r>
            <a:r>
              <a:rPr b="0" lang="en-US" sz="1600" spc="-1" strike="noStrike" u="sng">
                <a:solidFill>
                  <a:srgbClr val="00ffcc"/>
                </a:solidFill>
                <a:uFillTx/>
                <a:latin typeface="Arial"/>
                <a:ea typeface="ＭＳ Ｐゴシック"/>
                <a:hlinkClick r:id="rId10"/>
              </a:rPr>
              <a:t> at 708-09.</a:t>
            </a:r>
            <a:r>
              <a:rPr b="0" lang="en-US" sz="1600" spc="-1" strike="noStrike">
                <a:solidFill>
                  <a:srgbClr val="ffffff"/>
                </a:solidFill>
                <a:latin typeface="Arial"/>
                <a:ea typeface="ＭＳ Ｐゴシック"/>
              </a:rPr>
              <a:t>  Like Baccarat, the Carabells argued that </a:t>
            </a:r>
            <a:r>
              <a:rPr b="0" lang="en-US" sz="1600" spc="-1" strike="noStrike" u="sng">
                <a:solidFill>
                  <a:srgbClr val="00ffcc"/>
                </a:solidFill>
                <a:uFillTx/>
                <a:latin typeface="Arial"/>
                <a:ea typeface="ＭＳ Ｐゴシック"/>
                <a:hlinkClick r:id="rId11"/>
              </a:rPr>
              <a:t>SWANCC</a:t>
            </a:r>
            <a:r>
              <a:rPr b="0" lang="en-US" sz="1600" spc="-1" strike="noStrike">
                <a:solidFill>
                  <a:srgbClr val="ffffff"/>
                </a:solidFill>
                <a:latin typeface="Arial"/>
                <a:ea typeface="ＭＳ Ｐゴシック"/>
              </a:rPr>
              <a:t> modified </a:t>
            </a:r>
            <a:r>
              <a:rPr b="0" lang="en-US" sz="1600" spc="-1" strike="noStrike" u="sng">
                <a:solidFill>
                  <a:srgbClr val="00ffcc"/>
                </a:solidFill>
                <a:uFillTx/>
                <a:latin typeface="Arial"/>
                <a:ea typeface="ＭＳ Ｐゴシック"/>
                <a:hlinkClick r:id="rId12"/>
              </a:rPr>
              <a:t>Riverside Bayview Homes</a:t>
            </a:r>
            <a:r>
              <a:rPr b="0" lang="en-US" sz="1600" spc="-1" strike="noStrike">
                <a:solidFill>
                  <a:srgbClr val="ffffff"/>
                </a:solidFill>
                <a:latin typeface="Arial"/>
                <a:ea typeface="ＭＳ Ｐゴシック"/>
              </a:rPr>
              <a:t> and limited the Corps' jurisdiction over adjacent wetlands. The Sixth Circuit emphatically rejected the argument: In </a:t>
            </a:r>
            <a:r>
              <a:rPr b="0" lang="en-US" sz="1600" spc="-1" strike="noStrike" u="sng">
                <a:solidFill>
                  <a:srgbClr val="00ffcc"/>
                </a:solidFill>
                <a:uFillTx/>
                <a:latin typeface="Arial"/>
                <a:ea typeface="ＭＳ Ｐゴシック"/>
                <a:hlinkClick r:id="rId13"/>
              </a:rPr>
              <a:t>SWANCC</a:t>
            </a:r>
            <a:r>
              <a:rPr b="0" lang="en-US" sz="1600" spc="-1" strike="noStrike">
                <a:solidFill>
                  <a:srgbClr val="ffffff"/>
                </a:solidFill>
                <a:latin typeface="Arial"/>
                <a:ea typeface="ＭＳ Ｐゴシック"/>
              </a:rPr>
              <a:t> ... the Court did not alter the </a:t>
            </a:r>
            <a:r>
              <a:rPr b="0" lang="en-US" sz="1600" spc="-1" strike="noStrike" u="sng">
                <a:solidFill>
                  <a:srgbClr val="00ffcc"/>
                </a:solidFill>
                <a:uFillTx/>
                <a:latin typeface="Arial"/>
                <a:ea typeface="ＭＳ Ｐゴシック"/>
                <a:hlinkClick r:id="rId14"/>
              </a:rPr>
              <a:t>Riverside Bayview</a:t>
            </a:r>
            <a:r>
              <a:rPr b="0" lang="en-US" sz="1600" spc="-1" strike="noStrike">
                <a:solidFill>
                  <a:srgbClr val="ffffff"/>
                </a:solidFill>
                <a:latin typeface="Arial"/>
                <a:ea typeface="ＭＳ Ｐゴシック"/>
              </a:rPr>
              <a:t> holding. Indeed, while noting Congress's "unequivocal acquiescence to, and approval of, the Corps' regulations interpreting the CWA to cover wetlands adjacent to navigable waters," the </a:t>
            </a:r>
            <a:r>
              <a:rPr b="0" lang="en-US" sz="1600" spc="-1" strike="noStrike" u="sng">
                <a:solidFill>
                  <a:srgbClr val="00ffcc"/>
                </a:solidFill>
                <a:uFillTx/>
                <a:latin typeface="Arial"/>
                <a:ea typeface="ＭＳ Ｐゴシック"/>
                <a:hlinkClick r:id="rId15"/>
              </a:rPr>
              <a:t>SWANCC</a:t>
            </a:r>
            <a:r>
              <a:rPr b="0" lang="en-US" sz="1600" spc="-1" strike="noStrike">
                <a:solidFill>
                  <a:srgbClr val="ffffff"/>
                </a:solidFill>
                <a:latin typeface="Arial"/>
                <a:ea typeface="ＭＳ Ｐゴシック"/>
              </a:rPr>
              <a:t> Court did not decide any issue with regard to "adjacent wetlands" under </a:t>
            </a:r>
            <a:r>
              <a:rPr b="0" lang="en-US" sz="1600" spc="-1" strike="noStrike" u="sng">
                <a:solidFill>
                  <a:srgbClr val="00ffcc"/>
                </a:solidFill>
                <a:uFillTx/>
                <a:latin typeface="Arial"/>
                <a:ea typeface="ＭＳ Ｐゴシック"/>
                <a:hlinkClick r:id="rId16"/>
              </a:rPr>
              <a:t>33 C.F.R. § 328.3(a)(7)</a:t>
            </a:r>
            <a:r>
              <a:rPr b="0" lang="en-US" sz="1600" spc="-1" strike="noStrike">
                <a:solidFill>
                  <a:srgbClr val="ffffff"/>
                </a:solidFill>
                <a:latin typeface="Arial"/>
                <a:ea typeface="ＭＳ Ｐゴシック"/>
              </a:rPr>
              <a:t>.  </a:t>
            </a:r>
            <a:r>
              <a:rPr b="0" lang="en-US" sz="1600" spc="-1" strike="noStrike" u="sng">
                <a:solidFill>
                  <a:srgbClr val="00ffcc"/>
                </a:solidFill>
                <a:uFillTx/>
                <a:latin typeface="Arial"/>
                <a:ea typeface="ＭＳ Ｐゴシック"/>
                <a:hlinkClick r:id="rId17"/>
              </a:rPr>
              <a:t>391 F.3d at 709</a:t>
            </a:r>
            <a:r>
              <a:rPr b="0" lang="en-US" sz="1600" spc="-1" strike="noStrike">
                <a:solidFill>
                  <a:srgbClr val="ffffff"/>
                </a:solidFill>
                <a:latin typeface="Arial"/>
                <a:ea typeface="ＭＳ Ｐゴシック"/>
              </a:rPr>
              <a:t> (citation omitte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Cooper Industries, Inc. v. Aviall Services, Inc.</a:t>
            </a:r>
            <a:r>
              <a:rPr b="0" lang="en-US" sz="4000" spc="-1" strike="noStrike">
                <a:solidFill>
                  <a:srgbClr val="e3e3ff"/>
                </a:solidFill>
                <a:latin typeface="Arial"/>
              </a:rPr>
              <a:t>, 543 U.S. 157 (2004)</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ts have gone both ways since Aviall on the ability of a PRP, following a voluntary cleanup, to sue under Section 107. In </a:t>
            </a:r>
            <a:r>
              <a:rPr b="0" i="1" lang="en-US" sz="2000" spc="-1" strike="noStrike">
                <a:solidFill>
                  <a:srgbClr val="ffffff"/>
                </a:solidFill>
                <a:latin typeface="Arial"/>
              </a:rPr>
              <a:t>Viacom Inc. v. U.S.</a:t>
            </a:r>
            <a:r>
              <a:rPr b="0" lang="en-US" sz="2000" spc="-1" strike="noStrike">
                <a:solidFill>
                  <a:srgbClr val="ffffff"/>
                </a:solidFill>
                <a:latin typeface="Arial"/>
              </a:rPr>
              <a:t>, D. D.C., </a:t>
            </a:r>
            <a:r>
              <a:rPr b="0" lang="en-US" sz="2000" spc="-1" strike="noStrike">
                <a:solidFill>
                  <a:srgbClr val="ffffff"/>
                </a:solidFill>
                <a:latin typeface="Arial"/>
                <a:ea typeface="ＭＳ Ｐゴシック"/>
              </a:rPr>
              <a:t>2005 WL 1902849 (D.D.C.,2005) </a:t>
            </a:r>
            <a:r>
              <a:rPr b="0" lang="en-US" sz="2000" spc="-1" strike="noStrike">
                <a:solidFill>
                  <a:srgbClr val="ffffff"/>
                </a:solidFill>
                <a:latin typeface="Arial"/>
              </a:rPr>
              <a:t>, the court held that PRPs can bring such an a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ne Street LLC v. Keeling</a:t>
            </a:r>
            <a:r>
              <a:rPr b="0" lang="en-US" sz="2000" spc="-1" strike="noStrike">
                <a:solidFill>
                  <a:srgbClr val="ffffff"/>
                </a:solidFill>
                <a:latin typeface="Arial"/>
              </a:rPr>
              <a:t>, </a:t>
            </a:r>
            <a:r>
              <a:rPr b="0" lang="en-US" sz="2000" spc="-1" strike="noStrike">
                <a:solidFill>
                  <a:srgbClr val="ffffff"/>
                </a:solidFill>
                <a:latin typeface="Arial"/>
                <a:ea typeface="ＭＳ Ｐゴシック"/>
              </a:rPr>
              <a:t>362 F. Supp.2d 754 (E.D. TX 2005) </a:t>
            </a:r>
            <a:r>
              <a:rPr b="0" lang="en-US" sz="2000" spc="-1" strike="noStrike">
                <a:solidFill>
                  <a:srgbClr val="ffffff"/>
                </a:solidFill>
                <a:latin typeface="Arial"/>
              </a:rPr>
              <a:t>; and </a:t>
            </a:r>
            <a:r>
              <a:rPr b="0" i="1" lang="en-US" sz="2000" spc="-1" strike="noStrike">
                <a:solidFill>
                  <a:srgbClr val="ffffff"/>
                </a:solidFill>
                <a:latin typeface="Arial"/>
              </a:rPr>
              <a:t>Metropolitan Water Reclamation District of Greater Chicago v. Lake River Corp.</a:t>
            </a:r>
            <a:r>
              <a:rPr b="0" lang="en-US" sz="2000" spc="-1" strike="noStrike">
                <a:solidFill>
                  <a:srgbClr val="ffffff"/>
                </a:solidFill>
                <a:latin typeface="Arial"/>
              </a:rPr>
              <a:t>, </a:t>
            </a:r>
            <a:r>
              <a:rPr b="0" lang="en-US" sz="2000" spc="-1" strike="noStrike">
                <a:solidFill>
                  <a:srgbClr val="ffffff"/>
                </a:solidFill>
                <a:latin typeface="Arial"/>
                <a:ea typeface="ＭＳ Ｐゴシック"/>
              </a:rPr>
              <a:t>365 F. Supp. 2d 913 (N.D. IL 2005): </a:t>
            </a:r>
            <a:r>
              <a:rPr b="0" lang="en-US" sz="2000" spc="-1" strike="noStrike">
                <a:solidFill>
                  <a:srgbClr val="ffffff"/>
                </a:solidFill>
                <a:latin typeface="Arial"/>
              </a:rPr>
              <a:t>ruled that a PRP can bring a Section 107 actio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other district courts such as, </a:t>
            </a:r>
            <a:r>
              <a:rPr b="0" i="1" lang="en-US" sz="2000" spc="-1" strike="noStrike">
                <a:solidFill>
                  <a:srgbClr val="ffffff"/>
                </a:solidFill>
                <a:latin typeface="Arial"/>
              </a:rPr>
              <a:t>All. Research Corp. v. U.S.</a:t>
            </a:r>
            <a:r>
              <a:rPr b="0" lang="en-US" sz="2000" spc="-1" strike="noStrike">
                <a:solidFill>
                  <a:srgbClr val="ffffff"/>
                </a:solidFill>
                <a:latin typeface="Arial"/>
              </a:rPr>
              <a:t>, No. 02-1199, slip op. at 6 (W.D. Ark. June 1, 2005), and</a:t>
            </a:r>
            <a:r>
              <a:rPr b="0" i="1" lang="en-US" sz="2000" spc="-1" strike="noStrike">
                <a:solidFill>
                  <a:srgbClr val="ffffff"/>
                </a:solidFill>
                <a:latin typeface="Arial"/>
              </a:rPr>
              <a:t> Goodrich Corp. v. Emhart Indus. Inc.</a:t>
            </a:r>
            <a:r>
              <a:rPr b="0" lang="en-US" sz="2000" spc="-1" strike="noStrike">
                <a:solidFill>
                  <a:srgbClr val="ffffff"/>
                </a:solidFill>
                <a:latin typeface="Arial"/>
              </a:rPr>
              <a:t>, No. 04-0759, slip op. at 8 (C.D. Cal. May 4, 2005), have held post-</a:t>
            </a:r>
            <a:r>
              <a:rPr b="0" i="1" lang="en-US" sz="2000" spc="-1" strike="noStrike">
                <a:solidFill>
                  <a:srgbClr val="ffffff"/>
                </a:solidFill>
                <a:latin typeface="Arial"/>
              </a:rPr>
              <a:t>Aviall </a:t>
            </a:r>
            <a:r>
              <a:rPr b="0" lang="en-US" sz="2000" spc="-1" strike="noStrike">
                <a:solidFill>
                  <a:srgbClr val="ffffff"/>
                </a:solidFill>
                <a:latin typeface="Arial"/>
              </a:rPr>
              <a:t>that PRPs cannot sue under Section 10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e3e3ff"/>
                </a:solidFill>
                <a:latin typeface="Arial"/>
              </a:rPr>
              <a:t>Other Cases of Interest</a:t>
            </a:r>
            <a:endParaRPr b="0" lang="en-US" sz="40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necticut v. American Electric Power, 04 Civ. 5669 (S.D. NY September 15, 2005)</a:t>
            </a:r>
            <a:endParaRPr b="0" lang="en-US" sz="40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filed by CT, NY, CA, IA, NJ, RI, VT, NYC and other private parties claiming under federal common law  or state law to abate the public nuisance of global warm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t dismissed the case saying that the relief sought “present non-justicable political questions that are consigned to the political branches not the Judiciar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ppeal to the 2</a:t>
            </a:r>
            <a:r>
              <a:rPr b="0" lang="en-US" sz="2800" spc="-1" strike="noStrike" baseline="30000">
                <a:solidFill>
                  <a:srgbClr val="ffffff"/>
                </a:solidFill>
                <a:latin typeface="Arial"/>
              </a:rPr>
              <a:t>nd</a:t>
            </a:r>
            <a:r>
              <a:rPr b="0" lang="en-US" sz="2800" spc="-1" strike="noStrike">
                <a:solidFill>
                  <a:srgbClr val="ffffff"/>
                </a:solidFill>
                <a:latin typeface="Arial"/>
              </a:rPr>
              <a:t> Circuit has been fil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nnecticut v. American Electric Power, 04 Civ. 5669 (S.D. NY September 22, 2005)</a:t>
            </a:r>
            <a:endParaRPr b="0" lang="en-US" sz="40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 Preska gave her take on federal courts in stating: “The Framers based our Constitution on the idea that a separation of powers enables a system of checks and balances, allowing our Nation to thrive under a Legislature and Executive that are accountable to the People, subject to judicial review by an independent Judiciary. See Federalist Paper No. 47 (1788); U.S. Const. arts. I, II, III.  While, at times, some judges have become involved with the most critical issues affecting America, political questions are not the proper domain of judges. See, e.g., Baker v. Carr, 369 U.S. 186 (1962); Nixon v. United States, 506 U.S. 224 (1993). Were judges to resolve political questions, there would be no check on their resolutions because the Judiciary is not accountable to any other branch or to the People. Thus, when cases present political questions, “judicial review would be inconsistent with the Framers’ insistence that our system be one of checks and balances.” Nixon, 506 U.S. at 234-35. As set out below, cases presenting political questions are consigned to the political branches that are accountable to the People, not to the Judiciary, and the Judiciary is without power to resolve them. This is one of those cas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gal Environmental Assistance Foundation v EPA, 400 F.3d 1278 (2005)</a:t>
            </a: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lacked standing to challenge EPA’s approval of the Florida and Alabama Title V permit program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F argued that the state permit programs limited permit challenges to those “adversely affected” by a permit and did not allow access for those who commented on the permits per CAA wording.  The CWA wording is not as broad as the CA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rt held absent injury there is no standing federal court to review EPA’s approval of the two progra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ierra Club v. El Paso Gold Mines, 421 F.3d 1133 (10</a:t>
            </a:r>
            <a:r>
              <a:rPr b="0" lang="en-US" sz="4000" spc="-1" strike="noStrike" baseline="30000">
                <a:solidFill>
                  <a:srgbClr val="e3e3ff"/>
                </a:solidFill>
                <a:latin typeface="Arial"/>
              </a:rPr>
              <a:t>th</a:t>
            </a:r>
            <a:r>
              <a:rPr b="0" lang="en-US" sz="4000" spc="-1" strike="noStrike">
                <a:solidFill>
                  <a:srgbClr val="e3e3ff"/>
                </a:solidFill>
                <a:latin typeface="Arial"/>
              </a:rPr>
              <a:t> Cir. 2005)</a:t>
            </a:r>
            <a:endParaRPr b="0" lang="en-US" sz="40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WA jurisdiction found over discharges from inactive mine site against non-mining current ow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lamath Irrigation District v. U.S., 67 Fed. Cl. 504 (2004)</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rights not subject to takings claim: “The court is mindful that, despite the potential for contractual recovery here, this ruling may disappoint a number of individuals who have long invested effort and expense in developing their lands based upon the expectation that the waters of the Klamath Basin would continue to flow, uninterrupted, for irrigation. But, those expectations, no matter how understandable, do not give those landowners any more property rights as against the United States, and the application of the Endangered Species Act, than they actually obtained and possess. Like it or not, water rights, though undeniably precious, are subject to the same rules that govern all forms of property--they enjoy no elevated or more protected statu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ea typeface="ＭＳ Ｐゴシック"/>
              </a:rPr>
              <a:t>Consolidated Edison Co. of New York, Inc. v. UGI Utilities, Inc.</a:t>
            </a:r>
            <a:r>
              <a:rPr b="1" lang="en-US" sz="3600" spc="-1" strike="noStrike">
                <a:solidFill>
                  <a:srgbClr val="e3e3ff"/>
                </a:solidFill>
                <a:latin typeface="Arial"/>
                <a:ea typeface="ＭＳ Ｐゴシック"/>
              </a:rPr>
              <a:t> </a:t>
            </a:r>
            <a:r>
              <a:rPr b="0" lang="en-US" sz="3600" spc="-1" strike="noStrike">
                <a:solidFill>
                  <a:srgbClr val="e3e3ff"/>
                </a:solidFill>
                <a:latin typeface="Arial"/>
                <a:ea typeface="ＭＳ Ｐゴシック"/>
              </a:rPr>
              <a:t>423 F.3d 90 (2</a:t>
            </a:r>
            <a:r>
              <a:rPr b="0" lang="en-US" sz="3600" spc="-1" strike="noStrike" baseline="30000">
                <a:solidFill>
                  <a:srgbClr val="e3e3ff"/>
                </a:solidFill>
                <a:latin typeface="Arial"/>
                <a:ea typeface="ＭＳ Ｐゴシック"/>
              </a:rPr>
              <a:t>nd</a:t>
            </a:r>
            <a:r>
              <a:rPr b="0" lang="en-US" sz="3600" spc="-1" strike="noStrike">
                <a:solidFill>
                  <a:srgbClr val="e3e3ff"/>
                </a:solidFill>
                <a:latin typeface="Arial"/>
                <a:ea typeface="ＭＳ Ｐゴシック"/>
              </a:rPr>
              <a:t> Cir. 2005)</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The court approved the use of Superfund section 107 as a means for a liable party to recover voluntary cleanup costs in light of the Supreme Court’s </a:t>
            </a:r>
            <a:r>
              <a:rPr b="0" i="1" lang="en-US" sz="2400" spc="-1" strike="noStrike">
                <a:solidFill>
                  <a:srgbClr val="ffffff"/>
                </a:solidFill>
                <a:latin typeface="Arial"/>
                <a:ea typeface="ＭＳ Ｐゴシック"/>
              </a:rPr>
              <a:t>Aviall </a:t>
            </a:r>
            <a:r>
              <a:rPr b="0" lang="en-US" sz="2400" spc="-1" strike="noStrike">
                <a:solidFill>
                  <a:srgbClr val="ffffff"/>
                </a:solidFill>
                <a:latin typeface="Arial"/>
                <a:ea typeface="ＭＳ Ｐゴシック"/>
              </a:rPr>
              <a:t>deci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Previously section 107 could only be used by the government or by innocent parties who had been held liable for cleanup costs.  The court said </a:t>
            </a:r>
            <a:r>
              <a:rPr b="0" lang="en-US" sz="2400" spc="-1" strike="noStrike">
                <a:solidFill>
                  <a:srgbClr val="ffffff"/>
                </a:solidFill>
                <a:latin typeface="Arial"/>
              </a:rPr>
              <a:t>“We hold that section 107(a) permits a party that has not been sued or made to participate in an administrative proceeding but that, if sued, would be held liable under section 107(a) to recover necessary response costs incurred voluntarily, not under a court or administrative order or judg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elo v. City of New London, 125 S. Ct. 2655 (2005)</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5 to 4 decision, the U.S. Supreme Court affirmed the New London Development Corporation’s (NLDC’s) efforts to condemn 15 homes in a New London, CT neighborhood.  Connecticut had designated New London as a “distressed municipality” in 1990.   The NLDC was formed to </a:t>
            </a:r>
            <a:r>
              <a:rPr b="0" lang="en-US" sz="2000" spc="-1" strike="noStrike">
                <a:solidFill>
                  <a:srgbClr val="ffffff"/>
                </a:solidFill>
                <a:latin typeface="Arial"/>
                <a:ea typeface="ＭＳ Ｐゴシック"/>
              </a:rPr>
              <a:t>assist the city in its economic redevelopment planning efforts. The New London city council authorized the NLDC to acquire property, exercising eminent domain in the city’s na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owners resisted the City’s eminent domain proceedings and went to court. The Connecticut Supreme Court held that the Connecticut municipal development statute, pursuant to which the takings had occurred, expressed a clear legislative intent and that the taking of land as part of an economic </a:t>
            </a:r>
            <a:r>
              <a:rPr b="0" lang="en-US" sz="2000" spc="-1" strike="noStrike">
                <a:solidFill>
                  <a:srgbClr val="ffffff"/>
                </a:solidFill>
                <a:latin typeface="Arial"/>
                <a:ea typeface="ＭＳ Ｐゴシック"/>
              </a:rPr>
              <a:t>development project was a “public use” that was in the “public interest.” The taking, according to the Connecticut Supreme Court, was valid under both the state and federal constitu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3ff"/>
                </a:solidFill>
                <a:latin typeface="Arial"/>
              </a:rPr>
              <a:t>Kelo v. City of New London</a:t>
            </a:r>
            <a:r>
              <a:rPr b="0" lang="en-US" sz="4000" spc="-1" strike="noStrike">
                <a:solidFill>
                  <a:srgbClr val="e3e3ff"/>
                </a:solidFill>
                <a:latin typeface="Arial"/>
              </a:rPr>
              <a:t>, 125 S. Ct. 2655 (2005)</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Justice Stevens reasoned that a public purpose was present in stating - “Promoting economic development is a traditional and long accepted function of government. There is, moreover, no principled way of distinguishing economic development from the other public purposes that we have recognized.  In our cases upholding takings that facilitated agriculture and mining, for example, we emphasized the importance of those industries to the welfare of the States in question . . . It would be incongruous to hold that the City's interest in the economic benefits to be derived from the development of the Fort Trumbull area has less of a public character than any of those other interests. Clearly, there is no basis for exempting economic development from our traditionally broad understanding of public purpos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Rapanos, et al. v. United States, US Supreme Court No. 04-1034, 376 F.3d 629 (6th Cir. 2004), Cert. Granted Oct. 11, 2005</a:t>
            </a:r>
            <a:br>
              <a:rPr sz="2800"/>
            </a:br>
            <a:endParaRPr b="0" lang="en-US" sz="28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S PRESENT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oes the Clean Water Act prohibition on un-permitted discharges to "navigable waters" extend to non-navigable wetlands that do not even abut a navigable wat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Does extension of Clean Water Act jurisdiction to every intrastate wetland with any sort of hydrological connection to navigable waters, no matter how tenuous or remote the connection, exceed Congress‘ constitutional power to regulate commerce among the sta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idated with 04-1384 and a total of one hour allotted for oral argu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9:50:12Z</dcterms:created>
  <dc:creator>Alston &amp; Bird</dc:creator>
  <dc:description/>
  <dc:language>en-US</dc:language>
  <cp:lastModifiedBy>Alston &amp; Bird</cp:lastModifiedBy>
  <cp:lastPrinted>2005-10-24T19:53:10Z</cp:lastPrinted>
  <dcterms:modified xsi:type="dcterms:W3CDTF">2005-10-24T20:54:38Z</dcterms:modified>
  <cp:revision>34</cp:revision>
  <dc:subject/>
  <dc:title>Developments in Clean water La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