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131050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12600" y="-12600"/>
            <a:ext cx="9169200" cy="6883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66ff"/>
                </a:solidFill>
                <a:latin typeface="ITC Legacy Sans Std Medium"/>
              </a:rPr>
              <a:t>Roundtable Discussion</a:t>
            </a:r>
            <a:br>
              <a:rPr sz="3800"/>
            </a:br>
            <a:r>
              <a:rPr b="1" lang="en-US" sz="3800" spc="-1" strike="noStrike">
                <a:solidFill>
                  <a:srgbClr val="6666ff"/>
                </a:solidFill>
                <a:latin typeface="ITC Legacy Sans Std Medium"/>
              </a:rPr>
              <a:t>Creative Lawyering: Maximizing</a:t>
            </a:r>
            <a:br>
              <a:rPr sz="3800"/>
            </a:br>
            <a:r>
              <a:rPr b="1" lang="en-US" sz="3800" spc="-1" strike="noStrike">
                <a:solidFill>
                  <a:srgbClr val="6666ff"/>
                </a:solidFill>
                <a:latin typeface="ITC Legacy Sans Std Medium"/>
              </a:rPr>
              <a:t>Success Via Innovative Litigation Strategie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33520" y="3657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ITC Legacy Sans Std Medium"/>
              </a:rPr>
              <a:t>Jim Col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ITC Legacy Sans Std Medium"/>
              </a:rPr>
              <a:t>Laurie Hor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ITC Legacy Sans Std Medium"/>
              </a:rPr>
              <a:t>Terry Satter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ITC Legacy Sans Std Medium"/>
              </a:rPr>
              <a:t>Jim Drag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ITC Legacy Sans Std Medium"/>
              </a:rPr>
              <a:t>Discussion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Font typeface="ITC Legacy San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ITC Legacy Sans Std Medium"/>
              </a:rPr>
              <a:t>Mand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Font typeface="ITC Legacy San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ITC Legacy Sans Std Medium"/>
              </a:rPr>
              <a:t>Grassroots Involvement in L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Font typeface="ITC Legacy San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ITC Legacy Sans Std Medium"/>
              </a:rPr>
              <a:t>Citizen S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Font typeface="ITC Legacy San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ITC Legacy Sans Std Medium"/>
              </a:rPr>
              <a:t>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Font typeface="ITC Legacy San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ITC Legacy Sans Std Medium"/>
              </a:rPr>
              <a:t>Amicus Br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Font typeface="ITC Legacy San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ITC Legacy Sans Std Medium"/>
              </a:rPr>
              <a:t>(OTHER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ITC Legacy Sans Std Medium"/>
              </a:rPr>
              <a:t>Lessons Lear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Font typeface="ITC Legacy San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ITC Legacy Sans Std Medium"/>
              </a:rPr>
              <a:t>Be cre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Font typeface="ITC Legacy San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ITC Legacy Sans Std Medium"/>
              </a:rPr>
              <a:t>Think about who else is “on your sid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Font typeface="ITC Legacy San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ITC Legacy Sans Std Medium"/>
              </a:rPr>
              <a:t>Power (safety) in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Font typeface="ITC Legacy San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ITC Legacy Sans Std Medium"/>
              </a:rPr>
              <a:t>(OTHER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5:16Z</dcterms:created>
  <dc:creator>amsa</dc:creator>
  <dc:description/>
  <dc:language>en-US</dc:language>
  <cp:lastModifiedBy>Alex</cp:lastModifiedBy>
  <cp:lastPrinted>2002-03-12T16:47:38Z</cp:lastPrinted>
  <dcterms:modified xsi:type="dcterms:W3CDTF">2005-10-06T15:21:46Z</dcterms:modified>
  <cp:revision>122</cp:revision>
  <dc:subject/>
  <dc:title>Storm Water In the 21st Century</dc:title>
</cp:coreProperties>
</file>