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F2A2-5D09-42C4-A79B-992DE02E3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www.epa.gov/ncer" TargetMode="External"/><Relationship Id="rId2" Type="http://schemas.openxmlformats.org/officeDocument/2006/relationships/hyperlink" Target="http://www.epa.gov/ncer" TargetMode="External"/><Relationship Id="rId3" Type="http://schemas.openxmlformats.org/officeDocument/2006/relationships/slide" Target="../slides/slide9.xml"/><Relationship Id="rId4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PCPs – yet another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A may add PPCPs to 2008 contaminate list for standards devle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osal of unused pharmaceut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erous studies ongoing 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Center for Environment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epa.gov/nc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5913-694D-453D-90AF-F9E678C8E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9BE9-AADC-447E-9168-DB784361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BE12-7ADA-433F-B7F9-1531683CE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DE99-43D8-4C22-9CBA-C4492D087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11D8-675A-4F52-86ED-ECA103EF3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5D0D-BCA3-4FDD-950D-6C820BE1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B0A0-6C44-4C0A-B89E-BD706D64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87B5-32EA-49F4-AC54-29130904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89E1-B720-4CB7-8F2D-4686529A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1E34-084A-40A7-AF8A-C391FF6E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AA08-85A3-489C-91AC-106D65DC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85EB-9D48-4A72-9942-7AC852C9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B4AD-DE68-4479-8178-BA4C990D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0117-32C8-4576-92E8-38C492EB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0206-06EA-4366-9BE1-CEF78CFC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0B75-2341-4E8F-870D-20201CC2D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502D-2455-4D95-94CF-B7FDB85ED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0256-FF36-4029-9088-9D1A5608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B161-4811-4B87-9BDB-1CD384B7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1165-20DB-4F49-8091-516E1B4D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B9C8-5A35-490E-8E8F-7832D865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C05F-A3A0-4885-AF54-5E6F5025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0EE9-7B07-4B81-A668-A704D261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8E2C-D8DC-43F6-B02F-7B4D3303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5CB6-3879-4DF7-8920-50D54861EA5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E937-03DF-47B9-A349-C1BDE016583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ean and Safe Drinking Water Acts Col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ul Calami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quaLa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ischarges Above Intakes: Mutant Transgendered…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bout endocrine disruptors, personal care products and pharmaceutical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-25% of pharmaceuticals unu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 in your medicine cabin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sh:  are a major concern (esp. in the DC area these day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:  increasing concer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SO Discharges Above Intak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er intakes are sensitive ar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oc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imin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not possible, then treat to meet applicable WQ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torm Water Discharges Above Intak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y special requirement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a TMDL is in place to protect fish we must pay special attention/c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f downstream drinking water intak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blic Water Supply Designated U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ublic Water Supply Designa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are such designations appropri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should they be applie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eams with intak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wide/all wa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conventional treatment or instrea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the latter, where do you set the control point?  (Intake, above at some point; entire stream)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ole of Total Maximum Daily Loa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Drinking Water Suppl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ey Considera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are concepts: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WA:  TMD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DWA: SWP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uld SWPPs allocate loads of POC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 do the public water supply criteria appl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MDL will be set according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ey Considera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onciling longer-term focused wastewater controls with constant drinking water quality concer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classic intersection of the SWDA and CW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MDLs that apply load limits on longer term 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SOs (annual averag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orm water (monthly, seasonal, annua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utrients (annual averag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urce Water Protection Areas and Pl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ddressing Upstream Discharg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uld such plans address upstream permitted discharg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and to what exten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the inclusion or lack of inclusion of upstream point sources has played 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far below discharge should there be notice of untreated discharges or upset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ey Issu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mitting for wastewater discharges above water intak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blic Water Supply Use Design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MDLs to address both a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urce water protection are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ource Water Protection Pla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uld these plans be more forma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uld they be recognized in CWA permitt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orm Water and Sewer Overfl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rol Invest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Storm Water Discharges to Drinking Water Stream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many have SW discharges above their intak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clos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significan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bacteria levels would you expec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known/suspected problem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y special BMPs for such outfall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Storm Water Discharges to Drinking Water Stream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t weather discharges:  high volume; enormous c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we should invest, where should we inv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orm Water control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 plant barrier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ewer Overflow Program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sive investments – typically largest public works projects in communities’ histo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easible/non-cost-effective to control large stor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significance for drinking water intak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role should wet weather instream realities play her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ther” and “Who” invests and what benefi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olving Conflicts with Sister Util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nflict Resolu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ke sure you maintain good lines of commun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nderstand their needs, concerns and wants along the wa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ive to keep the discourse and issues technic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ing control to political interests has precluded cost-effective and protective solu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ed for good science and reasonable risk assessment is paramou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nflict Resolu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storically, these disagreements were resolved between utility manag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tters, MOUs, Contracts, Settlements, voluntary permit concessions; facility plan chang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ven when they did not get alo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t them drink champagne…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reasing regulatory pressure on water providers and wastewater utilities has caused several tears in the fabric of public utility coope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nflict Resolu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ke reasonable accommod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d treatment if cost-effec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roved relia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exibility on discharge location and met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ta collection and analysis to determine risk before deciding on public invest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ely notice of upsets to downstream util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’t require unnecessary repo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WAYS be prepared for those who will not let good science get in the way of good politic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ey Issues (con’t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orm water and sewer overflow control plans and invest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happened to inter-utility conflict resol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mitting Wastewater Discharges Above Water Intak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ischarges Above Water Intak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they Allowabl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fa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COSAN/Pittsburg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tance dispu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oes your state d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there a magic set of criteri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ischarges Above Water Intak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intersection of facts and politic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ider the congressional blend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bate/ac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sensitivity to POTW &amp; industrial discharg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ffer z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ed upon time of travel consider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ther fac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ischarges Above Water Intak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ffluent Holding Requirements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orage ponds/facilities for 24-hours based upon time of travel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PA guidanc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quirement for shellfish water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ischarges Above Intakes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pecial Limits/Condi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y special NPDES requirements for POTW discharges above water intak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sinfection (UV?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ckup power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porting requirements for upset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about narrative criteria prohibiting the discharge of pollutants that will be injurious to human health for discharges above a water intak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about a crypto limi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pecial NPDES Limits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y real problems in your Stat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y thoughts on whether there should be special requirement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gally, is SDWA a basis for NPDES permit limit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6:06:55Z</dcterms:created>
  <dc:creator>Aqualaw4</dc:creator>
  <dc:description/>
  <dc:language>en-US</dc:language>
  <cp:lastModifiedBy> </cp:lastModifiedBy>
  <dcterms:modified xsi:type="dcterms:W3CDTF">2005-11-09T22:13:39Z</dcterms:modified>
  <cp:revision>25</cp:revision>
  <dc:subject/>
  <dc:title>LITIGATION UPDATE MAMWA JANUARY 26, 2005</dc:title>
</cp:coreProperties>
</file>