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83CE-706D-412A-8D75-AD9EE9F63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epa.gov/ncer" TargetMode="External"/><Relationship Id="rId2" Type="http://schemas.openxmlformats.org/officeDocument/2006/relationships/hyperlink" Target="http://www.epa.gov/ncer" TargetMode="External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CPs – yet another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A may add PPCPs to 2008 contaminate list for standards devle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al of unused pharmaceut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studies ongoing 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Center for Environment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pa.gov/nc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248-EF4D-4096-B977-89979D94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E3F-9276-4BD9-9358-AF30320F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13A7-280E-48AD-AE45-A9E8E443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14F-4B1E-47C0-B13F-7E8ED2A3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70E0-F828-41B8-B595-31E308FB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9675-67EE-4E35-BB7B-4ADDB08F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83A5-B4F2-4409-A3E9-42CAD233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5CDC-5863-4ADA-8F1E-06901A70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9A35-ABC4-49DA-B9AC-131E5006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5846-A102-4F32-816C-B31F8494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34F2-8FD8-484E-AACF-5E45B55E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18A-85FC-4580-A229-E2FD998E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7C3B-EC19-45CA-8D4B-2389E310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4A36-512B-4675-A999-321B5252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333A-2241-4808-9679-70245CD6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C4B0-1EC3-4BD5-AC75-BAECE17A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E1D4-4999-487E-B393-267F3B16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F42-9DCA-4650-9676-65003921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A43-EF4B-4992-82F3-12ACE9AD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F2EB-D717-478B-99A0-0A7EC300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337-FD5E-409F-829F-2D5FFD0A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900-4331-45D8-819F-84CBBD45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A85-0FD6-496F-8B9C-C538238B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BDF-0FFE-464C-97D7-6EE4ADE3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43EC-5552-4800-AAC4-07FD0BC0024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D38B-0CA1-46D4-809C-DB6B72BF984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ean and Safe Drinking Water Acts Col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Calam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qua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scharges Above Intakes: Mutant Transgendered…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bout endocrine disruptors, personal care products and pharmaceutical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25% of pharmaceuticals un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in your medicine cabi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sh:  are a major concern (esp. in the DC area these day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:  increasing conce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SO Discharges Above Intak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 intakes are sensitive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oc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imin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not possible, then treat to meet applicable WQ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orm Water Discharges Above Intak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special requirem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 TMDL is in place to protect fish we must pay special attention/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f downstream drinking water intak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Water Supply Designated 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ublic Water Supply Design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re such designations appropri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should they be appli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ams with intak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wide/all wa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conventional treatment or instrea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the latter, where do you set the control point?  (Intake, above at some point; entire stream)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le of Total Maximum Daily Lo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Drinking Water Suppl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Consider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e concepts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WA:  TMD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DWA: SWP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ld SWPPs allocate loads of POC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do the public water supply criteria app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MDL will be set according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Consider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nciling longer-term focused wastewater controls with constant drinking water quality conce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lassic intersection of the SWDA and C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MDLs that apply load limits on longer term 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SOs (annual averag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orm water (monthly, seasonal, annu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trients (annual averag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rce Water Protection Areas and Pl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ddressing Upstream Discharg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uld such plans address upstream permitted discharg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and to what ext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he inclusion or lack of inclusion of upstream point sources has played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far below discharge should there be notice of untreated discharges or upset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Issu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itting for wastewater discharges above water intak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Water Supply Use Design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MDLs to address both 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rce water protection ar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urce Water Protection Pla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these plans be more form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they be recognized in CWA permitt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rm Water and Sewer Overf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ol Invest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orm Water Discharges to Drinking Water Stream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have SW discharges above their intak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los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significa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bacteria levels would you expec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known/suspected problem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special BMPs for such outfall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orm Water Discharges to Drinking Water Stream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t weather discharges:  high volume; enormous c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we should invest, where should we inv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rm Water contro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plant barri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ewer Overflow Progra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sive investments – typically largest public works projects in communities’ hist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asible/non-cost-effective to control large sto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significance for drinking water intak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role should wet weather instream realities play her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ther” and “Who” invests and what benef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lving Conflicts with Sister Ut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flict Resolu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sure you maintain good lines of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derstand their needs, concerns and wants along the w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ive to keep the discourse and issues techn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ing control to political interests has precluded cost-effective and protective sol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 for good science and reasonable risk assessment is paramou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flict Resolu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torically, these disagreements were resolved between utility manag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tters, MOUs, Contracts, Settlements, voluntary permit concessions; facility plan chan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en when they did not get alo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them drink champagne…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ing regulatory pressure on water providers and wastewater utilities has caused several tears in the fabric of public utility coop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flict Resolu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reasonable accommod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d treatment if cost-effe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ed reli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ibility on discharge location and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 collection and analysis to determine risk before deciding on public invest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ely notice of upsets to downstream ut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require unnecessary re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WAYS be prepared for those who will not let good science get in the way of good politic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Issues (con’t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rm water and sewer overflow control plans and invest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happened to inter-utility conflict re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mitting Wastewater Discharges Above Water Intak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charges Above Water Intak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y Allowab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f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COSAN/Pittsburg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ance dispu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es your state d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re a magic set of criteri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charges Above Water Intak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ntersection of facts and politic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 the congressional blend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bate/a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sensitivity to POTW &amp; industrial discharg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ffer z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upon time of travel consid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f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charges Above Water Intak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luent Holding Requirements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rage ponds/facilities for 24-hours based upon time of trave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A guidan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irement for shellfish wat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charges Above Intakes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pecial Limits/Condi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 special NPDES requirements for POTW discharges above water intak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infection (UV?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ckup pow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orting requirements for upset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bout narrative criteria prohibiting the discharge of pollutants that will be injurious to human health for discharges above a water intak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bout a crypto limi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pecial NPDES Limit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real problems in your Stat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thoughts on whether there should be special requirem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ly, is SDWA a basis for NPDES permit limi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6:06:55Z</dcterms:created>
  <dc:creator>Aqualaw4</dc:creator>
  <dc:description/>
  <dc:language>en-US</dc:language>
  <cp:lastModifiedBy> </cp:lastModifiedBy>
  <dcterms:modified xsi:type="dcterms:W3CDTF">2005-11-09T22:13:39Z</dcterms:modified>
  <cp:revision>25</cp:revision>
  <dc:subject/>
  <dc:title>LITIGATION UPDATE MAMWA JANUARY 26, 2005</dc:title>
</cp:coreProperties>
</file>