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5AF3-F976-4D27-8B4B-404369EC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2667-139E-4D00-BD68-008A9D2B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1B25-5F5A-487F-B7A9-5F21195A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56E9-7BA5-4245-8A50-4D7D913F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2F4C-2EE9-4927-AA5C-D30B6B04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0670-B3DE-4E64-A151-B4AA0D9F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463F-C25C-4350-A406-3C67BE3E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1376-0114-426A-B744-174A48A5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93D9-4906-4DD5-8FBC-40C14F8D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DC82-79B1-4DDE-AC97-E92A30CD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057A-86C8-4930-A7C3-58D243A0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590E-3412-4309-A3F2-47C5E527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D1E9-F769-46DD-AC0A-8C251EB1A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tellite System Enforcement Initiatives in Regions 3, 4 and 5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514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avid W. Burch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quire, Sanders &amp; Dempsey L.L.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900 Key T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veland, OH 441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one: (216) 479-877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x: (216) 479-87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: dburchmore@ssd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5029200"/>
            <a:ext cx="56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Prepared for the 2005 AMSA Law Semin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anta Fe  (November 9, 200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57150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NEORSD Service Area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8229600" cy="514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gion 5 - Northeast Ohio CMOM Initiativ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 5 met with Northeast Ohio Regional Sewer District in July 2003 about initiating MOM project for 59 suburban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ORSD does not own or operate the separate sewer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hio EPA resource constraints;  Ohio’s satellite collection systems general permit is in early draft form – see: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www.epa.state.oh.us/dsw/permits/draft_satellite_GP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 approached member communities directly in March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 with satellite communities held in Cleveland on June 16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gion 5 - Northeast Ohio CMOM Initiativ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based on Region 4 approach and on U.S. EPA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uide for Evaluating CMOM Programs at Sanitary Sewer Collection Syst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Januar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ortheast Ohio CMOM initiative is the first and only program of its kind in Region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raised by NEORSD communities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tandard will be used to determine complian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ill EPA determine penalti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uch time will be allowed to implement improvement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EPA’s authority to require elimination of basement backups and other overflows that do no reach wate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information posted on Region 5 webs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egion 5 - Northeast Ohio CMOM Initiative: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epa.gov/region5/water/weca/neocmom.htm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371600" y="1703520"/>
            <a:ext cx="640080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gion 5 – Chicago CSO Outreach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 held on September 13, 2005 for satellite communities tributary to the Metropolitan Water Reclamation District of Greater Chic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A, IEPA and the District discussed compliance with the terms of satellite systems general permit issued by IEPA (primarily the Nine Minimum Contro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information (not including the satellite general permit) is available at: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www.epa.gov/region5/water/weca/r5csooutreach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Map of the US, split into EPA regions"/>
          <p:cNvPicPr/>
          <p:nvPr/>
        </p:nvPicPr>
        <p:blipFill>
          <a:blip r:embed="rId2"/>
          <a:stretch/>
        </p:blipFill>
        <p:spPr>
          <a:xfrm>
            <a:off x="1066680" y="1219320"/>
            <a:ext cx="6934320" cy="5238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666880" y="5335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PA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gion 4 MOM Programs Projec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ed in 1998 by identifying priority watersheds in each of the Region’s 8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municipal sewer systems in each watershed were invited to participate and do a self-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hase I, a total of 81 utilities were invited and 73 participated in self-assessment (Region inspected oth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nts receiv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ce of Determination (NOD).....................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~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ce of Violation (NOV)..............................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~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ive Order by Consent (AOC).......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~ 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sent Decree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II initiated in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gion 4 MOM Programs Projec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I involved 39 satelli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9 were associated with three regional sewer authorities that owned major interceptors, pump stations and treatment pl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ellite systems that have no treatment plants and no NPDES permits were cited for unauthorized dischar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with NPDES permits were cited for unauthorized discharges for SSOs that reach waters, and O&amp;M violations for those that do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details on Region 4 webs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egion 4 - MOM Programs Project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epa.gov/Region4/water/wpeb/momproject/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371600" y="1703520"/>
            <a:ext cx="640080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LCOSAN Service Area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90720" y="1295280"/>
            <a:ext cx="7086600" cy="506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gion 3 – ALCOSA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gheny County Sanitary Authority has 83 communities in its service area – reportedly the largest number of collection systems directed to one POTW anywhere in the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 EPA enforcement initiated in 1997 against 50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Rivers Wet Weather Demonstration Project” formed in 1998 by ALCOSAN and the Allegheny County Health Department, with U.S. EPA fu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otiations for municipal consent decrees began in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ly 150 meetings held with municipal represent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gion 3 – ALCOSA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January 2004, most of the 83 communities had signed consent agre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O communities received a “Consent Order and Agreement” enforced by PAD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O communities received an “Administrative Consent Order” enforced by the Allegheny County Health Depar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ders span 6 years (2004-2010) and require communitie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 and map their collec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 and televise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critical re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uct flow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a long term control plan with ALCO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egion 3 – ALCOSA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3riverswetweather.org/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371600" y="1652760"/>
            <a:ext cx="647712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02:54:22Z</dcterms:created>
  <dc:creator>David W. Burchmore</dc:creator>
  <dc:description/>
  <dc:language>en-US</dc:language>
  <cp:lastModifiedBy>David W. Burchmore</cp:lastModifiedBy>
  <cp:lastPrinted>2004-10-25T20:18:14Z</cp:lastPrinted>
  <dcterms:modified xsi:type="dcterms:W3CDTF">2005-10-26T03:43:41Z</dcterms:modified>
  <cp:revision>134</cp:revision>
  <dc:subject/>
  <dc:title>Blending Stormwater and TMDLs</dc:title>
</cp:coreProperties>
</file>