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222-5172-440B-9B65-DC834076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720-9F28-4E28-976C-5A5464E3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B21-3F1D-49CF-BA4B-246BBA72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7A4-3741-4339-ADAA-9BCE57B0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167-1044-4BB7-89FE-8A5BDAC6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F10-8201-4DD1-BA3D-DAD8B58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A11-EF45-4EEF-9841-8030C458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9D7-39B7-40C2-AEC8-5CD5B6D2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390-FF27-4D9D-B644-4A6EAE47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9FD-0550-4088-A3D0-B6E86FBC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E96-BBBC-4F29-AE20-57945A4A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5C6-5EAE-438D-8716-AAB91BB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766F-C7FD-49DB-8443-2F1AE56C8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ellite System Enforcement Initiatives in Regions 3, 4 and 5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avid W. Burch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quire, Sanders &amp; Dempsey L.L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900 Key T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veland, OH 441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: (216) 479-87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x: (216) 479-87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dburchmore@ssd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5029200"/>
            <a:ext cx="56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epared for the 2005 AMSA Law Se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anta Fe  (November 9, 20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NEORSD Service Area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229600" cy="514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5 - Northeast Ohio CMOM Initiativ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5 met with Northeast Ohio Regional Sewer District in July 2003 about initiating MOM project for 59 suburban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RSD does not own or operate the separate sewe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io EPA resource constraints;  Ohio’s satellite collection systems general permit is in early draft form – see: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ww.epa.state.oh.us/dsw/permits/draft_satellite_GP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approached member communities directly in March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with satellite communities held in Cleveland on June 16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5 - Northeast Ohio CMOM Initiativ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based on Region 4 approach and on U.S. EPA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ide for Evaluating CMOM Programs at Sanitary Sewer Collection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anuar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ast Ohio CMOM initiative is the first and only program of its kind in Regio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raised by NEORSD communiti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andard will be used to determine compli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EPA determine penal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time will be allowed to implement improve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EPA’s authority to require elimination of basement backups and other overflows that do no reach wa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nformation posted on Region 5 web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gion 5 - Northeast Ohio CMOM Initiative: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pa.gov/region5/water/weca/neocmom.htm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1703520"/>
            <a:ext cx="64008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5 – Chicago CSO Outreac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held on September 13, 2005 for satellite communities tributary to the Metropolitan Water Reclamation District of Greater Chic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, IEPA and the District discussed compliance with the terms of satellite systems general permit issued by IEPA (primarily the Nine Minimum Contr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nformation (not including the satellite general permit) is available at: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ww.epa.gov/region5/water/weca/r5csooutreach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p of the US, split into EPA regions"/>
          <p:cNvPicPr/>
          <p:nvPr/>
        </p:nvPicPr>
        <p:blipFill>
          <a:blip r:embed="rId2"/>
          <a:stretch/>
        </p:blipFill>
        <p:spPr>
          <a:xfrm>
            <a:off x="1066680" y="1219320"/>
            <a:ext cx="6934320" cy="523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6880" y="533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PA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4 MOM Programs Projec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d in 1998 by identifying priority watersheds in each of the Region’s 8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unicipal sewer systems in each watershed were invited to participate and do a self-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I, a total of 81 utilities were invited and 73 participated in self-assessment (Region inspected ot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recei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of Determination (NOD)....................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of Violation (NOV).............................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Order by Consent (AOC)......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ent Decre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II initiated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4 MOM Programs Projec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I involved 39 satelli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were associated with three regional sewer authorities that owned major interceptors, pump stations and treatment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ellite systems that have no treatment plants and no NPDES permits were cited for unauthorized dis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with NPDES permits were cited for unauthorized discharges for SSOs that reach waters, and O&amp;M violations for those that do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etails on Region 4 web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gion 4 - MOM Programs Project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pa.gov/Region4/water/wpeb/momproject/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71600" y="1703520"/>
            <a:ext cx="64008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COSAN Service Area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086600" cy="506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3 – ALCOSA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gheny County Sanitary Authority has 83 communities in its service area – reportedly the largest number of collection systems directed to one POTW anywhere in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PA enforcement initiated in 1997 against 50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ivers Wet Weather Demonstration Project” formed in 1998 by ALCOSAN and the Allegheny County Health Department, with U.S. EPA f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ions for municipal consent decrees began in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150 meetings held with municipal repres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gion 3 – ALCOSA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January 2004, most of the 83 communities had signed consent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 communities received a “Consent Order and Agreement” enforced by PAD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O communities received an “Administrative Consent Order” enforced by the Allegheny County Health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s span 6 years (2004-2010) and require communitie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and map their collec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and televi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critical re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flow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long term control plan with ALCO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gion 3 – ALCOSA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3riverswetweather.org/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1652760"/>
            <a:ext cx="64771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02:54:22Z</dcterms:created>
  <dc:creator>David W. Burchmore</dc:creator>
  <dc:description/>
  <dc:language>en-US</dc:language>
  <cp:lastModifiedBy>David W. Burchmore</cp:lastModifiedBy>
  <cp:lastPrinted>2004-10-25T20:18:14Z</cp:lastPrinted>
  <dcterms:modified xsi:type="dcterms:W3CDTF">2005-10-26T03:43:41Z</dcterms:modified>
  <cp:revision>134</cp:revision>
  <dc:subject/>
  <dc:title>Blending Stormwater and TMDLs</dc:title>
</cp:coreProperties>
</file>